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0E3-16B6-48E1-94A6-9410FAC6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0D4-F133-4616-9569-7DB6C371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AB1-EE7B-4FA3-A550-AECCD002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00C-B7E2-48BF-83BF-75AA78CE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626-1B04-49D5-AD27-1FB0BDA4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35A-C4BC-49AC-90EB-F483924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105-6D73-4488-B9DB-4C70F49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35C-D17E-41B8-8AA0-D3BFCFF4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CB4-6E2E-4567-8464-0140854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3F6-326E-429B-AE9F-14A064A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3BC-0D48-4B4A-9170-E8FE79A7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DA1-3CDF-4D66-A02D-DB6998B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18B4-807D-4C24-890C-620BDA0AD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39880" y="1052640"/>
            <a:ext cx="7464240" cy="4506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508720" y="260280"/>
            <a:ext cx="296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l document GRB-59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59th GRB, 28-30 January 2014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da item 16(b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0:16:55Z</dcterms:created>
  <dc:creator>Serge Ficheux</dc:creator>
  <dc:description/>
  <dc:language>en-US</dc:language>
  <cp:lastModifiedBy>Germany</cp:lastModifiedBy>
  <dcterms:modified xsi:type="dcterms:W3CDTF">2014-01-30T14:25:16Z</dcterms:modified>
  <cp:revision>2</cp:revision>
  <dc:subject/>
  <dc:title>Présentation PowerPoint</dc:title>
</cp:coreProperties>
</file>