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5.png" ContentType="image/png"/>
  <Override PartName="/ppt/media/image35.jpeg" ContentType="image/jpeg"/>
  <Override PartName="/ppt/media/image30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A7C0573-272D-4694-853B-8FA864FE9F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2E5C0D-DA63-4DDB-A11E-5D4E2EAFFE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098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B59A93-A4F4-493E-90ED-2C984404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ノート プレースホルダー 4"/>
          <p:cNvSpPr/>
          <p:nvPr/>
        </p:nvSpPr>
        <p:spPr>
          <a:xfrm>
            <a:off x="673200" y="4684680"/>
            <a:ext cx="538956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10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B233D1-FC8A-403A-98C9-FF754954B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ノート プレースホルダー 4"/>
          <p:cNvSpPr/>
          <p:nvPr/>
        </p:nvSpPr>
        <p:spPr>
          <a:xfrm>
            <a:off x="673200" y="4684680"/>
            <a:ext cx="538956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31F1860-23AE-494E-9D30-D67A64D09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750876-EBEA-4A58-A854-7A8EBB4BF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3A6F40-6D9F-425B-ADE2-D3FAAA6A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11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ACB372-8B42-4232-8D56-3D9DF1F28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ノート プレースホルダー 4"/>
          <p:cNvSpPr/>
          <p:nvPr/>
        </p:nvSpPr>
        <p:spPr>
          <a:xfrm>
            <a:off x="673200" y="4684680"/>
            <a:ext cx="538956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DDEDDA-BEA1-474E-B4AB-839C31A9CF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B6ACB5-C8D2-4F24-BDC5-10D97D8483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19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12293F-CC84-4E0A-A4F1-D38001BB5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DEDBA65-8ABF-426A-9510-3735B40715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131840" y="5479920"/>
            <a:ext cx="6880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59</a:t>
            </a:r>
            <a:r>
              <a:rPr b="0" lang="en-US" sz="2800" spc="-1" strike="noStrike" baseline="30000">
                <a:solidFill>
                  <a:srgbClr val="7f7f7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 GR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(28-30 January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J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3840" y="1068480"/>
            <a:ext cx="8356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 proposal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t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nt Light N1 Vehic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18E7-602C-4260-9671-EED9290913D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4" descr=""/>
          <p:cNvPicPr/>
          <p:nvPr/>
        </p:nvPicPr>
        <p:blipFill>
          <a:blip r:embed="rId1"/>
          <a:stretch/>
        </p:blipFill>
        <p:spPr>
          <a:xfrm>
            <a:off x="3119400" y="2398680"/>
            <a:ext cx="2906640" cy="156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098720" y="4138560"/>
          <a:ext cx="6946560" cy="878040"/>
        </p:xfrm>
        <a:graphic>
          <a:graphicData uri="http://schemas.openxmlformats.org/drawingml/2006/table">
            <a:tbl>
              <a:tblPr/>
              <a:tblGrid>
                <a:gridCol w="2603160"/>
                <a:gridCol w="4343400"/>
              </a:tblGrid>
              <a:tr h="878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 Front Light N1 Vehic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VM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.5 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R (power to mass ratio) of GVM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5kW/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 capacity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660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value&lt;1,10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角丸四角形吹き出し 7"/>
          <p:cNvSpPr/>
          <p:nvPr/>
        </p:nvSpPr>
        <p:spPr>
          <a:xfrm>
            <a:off x="6531120" y="5102280"/>
            <a:ext cx="2381040" cy="1671480"/>
          </a:xfrm>
          <a:prstGeom prst="wedgeRoundRectCallout">
            <a:avLst>
              <a:gd name="adj1" fmla="val -5439"/>
              <a:gd name="adj2" fmla="val 4194"/>
              <a:gd name="adj3" fmla="val 16667"/>
            </a:avLst>
          </a:prstGeom>
          <a:solidFill>
            <a:srgbClr val="ffff99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apan’s proposal is already included into the informal document 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B-59-04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” submitted by the GRB Expert Group on R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697360" y="117360"/>
            <a:ext cx="32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formal document</a:t>
            </a:r>
            <a:r>
              <a:rPr b="0" lang="en-T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T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B-59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59</a:t>
            </a:r>
            <a:r>
              <a:rPr b="0" lang="en-TT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0" lang="en-T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GRB, 28-30 January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enda item 3 (b)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6"/>
          <p:cNvSpPr/>
          <p:nvPr/>
        </p:nvSpPr>
        <p:spPr>
          <a:xfrm>
            <a:off x="2252520" y="1770120"/>
            <a:ext cx="5502240" cy="4665600"/>
          </a:xfrm>
          <a:custGeom>
            <a:avLst/>
            <a:gdLst>
              <a:gd name="textAreaLeft" fmla="*/ 0 w 5502240"/>
              <a:gd name="textAreaRight" fmla="*/ 5502600 w 5502240"/>
              <a:gd name="textAreaTop" fmla="*/ 0 h 4665600"/>
              <a:gd name="textAreaBottom" fmla="*/ 4665960 h 4665600"/>
            </a:gdLst>
            <a:ahLst/>
            <a:rect l="textAreaLeft" t="textAreaTop" r="textAreaRight" b="textAreaBottom"/>
            <a:pathLst>
              <a:path w="398" h="398">
                <a:moveTo>
                  <a:pt x="9" y="137"/>
                </a:moveTo>
                <a:cubicBezTo>
                  <a:pt x="3" y="157"/>
                  <a:pt x="0" y="178"/>
                  <a:pt x="0" y="198"/>
                </a:cubicBezTo>
                <a:cubicBezTo>
                  <a:pt x="0" y="308"/>
                  <a:pt x="89" y="398"/>
                  <a:pt x="199" y="398"/>
                </a:cubicBezTo>
                <a:cubicBezTo>
                  <a:pt x="308" y="398"/>
                  <a:pt x="398" y="308"/>
                  <a:pt x="398" y="199"/>
                </a:cubicBezTo>
                <a:cubicBezTo>
                  <a:pt x="398" y="89"/>
                  <a:pt x="308" y="0"/>
                  <a:pt x="199" y="0"/>
                </a:cubicBezTo>
                <a:lnTo>
                  <a:pt x="199" y="199"/>
                </a:lnTo>
                <a:lnTo>
                  <a:pt x="9" y="13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7"/>
          <p:cNvSpPr/>
          <p:nvPr/>
        </p:nvSpPr>
        <p:spPr>
          <a:xfrm>
            <a:off x="2378160" y="2755800"/>
            <a:ext cx="2625480" cy="1347840"/>
          </a:xfrm>
          <a:custGeom>
            <a:avLst/>
            <a:gdLst>
              <a:gd name="textAreaLeft" fmla="*/ 0 w 2625480"/>
              <a:gd name="textAreaRight" fmla="*/ 2625840 w 262548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90" h="115">
                <a:moveTo>
                  <a:pt x="26" y="0"/>
                </a:moveTo>
                <a:cubicBezTo>
                  <a:pt x="15" y="17"/>
                  <a:pt x="6" y="35"/>
                  <a:pt x="0" y="53"/>
                </a:cubicBezTo>
                <a:lnTo>
                  <a:pt x="190" y="115"/>
                </a:lnTo>
                <a:lnTo>
                  <a:pt x="26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8"/>
          <p:cNvSpPr/>
          <p:nvPr/>
        </p:nvSpPr>
        <p:spPr>
          <a:xfrm>
            <a:off x="2736720" y="1770120"/>
            <a:ext cx="2266920" cy="233352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333520"/>
              <a:gd name="textAreaBottom" fmla="*/ 2333880 h 2333520"/>
            </a:gdLst>
            <a:ahLst/>
            <a:rect l="textAreaLeft" t="textAreaTop" r="textAreaRight" b="textAreaBottom"/>
            <a:pathLst>
              <a:path w="164" h="199">
                <a:moveTo>
                  <a:pt x="163" y="0"/>
                </a:moveTo>
                <a:cubicBezTo>
                  <a:pt x="99" y="0"/>
                  <a:pt x="38" y="31"/>
                  <a:pt x="0" y="84"/>
                </a:cubicBezTo>
                <a:lnTo>
                  <a:pt x="164" y="199"/>
                </a:lnTo>
                <a:lnTo>
                  <a:pt x="163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47840" y="177840"/>
            <a:ext cx="53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ales of Light N1 Vehicles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536400" y="853920"/>
            <a:ext cx="817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sales of Flat Front Light N1 Vehicles is only about 15% of the total sales of Light Motor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706840" y="1744560"/>
            <a:ext cx="86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883120" y="4599000"/>
            <a:ext cx="1254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585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0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630600" y="2692440"/>
            <a:ext cx="139392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R≤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4,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064040" y="3316320"/>
            <a:ext cx="1843200" cy="155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979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Motor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i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"/>
          <p:cNvSpPr/>
          <p:nvPr/>
        </p:nvSpPr>
        <p:spPr>
          <a:xfrm flipV="1">
            <a:off x="1790640" y="3138480"/>
            <a:ext cx="1130400" cy="533520"/>
          </a:xfrm>
          <a:prstGeom prst="line">
            <a:avLst/>
          </a:prstGeom>
          <a:ln w="31680">
            <a:solidFill>
              <a:srgbClr val="9933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514440" y="3095640"/>
            <a:ext cx="1476360" cy="911160"/>
            <a:chOff x="514440" y="3095640"/>
            <a:chExt cx="1476360" cy="911160"/>
          </a:xfrm>
        </p:grpSpPr>
        <p:pic>
          <p:nvPicPr>
            <p:cNvPr id="252" name="Picture 20" descr=""/>
            <p:cNvPicPr/>
            <p:nvPr/>
          </p:nvPicPr>
          <p:blipFill>
            <a:blip r:embed="rId1"/>
            <a:stretch/>
          </p:blipFill>
          <p:spPr>
            <a:xfrm>
              <a:off x="514440" y="3095640"/>
              <a:ext cx="147636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Freeform 21"/>
            <p:cNvSpPr/>
            <p:nvPr/>
          </p:nvSpPr>
          <p:spPr>
            <a:xfrm>
              <a:off x="632520" y="3719160"/>
              <a:ext cx="98280" cy="112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7" h="285">
                  <a:moveTo>
                    <a:pt x="3" y="0"/>
                  </a:moveTo>
                  <a:lnTo>
                    <a:pt x="0" y="177"/>
                  </a:lnTo>
                  <a:lnTo>
                    <a:pt x="231" y="285"/>
                  </a:lnTo>
                  <a:lnTo>
                    <a:pt x="237" y="9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33"/>
          <p:cNvSpPr/>
          <p:nvPr/>
        </p:nvSpPr>
        <p:spPr>
          <a:xfrm>
            <a:off x="290520" y="4005360"/>
            <a:ext cx="1644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R(GVM)&gt;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9,600 (4.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4418-F47C-4F6E-900B-49F75CBE2BD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2" descr=""/>
          <p:cNvPicPr/>
          <p:nvPr/>
        </p:nvPicPr>
        <p:blipFill>
          <a:blip r:embed="rId2"/>
          <a:stretch/>
        </p:blipFill>
        <p:spPr>
          <a:xfrm>
            <a:off x="3262320" y="1827360"/>
            <a:ext cx="1558800" cy="83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3" descr=""/>
          <p:cNvPicPr/>
          <p:nvPr/>
        </p:nvPicPr>
        <p:blipFill>
          <a:blip r:embed="rId3"/>
          <a:stretch/>
        </p:blipFill>
        <p:spPr>
          <a:xfrm>
            <a:off x="4008600" y="5016600"/>
            <a:ext cx="1695240" cy="923760"/>
          </a:xfrm>
          <a:prstGeom prst="rect">
            <a:avLst/>
          </a:prstGeom>
          <a:ln w="0">
            <a:noFill/>
          </a:ln>
        </p:spPr>
      </p:pic>
      <p:sp>
        <p:nvSpPr>
          <p:cNvPr id="258" name="Arc 38"/>
          <p:cNvSpPr/>
          <p:nvPr/>
        </p:nvSpPr>
        <p:spPr>
          <a:xfrm flipH="1">
            <a:off x="2241000" y="1611360"/>
            <a:ext cx="2708280" cy="2452680"/>
          </a:xfrm>
          <a:custGeom>
            <a:avLst/>
            <a:gdLst>
              <a:gd name="textAreaLeft" fmla="*/ -360 w 2708280"/>
              <a:gd name="textAreaRight" fmla="*/ 2708280 w 2708280"/>
              <a:gd name="textAreaTop" fmla="*/ 0 h 2452680"/>
              <a:gd name="textAreaBottom" fmla="*/ 2453040 h 2452680"/>
            </a:gdLst>
            <a:ahLst/>
            <a:rect l="textAreaLeft" t="textAreaTop" r="textAreaRight" b="textAreaBottom"/>
            <a:pathLst>
              <a:path fill="none" w="20565" h="21600">
                <a:moveTo>
                  <a:pt x="-1" y="0"/>
                </a:moveTo>
                <a:cubicBezTo>
                  <a:pt x="9384" y="0"/>
                  <a:pt x="17695" y="6059"/>
                  <a:pt x="20565" y="14994"/>
                </a:cubicBezTo>
              </a:path>
              <a:path stroke="0" w="20565" h="21600">
                <a:moveTo>
                  <a:pt x="-1" y="0"/>
                </a:moveTo>
                <a:cubicBezTo>
                  <a:pt x="9384" y="0"/>
                  <a:pt x="17695" y="6059"/>
                  <a:pt x="20565" y="1499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1680">
            <a:solidFill>
              <a:srgbClr val="9933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99AF-4A4D-42B8-9631-6334825E609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グループ化 156"/>
          <p:cNvGrpSpPr/>
          <p:nvPr/>
        </p:nvGrpSpPr>
        <p:grpSpPr>
          <a:xfrm>
            <a:off x="1154160" y="2368080"/>
            <a:ext cx="7184880" cy="3086280"/>
            <a:chOff x="1154160" y="2368080"/>
            <a:chExt cx="7184880" cy="3086280"/>
          </a:xfrm>
        </p:grpSpPr>
        <p:sp>
          <p:nvSpPr>
            <p:cNvPr id="261" name="Line 16"/>
            <p:cNvSpPr/>
            <p:nvPr/>
          </p:nvSpPr>
          <p:spPr>
            <a:xfrm flipV="1">
              <a:off x="1154160" y="5448240"/>
              <a:ext cx="7184880" cy="6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6"/>
            <p:cNvSpPr/>
            <p:nvPr/>
          </p:nvSpPr>
          <p:spPr>
            <a:xfrm flipV="1">
              <a:off x="1154160" y="4832280"/>
              <a:ext cx="7184880" cy="6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 flipV="1">
              <a:off x="1154160" y="4216320"/>
              <a:ext cx="7184880" cy="6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 flipV="1">
              <a:off x="1154160" y="3600360"/>
              <a:ext cx="7184880" cy="6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6"/>
            <p:cNvSpPr/>
            <p:nvPr/>
          </p:nvSpPr>
          <p:spPr>
            <a:xfrm flipV="1">
              <a:off x="1154160" y="2984400"/>
              <a:ext cx="7184880" cy="6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 flipV="1">
              <a:off x="1154160" y="2368080"/>
              <a:ext cx="7184880" cy="6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Freeform 42"/>
          <p:cNvSpPr/>
          <p:nvPr/>
        </p:nvSpPr>
        <p:spPr>
          <a:xfrm>
            <a:off x="2800440" y="2808360"/>
            <a:ext cx="906480" cy="12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グループ化 139" descr=""/>
          <p:cNvPicPr/>
          <p:nvPr/>
        </p:nvPicPr>
        <p:blipFill>
          <a:blip r:embed="rId1"/>
          <a:stretch/>
        </p:blipFill>
        <p:spPr>
          <a:xfrm>
            <a:off x="5241960" y="2451240"/>
            <a:ext cx="2822400" cy="268128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11"/>
          <p:cNvGrpSpPr/>
          <p:nvPr/>
        </p:nvGrpSpPr>
        <p:grpSpPr>
          <a:xfrm>
            <a:off x="3849840" y="3575160"/>
            <a:ext cx="1463400" cy="2049480"/>
            <a:chOff x="3849840" y="3575160"/>
            <a:chExt cx="1463400" cy="2049480"/>
          </a:xfrm>
        </p:grpSpPr>
        <p:sp>
          <p:nvSpPr>
            <p:cNvPr id="270" name="円/楕円 71"/>
            <p:cNvSpPr/>
            <p:nvPr/>
          </p:nvSpPr>
          <p:spPr>
            <a:xfrm>
              <a:off x="3854520" y="377208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円/楕円 72"/>
            <p:cNvSpPr/>
            <p:nvPr/>
          </p:nvSpPr>
          <p:spPr>
            <a:xfrm>
              <a:off x="3854520" y="401652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円/楕円 73"/>
            <p:cNvSpPr/>
            <p:nvPr/>
          </p:nvSpPr>
          <p:spPr>
            <a:xfrm>
              <a:off x="3979800" y="409104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円/楕円 74"/>
            <p:cNvSpPr/>
            <p:nvPr/>
          </p:nvSpPr>
          <p:spPr>
            <a:xfrm>
              <a:off x="3971880" y="417528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円/楕円 75"/>
            <p:cNvSpPr/>
            <p:nvPr/>
          </p:nvSpPr>
          <p:spPr>
            <a:xfrm>
              <a:off x="3976560" y="426420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円/楕円 76"/>
            <p:cNvSpPr/>
            <p:nvPr/>
          </p:nvSpPr>
          <p:spPr>
            <a:xfrm>
              <a:off x="3979800" y="438624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円/楕円 77"/>
            <p:cNvSpPr/>
            <p:nvPr/>
          </p:nvSpPr>
          <p:spPr>
            <a:xfrm>
              <a:off x="4152960" y="446580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円/楕円 78"/>
            <p:cNvSpPr/>
            <p:nvPr/>
          </p:nvSpPr>
          <p:spPr>
            <a:xfrm>
              <a:off x="4094280" y="4451400"/>
              <a:ext cx="9972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円/楕円 79"/>
            <p:cNvSpPr/>
            <p:nvPr/>
          </p:nvSpPr>
          <p:spPr>
            <a:xfrm>
              <a:off x="4152960" y="443880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円/楕円 80"/>
            <p:cNvSpPr/>
            <p:nvPr/>
          </p:nvSpPr>
          <p:spPr>
            <a:xfrm>
              <a:off x="4160880" y="462600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円/楕円 81"/>
            <p:cNvSpPr/>
            <p:nvPr/>
          </p:nvSpPr>
          <p:spPr>
            <a:xfrm>
              <a:off x="3854520" y="453240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円/楕円 82"/>
            <p:cNvSpPr/>
            <p:nvPr/>
          </p:nvSpPr>
          <p:spPr>
            <a:xfrm>
              <a:off x="3849840" y="4710240"/>
              <a:ext cx="9972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円/楕円 83"/>
            <p:cNvSpPr/>
            <p:nvPr/>
          </p:nvSpPr>
          <p:spPr>
            <a:xfrm>
              <a:off x="3949560" y="5348160"/>
              <a:ext cx="9864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円/楕円 84"/>
            <p:cNvSpPr/>
            <p:nvPr/>
          </p:nvSpPr>
          <p:spPr>
            <a:xfrm>
              <a:off x="3952800" y="530532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円/楕円 85"/>
            <p:cNvSpPr/>
            <p:nvPr/>
          </p:nvSpPr>
          <p:spPr>
            <a:xfrm>
              <a:off x="3944880" y="522144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円/楕円 86"/>
            <p:cNvSpPr/>
            <p:nvPr/>
          </p:nvSpPr>
          <p:spPr>
            <a:xfrm>
              <a:off x="3944880" y="551664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円/楕円 87"/>
            <p:cNvSpPr/>
            <p:nvPr/>
          </p:nvSpPr>
          <p:spPr>
            <a:xfrm>
              <a:off x="4400640" y="447048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円/楕円 88"/>
            <p:cNvSpPr/>
            <p:nvPr/>
          </p:nvSpPr>
          <p:spPr>
            <a:xfrm>
              <a:off x="4427640" y="444348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円/楕円 89"/>
            <p:cNvSpPr/>
            <p:nvPr/>
          </p:nvSpPr>
          <p:spPr>
            <a:xfrm>
              <a:off x="4500720" y="4446720"/>
              <a:ext cx="99720" cy="1094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円/楕円 90"/>
            <p:cNvSpPr/>
            <p:nvPr/>
          </p:nvSpPr>
          <p:spPr>
            <a:xfrm>
              <a:off x="4694400" y="4541760"/>
              <a:ext cx="9972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円/楕円 91"/>
            <p:cNvSpPr/>
            <p:nvPr/>
          </p:nvSpPr>
          <p:spPr>
            <a:xfrm>
              <a:off x="4676760" y="4564080"/>
              <a:ext cx="982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円/楕円 92"/>
            <p:cNvSpPr/>
            <p:nvPr/>
          </p:nvSpPr>
          <p:spPr>
            <a:xfrm>
              <a:off x="4811760" y="462600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円/楕円 93"/>
            <p:cNvSpPr/>
            <p:nvPr/>
          </p:nvSpPr>
          <p:spPr>
            <a:xfrm>
              <a:off x="4834080" y="4597560"/>
              <a:ext cx="9972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円/楕円 94"/>
            <p:cNvSpPr/>
            <p:nvPr/>
          </p:nvSpPr>
          <p:spPr>
            <a:xfrm>
              <a:off x="4797360" y="449424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円/楕円 95"/>
            <p:cNvSpPr/>
            <p:nvPr/>
          </p:nvSpPr>
          <p:spPr>
            <a:xfrm>
              <a:off x="4711680" y="466740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円/楕円 96"/>
            <p:cNvSpPr/>
            <p:nvPr/>
          </p:nvSpPr>
          <p:spPr>
            <a:xfrm>
              <a:off x="4676760" y="4775040"/>
              <a:ext cx="982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円/楕円 97"/>
            <p:cNvSpPr/>
            <p:nvPr/>
          </p:nvSpPr>
          <p:spPr>
            <a:xfrm>
              <a:off x="4775040" y="472932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円/楕円 98"/>
            <p:cNvSpPr/>
            <p:nvPr/>
          </p:nvSpPr>
          <p:spPr>
            <a:xfrm>
              <a:off x="4540320" y="474804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円/楕円 99"/>
            <p:cNvSpPr/>
            <p:nvPr/>
          </p:nvSpPr>
          <p:spPr>
            <a:xfrm>
              <a:off x="4500720" y="4662360"/>
              <a:ext cx="9972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円/楕円 100"/>
            <p:cNvSpPr/>
            <p:nvPr/>
          </p:nvSpPr>
          <p:spPr>
            <a:xfrm>
              <a:off x="4395960" y="4729320"/>
              <a:ext cx="9972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円/楕円 101"/>
            <p:cNvSpPr/>
            <p:nvPr/>
          </p:nvSpPr>
          <p:spPr>
            <a:xfrm>
              <a:off x="4454640" y="4818240"/>
              <a:ext cx="9972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円/楕円 102"/>
            <p:cNvSpPr/>
            <p:nvPr/>
          </p:nvSpPr>
          <p:spPr>
            <a:xfrm>
              <a:off x="4689360" y="494028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円/楕円 103"/>
            <p:cNvSpPr/>
            <p:nvPr/>
          </p:nvSpPr>
          <p:spPr>
            <a:xfrm>
              <a:off x="4689360" y="507528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円/楕円 104"/>
            <p:cNvSpPr/>
            <p:nvPr/>
          </p:nvSpPr>
          <p:spPr>
            <a:xfrm>
              <a:off x="4892760" y="496260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円/楕円 105"/>
            <p:cNvSpPr/>
            <p:nvPr/>
          </p:nvSpPr>
          <p:spPr>
            <a:xfrm>
              <a:off x="4997520" y="4503600"/>
              <a:ext cx="982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円/楕円 106"/>
            <p:cNvSpPr/>
            <p:nvPr/>
          </p:nvSpPr>
          <p:spPr>
            <a:xfrm>
              <a:off x="4559400" y="433080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円/楕円 107"/>
            <p:cNvSpPr/>
            <p:nvPr/>
          </p:nvSpPr>
          <p:spPr>
            <a:xfrm>
              <a:off x="4603680" y="4105440"/>
              <a:ext cx="10008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円/楕円 108"/>
            <p:cNvSpPr/>
            <p:nvPr/>
          </p:nvSpPr>
          <p:spPr>
            <a:xfrm>
              <a:off x="4332240" y="394956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円/楕円 109"/>
            <p:cNvSpPr/>
            <p:nvPr/>
          </p:nvSpPr>
          <p:spPr>
            <a:xfrm>
              <a:off x="5195880" y="432108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円/楕円 110"/>
            <p:cNvSpPr/>
            <p:nvPr/>
          </p:nvSpPr>
          <p:spPr>
            <a:xfrm>
              <a:off x="5132520" y="4325760"/>
              <a:ext cx="9972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円/楕円 111"/>
            <p:cNvSpPr/>
            <p:nvPr/>
          </p:nvSpPr>
          <p:spPr>
            <a:xfrm>
              <a:off x="5213520" y="3772080"/>
              <a:ext cx="99720" cy="10764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円/楕円 112"/>
            <p:cNvSpPr/>
            <p:nvPr/>
          </p:nvSpPr>
          <p:spPr>
            <a:xfrm>
              <a:off x="4879800" y="3575160"/>
              <a:ext cx="9864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円/楕円 114"/>
            <p:cNvSpPr/>
            <p:nvPr/>
          </p:nvSpPr>
          <p:spPr>
            <a:xfrm>
              <a:off x="4897440" y="4253040"/>
              <a:ext cx="100080" cy="108000"/>
            </a:xfrm>
            <a:prstGeom prst="ellipse">
              <a:avLst/>
            </a:prstGeom>
            <a:solidFill>
              <a:srgbClr val="00b050"/>
            </a:solidFill>
            <a:ln cap="sq"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グループ化 150"/>
          <p:cNvGrpSpPr/>
          <p:nvPr/>
        </p:nvGrpSpPr>
        <p:grpSpPr>
          <a:xfrm>
            <a:off x="2317680" y="1787400"/>
            <a:ext cx="4838760" cy="4283280"/>
            <a:chOff x="2317680" y="1787400"/>
            <a:chExt cx="4838760" cy="4283280"/>
          </a:xfrm>
        </p:grpSpPr>
        <p:sp>
          <p:nvSpPr>
            <p:cNvPr id="314" name="直線コネクタ 118"/>
            <p:cNvSpPr/>
            <p:nvPr/>
          </p:nvSpPr>
          <p:spPr>
            <a:xfrm>
              <a:off x="2317680" y="1787400"/>
              <a:ext cx="0" cy="4283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線コネクタ 119"/>
            <p:cNvSpPr/>
            <p:nvPr/>
          </p:nvSpPr>
          <p:spPr>
            <a:xfrm>
              <a:off x="3527280" y="1787400"/>
              <a:ext cx="0" cy="4283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線コネクタ 120"/>
            <p:cNvSpPr/>
            <p:nvPr/>
          </p:nvSpPr>
          <p:spPr>
            <a:xfrm>
              <a:off x="4736880" y="1787400"/>
              <a:ext cx="0" cy="4283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線コネクタ 121"/>
            <p:cNvSpPr/>
            <p:nvPr/>
          </p:nvSpPr>
          <p:spPr>
            <a:xfrm>
              <a:off x="5946840" y="1787400"/>
              <a:ext cx="0" cy="4283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線コネクタ 122"/>
            <p:cNvSpPr/>
            <p:nvPr/>
          </p:nvSpPr>
          <p:spPr>
            <a:xfrm>
              <a:off x="7156440" y="1787400"/>
              <a:ext cx="0" cy="4283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Freeform 42"/>
          <p:cNvSpPr/>
          <p:nvPr/>
        </p:nvSpPr>
        <p:spPr>
          <a:xfrm>
            <a:off x="3614760" y="3394080"/>
            <a:ext cx="1781280" cy="1825560"/>
          </a:xfrm>
          <a:prstGeom prst="ellipse">
            <a:avLst/>
          </a:prstGeom>
          <a:noFill/>
          <a:ln w="44280">
            <a:solidFill>
              <a:srgbClr val="00e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正方形/長方形 130"/>
          <p:cNvSpPr/>
          <p:nvPr/>
        </p:nvSpPr>
        <p:spPr>
          <a:xfrm>
            <a:off x="1144440" y="1773360"/>
            <a:ext cx="7199640" cy="4281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42"/>
          <p:cNvSpPr/>
          <p:nvPr/>
        </p:nvSpPr>
        <p:spPr>
          <a:xfrm>
            <a:off x="5257800" y="2409840"/>
            <a:ext cx="2774880" cy="2176560"/>
          </a:xfrm>
          <a:prstGeom prst="ellipse">
            <a:avLst/>
          </a:prstGeom>
          <a:noFill/>
          <a:ln w="44280">
            <a:solidFill>
              <a:srgbClr val="6666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5132520" y="5016960"/>
            <a:ext cx="3508200" cy="852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ght N1 (Flat Fro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ght N1 (Front Engine Ty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1-derived N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ront Engine Ty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ucks with GVM &g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 t (Flat Fro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 rot="16200000">
            <a:off x="-423360" y="3893760"/>
            <a:ext cx="183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51-03 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70"/>
          <p:cNvGrpSpPr/>
          <p:nvPr/>
        </p:nvGrpSpPr>
        <p:grpSpPr>
          <a:xfrm>
            <a:off x="928800" y="6108840"/>
            <a:ext cx="7711920" cy="276120"/>
            <a:chOff x="928800" y="6108840"/>
            <a:chExt cx="7711920" cy="276120"/>
          </a:xfrm>
        </p:grpSpPr>
        <p:sp>
          <p:nvSpPr>
            <p:cNvPr id="325" name="Rectangle 45"/>
            <p:cNvSpPr/>
            <p:nvPr/>
          </p:nvSpPr>
          <p:spPr>
            <a:xfrm>
              <a:off x="8078760" y="6108840"/>
              <a:ext cx="56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5"/>
            <p:cNvSpPr/>
            <p:nvPr/>
          </p:nvSpPr>
          <p:spPr>
            <a:xfrm>
              <a:off x="6854760" y="6108840"/>
              <a:ext cx="56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5"/>
            <p:cNvSpPr/>
            <p:nvPr/>
          </p:nvSpPr>
          <p:spPr>
            <a:xfrm>
              <a:off x="5630760" y="6108840"/>
              <a:ext cx="56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45"/>
            <p:cNvSpPr/>
            <p:nvPr/>
          </p:nvSpPr>
          <p:spPr>
            <a:xfrm>
              <a:off x="4421160" y="6108840"/>
              <a:ext cx="5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5"/>
            <p:cNvSpPr/>
            <p:nvPr/>
          </p:nvSpPr>
          <p:spPr>
            <a:xfrm>
              <a:off x="3170160" y="6108840"/>
              <a:ext cx="59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5"/>
            <p:cNvSpPr/>
            <p:nvPr/>
          </p:nvSpPr>
          <p:spPr>
            <a:xfrm>
              <a:off x="2049480" y="6108840"/>
              <a:ext cx="43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5"/>
            <p:cNvSpPr/>
            <p:nvPr/>
          </p:nvSpPr>
          <p:spPr>
            <a:xfrm>
              <a:off x="928800" y="6110280"/>
              <a:ext cx="43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45"/>
          <p:cNvSpPr/>
          <p:nvPr/>
        </p:nvSpPr>
        <p:spPr>
          <a:xfrm>
            <a:off x="2887560" y="6438960"/>
            <a:ext cx="390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ehicle mass at R51-03 test 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95200" y="404640"/>
            <a:ext cx="849168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Noise Levels of Flat Front Light N1 Vehicles in the New Test (R51-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80"/>
          <p:cNvGrpSpPr/>
          <p:nvPr/>
        </p:nvGrpSpPr>
        <p:grpSpPr>
          <a:xfrm>
            <a:off x="728640" y="1643040"/>
            <a:ext cx="369720" cy="4545000"/>
            <a:chOff x="728640" y="1643040"/>
            <a:chExt cx="369720" cy="4545000"/>
          </a:xfrm>
        </p:grpSpPr>
        <p:sp>
          <p:nvSpPr>
            <p:cNvPr id="335" name="Rectangle 45"/>
            <p:cNvSpPr/>
            <p:nvPr/>
          </p:nvSpPr>
          <p:spPr>
            <a:xfrm>
              <a:off x="728640" y="164304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45"/>
            <p:cNvSpPr/>
            <p:nvPr/>
          </p:nvSpPr>
          <p:spPr>
            <a:xfrm>
              <a:off x="728640" y="225252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5"/>
            <p:cNvSpPr/>
            <p:nvPr/>
          </p:nvSpPr>
          <p:spPr>
            <a:xfrm>
              <a:off x="728640" y="286200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5"/>
            <p:cNvSpPr/>
            <p:nvPr/>
          </p:nvSpPr>
          <p:spPr>
            <a:xfrm>
              <a:off x="728640" y="347184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728640" y="408276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5"/>
            <p:cNvSpPr/>
            <p:nvPr/>
          </p:nvSpPr>
          <p:spPr>
            <a:xfrm>
              <a:off x="728640" y="469260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5"/>
            <p:cNvSpPr/>
            <p:nvPr/>
          </p:nvSpPr>
          <p:spPr>
            <a:xfrm>
              <a:off x="728640" y="530208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5"/>
            <p:cNvSpPr/>
            <p:nvPr/>
          </p:nvSpPr>
          <p:spPr>
            <a:xfrm>
              <a:off x="728640" y="5913360"/>
              <a:ext cx="36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5"/>
          <p:cNvSpPr/>
          <p:nvPr/>
        </p:nvSpPr>
        <p:spPr>
          <a:xfrm>
            <a:off x="444600" y="761760"/>
            <a:ext cx="8456400" cy="74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oise levels of Flat Front Light N1Vehicles are higher than those of Front Engine Type by about 2 – 3 dB and are almost the same as trucks with GVM &gt; 2.5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86"/>
          <p:cNvGrpSpPr/>
          <p:nvPr/>
        </p:nvGrpSpPr>
        <p:grpSpPr>
          <a:xfrm>
            <a:off x="3030480" y="2784600"/>
            <a:ext cx="588960" cy="1333440"/>
            <a:chOff x="3030480" y="2784600"/>
            <a:chExt cx="588960" cy="1333440"/>
          </a:xfrm>
        </p:grpSpPr>
        <p:sp>
          <p:nvSpPr>
            <p:cNvPr id="345" name="Oval 24"/>
            <p:cNvSpPr/>
            <p:nvPr/>
          </p:nvSpPr>
          <p:spPr>
            <a:xfrm>
              <a:off x="3220920" y="3222720"/>
              <a:ext cx="12564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6"/>
            <p:cNvSpPr/>
            <p:nvPr/>
          </p:nvSpPr>
          <p:spPr>
            <a:xfrm>
              <a:off x="3178080" y="3005280"/>
              <a:ext cx="12564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7"/>
            <p:cNvSpPr/>
            <p:nvPr/>
          </p:nvSpPr>
          <p:spPr>
            <a:xfrm>
              <a:off x="3494160" y="3313080"/>
              <a:ext cx="12528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8"/>
            <p:cNvSpPr/>
            <p:nvPr/>
          </p:nvSpPr>
          <p:spPr>
            <a:xfrm>
              <a:off x="3452760" y="3090960"/>
              <a:ext cx="12564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0"/>
            <p:cNvSpPr/>
            <p:nvPr/>
          </p:nvSpPr>
          <p:spPr>
            <a:xfrm>
              <a:off x="3094200" y="3268800"/>
              <a:ext cx="12528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1"/>
            <p:cNvSpPr/>
            <p:nvPr/>
          </p:nvSpPr>
          <p:spPr>
            <a:xfrm>
              <a:off x="3094200" y="3728880"/>
              <a:ext cx="125280" cy="12564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2"/>
            <p:cNvSpPr/>
            <p:nvPr/>
          </p:nvSpPr>
          <p:spPr>
            <a:xfrm>
              <a:off x="3030480" y="2917800"/>
              <a:ext cx="12564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4"/>
            <p:cNvSpPr/>
            <p:nvPr/>
          </p:nvSpPr>
          <p:spPr>
            <a:xfrm>
              <a:off x="3114720" y="3222720"/>
              <a:ext cx="12528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5"/>
            <p:cNvSpPr/>
            <p:nvPr/>
          </p:nvSpPr>
          <p:spPr>
            <a:xfrm>
              <a:off x="3389400" y="3003480"/>
              <a:ext cx="125280" cy="12564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36"/>
            <p:cNvSpPr/>
            <p:nvPr/>
          </p:nvSpPr>
          <p:spPr>
            <a:xfrm>
              <a:off x="3389400" y="3510000"/>
              <a:ext cx="12528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37"/>
            <p:cNvSpPr/>
            <p:nvPr/>
          </p:nvSpPr>
          <p:spPr>
            <a:xfrm>
              <a:off x="3389400" y="3992400"/>
              <a:ext cx="125280" cy="12564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8"/>
            <p:cNvSpPr/>
            <p:nvPr/>
          </p:nvSpPr>
          <p:spPr>
            <a:xfrm>
              <a:off x="3346560" y="3840120"/>
              <a:ext cx="12528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9"/>
            <p:cNvSpPr/>
            <p:nvPr/>
          </p:nvSpPr>
          <p:spPr>
            <a:xfrm>
              <a:off x="3135240" y="3355920"/>
              <a:ext cx="125640" cy="12564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40"/>
            <p:cNvSpPr/>
            <p:nvPr/>
          </p:nvSpPr>
          <p:spPr>
            <a:xfrm>
              <a:off x="3220920" y="2784600"/>
              <a:ext cx="125640" cy="12528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Oval 40"/>
          <p:cNvSpPr/>
          <p:nvPr/>
        </p:nvSpPr>
        <p:spPr>
          <a:xfrm>
            <a:off x="5192640" y="5052960"/>
            <a:ext cx="125640" cy="125640"/>
          </a:xfrm>
          <a:prstGeom prst="diamond">
            <a:avLst/>
          </a:prstGeom>
          <a:solidFill>
            <a:srgbClr val="ff0000"/>
          </a:solidFill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正方形/長方形 151"/>
          <p:cNvSpPr/>
          <p:nvPr/>
        </p:nvSpPr>
        <p:spPr>
          <a:xfrm>
            <a:off x="5202360" y="5708520"/>
            <a:ext cx="102960" cy="106560"/>
          </a:xfrm>
          <a:prstGeom prst="rect">
            <a:avLst/>
          </a:prstGeom>
          <a:solidFill>
            <a:srgbClr val="3333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円/楕円 152"/>
          <p:cNvSpPr/>
          <p:nvPr/>
        </p:nvSpPr>
        <p:spPr>
          <a:xfrm>
            <a:off x="5191200" y="5478480"/>
            <a:ext cx="122040" cy="123840"/>
          </a:xfrm>
          <a:prstGeom prst="ellipse">
            <a:avLst/>
          </a:prstGeom>
          <a:solidFill>
            <a:srgbClr val="00b050"/>
          </a:solidFill>
          <a:ln cap="sq"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3"/>
          <p:cNvSpPr/>
          <p:nvPr/>
        </p:nvSpPr>
        <p:spPr>
          <a:xfrm>
            <a:off x="5187960" y="5262480"/>
            <a:ext cx="144360" cy="125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0"/>
          <p:cNvSpPr/>
          <p:nvPr/>
        </p:nvSpPr>
        <p:spPr>
          <a:xfrm>
            <a:off x="2046240" y="3483000"/>
            <a:ext cx="624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2"/>
          <p:cNvSpPr/>
          <p:nvPr/>
        </p:nvSpPr>
        <p:spPr>
          <a:xfrm>
            <a:off x="2016000" y="4278240"/>
            <a:ext cx="354168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3"/>
          <p:cNvSpPr/>
          <p:nvPr/>
        </p:nvSpPr>
        <p:spPr>
          <a:xfrm>
            <a:off x="2119320" y="3513240"/>
            <a:ext cx="420840" cy="711000"/>
          </a:xfrm>
          <a:prstGeom prst="upDownArrow">
            <a:avLst>
              <a:gd name="adj1" fmla="val 49870"/>
              <a:gd name="adj2" fmla="val 54681"/>
            </a:avLst>
          </a:prstGeom>
          <a:solidFill>
            <a:srgbClr val="cc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1290600" y="3614040"/>
            <a:ext cx="81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3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30" descr=""/>
          <p:cNvPicPr/>
          <p:nvPr/>
        </p:nvPicPr>
        <p:blipFill>
          <a:blip r:embed="rId2"/>
          <a:stretch/>
        </p:blipFill>
        <p:spPr>
          <a:xfrm>
            <a:off x="2508120" y="5288040"/>
            <a:ext cx="1446480" cy="7333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9" descr=""/>
          <p:cNvPicPr/>
          <p:nvPr/>
        </p:nvPicPr>
        <p:blipFill>
          <a:blip r:embed="rId3"/>
          <a:stretch/>
        </p:blipFill>
        <p:spPr>
          <a:xfrm>
            <a:off x="1739880" y="2246400"/>
            <a:ext cx="1060560" cy="690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28" descr=""/>
          <p:cNvPicPr/>
          <p:nvPr/>
        </p:nvPicPr>
        <p:blipFill>
          <a:blip r:embed="rId4"/>
          <a:stretch/>
        </p:blipFill>
        <p:spPr>
          <a:xfrm>
            <a:off x="7302600" y="1452600"/>
            <a:ext cx="1598400" cy="110160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112"/>
          <p:cNvGrpSpPr/>
          <p:nvPr/>
        </p:nvGrpSpPr>
        <p:grpSpPr>
          <a:xfrm>
            <a:off x="3006720" y="4057560"/>
            <a:ext cx="312840" cy="676440"/>
            <a:chOff x="3006720" y="4057560"/>
            <a:chExt cx="312840" cy="676440"/>
          </a:xfrm>
        </p:grpSpPr>
        <p:sp>
          <p:nvSpPr>
            <p:cNvPr id="371" name="Oval 25"/>
            <p:cNvSpPr/>
            <p:nvPr/>
          </p:nvSpPr>
          <p:spPr>
            <a:xfrm>
              <a:off x="3111480" y="4608360"/>
              <a:ext cx="144360" cy="125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9"/>
            <p:cNvSpPr/>
            <p:nvPr/>
          </p:nvSpPr>
          <p:spPr>
            <a:xfrm>
              <a:off x="3174840" y="4057560"/>
              <a:ext cx="144720" cy="125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3"/>
            <p:cNvSpPr/>
            <p:nvPr/>
          </p:nvSpPr>
          <p:spPr>
            <a:xfrm>
              <a:off x="3006720" y="4408560"/>
              <a:ext cx="144360" cy="12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Freeform 42"/>
          <p:cNvSpPr/>
          <p:nvPr/>
        </p:nvSpPr>
        <p:spPr>
          <a:xfrm>
            <a:off x="2967120" y="3889440"/>
            <a:ext cx="549360" cy="911160"/>
          </a:xfrm>
          <a:prstGeom prst="ellipse">
            <a:avLst/>
          </a:prstGeom>
          <a:noFill/>
          <a:ln w="4428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9"/>
          <p:cNvGrpSpPr/>
          <p:nvPr/>
        </p:nvGrpSpPr>
        <p:grpSpPr>
          <a:xfrm>
            <a:off x="1827360" y="4471920"/>
            <a:ext cx="1162080" cy="770040"/>
            <a:chOff x="1827360" y="4471920"/>
            <a:chExt cx="1162080" cy="770040"/>
          </a:xfrm>
        </p:grpSpPr>
        <p:pic>
          <p:nvPicPr>
            <p:cNvPr id="376" name="Picture 20" descr=""/>
            <p:cNvPicPr/>
            <p:nvPr/>
          </p:nvPicPr>
          <p:blipFill>
            <a:blip r:embed="rId5"/>
            <a:stretch/>
          </p:blipFill>
          <p:spPr>
            <a:xfrm>
              <a:off x="1827360" y="4471920"/>
              <a:ext cx="11620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Freeform 21"/>
            <p:cNvSpPr/>
            <p:nvPr/>
          </p:nvSpPr>
          <p:spPr>
            <a:xfrm>
              <a:off x="1920240" y="4998600"/>
              <a:ext cx="77400" cy="950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37" h="285">
                  <a:moveTo>
                    <a:pt x="3" y="0"/>
                  </a:moveTo>
                  <a:lnTo>
                    <a:pt x="0" y="177"/>
                  </a:lnTo>
                  <a:lnTo>
                    <a:pt x="231" y="285"/>
                  </a:lnTo>
                  <a:lnTo>
                    <a:pt x="237" y="9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612720" y="4336920"/>
            <a:ext cx="21211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ro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731880" y="2017800"/>
            <a:ext cx="21715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gin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1"/>
          <p:cNvGrpSpPr/>
          <p:nvPr/>
        </p:nvGrpSpPr>
        <p:grpSpPr>
          <a:xfrm>
            <a:off x="874800" y="2379600"/>
            <a:ext cx="2820960" cy="1434960"/>
            <a:chOff x="874800" y="2379600"/>
            <a:chExt cx="2820960" cy="1434960"/>
          </a:xfrm>
        </p:grpSpPr>
        <p:sp>
          <p:nvSpPr>
            <p:cNvPr id="381" name="Freeform 12"/>
            <p:cNvSpPr/>
            <p:nvPr/>
          </p:nvSpPr>
          <p:spPr>
            <a:xfrm>
              <a:off x="1055880" y="3174840"/>
              <a:ext cx="401400" cy="42408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4631" h="4882">
                  <a:moveTo>
                    <a:pt x="886" y="183"/>
                  </a:moveTo>
                  <a:lnTo>
                    <a:pt x="916" y="170"/>
                  </a:lnTo>
                  <a:lnTo>
                    <a:pt x="1054" y="112"/>
                  </a:lnTo>
                  <a:lnTo>
                    <a:pt x="1212" y="76"/>
                  </a:lnTo>
                  <a:lnTo>
                    <a:pt x="1341" y="54"/>
                  </a:lnTo>
                  <a:lnTo>
                    <a:pt x="1535" y="26"/>
                  </a:lnTo>
                  <a:lnTo>
                    <a:pt x="1733" y="7"/>
                  </a:lnTo>
                  <a:lnTo>
                    <a:pt x="1747" y="15"/>
                  </a:lnTo>
                  <a:lnTo>
                    <a:pt x="1759" y="50"/>
                  </a:lnTo>
                  <a:lnTo>
                    <a:pt x="1774" y="97"/>
                  </a:lnTo>
                  <a:lnTo>
                    <a:pt x="1993" y="97"/>
                  </a:lnTo>
                  <a:lnTo>
                    <a:pt x="2010" y="48"/>
                  </a:lnTo>
                  <a:lnTo>
                    <a:pt x="2020" y="10"/>
                  </a:lnTo>
                  <a:lnTo>
                    <a:pt x="2029" y="0"/>
                  </a:lnTo>
                  <a:lnTo>
                    <a:pt x="2202" y="0"/>
                  </a:lnTo>
                  <a:lnTo>
                    <a:pt x="2457" y="22"/>
                  </a:lnTo>
                  <a:lnTo>
                    <a:pt x="2683" y="66"/>
                  </a:lnTo>
                  <a:lnTo>
                    <a:pt x="2851" y="109"/>
                  </a:lnTo>
                  <a:lnTo>
                    <a:pt x="3007" y="183"/>
                  </a:lnTo>
                  <a:lnTo>
                    <a:pt x="3030" y="215"/>
                  </a:lnTo>
                  <a:lnTo>
                    <a:pt x="3037" y="242"/>
                  </a:lnTo>
                  <a:lnTo>
                    <a:pt x="3050" y="616"/>
                  </a:lnTo>
                  <a:lnTo>
                    <a:pt x="3044" y="769"/>
                  </a:lnTo>
                  <a:lnTo>
                    <a:pt x="3033" y="842"/>
                  </a:lnTo>
                  <a:lnTo>
                    <a:pt x="2959" y="978"/>
                  </a:lnTo>
                  <a:lnTo>
                    <a:pt x="2936" y="1065"/>
                  </a:lnTo>
                  <a:lnTo>
                    <a:pt x="2926" y="1124"/>
                  </a:lnTo>
                  <a:lnTo>
                    <a:pt x="2936" y="1179"/>
                  </a:lnTo>
                  <a:lnTo>
                    <a:pt x="2967" y="1228"/>
                  </a:lnTo>
                  <a:lnTo>
                    <a:pt x="2986" y="1302"/>
                  </a:lnTo>
                  <a:lnTo>
                    <a:pt x="2971" y="1352"/>
                  </a:lnTo>
                  <a:lnTo>
                    <a:pt x="2921" y="1389"/>
                  </a:lnTo>
                  <a:lnTo>
                    <a:pt x="2851" y="1399"/>
                  </a:lnTo>
                  <a:lnTo>
                    <a:pt x="2831" y="1411"/>
                  </a:lnTo>
                  <a:lnTo>
                    <a:pt x="2747" y="1548"/>
                  </a:lnTo>
                  <a:lnTo>
                    <a:pt x="2711" y="1645"/>
                  </a:lnTo>
                  <a:lnTo>
                    <a:pt x="2718" y="1661"/>
                  </a:lnTo>
                  <a:lnTo>
                    <a:pt x="2784" y="1671"/>
                  </a:lnTo>
                  <a:lnTo>
                    <a:pt x="2841" y="1721"/>
                  </a:lnTo>
                  <a:lnTo>
                    <a:pt x="2834" y="1779"/>
                  </a:lnTo>
                  <a:lnTo>
                    <a:pt x="2747" y="1865"/>
                  </a:lnTo>
                  <a:lnTo>
                    <a:pt x="2711" y="1905"/>
                  </a:lnTo>
                  <a:lnTo>
                    <a:pt x="2701" y="1933"/>
                  </a:lnTo>
                  <a:lnTo>
                    <a:pt x="2702" y="1957"/>
                  </a:lnTo>
                  <a:lnTo>
                    <a:pt x="2725" y="1964"/>
                  </a:lnTo>
                  <a:lnTo>
                    <a:pt x="2831" y="1962"/>
                  </a:lnTo>
                  <a:lnTo>
                    <a:pt x="2921" y="1966"/>
                  </a:lnTo>
                  <a:lnTo>
                    <a:pt x="2947" y="1971"/>
                  </a:lnTo>
                  <a:lnTo>
                    <a:pt x="2959" y="1993"/>
                  </a:lnTo>
                  <a:lnTo>
                    <a:pt x="2947" y="2068"/>
                  </a:lnTo>
                  <a:lnTo>
                    <a:pt x="2959" y="2101"/>
                  </a:lnTo>
                  <a:lnTo>
                    <a:pt x="2993" y="2125"/>
                  </a:lnTo>
                  <a:lnTo>
                    <a:pt x="3050" y="2191"/>
                  </a:lnTo>
                  <a:lnTo>
                    <a:pt x="3101" y="2241"/>
                  </a:lnTo>
                  <a:lnTo>
                    <a:pt x="3153" y="2241"/>
                  </a:lnTo>
                  <a:lnTo>
                    <a:pt x="3340" y="2255"/>
                  </a:lnTo>
                  <a:lnTo>
                    <a:pt x="3412" y="2227"/>
                  </a:lnTo>
                  <a:lnTo>
                    <a:pt x="3475" y="2224"/>
                  </a:lnTo>
                  <a:lnTo>
                    <a:pt x="3506" y="2234"/>
                  </a:lnTo>
                  <a:lnTo>
                    <a:pt x="3516" y="2250"/>
                  </a:lnTo>
                  <a:lnTo>
                    <a:pt x="3520" y="2321"/>
                  </a:lnTo>
                  <a:lnTo>
                    <a:pt x="3527" y="2426"/>
                  </a:lnTo>
                  <a:lnTo>
                    <a:pt x="3527" y="2450"/>
                  </a:lnTo>
                  <a:lnTo>
                    <a:pt x="3539" y="2468"/>
                  </a:lnTo>
                  <a:lnTo>
                    <a:pt x="3672" y="2544"/>
                  </a:lnTo>
                  <a:lnTo>
                    <a:pt x="3759" y="2546"/>
                  </a:lnTo>
                  <a:lnTo>
                    <a:pt x="3799" y="2554"/>
                  </a:lnTo>
                  <a:lnTo>
                    <a:pt x="3821" y="2591"/>
                  </a:lnTo>
                  <a:lnTo>
                    <a:pt x="3830" y="2631"/>
                  </a:lnTo>
                  <a:lnTo>
                    <a:pt x="3852" y="2667"/>
                  </a:lnTo>
                  <a:lnTo>
                    <a:pt x="3882" y="2681"/>
                  </a:lnTo>
                  <a:lnTo>
                    <a:pt x="4140" y="2724"/>
                  </a:lnTo>
                  <a:lnTo>
                    <a:pt x="4399" y="2688"/>
                  </a:lnTo>
                  <a:lnTo>
                    <a:pt x="4422" y="2883"/>
                  </a:lnTo>
                  <a:lnTo>
                    <a:pt x="4429" y="2998"/>
                  </a:lnTo>
                  <a:lnTo>
                    <a:pt x="4451" y="3121"/>
                  </a:lnTo>
                  <a:lnTo>
                    <a:pt x="4472" y="3266"/>
                  </a:lnTo>
                  <a:lnTo>
                    <a:pt x="4479" y="3533"/>
                  </a:lnTo>
                  <a:lnTo>
                    <a:pt x="4486" y="3543"/>
                  </a:lnTo>
                  <a:lnTo>
                    <a:pt x="4543" y="3585"/>
                  </a:lnTo>
                  <a:lnTo>
                    <a:pt x="4552" y="3613"/>
                  </a:lnTo>
                  <a:lnTo>
                    <a:pt x="4566" y="3929"/>
                  </a:lnTo>
                  <a:lnTo>
                    <a:pt x="4574" y="3955"/>
                  </a:lnTo>
                  <a:lnTo>
                    <a:pt x="4616" y="3985"/>
                  </a:lnTo>
                  <a:lnTo>
                    <a:pt x="4631" y="4009"/>
                  </a:lnTo>
                  <a:lnTo>
                    <a:pt x="4595" y="4226"/>
                  </a:lnTo>
                  <a:lnTo>
                    <a:pt x="4578" y="4231"/>
                  </a:lnTo>
                  <a:lnTo>
                    <a:pt x="4529" y="4233"/>
                  </a:lnTo>
                  <a:lnTo>
                    <a:pt x="4427" y="4381"/>
                  </a:lnTo>
                  <a:lnTo>
                    <a:pt x="4408" y="4427"/>
                  </a:lnTo>
                  <a:lnTo>
                    <a:pt x="4399" y="4473"/>
                  </a:lnTo>
                  <a:lnTo>
                    <a:pt x="4408" y="4709"/>
                  </a:lnTo>
                  <a:lnTo>
                    <a:pt x="4408" y="4787"/>
                  </a:lnTo>
                  <a:lnTo>
                    <a:pt x="4392" y="4808"/>
                  </a:lnTo>
                  <a:lnTo>
                    <a:pt x="4366" y="4821"/>
                  </a:lnTo>
                  <a:lnTo>
                    <a:pt x="4076" y="4839"/>
                  </a:lnTo>
                  <a:lnTo>
                    <a:pt x="3837" y="4853"/>
                  </a:lnTo>
                  <a:lnTo>
                    <a:pt x="3014" y="4868"/>
                  </a:lnTo>
                  <a:lnTo>
                    <a:pt x="2488" y="4882"/>
                  </a:lnTo>
                  <a:lnTo>
                    <a:pt x="2005" y="4868"/>
                  </a:lnTo>
                  <a:lnTo>
                    <a:pt x="1629" y="4853"/>
                  </a:lnTo>
                  <a:lnTo>
                    <a:pt x="1558" y="4825"/>
                  </a:lnTo>
                  <a:lnTo>
                    <a:pt x="1485" y="4846"/>
                  </a:lnTo>
                  <a:lnTo>
                    <a:pt x="1404" y="4842"/>
                  </a:lnTo>
                  <a:lnTo>
                    <a:pt x="1385" y="4839"/>
                  </a:lnTo>
                  <a:lnTo>
                    <a:pt x="1371" y="4823"/>
                  </a:lnTo>
                  <a:lnTo>
                    <a:pt x="1348" y="4702"/>
                  </a:lnTo>
                  <a:lnTo>
                    <a:pt x="1328" y="4683"/>
                  </a:lnTo>
                  <a:lnTo>
                    <a:pt x="1232" y="4636"/>
                  </a:lnTo>
                  <a:lnTo>
                    <a:pt x="1187" y="4631"/>
                  </a:lnTo>
                  <a:lnTo>
                    <a:pt x="1139" y="4636"/>
                  </a:lnTo>
                  <a:lnTo>
                    <a:pt x="1085" y="4652"/>
                  </a:lnTo>
                  <a:lnTo>
                    <a:pt x="1075" y="4666"/>
                  </a:lnTo>
                  <a:lnTo>
                    <a:pt x="1080" y="4698"/>
                  </a:lnTo>
                  <a:lnTo>
                    <a:pt x="1066" y="4712"/>
                  </a:lnTo>
                  <a:lnTo>
                    <a:pt x="879" y="4716"/>
                  </a:lnTo>
                  <a:lnTo>
                    <a:pt x="869" y="4709"/>
                  </a:lnTo>
                  <a:lnTo>
                    <a:pt x="860" y="4681"/>
                  </a:lnTo>
                  <a:lnTo>
                    <a:pt x="850" y="4672"/>
                  </a:lnTo>
                  <a:lnTo>
                    <a:pt x="753" y="4676"/>
                  </a:lnTo>
                  <a:lnTo>
                    <a:pt x="742" y="4657"/>
                  </a:lnTo>
                  <a:lnTo>
                    <a:pt x="744" y="4607"/>
                  </a:lnTo>
                  <a:lnTo>
                    <a:pt x="735" y="4588"/>
                  </a:lnTo>
                  <a:lnTo>
                    <a:pt x="718" y="4579"/>
                  </a:lnTo>
                  <a:lnTo>
                    <a:pt x="439" y="4586"/>
                  </a:lnTo>
                  <a:lnTo>
                    <a:pt x="219" y="4626"/>
                  </a:lnTo>
                  <a:lnTo>
                    <a:pt x="194" y="4629"/>
                  </a:lnTo>
                  <a:lnTo>
                    <a:pt x="180" y="4620"/>
                  </a:lnTo>
                  <a:lnTo>
                    <a:pt x="128" y="4570"/>
                  </a:lnTo>
                  <a:lnTo>
                    <a:pt x="112" y="4555"/>
                  </a:lnTo>
                  <a:lnTo>
                    <a:pt x="107" y="4529"/>
                  </a:lnTo>
                  <a:lnTo>
                    <a:pt x="64" y="3864"/>
                  </a:lnTo>
                  <a:lnTo>
                    <a:pt x="13" y="3207"/>
                  </a:lnTo>
                  <a:lnTo>
                    <a:pt x="0" y="2747"/>
                  </a:lnTo>
                  <a:lnTo>
                    <a:pt x="15" y="2702"/>
                  </a:lnTo>
                  <a:lnTo>
                    <a:pt x="81" y="2599"/>
                  </a:lnTo>
                  <a:lnTo>
                    <a:pt x="142" y="2527"/>
                  </a:lnTo>
                  <a:lnTo>
                    <a:pt x="173" y="2508"/>
                  </a:lnTo>
                  <a:lnTo>
                    <a:pt x="270" y="2485"/>
                  </a:lnTo>
                  <a:lnTo>
                    <a:pt x="297" y="2466"/>
                  </a:lnTo>
                  <a:lnTo>
                    <a:pt x="313" y="2383"/>
                  </a:lnTo>
                  <a:lnTo>
                    <a:pt x="310" y="2364"/>
                  </a:lnTo>
                  <a:lnTo>
                    <a:pt x="292" y="2322"/>
                  </a:lnTo>
                  <a:lnTo>
                    <a:pt x="266" y="2284"/>
                  </a:lnTo>
                  <a:lnTo>
                    <a:pt x="251" y="2248"/>
                  </a:lnTo>
                  <a:lnTo>
                    <a:pt x="244" y="2205"/>
                  </a:lnTo>
                  <a:lnTo>
                    <a:pt x="258" y="2184"/>
                  </a:lnTo>
                  <a:lnTo>
                    <a:pt x="320" y="2184"/>
                  </a:lnTo>
                  <a:lnTo>
                    <a:pt x="346" y="2168"/>
                  </a:lnTo>
                  <a:lnTo>
                    <a:pt x="358" y="2144"/>
                  </a:lnTo>
                  <a:lnTo>
                    <a:pt x="381" y="2123"/>
                  </a:lnTo>
                  <a:lnTo>
                    <a:pt x="405" y="2120"/>
                  </a:lnTo>
                  <a:lnTo>
                    <a:pt x="436" y="2121"/>
                  </a:lnTo>
                  <a:lnTo>
                    <a:pt x="477" y="2121"/>
                  </a:lnTo>
                  <a:lnTo>
                    <a:pt x="495" y="2109"/>
                  </a:lnTo>
                  <a:lnTo>
                    <a:pt x="502" y="2075"/>
                  </a:lnTo>
                  <a:lnTo>
                    <a:pt x="535" y="2059"/>
                  </a:lnTo>
                  <a:lnTo>
                    <a:pt x="625" y="2071"/>
                  </a:lnTo>
                  <a:lnTo>
                    <a:pt x="678" y="2066"/>
                  </a:lnTo>
                  <a:lnTo>
                    <a:pt x="694" y="2040"/>
                  </a:lnTo>
                  <a:lnTo>
                    <a:pt x="711" y="1867"/>
                  </a:lnTo>
                  <a:lnTo>
                    <a:pt x="720" y="1829"/>
                  </a:lnTo>
                  <a:lnTo>
                    <a:pt x="756" y="1785"/>
                  </a:lnTo>
                  <a:lnTo>
                    <a:pt x="836" y="1751"/>
                  </a:lnTo>
                  <a:lnTo>
                    <a:pt x="995" y="1747"/>
                  </a:lnTo>
                  <a:lnTo>
                    <a:pt x="1021" y="1737"/>
                  </a:lnTo>
                  <a:lnTo>
                    <a:pt x="1030" y="1699"/>
                  </a:lnTo>
                  <a:lnTo>
                    <a:pt x="1006" y="1552"/>
                  </a:lnTo>
                  <a:lnTo>
                    <a:pt x="993" y="1524"/>
                  </a:lnTo>
                  <a:lnTo>
                    <a:pt x="966" y="1512"/>
                  </a:lnTo>
                  <a:lnTo>
                    <a:pt x="936" y="1505"/>
                  </a:lnTo>
                  <a:lnTo>
                    <a:pt x="836" y="1498"/>
                  </a:lnTo>
                  <a:lnTo>
                    <a:pt x="768" y="1470"/>
                  </a:lnTo>
                  <a:lnTo>
                    <a:pt x="756" y="1455"/>
                  </a:lnTo>
                  <a:lnTo>
                    <a:pt x="748" y="1425"/>
                  </a:lnTo>
                  <a:lnTo>
                    <a:pt x="763" y="1389"/>
                  </a:lnTo>
                  <a:lnTo>
                    <a:pt x="806" y="1309"/>
                  </a:lnTo>
                  <a:lnTo>
                    <a:pt x="900" y="1176"/>
                  </a:lnTo>
                  <a:lnTo>
                    <a:pt x="902" y="1152"/>
                  </a:lnTo>
                  <a:lnTo>
                    <a:pt x="902" y="1126"/>
                  </a:lnTo>
                  <a:lnTo>
                    <a:pt x="886" y="1058"/>
                  </a:lnTo>
                  <a:lnTo>
                    <a:pt x="843" y="833"/>
                  </a:lnTo>
                  <a:lnTo>
                    <a:pt x="822" y="632"/>
                  </a:lnTo>
                  <a:lnTo>
                    <a:pt x="843" y="336"/>
                  </a:lnTo>
                  <a:lnTo>
                    <a:pt x="872" y="199"/>
                  </a:lnTo>
                  <a:lnTo>
                    <a:pt x="886" y="183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3"/>
            <p:cNvSpPr/>
            <p:nvPr/>
          </p:nvSpPr>
          <p:spPr>
            <a:xfrm>
              <a:off x="905040" y="3017880"/>
              <a:ext cx="642960" cy="796680"/>
            </a:xfrm>
            <a:prstGeom prst="ellipse">
              <a:avLst/>
            </a:prstGeom>
            <a:noFill/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Picture 14" descr=""/>
            <p:cNvPicPr/>
            <p:nvPr/>
          </p:nvPicPr>
          <p:blipFill>
            <a:blip r:embed="rId1"/>
            <a:stretch/>
          </p:blipFill>
          <p:spPr>
            <a:xfrm>
              <a:off x="874800" y="2379600"/>
              <a:ext cx="2820960" cy="13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Freeform 16"/>
          <p:cNvSpPr/>
          <p:nvPr/>
        </p:nvSpPr>
        <p:spPr>
          <a:xfrm>
            <a:off x="6122880" y="5751360"/>
            <a:ext cx="449280" cy="433440"/>
          </a:xfrm>
          <a:custGeom>
            <a:avLst/>
            <a:gdLst>
              <a:gd name="textAreaLeft" fmla="*/ 0 w 449280"/>
              <a:gd name="textAreaRight" fmla="*/ 449640 w 449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065" h="961">
                <a:moveTo>
                  <a:pt x="30" y="139"/>
                </a:moveTo>
                <a:cubicBezTo>
                  <a:pt x="14" y="214"/>
                  <a:pt x="6" y="385"/>
                  <a:pt x="3" y="478"/>
                </a:cubicBezTo>
                <a:cubicBezTo>
                  <a:pt x="0" y="571"/>
                  <a:pt x="7" y="635"/>
                  <a:pt x="12" y="700"/>
                </a:cubicBezTo>
                <a:cubicBezTo>
                  <a:pt x="17" y="765"/>
                  <a:pt x="25" y="833"/>
                  <a:pt x="36" y="871"/>
                </a:cubicBezTo>
                <a:cubicBezTo>
                  <a:pt x="47" y="909"/>
                  <a:pt x="69" y="918"/>
                  <a:pt x="81" y="931"/>
                </a:cubicBezTo>
                <a:lnTo>
                  <a:pt x="105" y="949"/>
                </a:lnTo>
                <a:lnTo>
                  <a:pt x="360" y="961"/>
                </a:lnTo>
                <a:lnTo>
                  <a:pt x="399" y="958"/>
                </a:lnTo>
                <a:cubicBezTo>
                  <a:pt x="416" y="952"/>
                  <a:pt x="440" y="947"/>
                  <a:pt x="465" y="922"/>
                </a:cubicBezTo>
                <a:cubicBezTo>
                  <a:pt x="490" y="897"/>
                  <a:pt x="515" y="831"/>
                  <a:pt x="549" y="808"/>
                </a:cubicBezTo>
                <a:cubicBezTo>
                  <a:pt x="583" y="785"/>
                  <a:pt x="625" y="789"/>
                  <a:pt x="669" y="781"/>
                </a:cubicBezTo>
                <a:cubicBezTo>
                  <a:pt x="713" y="773"/>
                  <a:pt x="776" y="767"/>
                  <a:pt x="813" y="763"/>
                </a:cubicBezTo>
                <a:cubicBezTo>
                  <a:pt x="850" y="759"/>
                  <a:pt x="860" y="756"/>
                  <a:pt x="891" y="754"/>
                </a:cubicBezTo>
                <a:cubicBezTo>
                  <a:pt x="922" y="752"/>
                  <a:pt x="978" y="753"/>
                  <a:pt x="1002" y="748"/>
                </a:cubicBezTo>
                <a:lnTo>
                  <a:pt x="1035" y="724"/>
                </a:lnTo>
                <a:lnTo>
                  <a:pt x="1065" y="277"/>
                </a:lnTo>
                <a:lnTo>
                  <a:pt x="1057" y="254"/>
                </a:lnTo>
                <a:cubicBezTo>
                  <a:pt x="1050" y="244"/>
                  <a:pt x="1047" y="229"/>
                  <a:pt x="1019" y="213"/>
                </a:cubicBezTo>
                <a:cubicBezTo>
                  <a:pt x="990" y="197"/>
                  <a:pt x="921" y="172"/>
                  <a:pt x="885" y="154"/>
                </a:cubicBezTo>
                <a:cubicBezTo>
                  <a:pt x="850" y="136"/>
                  <a:pt x="821" y="124"/>
                  <a:pt x="803" y="108"/>
                </a:cubicBezTo>
                <a:cubicBezTo>
                  <a:pt x="785" y="93"/>
                  <a:pt x="788" y="74"/>
                  <a:pt x="776" y="63"/>
                </a:cubicBezTo>
                <a:cubicBezTo>
                  <a:pt x="764" y="51"/>
                  <a:pt x="750" y="45"/>
                  <a:pt x="732" y="40"/>
                </a:cubicBezTo>
                <a:cubicBezTo>
                  <a:pt x="715" y="34"/>
                  <a:pt x="760" y="37"/>
                  <a:pt x="672" y="32"/>
                </a:cubicBezTo>
                <a:cubicBezTo>
                  <a:pt x="585" y="27"/>
                  <a:pt x="299" y="10"/>
                  <a:pt x="206" y="6"/>
                </a:cubicBezTo>
                <a:cubicBezTo>
                  <a:pt x="114" y="3"/>
                  <a:pt x="133" y="6"/>
                  <a:pt x="114" y="9"/>
                </a:cubicBezTo>
                <a:cubicBezTo>
                  <a:pt x="95" y="12"/>
                  <a:pt x="107" y="0"/>
                  <a:pt x="93" y="22"/>
                </a:cubicBezTo>
                <a:cubicBezTo>
                  <a:pt x="79" y="44"/>
                  <a:pt x="43" y="115"/>
                  <a:pt x="30" y="139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7"/>
          <p:cNvSpPr/>
          <p:nvPr/>
        </p:nvSpPr>
        <p:spPr>
          <a:xfrm>
            <a:off x="6561000" y="5867280"/>
            <a:ext cx="541440" cy="263520"/>
          </a:xfrm>
          <a:custGeom>
            <a:avLst/>
            <a:gdLst>
              <a:gd name="textAreaLeft" fmla="*/ 0 w 541440"/>
              <a:gd name="textAreaRight" fmla="*/ 541800 w 5414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90" h="585">
                <a:moveTo>
                  <a:pt x="39" y="0"/>
                </a:moveTo>
                <a:lnTo>
                  <a:pt x="72" y="3"/>
                </a:lnTo>
                <a:lnTo>
                  <a:pt x="126" y="51"/>
                </a:lnTo>
                <a:lnTo>
                  <a:pt x="228" y="90"/>
                </a:lnTo>
                <a:lnTo>
                  <a:pt x="396" y="108"/>
                </a:lnTo>
                <a:lnTo>
                  <a:pt x="597" y="135"/>
                </a:lnTo>
                <a:lnTo>
                  <a:pt x="837" y="171"/>
                </a:lnTo>
                <a:lnTo>
                  <a:pt x="1065" y="213"/>
                </a:lnTo>
                <a:lnTo>
                  <a:pt x="1122" y="237"/>
                </a:lnTo>
                <a:lnTo>
                  <a:pt x="1179" y="234"/>
                </a:lnTo>
                <a:lnTo>
                  <a:pt x="1290" y="237"/>
                </a:lnTo>
                <a:lnTo>
                  <a:pt x="1284" y="384"/>
                </a:lnTo>
                <a:lnTo>
                  <a:pt x="1173" y="378"/>
                </a:lnTo>
                <a:lnTo>
                  <a:pt x="1122" y="426"/>
                </a:lnTo>
                <a:lnTo>
                  <a:pt x="1038" y="489"/>
                </a:lnTo>
                <a:lnTo>
                  <a:pt x="990" y="519"/>
                </a:lnTo>
                <a:lnTo>
                  <a:pt x="960" y="528"/>
                </a:lnTo>
                <a:lnTo>
                  <a:pt x="942" y="513"/>
                </a:lnTo>
                <a:lnTo>
                  <a:pt x="720" y="528"/>
                </a:lnTo>
                <a:lnTo>
                  <a:pt x="693" y="540"/>
                </a:lnTo>
                <a:lnTo>
                  <a:pt x="663" y="528"/>
                </a:lnTo>
                <a:lnTo>
                  <a:pt x="498" y="516"/>
                </a:lnTo>
                <a:lnTo>
                  <a:pt x="441" y="513"/>
                </a:lnTo>
                <a:lnTo>
                  <a:pt x="423" y="534"/>
                </a:lnTo>
                <a:lnTo>
                  <a:pt x="402" y="522"/>
                </a:lnTo>
                <a:lnTo>
                  <a:pt x="285" y="513"/>
                </a:lnTo>
                <a:lnTo>
                  <a:pt x="177" y="519"/>
                </a:lnTo>
                <a:lnTo>
                  <a:pt x="84" y="549"/>
                </a:lnTo>
                <a:lnTo>
                  <a:pt x="57" y="585"/>
                </a:lnTo>
                <a:lnTo>
                  <a:pt x="9" y="582"/>
                </a:lnTo>
                <a:lnTo>
                  <a:pt x="0" y="531"/>
                </a:lnTo>
                <a:lnTo>
                  <a:pt x="27" y="18"/>
                </a:lnTo>
                <a:lnTo>
                  <a:pt x="39" y="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8"/>
          <p:cNvSpPr/>
          <p:nvPr/>
        </p:nvSpPr>
        <p:spPr>
          <a:xfrm>
            <a:off x="5948280" y="5562720"/>
            <a:ext cx="1239840" cy="74124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9" descr=""/>
          <p:cNvPicPr/>
          <p:nvPr/>
        </p:nvPicPr>
        <p:blipFill>
          <a:blip r:embed="rId2"/>
          <a:stretch/>
        </p:blipFill>
        <p:spPr>
          <a:xfrm>
            <a:off x="4997520" y="4697280"/>
            <a:ext cx="3922560" cy="1744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0"/>
          <p:cNvSpPr/>
          <p:nvPr/>
        </p:nvSpPr>
        <p:spPr>
          <a:xfrm>
            <a:off x="5973840" y="4273560"/>
            <a:ext cx="276228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truck (GVM &gt;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1"/>
          <p:cNvSpPr/>
          <p:nvPr/>
        </p:nvSpPr>
        <p:spPr>
          <a:xfrm>
            <a:off x="208080" y="1930320"/>
            <a:ext cx="4190760" cy="4699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2"/>
          <p:cNvSpPr/>
          <p:nvPr/>
        </p:nvSpPr>
        <p:spPr>
          <a:xfrm>
            <a:off x="4500720" y="1930320"/>
            <a:ext cx="2457360" cy="706680"/>
          </a:xfrm>
          <a:prstGeom prst="wedgeRectCallout">
            <a:avLst>
              <a:gd name="adj1" fmla="val -54537"/>
              <a:gd name="adj2" fmla="val 111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N1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V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990880" y="4275000"/>
            <a:ext cx="1938240" cy="28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3916440" y="5538960"/>
            <a:ext cx="914400" cy="380880"/>
          </a:xfrm>
          <a:prstGeom prst="leftRightArrow">
            <a:avLst>
              <a:gd name="adj1" fmla="val 50000"/>
              <a:gd name="adj2" fmla="val 4779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3589200" y="5132160"/>
            <a:ext cx="1389240" cy="28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7"/>
          <p:cNvSpPr/>
          <p:nvPr/>
        </p:nvSpPr>
        <p:spPr>
          <a:xfrm>
            <a:off x="423720" y="4152960"/>
            <a:ext cx="8483760" cy="2523960"/>
          </a:xfrm>
          <a:prstGeom prst="flowChartAlternateProcess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8"/>
          <p:cNvSpPr/>
          <p:nvPr/>
        </p:nvSpPr>
        <p:spPr>
          <a:xfrm>
            <a:off x="2735280" y="3860640"/>
            <a:ext cx="520560" cy="1067040"/>
          </a:xfrm>
          <a:prstGeom prst="upDownArrow">
            <a:avLst>
              <a:gd name="adj1" fmla="val 50000"/>
              <a:gd name="adj2" fmla="val 408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9"/>
          <p:cNvSpPr/>
          <p:nvPr/>
        </p:nvSpPr>
        <p:spPr>
          <a:xfrm>
            <a:off x="5443560" y="3174840"/>
            <a:ext cx="3129120" cy="584280"/>
          </a:xfrm>
          <a:prstGeom prst="wedgeRoundRectCallout">
            <a:avLst>
              <a:gd name="adj1" fmla="val -46703"/>
              <a:gd name="adj2" fmla="val 117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ront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gine under the s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5"/>
          <p:cNvSpPr/>
          <p:nvPr/>
        </p:nvSpPr>
        <p:spPr>
          <a:xfrm>
            <a:off x="461880" y="679320"/>
            <a:ext cx="7912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ront Light N1 vehicles are configured differently from Front Engine type vehicles (so-called M1-derived N1 vehicles) and have the same configuration as N1 vehicles (trucks) with GVM &gt; 2.5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64960" y="209520"/>
            <a:ext cx="727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haracteristics of Flat Front Light N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5"/>
          <p:cNvSpPr/>
          <p:nvPr/>
        </p:nvSpPr>
        <p:spPr>
          <a:xfrm>
            <a:off x="3035160" y="5853240"/>
            <a:ext cx="466920" cy="466560"/>
          </a:xfrm>
          <a:custGeom>
            <a:avLst/>
            <a:gdLst>
              <a:gd name="textAreaLeft" fmla="*/ 68400 w 466920"/>
              <a:gd name="textAreaRight" fmla="*/ 398520 w 466920"/>
              <a:gd name="textAreaTop" fmla="*/ 68040 h 466560"/>
              <a:gd name="textAreaBottom" fmla="*/ 3985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335" y="10800"/>
                </a:moveTo>
                <a:cubicBezTo>
                  <a:pt x="4335" y="14371"/>
                  <a:pt x="7229" y="17265"/>
                  <a:pt x="10800" y="17265"/>
                </a:cubicBezTo>
                <a:cubicBezTo>
                  <a:pt x="14371" y="17265"/>
                  <a:pt x="17265" y="14371"/>
                  <a:pt x="17265" y="10800"/>
                </a:cubicBezTo>
                <a:cubicBezTo>
                  <a:pt x="17265" y="7229"/>
                  <a:pt x="14371" y="4335"/>
                  <a:pt x="10800" y="4335"/>
                </a:cubicBezTo>
                <a:cubicBezTo>
                  <a:pt x="7229" y="4335"/>
                  <a:pt x="4335" y="7229"/>
                  <a:pt x="4335" y="108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0"/>
          <p:cNvGrpSpPr/>
          <p:nvPr/>
        </p:nvGrpSpPr>
        <p:grpSpPr>
          <a:xfrm>
            <a:off x="1733400" y="5781600"/>
            <a:ext cx="903600" cy="393480"/>
            <a:chOff x="1733400" y="5781600"/>
            <a:chExt cx="903600" cy="393480"/>
          </a:xfrm>
        </p:grpSpPr>
        <p:pic>
          <p:nvPicPr>
            <p:cNvPr id="401" name="Picture 31" descr=""/>
            <p:cNvPicPr/>
            <p:nvPr/>
          </p:nvPicPr>
          <p:blipFill>
            <a:blip r:embed="rId3"/>
            <a:stretch/>
          </p:blipFill>
          <p:spPr>
            <a:xfrm>
              <a:off x="1737360" y="5784120"/>
              <a:ext cx="888480" cy="3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32" descr=""/>
            <p:cNvPicPr/>
            <p:nvPr/>
          </p:nvPicPr>
          <p:blipFill>
            <a:blip r:embed="rId4"/>
            <a:stretch/>
          </p:blipFill>
          <p:spPr>
            <a:xfrm>
              <a:off x="1733400" y="5781600"/>
              <a:ext cx="903600" cy="38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Oval 33"/>
          <p:cNvSpPr/>
          <p:nvPr/>
        </p:nvSpPr>
        <p:spPr>
          <a:xfrm>
            <a:off x="1700280" y="5694480"/>
            <a:ext cx="988920" cy="5382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0"/>
          <p:cNvSpPr/>
          <p:nvPr/>
        </p:nvSpPr>
        <p:spPr>
          <a:xfrm>
            <a:off x="1400040" y="5861160"/>
            <a:ext cx="466920" cy="466560"/>
          </a:xfrm>
          <a:custGeom>
            <a:avLst/>
            <a:gdLst>
              <a:gd name="textAreaLeft" fmla="*/ 68400 w 466920"/>
              <a:gd name="textAreaRight" fmla="*/ 398520 w 466920"/>
              <a:gd name="textAreaTop" fmla="*/ 68040 h 466560"/>
              <a:gd name="textAreaBottom" fmla="*/ 3985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335" y="10800"/>
                </a:moveTo>
                <a:cubicBezTo>
                  <a:pt x="4335" y="14371"/>
                  <a:pt x="7229" y="17265"/>
                  <a:pt x="10800" y="17265"/>
                </a:cubicBezTo>
                <a:cubicBezTo>
                  <a:pt x="14371" y="17265"/>
                  <a:pt x="17265" y="14371"/>
                  <a:pt x="17265" y="10800"/>
                </a:cubicBezTo>
                <a:cubicBezTo>
                  <a:pt x="17265" y="7229"/>
                  <a:pt x="14371" y="4335"/>
                  <a:pt x="10800" y="4335"/>
                </a:cubicBezTo>
                <a:cubicBezTo>
                  <a:pt x="7229" y="4335"/>
                  <a:pt x="4335" y="7229"/>
                  <a:pt x="4335" y="108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5" descr=""/>
          <p:cNvPicPr/>
          <p:nvPr/>
        </p:nvPicPr>
        <p:blipFill>
          <a:blip r:embed="rId5"/>
          <a:stretch/>
        </p:blipFill>
        <p:spPr>
          <a:xfrm>
            <a:off x="868320" y="4703760"/>
            <a:ext cx="3048120" cy="16700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0"/>
          <p:cNvSpPr/>
          <p:nvPr/>
        </p:nvSpPr>
        <p:spPr>
          <a:xfrm>
            <a:off x="322200" y="2852640"/>
            <a:ext cx="6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線コネクタ 2"/>
          <p:cNvSpPr/>
          <p:nvPr/>
        </p:nvSpPr>
        <p:spPr>
          <a:xfrm>
            <a:off x="650880" y="3038400"/>
            <a:ext cx="25416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2320920" y="6356520"/>
            <a:ext cx="65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線コネクタ 34"/>
          <p:cNvSpPr/>
          <p:nvPr/>
        </p:nvSpPr>
        <p:spPr>
          <a:xfrm flipH="1" flipV="1">
            <a:off x="2161800" y="6232320"/>
            <a:ext cx="1587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6831000" y="6407280"/>
            <a:ext cx="6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線コネクタ 41"/>
          <p:cNvSpPr/>
          <p:nvPr/>
        </p:nvSpPr>
        <p:spPr>
          <a:xfrm flipH="1" flipV="1">
            <a:off x="6673320" y="6283080"/>
            <a:ext cx="1573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DC97-8938-4BD0-94B2-94F62036FCF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FDC9-FF66-4953-AD60-D718012237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18"/>
          <p:cNvSpPr/>
          <p:nvPr/>
        </p:nvSpPr>
        <p:spPr>
          <a:xfrm>
            <a:off x="5079960" y="5796000"/>
            <a:ext cx="1184400" cy="504720"/>
          </a:xfrm>
          <a:custGeom>
            <a:avLst/>
            <a:gdLst/>
            <a:ahLst/>
            <a:rect l="l" t="t" r="r" b="b"/>
            <a:pathLst>
              <a:path w="1634" h="697">
                <a:moveTo>
                  <a:pt x="41" y="670"/>
                </a:moveTo>
                <a:lnTo>
                  <a:pt x="134" y="673"/>
                </a:lnTo>
                <a:lnTo>
                  <a:pt x="158" y="652"/>
                </a:lnTo>
                <a:lnTo>
                  <a:pt x="259" y="647"/>
                </a:lnTo>
                <a:lnTo>
                  <a:pt x="282" y="697"/>
                </a:lnTo>
                <a:lnTo>
                  <a:pt x="564" y="690"/>
                </a:lnTo>
                <a:lnTo>
                  <a:pt x="593" y="679"/>
                </a:lnTo>
                <a:lnTo>
                  <a:pt x="611" y="647"/>
                </a:lnTo>
                <a:lnTo>
                  <a:pt x="651" y="687"/>
                </a:lnTo>
                <a:lnTo>
                  <a:pt x="1042" y="685"/>
                </a:lnTo>
                <a:lnTo>
                  <a:pt x="1264" y="679"/>
                </a:lnTo>
                <a:lnTo>
                  <a:pt x="1304" y="649"/>
                </a:lnTo>
                <a:lnTo>
                  <a:pt x="1343" y="653"/>
                </a:lnTo>
                <a:lnTo>
                  <a:pt x="1372" y="628"/>
                </a:lnTo>
                <a:lnTo>
                  <a:pt x="1454" y="622"/>
                </a:lnTo>
                <a:lnTo>
                  <a:pt x="1468" y="584"/>
                </a:lnTo>
                <a:lnTo>
                  <a:pt x="1492" y="572"/>
                </a:lnTo>
                <a:lnTo>
                  <a:pt x="1634" y="572"/>
                </a:lnTo>
                <a:lnTo>
                  <a:pt x="1631" y="430"/>
                </a:lnTo>
                <a:lnTo>
                  <a:pt x="1457" y="433"/>
                </a:lnTo>
                <a:lnTo>
                  <a:pt x="1436" y="367"/>
                </a:lnTo>
                <a:lnTo>
                  <a:pt x="1393" y="356"/>
                </a:lnTo>
                <a:lnTo>
                  <a:pt x="1373" y="343"/>
                </a:lnTo>
                <a:lnTo>
                  <a:pt x="1340" y="350"/>
                </a:lnTo>
                <a:lnTo>
                  <a:pt x="1319" y="320"/>
                </a:lnTo>
                <a:lnTo>
                  <a:pt x="1216" y="320"/>
                </a:lnTo>
                <a:lnTo>
                  <a:pt x="1188" y="330"/>
                </a:lnTo>
                <a:lnTo>
                  <a:pt x="757" y="205"/>
                </a:lnTo>
                <a:lnTo>
                  <a:pt x="742" y="185"/>
                </a:lnTo>
                <a:lnTo>
                  <a:pt x="734" y="97"/>
                </a:lnTo>
                <a:lnTo>
                  <a:pt x="680" y="73"/>
                </a:lnTo>
                <a:lnTo>
                  <a:pt x="673" y="55"/>
                </a:lnTo>
                <a:lnTo>
                  <a:pt x="620" y="34"/>
                </a:lnTo>
                <a:lnTo>
                  <a:pt x="604" y="62"/>
                </a:lnTo>
                <a:lnTo>
                  <a:pt x="581" y="74"/>
                </a:lnTo>
                <a:lnTo>
                  <a:pt x="544" y="61"/>
                </a:lnTo>
                <a:lnTo>
                  <a:pt x="520" y="41"/>
                </a:lnTo>
                <a:lnTo>
                  <a:pt x="469" y="28"/>
                </a:lnTo>
                <a:lnTo>
                  <a:pt x="379" y="5"/>
                </a:lnTo>
                <a:lnTo>
                  <a:pt x="352" y="28"/>
                </a:lnTo>
                <a:lnTo>
                  <a:pt x="319" y="7"/>
                </a:lnTo>
                <a:lnTo>
                  <a:pt x="238" y="5"/>
                </a:lnTo>
                <a:lnTo>
                  <a:pt x="214" y="31"/>
                </a:lnTo>
                <a:lnTo>
                  <a:pt x="188" y="0"/>
                </a:lnTo>
                <a:lnTo>
                  <a:pt x="131" y="0"/>
                </a:lnTo>
                <a:lnTo>
                  <a:pt x="120" y="22"/>
                </a:lnTo>
                <a:lnTo>
                  <a:pt x="74" y="29"/>
                </a:lnTo>
                <a:lnTo>
                  <a:pt x="63" y="68"/>
                </a:lnTo>
                <a:lnTo>
                  <a:pt x="27" y="137"/>
                </a:lnTo>
                <a:lnTo>
                  <a:pt x="20" y="175"/>
                </a:lnTo>
                <a:lnTo>
                  <a:pt x="0" y="190"/>
                </a:lnTo>
                <a:lnTo>
                  <a:pt x="0" y="327"/>
                </a:lnTo>
                <a:lnTo>
                  <a:pt x="33" y="350"/>
                </a:lnTo>
                <a:lnTo>
                  <a:pt x="0" y="380"/>
                </a:lnTo>
                <a:lnTo>
                  <a:pt x="0" y="515"/>
                </a:lnTo>
                <a:lnTo>
                  <a:pt x="47" y="538"/>
                </a:lnTo>
                <a:lnTo>
                  <a:pt x="30" y="566"/>
                </a:lnTo>
                <a:lnTo>
                  <a:pt x="27" y="607"/>
                </a:lnTo>
                <a:lnTo>
                  <a:pt x="41" y="670"/>
                </a:lnTo>
                <a:close/>
              </a:path>
            </a:pathLst>
          </a:custGeom>
          <a:solidFill>
            <a:srgbClr val="ff99ff"/>
          </a:solidFill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2"/>
          <p:cNvSpPr/>
          <p:nvPr/>
        </p:nvSpPr>
        <p:spPr>
          <a:xfrm>
            <a:off x="4003560" y="2976480"/>
            <a:ext cx="596880" cy="631800"/>
          </a:xfrm>
          <a:custGeom>
            <a:avLst/>
            <a:gdLst>
              <a:gd name="textAreaLeft" fmla="*/ 0 w 596880"/>
              <a:gd name="textAreaRight" fmla="*/ 597240 w 5968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631" h="4882">
                <a:moveTo>
                  <a:pt x="886" y="183"/>
                </a:moveTo>
                <a:lnTo>
                  <a:pt x="916" y="170"/>
                </a:lnTo>
                <a:lnTo>
                  <a:pt x="1054" y="112"/>
                </a:lnTo>
                <a:lnTo>
                  <a:pt x="1212" y="76"/>
                </a:lnTo>
                <a:lnTo>
                  <a:pt x="1341" y="54"/>
                </a:lnTo>
                <a:lnTo>
                  <a:pt x="1535" y="26"/>
                </a:lnTo>
                <a:lnTo>
                  <a:pt x="1733" y="7"/>
                </a:lnTo>
                <a:lnTo>
                  <a:pt x="1747" y="15"/>
                </a:lnTo>
                <a:lnTo>
                  <a:pt x="1759" y="50"/>
                </a:lnTo>
                <a:lnTo>
                  <a:pt x="1774" y="97"/>
                </a:lnTo>
                <a:lnTo>
                  <a:pt x="1993" y="97"/>
                </a:lnTo>
                <a:lnTo>
                  <a:pt x="2010" y="48"/>
                </a:lnTo>
                <a:lnTo>
                  <a:pt x="2020" y="10"/>
                </a:lnTo>
                <a:lnTo>
                  <a:pt x="2029" y="0"/>
                </a:lnTo>
                <a:lnTo>
                  <a:pt x="2202" y="0"/>
                </a:lnTo>
                <a:lnTo>
                  <a:pt x="2457" y="22"/>
                </a:lnTo>
                <a:lnTo>
                  <a:pt x="2683" y="66"/>
                </a:lnTo>
                <a:lnTo>
                  <a:pt x="2851" y="109"/>
                </a:lnTo>
                <a:lnTo>
                  <a:pt x="3007" y="183"/>
                </a:lnTo>
                <a:lnTo>
                  <a:pt x="3030" y="215"/>
                </a:lnTo>
                <a:lnTo>
                  <a:pt x="3037" y="242"/>
                </a:lnTo>
                <a:lnTo>
                  <a:pt x="3050" y="616"/>
                </a:lnTo>
                <a:lnTo>
                  <a:pt x="3044" y="769"/>
                </a:lnTo>
                <a:lnTo>
                  <a:pt x="3033" y="842"/>
                </a:lnTo>
                <a:lnTo>
                  <a:pt x="2959" y="978"/>
                </a:lnTo>
                <a:lnTo>
                  <a:pt x="2936" y="1065"/>
                </a:lnTo>
                <a:lnTo>
                  <a:pt x="2926" y="1124"/>
                </a:lnTo>
                <a:lnTo>
                  <a:pt x="2936" y="1179"/>
                </a:lnTo>
                <a:lnTo>
                  <a:pt x="2967" y="1228"/>
                </a:lnTo>
                <a:lnTo>
                  <a:pt x="2986" y="1302"/>
                </a:lnTo>
                <a:lnTo>
                  <a:pt x="2971" y="1352"/>
                </a:lnTo>
                <a:lnTo>
                  <a:pt x="2921" y="1389"/>
                </a:lnTo>
                <a:lnTo>
                  <a:pt x="2851" y="1399"/>
                </a:lnTo>
                <a:lnTo>
                  <a:pt x="2831" y="1411"/>
                </a:lnTo>
                <a:lnTo>
                  <a:pt x="2747" y="1548"/>
                </a:lnTo>
                <a:lnTo>
                  <a:pt x="2711" y="1645"/>
                </a:lnTo>
                <a:lnTo>
                  <a:pt x="2718" y="1661"/>
                </a:lnTo>
                <a:lnTo>
                  <a:pt x="2784" y="1671"/>
                </a:lnTo>
                <a:lnTo>
                  <a:pt x="2841" y="1721"/>
                </a:lnTo>
                <a:lnTo>
                  <a:pt x="2834" y="1779"/>
                </a:lnTo>
                <a:lnTo>
                  <a:pt x="2747" y="1865"/>
                </a:lnTo>
                <a:lnTo>
                  <a:pt x="2711" y="1905"/>
                </a:lnTo>
                <a:lnTo>
                  <a:pt x="2701" y="1933"/>
                </a:lnTo>
                <a:lnTo>
                  <a:pt x="2702" y="1957"/>
                </a:lnTo>
                <a:lnTo>
                  <a:pt x="2725" y="1964"/>
                </a:lnTo>
                <a:lnTo>
                  <a:pt x="2831" y="1962"/>
                </a:lnTo>
                <a:lnTo>
                  <a:pt x="2921" y="1966"/>
                </a:lnTo>
                <a:lnTo>
                  <a:pt x="2947" y="1971"/>
                </a:lnTo>
                <a:lnTo>
                  <a:pt x="2959" y="1993"/>
                </a:lnTo>
                <a:lnTo>
                  <a:pt x="2947" y="2068"/>
                </a:lnTo>
                <a:lnTo>
                  <a:pt x="2959" y="2101"/>
                </a:lnTo>
                <a:lnTo>
                  <a:pt x="2993" y="2125"/>
                </a:lnTo>
                <a:lnTo>
                  <a:pt x="3050" y="2191"/>
                </a:lnTo>
                <a:lnTo>
                  <a:pt x="3101" y="2241"/>
                </a:lnTo>
                <a:lnTo>
                  <a:pt x="3153" y="2241"/>
                </a:lnTo>
                <a:lnTo>
                  <a:pt x="3340" y="2255"/>
                </a:lnTo>
                <a:lnTo>
                  <a:pt x="3412" y="2227"/>
                </a:lnTo>
                <a:lnTo>
                  <a:pt x="3475" y="2224"/>
                </a:lnTo>
                <a:lnTo>
                  <a:pt x="3506" y="2234"/>
                </a:lnTo>
                <a:lnTo>
                  <a:pt x="3516" y="2250"/>
                </a:lnTo>
                <a:lnTo>
                  <a:pt x="3520" y="2321"/>
                </a:lnTo>
                <a:lnTo>
                  <a:pt x="3527" y="2426"/>
                </a:lnTo>
                <a:lnTo>
                  <a:pt x="3527" y="2450"/>
                </a:lnTo>
                <a:lnTo>
                  <a:pt x="3539" y="2468"/>
                </a:lnTo>
                <a:lnTo>
                  <a:pt x="3672" y="2544"/>
                </a:lnTo>
                <a:lnTo>
                  <a:pt x="3759" y="2546"/>
                </a:lnTo>
                <a:lnTo>
                  <a:pt x="3799" y="2554"/>
                </a:lnTo>
                <a:lnTo>
                  <a:pt x="3821" y="2591"/>
                </a:lnTo>
                <a:lnTo>
                  <a:pt x="3830" y="2631"/>
                </a:lnTo>
                <a:lnTo>
                  <a:pt x="3852" y="2667"/>
                </a:lnTo>
                <a:lnTo>
                  <a:pt x="3882" y="2681"/>
                </a:lnTo>
                <a:lnTo>
                  <a:pt x="4140" y="2724"/>
                </a:lnTo>
                <a:lnTo>
                  <a:pt x="4399" y="2688"/>
                </a:lnTo>
                <a:lnTo>
                  <a:pt x="4422" y="2883"/>
                </a:lnTo>
                <a:lnTo>
                  <a:pt x="4429" y="2998"/>
                </a:lnTo>
                <a:lnTo>
                  <a:pt x="4451" y="3121"/>
                </a:lnTo>
                <a:lnTo>
                  <a:pt x="4472" y="3266"/>
                </a:lnTo>
                <a:lnTo>
                  <a:pt x="4479" y="3533"/>
                </a:lnTo>
                <a:lnTo>
                  <a:pt x="4486" y="3543"/>
                </a:lnTo>
                <a:lnTo>
                  <a:pt x="4543" y="3585"/>
                </a:lnTo>
                <a:lnTo>
                  <a:pt x="4552" y="3613"/>
                </a:lnTo>
                <a:lnTo>
                  <a:pt x="4566" y="3929"/>
                </a:lnTo>
                <a:lnTo>
                  <a:pt x="4574" y="3955"/>
                </a:lnTo>
                <a:lnTo>
                  <a:pt x="4616" y="3985"/>
                </a:lnTo>
                <a:lnTo>
                  <a:pt x="4631" y="4009"/>
                </a:lnTo>
                <a:lnTo>
                  <a:pt x="4595" y="4226"/>
                </a:lnTo>
                <a:lnTo>
                  <a:pt x="4578" y="4231"/>
                </a:lnTo>
                <a:lnTo>
                  <a:pt x="4529" y="4233"/>
                </a:lnTo>
                <a:lnTo>
                  <a:pt x="4427" y="4381"/>
                </a:lnTo>
                <a:lnTo>
                  <a:pt x="4408" y="4427"/>
                </a:lnTo>
                <a:lnTo>
                  <a:pt x="4399" y="4473"/>
                </a:lnTo>
                <a:lnTo>
                  <a:pt x="4408" y="4709"/>
                </a:lnTo>
                <a:lnTo>
                  <a:pt x="4408" y="4787"/>
                </a:lnTo>
                <a:lnTo>
                  <a:pt x="4392" y="4808"/>
                </a:lnTo>
                <a:lnTo>
                  <a:pt x="4366" y="4821"/>
                </a:lnTo>
                <a:lnTo>
                  <a:pt x="4076" y="4839"/>
                </a:lnTo>
                <a:lnTo>
                  <a:pt x="3837" y="4853"/>
                </a:lnTo>
                <a:lnTo>
                  <a:pt x="3014" y="4868"/>
                </a:lnTo>
                <a:lnTo>
                  <a:pt x="2488" y="4882"/>
                </a:lnTo>
                <a:lnTo>
                  <a:pt x="2005" y="4868"/>
                </a:lnTo>
                <a:lnTo>
                  <a:pt x="1629" y="4853"/>
                </a:lnTo>
                <a:lnTo>
                  <a:pt x="1558" y="4825"/>
                </a:lnTo>
                <a:lnTo>
                  <a:pt x="1485" y="4846"/>
                </a:lnTo>
                <a:lnTo>
                  <a:pt x="1404" y="4842"/>
                </a:lnTo>
                <a:lnTo>
                  <a:pt x="1385" y="4839"/>
                </a:lnTo>
                <a:lnTo>
                  <a:pt x="1371" y="4823"/>
                </a:lnTo>
                <a:lnTo>
                  <a:pt x="1348" y="4702"/>
                </a:lnTo>
                <a:lnTo>
                  <a:pt x="1328" y="4683"/>
                </a:lnTo>
                <a:lnTo>
                  <a:pt x="1232" y="4636"/>
                </a:lnTo>
                <a:lnTo>
                  <a:pt x="1187" y="4631"/>
                </a:lnTo>
                <a:lnTo>
                  <a:pt x="1139" y="4636"/>
                </a:lnTo>
                <a:lnTo>
                  <a:pt x="1085" y="4652"/>
                </a:lnTo>
                <a:lnTo>
                  <a:pt x="1075" y="4666"/>
                </a:lnTo>
                <a:lnTo>
                  <a:pt x="1080" y="4698"/>
                </a:lnTo>
                <a:lnTo>
                  <a:pt x="1066" y="4712"/>
                </a:lnTo>
                <a:lnTo>
                  <a:pt x="879" y="4716"/>
                </a:lnTo>
                <a:lnTo>
                  <a:pt x="869" y="4709"/>
                </a:lnTo>
                <a:lnTo>
                  <a:pt x="860" y="4681"/>
                </a:lnTo>
                <a:lnTo>
                  <a:pt x="850" y="4672"/>
                </a:lnTo>
                <a:lnTo>
                  <a:pt x="753" y="4676"/>
                </a:lnTo>
                <a:lnTo>
                  <a:pt x="742" y="4657"/>
                </a:lnTo>
                <a:lnTo>
                  <a:pt x="744" y="4607"/>
                </a:lnTo>
                <a:lnTo>
                  <a:pt x="735" y="4588"/>
                </a:lnTo>
                <a:lnTo>
                  <a:pt x="718" y="4579"/>
                </a:lnTo>
                <a:lnTo>
                  <a:pt x="439" y="4586"/>
                </a:lnTo>
                <a:lnTo>
                  <a:pt x="219" y="4626"/>
                </a:lnTo>
                <a:lnTo>
                  <a:pt x="194" y="4629"/>
                </a:lnTo>
                <a:lnTo>
                  <a:pt x="180" y="4620"/>
                </a:lnTo>
                <a:lnTo>
                  <a:pt x="128" y="4570"/>
                </a:lnTo>
                <a:lnTo>
                  <a:pt x="112" y="4555"/>
                </a:lnTo>
                <a:lnTo>
                  <a:pt x="107" y="4529"/>
                </a:lnTo>
                <a:lnTo>
                  <a:pt x="64" y="3864"/>
                </a:lnTo>
                <a:lnTo>
                  <a:pt x="13" y="3207"/>
                </a:lnTo>
                <a:lnTo>
                  <a:pt x="0" y="2747"/>
                </a:lnTo>
                <a:lnTo>
                  <a:pt x="15" y="2702"/>
                </a:lnTo>
                <a:lnTo>
                  <a:pt x="81" y="2599"/>
                </a:lnTo>
                <a:lnTo>
                  <a:pt x="142" y="2527"/>
                </a:lnTo>
                <a:lnTo>
                  <a:pt x="173" y="2508"/>
                </a:lnTo>
                <a:lnTo>
                  <a:pt x="270" y="2485"/>
                </a:lnTo>
                <a:lnTo>
                  <a:pt x="297" y="2466"/>
                </a:lnTo>
                <a:lnTo>
                  <a:pt x="313" y="2383"/>
                </a:lnTo>
                <a:lnTo>
                  <a:pt x="310" y="2364"/>
                </a:lnTo>
                <a:lnTo>
                  <a:pt x="292" y="2322"/>
                </a:lnTo>
                <a:lnTo>
                  <a:pt x="266" y="2284"/>
                </a:lnTo>
                <a:lnTo>
                  <a:pt x="251" y="2248"/>
                </a:lnTo>
                <a:lnTo>
                  <a:pt x="244" y="2205"/>
                </a:lnTo>
                <a:lnTo>
                  <a:pt x="258" y="2184"/>
                </a:lnTo>
                <a:lnTo>
                  <a:pt x="320" y="2184"/>
                </a:lnTo>
                <a:lnTo>
                  <a:pt x="346" y="2168"/>
                </a:lnTo>
                <a:lnTo>
                  <a:pt x="358" y="2144"/>
                </a:lnTo>
                <a:lnTo>
                  <a:pt x="381" y="2123"/>
                </a:lnTo>
                <a:lnTo>
                  <a:pt x="405" y="2120"/>
                </a:lnTo>
                <a:lnTo>
                  <a:pt x="436" y="2121"/>
                </a:lnTo>
                <a:lnTo>
                  <a:pt x="477" y="2121"/>
                </a:lnTo>
                <a:lnTo>
                  <a:pt x="495" y="2109"/>
                </a:lnTo>
                <a:lnTo>
                  <a:pt x="502" y="2075"/>
                </a:lnTo>
                <a:lnTo>
                  <a:pt x="535" y="2059"/>
                </a:lnTo>
                <a:lnTo>
                  <a:pt x="625" y="2071"/>
                </a:lnTo>
                <a:lnTo>
                  <a:pt x="678" y="2066"/>
                </a:lnTo>
                <a:lnTo>
                  <a:pt x="694" y="2040"/>
                </a:lnTo>
                <a:lnTo>
                  <a:pt x="711" y="1867"/>
                </a:lnTo>
                <a:lnTo>
                  <a:pt x="720" y="1829"/>
                </a:lnTo>
                <a:lnTo>
                  <a:pt x="756" y="1785"/>
                </a:lnTo>
                <a:lnTo>
                  <a:pt x="836" y="1751"/>
                </a:lnTo>
                <a:lnTo>
                  <a:pt x="995" y="1747"/>
                </a:lnTo>
                <a:lnTo>
                  <a:pt x="1021" y="1737"/>
                </a:lnTo>
                <a:lnTo>
                  <a:pt x="1030" y="1699"/>
                </a:lnTo>
                <a:lnTo>
                  <a:pt x="1006" y="1552"/>
                </a:lnTo>
                <a:lnTo>
                  <a:pt x="993" y="1524"/>
                </a:lnTo>
                <a:lnTo>
                  <a:pt x="966" y="1512"/>
                </a:lnTo>
                <a:lnTo>
                  <a:pt x="936" y="1505"/>
                </a:lnTo>
                <a:lnTo>
                  <a:pt x="836" y="1498"/>
                </a:lnTo>
                <a:lnTo>
                  <a:pt x="768" y="1470"/>
                </a:lnTo>
                <a:lnTo>
                  <a:pt x="756" y="1455"/>
                </a:lnTo>
                <a:lnTo>
                  <a:pt x="748" y="1425"/>
                </a:lnTo>
                <a:lnTo>
                  <a:pt x="763" y="1389"/>
                </a:lnTo>
                <a:lnTo>
                  <a:pt x="806" y="1309"/>
                </a:lnTo>
                <a:lnTo>
                  <a:pt x="900" y="1176"/>
                </a:lnTo>
                <a:lnTo>
                  <a:pt x="902" y="1152"/>
                </a:lnTo>
                <a:lnTo>
                  <a:pt x="902" y="1126"/>
                </a:lnTo>
                <a:lnTo>
                  <a:pt x="886" y="1058"/>
                </a:lnTo>
                <a:lnTo>
                  <a:pt x="843" y="833"/>
                </a:lnTo>
                <a:lnTo>
                  <a:pt x="822" y="632"/>
                </a:lnTo>
                <a:lnTo>
                  <a:pt x="843" y="336"/>
                </a:lnTo>
                <a:lnTo>
                  <a:pt x="872" y="199"/>
                </a:lnTo>
                <a:lnTo>
                  <a:pt x="886" y="183"/>
                </a:lnTo>
                <a:close/>
              </a:path>
            </a:pathLst>
          </a:custGeom>
          <a:solidFill>
            <a:srgbClr val="ff99ff"/>
          </a:solidFill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495360" y="2468520"/>
            <a:ext cx="195588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gin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1-derived N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95360" y="4406760"/>
            <a:ext cx="195588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ro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mercial N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03"/>
          <p:cNvGrpSpPr/>
          <p:nvPr/>
        </p:nvGrpSpPr>
        <p:grpSpPr>
          <a:xfrm>
            <a:off x="3719520" y="1793880"/>
            <a:ext cx="4411440" cy="4847760"/>
            <a:chOff x="3719520" y="1793880"/>
            <a:chExt cx="4411440" cy="4847760"/>
          </a:xfrm>
        </p:grpSpPr>
        <p:pic>
          <p:nvPicPr>
            <p:cNvPr id="419" name="Picture 14" descr=""/>
            <p:cNvPicPr/>
            <p:nvPr/>
          </p:nvPicPr>
          <p:blipFill>
            <a:blip r:embed="rId1"/>
            <a:stretch/>
          </p:blipFill>
          <p:spPr>
            <a:xfrm>
              <a:off x="3719520" y="1793880"/>
              <a:ext cx="4230360" cy="20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Freeform 42"/>
            <p:cNvSpPr/>
            <p:nvPr/>
          </p:nvSpPr>
          <p:spPr>
            <a:xfrm>
              <a:off x="5397480" y="2650680"/>
              <a:ext cx="696960" cy="597240"/>
            </a:xfrm>
            <a:custGeom>
              <a:avLst/>
              <a:gdLst/>
              <a:ahLst/>
              <a:rect l="l" t="t" r="r" b="b"/>
              <a:pathLst>
                <a:path w="309" h="265">
                  <a:moveTo>
                    <a:pt x="27" y="265"/>
                  </a:moveTo>
                  <a:lnTo>
                    <a:pt x="240" y="256"/>
                  </a:lnTo>
                  <a:lnTo>
                    <a:pt x="263" y="244"/>
                  </a:lnTo>
                  <a:lnTo>
                    <a:pt x="305" y="25"/>
                  </a:lnTo>
                  <a:lnTo>
                    <a:pt x="309" y="7"/>
                  </a:lnTo>
                  <a:cubicBezTo>
                    <a:pt x="307" y="3"/>
                    <a:pt x="297" y="0"/>
                    <a:pt x="291" y="4"/>
                  </a:cubicBezTo>
                  <a:cubicBezTo>
                    <a:pt x="285" y="8"/>
                    <a:pt x="280" y="11"/>
                    <a:pt x="272" y="30"/>
                  </a:cubicBezTo>
                  <a:cubicBezTo>
                    <a:pt x="264" y="49"/>
                    <a:pt x="250" y="91"/>
                    <a:pt x="243" y="120"/>
                  </a:cubicBezTo>
                  <a:cubicBezTo>
                    <a:pt x="236" y="149"/>
                    <a:pt x="232" y="189"/>
                    <a:pt x="230" y="207"/>
                  </a:cubicBezTo>
                  <a:lnTo>
                    <a:pt x="228" y="229"/>
                  </a:lnTo>
                  <a:lnTo>
                    <a:pt x="198" y="228"/>
                  </a:lnTo>
                  <a:cubicBezTo>
                    <a:pt x="179" y="226"/>
                    <a:pt x="142" y="220"/>
                    <a:pt x="113" y="217"/>
                  </a:cubicBezTo>
                  <a:cubicBezTo>
                    <a:pt x="84" y="214"/>
                    <a:pt x="43" y="205"/>
                    <a:pt x="24" y="208"/>
                  </a:cubicBezTo>
                  <a:cubicBezTo>
                    <a:pt x="5" y="211"/>
                    <a:pt x="0" y="226"/>
                    <a:pt x="0" y="235"/>
                  </a:cubicBezTo>
                  <a:cubicBezTo>
                    <a:pt x="0" y="244"/>
                    <a:pt x="21" y="259"/>
                    <a:pt x="27" y="265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49"/>
            <p:cNvSpPr/>
            <p:nvPr/>
          </p:nvSpPr>
          <p:spPr>
            <a:xfrm>
              <a:off x="5749200" y="3020400"/>
              <a:ext cx="103320" cy="103320"/>
            </a:xfrm>
            <a:prstGeom prst="flowChartOr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1"/>
            <p:cNvSpPr/>
            <p:nvPr/>
          </p:nvSpPr>
          <p:spPr>
            <a:xfrm>
              <a:off x="4402440" y="3934800"/>
              <a:ext cx="13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71"/>
            <p:cNvGrpSpPr/>
            <p:nvPr/>
          </p:nvGrpSpPr>
          <p:grpSpPr>
            <a:xfrm>
              <a:off x="4921200" y="2196360"/>
              <a:ext cx="1113840" cy="1276560"/>
              <a:chOff x="4921200" y="2196360"/>
              <a:chExt cx="1113840" cy="1276560"/>
            </a:xfrm>
          </p:grpSpPr>
          <p:sp>
            <p:nvSpPr>
              <p:cNvPr id="424" name="Freeform 62"/>
              <p:cNvSpPr/>
              <p:nvPr/>
            </p:nvSpPr>
            <p:spPr>
              <a:xfrm rot="378600">
                <a:off x="4982760" y="2247120"/>
                <a:ext cx="990720" cy="1174680"/>
              </a:xfrm>
              <a:custGeom>
                <a:avLst/>
                <a:gdLst/>
                <a:ahLst/>
                <a:rect l="l" t="t" r="r" b="b"/>
                <a:pathLst>
                  <a:path w="1419" h="1664">
                    <a:moveTo>
                      <a:pt x="303" y="1555"/>
                    </a:moveTo>
                    <a:cubicBezTo>
                      <a:pt x="282" y="1580"/>
                      <a:pt x="285" y="1595"/>
                      <a:pt x="269" y="1613"/>
                    </a:cubicBezTo>
                    <a:cubicBezTo>
                      <a:pt x="253" y="1631"/>
                      <a:pt x="225" y="1662"/>
                      <a:pt x="209" y="1663"/>
                    </a:cubicBezTo>
                    <a:cubicBezTo>
                      <a:pt x="193" y="1664"/>
                      <a:pt x="183" y="1631"/>
                      <a:pt x="171" y="1617"/>
                    </a:cubicBezTo>
                    <a:cubicBezTo>
                      <a:pt x="159" y="1603"/>
                      <a:pt x="139" y="1590"/>
                      <a:pt x="137" y="1579"/>
                    </a:cubicBezTo>
                    <a:cubicBezTo>
                      <a:pt x="135" y="1568"/>
                      <a:pt x="157" y="1556"/>
                      <a:pt x="159" y="1549"/>
                    </a:cubicBezTo>
                    <a:cubicBezTo>
                      <a:pt x="161" y="1542"/>
                      <a:pt x="162" y="1543"/>
                      <a:pt x="151" y="1537"/>
                    </a:cubicBezTo>
                    <a:cubicBezTo>
                      <a:pt x="140" y="1531"/>
                      <a:pt x="114" y="1533"/>
                      <a:pt x="95" y="1515"/>
                    </a:cubicBezTo>
                    <a:cubicBezTo>
                      <a:pt x="76" y="1497"/>
                      <a:pt x="51" y="1452"/>
                      <a:pt x="37" y="1429"/>
                    </a:cubicBezTo>
                    <a:cubicBezTo>
                      <a:pt x="23" y="1406"/>
                      <a:pt x="18" y="1393"/>
                      <a:pt x="13" y="1379"/>
                    </a:cubicBezTo>
                    <a:cubicBezTo>
                      <a:pt x="8" y="1365"/>
                      <a:pt x="0" y="1353"/>
                      <a:pt x="5" y="1347"/>
                    </a:cubicBezTo>
                    <a:cubicBezTo>
                      <a:pt x="10" y="1341"/>
                      <a:pt x="23" y="1335"/>
                      <a:pt x="43" y="1345"/>
                    </a:cubicBezTo>
                    <a:cubicBezTo>
                      <a:pt x="63" y="1355"/>
                      <a:pt x="103" y="1397"/>
                      <a:pt x="125" y="1409"/>
                    </a:cubicBezTo>
                    <a:cubicBezTo>
                      <a:pt x="147" y="1421"/>
                      <a:pt x="154" y="1416"/>
                      <a:pt x="173" y="1419"/>
                    </a:cubicBezTo>
                    <a:cubicBezTo>
                      <a:pt x="192" y="1422"/>
                      <a:pt x="221" y="1431"/>
                      <a:pt x="239" y="1427"/>
                    </a:cubicBezTo>
                    <a:cubicBezTo>
                      <a:pt x="257" y="1423"/>
                      <a:pt x="269" y="1411"/>
                      <a:pt x="283" y="1395"/>
                    </a:cubicBezTo>
                    <a:cubicBezTo>
                      <a:pt x="297" y="1379"/>
                      <a:pt x="302" y="1364"/>
                      <a:pt x="321" y="1331"/>
                    </a:cubicBezTo>
                    <a:cubicBezTo>
                      <a:pt x="340" y="1298"/>
                      <a:pt x="370" y="1239"/>
                      <a:pt x="395" y="1195"/>
                    </a:cubicBezTo>
                    <a:cubicBezTo>
                      <a:pt x="420" y="1151"/>
                      <a:pt x="441" y="1098"/>
                      <a:pt x="471" y="1067"/>
                    </a:cubicBezTo>
                    <a:cubicBezTo>
                      <a:pt x="501" y="1036"/>
                      <a:pt x="530" y="1016"/>
                      <a:pt x="573" y="1007"/>
                    </a:cubicBezTo>
                    <a:cubicBezTo>
                      <a:pt x="616" y="998"/>
                      <a:pt x="673" y="1009"/>
                      <a:pt x="731" y="1013"/>
                    </a:cubicBezTo>
                    <a:cubicBezTo>
                      <a:pt x="789" y="1017"/>
                      <a:pt x="861" y="1026"/>
                      <a:pt x="919" y="1031"/>
                    </a:cubicBezTo>
                    <a:cubicBezTo>
                      <a:pt x="977" y="1036"/>
                      <a:pt x="1043" y="1063"/>
                      <a:pt x="1077" y="1045"/>
                    </a:cubicBezTo>
                    <a:cubicBezTo>
                      <a:pt x="1111" y="1027"/>
                      <a:pt x="1115" y="958"/>
                      <a:pt x="1121" y="923"/>
                    </a:cubicBezTo>
                    <a:cubicBezTo>
                      <a:pt x="1127" y="888"/>
                      <a:pt x="1118" y="866"/>
                      <a:pt x="1115" y="833"/>
                    </a:cubicBezTo>
                    <a:cubicBezTo>
                      <a:pt x="1112" y="800"/>
                      <a:pt x="1105" y="760"/>
                      <a:pt x="1105" y="725"/>
                    </a:cubicBezTo>
                    <a:cubicBezTo>
                      <a:pt x="1105" y="690"/>
                      <a:pt x="1109" y="658"/>
                      <a:pt x="1117" y="625"/>
                    </a:cubicBezTo>
                    <a:cubicBezTo>
                      <a:pt x="1125" y="592"/>
                      <a:pt x="1145" y="554"/>
                      <a:pt x="1155" y="525"/>
                    </a:cubicBezTo>
                    <a:cubicBezTo>
                      <a:pt x="1165" y="496"/>
                      <a:pt x="1175" y="472"/>
                      <a:pt x="1179" y="451"/>
                    </a:cubicBezTo>
                    <a:cubicBezTo>
                      <a:pt x="1183" y="430"/>
                      <a:pt x="1184" y="413"/>
                      <a:pt x="1181" y="401"/>
                    </a:cubicBezTo>
                    <a:cubicBezTo>
                      <a:pt x="1178" y="389"/>
                      <a:pt x="1167" y="382"/>
                      <a:pt x="1159" y="381"/>
                    </a:cubicBezTo>
                    <a:cubicBezTo>
                      <a:pt x="1151" y="380"/>
                      <a:pt x="1141" y="397"/>
                      <a:pt x="1131" y="395"/>
                    </a:cubicBezTo>
                    <a:cubicBezTo>
                      <a:pt x="1121" y="393"/>
                      <a:pt x="1106" y="379"/>
                      <a:pt x="1099" y="369"/>
                    </a:cubicBezTo>
                    <a:cubicBezTo>
                      <a:pt x="1092" y="359"/>
                      <a:pt x="1092" y="347"/>
                      <a:pt x="1089" y="335"/>
                    </a:cubicBezTo>
                    <a:cubicBezTo>
                      <a:pt x="1086" y="323"/>
                      <a:pt x="1089" y="301"/>
                      <a:pt x="1081" y="295"/>
                    </a:cubicBezTo>
                    <a:cubicBezTo>
                      <a:pt x="1073" y="289"/>
                      <a:pt x="1044" y="307"/>
                      <a:pt x="1039" y="301"/>
                    </a:cubicBezTo>
                    <a:cubicBezTo>
                      <a:pt x="1034" y="295"/>
                      <a:pt x="1047" y="272"/>
                      <a:pt x="1051" y="259"/>
                    </a:cubicBezTo>
                    <a:cubicBezTo>
                      <a:pt x="1055" y="246"/>
                      <a:pt x="1064" y="236"/>
                      <a:pt x="1065" y="221"/>
                    </a:cubicBezTo>
                    <a:cubicBezTo>
                      <a:pt x="1066" y="206"/>
                      <a:pt x="1058" y="195"/>
                      <a:pt x="1059" y="171"/>
                    </a:cubicBezTo>
                    <a:cubicBezTo>
                      <a:pt x="1060" y="147"/>
                      <a:pt x="1057" y="105"/>
                      <a:pt x="1071" y="79"/>
                    </a:cubicBezTo>
                    <a:cubicBezTo>
                      <a:pt x="1085" y="53"/>
                      <a:pt x="1114" y="24"/>
                      <a:pt x="1143" y="13"/>
                    </a:cubicBezTo>
                    <a:cubicBezTo>
                      <a:pt x="1172" y="2"/>
                      <a:pt x="1217" y="0"/>
                      <a:pt x="1247" y="10"/>
                    </a:cubicBezTo>
                    <a:cubicBezTo>
                      <a:pt x="1277" y="20"/>
                      <a:pt x="1306" y="48"/>
                      <a:pt x="1323" y="73"/>
                    </a:cubicBezTo>
                    <a:cubicBezTo>
                      <a:pt x="1340" y="98"/>
                      <a:pt x="1345" y="132"/>
                      <a:pt x="1347" y="159"/>
                    </a:cubicBezTo>
                    <a:cubicBezTo>
                      <a:pt x="1349" y="186"/>
                      <a:pt x="1341" y="212"/>
                      <a:pt x="1335" y="235"/>
                    </a:cubicBezTo>
                    <a:cubicBezTo>
                      <a:pt x="1329" y="258"/>
                      <a:pt x="1310" y="276"/>
                      <a:pt x="1311" y="297"/>
                    </a:cubicBezTo>
                    <a:cubicBezTo>
                      <a:pt x="1312" y="318"/>
                      <a:pt x="1327" y="339"/>
                      <a:pt x="1339" y="359"/>
                    </a:cubicBezTo>
                    <a:cubicBezTo>
                      <a:pt x="1351" y="379"/>
                      <a:pt x="1369" y="395"/>
                      <a:pt x="1381" y="417"/>
                    </a:cubicBezTo>
                    <a:cubicBezTo>
                      <a:pt x="1393" y="439"/>
                      <a:pt x="1403" y="464"/>
                      <a:pt x="1409" y="493"/>
                    </a:cubicBezTo>
                    <a:cubicBezTo>
                      <a:pt x="1415" y="522"/>
                      <a:pt x="1419" y="554"/>
                      <a:pt x="1417" y="593"/>
                    </a:cubicBezTo>
                    <a:cubicBezTo>
                      <a:pt x="1415" y="632"/>
                      <a:pt x="1404" y="690"/>
                      <a:pt x="1399" y="725"/>
                    </a:cubicBezTo>
                    <a:cubicBezTo>
                      <a:pt x="1394" y="760"/>
                      <a:pt x="1395" y="772"/>
                      <a:pt x="1389" y="803"/>
                    </a:cubicBezTo>
                    <a:cubicBezTo>
                      <a:pt x="1383" y="834"/>
                      <a:pt x="1372" y="877"/>
                      <a:pt x="1365" y="913"/>
                    </a:cubicBezTo>
                    <a:cubicBezTo>
                      <a:pt x="1358" y="949"/>
                      <a:pt x="1352" y="987"/>
                      <a:pt x="1347" y="1021"/>
                    </a:cubicBezTo>
                    <a:cubicBezTo>
                      <a:pt x="1342" y="1055"/>
                      <a:pt x="1339" y="1088"/>
                      <a:pt x="1333" y="1117"/>
                    </a:cubicBezTo>
                    <a:cubicBezTo>
                      <a:pt x="1327" y="1146"/>
                      <a:pt x="1324" y="1176"/>
                      <a:pt x="1311" y="1196"/>
                    </a:cubicBezTo>
                    <a:cubicBezTo>
                      <a:pt x="1298" y="1216"/>
                      <a:pt x="1274" y="1229"/>
                      <a:pt x="1253" y="1237"/>
                    </a:cubicBezTo>
                    <a:cubicBezTo>
                      <a:pt x="1232" y="1245"/>
                      <a:pt x="1217" y="1245"/>
                      <a:pt x="1187" y="1245"/>
                    </a:cubicBezTo>
                    <a:cubicBezTo>
                      <a:pt x="1157" y="1245"/>
                      <a:pt x="1113" y="1241"/>
                      <a:pt x="1071" y="1237"/>
                    </a:cubicBezTo>
                    <a:cubicBezTo>
                      <a:pt x="1029" y="1233"/>
                      <a:pt x="981" y="1225"/>
                      <a:pt x="937" y="1221"/>
                    </a:cubicBezTo>
                    <a:cubicBezTo>
                      <a:pt x="893" y="1217"/>
                      <a:pt x="848" y="1214"/>
                      <a:pt x="807" y="1210"/>
                    </a:cubicBezTo>
                    <a:cubicBezTo>
                      <a:pt x="766" y="1206"/>
                      <a:pt x="720" y="1199"/>
                      <a:pt x="691" y="1195"/>
                    </a:cubicBezTo>
                    <a:cubicBezTo>
                      <a:pt x="662" y="1191"/>
                      <a:pt x="647" y="1187"/>
                      <a:pt x="631" y="1187"/>
                    </a:cubicBezTo>
                    <a:cubicBezTo>
                      <a:pt x="615" y="1187"/>
                      <a:pt x="601" y="1187"/>
                      <a:pt x="593" y="1197"/>
                    </a:cubicBezTo>
                    <a:cubicBezTo>
                      <a:pt x="585" y="1207"/>
                      <a:pt x="589" y="1226"/>
                      <a:pt x="581" y="1245"/>
                    </a:cubicBezTo>
                    <a:cubicBezTo>
                      <a:pt x="573" y="1264"/>
                      <a:pt x="565" y="1283"/>
                      <a:pt x="547" y="1309"/>
                    </a:cubicBezTo>
                    <a:cubicBezTo>
                      <a:pt x="529" y="1335"/>
                      <a:pt x="499" y="1371"/>
                      <a:pt x="473" y="1399"/>
                    </a:cubicBezTo>
                    <a:cubicBezTo>
                      <a:pt x="447" y="1427"/>
                      <a:pt x="417" y="1451"/>
                      <a:pt x="389" y="1477"/>
                    </a:cubicBezTo>
                    <a:cubicBezTo>
                      <a:pt x="361" y="1503"/>
                      <a:pt x="321" y="1539"/>
                      <a:pt x="303" y="1555"/>
                    </a:cubicBezTo>
                    <a:close/>
                  </a:path>
                </a:pathLst>
              </a:custGeom>
              <a:noFill/>
              <a:ln w="255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63"/>
              <p:cNvSpPr/>
              <p:nvPr/>
            </p:nvSpPr>
            <p:spPr>
              <a:xfrm>
                <a:off x="5372640" y="2599560"/>
                <a:ext cx="587160" cy="313560"/>
              </a:xfrm>
              <a:custGeom>
                <a:avLst/>
                <a:gdLst/>
                <a:ahLst/>
                <a:rect l="l" t="t" r="r" b="b"/>
                <a:pathLst>
                  <a:path w="842" h="446">
                    <a:moveTo>
                      <a:pt x="319" y="265"/>
                    </a:moveTo>
                    <a:cubicBezTo>
                      <a:pt x="290" y="264"/>
                      <a:pt x="268" y="271"/>
                      <a:pt x="243" y="269"/>
                    </a:cubicBezTo>
                    <a:cubicBezTo>
                      <a:pt x="218" y="267"/>
                      <a:pt x="187" y="263"/>
                      <a:pt x="167" y="251"/>
                    </a:cubicBezTo>
                    <a:cubicBezTo>
                      <a:pt x="147" y="239"/>
                      <a:pt x="136" y="215"/>
                      <a:pt x="121" y="199"/>
                    </a:cubicBezTo>
                    <a:cubicBezTo>
                      <a:pt x="106" y="183"/>
                      <a:pt x="84" y="158"/>
                      <a:pt x="77" y="157"/>
                    </a:cubicBezTo>
                    <a:cubicBezTo>
                      <a:pt x="70" y="156"/>
                      <a:pt x="82" y="181"/>
                      <a:pt x="81" y="191"/>
                    </a:cubicBezTo>
                    <a:cubicBezTo>
                      <a:pt x="80" y="201"/>
                      <a:pt x="77" y="211"/>
                      <a:pt x="71" y="215"/>
                    </a:cubicBezTo>
                    <a:cubicBezTo>
                      <a:pt x="65" y="219"/>
                      <a:pt x="56" y="223"/>
                      <a:pt x="47" y="217"/>
                    </a:cubicBezTo>
                    <a:cubicBezTo>
                      <a:pt x="38" y="211"/>
                      <a:pt x="26" y="182"/>
                      <a:pt x="19" y="177"/>
                    </a:cubicBezTo>
                    <a:cubicBezTo>
                      <a:pt x="12" y="172"/>
                      <a:pt x="6" y="176"/>
                      <a:pt x="3" y="185"/>
                    </a:cubicBezTo>
                    <a:cubicBezTo>
                      <a:pt x="0" y="194"/>
                      <a:pt x="1" y="214"/>
                      <a:pt x="3" y="229"/>
                    </a:cubicBezTo>
                    <a:cubicBezTo>
                      <a:pt x="5" y="244"/>
                      <a:pt x="9" y="260"/>
                      <a:pt x="17" y="273"/>
                    </a:cubicBezTo>
                    <a:cubicBezTo>
                      <a:pt x="25" y="286"/>
                      <a:pt x="37" y="299"/>
                      <a:pt x="49" y="309"/>
                    </a:cubicBezTo>
                    <a:cubicBezTo>
                      <a:pt x="61" y="319"/>
                      <a:pt x="77" y="328"/>
                      <a:pt x="91" y="331"/>
                    </a:cubicBezTo>
                    <a:cubicBezTo>
                      <a:pt x="105" y="334"/>
                      <a:pt x="120" y="324"/>
                      <a:pt x="135" y="327"/>
                    </a:cubicBezTo>
                    <a:cubicBezTo>
                      <a:pt x="150" y="330"/>
                      <a:pt x="146" y="334"/>
                      <a:pt x="183" y="347"/>
                    </a:cubicBezTo>
                    <a:cubicBezTo>
                      <a:pt x="220" y="360"/>
                      <a:pt x="310" y="388"/>
                      <a:pt x="359" y="403"/>
                    </a:cubicBezTo>
                    <a:cubicBezTo>
                      <a:pt x="408" y="418"/>
                      <a:pt x="438" y="446"/>
                      <a:pt x="479" y="439"/>
                    </a:cubicBezTo>
                    <a:cubicBezTo>
                      <a:pt x="520" y="432"/>
                      <a:pt x="567" y="389"/>
                      <a:pt x="607" y="359"/>
                    </a:cubicBezTo>
                    <a:cubicBezTo>
                      <a:pt x="647" y="329"/>
                      <a:pt x="683" y="296"/>
                      <a:pt x="719" y="259"/>
                    </a:cubicBezTo>
                    <a:cubicBezTo>
                      <a:pt x="755" y="222"/>
                      <a:pt x="808" y="172"/>
                      <a:pt x="825" y="137"/>
                    </a:cubicBezTo>
                    <a:cubicBezTo>
                      <a:pt x="842" y="102"/>
                      <a:pt x="835" y="73"/>
                      <a:pt x="823" y="51"/>
                    </a:cubicBezTo>
                    <a:cubicBezTo>
                      <a:pt x="811" y="29"/>
                      <a:pt x="780" y="6"/>
                      <a:pt x="755" y="3"/>
                    </a:cubicBezTo>
                    <a:cubicBezTo>
                      <a:pt x="730" y="0"/>
                      <a:pt x="697" y="13"/>
                      <a:pt x="671" y="33"/>
                    </a:cubicBezTo>
                    <a:cubicBezTo>
                      <a:pt x="645" y="53"/>
                      <a:pt x="619" y="93"/>
                      <a:pt x="597" y="121"/>
                    </a:cubicBezTo>
                    <a:cubicBezTo>
                      <a:pt x="575" y="149"/>
                      <a:pt x="558" y="177"/>
                      <a:pt x="537" y="203"/>
                    </a:cubicBezTo>
                    <a:cubicBezTo>
                      <a:pt x="516" y="229"/>
                      <a:pt x="492" y="264"/>
                      <a:pt x="471" y="275"/>
                    </a:cubicBezTo>
                    <a:cubicBezTo>
                      <a:pt x="450" y="286"/>
                      <a:pt x="438" y="271"/>
                      <a:pt x="413" y="269"/>
                    </a:cubicBezTo>
                    <a:cubicBezTo>
                      <a:pt x="388" y="267"/>
                      <a:pt x="339" y="266"/>
                      <a:pt x="319" y="265"/>
                    </a:cubicBezTo>
                    <a:close/>
                  </a:path>
                </a:pathLst>
              </a:custGeom>
              <a:noFill/>
              <a:ln w="255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AutoShape 39"/>
            <p:cNvSpPr/>
            <p:nvPr/>
          </p:nvSpPr>
          <p:spPr>
            <a:xfrm>
              <a:off x="6892560" y="5904720"/>
              <a:ext cx="663840" cy="662040"/>
            </a:xfrm>
            <a:custGeom>
              <a:avLst/>
              <a:gdLst>
                <a:gd name="textAreaLeft" fmla="*/ 97920 w 663840"/>
                <a:gd name="textAreaRight" fmla="*/ 565920 w 663840"/>
                <a:gd name="textAreaTop" fmla="*/ 96120 h 662040"/>
                <a:gd name="textAreaBottom" fmla="*/ 56592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335" y="10800"/>
                  </a:moveTo>
                  <a:cubicBezTo>
                    <a:pt x="4335" y="14371"/>
                    <a:pt x="7229" y="17265"/>
                    <a:pt x="10800" y="17265"/>
                  </a:cubicBezTo>
                  <a:cubicBezTo>
                    <a:pt x="14371" y="17265"/>
                    <a:pt x="17265" y="14371"/>
                    <a:pt x="17265" y="10800"/>
                  </a:cubicBezTo>
                  <a:cubicBezTo>
                    <a:pt x="17265" y="7229"/>
                    <a:pt x="14371" y="4335"/>
                    <a:pt x="10800" y="4335"/>
                  </a:cubicBezTo>
                  <a:cubicBezTo>
                    <a:pt x="7229" y="4335"/>
                    <a:pt x="4335" y="7229"/>
                    <a:pt x="4335" y="1080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37"/>
            <p:cNvSpPr/>
            <p:nvPr/>
          </p:nvSpPr>
          <p:spPr>
            <a:xfrm>
              <a:off x="4570560" y="5916240"/>
              <a:ext cx="662400" cy="662040"/>
            </a:xfrm>
            <a:custGeom>
              <a:avLst/>
              <a:gdLst>
                <a:gd name="textAreaLeft" fmla="*/ 96480 w 662400"/>
                <a:gd name="textAreaRight" fmla="*/ 565920 w 662400"/>
                <a:gd name="textAreaTop" fmla="*/ 96120 h 662040"/>
                <a:gd name="textAreaBottom" fmla="*/ 56592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335" y="10800"/>
                  </a:moveTo>
                  <a:cubicBezTo>
                    <a:pt x="4335" y="14371"/>
                    <a:pt x="7229" y="17265"/>
                    <a:pt x="10800" y="17265"/>
                  </a:cubicBezTo>
                  <a:cubicBezTo>
                    <a:pt x="14371" y="17265"/>
                    <a:pt x="17265" y="14371"/>
                    <a:pt x="17265" y="10800"/>
                  </a:cubicBezTo>
                  <a:cubicBezTo>
                    <a:pt x="17265" y="7229"/>
                    <a:pt x="14371" y="4335"/>
                    <a:pt x="10800" y="4335"/>
                  </a:cubicBezTo>
                  <a:cubicBezTo>
                    <a:pt x="7229" y="4335"/>
                    <a:pt x="4335" y="7229"/>
                    <a:pt x="4335" y="1080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36" descr=""/>
            <p:cNvPicPr/>
            <p:nvPr/>
          </p:nvPicPr>
          <p:blipFill>
            <a:blip r:embed="rId2"/>
            <a:stretch/>
          </p:blipFill>
          <p:spPr>
            <a:xfrm>
              <a:off x="3826080" y="4283280"/>
              <a:ext cx="430488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Freeform 41"/>
            <p:cNvSpPr/>
            <p:nvPr/>
          </p:nvSpPr>
          <p:spPr>
            <a:xfrm>
              <a:off x="4867560" y="5122800"/>
              <a:ext cx="696960" cy="597240"/>
            </a:xfrm>
            <a:custGeom>
              <a:avLst/>
              <a:gdLst/>
              <a:ahLst/>
              <a:rect l="l" t="t" r="r" b="b"/>
              <a:pathLst>
                <a:path w="309" h="265">
                  <a:moveTo>
                    <a:pt x="27" y="265"/>
                  </a:moveTo>
                  <a:lnTo>
                    <a:pt x="240" y="256"/>
                  </a:lnTo>
                  <a:lnTo>
                    <a:pt x="263" y="244"/>
                  </a:lnTo>
                  <a:lnTo>
                    <a:pt x="305" y="25"/>
                  </a:lnTo>
                  <a:lnTo>
                    <a:pt x="309" y="7"/>
                  </a:lnTo>
                  <a:cubicBezTo>
                    <a:pt x="307" y="3"/>
                    <a:pt x="297" y="0"/>
                    <a:pt x="291" y="4"/>
                  </a:cubicBezTo>
                  <a:cubicBezTo>
                    <a:pt x="285" y="8"/>
                    <a:pt x="280" y="11"/>
                    <a:pt x="272" y="30"/>
                  </a:cubicBezTo>
                  <a:cubicBezTo>
                    <a:pt x="264" y="49"/>
                    <a:pt x="250" y="91"/>
                    <a:pt x="243" y="120"/>
                  </a:cubicBezTo>
                  <a:cubicBezTo>
                    <a:pt x="236" y="149"/>
                    <a:pt x="232" y="189"/>
                    <a:pt x="230" y="207"/>
                  </a:cubicBezTo>
                  <a:lnTo>
                    <a:pt x="228" y="229"/>
                  </a:lnTo>
                  <a:lnTo>
                    <a:pt x="198" y="228"/>
                  </a:lnTo>
                  <a:cubicBezTo>
                    <a:pt x="179" y="226"/>
                    <a:pt x="142" y="220"/>
                    <a:pt x="113" y="217"/>
                  </a:cubicBezTo>
                  <a:cubicBezTo>
                    <a:pt x="84" y="214"/>
                    <a:pt x="43" y="205"/>
                    <a:pt x="24" y="208"/>
                  </a:cubicBezTo>
                  <a:cubicBezTo>
                    <a:pt x="5" y="211"/>
                    <a:pt x="0" y="226"/>
                    <a:pt x="0" y="235"/>
                  </a:cubicBezTo>
                  <a:cubicBezTo>
                    <a:pt x="0" y="244"/>
                    <a:pt x="21" y="259"/>
                    <a:pt x="27" y="265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55"/>
            <p:cNvSpPr/>
            <p:nvPr/>
          </p:nvSpPr>
          <p:spPr>
            <a:xfrm>
              <a:off x="5236200" y="5474160"/>
              <a:ext cx="103320" cy="103680"/>
            </a:xfrm>
            <a:prstGeom prst="flowChartOr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56"/>
            <p:cNvSpPr/>
            <p:nvPr/>
          </p:nvSpPr>
          <p:spPr>
            <a:xfrm>
              <a:off x="4883040" y="426600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64"/>
            <p:cNvGrpSpPr/>
            <p:nvPr/>
          </p:nvGrpSpPr>
          <p:grpSpPr>
            <a:xfrm>
              <a:off x="4441320" y="4746960"/>
              <a:ext cx="990720" cy="1175040"/>
              <a:chOff x="4441320" y="4746960"/>
              <a:chExt cx="990720" cy="1175040"/>
            </a:xfrm>
          </p:grpSpPr>
          <p:sp>
            <p:nvSpPr>
              <p:cNvPr id="433" name="Freeform 65"/>
              <p:cNvSpPr/>
              <p:nvPr/>
            </p:nvSpPr>
            <p:spPr>
              <a:xfrm>
                <a:off x="4441320" y="4746960"/>
                <a:ext cx="990720" cy="1175040"/>
              </a:xfrm>
              <a:custGeom>
                <a:avLst/>
                <a:gdLst/>
                <a:ahLst/>
                <a:rect l="l" t="t" r="r" b="b"/>
                <a:pathLst>
                  <a:path w="1419" h="1664">
                    <a:moveTo>
                      <a:pt x="303" y="1555"/>
                    </a:moveTo>
                    <a:cubicBezTo>
                      <a:pt x="282" y="1580"/>
                      <a:pt x="285" y="1595"/>
                      <a:pt x="269" y="1613"/>
                    </a:cubicBezTo>
                    <a:cubicBezTo>
                      <a:pt x="253" y="1631"/>
                      <a:pt x="225" y="1662"/>
                      <a:pt x="209" y="1663"/>
                    </a:cubicBezTo>
                    <a:cubicBezTo>
                      <a:pt x="193" y="1664"/>
                      <a:pt x="183" y="1631"/>
                      <a:pt x="171" y="1617"/>
                    </a:cubicBezTo>
                    <a:cubicBezTo>
                      <a:pt x="159" y="1603"/>
                      <a:pt x="139" y="1590"/>
                      <a:pt x="137" y="1579"/>
                    </a:cubicBezTo>
                    <a:cubicBezTo>
                      <a:pt x="135" y="1568"/>
                      <a:pt x="157" y="1556"/>
                      <a:pt x="159" y="1549"/>
                    </a:cubicBezTo>
                    <a:cubicBezTo>
                      <a:pt x="161" y="1542"/>
                      <a:pt x="162" y="1543"/>
                      <a:pt x="151" y="1537"/>
                    </a:cubicBezTo>
                    <a:cubicBezTo>
                      <a:pt x="140" y="1531"/>
                      <a:pt x="114" y="1533"/>
                      <a:pt x="95" y="1515"/>
                    </a:cubicBezTo>
                    <a:cubicBezTo>
                      <a:pt x="76" y="1497"/>
                      <a:pt x="51" y="1452"/>
                      <a:pt x="37" y="1429"/>
                    </a:cubicBezTo>
                    <a:cubicBezTo>
                      <a:pt x="23" y="1406"/>
                      <a:pt x="18" y="1393"/>
                      <a:pt x="13" y="1379"/>
                    </a:cubicBezTo>
                    <a:cubicBezTo>
                      <a:pt x="8" y="1365"/>
                      <a:pt x="0" y="1353"/>
                      <a:pt x="5" y="1347"/>
                    </a:cubicBezTo>
                    <a:cubicBezTo>
                      <a:pt x="10" y="1341"/>
                      <a:pt x="23" y="1335"/>
                      <a:pt x="43" y="1345"/>
                    </a:cubicBezTo>
                    <a:cubicBezTo>
                      <a:pt x="63" y="1355"/>
                      <a:pt x="103" y="1397"/>
                      <a:pt x="125" y="1409"/>
                    </a:cubicBezTo>
                    <a:cubicBezTo>
                      <a:pt x="147" y="1421"/>
                      <a:pt x="154" y="1416"/>
                      <a:pt x="173" y="1419"/>
                    </a:cubicBezTo>
                    <a:cubicBezTo>
                      <a:pt x="192" y="1422"/>
                      <a:pt x="221" y="1431"/>
                      <a:pt x="239" y="1427"/>
                    </a:cubicBezTo>
                    <a:cubicBezTo>
                      <a:pt x="257" y="1423"/>
                      <a:pt x="269" y="1411"/>
                      <a:pt x="283" y="1395"/>
                    </a:cubicBezTo>
                    <a:cubicBezTo>
                      <a:pt x="297" y="1379"/>
                      <a:pt x="302" y="1364"/>
                      <a:pt x="321" y="1331"/>
                    </a:cubicBezTo>
                    <a:cubicBezTo>
                      <a:pt x="340" y="1298"/>
                      <a:pt x="370" y="1239"/>
                      <a:pt x="395" y="1195"/>
                    </a:cubicBezTo>
                    <a:cubicBezTo>
                      <a:pt x="420" y="1151"/>
                      <a:pt x="441" y="1098"/>
                      <a:pt x="471" y="1067"/>
                    </a:cubicBezTo>
                    <a:cubicBezTo>
                      <a:pt x="501" y="1036"/>
                      <a:pt x="530" y="1016"/>
                      <a:pt x="573" y="1007"/>
                    </a:cubicBezTo>
                    <a:cubicBezTo>
                      <a:pt x="616" y="998"/>
                      <a:pt x="673" y="1009"/>
                      <a:pt x="731" y="1013"/>
                    </a:cubicBezTo>
                    <a:cubicBezTo>
                      <a:pt x="789" y="1017"/>
                      <a:pt x="861" y="1026"/>
                      <a:pt x="919" y="1031"/>
                    </a:cubicBezTo>
                    <a:cubicBezTo>
                      <a:pt x="977" y="1036"/>
                      <a:pt x="1043" y="1063"/>
                      <a:pt x="1077" y="1045"/>
                    </a:cubicBezTo>
                    <a:cubicBezTo>
                      <a:pt x="1111" y="1027"/>
                      <a:pt x="1115" y="958"/>
                      <a:pt x="1121" y="923"/>
                    </a:cubicBezTo>
                    <a:cubicBezTo>
                      <a:pt x="1127" y="888"/>
                      <a:pt x="1118" y="866"/>
                      <a:pt x="1115" y="833"/>
                    </a:cubicBezTo>
                    <a:cubicBezTo>
                      <a:pt x="1112" y="800"/>
                      <a:pt x="1105" y="760"/>
                      <a:pt x="1105" y="725"/>
                    </a:cubicBezTo>
                    <a:cubicBezTo>
                      <a:pt x="1105" y="690"/>
                      <a:pt x="1109" y="658"/>
                      <a:pt x="1117" y="625"/>
                    </a:cubicBezTo>
                    <a:cubicBezTo>
                      <a:pt x="1125" y="592"/>
                      <a:pt x="1145" y="554"/>
                      <a:pt x="1155" y="525"/>
                    </a:cubicBezTo>
                    <a:cubicBezTo>
                      <a:pt x="1165" y="496"/>
                      <a:pt x="1175" y="472"/>
                      <a:pt x="1179" y="451"/>
                    </a:cubicBezTo>
                    <a:cubicBezTo>
                      <a:pt x="1183" y="430"/>
                      <a:pt x="1184" y="413"/>
                      <a:pt x="1181" y="401"/>
                    </a:cubicBezTo>
                    <a:cubicBezTo>
                      <a:pt x="1178" y="389"/>
                      <a:pt x="1167" y="382"/>
                      <a:pt x="1159" y="381"/>
                    </a:cubicBezTo>
                    <a:cubicBezTo>
                      <a:pt x="1151" y="380"/>
                      <a:pt x="1141" y="397"/>
                      <a:pt x="1131" y="395"/>
                    </a:cubicBezTo>
                    <a:cubicBezTo>
                      <a:pt x="1121" y="393"/>
                      <a:pt x="1106" y="379"/>
                      <a:pt x="1099" y="369"/>
                    </a:cubicBezTo>
                    <a:cubicBezTo>
                      <a:pt x="1092" y="359"/>
                      <a:pt x="1092" y="347"/>
                      <a:pt x="1089" y="335"/>
                    </a:cubicBezTo>
                    <a:cubicBezTo>
                      <a:pt x="1086" y="323"/>
                      <a:pt x="1089" y="301"/>
                      <a:pt x="1081" y="295"/>
                    </a:cubicBezTo>
                    <a:cubicBezTo>
                      <a:pt x="1073" y="289"/>
                      <a:pt x="1044" y="307"/>
                      <a:pt x="1039" y="301"/>
                    </a:cubicBezTo>
                    <a:cubicBezTo>
                      <a:pt x="1034" y="295"/>
                      <a:pt x="1047" y="272"/>
                      <a:pt x="1051" y="259"/>
                    </a:cubicBezTo>
                    <a:cubicBezTo>
                      <a:pt x="1055" y="246"/>
                      <a:pt x="1064" y="236"/>
                      <a:pt x="1065" y="221"/>
                    </a:cubicBezTo>
                    <a:cubicBezTo>
                      <a:pt x="1066" y="206"/>
                      <a:pt x="1058" y="195"/>
                      <a:pt x="1059" y="171"/>
                    </a:cubicBezTo>
                    <a:cubicBezTo>
                      <a:pt x="1060" y="147"/>
                      <a:pt x="1057" y="105"/>
                      <a:pt x="1071" y="79"/>
                    </a:cubicBezTo>
                    <a:cubicBezTo>
                      <a:pt x="1085" y="53"/>
                      <a:pt x="1114" y="24"/>
                      <a:pt x="1143" y="13"/>
                    </a:cubicBezTo>
                    <a:cubicBezTo>
                      <a:pt x="1172" y="2"/>
                      <a:pt x="1217" y="0"/>
                      <a:pt x="1247" y="10"/>
                    </a:cubicBezTo>
                    <a:cubicBezTo>
                      <a:pt x="1277" y="20"/>
                      <a:pt x="1306" y="48"/>
                      <a:pt x="1323" y="73"/>
                    </a:cubicBezTo>
                    <a:cubicBezTo>
                      <a:pt x="1340" y="98"/>
                      <a:pt x="1345" y="132"/>
                      <a:pt x="1347" y="159"/>
                    </a:cubicBezTo>
                    <a:cubicBezTo>
                      <a:pt x="1349" y="186"/>
                      <a:pt x="1341" y="212"/>
                      <a:pt x="1335" y="235"/>
                    </a:cubicBezTo>
                    <a:cubicBezTo>
                      <a:pt x="1329" y="258"/>
                      <a:pt x="1310" y="276"/>
                      <a:pt x="1311" y="297"/>
                    </a:cubicBezTo>
                    <a:cubicBezTo>
                      <a:pt x="1312" y="318"/>
                      <a:pt x="1327" y="339"/>
                      <a:pt x="1339" y="359"/>
                    </a:cubicBezTo>
                    <a:cubicBezTo>
                      <a:pt x="1351" y="379"/>
                      <a:pt x="1369" y="395"/>
                      <a:pt x="1381" y="417"/>
                    </a:cubicBezTo>
                    <a:cubicBezTo>
                      <a:pt x="1393" y="439"/>
                      <a:pt x="1403" y="464"/>
                      <a:pt x="1409" y="493"/>
                    </a:cubicBezTo>
                    <a:cubicBezTo>
                      <a:pt x="1415" y="522"/>
                      <a:pt x="1419" y="554"/>
                      <a:pt x="1417" y="593"/>
                    </a:cubicBezTo>
                    <a:cubicBezTo>
                      <a:pt x="1415" y="632"/>
                      <a:pt x="1404" y="690"/>
                      <a:pt x="1399" y="725"/>
                    </a:cubicBezTo>
                    <a:cubicBezTo>
                      <a:pt x="1394" y="760"/>
                      <a:pt x="1395" y="772"/>
                      <a:pt x="1389" y="803"/>
                    </a:cubicBezTo>
                    <a:cubicBezTo>
                      <a:pt x="1383" y="834"/>
                      <a:pt x="1372" y="877"/>
                      <a:pt x="1365" y="913"/>
                    </a:cubicBezTo>
                    <a:cubicBezTo>
                      <a:pt x="1358" y="949"/>
                      <a:pt x="1352" y="987"/>
                      <a:pt x="1347" y="1021"/>
                    </a:cubicBezTo>
                    <a:cubicBezTo>
                      <a:pt x="1342" y="1055"/>
                      <a:pt x="1339" y="1088"/>
                      <a:pt x="1333" y="1117"/>
                    </a:cubicBezTo>
                    <a:cubicBezTo>
                      <a:pt x="1327" y="1146"/>
                      <a:pt x="1324" y="1176"/>
                      <a:pt x="1311" y="1196"/>
                    </a:cubicBezTo>
                    <a:cubicBezTo>
                      <a:pt x="1298" y="1216"/>
                      <a:pt x="1274" y="1229"/>
                      <a:pt x="1253" y="1237"/>
                    </a:cubicBezTo>
                    <a:cubicBezTo>
                      <a:pt x="1232" y="1245"/>
                      <a:pt x="1217" y="1245"/>
                      <a:pt x="1187" y="1245"/>
                    </a:cubicBezTo>
                    <a:cubicBezTo>
                      <a:pt x="1157" y="1245"/>
                      <a:pt x="1113" y="1241"/>
                      <a:pt x="1071" y="1237"/>
                    </a:cubicBezTo>
                    <a:cubicBezTo>
                      <a:pt x="1029" y="1233"/>
                      <a:pt x="981" y="1225"/>
                      <a:pt x="937" y="1221"/>
                    </a:cubicBezTo>
                    <a:cubicBezTo>
                      <a:pt x="893" y="1217"/>
                      <a:pt x="848" y="1214"/>
                      <a:pt x="807" y="1210"/>
                    </a:cubicBezTo>
                    <a:cubicBezTo>
                      <a:pt x="766" y="1206"/>
                      <a:pt x="720" y="1199"/>
                      <a:pt x="691" y="1195"/>
                    </a:cubicBezTo>
                    <a:cubicBezTo>
                      <a:pt x="662" y="1191"/>
                      <a:pt x="647" y="1187"/>
                      <a:pt x="631" y="1187"/>
                    </a:cubicBezTo>
                    <a:cubicBezTo>
                      <a:pt x="615" y="1187"/>
                      <a:pt x="601" y="1187"/>
                      <a:pt x="593" y="1197"/>
                    </a:cubicBezTo>
                    <a:cubicBezTo>
                      <a:pt x="585" y="1207"/>
                      <a:pt x="589" y="1226"/>
                      <a:pt x="581" y="1245"/>
                    </a:cubicBezTo>
                    <a:cubicBezTo>
                      <a:pt x="573" y="1264"/>
                      <a:pt x="565" y="1283"/>
                      <a:pt x="547" y="1309"/>
                    </a:cubicBezTo>
                    <a:cubicBezTo>
                      <a:pt x="529" y="1335"/>
                      <a:pt x="499" y="1371"/>
                      <a:pt x="473" y="1399"/>
                    </a:cubicBezTo>
                    <a:cubicBezTo>
                      <a:pt x="447" y="1427"/>
                      <a:pt x="417" y="1451"/>
                      <a:pt x="389" y="1477"/>
                    </a:cubicBezTo>
                    <a:cubicBezTo>
                      <a:pt x="361" y="1503"/>
                      <a:pt x="321" y="1539"/>
                      <a:pt x="303" y="1555"/>
                    </a:cubicBezTo>
                    <a:close/>
                  </a:path>
                </a:pathLst>
              </a:custGeom>
              <a:noFill/>
              <a:ln w="255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66"/>
              <p:cNvSpPr/>
              <p:nvPr/>
            </p:nvSpPr>
            <p:spPr>
              <a:xfrm>
                <a:off x="4805640" y="5059080"/>
                <a:ext cx="587880" cy="315000"/>
              </a:xfrm>
              <a:custGeom>
                <a:avLst/>
                <a:gdLst/>
                <a:ahLst/>
                <a:rect l="l" t="t" r="r" b="b"/>
                <a:pathLst>
                  <a:path w="842" h="446">
                    <a:moveTo>
                      <a:pt x="319" y="265"/>
                    </a:moveTo>
                    <a:cubicBezTo>
                      <a:pt x="290" y="264"/>
                      <a:pt x="268" y="271"/>
                      <a:pt x="243" y="269"/>
                    </a:cubicBezTo>
                    <a:cubicBezTo>
                      <a:pt x="218" y="267"/>
                      <a:pt x="187" y="263"/>
                      <a:pt x="167" y="251"/>
                    </a:cubicBezTo>
                    <a:cubicBezTo>
                      <a:pt x="147" y="239"/>
                      <a:pt x="136" y="215"/>
                      <a:pt x="121" y="199"/>
                    </a:cubicBezTo>
                    <a:cubicBezTo>
                      <a:pt x="106" y="183"/>
                      <a:pt x="84" y="158"/>
                      <a:pt x="77" y="157"/>
                    </a:cubicBezTo>
                    <a:cubicBezTo>
                      <a:pt x="70" y="156"/>
                      <a:pt x="82" y="181"/>
                      <a:pt x="81" y="191"/>
                    </a:cubicBezTo>
                    <a:cubicBezTo>
                      <a:pt x="80" y="201"/>
                      <a:pt x="77" y="211"/>
                      <a:pt x="71" y="215"/>
                    </a:cubicBezTo>
                    <a:cubicBezTo>
                      <a:pt x="65" y="219"/>
                      <a:pt x="56" y="223"/>
                      <a:pt x="47" y="217"/>
                    </a:cubicBezTo>
                    <a:cubicBezTo>
                      <a:pt x="38" y="211"/>
                      <a:pt x="26" y="182"/>
                      <a:pt x="19" y="177"/>
                    </a:cubicBezTo>
                    <a:cubicBezTo>
                      <a:pt x="12" y="172"/>
                      <a:pt x="6" y="176"/>
                      <a:pt x="3" y="185"/>
                    </a:cubicBezTo>
                    <a:cubicBezTo>
                      <a:pt x="0" y="194"/>
                      <a:pt x="1" y="214"/>
                      <a:pt x="3" y="229"/>
                    </a:cubicBezTo>
                    <a:cubicBezTo>
                      <a:pt x="5" y="244"/>
                      <a:pt x="9" y="260"/>
                      <a:pt x="17" y="273"/>
                    </a:cubicBezTo>
                    <a:cubicBezTo>
                      <a:pt x="25" y="286"/>
                      <a:pt x="37" y="299"/>
                      <a:pt x="49" y="309"/>
                    </a:cubicBezTo>
                    <a:cubicBezTo>
                      <a:pt x="61" y="319"/>
                      <a:pt x="77" y="328"/>
                      <a:pt x="91" y="331"/>
                    </a:cubicBezTo>
                    <a:cubicBezTo>
                      <a:pt x="105" y="334"/>
                      <a:pt x="120" y="324"/>
                      <a:pt x="135" y="327"/>
                    </a:cubicBezTo>
                    <a:cubicBezTo>
                      <a:pt x="150" y="330"/>
                      <a:pt x="146" y="334"/>
                      <a:pt x="183" y="347"/>
                    </a:cubicBezTo>
                    <a:cubicBezTo>
                      <a:pt x="220" y="360"/>
                      <a:pt x="310" y="388"/>
                      <a:pt x="359" y="403"/>
                    </a:cubicBezTo>
                    <a:cubicBezTo>
                      <a:pt x="408" y="418"/>
                      <a:pt x="438" y="446"/>
                      <a:pt x="479" y="439"/>
                    </a:cubicBezTo>
                    <a:cubicBezTo>
                      <a:pt x="520" y="432"/>
                      <a:pt x="567" y="389"/>
                      <a:pt x="607" y="359"/>
                    </a:cubicBezTo>
                    <a:cubicBezTo>
                      <a:pt x="647" y="329"/>
                      <a:pt x="683" y="296"/>
                      <a:pt x="719" y="259"/>
                    </a:cubicBezTo>
                    <a:cubicBezTo>
                      <a:pt x="755" y="222"/>
                      <a:pt x="808" y="172"/>
                      <a:pt x="825" y="137"/>
                    </a:cubicBezTo>
                    <a:cubicBezTo>
                      <a:pt x="842" y="102"/>
                      <a:pt x="835" y="73"/>
                      <a:pt x="823" y="51"/>
                    </a:cubicBezTo>
                    <a:cubicBezTo>
                      <a:pt x="811" y="29"/>
                      <a:pt x="780" y="6"/>
                      <a:pt x="755" y="3"/>
                    </a:cubicBezTo>
                    <a:cubicBezTo>
                      <a:pt x="730" y="0"/>
                      <a:pt x="697" y="13"/>
                      <a:pt x="671" y="33"/>
                    </a:cubicBezTo>
                    <a:cubicBezTo>
                      <a:pt x="645" y="53"/>
                      <a:pt x="619" y="93"/>
                      <a:pt x="597" y="121"/>
                    </a:cubicBezTo>
                    <a:cubicBezTo>
                      <a:pt x="575" y="149"/>
                      <a:pt x="558" y="177"/>
                      <a:pt x="537" y="203"/>
                    </a:cubicBezTo>
                    <a:cubicBezTo>
                      <a:pt x="516" y="229"/>
                      <a:pt x="492" y="264"/>
                      <a:pt x="471" y="275"/>
                    </a:cubicBezTo>
                    <a:cubicBezTo>
                      <a:pt x="450" y="286"/>
                      <a:pt x="438" y="271"/>
                      <a:pt x="413" y="269"/>
                    </a:cubicBezTo>
                    <a:cubicBezTo>
                      <a:pt x="388" y="267"/>
                      <a:pt x="339" y="266"/>
                      <a:pt x="319" y="265"/>
                    </a:cubicBezTo>
                    <a:close/>
                  </a:path>
                </a:pathLst>
              </a:custGeom>
              <a:noFill/>
              <a:ln w="255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AutoShape 67"/>
            <p:cNvSpPr/>
            <p:nvPr/>
          </p:nvSpPr>
          <p:spPr>
            <a:xfrm>
              <a:off x="4570560" y="5898960"/>
              <a:ext cx="668520" cy="667800"/>
            </a:xfrm>
            <a:custGeom>
              <a:avLst/>
              <a:gdLst>
                <a:gd name="textAreaLeft" fmla="*/ 97920 w 668520"/>
                <a:gd name="textAreaRight" fmla="*/ 570600 w 668520"/>
                <a:gd name="textAreaTop" fmla="*/ 97920 h 667800"/>
                <a:gd name="textAreaBottom" fmla="*/ 56988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752" y="10800"/>
                  </a:moveTo>
                  <a:cubicBezTo>
                    <a:pt x="8752" y="11931"/>
                    <a:pt x="9669" y="12848"/>
                    <a:pt x="10800" y="12848"/>
                  </a:cubicBezTo>
                  <a:cubicBezTo>
                    <a:pt x="11931" y="12848"/>
                    <a:pt x="12848" y="11931"/>
                    <a:pt x="12848" y="10800"/>
                  </a:cubicBezTo>
                  <a:cubicBezTo>
                    <a:pt x="12848" y="9669"/>
                    <a:pt x="11931" y="8752"/>
                    <a:pt x="10800" y="8752"/>
                  </a:cubicBezTo>
                  <a:cubicBezTo>
                    <a:pt x="9669" y="8752"/>
                    <a:pt x="8752" y="9669"/>
                    <a:pt x="8752" y="1080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68"/>
            <p:cNvSpPr/>
            <p:nvPr/>
          </p:nvSpPr>
          <p:spPr>
            <a:xfrm>
              <a:off x="6883920" y="5904720"/>
              <a:ext cx="668160" cy="667800"/>
            </a:xfrm>
            <a:custGeom>
              <a:avLst/>
              <a:gdLst>
                <a:gd name="textAreaLeft" fmla="*/ 97920 w 668160"/>
                <a:gd name="textAreaRight" fmla="*/ 570240 w 668160"/>
                <a:gd name="textAreaTop" fmla="*/ 97920 h 667800"/>
                <a:gd name="textAreaBottom" fmla="*/ 56988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752" y="10800"/>
                  </a:moveTo>
                  <a:cubicBezTo>
                    <a:pt x="8752" y="11931"/>
                    <a:pt x="9669" y="12848"/>
                    <a:pt x="10800" y="12848"/>
                  </a:cubicBezTo>
                  <a:cubicBezTo>
                    <a:pt x="11931" y="12848"/>
                    <a:pt x="12848" y="11931"/>
                    <a:pt x="12848" y="10800"/>
                  </a:cubicBezTo>
                  <a:cubicBezTo>
                    <a:pt x="12848" y="9669"/>
                    <a:pt x="11931" y="8752"/>
                    <a:pt x="10800" y="8752"/>
                  </a:cubicBezTo>
                  <a:cubicBezTo>
                    <a:pt x="9669" y="8752"/>
                    <a:pt x="8752" y="9669"/>
                    <a:pt x="8752" y="1080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47"/>
            <p:cNvSpPr/>
            <p:nvPr/>
          </p:nvSpPr>
          <p:spPr>
            <a:xfrm flipV="1">
              <a:off x="4413600" y="2563560"/>
              <a:ext cx="0" cy="144828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8"/>
            <p:cNvSpPr/>
            <p:nvPr/>
          </p:nvSpPr>
          <p:spPr>
            <a:xfrm flipV="1">
              <a:off x="5800680" y="2529000"/>
              <a:ext cx="0" cy="1448280"/>
            </a:xfrm>
            <a:prstGeom prst="line">
              <a:avLst/>
            </a:prstGeom>
            <a:ln w="1908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102"/>
            <p:cNvGrpSpPr/>
            <p:nvPr/>
          </p:nvGrpSpPr>
          <p:grpSpPr>
            <a:xfrm>
              <a:off x="4903560" y="4119120"/>
              <a:ext cx="384480" cy="2286360"/>
              <a:chOff x="4903560" y="4119120"/>
              <a:chExt cx="384480" cy="2286360"/>
            </a:xfrm>
          </p:grpSpPr>
          <p:sp>
            <p:nvSpPr>
              <p:cNvPr id="440" name="Line 53"/>
              <p:cNvSpPr/>
              <p:nvPr/>
            </p:nvSpPr>
            <p:spPr>
              <a:xfrm flipV="1">
                <a:off x="4903560" y="4119120"/>
                <a:ext cx="0" cy="2286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54"/>
              <p:cNvSpPr/>
              <p:nvPr/>
            </p:nvSpPr>
            <p:spPr>
              <a:xfrm flipV="1">
                <a:off x="5288040" y="4119120"/>
                <a:ext cx="0" cy="2286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Rectangle 10"/>
            <p:cNvSpPr/>
            <p:nvPr/>
          </p:nvSpPr>
          <p:spPr>
            <a:xfrm>
              <a:off x="4897440" y="3920400"/>
              <a:ext cx="77508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 Box 5"/>
          <p:cNvSpPr/>
          <p:nvPr/>
        </p:nvSpPr>
        <p:spPr>
          <a:xfrm>
            <a:off x="341280" y="590400"/>
            <a:ext cx="8315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lat Front type vehicles, differently from Front Engin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vehicles, the engine and front tyre are located below the occupant to ensure large cargo space. Therefore, d value, which expresses the positional relation between occupant and front tyre can be used to classify these two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1"/>
          <p:cNvSpPr/>
          <p:nvPr/>
        </p:nvSpPr>
        <p:spPr>
          <a:xfrm>
            <a:off x="6886440" y="5891040"/>
            <a:ext cx="660600" cy="660600"/>
          </a:xfrm>
          <a:custGeom>
            <a:avLst/>
            <a:gdLst>
              <a:gd name="textAreaLeft" fmla="*/ 96480 w 660600"/>
              <a:gd name="textAreaRight" fmla="*/ 564120 w 660600"/>
              <a:gd name="textAreaTop" fmla="*/ 96480 h 660600"/>
              <a:gd name="textAreaBottom" fmla="*/ 564120 h 66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335" y="10800"/>
                </a:moveTo>
                <a:cubicBezTo>
                  <a:pt x="4335" y="14371"/>
                  <a:pt x="7229" y="17265"/>
                  <a:pt x="10800" y="17265"/>
                </a:cubicBezTo>
                <a:cubicBezTo>
                  <a:pt x="14371" y="17265"/>
                  <a:pt x="17265" y="14371"/>
                  <a:pt x="17265" y="10800"/>
                </a:cubicBezTo>
                <a:cubicBezTo>
                  <a:pt x="17265" y="7229"/>
                  <a:pt x="14371" y="4335"/>
                  <a:pt x="10800" y="4335"/>
                </a:cubicBezTo>
                <a:cubicBezTo>
                  <a:pt x="7229" y="4335"/>
                  <a:pt x="4335" y="7229"/>
                  <a:pt x="4335" y="108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6"/>
          <p:cNvSpPr/>
          <p:nvPr/>
        </p:nvSpPr>
        <p:spPr>
          <a:xfrm>
            <a:off x="4576680" y="5902200"/>
            <a:ext cx="658800" cy="660600"/>
          </a:xfrm>
          <a:custGeom>
            <a:avLst/>
            <a:gdLst>
              <a:gd name="textAreaLeft" fmla="*/ 96480 w 658800"/>
              <a:gd name="textAreaRight" fmla="*/ 562320 w 658800"/>
              <a:gd name="textAreaTop" fmla="*/ 96480 h 660600"/>
              <a:gd name="textAreaBottom" fmla="*/ 564120 h 660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335" y="10800"/>
                </a:moveTo>
                <a:cubicBezTo>
                  <a:pt x="4335" y="14371"/>
                  <a:pt x="7229" y="17265"/>
                  <a:pt x="10800" y="17265"/>
                </a:cubicBezTo>
                <a:cubicBezTo>
                  <a:pt x="14371" y="17265"/>
                  <a:pt x="17265" y="14371"/>
                  <a:pt x="17265" y="10800"/>
                </a:cubicBezTo>
                <a:cubicBezTo>
                  <a:pt x="17265" y="7229"/>
                  <a:pt x="14371" y="4335"/>
                  <a:pt x="10800" y="4335"/>
                </a:cubicBezTo>
                <a:cubicBezTo>
                  <a:pt x="7229" y="4335"/>
                  <a:pt x="4335" y="7229"/>
                  <a:pt x="4335" y="108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264960" y="209520"/>
            <a:ext cx="727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haracteristics of Flat Front Light N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1004760" y="1698480"/>
            <a:ext cx="7567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d value: Horizontal distance between the front axle and the driver’s seat R-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8394840" y="6478560"/>
            <a:ext cx="59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A6E1-8F1B-400B-B44B-57B30EFB07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5"/>
          <p:cNvSpPr/>
          <p:nvPr/>
        </p:nvSpPr>
        <p:spPr>
          <a:xfrm>
            <a:off x="406440" y="522360"/>
            <a:ext cx="8763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mparison of d Values Between Flat Front type and Front Engine type Vehicle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5"/>
          <p:cNvSpPr/>
          <p:nvPr/>
        </p:nvSpPr>
        <p:spPr>
          <a:xfrm>
            <a:off x="358920" y="988920"/>
            <a:ext cx="86328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Front Engine type vehicles, since it is necessary to install the steering wheel, pedals, etc. between front wheel and driver’s seat, their d values need to be at least 1,100 mm even in small vehic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Flat Front type vehicles, to ensure large cargo space, it is necessary to locate the driver’s seat as forward as possible, i.e., above the engine and front wheel. Thus, their d values are no more than 1,100 m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84"/>
          <p:cNvSpPr/>
          <p:nvPr/>
        </p:nvSpPr>
        <p:spPr>
          <a:xfrm rot="21148800">
            <a:off x="2370240" y="2125800"/>
            <a:ext cx="5295960" cy="1250640"/>
          </a:xfrm>
          <a:prstGeom prst="ellipse">
            <a:avLst/>
          </a:prstGeom>
          <a:noFill/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グループ化 1"/>
          <p:cNvGrpSpPr/>
          <p:nvPr/>
        </p:nvGrpSpPr>
        <p:grpSpPr>
          <a:xfrm>
            <a:off x="276120" y="1982880"/>
            <a:ext cx="8589960" cy="4855680"/>
            <a:chOff x="276120" y="1982880"/>
            <a:chExt cx="8589960" cy="4855680"/>
          </a:xfrm>
        </p:grpSpPr>
        <p:sp>
          <p:nvSpPr>
            <p:cNvPr id="453" name="Rectangle 35"/>
            <p:cNvSpPr/>
            <p:nvPr/>
          </p:nvSpPr>
          <p:spPr>
            <a:xfrm rot="16200000">
              <a:off x="-200880" y="4173120"/>
              <a:ext cx="116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0" lang="ja-JP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value (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5"/>
            <p:cNvSpPr/>
            <p:nvPr/>
          </p:nvSpPr>
          <p:spPr>
            <a:xfrm>
              <a:off x="3890160" y="6625080"/>
              <a:ext cx="179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verall length (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249"/>
            <p:cNvGrpSpPr/>
            <p:nvPr/>
          </p:nvGrpSpPr>
          <p:grpSpPr>
            <a:xfrm>
              <a:off x="1137240" y="2633760"/>
              <a:ext cx="6998760" cy="3481920"/>
              <a:chOff x="1137240" y="2633760"/>
              <a:chExt cx="6998760" cy="3481920"/>
            </a:xfrm>
          </p:grpSpPr>
          <p:sp>
            <p:nvSpPr>
              <p:cNvPr id="456" name="Line 14"/>
              <p:cNvSpPr/>
              <p:nvPr/>
            </p:nvSpPr>
            <p:spPr>
              <a:xfrm>
                <a:off x="1137240" y="6115680"/>
                <a:ext cx="69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5"/>
              <p:cNvSpPr/>
              <p:nvPr/>
            </p:nvSpPr>
            <p:spPr>
              <a:xfrm>
                <a:off x="1137240" y="5537880"/>
                <a:ext cx="69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6"/>
              <p:cNvSpPr/>
              <p:nvPr/>
            </p:nvSpPr>
            <p:spPr>
              <a:xfrm>
                <a:off x="1137240" y="4952160"/>
                <a:ext cx="69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7"/>
              <p:cNvSpPr/>
              <p:nvPr/>
            </p:nvSpPr>
            <p:spPr>
              <a:xfrm>
                <a:off x="1137240" y="4374360"/>
                <a:ext cx="69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8"/>
              <p:cNvSpPr/>
              <p:nvPr/>
            </p:nvSpPr>
            <p:spPr>
              <a:xfrm>
                <a:off x="1137240" y="3796920"/>
                <a:ext cx="69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9"/>
              <p:cNvSpPr/>
              <p:nvPr/>
            </p:nvSpPr>
            <p:spPr>
              <a:xfrm>
                <a:off x="1137240" y="3219120"/>
                <a:ext cx="69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0"/>
              <p:cNvSpPr/>
              <p:nvPr/>
            </p:nvSpPr>
            <p:spPr>
              <a:xfrm>
                <a:off x="1137240" y="2633760"/>
                <a:ext cx="699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Rectangle 22"/>
            <p:cNvSpPr/>
            <p:nvPr/>
          </p:nvSpPr>
          <p:spPr>
            <a:xfrm>
              <a:off x="1137240" y="2055600"/>
              <a:ext cx="6999120" cy="433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248"/>
            <p:cNvGrpSpPr/>
            <p:nvPr/>
          </p:nvGrpSpPr>
          <p:grpSpPr>
            <a:xfrm>
              <a:off x="2084040" y="2054160"/>
              <a:ext cx="5647680" cy="4309920"/>
              <a:chOff x="2084040" y="2054160"/>
              <a:chExt cx="5647680" cy="4309920"/>
            </a:xfrm>
          </p:grpSpPr>
          <p:sp>
            <p:nvSpPr>
              <p:cNvPr id="465" name="Line 34"/>
              <p:cNvSpPr/>
              <p:nvPr/>
            </p:nvSpPr>
            <p:spPr>
              <a:xfrm flipV="1">
                <a:off x="2084040" y="2054160"/>
                <a:ext cx="0" cy="430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35"/>
              <p:cNvSpPr/>
              <p:nvPr/>
            </p:nvSpPr>
            <p:spPr>
              <a:xfrm flipV="1">
                <a:off x="3218400" y="2054160"/>
                <a:ext cx="0" cy="430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36"/>
              <p:cNvSpPr/>
              <p:nvPr/>
            </p:nvSpPr>
            <p:spPr>
              <a:xfrm flipV="1">
                <a:off x="4340520" y="2054160"/>
                <a:ext cx="0" cy="430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37"/>
              <p:cNvSpPr/>
              <p:nvPr/>
            </p:nvSpPr>
            <p:spPr>
              <a:xfrm flipV="1">
                <a:off x="5474880" y="2054160"/>
                <a:ext cx="0" cy="430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38"/>
              <p:cNvSpPr/>
              <p:nvPr/>
            </p:nvSpPr>
            <p:spPr>
              <a:xfrm flipV="1">
                <a:off x="6597360" y="2054160"/>
                <a:ext cx="0" cy="430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7731720" y="2054160"/>
                <a:ext cx="0" cy="430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263"/>
            <p:cNvGrpSpPr/>
            <p:nvPr/>
          </p:nvGrpSpPr>
          <p:grpSpPr>
            <a:xfrm>
              <a:off x="2944800" y="2134800"/>
              <a:ext cx="4462560" cy="991800"/>
              <a:chOff x="2944800" y="2134800"/>
              <a:chExt cx="4462560" cy="991800"/>
            </a:xfrm>
          </p:grpSpPr>
          <p:sp>
            <p:nvSpPr>
              <p:cNvPr id="472" name="Oval 42"/>
              <p:cNvSpPr/>
              <p:nvPr/>
            </p:nvSpPr>
            <p:spPr>
              <a:xfrm>
                <a:off x="2944800" y="28677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43"/>
              <p:cNvSpPr/>
              <p:nvPr/>
            </p:nvSpPr>
            <p:spPr>
              <a:xfrm>
                <a:off x="3161520" y="30333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4"/>
              <p:cNvSpPr/>
              <p:nvPr/>
            </p:nvSpPr>
            <p:spPr>
              <a:xfrm>
                <a:off x="3258000" y="2933280"/>
                <a:ext cx="81000" cy="77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5"/>
              <p:cNvSpPr/>
              <p:nvPr/>
            </p:nvSpPr>
            <p:spPr>
              <a:xfrm>
                <a:off x="3306600" y="3024000"/>
                <a:ext cx="81000" cy="77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6"/>
              <p:cNvSpPr/>
              <p:nvPr/>
            </p:nvSpPr>
            <p:spPr>
              <a:xfrm>
                <a:off x="3379680" y="28843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47"/>
              <p:cNvSpPr/>
              <p:nvPr/>
            </p:nvSpPr>
            <p:spPr>
              <a:xfrm>
                <a:off x="3439080" y="2563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48"/>
              <p:cNvSpPr/>
              <p:nvPr/>
            </p:nvSpPr>
            <p:spPr>
              <a:xfrm>
                <a:off x="3439080" y="2563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49"/>
              <p:cNvSpPr/>
              <p:nvPr/>
            </p:nvSpPr>
            <p:spPr>
              <a:xfrm>
                <a:off x="3474720" y="29257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50"/>
              <p:cNvSpPr/>
              <p:nvPr/>
            </p:nvSpPr>
            <p:spPr>
              <a:xfrm>
                <a:off x="3596400" y="28929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51"/>
              <p:cNvSpPr/>
              <p:nvPr/>
            </p:nvSpPr>
            <p:spPr>
              <a:xfrm>
                <a:off x="3632760" y="30495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52"/>
              <p:cNvSpPr/>
              <p:nvPr/>
            </p:nvSpPr>
            <p:spPr>
              <a:xfrm>
                <a:off x="3632760" y="29095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53"/>
              <p:cNvSpPr/>
              <p:nvPr/>
            </p:nvSpPr>
            <p:spPr>
              <a:xfrm>
                <a:off x="3645000" y="29498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54"/>
              <p:cNvSpPr/>
              <p:nvPr/>
            </p:nvSpPr>
            <p:spPr>
              <a:xfrm>
                <a:off x="3680640" y="2933280"/>
                <a:ext cx="81000" cy="77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55"/>
              <p:cNvSpPr/>
              <p:nvPr/>
            </p:nvSpPr>
            <p:spPr>
              <a:xfrm>
                <a:off x="3729240" y="2933280"/>
                <a:ext cx="81000" cy="77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3729240" y="29257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3741480" y="28677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3752640" y="29095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59"/>
              <p:cNvSpPr/>
              <p:nvPr/>
            </p:nvSpPr>
            <p:spPr>
              <a:xfrm>
                <a:off x="3790080" y="29095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60"/>
              <p:cNvSpPr/>
              <p:nvPr/>
            </p:nvSpPr>
            <p:spPr>
              <a:xfrm>
                <a:off x="3790080" y="29005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61"/>
              <p:cNvSpPr/>
              <p:nvPr/>
            </p:nvSpPr>
            <p:spPr>
              <a:xfrm>
                <a:off x="3790080" y="28602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62"/>
              <p:cNvSpPr/>
              <p:nvPr/>
            </p:nvSpPr>
            <p:spPr>
              <a:xfrm>
                <a:off x="3874320" y="28767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63"/>
              <p:cNvSpPr/>
              <p:nvPr/>
            </p:nvSpPr>
            <p:spPr>
              <a:xfrm>
                <a:off x="3945960" y="27766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64"/>
              <p:cNvSpPr/>
              <p:nvPr/>
            </p:nvSpPr>
            <p:spPr>
              <a:xfrm>
                <a:off x="3945960" y="27111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65"/>
              <p:cNvSpPr/>
              <p:nvPr/>
            </p:nvSpPr>
            <p:spPr>
              <a:xfrm>
                <a:off x="3994560" y="28767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66"/>
              <p:cNvSpPr/>
              <p:nvPr/>
            </p:nvSpPr>
            <p:spPr>
              <a:xfrm>
                <a:off x="3994560" y="28184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67"/>
              <p:cNvSpPr/>
              <p:nvPr/>
            </p:nvSpPr>
            <p:spPr>
              <a:xfrm>
                <a:off x="4030200" y="28184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68"/>
              <p:cNvSpPr/>
              <p:nvPr/>
            </p:nvSpPr>
            <p:spPr>
              <a:xfrm>
                <a:off x="4030200" y="28184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69"/>
              <p:cNvSpPr/>
              <p:nvPr/>
            </p:nvSpPr>
            <p:spPr>
              <a:xfrm>
                <a:off x="4030200" y="2793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70"/>
              <p:cNvSpPr/>
              <p:nvPr/>
            </p:nvSpPr>
            <p:spPr>
              <a:xfrm>
                <a:off x="4030200" y="2793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71"/>
              <p:cNvSpPr/>
              <p:nvPr/>
            </p:nvSpPr>
            <p:spPr>
              <a:xfrm>
                <a:off x="4030200" y="27766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72"/>
              <p:cNvSpPr/>
              <p:nvPr/>
            </p:nvSpPr>
            <p:spPr>
              <a:xfrm>
                <a:off x="4067640" y="3024000"/>
                <a:ext cx="81000" cy="77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73"/>
              <p:cNvSpPr/>
              <p:nvPr/>
            </p:nvSpPr>
            <p:spPr>
              <a:xfrm>
                <a:off x="4067640" y="30168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4067640" y="29836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4067640" y="27691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4259520" y="29422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77"/>
              <p:cNvSpPr/>
              <p:nvPr/>
            </p:nvSpPr>
            <p:spPr>
              <a:xfrm>
                <a:off x="4259520" y="28274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78"/>
              <p:cNvSpPr/>
              <p:nvPr/>
            </p:nvSpPr>
            <p:spPr>
              <a:xfrm>
                <a:off x="4272120" y="28274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79"/>
              <p:cNvSpPr/>
              <p:nvPr/>
            </p:nvSpPr>
            <p:spPr>
              <a:xfrm>
                <a:off x="4513680" y="30405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80"/>
              <p:cNvSpPr/>
              <p:nvPr/>
            </p:nvSpPr>
            <p:spPr>
              <a:xfrm>
                <a:off x="4513680" y="28602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81"/>
              <p:cNvSpPr/>
              <p:nvPr/>
            </p:nvSpPr>
            <p:spPr>
              <a:xfrm>
                <a:off x="4597920" y="27766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82"/>
              <p:cNvSpPr/>
              <p:nvPr/>
            </p:nvSpPr>
            <p:spPr>
              <a:xfrm>
                <a:off x="4597920" y="27691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83"/>
              <p:cNvSpPr/>
              <p:nvPr/>
            </p:nvSpPr>
            <p:spPr>
              <a:xfrm>
                <a:off x="4669560" y="26949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84"/>
              <p:cNvSpPr/>
              <p:nvPr/>
            </p:nvSpPr>
            <p:spPr>
              <a:xfrm>
                <a:off x="4694760" y="29674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85"/>
              <p:cNvSpPr/>
              <p:nvPr/>
            </p:nvSpPr>
            <p:spPr>
              <a:xfrm>
                <a:off x="4707360" y="28184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86"/>
              <p:cNvSpPr/>
              <p:nvPr/>
            </p:nvSpPr>
            <p:spPr>
              <a:xfrm>
                <a:off x="4707360" y="28184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87"/>
              <p:cNvSpPr/>
              <p:nvPr/>
            </p:nvSpPr>
            <p:spPr>
              <a:xfrm>
                <a:off x="4755600" y="2793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88"/>
              <p:cNvSpPr/>
              <p:nvPr/>
            </p:nvSpPr>
            <p:spPr>
              <a:xfrm>
                <a:off x="4766760" y="27111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89"/>
              <p:cNvSpPr/>
              <p:nvPr/>
            </p:nvSpPr>
            <p:spPr>
              <a:xfrm>
                <a:off x="4766760" y="2793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0"/>
              <p:cNvSpPr/>
              <p:nvPr/>
            </p:nvSpPr>
            <p:spPr>
              <a:xfrm>
                <a:off x="4839840" y="27604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91"/>
              <p:cNvSpPr/>
              <p:nvPr/>
            </p:nvSpPr>
            <p:spPr>
              <a:xfrm>
                <a:off x="4839840" y="27691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92"/>
              <p:cNvSpPr/>
              <p:nvPr/>
            </p:nvSpPr>
            <p:spPr>
              <a:xfrm>
                <a:off x="4863240" y="27277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93"/>
              <p:cNvSpPr/>
              <p:nvPr/>
            </p:nvSpPr>
            <p:spPr>
              <a:xfrm>
                <a:off x="4888080" y="28767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94"/>
              <p:cNvSpPr/>
              <p:nvPr/>
            </p:nvSpPr>
            <p:spPr>
              <a:xfrm>
                <a:off x="4911840" y="27111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95"/>
              <p:cNvSpPr/>
              <p:nvPr/>
            </p:nvSpPr>
            <p:spPr>
              <a:xfrm>
                <a:off x="4995720" y="27201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96"/>
              <p:cNvSpPr/>
              <p:nvPr/>
            </p:nvSpPr>
            <p:spPr>
              <a:xfrm>
                <a:off x="5033520" y="27691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97"/>
              <p:cNvSpPr/>
              <p:nvPr/>
            </p:nvSpPr>
            <p:spPr>
              <a:xfrm>
                <a:off x="5056560" y="26200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98"/>
              <p:cNvSpPr/>
              <p:nvPr/>
            </p:nvSpPr>
            <p:spPr>
              <a:xfrm>
                <a:off x="5056560" y="26200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99"/>
              <p:cNvSpPr/>
              <p:nvPr/>
            </p:nvSpPr>
            <p:spPr>
              <a:xfrm>
                <a:off x="5104800" y="28440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00"/>
              <p:cNvSpPr/>
              <p:nvPr/>
            </p:nvSpPr>
            <p:spPr>
              <a:xfrm>
                <a:off x="5104800" y="28018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01"/>
              <p:cNvSpPr/>
              <p:nvPr/>
            </p:nvSpPr>
            <p:spPr>
              <a:xfrm>
                <a:off x="5140800" y="29257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102"/>
              <p:cNvSpPr/>
              <p:nvPr/>
            </p:nvSpPr>
            <p:spPr>
              <a:xfrm>
                <a:off x="5140800" y="28929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03"/>
              <p:cNvSpPr/>
              <p:nvPr/>
            </p:nvSpPr>
            <p:spPr>
              <a:xfrm>
                <a:off x="5165640" y="2809440"/>
                <a:ext cx="81000" cy="77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04"/>
              <p:cNvSpPr/>
              <p:nvPr/>
            </p:nvSpPr>
            <p:spPr>
              <a:xfrm>
                <a:off x="5176440" y="2793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105"/>
              <p:cNvSpPr/>
              <p:nvPr/>
            </p:nvSpPr>
            <p:spPr>
              <a:xfrm>
                <a:off x="5189400" y="30333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106"/>
              <p:cNvSpPr/>
              <p:nvPr/>
            </p:nvSpPr>
            <p:spPr>
              <a:xfrm>
                <a:off x="5225040" y="26366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107"/>
              <p:cNvSpPr/>
              <p:nvPr/>
            </p:nvSpPr>
            <p:spPr>
              <a:xfrm>
                <a:off x="5250240" y="28602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108"/>
              <p:cNvSpPr/>
              <p:nvPr/>
            </p:nvSpPr>
            <p:spPr>
              <a:xfrm>
                <a:off x="5285880" y="28018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109"/>
              <p:cNvSpPr/>
              <p:nvPr/>
            </p:nvSpPr>
            <p:spPr>
              <a:xfrm>
                <a:off x="5285880" y="27856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110"/>
              <p:cNvSpPr/>
              <p:nvPr/>
            </p:nvSpPr>
            <p:spPr>
              <a:xfrm>
                <a:off x="5285880" y="2743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111"/>
              <p:cNvSpPr/>
              <p:nvPr/>
            </p:nvSpPr>
            <p:spPr>
              <a:xfrm>
                <a:off x="5321520" y="27766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112"/>
              <p:cNvSpPr/>
              <p:nvPr/>
            </p:nvSpPr>
            <p:spPr>
              <a:xfrm>
                <a:off x="5321520" y="27766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13"/>
              <p:cNvSpPr/>
              <p:nvPr/>
            </p:nvSpPr>
            <p:spPr>
              <a:xfrm>
                <a:off x="5321520" y="2752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114"/>
              <p:cNvSpPr/>
              <p:nvPr/>
            </p:nvSpPr>
            <p:spPr>
              <a:xfrm>
                <a:off x="5321520" y="2752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Oval 115"/>
              <p:cNvSpPr/>
              <p:nvPr/>
            </p:nvSpPr>
            <p:spPr>
              <a:xfrm>
                <a:off x="5370120" y="27277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16"/>
              <p:cNvSpPr/>
              <p:nvPr/>
            </p:nvSpPr>
            <p:spPr>
              <a:xfrm>
                <a:off x="5382360" y="26200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117"/>
              <p:cNvSpPr/>
              <p:nvPr/>
            </p:nvSpPr>
            <p:spPr>
              <a:xfrm>
                <a:off x="5395320" y="26622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118"/>
              <p:cNvSpPr/>
              <p:nvPr/>
            </p:nvSpPr>
            <p:spPr>
              <a:xfrm>
                <a:off x="5395320" y="2545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19"/>
              <p:cNvSpPr/>
              <p:nvPr/>
            </p:nvSpPr>
            <p:spPr>
              <a:xfrm>
                <a:off x="5406120" y="28018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20"/>
              <p:cNvSpPr/>
              <p:nvPr/>
            </p:nvSpPr>
            <p:spPr>
              <a:xfrm>
                <a:off x="5418720" y="26038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21"/>
              <p:cNvSpPr/>
              <p:nvPr/>
            </p:nvSpPr>
            <p:spPr>
              <a:xfrm>
                <a:off x="5430960" y="2743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22"/>
              <p:cNvSpPr/>
              <p:nvPr/>
            </p:nvSpPr>
            <p:spPr>
              <a:xfrm>
                <a:off x="5454360" y="26694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123"/>
              <p:cNvSpPr/>
              <p:nvPr/>
            </p:nvSpPr>
            <p:spPr>
              <a:xfrm>
                <a:off x="5479560" y="26949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124"/>
              <p:cNvSpPr/>
              <p:nvPr/>
            </p:nvSpPr>
            <p:spPr>
              <a:xfrm>
                <a:off x="5479560" y="26874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5"/>
              <p:cNvSpPr/>
              <p:nvPr/>
            </p:nvSpPr>
            <p:spPr>
              <a:xfrm>
                <a:off x="5491800" y="21837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26"/>
              <p:cNvSpPr/>
              <p:nvPr/>
            </p:nvSpPr>
            <p:spPr>
              <a:xfrm>
                <a:off x="5491800" y="2793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127"/>
              <p:cNvSpPr/>
              <p:nvPr/>
            </p:nvSpPr>
            <p:spPr>
              <a:xfrm>
                <a:off x="5491800" y="26622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Oval 128"/>
              <p:cNvSpPr/>
              <p:nvPr/>
            </p:nvSpPr>
            <p:spPr>
              <a:xfrm>
                <a:off x="5491800" y="26200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Oval 129"/>
              <p:cNvSpPr/>
              <p:nvPr/>
            </p:nvSpPr>
            <p:spPr>
              <a:xfrm>
                <a:off x="5527440" y="2752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130"/>
              <p:cNvSpPr/>
              <p:nvPr/>
            </p:nvSpPr>
            <p:spPr>
              <a:xfrm>
                <a:off x="5538600" y="26874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31"/>
              <p:cNvSpPr/>
              <p:nvPr/>
            </p:nvSpPr>
            <p:spPr>
              <a:xfrm>
                <a:off x="5551200" y="29422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32"/>
              <p:cNvSpPr/>
              <p:nvPr/>
            </p:nvSpPr>
            <p:spPr>
              <a:xfrm>
                <a:off x="5551200" y="26128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133"/>
              <p:cNvSpPr/>
              <p:nvPr/>
            </p:nvSpPr>
            <p:spPr>
              <a:xfrm>
                <a:off x="5563440" y="27691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134"/>
              <p:cNvSpPr/>
              <p:nvPr/>
            </p:nvSpPr>
            <p:spPr>
              <a:xfrm>
                <a:off x="5576040" y="27363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Oval 135"/>
              <p:cNvSpPr/>
              <p:nvPr/>
            </p:nvSpPr>
            <p:spPr>
              <a:xfrm>
                <a:off x="5576040" y="2545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Oval 136"/>
              <p:cNvSpPr/>
              <p:nvPr/>
            </p:nvSpPr>
            <p:spPr>
              <a:xfrm>
                <a:off x="5576040" y="2545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137"/>
              <p:cNvSpPr/>
              <p:nvPr/>
            </p:nvSpPr>
            <p:spPr>
              <a:xfrm>
                <a:off x="5576040" y="2545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138"/>
              <p:cNvSpPr/>
              <p:nvPr/>
            </p:nvSpPr>
            <p:spPr>
              <a:xfrm>
                <a:off x="5576040" y="25218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139"/>
              <p:cNvSpPr/>
              <p:nvPr/>
            </p:nvSpPr>
            <p:spPr>
              <a:xfrm>
                <a:off x="5599440" y="27363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140"/>
              <p:cNvSpPr/>
              <p:nvPr/>
            </p:nvSpPr>
            <p:spPr>
              <a:xfrm>
                <a:off x="5599440" y="26038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141"/>
              <p:cNvSpPr/>
              <p:nvPr/>
            </p:nvSpPr>
            <p:spPr>
              <a:xfrm>
                <a:off x="5599440" y="26784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142"/>
              <p:cNvSpPr/>
              <p:nvPr/>
            </p:nvSpPr>
            <p:spPr>
              <a:xfrm>
                <a:off x="5624280" y="27604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143"/>
              <p:cNvSpPr/>
              <p:nvPr/>
            </p:nvSpPr>
            <p:spPr>
              <a:xfrm>
                <a:off x="5624280" y="24055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144"/>
              <p:cNvSpPr/>
              <p:nvPr/>
            </p:nvSpPr>
            <p:spPr>
              <a:xfrm>
                <a:off x="5635440" y="25801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145"/>
              <p:cNvSpPr/>
              <p:nvPr/>
            </p:nvSpPr>
            <p:spPr>
              <a:xfrm>
                <a:off x="5635440" y="27604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146"/>
              <p:cNvSpPr/>
              <p:nvPr/>
            </p:nvSpPr>
            <p:spPr>
              <a:xfrm>
                <a:off x="5660280" y="28677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Oval 147"/>
              <p:cNvSpPr/>
              <p:nvPr/>
            </p:nvSpPr>
            <p:spPr>
              <a:xfrm>
                <a:off x="5660280" y="2752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148"/>
              <p:cNvSpPr/>
              <p:nvPr/>
            </p:nvSpPr>
            <p:spPr>
              <a:xfrm>
                <a:off x="5696280" y="25545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Oval 149"/>
              <p:cNvSpPr/>
              <p:nvPr/>
            </p:nvSpPr>
            <p:spPr>
              <a:xfrm>
                <a:off x="5708520" y="28350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150"/>
              <p:cNvSpPr/>
              <p:nvPr/>
            </p:nvSpPr>
            <p:spPr>
              <a:xfrm>
                <a:off x="5708520" y="26949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151"/>
              <p:cNvSpPr/>
              <p:nvPr/>
            </p:nvSpPr>
            <p:spPr>
              <a:xfrm>
                <a:off x="5731920" y="28440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152"/>
              <p:cNvSpPr/>
              <p:nvPr/>
            </p:nvSpPr>
            <p:spPr>
              <a:xfrm>
                <a:off x="5731920" y="26366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153"/>
              <p:cNvSpPr/>
              <p:nvPr/>
            </p:nvSpPr>
            <p:spPr>
              <a:xfrm>
                <a:off x="5767920" y="26949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154"/>
              <p:cNvSpPr/>
              <p:nvPr/>
            </p:nvSpPr>
            <p:spPr>
              <a:xfrm>
                <a:off x="5780520" y="26694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155"/>
              <p:cNvSpPr/>
              <p:nvPr/>
            </p:nvSpPr>
            <p:spPr>
              <a:xfrm>
                <a:off x="5792760" y="26366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156"/>
              <p:cNvSpPr/>
              <p:nvPr/>
            </p:nvSpPr>
            <p:spPr>
              <a:xfrm>
                <a:off x="5792760" y="28929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57"/>
              <p:cNvSpPr/>
              <p:nvPr/>
            </p:nvSpPr>
            <p:spPr>
              <a:xfrm>
                <a:off x="5816160" y="25873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58"/>
              <p:cNvSpPr/>
              <p:nvPr/>
            </p:nvSpPr>
            <p:spPr>
              <a:xfrm>
                <a:off x="5816160" y="25383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59"/>
              <p:cNvSpPr/>
              <p:nvPr/>
            </p:nvSpPr>
            <p:spPr>
              <a:xfrm>
                <a:off x="5841360" y="28350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60"/>
              <p:cNvSpPr/>
              <p:nvPr/>
            </p:nvSpPr>
            <p:spPr>
              <a:xfrm>
                <a:off x="5853600" y="3024000"/>
                <a:ext cx="81000" cy="77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161"/>
              <p:cNvSpPr/>
              <p:nvPr/>
            </p:nvSpPr>
            <p:spPr>
              <a:xfrm>
                <a:off x="5853600" y="26622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162"/>
              <p:cNvSpPr/>
              <p:nvPr/>
            </p:nvSpPr>
            <p:spPr>
              <a:xfrm>
                <a:off x="5864760" y="27604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Oval 163"/>
              <p:cNvSpPr/>
              <p:nvPr/>
            </p:nvSpPr>
            <p:spPr>
              <a:xfrm>
                <a:off x="5864760" y="27277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64"/>
              <p:cNvSpPr/>
              <p:nvPr/>
            </p:nvSpPr>
            <p:spPr>
              <a:xfrm>
                <a:off x="5902200" y="27604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65"/>
              <p:cNvSpPr/>
              <p:nvPr/>
            </p:nvSpPr>
            <p:spPr>
              <a:xfrm>
                <a:off x="5913000" y="24235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166"/>
              <p:cNvSpPr/>
              <p:nvPr/>
            </p:nvSpPr>
            <p:spPr>
              <a:xfrm>
                <a:off x="5937840" y="28350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167"/>
              <p:cNvSpPr/>
              <p:nvPr/>
            </p:nvSpPr>
            <p:spPr>
              <a:xfrm>
                <a:off x="5937840" y="22417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8"/>
              <p:cNvSpPr/>
              <p:nvPr/>
            </p:nvSpPr>
            <p:spPr>
              <a:xfrm>
                <a:off x="5937840" y="28350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69"/>
              <p:cNvSpPr/>
              <p:nvPr/>
            </p:nvSpPr>
            <p:spPr>
              <a:xfrm>
                <a:off x="5950440" y="2545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70"/>
              <p:cNvSpPr/>
              <p:nvPr/>
            </p:nvSpPr>
            <p:spPr>
              <a:xfrm>
                <a:off x="5986440" y="21510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Oval 171"/>
              <p:cNvSpPr/>
              <p:nvPr/>
            </p:nvSpPr>
            <p:spPr>
              <a:xfrm>
                <a:off x="5997240" y="254592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172"/>
              <p:cNvSpPr/>
              <p:nvPr/>
            </p:nvSpPr>
            <p:spPr>
              <a:xfrm>
                <a:off x="5997240" y="2307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73"/>
              <p:cNvSpPr/>
              <p:nvPr/>
            </p:nvSpPr>
            <p:spPr>
              <a:xfrm>
                <a:off x="5997240" y="2307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74"/>
              <p:cNvSpPr/>
              <p:nvPr/>
            </p:nvSpPr>
            <p:spPr>
              <a:xfrm>
                <a:off x="6009480" y="26456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75"/>
              <p:cNvSpPr/>
              <p:nvPr/>
            </p:nvSpPr>
            <p:spPr>
              <a:xfrm>
                <a:off x="6009480" y="26366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176"/>
              <p:cNvSpPr/>
              <p:nvPr/>
            </p:nvSpPr>
            <p:spPr>
              <a:xfrm>
                <a:off x="6009480" y="25545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177"/>
              <p:cNvSpPr/>
              <p:nvPr/>
            </p:nvSpPr>
            <p:spPr>
              <a:xfrm>
                <a:off x="6022080" y="24966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178"/>
              <p:cNvSpPr/>
              <p:nvPr/>
            </p:nvSpPr>
            <p:spPr>
              <a:xfrm>
                <a:off x="6034680" y="26200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179"/>
              <p:cNvSpPr/>
              <p:nvPr/>
            </p:nvSpPr>
            <p:spPr>
              <a:xfrm>
                <a:off x="6093720" y="30405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180"/>
              <p:cNvSpPr/>
              <p:nvPr/>
            </p:nvSpPr>
            <p:spPr>
              <a:xfrm>
                <a:off x="6142320" y="25383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181"/>
              <p:cNvSpPr/>
              <p:nvPr/>
            </p:nvSpPr>
            <p:spPr>
              <a:xfrm>
                <a:off x="6179760" y="22744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82"/>
              <p:cNvSpPr/>
              <p:nvPr/>
            </p:nvSpPr>
            <p:spPr>
              <a:xfrm>
                <a:off x="6190560" y="24476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183"/>
              <p:cNvSpPr/>
              <p:nvPr/>
            </p:nvSpPr>
            <p:spPr>
              <a:xfrm>
                <a:off x="6383880" y="25218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184"/>
              <p:cNvSpPr/>
              <p:nvPr/>
            </p:nvSpPr>
            <p:spPr>
              <a:xfrm>
                <a:off x="6383880" y="25218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185"/>
              <p:cNvSpPr/>
              <p:nvPr/>
            </p:nvSpPr>
            <p:spPr>
              <a:xfrm>
                <a:off x="6419880" y="21348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86"/>
              <p:cNvSpPr/>
              <p:nvPr/>
            </p:nvSpPr>
            <p:spPr>
              <a:xfrm>
                <a:off x="6830280" y="26622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187"/>
              <p:cNvSpPr/>
              <p:nvPr/>
            </p:nvSpPr>
            <p:spPr>
              <a:xfrm>
                <a:off x="6830280" y="26622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88"/>
              <p:cNvSpPr/>
              <p:nvPr/>
            </p:nvSpPr>
            <p:spPr>
              <a:xfrm>
                <a:off x="6926760" y="253836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189"/>
              <p:cNvSpPr/>
              <p:nvPr/>
            </p:nvSpPr>
            <p:spPr>
              <a:xfrm>
                <a:off x="7036200" y="23238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190"/>
              <p:cNvSpPr/>
              <p:nvPr/>
            </p:nvSpPr>
            <p:spPr>
              <a:xfrm>
                <a:off x="7036200" y="230724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Oval 191"/>
              <p:cNvSpPr/>
              <p:nvPr/>
            </p:nvSpPr>
            <p:spPr>
              <a:xfrm>
                <a:off x="7120440" y="232380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192"/>
              <p:cNvSpPr/>
              <p:nvPr/>
            </p:nvSpPr>
            <p:spPr>
              <a:xfrm>
                <a:off x="7326360" y="2456280"/>
                <a:ext cx="81000" cy="770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264"/>
            <p:cNvGrpSpPr/>
            <p:nvPr/>
          </p:nvGrpSpPr>
          <p:grpSpPr>
            <a:xfrm>
              <a:off x="1357200" y="2658960"/>
              <a:ext cx="738720" cy="518040"/>
              <a:chOff x="1357200" y="2658960"/>
              <a:chExt cx="738720" cy="518040"/>
            </a:xfrm>
          </p:grpSpPr>
          <p:sp>
            <p:nvSpPr>
              <p:cNvPr id="624" name="Oval 193"/>
              <p:cNvSpPr/>
              <p:nvPr/>
            </p:nvSpPr>
            <p:spPr>
              <a:xfrm>
                <a:off x="1357200" y="3105720"/>
                <a:ext cx="74880" cy="71280"/>
              </a:xfrm>
              <a:prstGeom prst="ellipse">
                <a:avLst/>
              </a:prstGeom>
              <a:solidFill>
                <a:srgbClr val="ff00ff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Oval 194"/>
              <p:cNvSpPr/>
              <p:nvPr/>
            </p:nvSpPr>
            <p:spPr>
              <a:xfrm>
                <a:off x="2021040" y="2658960"/>
                <a:ext cx="74880" cy="71280"/>
              </a:xfrm>
              <a:prstGeom prst="ellipse">
                <a:avLst/>
              </a:prstGeom>
              <a:solidFill>
                <a:srgbClr val="ff00ff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265"/>
            <p:cNvGrpSpPr/>
            <p:nvPr/>
          </p:nvGrpSpPr>
          <p:grpSpPr>
            <a:xfrm>
              <a:off x="2944800" y="2928960"/>
              <a:ext cx="77760" cy="312480"/>
              <a:chOff x="2944800" y="2928960"/>
              <a:chExt cx="77760" cy="312480"/>
            </a:xfrm>
          </p:grpSpPr>
          <p:sp>
            <p:nvSpPr>
              <p:cNvPr id="627" name="Oval 196"/>
              <p:cNvSpPr/>
              <p:nvPr/>
            </p:nvSpPr>
            <p:spPr>
              <a:xfrm>
                <a:off x="2944800" y="3142080"/>
                <a:ext cx="77760" cy="7416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Oval 200"/>
              <p:cNvSpPr/>
              <p:nvPr/>
            </p:nvSpPr>
            <p:spPr>
              <a:xfrm>
                <a:off x="2944800" y="2928960"/>
                <a:ext cx="77760" cy="7416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Oval 204"/>
              <p:cNvSpPr/>
              <p:nvPr/>
            </p:nvSpPr>
            <p:spPr>
              <a:xfrm>
                <a:off x="2944800" y="3167280"/>
                <a:ext cx="77760" cy="7416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val 205"/>
              <p:cNvSpPr/>
              <p:nvPr/>
            </p:nvSpPr>
            <p:spPr>
              <a:xfrm>
                <a:off x="2944800" y="3027240"/>
                <a:ext cx="77760" cy="7452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262"/>
            <p:cNvGrpSpPr/>
            <p:nvPr/>
          </p:nvGrpSpPr>
          <p:grpSpPr>
            <a:xfrm>
              <a:off x="2926080" y="3815280"/>
              <a:ext cx="3385800" cy="2401200"/>
              <a:chOff x="2926080" y="3815280"/>
              <a:chExt cx="3385800" cy="2401200"/>
            </a:xfrm>
          </p:grpSpPr>
          <p:sp>
            <p:nvSpPr>
              <p:cNvPr id="632" name="AutoShape 195"/>
              <p:cNvSpPr/>
              <p:nvPr/>
            </p:nvSpPr>
            <p:spPr>
              <a:xfrm>
                <a:off x="2926080" y="450036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197"/>
              <p:cNvSpPr/>
              <p:nvPr/>
            </p:nvSpPr>
            <p:spPr>
              <a:xfrm>
                <a:off x="2926080" y="438408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198"/>
              <p:cNvSpPr/>
              <p:nvPr/>
            </p:nvSpPr>
            <p:spPr>
              <a:xfrm>
                <a:off x="2926080" y="578016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199"/>
              <p:cNvSpPr/>
              <p:nvPr/>
            </p:nvSpPr>
            <p:spPr>
              <a:xfrm>
                <a:off x="2926080" y="421128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201"/>
              <p:cNvSpPr/>
              <p:nvPr/>
            </p:nvSpPr>
            <p:spPr>
              <a:xfrm>
                <a:off x="2926080" y="588744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202"/>
              <p:cNvSpPr/>
              <p:nvPr/>
            </p:nvSpPr>
            <p:spPr>
              <a:xfrm>
                <a:off x="2926080" y="582948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203"/>
              <p:cNvSpPr/>
              <p:nvPr/>
            </p:nvSpPr>
            <p:spPr>
              <a:xfrm>
                <a:off x="2926080" y="394740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206"/>
              <p:cNvSpPr/>
              <p:nvPr/>
            </p:nvSpPr>
            <p:spPr>
              <a:xfrm>
                <a:off x="2926080" y="410400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207"/>
              <p:cNvSpPr/>
              <p:nvPr/>
            </p:nvSpPr>
            <p:spPr>
              <a:xfrm>
                <a:off x="2926080" y="427680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208"/>
              <p:cNvSpPr/>
              <p:nvPr/>
            </p:nvSpPr>
            <p:spPr>
              <a:xfrm>
                <a:off x="5050440" y="596952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209"/>
              <p:cNvSpPr/>
              <p:nvPr/>
            </p:nvSpPr>
            <p:spPr>
              <a:xfrm>
                <a:off x="4941000" y="591120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210"/>
              <p:cNvSpPr/>
              <p:nvPr/>
            </p:nvSpPr>
            <p:spPr>
              <a:xfrm>
                <a:off x="4917600" y="393120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211"/>
              <p:cNvSpPr/>
              <p:nvPr/>
            </p:nvSpPr>
            <p:spPr>
              <a:xfrm>
                <a:off x="4398120" y="381528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213"/>
              <p:cNvSpPr/>
              <p:nvPr/>
            </p:nvSpPr>
            <p:spPr>
              <a:xfrm>
                <a:off x="5653800" y="596952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214"/>
              <p:cNvSpPr/>
              <p:nvPr/>
            </p:nvSpPr>
            <p:spPr>
              <a:xfrm>
                <a:off x="6209280" y="611820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215"/>
              <p:cNvSpPr/>
              <p:nvPr/>
            </p:nvSpPr>
            <p:spPr>
              <a:xfrm>
                <a:off x="5858280" y="588744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216"/>
              <p:cNvSpPr/>
              <p:nvPr/>
            </p:nvSpPr>
            <p:spPr>
              <a:xfrm>
                <a:off x="5858280" y="587088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217"/>
              <p:cNvSpPr/>
              <p:nvPr/>
            </p:nvSpPr>
            <p:spPr>
              <a:xfrm>
                <a:off x="3939840" y="402948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218"/>
              <p:cNvSpPr/>
              <p:nvPr/>
            </p:nvSpPr>
            <p:spPr>
              <a:xfrm>
                <a:off x="3952080" y="401292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219"/>
              <p:cNvSpPr/>
              <p:nvPr/>
            </p:nvSpPr>
            <p:spPr>
              <a:xfrm>
                <a:off x="4736520" y="394740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220"/>
              <p:cNvSpPr/>
              <p:nvPr/>
            </p:nvSpPr>
            <p:spPr>
              <a:xfrm>
                <a:off x="3975480" y="3897000"/>
                <a:ext cx="102600" cy="98280"/>
              </a:xfrm>
              <a:prstGeom prst="diamond">
                <a:avLst/>
              </a:prstGeom>
              <a:solidFill>
                <a:srgbClr val="00008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256"/>
            <p:cNvGrpSpPr/>
            <p:nvPr/>
          </p:nvGrpSpPr>
          <p:grpSpPr>
            <a:xfrm>
              <a:off x="622440" y="1982880"/>
              <a:ext cx="441360" cy="4286520"/>
              <a:chOff x="622440" y="1982880"/>
              <a:chExt cx="441360" cy="4286520"/>
            </a:xfrm>
          </p:grpSpPr>
          <p:sp>
            <p:nvSpPr>
              <p:cNvPr id="654" name="Rectangle 222"/>
              <p:cNvSpPr/>
              <p:nvPr/>
            </p:nvSpPr>
            <p:spPr>
              <a:xfrm>
                <a:off x="743040" y="604080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223"/>
              <p:cNvSpPr/>
              <p:nvPr/>
            </p:nvSpPr>
            <p:spPr>
              <a:xfrm>
                <a:off x="743040" y="546300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224"/>
              <p:cNvSpPr/>
              <p:nvPr/>
            </p:nvSpPr>
            <p:spPr>
              <a:xfrm>
                <a:off x="743040" y="487872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225"/>
              <p:cNvSpPr/>
              <p:nvPr/>
            </p:nvSpPr>
            <p:spPr>
              <a:xfrm>
                <a:off x="743040" y="430128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226"/>
              <p:cNvSpPr/>
              <p:nvPr/>
            </p:nvSpPr>
            <p:spPr>
              <a:xfrm>
                <a:off x="622440" y="37238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27"/>
              <p:cNvSpPr/>
              <p:nvPr/>
            </p:nvSpPr>
            <p:spPr>
              <a:xfrm>
                <a:off x="622440" y="31460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12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28"/>
              <p:cNvSpPr/>
              <p:nvPr/>
            </p:nvSpPr>
            <p:spPr>
              <a:xfrm>
                <a:off x="622440" y="255996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14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29"/>
              <p:cNvSpPr/>
              <p:nvPr/>
            </p:nvSpPr>
            <p:spPr>
              <a:xfrm>
                <a:off x="622440" y="198288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160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258"/>
            <p:cNvGrpSpPr/>
            <p:nvPr/>
          </p:nvGrpSpPr>
          <p:grpSpPr>
            <a:xfrm>
              <a:off x="1937160" y="6433200"/>
              <a:ext cx="5915160" cy="228600"/>
              <a:chOff x="1937160" y="6433200"/>
              <a:chExt cx="5915160" cy="228600"/>
            </a:xfrm>
          </p:grpSpPr>
          <p:sp>
            <p:nvSpPr>
              <p:cNvPr id="663" name="Rectangle 231"/>
              <p:cNvSpPr/>
              <p:nvPr/>
            </p:nvSpPr>
            <p:spPr>
              <a:xfrm>
                <a:off x="1937160" y="6433200"/>
                <a:ext cx="267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3.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32"/>
              <p:cNvSpPr/>
              <p:nvPr/>
            </p:nvSpPr>
            <p:spPr>
              <a:xfrm>
                <a:off x="3072600" y="6433200"/>
                <a:ext cx="267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33"/>
              <p:cNvSpPr/>
              <p:nvPr/>
            </p:nvSpPr>
            <p:spPr>
              <a:xfrm>
                <a:off x="4194000" y="6433200"/>
                <a:ext cx="267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.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34"/>
              <p:cNvSpPr/>
              <p:nvPr/>
            </p:nvSpPr>
            <p:spPr>
              <a:xfrm>
                <a:off x="5328000" y="6433200"/>
                <a:ext cx="267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35"/>
              <p:cNvSpPr/>
              <p:nvPr/>
            </p:nvSpPr>
            <p:spPr>
              <a:xfrm>
                <a:off x="6451200" y="6433200"/>
                <a:ext cx="267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5.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6"/>
              <p:cNvSpPr/>
              <p:nvPr/>
            </p:nvSpPr>
            <p:spPr>
              <a:xfrm>
                <a:off x="7584840" y="6433200"/>
                <a:ext cx="267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5.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Line 266"/>
            <p:cNvSpPr/>
            <p:nvPr/>
          </p:nvSpPr>
          <p:spPr>
            <a:xfrm>
              <a:off x="1129320" y="3530880"/>
              <a:ext cx="6987960" cy="0"/>
            </a:xfrm>
            <a:prstGeom prst="line">
              <a:avLst/>
            </a:prstGeom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67"/>
            <p:cNvSpPr/>
            <p:nvPr/>
          </p:nvSpPr>
          <p:spPr>
            <a:xfrm>
              <a:off x="6537240" y="3358080"/>
              <a:ext cx="1580040" cy="24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lue = 1,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69"/>
            <p:cNvSpPr/>
            <p:nvPr/>
          </p:nvSpPr>
          <p:spPr>
            <a:xfrm>
              <a:off x="1238040" y="3575160"/>
              <a:ext cx="11764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ght Motor vehic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270"/>
            <p:cNvSpPr/>
            <p:nvPr/>
          </p:nvSpPr>
          <p:spPr>
            <a:xfrm flipV="1">
              <a:off x="2414520" y="3721320"/>
              <a:ext cx="41148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71"/>
            <p:cNvSpPr/>
            <p:nvPr/>
          </p:nvSpPr>
          <p:spPr>
            <a:xfrm>
              <a:off x="1425600" y="3253680"/>
              <a:ext cx="7704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mar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72"/>
            <p:cNvSpPr/>
            <p:nvPr/>
          </p:nvSpPr>
          <p:spPr>
            <a:xfrm>
              <a:off x="1893600" y="2365560"/>
              <a:ext cx="3585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274" descr=""/>
            <p:cNvPicPr/>
            <p:nvPr/>
          </p:nvPicPr>
          <p:blipFill>
            <a:blip r:embed="rId1"/>
            <a:stretch/>
          </p:blipFill>
          <p:spPr>
            <a:xfrm>
              <a:off x="1453680" y="5640480"/>
              <a:ext cx="11588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75" descr=""/>
            <p:cNvPicPr/>
            <p:nvPr/>
          </p:nvPicPr>
          <p:blipFill>
            <a:blip r:embed="rId2"/>
            <a:stretch/>
          </p:blipFill>
          <p:spPr>
            <a:xfrm>
              <a:off x="1456920" y="4028400"/>
              <a:ext cx="1144800" cy="5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 Box 276"/>
            <p:cNvSpPr/>
            <p:nvPr/>
          </p:nvSpPr>
          <p:spPr>
            <a:xfrm>
              <a:off x="6774480" y="5002920"/>
              <a:ext cx="10746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504d"/>
                  </a:solidFill>
                  <a:latin typeface="Arial"/>
                </a:rPr>
                <a:t>Flat Front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79"/>
            <p:cNvSpPr/>
            <p:nvPr/>
          </p:nvSpPr>
          <p:spPr>
            <a:xfrm flipH="1" flipV="1">
              <a:off x="5196960" y="4472280"/>
              <a:ext cx="153468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80"/>
            <p:cNvSpPr/>
            <p:nvPr/>
          </p:nvSpPr>
          <p:spPr>
            <a:xfrm flipH="1">
              <a:off x="5808600" y="5104080"/>
              <a:ext cx="923400" cy="66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81"/>
            <p:cNvSpPr/>
            <p:nvPr/>
          </p:nvSpPr>
          <p:spPr>
            <a:xfrm>
              <a:off x="2689200" y="3638160"/>
              <a:ext cx="2570400" cy="121572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82"/>
            <p:cNvSpPr/>
            <p:nvPr/>
          </p:nvSpPr>
          <p:spPr>
            <a:xfrm rot="245400">
              <a:off x="2734560" y="5652000"/>
              <a:ext cx="3905640" cy="66600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283"/>
            <p:cNvSpPr/>
            <p:nvPr/>
          </p:nvSpPr>
          <p:spPr>
            <a:xfrm>
              <a:off x="2845080" y="2755800"/>
              <a:ext cx="280440" cy="3444480"/>
            </a:xfrm>
            <a:custGeom>
              <a:avLst/>
              <a:gdLst>
                <a:gd name="textAreaLeft" fmla="*/ 0 w 280440"/>
                <a:gd name="textAreaRight" fmla="*/ 280440 w 280440"/>
                <a:gd name="textAreaTop" fmla="*/ 0 h 3444480"/>
                <a:gd name="textAreaBottom" fmla="*/ 3444840 h 3444480"/>
              </a:gdLst>
              <a:ahLst/>
              <a:rect l="textAreaLeft" t="textAreaTop" r="textAreaRight" b="textAreaBottom"/>
              <a:pathLst>
                <a:path w="21600" h="264988">
                  <a:moveTo>
                    <a:pt x="0" y="0"/>
                  </a:moveTo>
                  <a:arcTo wR="0" hR="0" stAng="16200000" swAng="-5400000"/>
                  <a:lnTo>
                    <a:pt x="0" y="264988"/>
                  </a:lnTo>
                  <a:arcTo wR="0" hR="0" stAng="10800000" swAng="-5400000"/>
                  <a:lnTo>
                    <a:pt x="21600" y="26498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286"/>
            <p:cNvGrpSpPr/>
            <p:nvPr/>
          </p:nvGrpSpPr>
          <p:grpSpPr>
            <a:xfrm>
              <a:off x="1347840" y="2185200"/>
              <a:ext cx="6483960" cy="770040"/>
              <a:chOff x="1347840" y="2185200"/>
              <a:chExt cx="6483960" cy="770040"/>
            </a:xfrm>
          </p:grpSpPr>
          <p:sp>
            <p:nvSpPr>
              <p:cNvPr id="684" name="Freeform 41"/>
              <p:cNvSpPr/>
              <p:nvPr/>
            </p:nvSpPr>
            <p:spPr>
              <a:xfrm>
                <a:off x="2414520" y="2185200"/>
                <a:ext cx="5417280" cy="770040"/>
              </a:xfrm>
              <a:custGeom>
                <a:avLst/>
                <a:gdLst/>
                <a:ahLst/>
                <a:rect l="l" t="t" r="r" b="b"/>
                <a:pathLst>
                  <a:path w="3473" h="517">
                    <a:moveTo>
                      <a:pt x="0" y="516"/>
                    </a:moveTo>
                    <a:lnTo>
                      <a:pt x="171" y="517"/>
                    </a:lnTo>
                    <a:lnTo>
                      <a:pt x="299" y="517"/>
                    </a:lnTo>
                    <a:lnTo>
                      <a:pt x="368" y="517"/>
                    </a:lnTo>
                    <a:lnTo>
                      <a:pt x="446" y="517"/>
                    </a:lnTo>
                    <a:lnTo>
                      <a:pt x="515" y="511"/>
                    </a:lnTo>
                    <a:lnTo>
                      <a:pt x="585" y="511"/>
                    </a:lnTo>
                    <a:lnTo>
                      <a:pt x="662" y="511"/>
                    </a:lnTo>
                    <a:lnTo>
                      <a:pt x="732" y="505"/>
                    </a:lnTo>
                    <a:lnTo>
                      <a:pt x="801" y="505"/>
                    </a:lnTo>
                    <a:lnTo>
                      <a:pt x="879" y="501"/>
                    </a:lnTo>
                    <a:lnTo>
                      <a:pt x="948" y="495"/>
                    </a:lnTo>
                    <a:lnTo>
                      <a:pt x="1018" y="489"/>
                    </a:lnTo>
                    <a:lnTo>
                      <a:pt x="1095" y="484"/>
                    </a:lnTo>
                    <a:lnTo>
                      <a:pt x="1165" y="478"/>
                    </a:lnTo>
                    <a:lnTo>
                      <a:pt x="1235" y="473"/>
                    </a:lnTo>
                    <a:lnTo>
                      <a:pt x="1312" y="467"/>
                    </a:lnTo>
                    <a:lnTo>
                      <a:pt x="1382" y="462"/>
                    </a:lnTo>
                    <a:lnTo>
                      <a:pt x="1451" y="450"/>
                    </a:lnTo>
                    <a:lnTo>
                      <a:pt x="1529" y="445"/>
                    </a:lnTo>
                    <a:lnTo>
                      <a:pt x="1598" y="434"/>
                    </a:lnTo>
                    <a:lnTo>
                      <a:pt x="1668" y="422"/>
                    </a:lnTo>
                    <a:lnTo>
                      <a:pt x="1745" y="412"/>
                    </a:lnTo>
                    <a:lnTo>
                      <a:pt x="1815" y="400"/>
                    </a:lnTo>
                    <a:lnTo>
                      <a:pt x="1885" y="390"/>
                    </a:lnTo>
                    <a:lnTo>
                      <a:pt x="1962" y="379"/>
                    </a:lnTo>
                    <a:lnTo>
                      <a:pt x="2032" y="367"/>
                    </a:lnTo>
                    <a:lnTo>
                      <a:pt x="2101" y="357"/>
                    </a:lnTo>
                    <a:lnTo>
                      <a:pt x="2179" y="339"/>
                    </a:lnTo>
                    <a:lnTo>
                      <a:pt x="2248" y="323"/>
                    </a:lnTo>
                    <a:lnTo>
                      <a:pt x="2318" y="312"/>
                    </a:lnTo>
                    <a:lnTo>
                      <a:pt x="2395" y="295"/>
                    </a:lnTo>
                    <a:lnTo>
                      <a:pt x="2465" y="279"/>
                    </a:lnTo>
                    <a:lnTo>
                      <a:pt x="2535" y="262"/>
                    </a:lnTo>
                    <a:lnTo>
                      <a:pt x="2612" y="246"/>
                    </a:lnTo>
                    <a:lnTo>
                      <a:pt x="2682" y="230"/>
                    </a:lnTo>
                    <a:lnTo>
                      <a:pt x="2751" y="212"/>
                    </a:lnTo>
                    <a:lnTo>
                      <a:pt x="2829" y="190"/>
                    </a:lnTo>
                    <a:lnTo>
                      <a:pt x="2898" y="174"/>
                    </a:lnTo>
                    <a:lnTo>
                      <a:pt x="2976" y="151"/>
                    </a:lnTo>
                    <a:lnTo>
                      <a:pt x="3045" y="135"/>
                    </a:lnTo>
                    <a:lnTo>
                      <a:pt x="3115" y="113"/>
                    </a:lnTo>
                    <a:lnTo>
                      <a:pt x="3192" y="91"/>
                    </a:lnTo>
                    <a:lnTo>
                      <a:pt x="3262" y="68"/>
                    </a:lnTo>
                    <a:lnTo>
                      <a:pt x="3332" y="46"/>
                    </a:lnTo>
                    <a:lnTo>
                      <a:pt x="3473" y="0"/>
                    </a:ln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285"/>
              <p:cNvSpPr/>
              <p:nvPr/>
            </p:nvSpPr>
            <p:spPr>
              <a:xfrm flipH="1">
                <a:off x="1347840" y="2953800"/>
                <a:ext cx="1062000" cy="0"/>
              </a:xfrm>
              <a:prstGeom prst="line">
                <a:avLst/>
              </a:prstGeom>
              <a:ln w="2844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Text Box 268"/>
            <p:cNvSpPr/>
            <p:nvPr/>
          </p:nvSpPr>
          <p:spPr>
            <a:xfrm>
              <a:off x="3143160" y="2213640"/>
              <a:ext cx="14817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a00da"/>
                  </a:solidFill>
                  <a:latin typeface="Arial"/>
                </a:rPr>
                <a:t>Front Engine 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四角形吹き出し 241"/>
            <p:cNvSpPr/>
            <p:nvPr/>
          </p:nvSpPr>
          <p:spPr>
            <a:xfrm>
              <a:off x="5709240" y="3652920"/>
              <a:ext cx="3156840" cy="624240"/>
            </a:xfrm>
            <a:prstGeom prst="wedgeRectCallout">
              <a:avLst>
                <a:gd name="adj1" fmla="val -8495"/>
                <a:gd name="adj2" fmla="val -42861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Flat Front type and Front Engine  type vehicles can be separated at d value 1,100 m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5"/>
          <p:cNvSpPr/>
          <p:nvPr/>
        </p:nvSpPr>
        <p:spPr>
          <a:xfrm>
            <a:off x="264960" y="209520"/>
            <a:ext cx="727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haracteristics of Flat Front Light N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Oval 168"/>
          <p:cNvSpPr/>
          <p:nvPr/>
        </p:nvSpPr>
        <p:spPr>
          <a:xfrm>
            <a:off x="4433760" y="3821040"/>
            <a:ext cx="1401840" cy="1166760"/>
          </a:xfrm>
          <a:prstGeom prst="ellipse">
            <a:avLst/>
          </a:prstGeom>
          <a:solidFill>
            <a:srgbClr val="dbeef4"/>
          </a:solidFill>
          <a:ln w="22320">
            <a:solidFill>
              <a:srgbClr val="0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43CE-2EB0-431E-92F3-E69A059602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287280" y="365040"/>
            <a:ext cx="885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tatus of Categorization Based on the 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and PMR (GVM)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69"/>
          <p:cNvSpPr/>
          <p:nvPr/>
        </p:nvSpPr>
        <p:spPr>
          <a:xfrm>
            <a:off x="2063880" y="3760920"/>
            <a:ext cx="642960" cy="1207800"/>
          </a:xfrm>
          <a:prstGeom prst="ellipse">
            <a:avLst/>
          </a:prstGeom>
          <a:solidFill>
            <a:srgbClr val="dbeef4"/>
          </a:solidFill>
          <a:ln w="22320">
            <a:solidFill>
              <a:srgbClr val="0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1076400" y="1308240"/>
            <a:ext cx="7440480" cy="48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1076400" y="1916280"/>
            <a:ext cx="7452720" cy="3674520"/>
            <a:chOff x="1076400" y="1916280"/>
            <a:chExt cx="7452720" cy="3674520"/>
          </a:xfrm>
        </p:grpSpPr>
        <p:sp>
          <p:nvSpPr>
            <p:cNvPr id="695" name="Line 5"/>
            <p:cNvSpPr/>
            <p:nvPr/>
          </p:nvSpPr>
          <p:spPr>
            <a:xfrm>
              <a:off x="1076400" y="5590800"/>
              <a:ext cx="74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6"/>
            <p:cNvSpPr/>
            <p:nvPr/>
          </p:nvSpPr>
          <p:spPr>
            <a:xfrm>
              <a:off x="1076400" y="4980960"/>
              <a:ext cx="74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7"/>
            <p:cNvSpPr/>
            <p:nvPr/>
          </p:nvSpPr>
          <p:spPr>
            <a:xfrm>
              <a:off x="1076400" y="4371120"/>
              <a:ext cx="74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8"/>
            <p:cNvSpPr/>
            <p:nvPr/>
          </p:nvSpPr>
          <p:spPr>
            <a:xfrm>
              <a:off x="1076400" y="3759480"/>
              <a:ext cx="74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9"/>
            <p:cNvSpPr/>
            <p:nvPr/>
          </p:nvSpPr>
          <p:spPr>
            <a:xfrm>
              <a:off x="1076400" y="3137400"/>
              <a:ext cx="74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0"/>
            <p:cNvSpPr/>
            <p:nvPr/>
          </p:nvSpPr>
          <p:spPr>
            <a:xfrm>
              <a:off x="1076400" y="2525760"/>
              <a:ext cx="74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1"/>
            <p:cNvSpPr/>
            <p:nvPr/>
          </p:nvSpPr>
          <p:spPr>
            <a:xfrm>
              <a:off x="1076400" y="1916280"/>
              <a:ext cx="7452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ext Box 12"/>
          <p:cNvSpPr/>
          <p:nvPr/>
        </p:nvSpPr>
        <p:spPr>
          <a:xfrm rot="16200000">
            <a:off x="-173160" y="3721320"/>
            <a:ext cx="128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R (G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13" descr=""/>
          <p:cNvPicPr/>
          <p:nvPr/>
        </p:nvPicPr>
        <p:blipFill>
          <a:blip r:embed="rId1"/>
          <a:stretch/>
        </p:blipFill>
        <p:spPr>
          <a:xfrm>
            <a:off x="1413000" y="4978440"/>
            <a:ext cx="1301760" cy="745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4" descr=""/>
          <p:cNvPicPr/>
          <p:nvPr/>
        </p:nvPicPr>
        <p:blipFill>
          <a:blip r:embed="rId2"/>
          <a:stretch/>
        </p:blipFill>
        <p:spPr>
          <a:xfrm>
            <a:off x="4498920" y="5083200"/>
            <a:ext cx="1284480" cy="7239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5" descr=""/>
          <p:cNvPicPr/>
          <p:nvPr/>
        </p:nvPicPr>
        <p:blipFill>
          <a:blip r:embed="rId3"/>
          <a:stretch/>
        </p:blipFill>
        <p:spPr>
          <a:xfrm>
            <a:off x="6659640" y="1417680"/>
            <a:ext cx="1244520" cy="642960"/>
          </a:xfrm>
          <a:prstGeom prst="rect">
            <a:avLst/>
          </a:prstGeom>
          <a:ln w="0">
            <a:noFill/>
          </a:ln>
        </p:spPr>
      </p:pic>
      <p:grpSp>
        <p:nvGrpSpPr>
          <p:cNvPr id="706" name="Group 16"/>
          <p:cNvGrpSpPr/>
          <p:nvPr/>
        </p:nvGrpSpPr>
        <p:grpSpPr>
          <a:xfrm>
            <a:off x="2265480" y="3787920"/>
            <a:ext cx="302760" cy="1059840"/>
            <a:chOff x="2265480" y="3787920"/>
            <a:chExt cx="302760" cy="1059840"/>
          </a:xfrm>
        </p:grpSpPr>
        <p:sp>
          <p:nvSpPr>
            <p:cNvPr id="707" name="Oval 17"/>
            <p:cNvSpPr/>
            <p:nvPr/>
          </p:nvSpPr>
          <p:spPr>
            <a:xfrm>
              <a:off x="2438280" y="4015080"/>
              <a:ext cx="12996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438280" y="41587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9"/>
            <p:cNvSpPr/>
            <p:nvPr/>
          </p:nvSpPr>
          <p:spPr>
            <a:xfrm>
              <a:off x="2438280" y="419580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20"/>
            <p:cNvSpPr/>
            <p:nvPr/>
          </p:nvSpPr>
          <p:spPr>
            <a:xfrm>
              <a:off x="2265480" y="4494240"/>
              <a:ext cx="129960" cy="1375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1"/>
            <p:cNvSpPr/>
            <p:nvPr/>
          </p:nvSpPr>
          <p:spPr>
            <a:xfrm>
              <a:off x="2265480" y="43873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2"/>
            <p:cNvSpPr/>
            <p:nvPr/>
          </p:nvSpPr>
          <p:spPr>
            <a:xfrm>
              <a:off x="2265480" y="4494240"/>
              <a:ext cx="129960" cy="1375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23"/>
            <p:cNvSpPr/>
            <p:nvPr/>
          </p:nvSpPr>
          <p:spPr>
            <a:xfrm>
              <a:off x="2265480" y="45313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2265480" y="457920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25"/>
            <p:cNvSpPr/>
            <p:nvPr/>
          </p:nvSpPr>
          <p:spPr>
            <a:xfrm>
              <a:off x="2265480" y="45313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26"/>
            <p:cNvSpPr/>
            <p:nvPr/>
          </p:nvSpPr>
          <p:spPr>
            <a:xfrm>
              <a:off x="2265480" y="441144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7"/>
            <p:cNvSpPr/>
            <p:nvPr/>
          </p:nvSpPr>
          <p:spPr>
            <a:xfrm>
              <a:off x="2265480" y="45313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28"/>
            <p:cNvSpPr/>
            <p:nvPr/>
          </p:nvSpPr>
          <p:spPr>
            <a:xfrm>
              <a:off x="2265480" y="455544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29"/>
            <p:cNvSpPr/>
            <p:nvPr/>
          </p:nvSpPr>
          <p:spPr>
            <a:xfrm>
              <a:off x="2265480" y="46033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30"/>
            <p:cNvSpPr/>
            <p:nvPr/>
          </p:nvSpPr>
          <p:spPr>
            <a:xfrm>
              <a:off x="2265480" y="46033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31"/>
            <p:cNvSpPr/>
            <p:nvPr/>
          </p:nvSpPr>
          <p:spPr>
            <a:xfrm>
              <a:off x="2265480" y="46033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32"/>
            <p:cNvSpPr/>
            <p:nvPr/>
          </p:nvSpPr>
          <p:spPr>
            <a:xfrm>
              <a:off x="2265480" y="464004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33"/>
            <p:cNvSpPr/>
            <p:nvPr/>
          </p:nvSpPr>
          <p:spPr>
            <a:xfrm>
              <a:off x="2265480" y="46879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34"/>
            <p:cNvSpPr/>
            <p:nvPr/>
          </p:nvSpPr>
          <p:spPr>
            <a:xfrm>
              <a:off x="2265480" y="466416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35"/>
            <p:cNvSpPr/>
            <p:nvPr/>
          </p:nvSpPr>
          <p:spPr>
            <a:xfrm>
              <a:off x="2265480" y="464004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36"/>
            <p:cNvSpPr/>
            <p:nvPr/>
          </p:nvSpPr>
          <p:spPr>
            <a:xfrm>
              <a:off x="2265480" y="466416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37"/>
            <p:cNvSpPr/>
            <p:nvPr/>
          </p:nvSpPr>
          <p:spPr>
            <a:xfrm>
              <a:off x="2265480" y="471204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38"/>
            <p:cNvSpPr/>
            <p:nvPr/>
          </p:nvSpPr>
          <p:spPr>
            <a:xfrm>
              <a:off x="2265480" y="4015080"/>
              <a:ext cx="12996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39"/>
            <p:cNvSpPr/>
            <p:nvPr/>
          </p:nvSpPr>
          <p:spPr>
            <a:xfrm>
              <a:off x="2265480" y="40867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40"/>
            <p:cNvSpPr/>
            <p:nvPr/>
          </p:nvSpPr>
          <p:spPr>
            <a:xfrm>
              <a:off x="2265480" y="40867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41"/>
            <p:cNvSpPr/>
            <p:nvPr/>
          </p:nvSpPr>
          <p:spPr>
            <a:xfrm>
              <a:off x="2265480" y="41587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42"/>
            <p:cNvSpPr/>
            <p:nvPr/>
          </p:nvSpPr>
          <p:spPr>
            <a:xfrm>
              <a:off x="2265480" y="40867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43"/>
            <p:cNvSpPr/>
            <p:nvPr/>
          </p:nvSpPr>
          <p:spPr>
            <a:xfrm>
              <a:off x="2265480" y="41587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44"/>
            <p:cNvSpPr/>
            <p:nvPr/>
          </p:nvSpPr>
          <p:spPr>
            <a:xfrm>
              <a:off x="2265480" y="41587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45"/>
            <p:cNvSpPr/>
            <p:nvPr/>
          </p:nvSpPr>
          <p:spPr>
            <a:xfrm>
              <a:off x="2265480" y="419580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46"/>
            <p:cNvSpPr/>
            <p:nvPr/>
          </p:nvSpPr>
          <p:spPr>
            <a:xfrm>
              <a:off x="2265480" y="425484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47"/>
            <p:cNvSpPr/>
            <p:nvPr/>
          </p:nvSpPr>
          <p:spPr>
            <a:xfrm>
              <a:off x="2265480" y="425484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8"/>
            <p:cNvSpPr/>
            <p:nvPr/>
          </p:nvSpPr>
          <p:spPr>
            <a:xfrm>
              <a:off x="2265480" y="429120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49"/>
            <p:cNvSpPr/>
            <p:nvPr/>
          </p:nvSpPr>
          <p:spPr>
            <a:xfrm>
              <a:off x="2265480" y="421956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50"/>
            <p:cNvSpPr/>
            <p:nvPr/>
          </p:nvSpPr>
          <p:spPr>
            <a:xfrm>
              <a:off x="2265480" y="429120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51"/>
            <p:cNvSpPr/>
            <p:nvPr/>
          </p:nvSpPr>
          <p:spPr>
            <a:xfrm>
              <a:off x="2265480" y="429120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52"/>
            <p:cNvSpPr/>
            <p:nvPr/>
          </p:nvSpPr>
          <p:spPr>
            <a:xfrm>
              <a:off x="2265480" y="441144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53"/>
            <p:cNvSpPr/>
            <p:nvPr/>
          </p:nvSpPr>
          <p:spPr>
            <a:xfrm>
              <a:off x="2265480" y="443520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54"/>
            <p:cNvSpPr/>
            <p:nvPr/>
          </p:nvSpPr>
          <p:spPr>
            <a:xfrm>
              <a:off x="2265480" y="45313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55"/>
            <p:cNvSpPr/>
            <p:nvPr/>
          </p:nvSpPr>
          <p:spPr>
            <a:xfrm>
              <a:off x="2369520" y="37879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56"/>
            <p:cNvSpPr/>
            <p:nvPr/>
          </p:nvSpPr>
          <p:spPr>
            <a:xfrm>
              <a:off x="2369520" y="3968640"/>
              <a:ext cx="12996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57"/>
            <p:cNvSpPr/>
            <p:nvPr/>
          </p:nvSpPr>
          <p:spPr>
            <a:xfrm>
              <a:off x="2369520" y="37879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58"/>
            <p:cNvSpPr/>
            <p:nvPr/>
          </p:nvSpPr>
          <p:spPr>
            <a:xfrm>
              <a:off x="2369520" y="3931560"/>
              <a:ext cx="12996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59"/>
            <p:cNvSpPr/>
            <p:nvPr/>
          </p:nvSpPr>
          <p:spPr>
            <a:xfrm>
              <a:off x="2369520" y="38599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60"/>
            <p:cNvSpPr/>
            <p:nvPr/>
          </p:nvSpPr>
          <p:spPr>
            <a:xfrm>
              <a:off x="2369520" y="38599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61"/>
            <p:cNvSpPr/>
            <p:nvPr/>
          </p:nvSpPr>
          <p:spPr>
            <a:xfrm>
              <a:off x="2369520" y="4038840"/>
              <a:ext cx="12996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62"/>
            <p:cNvSpPr/>
            <p:nvPr/>
          </p:nvSpPr>
          <p:spPr>
            <a:xfrm>
              <a:off x="2369520" y="3859920"/>
              <a:ext cx="12996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63"/>
          <p:cNvGrpSpPr/>
          <p:nvPr/>
        </p:nvGrpSpPr>
        <p:grpSpPr>
          <a:xfrm>
            <a:off x="4587840" y="3897360"/>
            <a:ext cx="1044360" cy="950400"/>
            <a:chOff x="4587840" y="3897360"/>
            <a:chExt cx="1044360" cy="950400"/>
          </a:xfrm>
        </p:grpSpPr>
        <p:sp>
          <p:nvSpPr>
            <p:cNvPr id="754" name="Oval 64"/>
            <p:cNvSpPr/>
            <p:nvPr/>
          </p:nvSpPr>
          <p:spPr>
            <a:xfrm>
              <a:off x="4587840" y="442296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65"/>
            <p:cNvSpPr/>
            <p:nvPr/>
          </p:nvSpPr>
          <p:spPr>
            <a:xfrm>
              <a:off x="4587840" y="45442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66"/>
            <p:cNvSpPr/>
            <p:nvPr/>
          </p:nvSpPr>
          <p:spPr>
            <a:xfrm>
              <a:off x="4587840" y="436392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67"/>
            <p:cNvSpPr/>
            <p:nvPr/>
          </p:nvSpPr>
          <p:spPr>
            <a:xfrm>
              <a:off x="4587840" y="452052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68"/>
            <p:cNvSpPr/>
            <p:nvPr/>
          </p:nvSpPr>
          <p:spPr>
            <a:xfrm>
              <a:off x="4587840" y="439884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69"/>
            <p:cNvSpPr/>
            <p:nvPr/>
          </p:nvSpPr>
          <p:spPr>
            <a:xfrm>
              <a:off x="4587840" y="4483800"/>
              <a:ext cx="12960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70"/>
            <p:cNvSpPr/>
            <p:nvPr/>
          </p:nvSpPr>
          <p:spPr>
            <a:xfrm>
              <a:off x="4781520" y="38973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71"/>
            <p:cNvSpPr/>
            <p:nvPr/>
          </p:nvSpPr>
          <p:spPr>
            <a:xfrm>
              <a:off x="4781520" y="39448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72"/>
            <p:cNvSpPr/>
            <p:nvPr/>
          </p:nvSpPr>
          <p:spPr>
            <a:xfrm>
              <a:off x="4781520" y="39448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3"/>
            <p:cNvSpPr/>
            <p:nvPr/>
          </p:nvSpPr>
          <p:spPr>
            <a:xfrm>
              <a:off x="4781520" y="3980160"/>
              <a:ext cx="129600" cy="1375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74"/>
            <p:cNvSpPr/>
            <p:nvPr/>
          </p:nvSpPr>
          <p:spPr>
            <a:xfrm>
              <a:off x="4781520" y="40874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75"/>
            <p:cNvSpPr/>
            <p:nvPr/>
          </p:nvSpPr>
          <p:spPr>
            <a:xfrm>
              <a:off x="4781520" y="412272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76"/>
            <p:cNvSpPr/>
            <p:nvPr/>
          </p:nvSpPr>
          <p:spPr>
            <a:xfrm>
              <a:off x="4781520" y="412272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77"/>
            <p:cNvSpPr/>
            <p:nvPr/>
          </p:nvSpPr>
          <p:spPr>
            <a:xfrm>
              <a:off x="4781520" y="41590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78"/>
            <p:cNvSpPr/>
            <p:nvPr/>
          </p:nvSpPr>
          <p:spPr>
            <a:xfrm>
              <a:off x="5055120" y="439884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79"/>
            <p:cNvSpPr/>
            <p:nvPr/>
          </p:nvSpPr>
          <p:spPr>
            <a:xfrm>
              <a:off x="5055120" y="442296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0"/>
            <p:cNvSpPr/>
            <p:nvPr/>
          </p:nvSpPr>
          <p:spPr>
            <a:xfrm>
              <a:off x="5055120" y="45075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81"/>
            <p:cNvSpPr/>
            <p:nvPr/>
          </p:nvSpPr>
          <p:spPr>
            <a:xfrm>
              <a:off x="5055120" y="439884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82"/>
            <p:cNvSpPr/>
            <p:nvPr/>
          </p:nvSpPr>
          <p:spPr>
            <a:xfrm>
              <a:off x="5055120" y="442296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3"/>
            <p:cNvSpPr/>
            <p:nvPr/>
          </p:nvSpPr>
          <p:spPr>
            <a:xfrm>
              <a:off x="5055120" y="45075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4"/>
            <p:cNvSpPr/>
            <p:nvPr/>
          </p:nvSpPr>
          <p:spPr>
            <a:xfrm>
              <a:off x="5055120" y="45442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85"/>
            <p:cNvSpPr/>
            <p:nvPr/>
          </p:nvSpPr>
          <p:spPr>
            <a:xfrm>
              <a:off x="5055120" y="442296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86"/>
            <p:cNvSpPr/>
            <p:nvPr/>
          </p:nvSpPr>
          <p:spPr>
            <a:xfrm>
              <a:off x="5055120" y="44596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7"/>
            <p:cNvSpPr/>
            <p:nvPr/>
          </p:nvSpPr>
          <p:spPr>
            <a:xfrm>
              <a:off x="5055120" y="45442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88"/>
            <p:cNvSpPr/>
            <p:nvPr/>
          </p:nvSpPr>
          <p:spPr>
            <a:xfrm>
              <a:off x="5055120" y="45680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9"/>
            <p:cNvSpPr/>
            <p:nvPr/>
          </p:nvSpPr>
          <p:spPr>
            <a:xfrm>
              <a:off x="5055120" y="439884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0"/>
            <p:cNvSpPr/>
            <p:nvPr/>
          </p:nvSpPr>
          <p:spPr>
            <a:xfrm>
              <a:off x="5055120" y="4422960"/>
              <a:ext cx="129600" cy="1371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91"/>
            <p:cNvSpPr/>
            <p:nvPr/>
          </p:nvSpPr>
          <p:spPr>
            <a:xfrm>
              <a:off x="5055120" y="45075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2"/>
            <p:cNvSpPr/>
            <p:nvPr/>
          </p:nvSpPr>
          <p:spPr>
            <a:xfrm>
              <a:off x="5055120" y="45442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3"/>
            <p:cNvSpPr/>
            <p:nvPr/>
          </p:nvSpPr>
          <p:spPr>
            <a:xfrm>
              <a:off x="5055120" y="4483800"/>
              <a:ext cx="12960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94"/>
            <p:cNvSpPr/>
            <p:nvPr/>
          </p:nvSpPr>
          <p:spPr>
            <a:xfrm>
              <a:off x="5055120" y="45075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95"/>
            <p:cNvSpPr/>
            <p:nvPr/>
          </p:nvSpPr>
          <p:spPr>
            <a:xfrm>
              <a:off x="5055120" y="45921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96"/>
            <p:cNvSpPr/>
            <p:nvPr/>
          </p:nvSpPr>
          <p:spPr>
            <a:xfrm>
              <a:off x="5055120" y="4616280"/>
              <a:ext cx="12960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97"/>
            <p:cNvSpPr/>
            <p:nvPr/>
          </p:nvSpPr>
          <p:spPr>
            <a:xfrm>
              <a:off x="5502600" y="43876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98"/>
            <p:cNvSpPr/>
            <p:nvPr/>
          </p:nvSpPr>
          <p:spPr>
            <a:xfrm>
              <a:off x="5502600" y="452052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99"/>
            <p:cNvSpPr/>
            <p:nvPr/>
          </p:nvSpPr>
          <p:spPr>
            <a:xfrm>
              <a:off x="5502600" y="421992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00"/>
            <p:cNvSpPr/>
            <p:nvPr/>
          </p:nvSpPr>
          <p:spPr>
            <a:xfrm>
              <a:off x="5502600" y="436392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01"/>
            <p:cNvSpPr/>
            <p:nvPr/>
          </p:nvSpPr>
          <p:spPr>
            <a:xfrm>
              <a:off x="5502600" y="43030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2"/>
            <p:cNvSpPr/>
            <p:nvPr/>
          </p:nvSpPr>
          <p:spPr>
            <a:xfrm>
              <a:off x="5502600" y="4470840"/>
              <a:ext cx="129600" cy="1375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03"/>
            <p:cNvSpPr/>
            <p:nvPr/>
          </p:nvSpPr>
          <p:spPr>
            <a:xfrm>
              <a:off x="5502600" y="413532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04"/>
            <p:cNvSpPr/>
            <p:nvPr/>
          </p:nvSpPr>
          <p:spPr>
            <a:xfrm>
              <a:off x="5502600" y="4316040"/>
              <a:ext cx="12960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5"/>
            <p:cNvSpPr/>
            <p:nvPr/>
          </p:nvSpPr>
          <p:spPr>
            <a:xfrm>
              <a:off x="5502600" y="406332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06"/>
            <p:cNvSpPr/>
            <p:nvPr/>
          </p:nvSpPr>
          <p:spPr>
            <a:xfrm>
              <a:off x="5502600" y="425520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7"/>
            <p:cNvSpPr/>
            <p:nvPr/>
          </p:nvSpPr>
          <p:spPr>
            <a:xfrm>
              <a:off x="5502600" y="42440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8"/>
            <p:cNvSpPr/>
            <p:nvPr/>
          </p:nvSpPr>
          <p:spPr>
            <a:xfrm>
              <a:off x="5502600" y="43876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09"/>
            <p:cNvSpPr/>
            <p:nvPr/>
          </p:nvSpPr>
          <p:spPr>
            <a:xfrm>
              <a:off x="5502600" y="406332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10"/>
            <p:cNvSpPr/>
            <p:nvPr/>
          </p:nvSpPr>
          <p:spPr>
            <a:xfrm>
              <a:off x="5502600" y="425520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11"/>
            <p:cNvSpPr/>
            <p:nvPr/>
          </p:nvSpPr>
          <p:spPr>
            <a:xfrm>
              <a:off x="5250600" y="45554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2"/>
            <p:cNvSpPr/>
            <p:nvPr/>
          </p:nvSpPr>
          <p:spPr>
            <a:xfrm>
              <a:off x="5250600" y="45554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3"/>
            <p:cNvSpPr/>
            <p:nvPr/>
          </p:nvSpPr>
          <p:spPr>
            <a:xfrm>
              <a:off x="5250600" y="45316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14"/>
            <p:cNvSpPr/>
            <p:nvPr/>
          </p:nvSpPr>
          <p:spPr>
            <a:xfrm>
              <a:off x="5250600" y="4470840"/>
              <a:ext cx="129600" cy="1375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5"/>
            <p:cNvSpPr/>
            <p:nvPr/>
          </p:nvSpPr>
          <p:spPr>
            <a:xfrm>
              <a:off x="5250600" y="44355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16"/>
            <p:cNvSpPr/>
            <p:nvPr/>
          </p:nvSpPr>
          <p:spPr>
            <a:xfrm>
              <a:off x="5250600" y="45554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17"/>
            <p:cNvSpPr/>
            <p:nvPr/>
          </p:nvSpPr>
          <p:spPr>
            <a:xfrm>
              <a:off x="5250600" y="45316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18"/>
            <p:cNvSpPr/>
            <p:nvPr/>
          </p:nvSpPr>
          <p:spPr>
            <a:xfrm>
              <a:off x="5250600" y="47120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19"/>
            <p:cNvSpPr/>
            <p:nvPr/>
          </p:nvSpPr>
          <p:spPr>
            <a:xfrm>
              <a:off x="5250600" y="47120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20"/>
            <p:cNvSpPr/>
            <p:nvPr/>
          </p:nvSpPr>
          <p:spPr>
            <a:xfrm>
              <a:off x="5250600" y="46882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21"/>
            <p:cNvSpPr/>
            <p:nvPr/>
          </p:nvSpPr>
          <p:spPr>
            <a:xfrm>
              <a:off x="5250600" y="47120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22"/>
            <p:cNvSpPr/>
            <p:nvPr/>
          </p:nvSpPr>
          <p:spPr>
            <a:xfrm>
              <a:off x="5250600" y="46882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23"/>
            <p:cNvSpPr/>
            <p:nvPr/>
          </p:nvSpPr>
          <p:spPr>
            <a:xfrm>
              <a:off x="4954320" y="4015800"/>
              <a:ext cx="129600" cy="13536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4"/>
            <p:cNvSpPr/>
            <p:nvPr/>
          </p:nvSpPr>
          <p:spPr>
            <a:xfrm>
              <a:off x="4954320" y="38973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25"/>
            <p:cNvSpPr/>
            <p:nvPr/>
          </p:nvSpPr>
          <p:spPr>
            <a:xfrm>
              <a:off x="4954320" y="3980160"/>
              <a:ext cx="129600" cy="1375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26"/>
            <p:cNvSpPr/>
            <p:nvPr/>
          </p:nvSpPr>
          <p:spPr>
            <a:xfrm>
              <a:off x="4954320" y="43876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27"/>
            <p:cNvSpPr/>
            <p:nvPr/>
          </p:nvSpPr>
          <p:spPr>
            <a:xfrm>
              <a:off x="4954320" y="41961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28"/>
            <p:cNvSpPr/>
            <p:nvPr/>
          </p:nvSpPr>
          <p:spPr>
            <a:xfrm>
              <a:off x="4954320" y="41961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9"/>
            <p:cNvSpPr/>
            <p:nvPr/>
          </p:nvSpPr>
          <p:spPr>
            <a:xfrm>
              <a:off x="4954320" y="40874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0"/>
            <p:cNvSpPr/>
            <p:nvPr/>
          </p:nvSpPr>
          <p:spPr>
            <a:xfrm>
              <a:off x="4954320" y="415908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1"/>
            <p:cNvSpPr/>
            <p:nvPr/>
          </p:nvSpPr>
          <p:spPr>
            <a:xfrm>
              <a:off x="4954320" y="443556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32"/>
            <p:cNvSpPr/>
            <p:nvPr/>
          </p:nvSpPr>
          <p:spPr>
            <a:xfrm>
              <a:off x="4954320" y="4555440"/>
              <a:ext cx="129600" cy="135720"/>
            </a:xfrm>
            <a:prstGeom prst="ellipse">
              <a:avLst/>
            </a:prstGeom>
            <a:solidFill>
              <a:srgbClr val="00ccff"/>
            </a:solidFill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133"/>
          <p:cNvGrpSpPr/>
          <p:nvPr/>
        </p:nvGrpSpPr>
        <p:grpSpPr>
          <a:xfrm>
            <a:off x="6794640" y="2193840"/>
            <a:ext cx="361440" cy="1228320"/>
            <a:chOff x="6794640" y="2193840"/>
            <a:chExt cx="361440" cy="1228320"/>
          </a:xfrm>
        </p:grpSpPr>
        <p:sp>
          <p:nvSpPr>
            <p:cNvPr id="824" name="Rectangle 134"/>
            <p:cNvSpPr/>
            <p:nvPr/>
          </p:nvSpPr>
          <p:spPr>
            <a:xfrm>
              <a:off x="6852240" y="2711160"/>
              <a:ext cx="1083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35"/>
            <p:cNvSpPr/>
            <p:nvPr/>
          </p:nvSpPr>
          <p:spPr>
            <a:xfrm>
              <a:off x="6852240" y="2769840"/>
              <a:ext cx="1083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36"/>
            <p:cNvSpPr/>
            <p:nvPr/>
          </p:nvSpPr>
          <p:spPr>
            <a:xfrm>
              <a:off x="6852240" y="2986920"/>
              <a:ext cx="1083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37"/>
            <p:cNvSpPr/>
            <p:nvPr/>
          </p:nvSpPr>
          <p:spPr>
            <a:xfrm>
              <a:off x="6852240" y="3034800"/>
              <a:ext cx="1083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38"/>
            <p:cNvSpPr/>
            <p:nvPr/>
          </p:nvSpPr>
          <p:spPr>
            <a:xfrm>
              <a:off x="6794640" y="2193840"/>
              <a:ext cx="1083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9"/>
            <p:cNvSpPr/>
            <p:nvPr/>
          </p:nvSpPr>
          <p:spPr>
            <a:xfrm>
              <a:off x="6794640" y="2554560"/>
              <a:ext cx="1083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40"/>
            <p:cNvSpPr/>
            <p:nvPr/>
          </p:nvSpPr>
          <p:spPr>
            <a:xfrm>
              <a:off x="6794640" y="2254320"/>
              <a:ext cx="1083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41"/>
            <p:cNvSpPr/>
            <p:nvPr/>
          </p:nvSpPr>
          <p:spPr>
            <a:xfrm>
              <a:off x="6794640" y="2613600"/>
              <a:ext cx="108360" cy="1152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42"/>
            <p:cNvSpPr/>
            <p:nvPr/>
          </p:nvSpPr>
          <p:spPr>
            <a:xfrm>
              <a:off x="7045920" y="2890800"/>
              <a:ext cx="1101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43"/>
            <p:cNvSpPr/>
            <p:nvPr/>
          </p:nvSpPr>
          <p:spPr>
            <a:xfrm>
              <a:off x="7045920" y="3164760"/>
              <a:ext cx="1101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44"/>
            <p:cNvSpPr/>
            <p:nvPr/>
          </p:nvSpPr>
          <p:spPr>
            <a:xfrm>
              <a:off x="7045920" y="3104280"/>
              <a:ext cx="110160" cy="1152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45"/>
            <p:cNvSpPr/>
            <p:nvPr/>
          </p:nvSpPr>
          <p:spPr>
            <a:xfrm>
              <a:off x="7045920" y="3308760"/>
              <a:ext cx="1101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46"/>
            <p:cNvSpPr/>
            <p:nvPr/>
          </p:nvSpPr>
          <p:spPr>
            <a:xfrm>
              <a:off x="7045920" y="3009960"/>
              <a:ext cx="110160" cy="11556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47"/>
            <p:cNvSpPr/>
            <p:nvPr/>
          </p:nvSpPr>
          <p:spPr>
            <a:xfrm>
              <a:off x="7045920" y="3260520"/>
              <a:ext cx="110160" cy="11340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148"/>
          <p:cNvGrpSpPr/>
          <p:nvPr/>
        </p:nvGrpSpPr>
        <p:grpSpPr>
          <a:xfrm>
            <a:off x="702000" y="1189080"/>
            <a:ext cx="226440" cy="5139000"/>
            <a:chOff x="702000" y="1189080"/>
            <a:chExt cx="226440" cy="5139000"/>
          </a:xfrm>
        </p:grpSpPr>
        <p:sp>
          <p:nvSpPr>
            <p:cNvPr id="839" name="Rectangle 149"/>
            <p:cNvSpPr/>
            <p:nvPr/>
          </p:nvSpPr>
          <p:spPr>
            <a:xfrm>
              <a:off x="702000" y="6084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50"/>
            <p:cNvSpPr/>
            <p:nvPr/>
          </p:nvSpPr>
          <p:spPr>
            <a:xfrm>
              <a:off x="702000" y="5473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51"/>
            <p:cNvSpPr/>
            <p:nvPr/>
          </p:nvSpPr>
          <p:spPr>
            <a:xfrm>
              <a:off x="702000" y="4863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52"/>
            <p:cNvSpPr/>
            <p:nvPr/>
          </p:nvSpPr>
          <p:spPr>
            <a:xfrm>
              <a:off x="702000" y="4253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53"/>
            <p:cNvSpPr/>
            <p:nvPr/>
          </p:nvSpPr>
          <p:spPr>
            <a:xfrm>
              <a:off x="702000" y="3641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54"/>
            <p:cNvSpPr/>
            <p:nvPr/>
          </p:nvSpPr>
          <p:spPr>
            <a:xfrm>
              <a:off x="702000" y="3020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55"/>
            <p:cNvSpPr/>
            <p:nvPr/>
          </p:nvSpPr>
          <p:spPr>
            <a:xfrm>
              <a:off x="702000" y="2410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56"/>
            <p:cNvSpPr/>
            <p:nvPr/>
          </p:nvSpPr>
          <p:spPr>
            <a:xfrm>
              <a:off x="702000" y="1798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57"/>
            <p:cNvSpPr/>
            <p:nvPr/>
          </p:nvSpPr>
          <p:spPr>
            <a:xfrm>
              <a:off x="702000" y="1189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158"/>
          <p:cNvGrpSpPr/>
          <p:nvPr/>
        </p:nvGrpSpPr>
        <p:grpSpPr>
          <a:xfrm>
            <a:off x="976680" y="6310440"/>
            <a:ext cx="7099200" cy="243720"/>
            <a:chOff x="976680" y="6310440"/>
            <a:chExt cx="7099200" cy="243720"/>
          </a:xfrm>
        </p:grpSpPr>
        <p:sp>
          <p:nvSpPr>
            <p:cNvPr id="849" name="Rectangle 159"/>
            <p:cNvSpPr/>
            <p:nvPr/>
          </p:nvSpPr>
          <p:spPr>
            <a:xfrm>
              <a:off x="976680" y="6310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160"/>
            <p:cNvSpPr/>
            <p:nvPr/>
          </p:nvSpPr>
          <p:spPr>
            <a:xfrm>
              <a:off x="1857240" y="6310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61"/>
            <p:cNvSpPr/>
            <p:nvPr/>
          </p:nvSpPr>
          <p:spPr>
            <a:xfrm>
              <a:off x="2817360" y="6310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162"/>
            <p:cNvSpPr/>
            <p:nvPr/>
          </p:nvSpPr>
          <p:spPr>
            <a:xfrm>
              <a:off x="3789720" y="6310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163"/>
            <p:cNvSpPr/>
            <p:nvPr/>
          </p:nvSpPr>
          <p:spPr>
            <a:xfrm>
              <a:off x="4763880" y="6310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164"/>
            <p:cNvSpPr/>
            <p:nvPr/>
          </p:nvSpPr>
          <p:spPr>
            <a:xfrm>
              <a:off x="5689800" y="63104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165"/>
            <p:cNvSpPr/>
            <p:nvPr/>
          </p:nvSpPr>
          <p:spPr>
            <a:xfrm>
              <a:off x="6651720" y="63104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66"/>
            <p:cNvSpPr/>
            <p:nvPr/>
          </p:nvSpPr>
          <p:spPr>
            <a:xfrm>
              <a:off x="7624080" y="63104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Text Box 167"/>
          <p:cNvSpPr/>
          <p:nvPr/>
        </p:nvSpPr>
        <p:spPr>
          <a:xfrm>
            <a:off x="4189320" y="6510240"/>
            <a:ext cx="195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value (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70"/>
          <p:cNvSpPr/>
          <p:nvPr/>
        </p:nvSpPr>
        <p:spPr>
          <a:xfrm>
            <a:off x="6410160" y="1312920"/>
            <a:ext cx="0" cy="487188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oup 171"/>
          <p:cNvGrpSpPr/>
          <p:nvPr/>
        </p:nvGrpSpPr>
        <p:grpSpPr>
          <a:xfrm>
            <a:off x="2048040" y="1308240"/>
            <a:ext cx="5802120" cy="4895280"/>
            <a:chOff x="2048040" y="1308240"/>
            <a:chExt cx="5802120" cy="4895280"/>
          </a:xfrm>
        </p:grpSpPr>
        <p:sp>
          <p:nvSpPr>
            <p:cNvPr id="860" name="Line 172"/>
            <p:cNvSpPr/>
            <p:nvPr/>
          </p:nvSpPr>
          <p:spPr>
            <a:xfrm>
              <a:off x="2048040" y="1308240"/>
              <a:ext cx="0" cy="4895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73"/>
            <p:cNvSpPr/>
            <p:nvPr/>
          </p:nvSpPr>
          <p:spPr>
            <a:xfrm>
              <a:off x="3007440" y="1308240"/>
              <a:ext cx="0" cy="4895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74"/>
            <p:cNvSpPr/>
            <p:nvPr/>
          </p:nvSpPr>
          <p:spPr>
            <a:xfrm>
              <a:off x="3979440" y="1308240"/>
              <a:ext cx="0" cy="4895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75"/>
            <p:cNvSpPr/>
            <p:nvPr/>
          </p:nvSpPr>
          <p:spPr>
            <a:xfrm>
              <a:off x="4953960" y="1308240"/>
              <a:ext cx="0" cy="4895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76"/>
            <p:cNvSpPr/>
            <p:nvPr/>
          </p:nvSpPr>
          <p:spPr>
            <a:xfrm>
              <a:off x="5925960" y="1308240"/>
              <a:ext cx="0" cy="4895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177"/>
            <p:cNvSpPr/>
            <p:nvPr/>
          </p:nvSpPr>
          <p:spPr>
            <a:xfrm>
              <a:off x="6885720" y="1308240"/>
              <a:ext cx="0" cy="4895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178"/>
            <p:cNvSpPr/>
            <p:nvPr/>
          </p:nvSpPr>
          <p:spPr>
            <a:xfrm>
              <a:off x="7850160" y="1308240"/>
              <a:ext cx="0" cy="4895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Text Box 179"/>
          <p:cNvSpPr/>
          <p:nvPr/>
        </p:nvSpPr>
        <p:spPr>
          <a:xfrm rot="16200000">
            <a:off x="5918760" y="5306040"/>
            <a:ext cx="98100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 value = 1,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80"/>
          <p:cNvSpPr/>
          <p:nvPr/>
        </p:nvSpPr>
        <p:spPr>
          <a:xfrm flipH="1">
            <a:off x="1071360" y="3746520"/>
            <a:ext cx="7421400" cy="32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81"/>
          <p:cNvSpPr/>
          <p:nvPr/>
        </p:nvSpPr>
        <p:spPr>
          <a:xfrm>
            <a:off x="1120680" y="3633840"/>
            <a:ext cx="8557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R =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182" descr="ﾀｳﾝｴｰｽ"/>
          <p:cNvPicPr/>
          <p:nvPr/>
        </p:nvPicPr>
        <p:blipFill>
          <a:blip r:embed="rId4"/>
          <a:stretch/>
        </p:blipFill>
        <p:spPr>
          <a:xfrm>
            <a:off x="5262480" y="2746440"/>
            <a:ext cx="1019160" cy="76680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183" descr="ボンゴ"/>
          <p:cNvPicPr/>
          <p:nvPr/>
        </p:nvPicPr>
        <p:blipFill>
          <a:blip r:embed="rId5"/>
          <a:srcRect l="0" t="0" r="0" b="13455"/>
          <a:stretch/>
        </p:blipFill>
        <p:spPr>
          <a:xfrm>
            <a:off x="2325600" y="2771640"/>
            <a:ext cx="1474920" cy="849600"/>
          </a:xfrm>
          <a:prstGeom prst="rect">
            <a:avLst/>
          </a:prstGeom>
          <a:ln w="0">
            <a:noFill/>
          </a:ln>
        </p:spPr>
      </p:pic>
      <p:sp>
        <p:nvSpPr>
          <p:cNvPr id="872" name="Oval 184"/>
          <p:cNvSpPr/>
          <p:nvPr/>
        </p:nvSpPr>
        <p:spPr>
          <a:xfrm>
            <a:off x="2044800" y="3400560"/>
            <a:ext cx="404640" cy="996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85"/>
          <p:cNvSpPr/>
          <p:nvPr/>
        </p:nvSpPr>
        <p:spPr>
          <a:xfrm>
            <a:off x="1886040" y="2261880"/>
            <a:ext cx="1307880" cy="49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MR &lt; 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86"/>
          <p:cNvSpPr/>
          <p:nvPr/>
        </p:nvSpPr>
        <p:spPr>
          <a:xfrm>
            <a:off x="4587840" y="1649520"/>
            <a:ext cx="200016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 Engine Light 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87"/>
          <p:cNvSpPr/>
          <p:nvPr/>
        </p:nvSpPr>
        <p:spPr>
          <a:xfrm>
            <a:off x="6899400" y="5068080"/>
            <a:ext cx="1180800" cy="9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an small M1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1-derived 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188"/>
          <p:cNvGrpSpPr/>
          <p:nvPr/>
        </p:nvGrpSpPr>
        <p:grpSpPr>
          <a:xfrm>
            <a:off x="7089840" y="2809800"/>
            <a:ext cx="620640" cy="1685880"/>
            <a:chOff x="7089840" y="2809800"/>
            <a:chExt cx="620640" cy="1685880"/>
          </a:xfrm>
        </p:grpSpPr>
        <p:sp>
          <p:nvSpPr>
            <p:cNvPr id="877" name="AutoShape 189"/>
            <p:cNvSpPr/>
            <p:nvPr/>
          </p:nvSpPr>
          <p:spPr>
            <a:xfrm>
              <a:off x="7262640" y="3366720"/>
              <a:ext cx="106560" cy="1080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190"/>
            <p:cNvSpPr/>
            <p:nvPr/>
          </p:nvSpPr>
          <p:spPr>
            <a:xfrm>
              <a:off x="7210440" y="3692160"/>
              <a:ext cx="104760" cy="1098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191"/>
            <p:cNvSpPr/>
            <p:nvPr/>
          </p:nvSpPr>
          <p:spPr>
            <a:xfrm>
              <a:off x="7526160" y="3897000"/>
              <a:ext cx="105120" cy="1098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192"/>
            <p:cNvSpPr/>
            <p:nvPr/>
          </p:nvSpPr>
          <p:spPr>
            <a:xfrm>
              <a:off x="7407360" y="4385880"/>
              <a:ext cx="106200" cy="1098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193"/>
            <p:cNvSpPr/>
            <p:nvPr/>
          </p:nvSpPr>
          <p:spPr>
            <a:xfrm>
              <a:off x="7605720" y="3801960"/>
              <a:ext cx="104760" cy="10944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194"/>
            <p:cNvSpPr/>
            <p:nvPr/>
          </p:nvSpPr>
          <p:spPr>
            <a:xfrm>
              <a:off x="7434360" y="4182840"/>
              <a:ext cx="104760" cy="1080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195"/>
            <p:cNvSpPr/>
            <p:nvPr/>
          </p:nvSpPr>
          <p:spPr>
            <a:xfrm>
              <a:off x="7473960" y="2998440"/>
              <a:ext cx="104760" cy="1098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196"/>
            <p:cNvSpPr/>
            <p:nvPr/>
          </p:nvSpPr>
          <p:spPr>
            <a:xfrm>
              <a:off x="7262640" y="3054240"/>
              <a:ext cx="106560" cy="1080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197"/>
            <p:cNvSpPr/>
            <p:nvPr/>
          </p:nvSpPr>
          <p:spPr>
            <a:xfrm>
              <a:off x="7289640" y="3366720"/>
              <a:ext cx="104760" cy="1080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98"/>
            <p:cNvSpPr/>
            <p:nvPr/>
          </p:nvSpPr>
          <p:spPr>
            <a:xfrm>
              <a:off x="7329600" y="2809800"/>
              <a:ext cx="104760" cy="10764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utoShape 199"/>
            <p:cNvSpPr/>
            <p:nvPr/>
          </p:nvSpPr>
          <p:spPr>
            <a:xfrm>
              <a:off x="7089840" y="3678120"/>
              <a:ext cx="104760" cy="10944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200"/>
            <p:cNvSpPr/>
            <p:nvPr/>
          </p:nvSpPr>
          <p:spPr>
            <a:xfrm>
              <a:off x="7148520" y="3321000"/>
              <a:ext cx="104760" cy="10764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Oval 201"/>
          <p:cNvSpPr/>
          <p:nvPr/>
        </p:nvSpPr>
        <p:spPr>
          <a:xfrm>
            <a:off x="2271600" y="4192560"/>
            <a:ext cx="117720" cy="111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202"/>
          <p:cNvSpPr/>
          <p:nvPr/>
        </p:nvSpPr>
        <p:spPr>
          <a:xfrm>
            <a:off x="5516640" y="3448080"/>
            <a:ext cx="182520" cy="17316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8" y="0"/>
                </a:moveTo>
                <a:lnTo>
                  <a:pt x="115" y="109"/>
                </a:lnTo>
                <a:lnTo>
                  <a:pt x="0" y="109"/>
                </a:lnTo>
                <a:lnTo>
                  <a:pt x="58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203"/>
          <p:cNvSpPr/>
          <p:nvPr/>
        </p:nvSpPr>
        <p:spPr>
          <a:xfrm>
            <a:off x="5516640" y="3497400"/>
            <a:ext cx="182520" cy="174600"/>
          </a:xfrm>
          <a:custGeom>
            <a:avLst/>
            <a:gdLst/>
            <a:ahLst/>
            <a:rect l="l" t="t" r="r" b="b"/>
            <a:pathLst>
              <a:path w="115" h="110">
                <a:moveTo>
                  <a:pt x="58" y="0"/>
                </a:moveTo>
                <a:lnTo>
                  <a:pt x="115" y="110"/>
                </a:lnTo>
                <a:lnTo>
                  <a:pt x="0" y="110"/>
                </a:lnTo>
                <a:lnTo>
                  <a:pt x="58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204"/>
          <p:cNvSpPr/>
          <p:nvPr/>
        </p:nvSpPr>
        <p:spPr>
          <a:xfrm>
            <a:off x="5713560" y="3571920"/>
            <a:ext cx="182520" cy="174600"/>
          </a:xfrm>
          <a:custGeom>
            <a:avLst/>
            <a:gdLst/>
            <a:ahLst/>
            <a:rect l="l" t="t" r="r" b="b"/>
            <a:pathLst>
              <a:path w="115" h="110">
                <a:moveTo>
                  <a:pt x="57" y="0"/>
                </a:moveTo>
                <a:lnTo>
                  <a:pt x="115" y="110"/>
                </a:lnTo>
                <a:lnTo>
                  <a:pt x="0" y="110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205"/>
          <p:cNvSpPr/>
          <p:nvPr/>
        </p:nvSpPr>
        <p:spPr>
          <a:xfrm>
            <a:off x="5713560" y="3548160"/>
            <a:ext cx="182520" cy="17280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206"/>
          <p:cNvSpPr/>
          <p:nvPr/>
        </p:nvSpPr>
        <p:spPr>
          <a:xfrm>
            <a:off x="5713560" y="3610080"/>
            <a:ext cx="182520" cy="17280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207"/>
          <p:cNvSpPr/>
          <p:nvPr/>
        </p:nvSpPr>
        <p:spPr>
          <a:xfrm>
            <a:off x="2101680" y="3621240"/>
            <a:ext cx="182880" cy="174600"/>
          </a:xfrm>
          <a:custGeom>
            <a:avLst/>
            <a:gdLst/>
            <a:ahLst/>
            <a:rect l="l" t="t" r="r" b="b"/>
            <a:pathLst>
              <a:path w="115" h="110">
                <a:moveTo>
                  <a:pt x="57" y="0"/>
                </a:moveTo>
                <a:lnTo>
                  <a:pt x="115" y="110"/>
                </a:lnTo>
                <a:lnTo>
                  <a:pt x="0" y="110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208"/>
          <p:cNvSpPr/>
          <p:nvPr/>
        </p:nvSpPr>
        <p:spPr>
          <a:xfrm>
            <a:off x="2101680" y="3906720"/>
            <a:ext cx="182880" cy="174600"/>
          </a:xfrm>
          <a:custGeom>
            <a:avLst/>
            <a:gdLst/>
            <a:ahLst/>
            <a:rect l="l" t="t" r="r" b="b"/>
            <a:pathLst>
              <a:path w="115" h="110">
                <a:moveTo>
                  <a:pt x="57" y="0"/>
                </a:moveTo>
                <a:lnTo>
                  <a:pt x="115" y="110"/>
                </a:lnTo>
                <a:lnTo>
                  <a:pt x="0" y="110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209"/>
          <p:cNvSpPr/>
          <p:nvPr/>
        </p:nvSpPr>
        <p:spPr>
          <a:xfrm>
            <a:off x="2101680" y="3746520"/>
            <a:ext cx="182880" cy="17316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210"/>
          <p:cNvSpPr/>
          <p:nvPr/>
        </p:nvSpPr>
        <p:spPr>
          <a:xfrm>
            <a:off x="2101680" y="3906720"/>
            <a:ext cx="182880" cy="174600"/>
          </a:xfrm>
          <a:custGeom>
            <a:avLst/>
            <a:gdLst/>
            <a:ahLst/>
            <a:rect l="l" t="t" r="r" b="b"/>
            <a:pathLst>
              <a:path w="115" h="110">
                <a:moveTo>
                  <a:pt x="57" y="0"/>
                </a:moveTo>
                <a:lnTo>
                  <a:pt x="115" y="110"/>
                </a:lnTo>
                <a:lnTo>
                  <a:pt x="0" y="110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211"/>
          <p:cNvSpPr/>
          <p:nvPr/>
        </p:nvSpPr>
        <p:spPr>
          <a:xfrm>
            <a:off x="2101680" y="3621240"/>
            <a:ext cx="182880" cy="174600"/>
          </a:xfrm>
          <a:custGeom>
            <a:avLst/>
            <a:gdLst/>
            <a:ahLst/>
            <a:rect l="l" t="t" r="r" b="b"/>
            <a:pathLst>
              <a:path w="115" h="110">
                <a:moveTo>
                  <a:pt x="57" y="0"/>
                </a:moveTo>
                <a:lnTo>
                  <a:pt x="115" y="110"/>
                </a:lnTo>
                <a:lnTo>
                  <a:pt x="0" y="110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212"/>
          <p:cNvSpPr/>
          <p:nvPr/>
        </p:nvSpPr>
        <p:spPr>
          <a:xfrm>
            <a:off x="2101680" y="3981600"/>
            <a:ext cx="182880" cy="17280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213"/>
          <p:cNvSpPr/>
          <p:nvPr/>
        </p:nvSpPr>
        <p:spPr>
          <a:xfrm>
            <a:off x="2101680" y="4130640"/>
            <a:ext cx="182880" cy="17316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214"/>
          <p:cNvSpPr/>
          <p:nvPr/>
        </p:nvSpPr>
        <p:spPr>
          <a:xfrm>
            <a:off x="2101680" y="4130640"/>
            <a:ext cx="182880" cy="17316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215"/>
          <p:cNvSpPr/>
          <p:nvPr/>
        </p:nvSpPr>
        <p:spPr>
          <a:xfrm>
            <a:off x="2206800" y="3460680"/>
            <a:ext cx="182520" cy="17316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216"/>
          <p:cNvSpPr/>
          <p:nvPr/>
        </p:nvSpPr>
        <p:spPr>
          <a:xfrm>
            <a:off x="2206800" y="3522600"/>
            <a:ext cx="182520" cy="17316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217"/>
          <p:cNvSpPr/>
          <p:nvPr/>
        </p:nvSpPr>
        <p:spPr>
          <a:xfrm>
            <a:off x="2206800" y="3981600"/>
            <a:ext cx="182520" cy="17280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218"/>
          <p:cNvSpPr/>
          <p:nvPr/>
        </p:nvSpPr>
        <p:spPr>
          <a:xfrm>
            <a:off x="2206800" y="3621240"/>
            <a:ext cx="182520" cy="174600"/>
          </a:xfrm>
          <a:custGeom>
            <a:avLst/>
            <a:gdLst/>
            <a:ahLst/>
            <a:rect l="l" t="t" r="r" b="b"/>
            <a:pathLst>
              <a:path w="115" h="110">
                <a:moveTo>
                  <a:pt x="57" y="0"/>
                </a:moveTo>
                <a:lnTo>
                  <a:pt x="115" y="110"/>
                </a:lnTo>
                <a:lnTo>
                  <a:pt x="0" y="110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19"/>
          <p:cNvSpPr/>
          <p:nvPr/>
        </p:nvSpPr>
        <p:spPr>
          <a:xfrm>
            <a:off x="2206800" y="4118040"/>
            <a:ext cx="182520" cy="172800"/>
          </a:xfrm>
          <a:custGeom>
            <a:avLst/>
            <a:gdLst/>
            <a:ahLst/>
            <a:rect l="l" t="t" r="r" b="b"/>
            <a:pathLst>
              <a:path w="115" h="109">
                <a:moveTo>
                  <a:pt x="57" y="0"/>
                </a:moveTo>
                <a:lnTo>
                  <a:pt x="115" y="109"/>
                </a:lnTo>
                <a:lnTo>
                  <a:pt x="0" y="109"/>
                </a:lnTo>
                <a:lnTo>
                  <a:pt x="57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20"/>
          <p:cNvSpPr/>
          <p:nvPr/>
        </p:nvSpPr>
        <p:spPr>
          <a:xfrm>
            <a:off x="4108320" y="2850840"/>
            <a:ext cx="1155960" cy="27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wn 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221" descr=""/>
          <p:cNvPicPr/>
          <p:nvPr/>
        </p:nvPicPr>
        <p:blipFill>
          <a:blip r:embed="rId6"/>
          <a:stretch/>
        </p:blipFill>
        <p:spPr>
          <a:xfrm>
            <a:off x="7167600" y="4518000"/>
            <a:ext cx="1305000" cy="504720"/>
          </a:xfrm>
          <a:prstGeom prst="rect">
            <a:avLst/>
          </a:prstGeom>
          <a:ln w="0">
            <a:noFill/>
          </a:ln>
        </p:spPr>
      </p:pic>
      <p:sp>
        <p:nvSpPr>
          <p:cNvPr id="910" name="Oval 222"/>
          <p:cNvSpPr/>
          <p:nvPr/>
        </p:nvSpPr>
        <p:spPr>
          <a:xfrm>
            <a:off x="5460840" y="3400560"/>
            <a:ext cx="532080" cy="501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23"/>
          <p:cNvSpPr/>
          <p:nvPr/>
        </p:nvSpPr>
        <p:spPr>
          <a:xfrm rot="268800">
            <a:off x="7067160" y="2739960"/>
            <a:ext cx="730440" cy="1862280"/>
          </a:xfrm>
          <a:prstGeom prst="ellipse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24"/>
          <p:cNvSpPr/>
          <p:nvPr/>
        </p:nvSpPr>
        <p:spPr>
          <a:xfrm>
            <a:off x="6595920" y="2130480"/>
            <a:ext cx="708120" cy="1382760"/>
          </a:xfrm>
          <a:prstGeom prst="ellipse">
            <a:avLst/>
          </a:prstGeom>
          <a:noFill/>
          <a:ln w="2232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25"/>
          <p:cNvSpPr/>
          <p:nvPr/>
        </p:nvSpPr>
        <p:spPr>
          <a:xfrm>
            <a:off x="2735280" y="4925880"/>
            <a:ext cx="19270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t Front Light 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35"/>
          <p:cNvSpPr/>
          <p:nvPr/>
        </p:nvSpPr>
        <p:spPr>
          <a:xfrm>
            <a:off x="527040" y="703440"/>
            <a:ext cx="83707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 value &lt; 1,100 mm and PMR (GVM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5, most Flat Front light N1 vehicles can be separated from other N1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264960" y="76320"/>
            <a:ext cx="727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haracteristics of Flat Front Light N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角丸四角形吹き出し 2"/>
          <p:cNvSpPr/>
          <p:nvPr/>
        </p:nvSpPr>
        <p:spPr>
          <a:xfrm>
            <a:off x="1838160" y="1709640"/>
            <a:ext cx="1317960" cy="378000"/>
          </a:xfrm>
          <a:prstGeom prst="wedgeRoundRectCallout">
            <a:avLst>
              <a:gd name="adj1" fmla="val -2657"/>
              <a:gd name="adj2" fmla="val 9625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660cc &lt; Engine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35"/>
          <p:cNvSpPr/>
          <p:nvPr/>
        </p:nvSpPr>
        <p:spPr>
          <a:xfrm>
            <a:off x="291960" y="914400"/>
            <a:ext cx="85060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engines of Flat Front Light N1 vehicles are exposed, the engine radiated sound and air intake sound are emitted directly outside the vehicle. As a result, the vehicle external noise level and the engine sound contribution of Flat Front Light N1 Vehicles are higher than those of Front Engine type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173160" y="316080"/>
            <a:ext cx="864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Reasons Why the Noise Level of Flat Front Light N1 Vehicles is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26"/>
          <p:cNvSpPr/>
          <p:nvPr/>
        </p:nvSpPr>
        <p:spPr>
          <a:xfrm>
            <a:off x="1566720" y="3879720"/>
            <a:ext cx="0" cy="5572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30"/>
          <p:cNvSpPr/>
          <p:nvPr/>
        </p:nvSpPr>
        <p:spPr>
          <a:xfrm flipH="1">
            <a:off x="3712680" y="3867120"/>
            <a:ext cx="3057480" cy="5698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26"/>
          <p:cNvSpPr/>
          <p:nvPr/>
        </p:nvSpPr>
        <p:spPr>
          <a:xfrm flipV="1">
            <a:off x="3151080" y="3897000"/>
            <a:ext cx="2168640" cy="5382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99"/>
          <p:cNvSpPr/>
          <p:nvPr/>
        </p:nvSpPr>
        <p:spPr>
          <a:xfrm>
            <a:off x="0" y="4834080"/>
            <a:ext cx="149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01"/>
          <p:cNvSpPr/>
          <p:nvPr/>
        </p:nvSpPr>
        <p:spPr>
          <a:xfrm>
            <a:off x="92160" y="3139920"/>
            <a:ext cx="1377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t Fr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N1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83"/>
          <p:cNvGrpSpPr/>
          <p:nvPr/>
        </p:nvGrpSpPr>
        <p:grpSpPr>
          <a:xfrm>
            <a:off x="1562040" y="4448160"/>
            <a:ext cx="4678560" cy="1047600"/>
            <a:chOff x="1562040" y="4448160"/>
            <a:chExt cx="4678560" cy="1047600"/>
          </a:xfrm>
        </p:grpSpPr>
        <p:sp>
          <p:nvSpPr>
            <p:cNvPr id="925" name="Rectangle 144"/>
            <p:cNvSpPr/>
            <p:nvPr/>
          </p:nvSpPr>
          <p:spPr>
            <a:xfrm>
              <a:off x="1562040" y="4448160"/>
              <a:ext cx="1595520" cy="1047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45"/>
            <p:cNvSpPr/>
            <p:nvPr/>
          </p:nvSpPr>
          <p:spPr>
            <a:xfrm>
              <a:off x="1562040" y="4448160"/>
              <a:ext cx="1595520" cy="10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52"/>
            <p:cNvSpPr/>
            <p:nvPr/>
          </p:nvSpPr>
          <p:spPr>
            <a:xfrm>
              <a:off x="3157560" y="4448160"/>
              <a:ext cx="542880" cy="104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53"/>
            <p:cNvSpPr/>
            <p:nvPr/>
          </p:nvSpPr>
          <p:spPr>
            <a:xfrm>
              <a:off x="3157560" y="4448160"/>
              <a:ext cx="542880" cy="10476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60"/>
            <p:cNvSpPr/>
            <p:nvPr/>
          </p:nvSpPr>
          <p:spPr>
            <a:xfrm>
              <a:off x="3700440" y="4448160"/>
              <a:ext cx="1112760" cy="104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61"/>
            <p:cNvSpPr/>
            <p:nvPr/>
          </p:nvSpPr>
          <p:spPr>
            <a:xfrm>
              <a:off x="3700440" y="4448160"/>
              <a:ext cx="1112760" cy="10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68"/>
            <p:cNvSpPr/>
            <p:nvPr/>
          </p:nvSpPr>
          <p:spPr>
            <a:xfrm>
              <a:off x="4813200" y="4448160"/>
              <a:ext cx="349560" cy="104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69"/>
            <p:cNvSpPr/>
            <p:nvPr/>
          </p:nvSpPr>
          <p:spPr>
            <a:xfrm>
              <a:off x="4813200" y="4448160"/>
              <a:ext cx="349560" cy="10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76"/>
            <p:cNvSpPr/>
            <p:nvPr/>
          </p:nvSpPr>
          <p:spPr>
            <a:xfrm>
              <a:off x="5162760" y="4448160"/>
              <a:ext cx="1077840" cy="1047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77"/>
            <p:cNvSpPr/>
            <p:nvPr/>
          </p:nvSpPr>
          <p:spPr>
            <a:xfrm>
              <a:off x="5162760" y="4448160"/>
              <a:ext cx="1077840" cy="10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82"/>
          <p:cNvGrpSpPr/>
          <p:nvPr/>
        </p:nvGrpSpPr>
        <p:grpSpPr>
          <a:xfrm>
            <a:off x="1562040" y="2817720"/>
            <a:ext cx="7288200" cy="1054080"/>
            <a:chOff x="1562040" y="2817720"/>
            <a:chExt cx="7288200" cy="1054080"/>
          </a:xfrm>
        </p:grpSpPr>
        <p:grpSp>
          <p:nvGrpSpPr>
            <p:cNvPr id="936" name="Group 80"/>
            <p:cNvGrpSpPr/>
            <p:nvPr/>
          </p:nvGrpSpPr>
          <p:grpSpPr>
            <a:xfrm>
              <a:off x="1562040" y="2817720"/>
              <a:ext cx="7288200" cy="1054080"/>
              <a:chOff x="1562040" y="2817720"/>
              <a:chExt cx="7288200" cy="1054080"/>
            </a:xfrm>
          </p:grpSpPr>
          <p:sp>
            <p:nvSpPr>
              <p:cNvPr id="937" name="Rectangle 148"/>
              <p:cNvSpPr/>
              <p:nvPr/>
            </p:nvSpPr>
            <p:spPr>
              <a:xfrm>
                <a:off x="1562040" y="2817720"/>
                <a:ext cx="3743280" cy="10540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Rectangle 149"/>
              <p:cNvSpPr/>
              <p:nvPr/>
            </p:nvSpPr>
            <p:spPr>
              <a:xfrm>
                <a:off x="1562040" y="2817720"/>
                <a:ext cx="3743280" cy="105408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156"/>
              <p:cNvSpPr/>
              <p:nvPr/>
            </p:nvSpPr>
            <p:spPr>
              <a:xfrm>
                <a:off x="5305320" y="2817720"/>
                <a:ext cx="1506600" cy="10540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157"/>
              <p:cNvSpPr/>
              <p:nvPr/>
            </p:nvSpPr>
            <p:spPr>
              <a:xfrm>
                <a:off x="5305320" y="2817720"/>
                <a:ext cx="1506600" cy="105408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164"/>
              <p:cNvSpPr/>
              <p:nvPr/>
            </p:nvSpPr>
            <p:spPr>
              <a:xfrm>
                <a:off x="6811920" y="2817720"/>
                <a:ext cx="1057320" cy="10540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165"/>
              <p:cNvSpPr/>
              <p:nvPr/>
            </p:nvSpPr>
            <p:spPr>
              <a:xfrm>
                <a:off x="6811920" y="2817720"/>
                <a:ext cx="1057320" cy="105408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72"/>
              <p:cNvSpPr/>
              <p:nvPr/>
            </p:nvSpPr>
            <p:spPr>
              <a:xfrm>
                <a:off x="7869240" y="2817720"/>
                <a:ext cx="73080" cy="10540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173"/>
              <p:cNvSpPr/>
              <p:nvPr/>
            </p:nvSpPr>
            <p:spPr>
              <a:xfrm>
                <a:off x="7869240" y="2817720"/>
                <a:ext cx="73080" cy="105408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Rectangle 180"/>
              <p:cNvSpPr/>
              <p:nvPr/>
            </p:nvSpPr>
            <p:spPr>
              <a:xfrm>
                <a:off x="7942320" y="2817720"/>
                <a:ext cx="907920" cy="10540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Rectangle 181"/>
              <p:cNvSpPr/>
              <p:nvPr/>
            </p:nvSpPr>
            <p:spPr>
              <a:xfrm>
                <a:off x="7942320" y="2817720"/>
                <a:ext cx="907920" cy="105408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Rectangle 206"/>
            <p:cNvSpPr/>
            <p:nvPr/>
          </p:nvSpPr>
          <p:spPr>
            <a:xfrm>
              <a:off x="2890800" y="3195360"/>
              <a:ext cx="95904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209"/>
            <p:cNvSpPr/>
            <p:nvPr/>
          </p:nvSpPr>
          <p:spPr>
            <a:xfrm>
              <a:off x="5432400" y="3036600"/>
              <a:ext cx="1241640" cy="61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ir intake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212"/>
            <p:cNvSpPr/>
            <p:nvPr/>
          </p:nvSpPr>
          <p:spPr>
            <a:xfrm>
              <a:off x="6939000" y="3036600"/>
              <a:ext cx="776160" cy="61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haus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218"/>
            <p:cNvSpPr/>
            <p:nvPr/>
          </p:nvSpPr>
          <p:spPr>
            <a:xfrm>
              <a:off x="8061480" y="3201840"/>
              <a:ext cx="68256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Text Box 5"/>
          <p:cNvSpPr/>
          <p:nvPr/>
        </p:nvSpPr>
        <p:spPr>
          <a:xfrm>
            <a:off x="536400" y="6126120"/>
            <a:ext cx="8291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5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ion of each sound source 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 vehicle external noise in average vehicles (amount of energ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230"/>
          <p:cNvSpPr/>
          <p:nvPr/>
        </p:nvSpPr>
        <p:spPr>
          <a:xfrm flipH="1">
            <a:off x="6214680" y="3892680"/>
            <a:ext cx="2600280" cy="5443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F572-176C-47E7-8252-01482C0759F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216"/>
          <p:cNvSpPr/>
          <p:nvPr/>
        </p:nvSpPr>
        <p:spPr>
          <a:xfrm>
            <a:off x="591840" y="2290680"/>
            <a:ext cx="35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emission in R51-03 te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"/>
          <p:cNvSpPr/>
          <p:nvPr/>
        </p:nvSpPr>
        <p:spPr>
          <a:xfrm>
            <a:off x="7715160" y="2149560"/>
            <a:ext cx="1317600" cy="55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verall level 72 - 73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"/>
          <p:cNvSpPr/>
          <p:nvPr/>
        </p:nvSpPr>
        <p:spPr>
          <a:xfrm>
            <a:off x="6356520" y="4894200"/>
            <a:ext cx="1549080" cy="5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verall level about 70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Line 83"/>
          <p:cNvSpPr/>
          <p:nvPr/>
        </p:nvSpPr>
        <p:spPr>
          <a:xfrm flipV="1">
            <a:off x="2370240" y="5448240"/>
            <a:ext cx="2778120" cy="684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1"/>
          <p:cNvSpPr/>
          <p:nvPr/>
        </p:nvSpPr>
        <p:spPr>
          <a:xfrm flipV="1">
            <a:off x="2360520" y="5632200"/>
            <a:ext cx="279900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1"/>
          <p:cNvSpPr/>
          <p:nvPr/>
        </p:nvSpPr>
        <p:spPr>
          <a:xfrm>
            <a:off x="817920" y="6445080"/>
            <a:ext cx="76161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ar ratio comparison in 5-speed transmission cars(Light M1 vs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t Front Light N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98"/>
          <p:cNvSpPr/>
          <p:nvPr/>
        </p:nvSpPr>
        <p:spPr>
          <a:xfrm>
            <a:off x="173160" y="485640"/>
            <a:ext cx="88311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ront Light N1 Vehicle is required driving force at low speed, considering the usage environments such as load capacity (high load), high gradient, muddy groun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ituations demand higher gear ratio than M1 vehicle, as a result, Flat Front Light N1 Vehicles run with extra high engine speed making louder engine no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25"/>
          <p:cNvSpPr/>
          <p:nvPr/>
        </p:nvSpPr>
        <p:spPr>
          <a:xfrm>
            <a:off x="4323960" y="6141960"/>
            <a:ext cx="240408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lat Front Light N1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26"/>
          <p:cNvSpPr/>
          <p:nvPr/>
        </p:nvSpPr>
        <p:spPr>
          <a:xfrm>
            <a:off x="1303200" y="6122880"/>
            <a:ext cx="204156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Light M1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41AE-F0D2-4189-8EEA-6DB7098533C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9"/>
          <p:cNvGrpSpPr/>
          <p:nvPr/>
        </p:nvGrpSpPr>
        <p:grpSpPr>
          <a:xfrm>
            <a:off x="987480" y="2355840"/>
            <a:ext cx="7777800" cy="3389040"/>
            <a:chOff x="987480" y="2355840"/>
            <a:chExt cx="7777800" cy="3389040"/>
          </a:xfrm>
        </p:grpSpPr>
        <p:sp>
          <p:nvSpPr>
            <p:cNvPr id="965" name="Line 111"/>
            <p:cNvSpPr/>
            <p:nvPr/>
          </p:nvSpPr>
          <p:spPr>
            <a:xfrm>
              <a:off x="987480" y="5744880"/>
              <a:ext cx="7777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112"/>
            <p:cNvSpPr/>
            <p:nvPr/>
          </p:nvSpPr>
          <p:spPr>
            <a:xfrm>
              <a:off x="987480" y="4889160"/>
              <a:ext cx="7777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113"/>
            <p:cNvSpPr/>
            <p:nvPr/>
          </p:nvSpPr>
          <p:spPr>
            <a:xfrm>
              <a:off x="987480" y="4050000"/>
              <a:ext cx="7777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114"/>
            <p:cNvSpPr/>
            <p:nvPr/>
          </p:nvSpPr>
          <p:spPr>
            <a:xfrm>
              <a:off x="987480" y="3195000"/>
              <a:ext cx="7777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115"/>
            <p:cNvSpPr/>
            <p:nvPr/>
          </p:nvSpPr>
          <p:spPr>
            <a:xfrm>
              <a:off x="987480" y="2355840"/>
              <a:ext cx="7777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Rectangle 117"/>
          <p:cNvSpPr/>
          <p:nvPr/>
        </p:nvSpPr>
        <p:spPr>
          <a:xfrm>
            <a:off x="987480" y="1811160"/>
            <a:ext cx="7778520" cy="426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0"/>
          <p:cNvSpPr/>
          <p:nvPr/>
        </p:nvSpPr>
        <p:spPr>
          <a:xfrm rot="16200000">
            <a:off x="-579600" y="3759120"/>
            <a:ext cx="19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gear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71"/>
          <p:cNvSpPr/>
          <p:nvPr/>
        </p:nvSpPr>
        <p:spPr>
          <a:xfrm flipV="1">
            <a:off x="2359080" y="1998360"/>
            <a:ext cx="281124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73"/>
          <p:cNvSpPr/>
          <p:nvPr/>
        </p:nvSpPr>
        <p:spPr>
          <a:xfrm flipV="1">
            <a:off x="2362320" y="3882600"/>
            <a:ext cx="2795400" cy="10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81"/>
          <p:cNvSpPr/>
          <p:nvPr/>
        </p:nvSpPr>
        <p:spPr>
          <a:xfrm flipV="1">
            <a:off x="2370240" y="4751280"/>
            <a:ext cx="278604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83"/>
          <p:cNvSpPr/>
          <p:nvPr/>
        </p:nvSpPr>
        <p:spPr>
          <a:xfrm>
            <a:off x="2365200" y="3708360"/>
            <a:ext cx="2776680" cy="18108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83"/>
          <p:cNvSpPr/>
          <p:nvPr/>
        </p:nvSpPr>
        <p:spPr>
          <a:xfrm flipV="1">
            <a:off x="2414520" y="4730400"/>
            <a:ext cx="2752920" cy="22716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43"/>
          <p:cNvSpPr/>
          <p:nvPr/>
        </p:nvSpPr>
        <p:spPr>
          <a:xfrm>
            <a:off x="739800" y="5616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44"/>
          <p:cNvSpPr/>
          <p:nvPr/>
        </p:nvSpPr>
        <p:spPr>
          <a:xfrm>
            <a:off x="608040" y="4761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5"/>
          <p:cNvSpPr/>
          <p:nvPr/>
        </p:nvSpPr>
        <p:spPr>
          <a:xfrm>
            <a:off x="608040" y="39211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46"/>
          <p:cNvSpPr/>
          <p:nvPr/>
        </p:nvSpPr>
        <p:spPr>
          <a:xfrm>
            <a:off x="608040" y="3065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47"/>
          <p:cNvSpPr/>
          <p:nvPr/>
        </p:nvSpPr>
        <p:spPr>
          <a:xfrm>
            <a:off x="608040" y="2225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81"/>
          <p:cNvSpPr/>
          <p:nvPr/>
        </p:nvSpPr>
        <p:spPr>
          <a:xfrm flipV="1">
            <a:off x="2354400" y="5441760"/>
            <a:ext cx="281124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1"/>
          <p:cNvSpPr/>
          <p:nvPr/>
        </p:nvSpPr>
        <p:spPr>
          <a:xfrm>
            <a:off x="5310360" y="5284800"/>
            <a:ext cx="35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2"/>
          <p:cNvSpPr/>
          <p:nvPr/>
        </p:nvSpPr>
        <p:spPr>
          <a:xfrm>
            <a:off x="5310360" y="3774960"/>
            <a:ext cx="35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53"/>
          <p:cNvSpPr/>
          <p:nvPr/>
        </p:nvSpPr>
        <p:spPr>
          <a:xfrm>
            <a:off x="5310360" y="4626000"/>
            <a:ext cx="35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2"/>
          <p:cNvSpPr/>
          <p:nvPr/>
        </p:nvSpPr>
        <p:spPr>
          <a:xfrm>
            <a:off x="5310360" y="18478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51"/>
          <p:cNvSpPr/>
          <p:nvPr/>
        </p:nvSpPr>
        <p:spPr>
          <a:xfrm>
            <a:off x="5310360" y="5510160"/>
            <a:ext cx="35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52"/>
          <p:cNvSpPr/>
          <p:nvPr/>
        </p:nvSpPr>
        <p:spPr>
          <a:xfrm>
            <a:off x="1811160" y="4815000"/>
            <a:ext cx="368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1"/>
          <p:cNvSpPr/>
          <p:nvPr/>
        </p:nvSpPr>
        <p:spPr>
          <a:xfrm>
            <a:off x="1812960" y="5630760"/>
            <a:ext cx="366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53"/>
          <p:cNvSpPr/>
          <p:nvPr/>
        </p:nvSpPr>
        <p:spPr>
          <a:xfrm>
            <a:off x="1811160" y="5392800"/>
            <a:ext cx="368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52"/>
          <p:cNvSpPr/>
          <p:nvPr/>
        </p:nvSpPr>
        <p:spPr>
          <a:xfrm>
            <a:off x="1812960" y="3589200"/>
            <a:ext cx="366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51"/>
          <p:cNvSpPr/>
          <p:nvPr/>
        </p:nvSpPr>
        <p:spPr>
          <a:xfrm>
            <a:off x="1812960" y="5819760"/>
            <a:ext cx="36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68"/>
          <p:cNvSpPr/>
          <p:nvPr/>
        </p:nvSpPr>
        <p:spPr>
          <a:xfrm flipV="1">
            <a:off x="2363760" y="3715920"/>
            <a:ext cx="0" cy="222084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69"/>
          <p:cNvSpPr/>
          <p:nvPr/>
        </p:nvSpPr>
        <p:spPr>
          <a:xfrm flipV="1">
            <a:off x="5180040" y="2003040"/>
            <a:ext cx="0" cy="360036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32"/>
          <p:cNvSpPr/>
          <p:nvPr/>
        </p:nvSpPr>
        <p:spPr>
          <a:xfrm>
            <a:off x="5097600" y="1916280"/>
            <a:ext cx="152280" cy="15372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33"/>
          <p:cNvSpPr/>
          <p:nvPr/>
        </p:nvSpPr>
        <p:spPr>
          <a:xfrm>
            <a:off x="5097600" y="3809880"/>
            <a:ext cx="152280" cy="1540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34"/>
          <p:cNvSpPr/>
          <p:nvPr/>
        </p:nvSpPr>
        <p:spPr>
          <a:xfrm>
            <a:off x="5097600" y="4665600"/>
            <a:ext cx="152280" cy="15264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135"/>
          <p:cNvSpPr/>
          <p:nvPr/>
        </p:nvSpPr>
        <p:spPr>
          <a:xfrm>
            <a:off x="5097600" y="5372280"/>
            <a:ext cx="152280" cy="15372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136"/>
          <p:cNvSpPr/>
          <p:nvPr/>
        </p:nvSpPr>
        <p:spPr>
          <a:xfrm>
            <a:off x="5097600" y="5554800"/>
            <a:ext cx="152280" cy="152280"/>
          </a:xfrm>
          <a:prstGeom prst="ellipse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137"/>
          <p:cNvSpPr/>
          <p:nvPr/>
        </p:nvSpPr>
        <p:spPr>
          <a:xfrm>
            <a:off x="2293920" y="3635280"/>
            <a:ext cx="144360" cy="146160"/>
          </a:xfrm>
          <a:prstGeom prst="diamond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138"/>
          <p:cNvSpPr/>
          <p:nvPr/>
        </p:nvSpPr>
        <p:spPr>
          <a:xfrm>
            <a:off x="2293920" y="4870440"/>
            <a:ext cx="144360" cy="144360"/>
          </a:xfrm>
          <a:prstGeom prst="diamond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139"/>
          <p:cNvSpPr/>
          <p:nvPr/>
        </p:nvSpPr>
        <p:spPr>
          <a:xfrm>
            <a:off x="2293920" y="5445000"/>
            <a:ext cx="144360" cy="146160"/>
          </a:xfrm>
          <a:prstGeom prst="diamond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140"/>
          <p:cNvSpPr/>
          <p:nvPr/>
        </p:nvSpPr>
        <p:spPr>
          <a:xfrm>
            <a:off x="2293920" y="5724360"/>
            <a:ext cx="144360" cy="146160"/>
          </a:xfrm>
          <a:prstGeom prst="diamond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141"/>
          <p:cNvSpPr/>
          <p:nvPr/>
        </p:nvSpPr>
        <p:spPr>
          <a:xfrm>
            <a:off x="2293920" y="5873760"/>
            <a:ext cx="144360" cy="146160"/>
          </a:xfrm>
          <a:prstGeom prst="diamond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84"/>
          <p:cNvSpPr/>
          <p:nvPr/>
        </p:nvSpPr>
        <p:spPr>
          <a:xfrm>
            <a:off x="5838840" y="3693960"/>
            <a:ext cx="2749680" cy="6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i) th gear ratio of M1 is same as (i+1) th of Flat Front Light N1 Vehic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89" descr=""/>
          <p:cNvPicPr/>
          <p:nvPr/>
        </p:nvPicPr>
        <p:blipFill>
          <a:blip r:embed="rId1"/>
          <a:stretch/>
        </p:blipFill>
        <p:spPr>
          <a:xfrm>
            <a:off x="6248520" y="1976400"/>
            <a:ext cx="2079360" cy="15908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54" descr=""/>
          <p:cNvPicPr/>
          <p:nvPr/>
        </p:nvPicPr>
        <p:blipFill>
          <a:blip r:embed="rId2"/>
          <a:stretch/>
        </p:blipFill>
        <p:spPr>
          <a:xfrm>
            <a:off x="6176880" y="4383000"/>
            <a:ext cx="2157480" cy="161136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5"/>
          <p:cNvSpPr/>
          <p:nvPr/>
        </p:nvSpPr>
        <p:spPr>
          <a:xfrm>
            <a:off x="100080" y="87480"/>
            <a:ext cx="892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Reasons Why the Noise Level of Flat Front Light N1 Vehicles is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2"/>
          <p:cNvSpPr/>
          <p:nvPr/>
        </p:nvSpPr>
        <p:spPr>
          <a:xfrm>
            <a:off x="101520" y="28440"/>
            <a:ext cx="453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Data of Flat Front Light N1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334800" y="954000"/>
          <a:ext cx="8464680" cy="5580000"/>
        </p:xfrm>
        <a:graphic>
          <a:graphicData uri="http://schemas.openxmlformats.org/drawingml/2006/table">
            <a:tbl>
              <a:tblPr/>
              <a:tblGrid>
                <a:gridCol w="1881360"/>
                <a:gridCol w="806400"/>
                <a:gridCol w="1317600"/>
                <a:gridCol w="2184480"/>
                <a:gridCol w="1095480"/>
                <a:gridCol w="1179360"/>
              </a:tblGrid>
              <a:tr h="258120">
                <a:tc gridSpan="2" rowSpan="3"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Light Motor Veh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 rowSpan="2"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ggio Porter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7200" bIns="72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t Fro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N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eng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 eng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40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40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40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h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5 - 1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40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3 - 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 size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 - 1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 size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 - 1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 size h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- 1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el 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- 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le tr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0 - 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40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40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ay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≤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 - 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 - 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0 - 1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40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6 - 6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- 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tor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-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x sp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m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 - 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120"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6000" rIns="36000" tIns="7200" bIns="72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00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1" name="Text Box 296"/>
          <p:cNvSpPr/>
          <p:nvPr/>
        </p:nvSpPr>
        <p:spPr>
          <a:xfrm>
            <a:off x="333360" y="366840"/>
            <a:ext cx="8505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ront Light N1 Vehicle does not meet the preference of Europe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, given that the vehicle’s performance such 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yload, maximum sp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,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96"/>
          <p:cNvSpPr/>
          <p:nvPr/>
        </p:nvSpPr>
        <p:spPr>
          <a:xfrm>
            <a:off x="469800" y="6581880"/>
            <a:ext cx="629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Piaggio Porter does not meet the Light Motor Vehicle regulation in Jap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8794-C823-4370-89B8-13CAAC2EBC1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269" descr=""/>
          <p:cNvPicPr/>
          <p:nvPr/>
        </p:nvPicPr>
        <p:blipFill>
          <a:blip r:embed="rId1"/>
          <a:stretch/>
        </p:blipFill>
        <p:spPr>
          <a:xfrm>
            <a:off x="5151600" y="1197000"/>
            <a:ext cx="12967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17" descr=""/>
          <p:cNvPicPr/>
          <p:nvPr/>
        </p:nvPicPr>
        <p:blipFill>
          <a:blip r:embed="rId1"/>
          <a:stretch/>
        </p:blipFill>
        <p:spPr>
          <a:xfrm>
            <a:off x="1003320" y="743040"/>
            <a:ext cx="4583160" cy="268272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4"/>
          <p:cNvSpPr/>
          <p:nvPr/>
        </p:nvSpPr>
        <p:spPr>
          <a:xfrm>
            <a:off x="119160" y="324000"/>
            <a:ext cx="884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Example of the vehicle similar to Flat Front Light N1 Vehicle sold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17"/>
          <p:cNvGrpSpPr/>
          <p:nvPr/>
        </p:nvGrpSpPr>
        <p:grpSpPr>
          <a:xfrm>
            <a:off x="0" y="3483000"/>
            <a:ext cx="9144000" cy="3311280"/>
            <a:chOff x="0" y="3483000"/>
            <a:chExt cx="9144000" cy="3311280"/>
          </a:xfrm>
        </p:grpSpPr>
        <p:sp>
          <p:nvSpPr>
            <p:cNvPr id="1018" name="Rectangle 14"/>
            <p:cNvSpPr/>
            <p:nvPr/>
          </p:nvSpPr>
          <p:spPr>
            <a:xfrm>
              <a:off x="0" y="3571920"/>
              <a:ext cx="9144000" cy="295272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13"/>
            <p:cNvGrpSpPr/>
            <p:nvPr/>
          </p:nvGrpSpPr>
          <p:grpSpPr>
            <a:xfrm>
              <a:off x="88920" y="3483000"/>
              <a:ext cx="4641840" cy="3311280"/>
              <a:chOff x="88920" y="3483000"/>
              <a:chExt cx="4641840" cy="3311280"/>
            </a:xfrm>
          </p:grpSpPr>
          <p:pic>
            <p:nvPicPr>
              <p:cNvPr id="1020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2120" y="3581280"/>
                <a:ext cx="2583000" cy="15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88920" y="3483000"/>
                <a:ext cx="1535040" cy="164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2320" y="4824360"/>
                <a:ext cx="3538440" cy="1969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3" name="Picture 11" descr=""/>
            <p:cNvPicPr/>
            <p:nvPr/>
          </p:nvPicPr>
          <p:blipFill>
            <a:blip r:embed="rId5"/>
            <a:stretch/>
          </p:blipFill>
          <p:spPr>
            <a:xfrm>
              <a:off x="4454640" y="4572000"/>
              <a:ext cx="4505040" cy="15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4" name="Text Box 15"/>
          <p:cNvSpPr/>
          <p:nvPr/>
        </p:nvSpPr>
        <p:spPr>
          <a:xfrm>
            <a:off x="361800" y="1052640"/>
            <a:ext cx="183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ggio 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710400" y="6343560"/>
            <a:ext cx="16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rom internet home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1658-D06E-450D-90AA-F565E1B3E6A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1"/>
          <p:cNvSpPr/>
          <p:nvPr/>
        </p:nvSpPr>
        <p:spPr>
          <a:xfrm>
            <a:off x="522360" y="95724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Motor Vehicle” consists of “Light N1 Vehicle” and “Light M1 Vehicl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N1 Vehicle” consists of 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lat Front 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“Front Engine typ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posal from Japan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 f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Flat Front typ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Light N1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65280" y="4070520"/>
            <a:ext cx="21715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gin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2"/>
          <p:cNvSpPr/>
          <p:nvPr/>
        </p:nvSpPr>
        <p:spPr>
          <a:xfrm>
            <a:off x="1592280" y="3316320"/>
            <a:ext cx="2011320" cy="270000"/>
          </a:xfrm>
          <a:prstGeom prst="wedgeRectCallout">
            <a:avLst>
              <a:gd name="adj1" fmla="val -20675"/>
              <a:gd name="adj2" fmla="val 92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N1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22280" y="343080"/>
            <a:ext cx="741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IC UNDERSTA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9"/>
          <p:cNvGrpSpPr/>
          <p:nvPr/>
        </p:nvGrpSpPr>
        <p:grpSpPr>
          <a:xfrm>
            <a:off x="1012680" y="4745160"/>
            <a:ext cx="1476360" cy="911160"/>
            <a:chOff x="1012680" y="4745160"/>
            <a:chExt cx="1476360" cy="911160"/>
          </a:xfrm>
        </p:grpSpPr>
        <p:pic>
          <p:nvPicPr>
            <p:cNvPr id="55" name="Picture 20" descr=""/>
            <p:cNvPicPr/>
            <p:nvPr/>
          </p:nvPicPr>
          <p:blipFill>
            <a:blip r:embed="rId1"/>
            <a:stretch/>
          </p:blipFill>
          <p:spPr>
            <a:xfrm>
              <a:off x="1012680" y="4745160"/>
              <a:ext cx="147636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Freeform 21"/>
            <p:cNvSpPr/>
            <p:nvPr/>
          </p:nvSpPr>
          <p:spPr>
            <a:xfrm>
              <a:off x="1130760" y="5368680"/>
              <a:ext cx="98280" cy="112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7" h="285">
                  <a:moveTo>
                    <a:pt x="3" y="0"/>
                  </a:moveTo>
                  <a:lnTo>
                    <a:pt x="0" y="177"/>
                  </a:lnTo>
                  <a:lnTo>
                    <a:pt x="231" y="285"/>
                  </a:lnTo>
                  <a:lnTo>
                    <a:pt x="237" y="9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3" descr=""/>
          <p:cNvPicPr/>
          <p:nvPr/>
        </p:nvPicPr>
        <p:blipFill>
          <a:blip r:embed="rId2"/>
          <a:stretch/>
        </p:blipFill>
        <p:spPr>
          <a:xfrm>
            <a:off x="6826320" y="4606920"/>
            <a:ext cx="1695240" cy="9237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2"/>
          <p:cNvSpPr/>
          <p:nvPr/>
        </p:nvSpPr>
        <p:spPr>
          <a:xfrm>
            <a:off x="6535800" y="3316320"/>
            <a:ext cx="1985760" cy="284040"/>
          </a:xfrm>
          <a:prstGeom prst="wedgeRectCallout">
            <a:avLst>
              <a:gd name="adj1" fmla="val -20856"/>
              <a:gd name="adj2" fmla="val 168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M1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角丸四角形 32"/>
          <p:cNvSpPr/>
          <p:nvPr/>
        </p:nvSpPr>
        <p:spPr>
          <a:xfrm>
            <a:off x="291960" y="2948040"/>
            <a:ext cx="8520120" cy="3763800"/>
          </a:xfrm>
          <a:prstGeom prst="roundRect">
            <a:avLst>
              <a:gd name="adj" fmla="val 6176"/>
            </a:avLst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角丸四角形 33"/>
          <p:cNvSpPr/>
          <p:nvPr/>
        </p:nvSpPr>
        <p:spPr>
          <a:xfrm>
            <a:off x="495360" y="3703680"/>
            <a:ext cx="5761080" cy="2843280"/>
          </a:xfrm>
          <a:prstGeom prst="roundRect">
            <a:avLst>
              <a:gd name="adj" fmla="val 10968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角丸四角形 34"/>
          <p:cNvSpPr/>
          <p:nvPr/>
        </p:nvSpPr>
        <p:spPr>
          <a:xfrm>
            <a:off x="3166920" y="3817800"/>
            <a:ext cx="2787840" cy="2575080"/>
          </a:xfrm>
          <a:prstGeom prst="roundRect">
            <a:avLst>
              <a:gd name="adj" fmla="val 11593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C14B-EE5B-41F8-AC06-663021B5F49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36"/>
          <p:cNvSpPr/>
          <p:nvPr/>
        </p:nvSpPr>
        <p:spPr>
          <a:xfrm>
            <a:off x="665280" y="5907240"/>
            <a:ext cx="23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MR of GVM &gt; 35kW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506760" y="4078440"/>
            <a:ext cx="2120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lat Fro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2" descr=""/>
          <p:cNvPicPr/>
          <p:nvPr/>
        </p:nvPicPr>
        <p:blipFill>
          <a:blip r:embed="rId3"/>
          <a:stretch/>
        </p:blipFill>
        <p:spPr>
          <a:xfrm>
            <a:off x="3728880" y="4530600"/>
            <a:ext cx="1800360" cy="1057320"/>
          </a:xfrm>
          <a:prstGeom prst="rect">
            <a:avLst/>
          </a:prstGeom>
          <a:ln w="0">
            <a:noFill/>
          </a:ln>
        </p:spPr>
      </p:pic>
      <p:sp>
        <p:nvSpPr>
          <p:cNvPr id="66" name="正方形/長方形 37"/>
          <p:cNvSpPr/>
          <p:nvPr/>
        </p:nvSpPr>
        <p:spPr>
          <a:xfrm>
            <a:off x="3456000" y="5675400"/>
            <a:ext cx="23972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MR of GVM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35kW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 value&lt;1,10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2"/>
          <p:cNvSpPr/>
          <p:nvPr/>
        </p:nvSpPr>
        <p:spPr>
          <a:xfrm>
            <a:off x="2682720" y="2554200"/>
            <a:ext cx="3791160" cy="534960"/>
          </a:xfrm>
          <a:prstGeom prst="wedgeRectCallout">
            <a:avLst>
              <a:gd name="adj1" fmla="val 296"/>
              <a:gd name="adj2" fmla="val 27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Motor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VM≤2.5ton, Engine capacity ≤ 660cc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7" name=""/>
          <p:cNvGraphicFramePr/>
          <p:nvPr/>
        </p:nvGraphicFramePr>
        <p:xfrm>
          <a:off x="166680" y="1252440"/>
          <a:ext cx="8820000" cy="1576440"/>
        </p:xfrm>
        <a:graphic>
          <a:graphicData uri="http://schemas.openxmlformats.org/drawingml/2006/table">
            <a:tbl>
              <a:tblPr/>
              <a:tblGrid>
                <a:gridCol w="1933560"/>
                <a:gridCol w="961920"/>
                <a:gridCol w="5924520"/>
              </a:tblGrid>
              <a:tr h="28728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orm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ission le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 maximum speed of the test procedure is 120 km/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ut, Flat Front Light </a:t>
                      </a: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1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hicle</a:t>
                      </a: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cannot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ce this spe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, </a:t>
                      </a: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unning with wide open throttle is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quire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-condition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EC2006/40/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w air-conditioning system is necessar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8" name="Text Box 48"/>
          <p:cNvSpPr/>
          <p:nvPr/>
        </p:nvSpPr>
        <p:spPr>
          <a:xfrm>
            <a:off x="0" y="103320"/>
            <a:ext cx="9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The situation of conformity to the UN/EU Regulations of Flat Front N1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165240" y="3429000"/>
          <a:ext cx="8820000" cy="1751040"/>
        </p:xfrm>
        <a:graphic>
          <a:graphicData uri="http://schemas.openxmlformats.org/drawingml/2006/table">
            <a:tbl>
              <a:tblPr/>
              <a:tblGrid>
                <a:gridCol w="1935000"/>
                <a:gridCol w="963720"/>
                <a:gridCol w="5921280"/>
              </a:tblGrid>
              <a:tr h="1751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le side impact 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he informal document was submitted in the last GRSP (2013.12). The document will be discussed in next GRSP (2014.5). The requirements are as follow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[13X]00series   test vehicle speed is below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+/- 1km/h</a:t>
                      </a: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ehicle width &gt;1500m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 -0/+6 km/h (vehicle width ≤1500m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[13X]01series   test vehicle speed is 32 +/- 1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 case that 01series becomes mandatory, Light N1 Vehicle cannot comply with 01 series due to narrow space between frame and seats.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0" name="Text Box 59"/>
          <p:cNvSpPr/>
          <p:nvPr/>
        </p:nvSpPr>
        <p:spPr>
          <a:xfrm>
            <a:off x="171360" y="460440"/>
            <a:ext cx="893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ront Light N1 Vehicle can not be sold in Europe since it is not adaptable to many reg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60"/>
          <p:cNvSpPr/>
          <p:nvPr/>
        </p:nvSpPr>
        <p:spPr>
          <a:xfrm>
            <a:off x="171360" y="3054240"/>
            <a:ext cx="611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62"/>
          <p:cNvSpPr/>
          <p:nvPr/>
        </p:nvSpPr>
        <p:spPr>
          <a:xfrm>
            <a:off x="95400" y="5500800"/>
            <a:ext cx="9048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he following countermeasures are necessary, if Flat Front Light N1 Vehicle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hall comply with European requirements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  <a:ea typeface="Arial"/>
              </a:rPr>
              <a:t>　・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nstall drastically changed cooling system etc. for running at higher maximum speed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  <a:ea typeface="Arial"/>
              </a:rPr>
              <a:t>　・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velop a completely new air conditioner syst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  <a:ea typeface="Arial"/>
              </a:rPr>
              <a:t>　・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countermeasures to comply pole side impact regulation with 01 series due to narrow space between frame and sea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C4D6-10A4-4695-9D3C-22D4E6CB547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4" name=""/>
          <p:cNvGraphicFramePr/>
          <p:nvPr/>
        </p:nvGraphicFramePr>
        <p:xfrm>
          <a:off x="195120" y="2743200"/>
          <a:ext cx="8750520" cy="3373560"/>
        </p:xfrm>
        <a:graphic>
          <a:graphicData uri="http://schemas.openxmlformats.org/drawingml/2006/table">
            <a:tbl>
              <a:tblPr/>
              <a:tblGrid>
                <a:gridCol w="1825920"/>
                <a:gridCol w="1552320"/>
                <a:gridCol w="2197080"/>
                <a:gridCol w="1595520"/>
                <a:gridCol w="1579680"/>
              </a:tblGrid>
              <a:tr h="5796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s of Flat Front Light N1 Veh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S" 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 all gear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eter of t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m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ZUKI C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kw/5700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th:1.000, final:5.62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5R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HATSU HI-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kW/5700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th:0.838, final:6.66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5R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A AC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kW/5500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th:0.861, final:6.23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5R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SUBISHI MINIC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kW/6000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th:0.852, final:6.8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5R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5" name="Text Box 40"/>
          <p:cNvSpPr/>
          <p:nvPr/>
        </p:nvSpPr>
        <p:spPr>
          <a:xfrm>
            <a:off x="306360" y="241200"/>
            <a:ext cx="673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Maximum speed of Flat Front Light N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41"/>
          <p:cNvSpPr/>
          <p:nvPr/>
        </p:nvSpPr>
        <p:spPr>
          <a:xfrm>
            <a:off x="201600" y="2193840"/>
            <a:ext cx="79977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speed calculated with "S" rpm and over all gear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" : Rated rotational engine speed at maximum 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44"/>
          <p:cNvSpPr/>
          <p:nvPr/>
        </p:nvSpPr>
        <p:spPr>
          <a:xfrm>
            <a:off x="252360" y="819000"/>
            <a:ext cx="865980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t Front Light N1 Vehicles have very high gear ratio aiming at usage in farm area. As a result, the maximum speed of the vehicle is about 105km/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wer maximum speed makes great influence to the exhaust emission test result and utility on hig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DEF-DB57-4120-AD4E-F35D3F621CD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テキスト ボックス 4"/>
          <p:cNvSpPr/>
          <p:nvPr/>
        </p:nvSpPr>
        <p:spPr>
          <a:xfrm>
            <a:off x="176040" y="61920"/>
            <a:ext cx="869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Exhaust emission of Light N1 Vehicles (compared with EURO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241200" y="2986200"/>
          <a:ext cx="6031080" cy="1714320"/>
        </p:xfrm>
        <a:graphic>
          <a:graphicData uri="http://schemas.openxmlformats.org/drawingml/2006/table">
            <a:tbl>
              <a:tblPr/>
              <a:tblGrid>
                <a:gridCol w="990720"/>
                <a:gridCol w="1292040"/>
                <a:gridCol w="676440"/>
                <a:gridCol w="689040"/>
                <a:gridCol w="817560"/>
                <a:gridCol w="782640"/>
                <a:gridCol w="782640"/>
              </a:tblGrid>
              <a:tr h="269640">
                <a:tc gridSpan="7">
                  <a:txBody>
                    <a:bodyPr lIns="18000" rIns="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gridSpan="2">
                  <a:txBody>
                    <a:bodyPr lIns="18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k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D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5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6 - 1760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 (JC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6500880" y="2982960"/>
          <a:ext cx="2477880" cy="1725480"/>
        </p:xfrm>
        <a:graphic>
          <a:graphicData uri="http://schemas.openxmlformats.org/drawingml/2006/table">
            <a:tbl>
              <a:tblPr/>
              <a:tblGrid>
                <a:gridCol w="788760"/>
                <a:gridCol w="723960"/>
                <a:gridCol w="965160"/>
              </a:tblGrid>
              <a:tr h="285840">
                <a:tc gridSpan="3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 (p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2" name="テキスト ボックス 9"/>
          <p:cNvSpPr/>
          <p:nvPr/>
        </p:nvSpPr>
        <p:spPr>
          <a:xfrm>
            <a:off x="341280" y="4758840"/>
            <a:ext cx="703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Since the test mode is not the same, a simple comparison is not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225360" y="5440320"/>
          <a:ext cx="6075360" cy="1141560"/>
        </p:xfrm>
        <a:graphic>
          <a:graphicData uri="http://schemas.openxmlformats.org/drawingml/2006/table">
            <a:tbl>
              <a:tblPr/>
              <a:tblGrid>
                <a:gridCol w="2292480"/>
                <a:gridCol w="676080"/>
                <a:gridCol w="676440"/>
                <a:gridCol w="814320"/>
                <a:gridCol w="801720"/>
                <a:gridCol w="814320"/>
              </a:tblGrid>
              <a:tr h="312840"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k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t Front Light N1 Vehicle (JC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6362640" y="5442120"/>
          <a:ext cx="2654280" cy="1141200"/>
        </p:xfrm>
        <a:graphic>
          <a:graphicData uri="http://schemas.openxmlformats.org/drawingml/2006/table">
            <a:tbl>
              <a:tblPr/>
              <a:tblGrid>
                <a:gridCol w="914400"/>
                <a:gridCol w="739800"/>
                <a:gridCol w="1000080"/>
              </a:tblGrid>
              <a:tr h="285480">
                <a:tc gridSpan="3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 (p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N1 Vehi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-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Text Box 124"/>
          <p:cNvSpPr/>
          <p:nvPr/>
        </p:nvSpPr>
        <p:spPr>
          <a:xfrm>
            <a:off x="77760" y="5140440"/>
            <a:ext cx="611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of measured values of Flat Front Light N1 Vehi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9770-D1CC-4E09-995B-0410619A328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23"/>
          <p:cNvSpPr/>
          <p:nvPr/>
        </p:nvSpPr>
        <p:spPr>
          <a:xfrm>
            <a:off x="44280" y="2690640"/>
            <a:ext cx="42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Value (PI eng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Group 135"/>
          <p:cNvGrpSpPr/>
          <p:nvPr/>
        </p:nvGrpSpPr>
        <p:grpSpPr>
          <a:xfrm>
            <a:off x="747720" y="1508040"/>
            <a:ext cx="8275680" cy="1345320"/>
            <a:chOff x="747720" y="1508040"/>
            <a:chExt cx="8275680" cy="1345320"/>
          </a:xfrm>
        </p:grpSpPr>
        <p:sp>
          <p:nvSpPr>
            <p:cNvPr id="1049" name="直線コネクタ 2"/>
            <p:cNvSpPr/>
            <p:nvPr/>
          </p:nvSpPr>
          <p:spPr>
            <a:xfrm>
              <a:off x="1289160" y="1643040"/>
              <a:ext cx="742140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0" name="Picture 128" descr=""/>
            <p:cNvPicPr/>
            <p:nvPr/>
          </p:nvPicPr>
          <p:blipFill>
            <a:blip r:embed="rId1"/>
            <a:stretch/>
          </p:blipFill>
          <p:spPr>
            <a:xfrm>
              <a:off x="5846760" y="1584360"/>
              <a:ext cx="2847960" cy="86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131" descr=""/>
            <p:cNvPicPr/>
            <p:nvPr/>
          </p:nvPicPr>
          <p:blipFill>
            <a:blip r:embed="rId2"/>
            <a:stretch/>
          </p:blipFill>
          <p:spPr>
            <a:xfrm>
              <a:off x="1281240" y="1508040"/>
              <a:ext cx="28098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Text Box 123"/>
            <p:cNvSpPr/>
            <p:nvPr/>
          </p:nvSpPr>
          <p:spPr>
            <a:xfrm>
              <a:off x="1262160" y="2482560"/>
              <a:ext cx="2977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        400       600       800      1000      1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123"/>
            <p:cNvSpPr/>
            <p:nvPr/>
          </p:nvSpPr>
          <p:spPr>
            <a:xfrm>
              <a:off x="5864400" y="2474640"/>
              <a:ext cx="3012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        400       600       800      1000      1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123"/>
            <p:cNvSpPr/>
            <p:nvPr/>
          </p:nvSpPr>
          <p:spPr>
            <a:xfrm>
              <a:off x="3232080" y="2700720"/>
              <a:ext cx="871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second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123"/>
            <p:cNvSpPr/>
            <p:nvPr/>
          </p:nvSpPr>
          <p:spPr>
            <a:xfrm>
              <a:off x="8151840" y="2682720"/>
              <a:ext cx="871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second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123"/>
            <p:cNvSpPr/>
            <p:nvPr/>
          </p:nvSpPr>
          <p:spPr>
            <a:xfrm>
              <a:off x="1486080" y="1764720"/>
              <a:ext cx="108396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urope (NEDC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123"/>
            <p:cNvSpPr/>
            <p:nvPr/>
          </p:nvSpPr>
          <p:spPr>
            <a:xfrm>
              <a:off x="6054840" y="1671480"/>
              <a:ext cx="1009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Japan (JC08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123"/>
            <p:cNvSpPr/>
            <p:nvPr/>
          </p:nvSpPr>
          <p:spPr>
            <a:xfrm rot="16200000">
              <a:off x="323640" y="2016360"/>
              <a:ext cx="115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icle speed (km/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123"/>
            <p:cNvSpPr/>
            <p:nvPr/>
          </p:nvSpPr>
          <p:spPr>
            <a:xfrm rot="16200000">
              <a:off x="4873320" y="2032560"/>
              <a:ext cx="115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icle speed (km/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四角形吹き出し 4"/>
            <p:cNvSpPr/>
            <p:nvPr/>
          </p:nvSpPr>
          <p:spPr>
            <a:xfrm>
              <a:off x="4243320" y="1938600"/>
              <a:ext cx="887400" cy="349920"/>
            </a:xfrm>
            <a:prstGeom prst="wedgeRectCallout">
              <a:avLst>
                <a:gd name="adj1" fmla="val 9791"/>
                <a:gd name="adj2" fmla="val -132407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km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123"/>
            <p:cNvSpPr/>
            <p:nvPr/>
          </p:nvSpPr>
          <p:spPr>
            <a:xfrm>
              <a:off x="5613480" y="1674000"/>
              <a:ext cx="25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123"/>
            <p:cNvSpPr/>
            <p:nvPr/>
          </p:nvSpPr>
          <p:spPr>
            <a:xfrm>
              <a:off x="1058760" y="1726560"/>
              <a:ext cx="257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Text Box 281"/>
          <p:cNvSpPr/>
          <p:nvPr/>
        </p:nvSpPr>
        <p:spPr>
          <a:xfrm>
            <a:off x="133200" y="485640"/>
            <a:ext cx="88902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N1 Vehicle is adjusted to emission regulations for four-wheel vehicles in Japan, however, it it is very difficult to conform Light N1 Vehicles to EURO5 (exhaust emission), because Light N1 Vehicles cannot run at 120km/h. Therefore wide open throttle which causes severe condition in the exhaust emission test is required during running the test cycl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円/楕円 27"/>
          <p:cNvSpPr/>
          <p:nvPr/>
        </p:nvSpPr>
        <p:spPr>
          <a:xfrm>
            <a:off x="2570040" y="3541680"/>
            <a:ext cx="595440" cy="44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円/楕円 28"/>
          <p:cNvSpPr/>
          <p:nvPr/>
        </p:nvSpPr>
        <p:spPr>
          <a:xfrm>
            <a:off x="2570040" y="6130800"/>
            <a:ext cx="595440" cy="45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テキスト ボックス 3"/>
          <p:cNvSpPr/>
          <p:nvPr/>
        </p:nvSpPr>
        <p:spPr>
          <a:xfrm>
            <a:off x="433440" y="4366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past sales of Light Motor Vehicle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D41-E21D-434F-B6CA-AAA446AF827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3"/>
          <p:cNvSpPr/>
          <p:nvPr/>
        </p:nvSpPr>
        <p:spPr>
          <a:xfrm>
            <a:off x="623880" y="1047600"/>
            <a:ext cx="76881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Motor Vehicl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so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type approval ha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been gran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urope so far, because of utility, sales-ability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hicle with maximum speed of about 105km/h does not fit to Europe traffic flow, s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ight N1 Vehicle will not be sold in Euro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3"/>
          <p:cNvSpPr/>
          <p:nvPr/>
        </p:nvSpPr>
        <p:spPr>
          <a:xfrm>
            <a:off x="906480" y="2487600"/>
            <a:ext cx="351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ihatsu Cuore 989c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ame at Japan : Mira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s year: 2007 -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of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4" descr=""/>
          <p:cNvPicPr/>
          <p:nvPr/>
        </p:nvPicPr>
        <p:blipFill>
          <a:blip r:embed="rId1"/>
          <a:stretch/>
        </p:blipFill>
        <p:spPr>
          <a:xfrm>
            <a:off x="725400" y="3603600"/>
            <a:ext cx="3667320" cy="210492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6"/>
          <p:cNvSpPr/>
          <p:nvPr/>
        </p:nvSpPr>
        <p:spPr>
          <a:xfrm>
            <a:off x="233280" y="353880"/>
            <a:ext cx="8697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. The case of sales to Europe by using the chassis of Japanese Light Motor Vehicle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10"/>
          <p:cNvSpPr/>
          <p:nvPr/>
        </p:nvSpPr>
        <p:spPr>
          <a:xfrm>
            <a:off x="5433840" y="5889600"/>
            <a:ext cx="2878200" cy="87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zuki Super Carry 970c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s year: 1986 -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of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1"/>
          <p:cNvSpPr/>
          <p:nvPr/>
        </p:nvSpPr>
        <p:spPr>
          <a:xfrm>
            <a:off x="264960" y="1184400"/>
            <a:ext cx="8624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necessary to improve the vehicle performance in order to sell in Europe, so engine capacit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modified from 660cc to 1000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9" descr=""/>
          <p:cNvPicPr/>
          <p:nvPr/>
        </p:nvPicPr>
        <p:blipFill>
          <a:blip r:embed="rId2"/>
          <a:stretch/>
        </p:blipFill>
        <p:spPr>
          <a:xfrm>
            <a:off x="5526000" y="2259000"/>
            <a:ext cx="2541600" cy="347364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8080-48FF-4F7A-A7AF-98E621EE00F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6"/>
          <p:cNvSpPr/>
          <p:nvPr/>
        </p:nvSpPr>
        <p:spPr>
          <a:xfrm>
            <a:off x="8483760" y="6456240"/>
            <a:ext cx="59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E1F0-1F11-4D48-93F5-D75F05FCC9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35"/>
          <p:cNvSpPr/>
          <p:nvPr/>
        </p:nvSpPr>
        <p:spPr>
          <a:xfrm>
            <a:off x="344520" y="57240"/>
            <a:ext cx="4189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35"/>
          <p:cNvSpPr/>
          <p:nvPr/>
        </p:nvSpPr>
        <p:spPr>
          <a:xfrm>
            <a:off x="649440" y="446040"/>
            <a:ext cx="80629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egard to the sub-category and limit values for Flat Front Light N1 vehicles, we propo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649440" y="1112760"/>
            <a:ext cx="7866000" cy="297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2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lnSpc>
                <a:spcPts val="15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2.2.2.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vehicle types of category N1 having a maximum technically permissible laden mass of less than or equal to 2.5 tons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 PMR of GVW of less than or equal to 35 kW/t and a horizontal distance “d” between the front axle and the driver’s seat R-point of less than 1100 m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the limits of the vehicle types of category N1 having a maximum technically permissible laden mass above 2.5 tons app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lnSpc>
                <a:spcPts val="15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1736640" y="1230480"/>
          <a:ext cx="6607440" cy="1280880"/>
        </p:xfrm>
        <a:graphic>
          <a:graphicData uri="http://schemas.openxmlformats.org/drawingml/2006/table">
            <a:tbl>
              <a:tblPr/>
              <a:tblGrid>
                <a:gridCol w="955800"/>
                <a:gridCol w="2992320"/>
                <a:gridCol w="804960"/>
                <a:gridCol w="888840"/>
                <a:gridCol w="965520"/>
              </a:tblGrid>
              <a:tr h="23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.C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s used for the carriage of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e3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VW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VW&gt;2.5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1" name="Rectangle 4"/>
          <p:cNvSpPr/>
          <p:nvPr/>
        </p:nvSpPr>
        <p:spPr>
          <a:xfrm>
            <a:off x="649440" y="4570560"/>
            <a:ext cx="7866000" cy="22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2.2.1     (same as the ab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>
              <a:lnSpc>
                <a:spcPts val="15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2.2.1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vehicle types of category N1 having a maximum technically permissible laden mass of less than or equal to 2.5 tons,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the engine capacity not exceeding 660 cc and the power-to-mass ratio (PMR) calculated by using the maximum technically permissible laden  mass not exceeding 35kW/t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nd a horizontal distance "d" between the front axle and the driver's seat R point of less than 1100 m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the limits of the vehicle types of category N1 having a maximum technically permissible laden mass above 2.5 tons 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下矢印 3"/>
          <p:cNvSpPr/>
          <p:nvPr/>
        </p:nvSpPr>
        <p:spPr>
          <a:xfrm>
            <a:off x="2219400" y="4197240"/>
            <a:ext cx="2550960" cy="317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正方形/長方形 4"/>
          <p:cNvSpPr/>
          <p:nvPr/>
        </p:nvSpPr>
        <p:spPr>
          <a:xfrm>
            <a:off x="5802480" y="3814920"/>
            <a:ext cx="276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xcerpt from GRB-58-17-Rev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正方形/長方形 9"/>
          <p:cNvSpPr/>
          <p:nvPr/>
        </p:nvSpPr>
        <p:spPr>
          <a:xfrm>
            <a:off x="6103080" y="65502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xcerpt fro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B-59-0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角丸四角形吹き出し 8"/>
          <p:cNvSpPr/>
          <p:nvPr/>
        </p:nvSpPr>
        <p:spPr>
          <a:xfrm>
            <a:off x="4827600" y="4214880"/>
            <a:ext cx="4248000" cy="755640"/>
          </a:xfrm>
          <a:prstGeom prst="wedgeRoundRectCallout">
            <a:avLst>
              <a:gd name="adj1" fmla="val -62486"/>
              <a:gd name="adj2" fmla="val 58662"/>
              <a:gd name="adj3" fmla="val 16667"/>
            </a:avLst>
          </a:prstGeom>
          <a:solidFill>
            <a:srgbClr val="ffff99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apan’s proposal is already included into the informal document 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B-59-04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” submitted by the GRB Expert Group on R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 Box 2"/>
          <p:cNvSpPr/>
          <p:nvPr/>
        </p:nvSpPr>
        <p:spPr>
          <a:xfrm>
            <a:off x="3191040" y="3098880"/>
            <a:ext cx="2611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9155-B267-4050-B92D-5B270A29EFD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角丸四角形 39"/>
          <p:cNvSpPr/>
          <p:nvPr/>
        </p:nvSpPr>
        <p:spPr>
          <a:xfrm>
            <a:off x="6807240" y="4573440"/>
            <a:ext cx="1724040" cy="1538280"/>
          </a:xfrm>
          <a:prstGeom prst="roundRect">
            <a:avLst>
              <a:gd name="adj" fmla="val 11593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22280" y="343080"/>
            <a:ext cx="741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IC UNDERSTANDINGS (addi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1F85-E996-41A5-8E3D-BCCFA95B8C7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3600" y="1341360"/>
            <a:ext cx="13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2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25560" y="1341360"/>
          <a:ext cx="5046480" cy="4068720"/>
        </p:xfrm>
        <a:graphic>
          <a:graphicData uri="http://schemas.openxmlformats.org/drawingml/2006/table">
            <a:tbl>
              <a:tblPr/>
              <a:tblGrid>
                <a:gridCol w="893880"/>
                <a:gridCol w="1591920"/>
                <a:gridCol w="827280"/>
                <a:gridCol w="790560"/>
                <a:gridCol w="942840"/>
              </a:tblGrid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.C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icles used for the carriage of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3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R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20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.C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icles used for the carriage of g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3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VW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VW &gt; 2.5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正方形/長方形 2"/>
          <p:cNvSpPr/>
          <p:nvPr/>
        </p:nvSpPr>
        <p:spPr>
          <a:xfrm>
            <a:off x="6809760" y="2154240"/>
            <a:ext cx="1785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M1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3"/>
          <p:cNvSpPr/>
          <p:nvPr/>
        </p:nvSpPr>
        <p:spPr>
          <a:xfrm>
            <a:off x="6780960" y="4029120"/>
            <a:ext cx="17870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 Engin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MR of GVM &gt; 35kW/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3" descr=""/>
          <p:cNvPicPr/>
          <p:nvPr/>
        </p:nvPicPr>
        <p:blipFill>
          <a:blip r:embed="rId1"/>
          <a:stretch/>
        </p:blipFill>
        <p:spPr>
          <a:xfrm>
            <a:off x="6997680" y="1465200"/>
            <a:ext cx="1265400" cy="6890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19"/>
          <p:cNvGrpSpPr/>
          <p:nvPr/>
        </p:nvGrpSpPr>
        <p:grpSpPr>
          <a:xfrm>
            <a:off x="7120080" y="3382920"/>
            <a:ext cx="1171440" cy="722520"/>
            <a:chOff x="7120080" y="3382920"/>
            <a:chExt cx="1171440" cy="722520"/>
          </a:xfrm>
        </p:grpSpPr>
        <p:pic>
          <p:nvPicPr>
            <p:cNvPr id="77" name="Picture 20" descr=""/>
            <p:cNvPicPr/>
            <p:nvPr/>
          </p:nvPicPr>
          <p:blipFill>
            <a:blip r:embed="rId2"/>
            <a:stretch/>
          </p:blipFill>
          <p:spPr>
            <a:xfrm>
              <a:off x="7120080" y="3382920"/>
              <a:ext cx="117144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Freeform 21"/>
            <p:cNvSpPr/>
            <p:nvPr/>
          </p:nvSpPr>
          <p:spPr>
            <a:xfrm>
              <a:off x="7213680" y="3877200"/>
              <a:ext cx="78120" cy="892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37" h="285">
                  <a:moveTo>
                    <a:pt x="3" y="0"/>
                  </a:moveTo>
                  <a:lnTo>
                    <a:pt x="0" y="177"/>
                  </a:lnTo>
                  <a:lnTo>
                    <a:pt x="231" y="285"/>
                  </a:lnTo>
                  <a:lnTo>
                    <a:pt x="237" y="9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正方形/長方形 4"/>
          <p:cNvSpPr/>
          <p:nvPr/>
        </p:nvSpPr>
        <p:spPr>
          <a:xfrm>
            <a:off x="6750000" y="5494320"/>
            <a:ext cx="18525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t Front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MR of GVM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5kW/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value&lt;1100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2" descr=""/>
          <p:cNvPicPr/>
          <p:nvPr/>
        </p:nvPicPr>
        <p:blipFill>
          <a:blip r:embed="rId3"/>
          <a:stretch/>
        </p:blipFill>
        <p:spPr>
          <a:xfrm>
            <a:off x="6997680" y="4689360"/>
            <a:ext cx="1355760" cy="797040"/>
          </a:xfrm>
          <a:prstGeom prst="rect">
            <a:avLst/>
          </a:prstGeom>
          <a:ln w="0">
            <a:noFill/>
          </a:ln>
        </p:spPr>
      </p:pic>
      <p:sp>
        <p:nvSpPr>
          <p:cNvPr id="81" name="正方形/長方形 40"/>
          <p:cNvSpPr/>
          <p:nvPr/>
        </p:nvSpPr>
        <p:spPr>
          <a:xfrm>
            <a:off x="4370760" y="582948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apan’s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角丸四角形 48"/>
          <p:cNvSpPr/>
          <p:nvPr/>
        </p:nvSpPr>
        <p:spPr>
          <a:xfrm>
            <a:off x="6408720" y="1163520"/>
            <a:ext cx="2495520" cy="5211720"/>
          </a:xfrm>
          <a:custGeom>
            <a:avLst/>
            <a:gdLst>
              <a:gd name="textAreaLeft" fmla="*/ 61200 w 2495520"/>
              <a:gd name="textAreaRight" fmla="*/ 2434320 w 2495520"/>
              <a:gd name="textAreaTop" fmla="*/ 61200 h 5211720"/>
              <a:gd name="textAreaBottom" fmla="*/ 5150520 h 5211720"/>
            </a:gdLst>
            <a:ahLst/>
            <a:rect l="textAreaLeft" t="textAreaTop" r="textAreaRight" b="textAreaBottom"/>
            <a:pathLst>
              <a:path w="21600" h="45107">
                <a:moveTo>
                  <a:pt x="1810" y="0"/>
                </a:moveTo>
                <a:arcTo wR="1810" hR="1810" stAng="16200000" swAng="-5400000"/>
                <a:lnTo>
                  <a:pt x="0" y="43297"/>
                </a:lnTo>
                <a:arcTo wR="1810" hR="1810" stAng="10800000" swAng="-5400000"/>
                <a:lnTo>
                  <a:pt x="19790" y="45107"/>
                </a:lnTo>
                <a:arcTo wR="1810" hR="1810" stAng="5400000" swAng="-5400000"/>
                <a:lnTo>
                  <a:pt x="21600" y="1810"/>
                </a:lnTo>
                <a:arcTo wR="1810" hR="181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2"/>
          <p:cNvSpPr/>
          <p:nvPr/>
        </p:nvSpPr>
        <p:spPr>
          <a:xfrm>
            <a:off x="6554880" y="620640"/>
            <a:ext cx="2239920" cy="790560"/>
          </a:xfrm>
          <a:prstGeom prst="wedgeRectCallout">
            <a:avLst>
              <a:gd name="adj1" fmla="val 296"/>
              <a:gd name="adj2" fmla="val 27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Motor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GVM≤2.5ton, Engine capacity ≤ 660cc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角丸四角形 78"/>
          <p:cNvSpPr/>
          <p:nvPr/>
        </p:nvSpPr>
        <p:spPr>
          <a:xfrm>
            <a:off x="6672240" y="3124080"/>
            <a:ext cx="1995480" cy="3132360"/>
          </a:xfrm>
          <a:custGeom>
            <a:avLst/>
            <a:gdLst>
              <a:gd name="textAreaLeft" fmla="*/ 64080 w 1995480"/>
              <a:gd name="textAreaRight" fmla="*/ 1931400 w 1995480"/>
              <a:gd name="textAreaTop" fmla="*/ 64080 h 3132360"/>
              <a:gd name="textAreaBottom" fmla="*/ 3068280 h 3132360"/>
            </a:gdLst>
            <a:ahLst/>
            <a:rect l="textAreaLeft" t="textAreaTop" r="textAreaRight" b="textAreaBottom"/>
            <a:pathLst>
              <a:path w="21600" h="33904">
                <a:moveTo>
                  <a:pt x="2369" y="0"/>
                </a:moveTo>
                <a:arcTo wR="2369" hR="2369" stAng="16200000" swAng="-5400000"/>
                <a:lnTo>
                  <a:pt x="0" y="31535"/>
                </a:lnTo>
                <a:arcTo wR="2369" hR="2369" stAng="10800000" swAng="-5400000"/>
                <a:lnTo>
                  <a:pt x="19231" y="33904"/>
                </a:lnTo>
                <a:arcTo wR="2369" hR="2369" stAng="5400000" swAng="-5400000"/>
                <a:lnTo>
                  <a:pt x="21600" y="2369"/>
                </a:lnTo>
                <a:arcTo wR="2369" hR="2369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2"/>
          <p:cNvSpPr/>
          <p:nvPr/>
        </p:nvSpPr>
        <p:spPr>
          <a:xfrm>
            <a:off x="6869160" y="2968560"/>
            <a:ext cx="1662120" cy="311040"/>
          </a:xfrm>
          <a:prstGeom prst="wedgeRectCallout">
            <a:avLst>
              <a:gd name="adj1" fmla="val -15305"/>
              <a:gd name="adj2" fmla="val 18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N1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右矢印 80"/>
          <p:cNvSpPr/>
          <p:nvPr/>
        </p:nvSpPr>
        <p:spPr>
          <a:xfrm rot="10800000">
            <a:off x="5838840" y="2095200"/>
            <a:ext cx="968400" cy="360360"/>
          </a:xfrm>
          <a:prstGeom prst="rightArrow">
            <a:avLst>
              <a:gd name="adj1" fmla="val 50000"/>
              <a:gd name="adj2" fmla="val 49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右矢印 81"/>
          <p:cNvSpPr/>
          <p:nvPr/>
        </p:nvSpPr>
        <p:spPr>
          <a:xfrm rot="10800000">
            <a:off x="5838840" y="4105080"/>
            <a:ext cx="968400" cy="360360"/>
          </a:xfrm>
          <a:prstGeom prst="rightArrow">
            <a:avLst>
              <a:gd name="adj1" fmla="val 50000"/>
              <a:gd name="adj2" fmla="val 4997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右矢印 82"/>
          <p:cNvSpPr/>
          <p:nvPr/>
        </p:nvSpPr>
        <p:spPr>
          <a:xfrm rot="10800000">
            <a:off x="5838840" y="4573080"/>
            <a:ext cx="968400" cy="36036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85"/>
          <p:cNvCxnSpPr/>
          <p:nvPr/>
        </p:nvCxnSpPr>
        <p:spPr>
          <a:xfrm flipV="1">
            <a:off x="6208200" y="4753800"/>
            <a:ext cx="1080" cy="10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90" name="角丸四角形吹き出し 24"/>
          <p:cNvSpPr/>
          <p:nvPr/>
        </p:nvSpPr>
        <p:spPr>
          <a:xfrm>
            <a:off x="187200" y="5923080"/>
            <a:ext cx="3708360" cy="664920"/>
          </a:xfrm>
          <a:prstGeom prst="wedgeRoundRectCallout">
            <a:avLst>
              <a:gd name="adj1" fmla="val 63768"/>
              <a:gd name="adj2" fmla="val -32888"/>
              <a:gd name="adj3" fmla="val 16667"/>
            </a:avLst>
          </a:prstGeom>
          <a:solidFill>
            <a:srgbClr val="ffffff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pan’s proposal is already included into the informal document 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B-59-04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” submitted by the GRB Expert Group on R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A3D2-A556-4AF9-958B-9495C0FFEA4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22280" y="343080"/>
            <a:ext cx="49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14440" y="690480"/>
            <a:ext cx="828036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Regulations for Light N1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 size (loading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 of the Flat Front Light N1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of Light N1 Vehicles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Levels of Flat Front Light N1 Vehicles under R51-03 Test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Flat Front Light N1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he Noise Level of Flat Front Light N1 Vehicles is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of Flat Front Light N1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the vehicle similar to Flat Front Light N1 Vehicle sold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tuation of conformity to the UN/EU Regulations of Flat Front N1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speed of Flat Front Light N1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aust emission of Flat Front Light N1 Vehicle (compare with EURO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past sales of Light Motor Vehicles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se of sales to Europe by using the chassis of Japanese Light Motor Vehicle in the 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テキスト ボックス 3"/>
          <p:cNvSpPr/>
          <p:nvPr/>
        </p:nvSpPr>
        <p:spPr>
          <a:xfrm>
            <a:off x="671400" y="21225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0m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8m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5"/>
          <p:cNvSpPr/>
          <p:nvPr/>
        </p:nvSpPr>
        <p:spPr>
          <a:xfrm>
            <a:off x="620640" y="1581120"/>
            <a:ext cx="539928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xterior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22280" y="343080"/>
            <a:ext cx="6060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ese Regulations for Light N1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701640" y="1054080"/>
            <a:ext cx="779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N1 Vehicle is defin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1363680" y="3087720"/>
            <a:ext cx="2225520" cy="237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2"/>
          <a:stretch/>
        </p:blipFill>
        <p:spPr>
          <a:xfrm>
            <a:off x="3843360" y="3124080"/>
            <a:ext cx="4282920" cy="235584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 flipV="1">
            <a:off x="1295280" y="5416200"/>
            <a:ext cx="71755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1"/>
          <p:cNvGrpSpPr/>
          <p:nvPr/>
        </p:nvGrpSpPr>
        <p:grpSpPr>
          <a:xfrm>
            <a:off x="1523880" y="4641840"/>
            <a:ext cx="1882800" cy="1282680"/>
            <a:chOff x="1523880" y="4641840"/>
            <a:chExt cx="1882800" cy="1282680"/>
          </a:xfrm>
        </p:grpSpPr>
        <p:sp>
          <p:nvSpPr>
            <p:cNvPr id="102" name="Line 23"/>
            <p:cNvSpPr/>
            <p:nvPr/>
          </p:nvSpPr>
          <p:spPr>
            <a:xfrm>
              <a:off x="1523880" y="4641840"/>
              <a:ext cx="0" cy="12826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406680" y="4641840"/>
              <a:ext cx="0" cy="12826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25"/>
          <p:cNvSpPr/>
          <p:nvPr/>
        </p:nvSpPr>
        <p:spPr>
          <a:xfrm>
            <a:off x="1523880" y="5632560"/>
            <a:ext cx="190512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2136600" y="5530680"/>
            <a:ext cx="64296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.48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3886200" y="4680000"/>
            <a:ext cx="0" cy="12445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8109000" y="4172040"/>
            <a:ext cx="0" cy="1752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3886200" y="5632560"/>
            <a:ext cx="42544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616720" y="5530680"/>
            <a:ext cx="66816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.40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2"/>
          <p:cNvGrpSpPr/>
          <p:nvPr/>
        </p:nvGrpSpPr>
        <p:grpSpPr>
          <a:xfrm>
            <a:off x="857160" y="3111480"/>
            <a:ext cx="1092240" cy="2320560"/>
            <a:chOff x="857160" y="3111480"/>
            <a:chExt cx="1092240" cy="2320560"/>
          </a:xfrm>
        </p:grpSpPr>
        <p:sp>
          <p:nvSpPr>
            <p:cNvPr id="111" name="Line 33"/>
            <p:cNvSpPr/>
            <p:nvPr/>
          </p:nvSpPr>
          <p:spPr>
            <a:xfrm flipH="1">
              <a:off x="857160" y="3111480"/>
              <a:ext cx="109224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4"/>
            <p:cNvSpPr/>
            <p:nvPr/>
          </p:nvSpPr>
          <p:spPr>
            <a:xfrm flipH="1">
              <a:off x="857160" y="5432040"/>
              <a:ext cx="109224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35"/>
          <p:cNvSpPr/>
          <p:nvPr/>
        </p:nvSpPr>
        <p:spPr>
          <a:xfrm>
            <a:off x="1123920" y="3111480"/>
            <a:ext cx="0" cy="233676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 rot="5400000">
            <a:off x="782280" y="4098240"/>
            <a:ext cx="67932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.00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496360" y="6534000"/>
            <a:ext cx="59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293-E641-45DE-83E1-EA3A89174ED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2"/>
          <p:cNvSpPr/>
          <p:nvPr/>
        </p:nvSpPr>
        <p:spPr>
          <a:xfrm>
            <a:off x="5024520" y="2420280"/>
            <a:ext cx="3929040" cy="7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forcement Regulations for Road Vehicles Act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S P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rticle 2 Attached Tabl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テキスト ボックス 3"/>
          <p:cNvSpPr/>
          <p:nvPr/>
        </p:nvSpPr>
        <p:spPr>
          <a:xfrm>
            <a:off x="747720" y="128592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capacity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5"/>
          <p:cNvSpPr/>
          <p:nvPr/>
        </p:nvSpPr>
        <p:spPr>
          <a:xfrm>
            <a:off x="557280" y="731880"/>
            <a:ext cx="539892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Engin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3"/>
          <p:cNvSpPr/>
          <p:nvPr/>
        </p:nvSpPr>
        <p:spPr>
          <a:xfrm>
            <a:off x="557280" y="2306520"/>
            <a:ext cx="5398920" cy="42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Maximum loading capacity (paylo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4"/>
          <p:cNvSpPr/>
          <p:nvPr/>
        </p:nvSpPr>
        <p:spPr>
          <a:xfrm>
            <a:off x="696960" y="2844720"/>
            <a:ext cx="47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loading capacity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7"/>
          <p:cNvSpPr/>
          <p:nvPr/>
        </p:nvSpPr>
        <p:spPr>
          <a:xfrm>
            <a:off x="557280" y="4010040"/>
            <a:ext cx="539892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Maximum seating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8"/>
          <p:cNvSpPr/>
          <p:nvPr/>
        </p:nvSpPr>
        <p:spPr>
          <a:xfrm>
            <a:off x="684360" y="4514760"/>
            <a:ext cx="45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seating capacity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per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03200" y="200160"/>
            <a:ext cx="640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Japanese Regulations for Light N1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5"/>
          <p:cNvSpPr/>
          <p:nvPr/>
        </p:nvSpPr>
        <p:spPr>
          <a:xfrm>
            <a:off x="557280" y="5477040"/>
            <a:ext cx="539892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 bed size (loading 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6"/>
          <p:cNvSpPr/>
          <p:nvPr/>
        </p:nvSpPr>
        <p:spPr>
          <a:xfrm>
            <a:off x="550800" y="596736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 siz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6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4"/>
          <p:cNvSpPr/>
          <p:nvPr/>
        </p:nvSpPr>
        <p:spPr>
          <a:xfrm>
            <a:off x="4672080" y="3034440"/>
            <a:ext cx="4281480" cy="42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0" anchor="ctr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Motor Vehicle Inspection Activity Regulation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3-6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8"/>
          <p:cNvSpPr/>
          <p:nvPr/>
        </p:nvSpPr>
        <p:spPr>
          <a:xfrm>
            <a:off x="5048280" y="4641120"/>
            <a:ext cx="3905280" cy="42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0" anchor="ctr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amination Standards for New Type Vehicle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nex 2-26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8"/>
          <p:cNvSpPr/>
          <p:nvPr/>
        </p:nvSpPr>
        <p:spPr>
          <a:xfrm>
            <a:off x="5224320" y="6009480"/>
            <a:ext cx="3729240" cy="42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0" anchor="ctr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tion of Use of Motor Vehicles, etc.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2"/>
          <p:cNvSpPr/>
          <p:nvPr/>
        </p:nvSpPr>
        <p:spPr>
          <a:xfrm>
            <a:off x="5024520" y="1394640"/>
            <a:ext cx="3929040" cy="7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forcement Regulations for Road Vehicles Act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S P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rticle 2 Attached Tabl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C176-BB07-4FC9-94C2-B8F4F570622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"/>
          <p:cNvPicPr/>
          <p:nvPr/>
        </p:nvPicPr>
        <p:blipFill>
          <a:blip r:embed="rId1"/>
          <a:stretch/>
        </p:blipFill>
        <p:spPr>
          <a:xfrm>
            <a:off x="6434280" y="57240"/>
            <a:ext cx="18763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5"/>
          <p:cNvSpPr/>
          <p:nvPr/>
        </p:nvSpPr>
        <p:spPr>
          <a:xfrm>
            <a:off x="374760" y="200160"/>
            <a:ext cx="419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ed size (loading spa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1"/>
          <p:cNvSpPr/>
          <p:nvPr/>
        </p:nvSpPr>
        <p:spPr>
          <a:xfrm>
            <a:off x="279360" y="356868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d size example of Flat Front Light N1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1920mm x W1410mm ; 2.7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385920" y="1623960"/>
            <a:ext cx="4717440" cy="1912320"/>
            <a:chOff x="385920" y="1623960"/>
            <a:chExt cx="4717440" cy="1912320"/>
          </a:xfrm>
        </p:grpSpPr>
        <p:grpSp>
          <p:nvGrpSpPr>
            <p:cNvPr id="135" name="Group 45"/>
            <p:cNvGrpSpPr/>
            <p:nvPr/>
          </p:nvGrpSpPr>
          <p:grpSpPr>
            <a:xfrm>
              <a:off x="385920" y="1623960"/>
              <a:ext cx="3808080" cy="1912320"/>
              <a:chOff x="385920" y="1623960"/>
              <a:chExt cx="3808080" cy="1912320"/>
            </a:xfrm>
          </p:grpSpPr>
          <p:sp>
            <p:nvSpPr>
              <p:cNvPr id="136" name="Rectangle 44"/>
              <p:cNvSpPr/>
              <p:nvPr/>
            </p:nvSpPr>
            <p:spPr>
              <a:xfrm>
                <a:off x="1988280" y="1801080"/>
                <a:ext cx="2103120" cy="15408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Picture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920" y="1623960"/>
                <a:ext cx="3808080" cy="191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Line 35"/>
            <p:cNvSpPr/>
            <p:nvPr/>
          </p:nvSpPr>
          <p:spPr>
            <a:xfrm>
              <a:off x="2865600" y="1814040"/>
              <a:ext cx="170136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36"/>
            <p:cNvSpPr/>
            <p:nvPr/>
          </p:nvSpPr>
          <p:spPr>
            <a:xfrm>
              <a:off x="2865600" y="3324600"/>
              <a:ext cx="170136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7"/>
            <p:cNvSpPr/>
            <p:nvPr/>
          </p:nvSpPr>
          <p:spPr>
            <a:xfrm>
              <a:off x="4469400" y="1833840"/>
              <a:ext cx="0" cy="146484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38"/>
            <p:cNvGrpSpPr/>
            <p:nvPr/>
          </p:nvGrpSpPr>
          <p:grpSpPr>
            <a:xfrm>
              <a:off x="3724920" y="1740600"/>
              <a:ext cx="1378440" cy="1657440"/>
              <a:chOff x="3724920" y="1740600"/>
              <a:chExt cx="1378440" cy="1657440"/>
            </a:xfrm>
          </p:grpSpPr>
          <p:sp>
            <p:nvSpPr>
              <p:cNvPr id="142" name="Line 39"/>
              <p:cNvSpPr/>
              <p:nvPr/>
            </p:nvSpPr>
            <p:spPr>
              <a:xfrm>
                <a:off x="3724920" y="3398040"/>
                <a:ext cx="137844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0"/>
              <p:cNvSpPr/>
              <p:nvPr/>
            </p:nvSpPr>
            <p:spPr>
              <a:xfrm>
                <a:off x="3724920" y="1740600"/>
                <a:ext cx="137844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Line 41"/>
            <p:cNvSpPr/>
            <p:nvPr/>
          </p:nvSpPr>
          <p:spPr>
            <a:xfrm flipV="1">
              <a:off x="4902120" y="1732320"/>
              <a:ext cx="0" cy="1668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2"/>
            <p:cNvSpPr/>
            <p:nvPr/>
          </p:nvSpPr>
          <p:spPr>
            <a:xfrm rot="16200000">
              <a:off x="4358880" y="2476800"/>
              <a:ext cx="941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1.475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3"/>
            <p:cNvSpPr/>
            <p:nvPr/>
          </p:nvSpPr>
          <p:spPr>
            <a:xfrm rot="16200000">
              <a:off x="4047840" y="2423520"/>
              <a:ext cx="774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3300"/>
                  </a:solidFill>
                  <a:latin typeface="Arial"/>
                </a:rPr>
                <a:t>1.41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6"/>
          <p:cNvSpPr/>
          <p:nvPr/>
        </p:nvSpPr>
        <p:spPr>
          <a:xfrm>
            <a:off x="495360" y="708120"/>
            <a:ext cx="85978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 regulation requires that bed size of Light N1 Vehicles is 0.6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ere is no reg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stipulating the maximum bed size, while in practice it is as close as possible to the exterior dimensions of the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CCCE-46E9-49B1-AD8A-CB4111B9645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3"/>
          <a:stretch/>
        </p:blipFill>
        <p:spPr>
          <a:xfrm>
            <a:off x="4494240" y="3441600"/>
            <a:ext cx="4410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34800" y="210960"/>
            <a:ext cx="513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sage of the Flat Front Light N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82600" y="765000"/>
            <a:ext cx="867096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Flat Front Light N1 Vehicles are used in agricultural area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% of Flat Front Light N1 Vehicles are driven near such area (farm or factory), far from urban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870120" y="4167360"/>
            <a:ext cx="3317760" cy="2098440"/>
          </a:xfrm>
          <a:prstGeom prst="rect">
            <a:avLst/>
          </a:prstGeom>
          <a:ln w="0">
            <a:noFill/>
          </a:ln>
        </p:spPr>
      </p:pic>
      <p:sp>
        <p:nvSpPr>
          <p:cNvPr id="153" name="Freeform 87"/>
          <p:cNvSpPr/>
          <p:nvPr/>
        </p:nvSpPr>
        <p:spPr>
          <a:xfrm>
            <a:off x="6710400" y="1919160"/>
            <a:ext cx="1708200" cy="340380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3403800"/>
              <a:gd name="textAreaBottom" fmla="*/ 3404160 h 3403800"/>
            </a:gdLst>
            <a:ahLst/>
            <a:rect l="textAreaLeft" t="textAreaTop" r="textAreaRight" b="textAreaBottom"/>
            <a:pathLst>
              <a:path w="120" h="239">
                <a:moveTo>
                  <a:pt x="5" y="239"/>
                </a:moveTo>
                <a:cubicBezTo>
                  <a:pt x="69" y="236"/>
                  <a:pt x="120" y="183"/>
                  <a:pt x="120" y="120"/>
                </a:cubicBezTo>
                <a:cubicBezTo>
                  <a:pt x="120" y="53"/>
                  <a:pt x="66" y="0"/>
                  <a:pt x="0" y="0"/>
                </a:cubicBezTo>
                <a:lnTo>
                  <a:pt x="0" y="120"/>
                </a:lnTo>
                <a:lnTo>
                  <a:pt x="5" y="239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8"/>
          <p:cNvSpPr/>
          <p:nvPr/>
        </p:nvSpPr>
        <p:spPr>
          <a:xfrm>
            <a:off x="5268960" y="3676680"/>
            <a:ext cx="1468440" cy="1665360"/>
          </a:xfrm>
          <a:custGeom>
            <a:avLst/>
            <a:gdLst>
              <a:gd name="textAreaLeft" fmla="*/ 0 w 1468440"/>
              <a:gd name="textAreaRight" fmla="*/ 1468440 w 146844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05" h="119">
                <a:moveTo>
                  <a:pt x="0" y="67"/>
                </a:moveTo>
                <a:cubicBezTo>
                  <a:pt x="22" y="100"/>
                  <a:pt x="60" y="119"/>
                  <a:pt x="100" y="119"/>
                </a:cubicBezTo>
                <a:cubicBezTo>
                  <a:pt x="101" y="119"/>
                  <a:pt x="103" y="119"/>
                  <a:pt x="105" y="119"/>
                </a:cubicBezTo>
                <a:lnTo>
                  <a:pt x="10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f99cc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9"/>
          <p:cNvSpPr/>
          <p:nvPr/>
        </p:nvSpPr>
        <p:spPr>
          <a:xfrm>
            <a:off x="4946760" y="2960640"/>
            <a:ext cx="1690560" cy="1623960"/>
          </a:xfrm>
          <a:custGeom>
            <a:avLst/>
            <a:gdLst>
              <a:gd name="textAreaLeft" fmla="*/ 0 w 1690560"/>
              <a:gd name="textAreaRight" fmla="*/ 1690920 w 169056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21" h="116">
                <a:moveTo>
                  <a:pt x="11" y="0"/>
                </a:moveTo>
                <a:cubicBezTo>
                  <a:pt x="4" y="15"/>
                  <a:pt x="1" y="32"/>
                  <a:pt x="1" y="48"/>
                </a:cubicBezTo>
                <a:cubicBezTo>
                  <a:pt x="0" y="72"/>
                  <a:pt x="8" y="96"/>
                  <a:pt x="21" y="116"/>
                </a:cubicBezTo>
                <a:lnTo>
                  <a:pt x="121" y="49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90"/>
          <p:cNvSpPr/>
          <p:nvPr/>
        </p:nvSpPr>
        <p:spPr>
          <a:xfrm>
            <a:off x="5127480" y="1928880"/>
            <a:ext cx="1540080" cy="1679400"/>
          </a:xfrm>
          <a:custGeom>
            <a:avLst/>
            <a:gdLst>
              <a:gd name="textAreaLeft" fmla="*/ 0 w 1540080"/>
              <a:gd name="textAreaRight" fmla="*/ 1540440 w 154008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110" h="120">
                <a:moveTo>
                  <a:pt x="109" y="0"/>
                </a:moveTo>
                <a:cubicBezTo>
                  <a:pt x="62" y="0"/>
                  <a:pt x="19" y="27"/>
                  <a:pt x="0" y="71"/>
                </a:cubicBezTo>
                <a:lnTo>
                  <a:pt x="110" y="120"/>
                </a:lnTo>
                <a:lnTo>
                  <a:pt x="109" y="0"/>
                </a:lnTo>
                <a:close/>
              </a:path>
            </a:pathLst>
          </a:custGeom>
          <a:solidFill>
            <a:srgbClr val="ccffff"/>
          </a:solidFill>
          <a:ln w="255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3"/>
          <p:cNvSpPr/>
          <p:nvPr/>
        </p:nvSpPr>
        <p:spPr>
          <a:xfrm>
            <a:off x="6991200" y="3432240"/>
            <a:ext cx="12430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4"/>
          <p:cNvSpPr/>
          <p:nvPr/>
        </p:nvSpPr>
        <p:spPr>
          <a:xfrm>
            <a:off x="5586480" y="4416480"/>
            <a:ext cx="11476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6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5"/>
          <p:cNvSpPr/>
          <p:nvPr/>
        </p:nvSpPr>
        <p:spPr>
          <a:xfrm>
            <a:off x="5095800" y="3436920"/>
            <a:ext cx="1147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6"/>
          <p:cNvSpPr/>
          <p:nvPr/>
        </p:nvSpPr>
        <p:spPr>
          <a:xfrm>
            <a:off x="5662440" y="2292480"/>
            <a:ext cx="10731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7"/>
          <p:cNvSpPr/>
          <p:nvPr/>
        </p:nvSpPr>
        <p:spPr>
          <a:xfrm>
            <a:off x="6278400" y="6504120"/>
            <a:ext cx="231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vestigated by JAMA at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68"/>
          <p:cNvSpPr/>
          <p:nvPr/>
        </p:nvSpPr>
        <p:spPr>
          <a:xfrm>
            <a:off x="6245280" y="3197160"/>
            <a:ext cx="866880" cy="8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=6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9"/>
          <p:cNvSpPr/>
          <p:nvPr/>
        </p:nvSpPr>
        <p:spPr>
          <a:xfrm flipV="1">
            <a:off x="5116680" y="1715760"/>
            <a:ext cx="3485880" cy="3819600"/>
          </a:xfrm>
          <a:custGeom>
            <a:avLst/>
            <a:gdLst>
              <a:gd name="textAreaLeft" fmla="*/ 0 w 3485880"/>
              <a:gd name="textAreaRight" fmla="*/ 3486240 w 3485880"/>
              <a:gd name="textAreaTop" fmla="*/ 360 h 3819600"/>
              <a:gd name="textAreaBottom" fmla="*/ 3820320 h 3819600"/>
            </a:gdLst>
            <a:ahLst/>
            <a:rect l="textAreaLeft" t="textAreaTop" r="textAreaRight" b="textAreaBottom"/>
            <a:pathLst>
              <a:path fill="none" w="39381" h="43199">
                <a:moveTo>
                  <a:pt x="0" y="9336"/>
                </a:moveTo>
                <a:cubicBezTo>
                  <a:pt x="4032" y="3490"/>
                  <a:pt x="10679" y="-1"/>
                  <a:pt x="17781" y="0"/>
                </a:cubicBezTo>
                <a:cubicBezTo>
                  <a:pt x="29710" y="0"/>
                  <a:pt x="39381" y="9670"/>
                  <a:pt x="39381" y="21600"/>
                </a:cubicBezTo>
                <a:cubicBezTo>
                  <a:pt x="39381" y="33435"/>
                  <a:pt x="29855" y="43067"/>
                  <a:pt x="18020" y="43198"/>
                </a:cubicBezTo>
              </a:path>
              <a:path stroke="0" w="39381" h="43199">
                <a:moveTo>
                  <a:pt x="0" y="9336"/>
                </a:moveTo>
                <a:cubicBezTo>
                  <a:pt x="4032" y="3490"/>
                  <a:pt x="10679" y="-1"/>
                  <a:pt x="17781" y="0"/>
                </a:cubicBezTo>
                <a:cubicBezTo>
                  <a:pt x="29710" y="0"/>
                  <a:pt x="39381" y="9670"/>
                  <a:pt x="39381" y="21600"/>
                </a:cubicBezTo>
                <a:cubicBezTo>
                  <a:pt x="39381" y="33435"/>
                  <a:pt x="29855" y="43067"/>
                  <a:pt x="18020" y="43198"/>
                </a:cubicBezTo>
                <a:lnTo>
                  <a:pt x="17781" y="21600"/>
                </a:lnTo>
                <a:lnTo>
                  <a:pt x="0" y="9336"/>
                </a:lnTo>
                <a:close/>
              </a:path>
            </a:pathLst>
          </a:custGeom>
          <a:noFill/>
          <a:ln w="38160">
            <a:solidFill>
              <a:srgbClr val="003366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824520" y="5369040"/>
            <a:ext cx="5256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37400" y="5637240"/>
            <a:ext cx="22161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n near farm and factory area, far from urba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F6F0-EC7C-49F0-8155-7060F85A7CE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824040" y="1762200"/>
            <a:ext cx="3369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57320" y="76320"/>
            <a:ext cx="513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sage of the Flat Front Light N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4"/>
          <p:cNvSpPr/>
          <p:nvPr/>
        </p:nvSpPr>
        <p:spPr>
          <a:xfrm>
            <a:off x="6351480" y="6656400"/>
            <a:ext cx="23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Investigated by JAMA at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14"/>
          <p:cNvGrpSpPr/>
          <p:nvPr/>
        </p:nvGrpSpPr>
        <p:grpSpPr>
          <a:xfrm>
            <a:off x="2743200" y="4537080"/>
            <a:ext cx="4690440" cy="1758600"/>
            <a:chOff x="2743200" y="4537080"/>
            <a:chExt cx="4690440" cy="1758600"/>
          </a:xfrm>
        </p:grpSpPr>
        <p:sp>
          <p:nvSpPr>
            <p:cNvPr id="171" name="Line 10"/>
            <p:cNvSpPr/>
            <p:nvPr/>
          </p:nvSpPr>
          <p:spPr>
            <a:xfrm>
              <a:off x="2743200" y="4537080"/>
              <a:ext cx="0" cy="175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4295520" y="4537080"/>
              <a:ext cx="0" cy="175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5880240" y="4537080"/>
              <a:ext cx="0" cy="175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>
              <a:off x="7433640" y="4537080"/>
              <a:ext cx="0" cy="175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17"/>
          <p:cNvGrpSpPr/>
          <p:nvPr/>
        </p:nvGrpSpPr>
        <p:grpSpPr>
          <a:xfrm>
            <a:off x="1025280" y="6361200"/>
            <a:ext cx="8102520" cy="274680"/>
            <a:chOff x="1025280" y="6361200"/>
            <a:chExt cx="8102520" cy="274680"/>
          </a:xfrm>
        </p:grpSpPr>
        <p:sp>
          <p:nvSpPr>
            <p:cNvPr id="176" name="Rectangle 35"/>
            <p:cNvSpPr/>
            <p:nvPr/>
          </p:nvSpPr>
          <p:spPr>
            <a:xfrm>
              <a:off x="1025280" y="6361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6"/>
            <p:cNvSpPr/>
            <p:nvPr/>
          </p:nvSpPr>
          <p:spPr>
            <a:xfrm>
              <a:off x="2495520" y="6361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7"/>
            <p:cNvSpPr/>
            <p:nvPr/>
          </p:nvSpPr>
          <p:spPr>
            <a:xfrm>
              <a:off x="4054320" y="6361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8"/>
            <p:cNvSpPr/>
            <p:nvPr/>
          </p:nvSpPr>
          <p:spPr>
            <a:xfrm>
              <a:off x="5635080" y="6361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9"/>
            <p:cNvSpPr/>
            <p:nvPr/>
          </p:nvSpPr>
          <p:spPr>
            <a:xfrm>
              <a:off x="7186320" y="6361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0"/>
            <p:cNvSpPr/>
            <p:nvPr/>
          </p:nvSpPr>
          <p:spPr>
            <a:xfrm>
              <a:off x="8544960" y="636120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15"/>
          <p:cNvSpPr/>
          <p:nvPr/>
        </p:nvSpPr>
        <p:spPr>
          <a:xfrm>
            <a:off x="1185840" y="4537080"/>
            <a:ext cx="7807320" cy="17589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1185840" y="4732200"/>
            <a:ext cx="558720" cy="57636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1185840" y="5546880"/>
            <a:ext cx="1582920" cy="564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1770120" y="4732200"/>
            <a:ext cx="652320" cy="576360"/>
          </a:xfrm>
          <a:prstGeom prst="rect">
            <a:avLst/>
          </a:prstGeom>
          <a:solidFill>
            <a:srgbClr val="ff99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792520" y="5546880"/>
            <a:ext cx="1166760" cy="564840"/>
          </a:xfrm>
          <a:prstGeom prst="rect">
            <a:avLst/>
          </a:prstGeom>
          <a:solidFill>
            <a:srgbClr val="ff99cc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35400" y="4732200"/>
            <a:ext cx="1322280" cy="5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3979800" y="5546880"/>
            <a:ext cx="1660680" cy="564840"/>
          </a:xfrm>
          <a:prstGeom prst="rect">
            <a:avLst/>
          </a:prstGeom>
          <a:solidFill>
            <a:srgbClr val="ffffcc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3770280" y="4732200"/>
            <a:ext cx="5218200" cy="576360"/>
          </a:xfrm>
          <a:prstGeom prst="rect">
            <a:avLst/>
          </a:pr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5656320" y="5546880"/>
            <a:ext cx="3336840" cy="5648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184680" y="4524480"/>
            <a:ext cx="76428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t Fr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151160" y="4908600"/>
            <a:ext cx="989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2508120" y="4843440"/>
            <a:ext cx="1424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2789280" y="5634000"/>
            <a:ext cx="11844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time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281240" y="5645160"/>
            <a:ext cx="14335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time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6"/>
          <p:cNvSpPr/>
          <p:nvPr/>
        </p:nvSpPr>
        <p:spPr>
          <a:xfrm>
            <a:off x="1755720" y="5313240"/>
            <a:ext cx="98892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7"/>
          <p:cNvSpPr/>
          <p:nvPr/>
        </p:nvSpPr>
        <p:spPr>
          <a:xfrm>
            <a:off x="2417760" y="5303880"/>
            <a:ext cx="153972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8"/>
          <p:cNvSpPr/>
          <p:nvPr/>
        </p:nvSpPr>
        <p:spPr>
          <a:xfrm>
            <a:off x="3762360" y="5318280"/>
            <a:ext cx="18954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84240" y="3622680"/>
            <a:ext cx="359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s of usage on high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379440" y="5935680"/>
            <a:ext cx="623880" cy="21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=7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379440" y="5059440"/>
            <a:ext cx="623880" cy="21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=2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43"/>
          <p:cNvGrpSpPr/>
          <p:nvPr/>
        </p:nvGrpSpPr>
        <p:grpSpPr>
          <a:xfrm>
            <a:off x="1039320" y="1461960"/>
            <a:ext cx="8102520" cy="2086560"/>
            <a:chOff x="1039320" y="1461960"/>
            <a:chExt cx="8102520" cy="2086560"/>
          </a:xfrm>
        </p:grpSpPr>
        <p:grpSp>
          <p:nvGrpSpPr>
            <p:cNvPr id="203" name="Group 130"/>
            <p:cNvGrpSpPr/>
            <p:nvPr/>
          </p:nvGrpSpPr>
          <p:grpSpPr>
            <a:xfrm>
              <a:off x="2757240" y="1461960"/>
              <a:ext cx="4690440" cy="1746720"/>
              <a:chOff x="2757240" y="1461960"/>
              <a:chExt cx="4690440" cy="1746720"/>
            </a:xfrm>
          </p:grpSpPr>
          <p:sp>
            <p:nvSpPr>
              <p:cNvPr id="204" name="Line 131"/>
              <p:cNvSpPr/>
              <p:nvPr/>
            </p:nvSpPr>
            <p:spPr>
              <a:xfrm>
                <a:off x="2757240" y="1461960"/>
                <a:ext cx="0" cy="174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32"/>
              <p:cNvSpPr/>
              <p:nvPr/>
            </p:nvSpPr>
            <p:spPr>
              <a:xfrm>
                <a:off x="4309560" y="1461960"/>
                <a:ext cx="0" cy="174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3"/>
              <p:cNvSpPr/>
              <p:nvPr/>
            </p:nvSpPr>
            <p:spPr>
              <a:xfrm>
                <a:off x="5894280" y="1461960"/>
                <a:ext cx="0" cy="174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34"/>
              <p:cNvSpPr/>
              <p:nvPr/>
            </p:nvSpPr>
            <p:spPr>
              <a:xfrm>
                <a:off x="7447680" y="1461960"/>
                <a:ext cx="0" cy="174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35"/>
            <p:cNvGrpSpPr/>
            <p:nvPr/>
          </p:nvGrpSpPr>
          <p:grpSpPr>
            <a:xfrm>
              <a:off x="1039320" y="3273840"/>
              <a:ext cx="8102520" cy="274680"/>
              <a:chOff x="1039320" y="3273840"/>
              <a:chExt cx="8102520" cy="274680"/>
            </a:xfrm>
          </p:grpSpPr>
          <p:sp>
            <p:nvSpPr>
              <p:cNvPr id="209" name="Rectangle 136"/>
              <p:cNvSpPr/>
              <p:nvPr/>
            </p:nvSpPr>
            <p:spPr>
              <a:xfrm>
                <a:off x="1039320" y="3273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37"/>
              <p:cNvSpPr/>
              <p:nvPr/>
            </p:nvSpPr>
            <p:spPr>
              <a:xfrm>
                <a:off x="2509560" y="3273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8"/>
              <p:cNvSpPr/>
              <p:nvPr/>
            </p:nvSpPr>
            <p:spPr>
              <a:xfrm>
                <a:off x="4068360" y="3273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39"/>
              <p:cNvSpPr/>
              <p:nvPr/>
            </p:nvSpPr>
            <p:spPr>
              <a:xfrm>
                <a:off x="5649120" y="3273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40"/>
              <p:cNvSpPr/>
              <p:nvPr/>
            </p:nvSpPr>
            <p:spPr>
              <a:xfrm>
                <a:off x="7200360" y="3273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41"/>
              <p:cNvSpPr/>
              <p:nvPr/>
            </p:nvSpPr>
            <p:spPr>
              <a:xfrm>
                <a:off x="8559000" y="3273840"/>
                <a:ext cx="582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42"/>
            <p:cNvSpPr/>
            <p:nvPr/>
          </p:nvSpPr>
          <p:spPr>
            <a:xfrm>
              <a:off x="1199880" y="1461960"/>
              <a:ext cx="7807320" cy="1747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31"/>
          <p:cNvGrpSpPr/>
          <p:nvPr/>
        </p:nvGrpSpPr>
        <p:grpSpPr>
          <a:xfrm>
            <a:off x="2971800" y="2232000"/>
            <a:ext cx="5694480" cy="263520"/>
            <a:chOff x="2971800" y="2232000"/>
            <a:chExt cx="5694480" cy="263520"/>
          </a:xfrm>
        </p:grpSpPr>
        <p:sp>
          <p:nvSpPr>
            <p:cNvPr id="217" name="Line 64"/>
            <p:cNvSpPr/>
            <p:nvPr/>
          </p:nvSpPr>
          <p:spPr>
            <a:xfrm flipV="1">
              <a:off x="2971800" y="2232000"/>
              <a:ext cx="224964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9"/>
            <p:cNvSpPr/>
            <p:nvPr/>
          </p:nvSpPr>
          <p:spPr>
            <a:xfrm flipV="1">
              <a:off x="5884920" y="2257200"/>
              <a:ext cx="20620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4"/>
            <p:cNvSpPr/>
            <p:nvPr/>
          </p:nvSpPr>
          <p:spPr>
            <a:xfrm flipV="1">
              <a:off x="7416720" y="2238480"/>
              <a:ext cx="124956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62"/>
          <p:cNvSpPr/>
          <p:nvPr/>
        </p:nvSpPr>
        <p:spPr>
          <a:xfrm>
            <a:off x="1209600" y="2495520"/>
            <a:ext cx="1720800" cy="56376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7"/>
          <p:cNvSpPr/>
          <p:nvPr/>
        </p:nvSpPr>
        <p:spPr>
          <a:xfrm>
            <a:off x="2943360" y="2495520"/>
            <a:ext cx="2935080" cy="5637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5884920" y="2495520"/>
            <a:ext cx="1519200" cy="5637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7"/>
          <p:cNvSpPr/>
          <p:nvPr/>
        </p:nvSpPr>
        <p:spPr>
          <a:xfrm>
            <a:off x="7410600" y="2495520"/>
            <a:ext cx="1600200" cy="56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5"/>
          <p:cNvSpPr/>
          <p:nvPr/>
        </p:nvSpPr>
        <p:spPr>
          <a:xfrm>
            <a:off x="1209600" y="1682640"/>
            <a:ext cx="3990960" cy="56376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0"/>
          <p:cNvSpPr/>
          <p:nvPr/>
        </p:nvSpPr>
        <p:spPr>
          <a:xfrm>
            <a:off x="5200560" y="1682640"/>
            <a:ext cx="2711520" cy="5637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5"/>
          <p:cNvSpPr/>
          <p:nvPr/>
        </p:nvSpPr>
        <p:spPr>
          <a:xfrm>
            <a:off x="7924680" y="1682640"/>
            <a:ext cx="731880" cy="5637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0"/>
          <p:cNvSpPr/>
          <p:nvPr/>
        </p:nvSpPr>
        <p:spPr>
          <a:xfrm>
            <a:off x="8669160" y="1682640"/>
            <a:ext cx="341640" cy="56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0"/>
          <p:cNvSpPr/>
          <p:nvPr/>
        </p:nvSpPr>
        <p:spPr>
          <a:xfrm>
            <a:off x="219240" y="1438200"/>
            <a:ext cx="9302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t Fr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N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7607160" y="2732040"/>
            <a:ext cx="1319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5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6181560" y="2712960"/>
            <a:ext cx="1017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- 5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44800" y="2658960"/>
            <a:ext cx="1030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- 3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2651040" y="1860480"/>
            <a:ext cx="13986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1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82440" y="565200"/>
            <a:ext cx="303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leage in on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219240" y="2409840"/>
            <a:ext cx="98100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1Tru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 Light Motor 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14360" y="2900520"/>
            <a:ext cx="623880" cy="21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=7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14360" y="2011320"/>
            <a:ext cx="623880" cy="21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=2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393840" y="855720"/>
            <a:ext cx="8431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users of Flat Front Light N1 Vehicles use the vehicle within their neighborhood only, not for long-distance tra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19040" y="3968640"/>
            <a:ext cx="8591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users of Flat Front Light N1 Vehicles do not use the vehicle on highway, because it is hardly possible to run at about 100km/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8496360" y="6508800"/>
            <a:ext cx="59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DB06-1137-42E6-AA98-236BEE2BE64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2"/>
          <p:cNvSpPr/>
          <p:nvPr/>
        </p:nvSpPr>
        <p:spPr>
          <a:xfrm>
            <a:off x="157320" y="5438880"/>
            <a:ext cx="98100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1Tru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 Light Motor 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0:42:05Z</dcterms:created>
  <dc:creator>松井 隆一</dc:creator>
  <dc:description/>
  <dc:language>en-US</dc:language>
  <cp:lastModifiedBy>Konstantin Glukhenkiy</cp:lastModifiedBy>
  <cp:lastPrinted>2014-01-16T12:52:50Z</cp:lastPrinted>
  <dcterms:modified xsi:type="dcterms:W3CDTF">2014-01-28T16:58:21Z</dcterms:modified>
  <cp:revision>222</cp:revision>
  <dc:subject/>
  <dc:title>PowerPoint プレゼンテーション</dc:title>
</cp:coreProperties>
</file>