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6434-BED1-4556-9BE1-1D7B605BE82F}" type="datetime">
              <a:rPr b="0" lang="sv-SE" sz="1200" spc="-1" strike="noStrike">
                <a:solidFill>
                  <a:srgbClr val="000000"/>
                </a:solidFill>
                <a:latin typeface="Calibri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23FF-39B8-423E-B1D8-6BF32CCCD67B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tshållare för bild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2510-21D2-4679-AAFC-A4218E1BDA86}" type="slidenum">
              <a:rPr b="0" lang="sv-S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E6F4-BA94-473D-90C6-65AF03CCE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E666-4FB4-4C62-82AF-869BD3DC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8232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F4EA-681A-43E9-AFBB-E224226A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8916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92112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8916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92112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5EE-4658-4787-AA51-50942C30E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125D8-1807-40B7-A398-91F2A592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CC76A-D0B9-41D7-B1A1-9C2FFB2F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679EE-7AFA-4ECA-A1D1-DF39ADEC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AABA5-E601-4DD1-8E4D-E3EE4DA4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21E52-9067-49D2-8D8B-ABAE11E4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2D7DB5-DD35-4F3E-B9A3-07A6EC19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61DA4C-F972-45EE-A437-0A1EB026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859-2E06-4D81-BF19-045E59AE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08232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3F6C21-6C24-4BFB-BEB1-A4040C72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27E41-984A-453D-9DEC-2F704566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71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1491E-7257-4C5A-9D0F-3D6033ED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8232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EB565-56F2-42BC-B4FB-C031BBC00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8916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921120" y="1600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8916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921120" y="3571200"/>
            <a:ext cx="164916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854963-5DA9-4371-B269-D9FFEA51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B91C-C57C-480E-A11A-99648501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A213-0C9D-4C28-ACC1-AB3DE357A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DFF2-1357-4945-AF42-950AE9185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6D0-280A-4246-A15A-9ADCAA99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5C8-EEF8-407B-B212-71F266F7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82320" y="3571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6CC-E678-47F9-AE8D-ED054A0FE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82320" y="1600200"/>
            <a:ext cx="249984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71200"/>
            <a:ext cx="5122800" cy="179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C377-9094-4254-A16C-A777BEC8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5C00-050F-46F8-A3F3-2C1104B5FE08}" type="datetime">
              <a:rPr b="0" lang="sv-SE" sz="1200" spc="-1" strike="noStrike">
                <a:solidFill>
                  <a:srgbClr val="898989"/>
                </a:solidFill>
                <a:latin typeface="Calibri"/>
              </a:rPr>
              <a:t>26-07-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333333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D559-4F8A-4CCE-A4BF-05D47DD3A85C}" type="slidenum">
              <a:rPr b="0" lang="sv-SE" sz="1200" spc="-1" strike="noStrike">
                <a:solidFill>
                  <a:srgbClr val="333333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ti-logo.gif"/>
          <p:cNvPicPr/>
          <p:nvPr/>
        </p:nvPicPr>
        <p:blipFill>
          <a:blip r:embed="rId3"/>
          <a:stretch/>
        </p:blipFill>
        <p:spPr>
          <a:xfrm>
            <a:off x="439560" y="6324480"/>
            <a:ext cx="1998720" cy="48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bg.png"/>
          <p:cNvPicPr/>
          <p:nvPr/>
        </p:nvPicPr>
        <p:blipFill>
          <a:blip r:embed="rId4"/>
          <a:stretch/>
        </p:blipFill>
        <p:spPr>
          <a:xfrm>
            <a:off x="0" y="2637000"/>
            <a:ext cx="9250200" cy="3168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ti-logo.gif"/>
          <p:cNvPicPr/>
          <p:nvPr/>
        </p:nvPicPr>
        <p:blipFill>
          <a:blip r:embed="rId3"/>
          <a:stretch/>
        </p:blipFill>
        <p:spPr>
          <a:xfrm>
            <a:off x="439560" y="6324480"/>
            <a:ext cx="1998720" cy="48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bg.png"/>
          <p:cNvPicPr/>
          <p:nvPr/>
        </p:nvPicPr>
        <p:blipFill>
          <a:blip r:embed="rId4"/>
          <a:stretch/>
        </p:blipFill>
        <p:spPr>
          <a:xfrm>
            <a:off x="0" y="2637000"/>
            <a:ext cx="9250200" cy="3168360"/>
          </a:xfrm>
          <a:prstGeom prst="rect">
            <a:avLst/>
          </a:prstGeom>
          <a:ln w="0">
            <a:noFill/>
          </a:ln>
        </p:spPr>
      </p:pic>
      <p:sp>
        <p:nvSpPr>
          <p:cNvPr id="45" name="Rektangel 8"/>
          <p:cNvSpPr/>
          <p:nvPr/>
        </p:nvSpPr>
        <p:spPr>
          <a:xfrm>
            <a:off x="0" y="3240"/>
            <a:ext cx="9215280" cy="6923160"/>
          </a:xfrm>
          <a:prstGeom prst="rect">
            <a:avLst/>
          </a:prstGeom>
          <a:solidFill>
            <a:srgbClr val="006b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Bildobjekt 9" descr="Blå vä.jpg"/>
          <p:cNvPicPr/>
          <p:nvPr/>
        </p:nvPicPr>
        <p:blipFill>
          <a:blip r:embed="rId5"/>
          <a:stretch/>
        </p:blipFill>
        <p:spPr>
          <a:xfrm>
            <a:off x="0" y="0"/>
            <a:ext cx="277956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5122800" cy="37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Tommy Pilarp, Förbundsjur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638A-C7FA-4472-8AEB-CF334CEB69AF}" type="slidenum">
              <a:rPr b="0" lang="sv-SE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2011-05-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tommy.pilarp@transportgruppen.s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ight forwarder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141360"/>
            <a:ext cx="6400800" cy="21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ir role in Intermodal Transpo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EC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Party on Intermodal Transport and Logistic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P.24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14-11-1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2014-11-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tshållare för sidfot 2"/>
          <p:cNvSpPr/>
          <p:nvPr/>
        </p:nvSpPr>
        <p:spPr>
          <a:xfrm>
            <a:off x="3124080" y="6165720"/>
            <a:ext cx="2895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ff"/>
                </a:solidFill>
                <a:latin typeface="Calibri"/>
              </a:rPr>
              <a:t>Tommy Pilarp, Senior Legal Couns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tshållare för bildnummer 3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DD33-AD7A-421B-9ADC-D6D84A6C65B7}" type="slidenum">
              <a:rPr b="0" lang="sv-SE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inal words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       </a:t>
            </a:r>
            <a:r>
              <a:rPr b="1" lang="sv-SE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Intermodal transpor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RANSPORT IS TRANSPOR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234440" indent="-13716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ardless of mode of transpor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 at least it should be……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5680" indent="-17136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27F4-F931-458C-8C56-0C1988BED811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Final words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                                  </a:t>
            </a:r>
            <a:r>
              <a:rPr b="1" lang="sv-SE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Intermodal transpor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 the most efficient solution that works and make sense will be chosen by the forwar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ly – it’s that simp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25B36-C7FC-4CBB-9EE0-F0A67E8575EF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ommy Pilarp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cretary General</a:t>
            </a:r>
            <a:br>
              <a:rPr sz="1800"/>
            </a:b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enior Legal Counsel, LL M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wedish International Freight Association (SIF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elephone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 46 (8) 762 71 7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+ 46 (0) 73 044 71 7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-mail: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sv-SE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tommy.pilarp@transportgruppen.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tshållare för bildnummer 3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5F2D-9D9B-4F09-9A71-3C305F33CC49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orwarders facilitates trade by acting for or on behalf of the cargo owner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cts as the ”transport buyer” / ”shipper” towards the carri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0422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042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6A56-2BA5-474B-A890-AAF2106CFC7E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 recognizes tha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Each segment or part (of a) transport is vital and of crucial importance for the transport chain to work as efficient as possib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If this is not achieved, the benefits of multimodal transport might be ignored and only one mode used for the transport as a wh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ut does legislators  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023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023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5FF5-FD7B-4E90-9630-101ECC4099DC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 further recognizes tha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          </a:t>
            </a: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Each segment should not be seen as ‘ancillary’ to another secto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559800" indent="-111960">
              <a:lnSpc>
                <a:spcPct val="100000"/>
              </a:lnSpc>
              <a:spcBef>
                <a:spcPts val="451"/>
              </a:spcBef>
              <a:buClr>
                <a:srgbClr val="3c3c3a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But as an equally important part of the transport chain as a wh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223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But again, does legislators ?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223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223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2239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63F9-622A-41AA-AC77-0DB23B500EB0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9280" y="162864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eye of the forwarder……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in one mode of transpor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04160" indent="-191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efficiency lo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04160" indent="-191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n imbalance and uneven playing fiel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04160" indent="-191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ht make this mode impracticable or impossib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960120" indent="-191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thus opted out of………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1023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023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5EFA-4BA3-4E4F-97AE-84C94DC8E8AC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2900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2900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Different modes of transport does not ‘steal’ cargo from oth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72900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What is </a:t>
            </a:r>
            <a:r>
              <a:rPr b="0" i="1" lang="en-GB" sz="1800" spc="-1" strike="noStrike" u="sng">
                <a:solidFill>
                  <a:srgbClr val="3c3c3a"/>
                </a:solidFill>
                <a:uFillTx/>
                <a:latin typeface="Times New Roman"/>
                <a:ea typeface="Times New Roman"/>
              </a:rPr>
              <a:t>practicable</a:t>
            </a: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 in each situation must be decisi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99432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It has to work and make sen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994320" indent="-19872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Otherwise it will be opted out of…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060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060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6039-296E-4693-8D23-4AF37362C090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Existing infrastructure, operating conditions, interpretations and implementations vary between different nations – and sometimes even within one nation…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Transport solutions need to be seamless and work for cross-border traffic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662760" indent="-1324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b60055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c3c3a"/>
                </a:solidFill>
                <a:latin typeface="Times New Roman"/>
                <a:ea typeface="Times New Roman"/>
              </a:rPr>
              <a:t>Otherwise it will be opted out of……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10605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0605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D52E-8227-44A8-952B-3E057776982E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280" y="162864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</a:t>
            </a:r>
            <a:r>
              <a:rPr b="1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reates a legal / contractual relationship between the actual carrier and the Cargo owne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reates a legal / contractual relationship between the Forwarder and the actual carrier and between the Forwarder and the Cargo owner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pending on his legal statu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2067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B020-6761-4C1C-8061-DD85E38FF1C5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	</a:t>
            </a:r>
            <a:r>
              <a:rPr b="0" lang="sv-SE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The role of the Freight Forw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600200"/>
            <a:ext cx="793116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sv-SE" sz="18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In Intermodal transpor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 may contract with </a:t>
            </a:r>
            <a:r>
              <a:rPr b="0" lang="sv-SE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one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carrier for the entire transport (involving multiple modes of transport)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,……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The Forwarder could contract with </a:t>
            </a:r>
            <a:r>
              <a:rPr b="0" lang="sv-SE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one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carrier </a:t>
            </a:r>
            <a:r>
              <a:rPr b="0" lang="sv-SE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eparately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for </a:t>
            </a:r>
            <a:r>
              <a:rPr b="1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ach</a:t>
            </a:r>
            <a:r>
              <a:rPr b="0" lang="sv-SE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mode of transpor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1115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4" marL="111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7057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053C-ED97-4DFC-984A-1D4882F86BE0}" type="slidenum">
              <a:rPr b="0" lang="sv-SE" sz="1200" spc="-1" strike="noStrike">
                <a:solidFill>
                  <a:srgbClr val="333333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tshållare för datum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tshållare för sidfot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8T07:34:19Z</dcterms:created>
  <dc:creator>Tommy Pilarp</dc:creator>
  <dc:description/>
  <dc:language>en-US</dc:language>
  <cp:lastModifiedBy>Carole Marilley</cp:lastModifiedBy>
  <dcterms:modified xsi:type="dcterms:W3CDTF">2014-11-12T10:34:27Z</dcterms:modified>
  <cp:revision>377</cp:revision>
  <dc:subject/>
  <dc:title>Transportindustriförbundet</dc:title>
</cp:coreProperties>
</file>