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52AB-4D97-43EF-9C00-D6E2670D8E3C}" type="datetime">
              <a:rPr b="0" lang="sv-SE" sz="1200" spc="-1" strike="noStrike">
                <a:solidFill>
                  <a:srgbClr val="000000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D20-1248-43BC-AA89-5FA1CA18022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60AF-ADBB-4096-A442-2BDC6D7CB6C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1D3-BDD4-4986-A198-8A6BAB6C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C0F-97D8-4D76-82B3-5548303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BBA-5065-43B9-92DC-D6B49140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8916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2112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8916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92112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DC4-43F7-43C5-A063-1090D6D0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618A7-C674-45AA-A9C5-0D4B748C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79BC7-F151-4697-8D16-BE97500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0BC41-E7D3-4E0D-9EDF-F857569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4130F-0731-4D66-9DC3-E68C20E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837C1-BFD2-4CC6-A756-4DB9363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E076-368E-439C-8EEE-13F5F2AB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B2FFD-1C21-4483-9524-B004BDA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9C3-02AB-4126-BFEC-7A13F074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5524F-CF2C-4112-9001-7595657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BA9F-5774-4B40-8FED-04E3261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66F2F-D2AC-42C7-A323-C3FF5ABB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0F39F-E93E-47D6-896B-61926368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8916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2112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8916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92112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3D08-A06B-460C-970A-B8E9253A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1B3-80DD-4689-AE86-99C3BC6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56C-8EEF-480A-B13C-00C38001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521-DD05-4C8B-915D-CC7D572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FCE-84AA-46ED-8D5A-A5AA486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3D0-1A99-48D2-9DA9-4046238B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457-D343-4A3C-BBD2-AFF5AC9A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B0C-8894-423E-9A52-2C24C71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F7DA-0F82-4D40-A6B9-6ED5CB3DA1FA}" type="datetime">
              <a:rPr b="0" lang="sv-SE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33333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B56-1753-4B35-A6E2-D855F789512B}" type="slidenum">
              <a:rPr b="0" lang="sv-SE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ti-logo.gif"/>
          <p:cNvPicPr/>
          <p:nvPr/>
        </p:nvPicPr>
        <p:blipFill>
          <a:blip r:embed="rId3"/>
          <a:stretch/>
        </p:blipFill>
        <p:spPr>
          <a:xfrm>
            <a:off x="439560" y="6324480"/>
            <a:ext cx="1998720" cy="48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bg.png"/>
          <p:cNvPicPr/>
          <p:nvPr/>
        </p:nvPicPr>
        <p:blipFill>
          <a:blip r:embed="rId4"/>
          <a:stretch/>
        </p:blipFill>
        <p:spPr>
          <a:xfrm>
            <a:off x="0" y="2637000"/>
            <a:ext cx="9250200" cy="31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ti-logo.gif"/>
          <p:cNvPicPr/>
          <p:nvPr/>
        </p:nvPicPr>
        <p:blipFill>
          <a:blip r:embed="rId3"/>
          <a:stretch/>
        </p:blipFill>
        <p:spPr>
          <a:xfrm>
            <a:off x="439560" y="6324480"/>
            <a:ext cx="199872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g.png"/>
          <p:cNvPicPr/>
          <p:nvPr/>
        </p:nvPicPr>
        <p:blipFill>
          <a:blip r:embed="rId4"/>
          <a:stretch/>
        </p:blipFill>
        <p:spPr>
          <a:xfrm>
            <a:off x="0" y="2637000"/>
            <a:ext cx="9250200" cy="3168360"/>
          </a:xfrm>
          <a:prstGeom prst="rect">
            <a:avLst/>
          </a:prstGeom>
          <a:ln w="0">
            <a:noFill/>
          </a:ln>
        </p:spPr>
      </p:pic>
      <p:sp>
        <p:nvSpPr>
          <p:cNvPr id="45" name="Rektangel 8"/>
          <p:cNvSpPr/>
          <p:nvPr/>
        </p:nvSpPr>
        <p:spPr>
          <a:xfrm>
            <a:off x="0" y="3240"/>
            <a:ext cx="9215280" cy="6923160"/>
          </a:xfrm>
          <a:prstGeom prst="rect">
            <a:avLst/>
          </a:prstGeom>
          <a:solidFill>
            <a:srgbClr val="006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ildobjekt 9" descr="Blå vä.jpg"/>
          <p:cNvPicPr/>
          <p:nvPr/>
        </p:nvPicPr>
        <p:blipFill>
          <a:blip r:embed="rId5"/>
          <a:stretch/>
        </p:blipFill>
        <p:spPr>
          <a:xfrm>
            <a:off x="0" y="0"/>
            <a:ext cx="2779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Tommy Pilarp, Förbundsjur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09DA-BF36-480C-A2E8-AF459F82F925}" type="slidenum"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2011-05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tommy.pilarp@transportgruppen.s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141360"/>
            <a:ext cx="640080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ir role in Intermodal Transpo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E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Party on Intermodal Transport and Logistic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P.24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4-11-1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2014-11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tshållare för sidfot 2"/>
          <p:cNvSpPr/>
          <p:nvPr/>
        </p:nvSpPr>
        <p:spPr>
          <a:xfrm>
            <a:off x="3124080" y="6165720"/>
            <a:ext cx="2895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Tommy Pilarp, Senior Legal Coun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shållare för bildnummer 3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3A1D-579C-4372-BBE8-969531D8C34F}" type="slidenum">
              <a:rPr b="0" lang="sv-SE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inal words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sv-SE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Intermodal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ANSPORT IS TRANSPOR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234440" indent="-13716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ardless of mode of transpor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 at least it should be……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5680" indent="-17136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6CE-4A4F-4EBF-9CD7-DCD884B04A14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inal words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                                  </a:t>
            </a:r>
            <a:r>
              <a:rPr b="1" lang="sv-SE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Intermodal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 the most efficient solution that works and make sense will be chosen by the forwar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ly – it’s that simp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0011-F1FC-4D73-84DF-DAAB8FCA908D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ommy Pilarp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cretary General</a:t>
            </a:r>
            <a:br>
              <a:rPr sz="1800"/>
            </a:b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nior Legal Counsel, LL M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wedish International Freight Association (SIF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elephone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 46 (8) 762 71 7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 46 (0) 73 044 71 7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-mail: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v-SE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tommy.pilarp@transportgruppen.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tshållare för bildnummer 3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EDF-E6B4-4DE0-9396-F4D15C82B51B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orwarders facilitates trade by acting for or on behalf of the cargo owner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cts as the ”transport buyer” / ”shipper” towards the carri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42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4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4F60-FE88-4D58-9CB3-75CF13C8EC2B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recognizes tha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Each segment or part (of a) transport is vital and of crucial importance for the transport chain to work as efficient as possib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If this is not achieved, the benefits of multimodal transport might be ignored and only one mode used for the transport as a wh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ut does legislators  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CDE7-7265-4DE1-9AD4-02335C9881E4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further recognizes tha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          </a:t>
            </a: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Each segment should not be seen as ‘ancillary’ to another secto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559800" indent="-111960">
              <a:lnSpc>
                <a:spcPct val="100000"/>
              </a:lnSpc>
              <a:spcBef>
                <a:spcPts val="451"/>
              </a:spcBef>
              <a:buClr>
                <a:srgbClr val="3c3c3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But as an equally important part of the transport chain as a wh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But again, does legislators 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35E0-1BFF-49F4-948C-7B031478CE47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ye of the forwarder…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in one mode of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0416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efficiency lo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0416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mbalance and uneven playing fiel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0416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make this mode impracticable or impossib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96012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us opted out of………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618E-7FA0-4BF0-B371-1E11E0ED4370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2900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2900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Different modes of transport does not ‘steal’ cargo from oth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2900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What is </a:t>
            </a:r>
            <a:r>
              <a:rPr b="0" i="1" lang="en-GB" sz="1800" spc="-1" strike="noStrike" u="sng">
                <a:solidFill>
                  <a:srgbClr val="3c3c3a"/>
                </a:solidFill>
                <a:uFillTx/>
                <a:latin typeface="Times New Roman"/>
                <a:ea typeface="Times New Roman"/>
              </a:rPr>
              <a:t>practicable</a:t>
            </a: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 in each situation must be decisi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99432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It has to work and make sen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99432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Otherwise it will be opted out of…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345-8F54-4A71-92B7-7517C3D7F73A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Existing infrastructure, operating conditions, interpretations and implementations vary between different nations – and sometimes even within one nation…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Transport solutions need to be seamless and work for cross-border traffic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662760" indent="-1324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Otherwise it will be opted out of……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411-A767-4A3B-A637-F4BB42556BE2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62864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reates a legal / contractual relationship between the actual carrier and the Cargo own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reates a legal / contractual relationship between the Forwarder and the actual carrier and between the Forwarder and the Cargo own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pending on his legal statu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206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BE5C-BBB5-478F-8AB2-72AE8CF539AF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Intermodal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may contract with </a:t>
            </a:r>
            <a:r>
              <a:rPr b="0" lang="sv-SE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carrier for the entire transport (involving multiple modes of transport)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,…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could contract with </a:t>
            </a:r>
            <a:r>
              <a:rPr b="0" lang="sv-SE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carrier </a:t>
            </a:r>
            <a:r>
              <a:rPr b="0" lang="sv-SE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eparately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for </a:t>
            </a:r>
            <a:r>
              <a:rPr b="1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ach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mode of transpor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115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11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E38E-9398-4985-AEAA-1C27024C685E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7:34:19Z</dcterms:created>
  <dc:creator>Tommy Pilarp</dc:creator>
  <dc:description/>
  <dc:language>en-US</dc:language>
  <cp:lastModifiedBy>Carole Marilley</cp:lastModifiedBy>
  <dcterms:modified xsi:type="dcterms:W3CDTF">2014-11-12T10:34:27Z</dcterms:modified>
  <cp:revision>377</cp:revision>
  <dc:subject/>
  <dc:title>Transportindustriförbundet</dc:title>
</cp:coreProperties>
</file>