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5BFD-0F42-4967-B8A0-88B742C72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A758-54D7-453F-A7B8-E9B394FDA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9089-41DF-447D-BADA-5FC87A2A92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34A8-4304-404B-B64C-DA7F86CE3C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4D3E9-0E2D-4553-ABF1-F5833F975A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4D01-5EBD-4AA5-AF1F-DEA66983B2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7967-889A-4CB6-A23E-4714BDE08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A8EBC-40D5-4EF7-A845-615BFA0D1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53E0-7DBB-48C8-B5E9-79003339A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2135-9360-4993-9E16-C4821441A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Text Box 4"/>
          <p:cNvSpPr/>
          <p:nvPr/>
        </p:nvSpPr>
        <p:spPr>
          <a:xfrm>
            <a:off x="595440" y="5024880"/>
            <a:ext cx="550836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69960" y="7129440"/>
            <a:ext cx="673200" cy="74124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1011240" y="7659720"/>
            <a:ext cx="673200" cy="73980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847880" y="7129440"/>
            <a:ext cx="671400" cy="74124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197080" y="7659720"/>
            <a:ext cx="673200" cy="73980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3078000" y="7129440"/>
            <a:ext cx="676440" cy="74124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3411360" y="7659720"/>
            <a:ext cx="671760" cy="73980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5435640" y="7129440"/>
            <a:ext cx="671400" cy="74124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4257720" y="7129440"/>
            <a:ext cx="671400" cy="74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4589640" y="7659720"/>
            <a:ext cx="671400" cy="7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698400" y="5513400"/>
            <a:ext cx="750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851120" y="5513400"/>
            <a:ext cx="75096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3097080" y="5513400"/>
            <a:ext cx="749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17"/>
          <p:cNvSpPr/>
          <p:nvPr/>
        </p:nvSpPr>
        <p:spPr>
          <a:xfrm>
            <a:off x="4275000" y="6851880"/>
            <a:ext cx="752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5425920" y="5635080"/>
            <a:ext cx="750960" cy="14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19"/>
          <p:cNvSpPr/>
          <p:nvPr/>
        </p:nvSpPr>
        <p:spPr>
          <a:xfrm>
            <a:off x="1042920" y="8470800"/>
            <a:ext cx="752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2195640" y="8470800"/>
            <a:ext cx="752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21"/>
          <p:cNvSpPr/>
          <p:nvPr/>
        </p:nvSpPr>
        <p:spPr>
          <a:xfrm>
            <a:off x="3440160" y="8470800"/>
            <a:ext cx="752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22"/>
          <p:cNvSpPr/>
          <p:nvPr/>
        </p:nvSpPr>
        <p:spPr>
          <a:xfrm>
            <a:off x="4619520" y="8470800"/>
            <a:ext cx="75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r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1278-D2A4-4BB1-84F0-3DB9F6CEE1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9BF5-E0D8-47F8-B3CB-08AD83900F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BC06-7B15-45DB-B0CC-85A265B02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7D27-43D9-4954-BE3C-D724E73C4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93E9-09A7-4228-93FC-BE3445E463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643D-6563-4FE9-9159-7141BACA16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625F-C7D7-4586-A308-C4FFDDA89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9985-45D1-40D6-B945-0FC7778A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C2A-069F-41D4-86AA-8C835332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863-7050-40FD-839B-ACFDF17DF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B5FE-E67F-48AA-BCDB-5F7D4056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8A7-9008-4174-A6D1-66F7B4DF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896-EF84-4B8D-B2C1-38DE447E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C4F5-EE60-427E-A151-DD3771DC0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795-1EC6-4573-8E5F-12A76BD2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458-6CC0-4CC1-A8CB-867EF5BC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CDCC-35EA-4681-A930-D137B639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7CF9-D5AF-4A99-9526-3A629253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94F5-1B6B-472E-81B6-53FA3272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CC1C-4217-479B-B4BE-AB62521EFB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2BD6-2E89-4496-8A56-307950D76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mailto:SMARTbox@tsa.dhs.g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hyperlink" Target="mailto:SMARTbox@tsa.dhs.g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0"/>
          <p:cNvSpPr/>
          <p:nvPr/>
        </p:nvSpPr>
        <p:spPr>
          <a:xfrm>
            <a:off x="5021280" y="5291280"/>
            <a:ext cx="355140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3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drew C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national Working Group Land Transport Security (IWGLT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619200" y="1609560"/>
            <a:ext cx="76867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C2 meeting 24 November 201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2106720" y="157320"/>
            <a:ext cx="67579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ecurity Measures and Resources Tool 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/>
          <p:cNvSpPr/>
          <p:nvPr/>
        </p:nvSpPr>
        <p:spPr>
          <a:xfrm>
            <a:off x="415800" y="314280"/>
            <a:ext cx="831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curity Measures and Resources Tool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2"/>
          <p:cNvSpPr/>
          <p:nvPr/>
        </p:nvSpPr>
        <p:spPr>
          <a:xfrm>
            <a:off x="1177920" y="5016600"/>
            <a:ext cx="7686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2106720" y="3251160"/>
            <a:ext cx="5576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urity Measures And Resources Tool Box - SMARToolbo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94" name="Title 1"/>
          <p:cNvSpPr/>
          <p:nvPr/>
        </p:nvSpPr>
        <p:spPr>
          <a:xfrm>
            <a:off x="4003560" y="461880"/>
            <a:ext cx="4722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dding Security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2"/>
          <a:stretch/>
        </p:blipFill>
        <p:spPr>
          <a:xfrm>
            <a:off x="1414440" y="2571840"/>
            <a:ext cx="6029280" cy="352260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sp>
        <p:nvSpPr>
          <p:cNvPr id="96" name="Rectangle 3"/>
          <p:cNvSpPr/>
          <p:nvPr/>
        </p:nvSpPr>
        <p:spPr>
          <a:xfrm>
            <a:off x="463680" y="1879560"/>
            <a:ext cx="826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MARToolbox users have the option to add new measures to their local copy as necessary.  Existing measures can also be edited to better reflect the user's actual operating environ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87520" y="6173640"/>
            <a:ext cx="795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o recommend changes or share security measures, users may email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MARTbox@tsa.dhs.gov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C29B-7187-4186-903C-7EDCC4FE3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100" name="Title 1"/>
          <p:cNvSpPr/>
          <p:nvPr/>
        </p:nvSpPr>
        <p:spPr>
          <a:xfrm>
            <a:off x="4572000" y="461880"/>
            <a:ext cx="4154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lf – Assessment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0" y="1941480"/>
            <a:ext cx="899964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803160" indent="-285480"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ple questions focused on key priorities in transport secu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03160" indent="-285480"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essment  results offer the user an analysis, and can inform the user’s choices to filter the database to find security measures that best fit thei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03160" indent="-285480"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printable report is available for record keeping purposes, and sharing results or progress ma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03160" indent="-285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803160" indent="-285480">
              <a:spcBef>
                <a:spcPts val="6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03160" indent="-285480">
              <a:spcBef>
                <a:spcPts val="6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246240" y="3838680"/>
            <a:ext cx="4140000" cy="28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4592520" y="3838680"/>
            <a:ext cx="4030920" cy="2849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Slide Number Placeholder 6"/>
          <p:cNvSpPr/>
          <p:nvPr/>
        </p:nvSpPr>
        <p:spPr>
          <a:xfrm>
            <a:off x="6894360" y="64785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DBC8-DB6F-4E84-9DFC-78BC588429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106" name="Title 1"/>
          <p:cNvSpPr/>
          <p:nvPr/>
        </p:nvSpPr>
        <p:spPr>
          <a:xfrm>
            <a:off x="733320" y="461880"/>
            <a:ext cx="7993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ransportation Security Programme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436680" y="1890720"/>
            <a:ext cx="83167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uide assists users in answering the following ques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 does transportation security matter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should a transportation security program accomplis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should participate in developing a transportation security program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actical references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>
              <a:spcBef>
                <a:spcPts val="1199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endix A:  Transportation Security Functional El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endix B:  Guiding Documents for a Security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endix C:  Transportation Security Stakeholder Matr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22068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endix D:  Transportation Security Training Top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D8FB-BC85-498E-AC3C-EFB1CA1AD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110" name="Title 1"/>
          <p:cNvSpPr/>
          <p:nvPr/>
        </p:nvSpPr>
        <p:spPr>
          <a:xfrm>
            <a:off x="4572000" y="461880"/>
            <a:ext cx="4154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Resource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2"/>
          <a:stretch/>
        </p:blipFill>
        <p:spPr>
          <a:xfrm>
            <a:off x="771480" y="2798640"/>
            <a:ext cx="7635960" cy="365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2" name="Rectangle 4"/>
          <p:cNvSpPr/>
          <p:nvPr/>
        </p:nvSpPr>
        <p:spPr>
          <a:xfrm>
            <a:off x="771480" y="1838160"/>
            <a:ext cx="763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External Resource Links  feature provides users with additional information to assist in  identifying and implementing security measures.  The information is categorised by 15 security functions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4DB9-8DBC-4B5E-82EF-3BF0D6B03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115" name="Title 1"/>
          <p:cNvSpPr/>
          <p:nvPr/>
        </p:nvSpPr>
        <p:spPr>
          <a:xfrm>
            <a:off x="2522520" y="461880"/>
            <a:ext cx="6203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n integrated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AD9D-21D7-4BB0-BB1B-290D640F5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AutoShape 6"/>
          <p:cNvGrpSpPr/>
          <p:nvPr/>
        </p:nvGrpSpPr>
        <p:grpSpPr>
          <a:xfrm>
            <a:off x="3541680" y="2359080"/>
            <a:ext cx="1957320" cy="622080"/>
            <a:chOff x="3541680" y="2359080"/>
            <a:chExt cx="1957320" cy="622080"/>
          </a:xfrm>
        </p:grpSpPr>
        <p:pic>
          <p:nvPicPr>
            <p:cNvPr id="118" name="AutoShape 6" descr=""/>
            <p:cNvPicPr/>
            <p:nvPr/>
          </p:nvPicPr>
          <p:blipFill>
            <a:blip r:embed="rId2"/>
            <a:stretch/>
          </p:blipFill>
          <p:spPr>
            <a:xfrm>
              <a:off x="3541680" y="2359080"/>
              <a:ext cx="195732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719520" y="2408400"/>
              <a:ext cx="15987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Futura Lt BT"/>
                </a:rPr>
                <a:t>SMARToolbox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AutoShape 6"/>
          <p:cNvGrpSpPr/>
          <p:nvPr/>
        </p:nvGrpSpPr>
        <p:grpSpPr>
          <a:xfrm>
            <a:off x="6297480" y="3432240"/>
            <a:ext cx="1766880" cy="622080"/>
            <a:chOff x="6297480" y="3432240"/>
            <a:chExt cx="1766880" cy="622080"/>
          </a:xfrm>
        </p:grpSpPr>
        <p:pic>
          <p:nvPicPr>
            <p:cNvPr id="121" name="AutoShape 6" descr=""/>
            <p:cNvPicPr/>
            <p:nvPr/>
          </p:nvPicPr>
          <p:blipFill>
            <a:blip r:embed="rId3"/>
            <a:stretch/>
          </p:blipFill>
          <p:spPr>
            <a:xfrm>
              <a:off x="6297480" y="3432240"/>
              <a:ext cx="176688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380280" y="3486240"/>
              <a:ext cx="15984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Futura Lt BT"/>
                </a:rPr>
                <a:t>Research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AutoShape 6"/>
          <p:cNvGrpSpPr/>
          <p:nvPr/>
        </p:nvGrpSpPr>
        <p:grpSpPr>
          <a:xfrm>
            <a:off x="3713040" y="5016600"/>
            <a:ext cx="1760760" cy="622080"/>
            <a:chOff x="3713040" y="5016600"/>
            <a:chExt cx="1760760" cy="622080"/>
          </a:xfrm>
        </p:grpSpPr>
        <p:pic>
          <p:nvPicPr>
            <p:cNvPr id="124" name="AutoShape 6" descr=""/>
            <p:cNvPicPr/>
            <p:nvPr/>
          </p:nvPicPr>
          <p:blipFill>
            <a:blip r:embed="rId4"/>
            <a:stretch/>
          </p:blipFill>
          <p:spPr>
            <a:xfrm>
              <a:off x="3713040" y="5016600"/>
              <a:ext cx="176076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794040" y="5070600"/>
              <a:ext cx="15987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Futura Lt BT"/>
                </a:rPr>
                <a:t>Cost/benefi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AutoShape 6"/>
          <p:cNvGrpSpPr/>
          <p:nvPr/>
        </p:nvGrpSpPr>
        <p:grpSpPr>
          <a:xfrm>
            <a:off x="1116000" y="3505320"/>
            <a:ext cx="1760400" cy="622080"/>
            <a:chOff x="1116000" y="3505320"/>
            <a:chExt cx="1760400" cy="622080"/>
          </a:xfrm>
        </p:grpSpPr>
        <p:pic>
          <p:nvPicPr>
            <p:cNvPr id="127" name="AutoShape 6" descr=""/>
            <p:cNvPicPr/>
            <p:nvPr/>
          </p:nvPicPr>
          <p:blipFill>
            <a:blip r:embed="rId5"/>
            <a:stretch/>
          </p:blipFill>
          <p:spPr>
            <a:xfrm>
              <a:off x="1116000" y="3505320"/>
              <a:ext cx="176040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198440" y="3556080"/>
              <a:ext cx="15987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280" rIns="8028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Futura Lt BT"/>
                </a:rPr>
                <a:t>Threa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Arco 32"/>
          <p:cNvSpPr/>
          <p:nvPr/>
        </p:nvSpPr>
        <p:spPr>
          <a:xfrm rot="16200000">
            <a:off x="2503440" y="2472840"/>
            <a:ext cx="1785960" cy="1970280"/>
          </a:xfrm>
          <a:custGeom>
            <a:avLst/>
            <a:gdLst>
              <a:gd name="textAreaLeft" fmla="*/ 893160 w 1785960"/>
              <a:gd name="textAreaRight" fmla="*/ 1786320 w 1785960"/>
              <a:gd name="textAreaTop" fmla="*/ 0 h 1970280"/>
              <a:gd name="textAreaBottom" fmla="*/ 993960 h 1970280"/>
            </a:gdLst>
            <a:ahLst/>
            <a:rect l="textAreaLeft" t="textAreaTop" r="textAreaRight" b="textAreaBottom"/>
            <a:pathLst>
              <a:path stroke="0" w="1785950" h="1969299">
                <a:moveTo>
                  <a:pt x="892976" y="0"/>
                </a:moveTo>
                <a:lnTo>
                  <a:pt x="892976" y="0"/>
                </a:lnTo>
                <a:cubicBezTo>
                  <a:pt x="1386152" y="0"/>
                  <a:pt x="1785950" y="440843"/>
                  <a:pt x="1785950" y="984650"/>
                </a:cubicBezTo>
                <a:cubicBezTo>
                  <a:pt x="1785950" y="987546"/>
                  <a:pt x="1785938" y="990443"/>
                  <a:pt x="1785915" y="993340"/>
                </a:cubicBezTo>
                <a:lnTo>
                  <a:pt x="892975" y="984650"/>
                </a:lnTo>
                <a:lnTo>
                  <a:pt x="892976" y="0"/>
                </a:lnTo>
                <a:close/>
              </a:path>
              <a:path fill="none" w="1785950" h="1969299">
                <a:moveTo>
                  <a:pt x="892976" y="0"/>
                </a:moveTo>
                <a:lnTo>
                  <a:pt x="892976" y="0"/>
                </a:lnTo>
                <a:cubicBezTo>
                  <a:pt x="1386152" y="0"/>
                  <a:pt x="1785950" y="440843"/>
                  <a:pt x="1785950" y="984650"/>
                </a:cubicBezTo>
                <a:cubicBezTo>
                  <a:pt x="1785950" y="987546"/>
                  <a:pt x="1785938" y="990443"/>
                  <a:pt x="1785915" y="99334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rco 21"/>
          <p:cNvSpPr/>
          <p:nvPr/>
        </p:nvSpPr>
        <p:spPr>
          <a:xfrm>
            <a:off x="4500720" y="2565360"/>
            <a:ext cx="2286000" cy="1643040"/>
          </a:xfrm>
          <a:custGeom>
            <a:avLst/>
            <a:gdLst/>
            <a:ahLst/>
            <a:rect l="l" t="t" r="r" b="b"/>
            <a:pathLst>
              <a:path stroke="0" w="2286000" h="1643063">
                <a:moveTo>
                  <a:pt x="1143000" y="0"/>
                </a:moveTo>
                <a:cubicBezTo>
                  <a:pt x="1774261" y="0"/>
                  <a:pt x="2286000" y="367812"/>
                  <a:pt x="2286000" y="821532"/>
                </a:cubicBezTo>
                <a:lnTo>
                  <a:pt x="1143000" y="821532"/>
                </a:lnTo>
                <a:lnTo>
                  <a:pt x="1143000" y="0"/>
                </a:lnTo>
                <a:close/>
              </a:path>
              <a:path fill="none" w="2286000" h="1643063">
                <a:moveTo>
                  <a:pt x="1143000" y="0"/>
                </a:moveTo>
                <a:cubicBezTo>
                  <a:pt x="1774261" y="0"/>
                  <a:pt x="2286000" y="367812"/>
                  <a:pt x="2286000" y="821532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Arco 29"/>
          <p:cNvSpPr/>
          <p:nvPr/>
        </p:nvSpPr>
        <p:spPr>
          <a:xfrm rot="5400000">
            <a:off x="4976640" y="3529080"/>
            <a:ext cx="1842840" cy="1500120"/>
          </a:xfrm>
          <a:custGeom>
            <a:avLst/>
            <a:gdLst>
              <a:gd name="textAreaLeft" fmla="*/ 921600 w 1842840"/>
              <a:gd name="textAreaRight" fmla="*/ 1843200 w 1842840"/>
              <a:gd name="textAreaTop" fmla="*/ 0 h 1500120"/>
              <a:gd name="textAreaBottom" fmla="*/ 750240 h 1500120"/>
            </a:gdLst>
            <a:ahLst/>
            <a:rect l="textAreaLeft" t="textAreaTop" r="textAreaRight" b="textAreaBottom"/>
            <a:pathLst>
              <a:path stroke="0" w="1843094" h="1500198">
                <a:moveTo>
                  <a:pt x="921548" y="0"/>
                </a:moveTo>
                <a:lnTo>
                  <a:pt x="921548" y="0"/>
                </a:lnTo>
                <a:cubicBezTo>
                  <a:pt x="1430503" y="0"/>
                  <a:pt x="1843094" y="335831"/>
                  <a:pt x="1843094" y="750099"/>
                </a:cubicBezTo>
                <a:cubicBezTo>
                  <a:pt x="1843094" y="750099"/>
                  <a:pt x="1843093" y="750100"/>
                  <a:pt x="1843093" y="750100"/>
                </a:cubicBezTo>
                <a:lnTo>
                  <a:pt x="921547" y="750099"/>
                </a:lnTo>
                <a:lnTo>
                  <a:pt x="921548" y="0"/>
                </a:lnTo>
                <a:close/>
              </a:path>
              <a:path fill="none" w="1843094" h="1500198">
                <a:moveTo>
                  <a:pt x="921548" y="0"/>
                </a:moveTo>
                <a:lnTo>
                  <a:pt x="921548" y="0"/>
                </a:lnTo>
                <a:cubicBezTo>
                  <a:pt x="1430503" y="0"/>
                  <a:pt x="1843094" y="335831"/>
                  <a:pt x="1843094" y="750099"/>
                </a:cubicBezTo>
                <a:cubicBezTo>
                  <a:pt x="1843094" y="750099"/>
                  <a:pt x="1843093" y="750100"/>
                  <a:pt x="1843093" y="7501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Arco 31"/>
          <p:cNvSpPr/>
          <p:nvPr/>
        </p:nvSpPr>
        <p:spPr>
          <a:xfrm rot="10800000">
            <a:off x="2410920" y="3284640"/>
            <a:ext cx="2000520" cy="1866960"/>
          </a:xfrm>
          <a:custGeom>
            <a:avLst/>
            <a:gdLst>
              <a:gd name="textAreaLeft" fmla="*/ 1000440 w 2000520"/>
              <a:gd name="textAreaRight" fmla="*/ 2000880 w 2000520"/>
              <a:gd name="textAreaTop" fmla="*/ 0 h 1866960"/>
              <a:gd name="textAreaBottom" fmla="*/ 933480 h 1866960"/>
            </a:gdLst>
            <a:ahLst/>
            <a:rect l="textAreaLeft" t="textAreaTop" r="textAreaRight" b="textAreaBottom"/>
            <a:pathLst>
              <a:path stroke="0" w="2000264" h="1866141">
                <a:moveTo>
                  <a:pt x="1000133" y="0"/>
                </a:moveTo>
                <a:lnTo>
                  <a:pt x="1000132" y="0"/>
                </a:lnTo>
                <a:cubicBezTo>
                  <a:pt x="1552490" y="0"/>
                  <a:pt x="2000264" y="417750"/>
                  <a:pt x="2000264" y="933071"/>
                </a:cubicBezTo>
                <a:cubicBezTo>
                  <a:pt x="2000264" y="933071"/>
                  <a:pt x="2000263" y="933072"/>
                  <a:pt x="2000263" y="933072"/>
                </a:cubicBezTo>
                <a:lnTo>
                  <a:pt x="1000132" y="933071"/>
                </a:lnTo>
                <a:lnTo>
                  <a:pt x="1000133" y="0"/>
                </a:lnTo>
                <a:close/>
              </a:path>
              <a:path fill="none" w="2000264" h="1866141">
                <a:moveTo>
                  <a:pt x="1000133" y="0"/>
                </a:moveTo>
                <a:lnTo>
                  <a:pt x="1000132" y="0"/>
                </a:lnTo>
                <a:cubicBezTo>
                  <a:pt x="1552490" y="0"/>
                  <a:pt x="2000264" y="417750"/>
                  <a:pt x="2000264" y="933071"/>
                </a:cubicBezTo>
                <a:cubicBezTo>
                  <a:pt x="2000264" y="933071"/>
                  <a:pt x="2000263" y="933072"/>
                  <a:pt x="2000263" y="933072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asellaDiTesto 30"/>
          <p:cNvSpPr/>
          <p:nvPr/>
        </p:nvSpPr>
        <p:spPr>
          <a:xfrm>
            <a:off x="2908440" y="3494160"/>
            <a:ext cx="32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RISK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135" name="Title 1"/>
          <p:cNvSpPr/>
          <p:nvPr/>
        </p:nvSpPr>
        <p:spPr>
          <a:xfrm>
            <a:off x="2522520" y="461880"/>
            <a:ext cx="6203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nclusions &amp; next step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5B0A-FB4C-4797-A64D-60910DBD0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99960" y="2028960"/>
            <a:ext cx="8326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93720" indent="-236520">
              <a:lnSpc>
                <a:spcPct val="100000"/>
              </a:lnSpc>
              <a:spcBef>
                <a:spcPts val="6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244440" y="2197080"/>
            <a:ext cx="86374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single security solution is not the answer – The Security Measures And Resource Tool Box (SMARToolbox) allows governments &amp; operators to choose the right security measures (tools) to manage terrorist thre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 avoids lengthy international debate on what are the right security meas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SMARToolbox is an easy to use database and will be an effective tool for governments and operato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 allows information to be shared globally, implemented &amp; updated quick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 excellent example of international partnership working - IWGLTS  members and T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ext step – add Risk Assessment and rollout the SMARToolbox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140" name="Title 1"/>
          <p:cNvSpPr/>
          <p:nvPr/>
        </p:nvSpPr>
        <p:spPr>
          <a:xfrm>
            <a:off x="2522520" y="461880"/>
            <a:ext cx="6203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62C4-71D4-4BC2-B492-2E90C9A37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99960" y="2028960"/>
            <a:ext cx="8326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93720" indent="-236520">
              <a:lnSpc>
                <a:spcPct val="100000"/>
              </a:lnSpc>
              <a:spcBef>
                <a:spcPts val="6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2166840" y="2862360"/>
            <a:ext cx="457200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172120" y="5462640"/>
            <a:ext cx="45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ndrew.cook@dft.gsi.gov.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2"/>
          <p:cNvSpPr/>
          <p:nvPr/>
        </p:nvSpPr>
        <p:spPr>
          <a:xfrm>
            <a:off x="836640" y="2606760"/>
            <a:ext cx="778824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y is a tool box approach necessa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 is a SMARToolbox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ief introduction to SMARToolbo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120" indent="-318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f assessment t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4120" indent="-318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urity program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ow  a SMARToolbox fits into a strategic approach to securi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clusions &amp; next ste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2"/>
          <p:cNvSpPr/>
          <p:nvPr/>
        </p:nvSpPr>
        <p:spPr>
          <a:xfrm>
            <a:off x="2106720" y="157320"/>
            <a:ext cx="67579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ecurity Measures and Resources Tool 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/>
          <p:cNvSpPr/>
          <p:nvPr/>
        </p:nvSpPr>
        <p:spPr>
          <a:xfrm>
            <a:off x="415800" y="314280"/>
            <a:ext cx="83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ontents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2"/>
          <p:cNvSpPr/>
          <p:nvPr/>
        </p:nvSpPr>
        <p:spPr>
          <a:xfrm>
            <a:off x="600120" y="3041640"/>
            <a:ext cx="7711920" cy="32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 fontScale="97000"/>
          </a:bodyPr>
          <a:p>
            <a:pPr marL="277200" indent="-27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 domestic and international terrorist threat is different for each country and each land transport mo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 single solution is not the answer - governments &amp; operators should choose the right security measures (tools) to manage terrorist thre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e tool box approach allows security measures (tools) to be set against scen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t avoids lengthy international debate on what are the right security meas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llows information to be shared globally, implemented &amp; updated quick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llows governments and operators to be responsible for their act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7200" indent="-27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2"/>
          <p:cNvSpPr/>
          <p:nvPr/>
        </p:nvSpPr>
        <p:spPr>
          <a:xfrm>
            <a:off x="2106720" y="157320"/>
            <a:ext cx="675792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Security Measures and Resources Tool Bo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415800" y="314280"/>
            <a:ext cx="83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hy is a tool box approach necessary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64" name="Title 1"/>
          <p:cNvSpPr/>
          <p:nvPr/>
        </p:nvSpPr>
        <p:spPr>
          <a:xfrm>
            <a:off x="3532320" y="414360"/>
            <a:ext cx="519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What is the SMARToolbo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CDEF-1105-46F2-AE8B-CB27E7C62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Content Placeholder 2"/>
          <p:cNvSpPr/>
          <p:nvPr/>
        </p:nvSpPr>
        <p:spPr>
          <a:xfrm>
            <a:off x="585720" y="1704960"/>
            <a:ext cx="797256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7800" indent="-34272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readily available resource of global security information for land transport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34272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uitive and easy to use searchable database of security meas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34272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itional resources include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elf assessment fun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security programme gu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77800" indent="-342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ternal l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34272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ownloadable for a local SMARToolbox vers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77800" indent="-34272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77800" indent="-34272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55640" y="5904000"/>
            <a:ext cx="7370640" cy="61920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71600" indent="-236520"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SMARToolbox does not contain classified security information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71600" indent="-236520"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assified data can be added local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42920" y="5045040"/>
            <a:ext cx="8928000" cy="156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PPT.jpg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70" name="Title 1"/>
          <p:cNvSpPr/>
          <p:nvPr/>
        </p:nvSpPr>
        <p:spPr>
          <a:xfrm>
            <a:off x="4572000" y="461880"/>
            <a:ext cx="4154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ecurity Mea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579600" y="1906560"/>
            <a:ext cx="781344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220680" indent="-220680">
              <a:spcBef>
                <a:spcPts val="20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Tool box concept was conceived by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ational Working Group on Land Transport Security (IWGLTS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and developed by US Transportation Security Administration (TS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0680" indent="-220680">
              <a:spcBef>
                <a:spcPts val="20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MARToolbox so far contains over 350 security measures which are searchable by a combination of filters, including :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Mode, User Type, Asset Type, Phas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Calibri"/>
              </a:rPr>
              <a:t>Attack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0680" indent="-220680">
              <a:spcBef>
                <a:spcPts val="20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security measures were provided by IWGLTS and other international security organizations , facilitated by T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0680" indent="-220680">
              <a:spcBef>
                <a:spcPts val="20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is a tool for governments and operators to u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20680" indent="-220680">
              <a:spcBef>
                <a:spcPts val="20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sers can edit and delete security measures from their local copy, or recommend changes through TSA at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SMARTbox@tsa.dhs.go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5890-04C6-4334-8E6F-949AA4BD1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74" name="Title 1"/>
          <p:cNvSpPr/>
          <p:nvPr/>
        </p:nvSpPr>
        <p:spPr>
          <a:xfrm>
            <a:off x="4572000" y="461880"/>
            <a:ext cx="4154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itle 1"/>
          <p:cNvSpPr/>
          <p:nvPr/>
        </p:nvSpPr>
        <p:spPr>
          <a:xfrm>
            <a:off x="3989520" y="414360"/>
            <a:ext cx="4736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MARToolbox Front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50F8-ED0E-44F0-898B-87EBF3F28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2"/>
          <a:srcRect l="2679" t="5972" r="26374" b="34091"/>
          <a:stretch/>
        </p:blipFill>
        <p:spPr>
          <a:xfrm>
            <a:off x="222120" y="1719360"/>
            <a:ext cx="859968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79" name="Title 1"/>
          <p:cNvSpPr/>
          <p:nvPr/>
        </p:nvSpPr>
        <p:spPr>
          <a:xfrm>
            <a:off x="1803240" y="461880"/>
            <a:ext cx="6923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Basic Security Measures 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F10A-A66E-4543-AF42-53D4B71D3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3645000" y="1828800"/>
            <a:ext cx="5317920" cy="4527720"/>
          </a:xfrm>
          <a:prstGeom prst="rect">
            <a:avLst/>
          </a:prstGeom>
          <a:ln w="0">
            <a:noFill/>
          </a:ln>
        </p:spPr>
      </p:pic>
      <p:sp>
        <p:nvSpPr>
          <p:cNvPr id="82" name="Content Placeholder 2"/>
          <p:cNvSpPr/>
          <p:nvPr/>
        </p:nvSpPr>
        <p:spPr>
          <a:xfrm>
            <a:off x="0" y="1941480"/>
            <a:ext cx="328464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5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rch by scenario, e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ED, PBIED,VBI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e shoo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yb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5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rch by ph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t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ti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ponse, Recover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508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5080">
              <a:spcBef>
                <a:spcPts val="601"/>
              </a:spcBef>
              <a:spcAft>
                <a:spcPts val="601"/>
              </a:spcAft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P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84" name="Title 1"/>
          <p:cNvSpPr/>
          <p:nvPr/>
        </p:nvSpPr>
        <p:spPr>
          <a:xfrm>
            <a:off x="2238480" y="461880"/>
            <a:ext cx="648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xample of Security Measure Deta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" descr=""/>
          <p:cNvPicPr/>
          <p:nvPr/>
        </p:nvPicPr>
        <p:blipFill>
          <a:blip r:embed="rId2"/>
          <a:stretch/>
        </p:blipFill>
        <p:spPr>
          <a:xfrm>
            <a:off x="209520" y="1782720"/>
            <a:ext cx="8724960" cy="4651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Oval 1"/>
          <p:cNvSpPr/>
          <p:nvPr/>
        </p:nvSpPr>
        <p:spPr>
          <a:xfrm>
            <a:off x="6756480" y="5937120"/>
            <a:ext cx="1117440" cy="57312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7BEE-1DEE-45EC-9C55-00CE248C5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3451320" y="1758960"/>
            <a:ext cx="5378400" cy="461484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89" name="Picture 2" descr="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704960"/>
          </a:xfrm>
          <a:prstGeom prst="rect">
            <a:avLst/>
          </a:prstGeom>
          <a:ln w="0">
            <a:noFill/>
          </a:ln>
        </p:spPr>
      </p:pic>
      <p:sp>
        <p:nvSpPr>
          <p:cNvPr id="90" name="Title 1"/>
          <p:cNvSpPr/>
          <p:nvPr/>
        </p:nvSpPr>
        <p:spPr>
          <a:xfrm>
            <a:off x="2035080" y="461880"/>
            <a:ext cx="66913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Advance Security Measures 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A392-9358-4641-AAAC-018499225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154080" y="1941480"/>
            <a:ext cx="3154320" cy="47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mediate Advan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5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w enforc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5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ty fun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awar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b1f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7T18:30:13Z</dcterms:created>
  <dc:creator>Landegger, Alexandra [USA]</dc:creator>
  <dc:description/>
  <dc:language>en-US</dc:language>
  <cp:lastModifiedBy>Andrew Cook</cp:lastModifiedBy>
  <cp:lastPrinted>2014-10-02T11:33:08Z</cp:lastPrinted>
  <dcterms:modified xsi:type="dcterms:W3CDTF">2014-11-19T12:10:25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2EADFFEA6FFF8478E662FBC2EB7A297</vt:lpwstr>
  </property>
</Properties>
</file>