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33FE-46A2-4C5B-B6C2-2E8B0C32F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503F-B3C5-49A4-968B-EDBB93E94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0420-4CB3-4E44-9B7A-E1E25F317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C033-0B81-4144-A355-4556BE096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8323-8B01-4640-AEB2-42CEAC6F5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681-F5CC-4E40-A289-A362418AB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9D2D-0407-494E-A5F0-F5FDC7A12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183F-C249-4A9A-BBB6-7358C2275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D654-835F-4120-9CCF-8934B6EF1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440E-8423-4BD5-A65D-C1D772107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Text Box 4"/>
          <p:cNvSpPr/>
          <p:nvPr/>
        </p:nvSpPr>
        <p:spPr>
          <a:xfrm>
            <a:off x="595440" y="5024880"/>
            <a:ext cx="5508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69960" y="7129440"/>
            <a:ext cx="673200" cy="74124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011240" y="7659720"/>
            <a:ext cx="673200" cy="73980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847880" y="7129440"/>
            <a:ext cx="671400" cy="74124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97080" y="7659720"/>
            <a:ext cx="673200" cy="73980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078000" y="7129440"/>
            <a:ext cx="676440" cy="74124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411360" y="7659720"/>
            <a:ext cx="671760" cy="73980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435640" y="7129440"/>
            <a:ext cx="671400" cy="74124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257720" y="7129440"/>
            <a:ext cx="67140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589640" y="7659720"/>
            <a:ext cx="6714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698400" y="5513400"/>
            <a:ext cx="750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851120" y="5513400"/>
            <a:ext cx="750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097080" y="5513400"/>
            <a:ext cx="749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4275000" y="6851880"/>
            <a:ext cx="752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425920" y="5635080"/>
            <a:ext cx="75096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1042920" y="8470800"/>
            <a:ext cx="752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2195640" y="8470800"/>
            <a:ext cx="752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3440160" y="8470800"/>
            <a:ext cx="752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4619520" y="8470800"/>
            <a:ext cx="75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670F-763C-45B1-804E-6C46118D7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4133-B72F-4566-AD9E-9473D66DB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4D11-3503-41FE-B3F5-04398C525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A796-DC36-488C-AD4D-83DB05C8C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50CA-2533-4BB9-9CC5-47C379F88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E8D-1B43-45D0-93AA-C5ED19A5E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F34E-B176-482F-A3EA-E3AF21E40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6BE-5983-42AA-B54A-764CF207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F07-41C4-4BC0-B891-D78E6E04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43E-003A-495D-AFBB-393A8699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CBC-B15D-4216-AE19-F7CC921D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299-FA88-4160-A3B2-75E602D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D1A-72E2-49D9-9C51-5EAB789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C07-88FC-40A6-8336-9A3D3C26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A24-65D4-42CE-8BDD-80C593F9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076-D937-4CF8-A4B5-387BC6D8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D38-9BB8-4E2C-A211-5DF6F3E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B7A-049B-4AB8-B2A2-15358BB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E43-A434-4AD7-A58A-E94E391A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E645-3DF4-4FEC-B675-29D2EC7559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F845-9B7C-4AED-9DB9-2082219B7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mailto:SMARTbox@tsa.dhs.g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hyperlink" Target="mailto:SMARTbox@tsa.dhs.g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0"/>
          <p:cNvSpPr/>
          <p:nvPr/>
        </p:nvSpPr>
        <p:spPr>
          <a:xfrm>
            <a:off x="5021280" y="5291280"/>
            <a:ext cx="3551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drew C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national Working Group Land Transport Security (IWGL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619200" y="1609560"/>
            <a:ext cx="7686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2 meeting 24 November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2106720" y="157320"/>
            <a:ext cx="67579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ecurity Measures and Resources Tool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415800" y="31428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urity Measures and Resources Tool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2"/>
          <p:cNvSpPr/>
          <p:nvPr/>
        </p:nvSpPr>
        <p:spPr>
          <a:xfrm>
            <a:off x="1177920" y="5016600"/>
            <a:ext cx="7686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106720" y="3251160"/>
            <a:ext cx="5576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urity Measures And Resources Tool Box - SMARToolbo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94" name="Title 1"/>
          <p:cNvSpPr/>
          <p:nvPr/>
        </p:nvSpPr>
        <p:spPr>
          <a:xfrm>
            <a:off x="4003560" y="461880"/>
            <a:ext cx="4722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dding Security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1414440" y="2571840"/>
            <a:ext cx="6029280" cy="3522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96" name="Rectangle 3"/>
          <p:cNvSpPr/>
          <p:nvPr/>
        </p:nvSpPr>
        <p:spPr>
          <a:xfrm>
            <a:off x="463680" y="1879560"/>
            <a:ext cx="82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RToolbox users have the option to add new measures to their local copy as necessary.  Existing measures can also be edited to better reflect the user's actual operating environ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87520" y="6173640"/>
            <a:ext cx="79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recommend changes or share security measures, users may email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MARTbox@tsa.dhs.go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2B7-7365-464B-92DE-58A98AC49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4572000" y="461880"/>
            <a:ext cx="415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lf – Assessment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1941480"/>
            <a:ext cx="8999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 questions focused on key priorities in transport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essment  results offer the user an analysis, and can inform the user’s choices to filter the database to find security measures that best fit thei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ntable report is available for record keeping purposes, and sharing results or progress m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46240" y="3838680"/>
            <a:ext cx="4140000" cy="28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4592520" y="3838680"/>
            <a:ext cx="4030920" cy="28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Slide Number Placeholder 6"/>
          <p:cNvSpPr/>
          <p:nvPr/>
        </p:nvSpPr>
        <p:spPr>
          <a:xfrm>
            <a:off x="6894360" y="6478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6111-7232-4906-A116-299329157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06" name="Title 1"/>
          <p:cNvSpPr/>
          <p:nvPr/>
        </p:nvSpPr>
        <p:spPr>
          <a:xfrm>
            <a:off x="733320" y="461880"/>
            <a:ext cx="79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ransportation Security Programme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436680" y="1890720"/>
            <a:ext cx="8316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uide assists users in answering the following ques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does transportation security matt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should a transportation security program accomplis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should participate in developing a transportation security progra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al reference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1199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endix A:  Transportation Security Functional E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endix B:  Guiding Documents for a Security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endix C:  Transportation Security Stakeholder Matr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endix D:  Transportation Security Training Top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278A-F187-4EC2-9346-EB9E26AB0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4572000" y="461880"/>
            <a:ext cx="415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source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771480" y="2798640"/>
            <a:ext cx="7635960" cy="36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Rectangle 4"/>
          <p:cNvSpPr/>
          <p:nvPr/>
        </p:nvSpPr>
        <p:spPr>
          <a:xfrm>
            <a:off x="771480" y="1838160"/>
            <a:ext cx="763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External Resource Links  feature provides users with additional information to assist in  identifying and implementing security measures.  The information is categorised by 15 security functions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C2F5-B320-421A-8067-9A40C0761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15" name="Title 1"/>
          <p:cNvSpPr/>
          <p:nvPr/>
        </p:nvSpPr>
        <p:spPr>
          <a:xfrm>
            <a:off x="2522520" y="461880"/>
            <a:ext cx="6203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n integrated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186-5E62-4477-83E1-8B09509DC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AutoShape 6"/>
          <p:cNvGrpSpPr/>
          <p:nvPr/>
        </p:nvGrpSpPr>
        <p:grpSpPr>
          <a:xfrm>
            <a:off x="3541680" y="2359080"/>
            <a:ext cx="1957320" cy="622080"/>
            <a:chOff x="3541680" y="2359080"/>
            <a:chExt cx="1957320" cy="622080"/>
          </a:xfrm>
        </p:grpSpPr>
        <p:pic>
          <p:nvPicPr>
            <p:cNvPr id="118" name="AutoShape 6" descr=""/>
            <p:cNvPicPr/>
            <p:nvPr/>
          </p:nvPicPr>
          <p:blipFill>
            <a:blip r:embed="rId2"/>
            <a:stretch/>
          </p:blipFill>
          <p:spPr>
            <a:xfrm>
              <a:off x="3541680" y="2359080"/>
              <a:ext cx="19573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719520" y="2408400"/>
              <a:ext cx="15987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Futura Lt BT"/>
                </a:rPr>
                <a:t>SMARToolbo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AutoShape 6"/>
          <p:cNvGrpSpPr/>
          <p:nvPr/>
        </p:nvGrpSpPr>
        <p:grpSpPr>
          <a:xfrm>
            <a:off x="6297480" y="3432240"/>
            <a:ext cx="1766880" cy="622080"/>
            <a:chOff x="6297480" y="3432240"/>
            <a:chExt cx="1766880" cy="622080"/>
          </a:xfrm>
        </p:grpSpPr>
        <p:pic>
          <p:nvPicPr>
            <p:cNvPr id="121" name="AutoShape 6" descr=""/>
            <p:cNvPicPr/>
            <p:nvPr/>
          </p:nvPicPr>
          <p:blipFill>
            <a:blip r:embed="rId3"/>
            <a:stretch/>
          </p:blipFill>
          <p:spPr>
            <a:xfrm>
              <a:off x="6297480" y="3432240"/>
              <a:ext cx="17668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380280" y="3486240"/>
              <a:ext cx="1598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Futura Lt BT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AutoShape 6"/>
          <p:cNvGrpSpPr/>
          <p:nvPr/>
        </p:nvGrpSpPr>
        <p:grpSpPr>
          <a:xfrm>
            <a:off x="3713040" y="5016600"/>
            <a:ext cx="1760760" cy="622080"/>
            <a:chOff x="3713040" y="5016600"/>
            <a:chExt cx="1760760" cy="622080"/>
          </a:xfrm>
        </p:grpSpPr>
        <p:pic>
          <p:nvPicPr>
            <p:cNvPr id="124" name="AutoShape 6" descr=""/>
            <p:cNvPicPr/>
            <p:nvPr/>
          </p:nvPicPr>
          <p:blipFill>
            <a:blip r:embed="rId4"/>
            <a:stretch/>
          </p:blipFill>
          <p:spPr>
            <a:xfrm>
              <a:off x="3713040" y="5016600"/>
              <a:ext cx="17607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794040" y="5070600"/>
              <a:ext cx="15987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Futura Lt BT"/>
                </a:rPr>
                <a:t>Cost/benefi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AutoShape 6"/>
          <p:cNvGrpSpPr/>
          <p:nvPr/>
        </p:nvGrpSpPr>
        <p:grpSpPr>
          <a:xfrm>
            <a:off x="1116000" y="3505320"/>
            <a:ext cx="1760400" cy="622080"/>
            <a:chOff x="1116000" y="3505320"/>
            <a:chExt cx="1760400" cy="622080"/>
          </a:xfrm>
        </p:grpSpPr>
        <p:pic>
          <p:nvPicPr>
            <p:cNvPr id="127" name="AutoShape 6" descr=""/>
            <p:cNvPicPr/>
            <p:nvPr/>
          </p:nvPicPr>
          <p:blipFill>
            <a:blip r:embed="rId5"/>
            <a:stretch/>
          </p:blipFill>
          <p:spPr>
            <a:xfrm>
              <a:off x="1116000" y="3505320"/>
              <a:ext cx="176040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98440" y="3556080"/>
              <a:ext cx="15987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Futura Lt BT"/>
                </a:rPr>
                <a:t>Threa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Arco 32"/>
          <p:cNvSpPr/>
          <p:nvPr/>
        </p:nvSpPr>
        <p:spPr>
          <a:xfrm rot="16200000">
            <a:off x="2503440" y="2472840"/>
            <a:ext cx="1785960" cy="1970280"/>
          </a:xfrm>
          <a:custGeom>
            <a:avLst/>
            <a:gdLst>
              <a:gd name="textAreaLeft" fmla="*/ 893160 w 1785960"/>
              <a:gd name="textAreaRight" fmla="*/ 1786320 w 1785960"/>
              <a:gd name="textAreaTop" fmla="*/ 0 h 1970280"/>
              <a:gd name="textAreaBottom" fmla="*/ 993960 h 1970280"/>
            </a:gdLst>
            <a:ahLst/>
            <a:rect l="textAreaLeft" t="textAreaTop" r="textAreaRight" b="textAreaBottom"/>
            <a:pathLst>
              <a:path stroke="0" w="1785950" h="1969299">
                <a:moveTo>
                  <a:pt x="892976" y="0"/>
                </a:moveTo>
                <a:lnTo>
                  <a:pt x="892976" y="0"/>
                </a:lnTo>
                <a:cubicBezTo>
                  <a:pt x="1386152" y="0"/>
                  <a:pt x="1785950" y="440843"/>
                  <a:pt x="1785950" y="984650"/>
                </a:cubicBezTo>
                <a:cubicBezTo>
                  <a:pt x="1785950" y="987546"/>
                  <a:pt x="1785938" y="990443"/>
                  <a:pt x="1785915" y="993340"/>
                </a:cubicBezTo>
                <a:lnTo>
                  <a:pt x="892975" y="984650"/>
                </a:lnTo>
                <a:lnTo>
                  <a:pt x="892976" y="0"/>
                </a:lnTo>
                <a:close/>
              </a:path>
              <a:path fill="none" w="1785950" h="1969299">
                <a:moveTo>
                  <a:pt x="892976" y="0"/>
                </a:moveTo>
                <a:lnTo>
                  <a:pt x="892976" y="0"/>
                </a:lnTo>
                <a:cubicBezTo>
                  <a:pt x="1386152" y="0"/>
                  <a:pt x="1785950" y="440843"/>
                  <a:pt x="1785950" y="984650"/>
                </a:cubicBezTo>
                <a:cubicBezTo>
                  <a:pt x="1785950" y="987546"/>
                  <a:pt x="1785938" y="990443"/>
                  <a:pt x="1785915" y="99334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rco 21"/>
          <p:cNvSpPr/>
          <p:nvPr/>
        </p:nvSpPr>
        <p:spPr>
          <a:xfrm>
            <a:off x="4500720" y="2565360"/>
            <a:ext cx="2286000" cy="1643040"/>
          </a:xfrm>
          <a:custGeom>
            <a:avLst/>
            <a:gdLst/>
            <a:ahLst/>
            <a:rect l="l" t="t" r="r" b="b"/>
            <a:pathLst>
              <a:path stroke="0" w="2286000" h="1643063">
                <a:moveTo>
                  <a:pt x="1143000" y="0"/>
                </a:moveTo>
                <a:cubicBezTo>
                  <a:pt x="1774261" y="0"/>
                  <a:pt x="2286000" y="367812"/>
                  <a:pt x="2286000" y="821532"/>
                </a:cubicBezTo>
                <a:lnTo>
                  <a:pt x="1143000" y="821532"/>
                </a:lnTo>
                <a:lnTo>
                  <a:pt x="1143000" y="0"/>
                </a:lnTo>
                <a:close/>
              </a:path>
              <a:path fill="none" w="2286000" h="1643063">
                <a:moveTo>
                  <a:pt x="1143000" y="0"/>
                </a:moveTo>
                <a:cubicBezTo>
                  <a:pt x="1774261" y="0"/>
                  <a:pt x="2286000" y="367812"/>
                  <a:pt x="2286000" y="821532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rco 29"/>
          <p:cNvSpPr/>
          <p:nvPr/>
        </p:nvSpPr>
        <p:spPr>
          <a:xfrm rot="5400000">
            <a:off x="4976640" y="3529080"/>
            <a:ext cx="1842840" cy="1500120"/>
          </a:xfrm>
          <a:custGeom>
            <a:avLst/>
            <a:gdLst>
              <a:gd name="textAreaLeft" fmla="*/ 921600 w 1842840"/>
              <a:gd name="textAreaRight" fmla="*/ 1843200 w 1842840"/>
              <a:gd name="textAreaTop" fmla="*/ 0 h 1500120"/>
              <a:gd name="textAreaBottom" fmla="*/ 750240 h 1500120"/>
            </a:gdLst>
            <a:ahLst/>
            <a:rect l="textAreaLeft" t="textAreaTop" r="textAreaRight" b="textAreaBottom"/>
            <a:pathLst>
              <a:path stroke="0" w="1843094" h="1500198">
                <a:moveTo>
                  <a:pt x="921548" y="0"/>
                </a:moveTo>
                <a:lnTo>
                  <a:pt x="921548" y="0"/>
                </a:lnTo>
                <a:cubicBezTo>
                  <a:pt x="1430503" y="0"/>
                  <a:pt x="1843094" y="335831"/>
                  <a:pt x="1843094" y="750099"/>
                </a:cubicBezTo>
                <a:cubicBezTo>
                  <a:pt x="1843094" y="750099"/>
                  <a:pt x="1843093" y="750100"/>
                  <a:pt x="1843093" y="750100"/>
                </a:cubicBezTo>
                <a:lnTo>
                  <a:pt x="921547" y="750099"/>
                </a:lnTo>
                <a:lnTo>
                  <a:pt x="921548" y="0"/>
                </a:lnTo>
                <a:close/>
              </a:path>
              <a:path fill="none" w="1843094" h="1500198">
                <a:moveTo>
                  <a:pt x="921548" y="0"/>
                </a:moveTo>
                <a:lnTo>
                  <a:pt x="921548" y="0"/>
                </a:lnTo>
                <a:cubicBezTo>
                  <a:pt x="1430503" y="0"/>
                  <a:pt x="1843094" y="335831"/>
                  <a:pt x="1843094" y="750099"/>
                </a:cubicBezTo>
                <a:cubicBezTo>
                  <a:pt x="1843094" y="750099"/>
                  <a:pt x="1843093" y="750100"/>
                  <a:pt x="1843093" y="7501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rco 31"/>
          <p:cNvSpPr/>
          <p:nvPr/>
        </p:nvSpPr>
        <p:spPr>
          <a:xfrm rot="10800000">
            <a:off x="2410920" y="3284640"/>
            <a:ext cx="2000520" cy="1866960"/>
          </a:xfrm>
          <a:custGeom>
            <a:avLst/>
            <a:gdLst>
              <a:gd name="textAreaLeft" fmla="*/ 1000440 w 2000520"/>
              <a:gd name="textAreaRight" fmla="*/ 2000880 w 2000520"/>
              <a:gd name="textAreaTop" fmla="*/ 0 h 1866960"/>
              <a:gd name="textAreaBottom" fmla="*/ 933480 h 1866960"/>
            </a:gdLst>
            <a:ahLst/>
            <a:rect l="textAreaLeft" t="textAreaTop" r="textAreaRight" b="textAreaBottom"/>
            <a:pathLst>
              <a:path stroke="0" w="2000264" h="1866141">
                <a:moveTo>
                  <a:pt x="1000133" y="0"/>
                </a:moveTo>
                <a:lnTo>
                  <a:pt x="1000132" y="0"/>
                </a:lnTo>
                <a:cubicBezTo>
                  <a:pt x="1552490" y="0"/>
                  <a:pt x="2000264" y="417750"/>
                  <a:pt x="2000264" y="933071"/>
                </a:cubicBezTo>
                <a:cubicBezTo>
                  <a:pt x="2000264" y="933071"/>
                  <a:pt x="2000263" y="933072"/>
                  <a:pt x="2000263" y="933072"/>
                </a:cubicBezTo>
                <a:lnTo>
                  <a:pt x="1000132" y="933071"/>
                </a:lnTo>
                <a:lnTo>
                  <a:pt x="1000133" y="0"/>
                </a:lnTo>
                <a:close/>
              </a:path>
              <a:path fill="none" w="2000264" h="1866141">
                <a:moveTo>
                  <a:pt x="1000133" y="0"/>
                </a:moveTo>
                <a:lnTo>
                  <a:pt x="1000132" y="0"/>
                </a:lnTo>
                <a:cubicBezTo>
                  <a:pt x="1552490" y="0"/>
                  <a:pt x="2000264" y="417750"/>
                  <a:pt x="2000264" y="933071"/>
                </a:cubicBezTo>
                <a:cubicBezTo>
                  <a:pt x="2000264" y="933071"/>
                  <a:pt x="2000263" y="933072"/>
                  <a:pt x="2000263" y="933072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asellaDiTesto 30"/>
          <p:cNvSpPr/>
          <p:nvPr/>
        </p:nvSpPr>
        <p:spPr>
          <a:xfrm>
            <a:off x="2908440" y="3494160"/>
            <a:ext cx="32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2522520" y="461880"/>
            <a:ext cx="6203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nclusions &amp; next ste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C843-55F7-4E3D-BC04-22A263B90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99960" y="2028960"/>
            <a:ext cx="8326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3720" indent="-236520">
              <a:lnSpc>
                <a:spcPct val="100000"/>
              </a:lnSpc>
              <a:spcBef>
                <a:spcPts val="6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44440" y="2197080"/>
            <a:ext cx="86374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single security solution is not the answer – The Security Measures And Resource Tool Box (SMARToolbox) allows governments &amp; operators to choose the right security measures (tools) to manage terrorist thre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avoids lengthy international debate on what are the right security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SMARToolbox is an easy to use database and will be an effective tool for governments and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allows information to be shared globally, implemented &amp; updated quick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 excellent example of international partnership working - IWGLTS  members and T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xt step – add Risk Assessment and rollout the SMARToolbox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Title 1"/>
          <p:cNvSpPr/>
          <p:nvPr/>
        </p:nvSpPr>
        <p:spPr>
          <a:xfrm>
            <a:off x="2522520" y="461880"/>
            <a:ext cx="6203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C323-1A06-4802-8ED0-8BA1ACE79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9960" y="2028960"/>
            <a:ext cx="8326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3720" indent="-236520">
              <a:lnSpc>
                <a:spcPct val="100000"/>
              </a:lnSpc>
              <a:spcBef>
                <a:spcPts val="6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2166840" y="2862360"/>
            <a:ext cx="45720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172120" y="54626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rew.cook@dft.gsi.gov.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836640" y="2606760"/>
            <a:ext cx="77882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is a tool box approach necessa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a SMARToolbox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ef introduction to SMARTool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f assessment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urity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 a SMARToolbox fits into a strategic approach to secur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lusions &amp; next ste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2106720" y="157320"/>
            <a:ext cx="67579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ecurity Measures and Resources Tool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415800" y="314280"/>
            <a:ext cx="83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ontent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2"/>
          <p:cNvSpPr/>
          <p:nvPr/>
        </p:nvSpPr>
        <p:spPr>
          <a:xfrm>
            <a:off x="600120" y="3041640"/>
            <a:ext cx="7711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7000"/>
          </a:bodyPr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 domestic and international terrorist threat is different for each country and each land transport m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single solution is not the answer - governments &amp; operators should choose the right security measures (tools) to manage terrorist thre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tool box approach allows security measures (tools) to be set against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avoids lengthy international debate on what are the right security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lows information to be shared globally, implemented &amp; updated quick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lows governments and operators to be responsible for their ac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2106720" y="157320"/>
            <a:ext cx="67579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ecurity Measures and Resources Tool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15800" y="314280"/>
            <a:ext cx="83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y is a tool box approach necessar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Title 1"/>
          <p:cNvSpPr/>
          <p:nvPr/>
        </p:nvSpPr>
        <p:spPr>
          <a:xfrm>
            <a:off x="3532320" y="414360"/>
            <a:ext cx="519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hat is the SMARToolbo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4301-8FB7-4385-A1AF-037C50CAD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585720" y="1704960"/>
            <a:ext cx="797256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readily available resource of global security information for land transport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uitive and easy to use searchable database of security meas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resources includ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lf assessment fun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curity programme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ernal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wnloadable for a local SMARToolbox vers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55640" y="5904000"/>
            <a:ext cx="7370640" cy="619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71600" indent="-23652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MARToolbox does not contain classified security informatio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71600" indent="-23652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ified data can be added local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2920" y="5045040"/>
            <a:ext cx="8928000" cy="15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PPT.jpg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70" name="Title 1"/>
          <p:cNvSpPr/>
          <p:nvPr/>
        </p:nvSpPr>
        <p:spPr>
          <a:xfrm>
            <a:off x="4572000" y="461880"/>
            <a:ext cx="415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urity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579600" y="1906560"/>
            <a:ext cx="781344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Tool box concept was conceived b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Working Group on Land Transport Security (IWGLT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developed by US Transportation Security Administration (TS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RToolbox so far contains over 350 security measures which are searchable by a combination of filters, including 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Mode, User Type, Asset Type, Pha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ttack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ecurity measures were provided by IWGLTS and other international security organizations , facilitated by T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is a tool for governments and operators to u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s can edit and delete security measures from their local copy, or recommend changes through TSA at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MARTbox@tsa.dhs.go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B69F-FCE5-4243-B85A-A7D78A919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74" name="Title 1"/>
          <p:cNvSpPr/>
          <p:nvPr/>
        </p:nvSpPr>
        <p:spPr>
          <a:xfrm>
            <a:off x="4572000" y="461880"/>
            <a:ext cx="415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3989520" y="414360"/>
            <a:ext cx="4736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MARToolbox Front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388-B28A-476F-9E45-7EC841903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rcRect l="2679" t="5972" r="26374" b="34091"/>
          <a:stretch/>
        </p:blipFill>
        <p:spPr>
          <a:xfrm>
            <a:off x="222120" y="1719360"/>
            <a:ext cx="85996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79" name="Title 1"/>
          <p:cNvSpPr/>
          <p:nvPr/>
        </p:nvSpPr>
        <p:spPr>
          <a:xfrm>
            <a:off x="1803240" y="461880"/>
            <a:ext cx="6923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asic Security Measures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9E0-A830-4265-9FA0-B913E58F9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3645000" y="1828800"/>
            <a:ext cx="5317920" cy="452772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0" y="1941480"/>
            <a:ext cx="328464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 by scenario, 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D, PBIED,VB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e shoo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yb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 by ph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e, Recove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Title 1"/>
          <p:cNvSpPr/>
          <p:nvPr/>
        </p:nvSpPr>
        <p:spPr>
          <a:xfrm>
            <a:off x="2238480" y="461880"/>
            <a:ext cx="648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xample of Security Measure De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209520" y="1782720"/>
            <a:ext cx="8724960" cy="465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Oval 1"/>
          <p:cNvSpPr/>
          <p:nvPr/>
        </p:nvSpPr>
        <p:spPr>
          <a:xfrm>
            <a:off x="6756480" y="5937120"/>
            <a:ext cx="1117440" cy="5731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64D-6714-4F97-912E-4F3032F03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451320" y="1758960"/>
            <a:ext cx="5378400" cy="46148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89" name="Picture 2" descr="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2035080" y="461880"/>
            <a:ext cx="669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dvance Security Measures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FA65-09C4-4446-8255-0D1764C52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154080" y="1941480"/>
            <a:ext cx="315432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mediate Adv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w enforc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ty fun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8:30:13Z</dcterms:created>
  <dc:creator>Landegger, Alexandra [USA]</dc:creator>
  <dc:description/>
  <dc:language>en-US</dc:language>
  <cp:lastModifiedBy>Andrew Cook</cp:lastModifiedBy>
  <cp:lastPrinted>2014-10-02T11:33:08Z</cp:lastPrinted>
  <dcterms:modified xsi:type="dcterms:W3CDTF">2014-11-19T12:10:25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2EADFFEA6FFF8478E662FBC2EB7A297</vt:lpwstr>
  </property>
</Properties>
</file>