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6EBB-678B-4019-922A-8DB7DFD338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5953-20A8-4519-882B-0A9902CE5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8221-4D0C-4CDC-A563-A88AD72AC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707B-B2D2-431B-8CBA-4FCAC4669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A598-DF13-4A5A-9848-20DBEBFC7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1040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61880" y="16333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892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1040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61880" y="3962520"/>
            <a:ext cx="262008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767B8-9DEF-45AB-B8C2-C81F8F2F9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7852-CABC-4C45-8A05-7C004A4CD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23FE2-B0A2-4290-9F79-FEBD12453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640" y="37152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765A-F5DD-4118-9F70-DF553748D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A070E-0463-445F-859C-CB47AD2ED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28800" y="39625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E44E0-23CE-4C3C-B376-B039C80247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8800" y="1633320"/>
            <a:ext cx="397080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8920" y="3962520"/>
            <a:ext cx="8137440" cy="212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C386-4C0A-492F-A720-472A40E2D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7" descr="PIED.eps"/>
          <p:cNvPicPr/>
          <p:nvPr/>
        </p:nvPicPr>
        <p:blipFill>
          <a:blip r:embed="rId2"/>
          <a:stretch/>
        </p:blipFill>
        <p:spPr>
          <a:xfrm>
            <a:off x="647640" y="6261120"/>
            <a:ext cx="7848720" cy="444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26920" y="6391440"/>
            <a:ext cx="71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74E1-EF28-44A9-8FC6-00E29DE12217}" type="slidenum">
              <a:rPr b="0" lang="fr-F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UNECE Working party on Rail Transport SC2 24 Nvember 20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506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pic>
        <p:nvPicPr>
          <p:cNvPr id="42" name="Image 5" descr="couv.eps"/>
          <p:cNvPicPr/>
          <p:nvPr/>
        </p:nvPicPr>
        <p:blipFill>
          <a:blip r:embed="rId2"/>
          <a:stretch/>
        </p:blipFill>
        <p:spPr>
          <a:xfrm>
            <a:off x="1295280" y="685800"/>
            <a:ext cx="717552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0636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1789"/>
              </a:spcBef>
              <a:buClr>
                <a:srgbClr val="3c3c3c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2" marL="466560" indent="-169560">
              <a:spcBef>
                <a:spcPts val="1789"/>
              </a:spcBef>
              <a:buClr>
                <a:srgbClr val="506361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3" marL="658800" indent="-190440">
              <a:spcBef>
                <a:spcPts val="1789"/>
              </a:spcBef>
              <a:buClr>
                <a:srgbClr val="3c3c3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4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5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6" marL="2057400" indent="-228600">
              <a:spcBef>
                <a:spcPts val="1789"/>
              </a:spcBef>
              <a:buClr>
                <a:srgbClr val="3c3c3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uic.org/security" TargetMode="External"/><Relationship Id="rId2" Type="http://schemas.openxmlformats.org/officeDocument/2006/relationships/hyperlink" Target="http://extranet.uic.or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ic.org/security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uic.org/security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85520" y="2877840"/>
            <a:ext cx="702612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Security at UIC </a:t>
            </a:r>
            <a:br>
              <a:rPr sz="3200"/>
            </a:b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High Speed security handbook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ecurity workspace</a:t>
            </a:r>
            <a:endParaRPr b="1" lang="en-US" sz="24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5280" y="4652640"/>
            <a:ext cx="65167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1295280" y="5924520"/>
            <a:ext cx="3708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acques Colliard, Manager of the UIC Security Divis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06361"/>
                </a:solidFill>
                <a:latin typeface="Arial"/>
              </a:rPr>
              <a:t>Context and Process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72880" indent="-27288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High Speed systems need to be specifically protected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increased consequences of incident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economic and financial aspect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iconic aspects...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272880" indent="-27288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Rail security at the service of the activities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beside national authorities, international bodie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element of quality expected by the clien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272880" indent="-27288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Security Handbook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managed by the passenger/high speed department of the companie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with the expertise of their security expert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with the involvement of UIC HQ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coherent with traditional rail systems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estricted version and public vers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74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06361"/>
                </a:solidFill>
                <a:latin typeface="Arial"/>
              </a:rPr>
              <a:t>Situation today</a:t>
            </a: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……………..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decision UIC High Speed committee on April 2013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questionnaire sent by UIC security division on July 2013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9 answers received : TCDD, SNCB holding, JR East , FS, DB AG, Infrabel, Russian Railways FPC-JSC, ADIF, SNCF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Draft of handbook sent to the High Speed committee on   10 October 2014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89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320" y="-214560"/>
            <a:ext cx="78483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506361"/>
                </a:solidFill>
                <a:latin typeface="Arial"/>
              </a:rPr>
              <a:t>The draft of handbook (</a:t>
            </a:r>
            <a:r>
              <a:rPr b="1" lang="en-GB" sz="2400" spc="-1" strike="noStrike">
                <a:solidFill>
                  <a:srgbClr val="506361"/>
                </a:solidFill>
                <a:latin typeface="Arial"/>
              </a:rPr>
              <a:t>Restricted document )</a:t>
            </a:r>
            <a:br>
              <a:rPr sz="2400"/>
            </a:br>
            <a:endParaRPr b="1" lang="en-US" sz="24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58920" y="857160"/>
            <a:ext cx="8137440" cy="52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Scope and context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High Speed rai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Planning rail security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 security prevent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 security perimeter (and national aspects)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 security assessment and planning (coherence from national 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disparities )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Security scenario assessmen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Railway Security Management System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2952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c3c3c"/>
                </a:solidFill>
                <a:latin typeface="Arial"/>
              </a:rPr>
              <a:t>appendix : Evolved security measures and concepts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2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…</a:t>
            </a: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.and tomorrow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58920" y="1356840"/>
            <a:ext cx="8137440" cy="473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Taking in account the answers we are waiting for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Analysis and  Synthesis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Presentation during Security ad hoc meetings :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lvl="1" marL="295200" indent="1620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3c3c3c"/>
                </a:solidFill>
                <a:latin typeface="Arial"/>
              </a:rPr>
              <a:t>HS handbook, metal theft e-book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Publication on our extranet (private workspace)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Creation of the simplified public version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5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640" y="371520"/>
            <a:ext cx="7848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506361"/>
                </a:solidFill>
                <a:latin typeface="Arial"/>
              </a:rPr>
              <a:t>UIC Security information and contact</a:t>
            </a:r>
            <a:endParaRPr b="1" lang="en-US" sz="30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97" name="Espace réservé du pied de page 4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8920" y="1633320"/>
            <a:ext cx="813744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UIC Website </a:t>
            </a:r>
            <a:r>
              <a:rPr b="1" lang="en-GB" sz="22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http://www.uic.org/security</a:t>
            </a: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Private security workspace : </a:t>
            </a:r>
            <a:r>
              <a:rPr b="1" lang="en-GB" sz="2200" spc="-1" strike="noStrike" u="sng">
                <a:solidFill>
                  <a:srgbClr val="0090d4"/>
                </a:solidFill>
                <a:uFillTx/>
                <a:latin typeface="Arial"/>
                <a:hlinkClick r:id="rId2"/>
              </a:rPr>
              <a:t>http://extranet.uic.org</a:t>
            </a: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c3c3c"/>
                </a:solidFill>
                <a:latin typeface="Arial"/>
              </a:rPr>
              <a:t>Contact : security@uic.org</a:t>
            </a: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506361"/>
                </a:solidFill>
                <a:latin typeface="Arial"/>
              </a:rPr>
              <a:t>UIC Security website</a:t>
            </a:r>
            <a:br>
              <a:rPr sz="3200"/>
            </a:br>
            <a:r>
              <a:rPr b="1" lang="en-GB" sz="28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http://www.uic.org/security</a:t>
            </a:r>
            <a:endParaRPr b="1" lang="en-US" sz="28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9280" y="1412640"/>
            <a:ext cx="813780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3760" indent="-29376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Portal dedicated to rail security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  <a:p>
            <a:pPr marL="293760" indent="-29376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To provide </a:t>
            </a:r>
            <a:endParaRPr b="1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2"/>
          <a:srcRect l="4238" t="0" r="7228" b="3704"/>
          <a:stretch/>
        </p:blipFill>
        <p:spPr>
          <a:xfrm>
            <a:off x="3211560" y="1989000"/>
            <a:ext cx="5932440" cy="4032360"/>
          </a:xfrm>
          <a:prstGeom prst="rect">
            <a:avLst/>
          </a:prstGeom>
          <a:ln w="0">
            <a:noFill/>
          </a:ln>
        </p:spPr>
      </p:pic>
      <p:sp>
        <p:nvSpPr>
          <p:cNvPr id="102" name="ZoneTexte 9"/>
          <p:cNvSpPr/>
          <p:nvPr/>
        </p:nvSpPr>
        <p:spPr>
          <a:xfrm>
            <a:off x="395280" y="2492280"/>
            <a:ext cx="295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41440" indent="-18108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up to date information </a:t>
            </a: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regarding security activities carried out by UIC and its partners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541440" indent="-18108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 lvl="1" marL="541440" indent="-18108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c3c3c"/>
                </a:solidFill>
                <a:latin typeface="Arial"/>
              </a:rPr>
              <a:t>a means of communicating </a:t>
            </a:r>
            <a:r>
              <a:rPr b="0" lang="en-US" sz="2000" spc="-1" strike="noStrike">
                <a:solidFill>
                  <a:srgbClr val="3c3c3c"/>
                </a:solidFill>
                <a:latin typeface="Arial"/>
              </a:rPr>
              <a:t>activities and successes and sharing experience</a:t>
            </a: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3" name="Espace réservé du pied de page 5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9647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a898d"/>
                </a:solidFill>
                <a:latin typeface="Arial"/>
              </a:rPr>
              <a:t>Security private workspace : </a:t>
            </a:r>
            <a:r>
              <a:rPr b="1" lang="en-GB" sz="3200" spc="-1" strike="noStrike" u="sng">
                <a:solidFill>
                  <a:srgbClr val="0090d4"/>
                </a:solidFill>
                <a:uFillTx/>
                <a:latin typeface="Arial"/>
                <a:hlinkClick r:id="rId1"/>
              </a:rPr>
              <a:t>http://extranet.uic.org/</a:t>
            </a:r>
            <a:endParaRPr b="1" lang="en-US" sz="3200" spc="-1" strike="noStrike">
              <a:solidFill>
                <a:srgbClr val="50636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412640"/>
            <a:ext cx="84247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93760" indent="-293760">
              <a:spcBef>
                <a:spcPts val="2276"/>
              </a:spcBef>
              <a:buClr>
                <a:srgbClr val="3c3c3c"/>
              </a:buClr>
              <a:buFont typeface="Arial Black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3c3c"/>
                </a:solidFill>
                <a:latin typeface="Arial"/>
              </a:rPr>
              <a:t>Private  workspace dedicated to rail security</a:t>
            </a: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293760" indent="-293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06" name="ZoneTexte 5"/>
          <p:cNvSpPr/>
          <p:nvPr/>
        </p:nvSpPr>
        <p:spPr>
          <a:xfrm>
            <a:off x="324000" y="1989000"/>
            <a:ext cx="8820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797040" indent="-33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To share information securely, to manage contacts, </a:t>
            </a:r>
            <a:r>
              <a:rPr b="0" lang="fr-FR" sz="1800" spc="-1" strike="noStrike">
                <a:solidFill>
                  <a:srgbClr val="3c3c3c"/>
                </a:solidFill>
                <a:latin typeface="Arial"/>
              </a:rPr>
              <a:t>to organise meetings, to discuss online specific issues 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2" marL="797040" indent="-330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c3c3c"/>
              </a:solidFill>
              <a:latin typeface="Arial"/>
            </a:endParaRPr>
          </a:p>
          <a:p>
            <a:pPr lvl="1" marL="625320" indent="-330120">
              <a:lnSpc>
                <a:spcPct val="100000"/>
              </a:lnSpc>
              <a:buClr>
                <a:srgbClr val="3c3c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2"/>
          <a:srcRect l="13552" t="15230" r="12875" b="9623"/>
          <a:stretch/>
        </p:blipFill>
        <p:spPr>
          <a:xfrm>
            <a:off x="2195640" y="2924280"/>
            <a:ext cx="5400720" cy="3321000"/>
          </a:xfrm>
          <a:prstGeom prst="rect">
            <a:avLst/>
          </a:prstGeom>
          <a:ln w="0">
            <a:noFill/>
          </a:ln>
        </p:spPr>
      </p:pic>
      <p:sp>
        <p:nvSpPr>
          <p:cNvPr id="108" name="Espace réservé du pied de page 6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pied de page 2"/>
          <p:cNvSpPr/>
          <p:nvPr/>
        </p:nvSpPr>
        <p:spPr>
          <a:xfrm>
            <a:off x="2841480" y="6391440"/>
            <a:ext cx="449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UNECE Working party on Rail Transport SC2 24 Nvember 2014</a:t>
            </a:r>
            <a:endParaRPr b="0" lang="en-US" sz="900" spc="-1" strike="noStrike">
              <a:solidFill>
                <a:srgbClr val="3c3c3c"/>
              </a:solidFill>
              <a:latin typeface="Arial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647640" y="3021120"/>
            <a:ext cx="7319880" cy="441360"/>
            <a:chOff x="647640" y="3021120"/>
            <a:chExt cx="7319880" cy="441360"/>
          </a:xfrm>
        </p:grpSpPr>
        <p:sp>
          <p:nvSpPr>
            <p:cNvPr id="111" name="Text Box 2"/>
            <p:cNvSpPr/>
            <p:nvPr/>
          </p:nvSpPr>
          <p:spPr>
            <a:xfrm>
              <a:off x="1625760" y="3021120"/>
              <a:ext cx="63417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fr-FR" sz="2200" spc="-1" strike="noStrike">
                  <a:solidFill>
                    <a:srgbClr val="3b3d3c"/>
                  </a:solidFill>
                  <a:latin typeface="Arial"/>
                  <a:ea typeface="Arial"/>
                </a:rPr>
                <a:t>Thank you for your kind attention</a:t>
              </a:r>
              <a:endParaRPr b="0" lang="en-US" sz="2200" spc="-1" strike="noStrike">
                <a:solidFill>
                  <a:srgbClr val="3c3c3c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47640" y="3129120"/>
              <a:ext cx="176400" cy="17604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c3c3c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952560" y="3129120"/>
              <a:ext cx="176040" cy="17604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c3c3c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1252440" y="3129120"/>
              <a:ext cx="176400" cy="176040"/>
            </a:xfrm>
            <a:prstGeom prst="rect">
              <a:avLst/>
            </a:prstGeom>
            <a:solidFill>
              <a:srgbClr val="3b3d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3c3c3c"/>
                </a:solidFill>
                <a:latin typeface="Arial"/>
              </a:endParaRPr>
            </a:p>
          </p:txBody>
        </p:sp>
      </p:grpSp>
      <p:sp>
        <p:nvSpPr>
          <p:cNvPr id="115" name="Text Box 2"/>
          <p:cNvSpPr/>
          <p:nvPr/>
        </p:nvSpPr>
        <p:spPr>
          <a:xfrm>
            <a:off x="1625760" y="4599000"/>
            <a:ext cx="63417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-1" strike="noStrike">
                <a:solidFill>
                  <a:srgbClr val="536466"/>
                </a:solidFill>
                <a:latin typeface="Arial"/>
                <a:ea typeface="Arial"/>
              </a:rPr>
              <a:t>Jacques Colliard, Manager of the UIC security division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7T07:00:04Z</dcterms:created>
  <dc:creator>jacque_c</dc:creator>
  <dc:description/>
  <dc:language>en-US</dc:language>
  <cp:lastModifiedBy>Konstantinos Alexopoulos</cp:lastModifiedBy>
  <dcterms:modified xsi:type="dcterms:W3CDTF">2014-12-10T14:39:01Z</dcterms:modified>
  <cp:revision>30</cp:revision>
  <dc:subject/>
  <dc:title>Diapositive 1</dc:title>
</cp:coreProperties>
</file>