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897BE-4645-4914-8B4E-EE254E5B89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813744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8920" y="3962520"/>
            <a:ext cx="813744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C12A6-3C45-42E7-8479-F29CA611B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880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8920" y="39625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28800" y="39625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53518-1F78-4DD7-9F92-16F692678C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0400" y="16333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1880" y="16333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8920" y="39625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0400" y="39625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1880" y="39625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C98B0-3DFD-4EC9-AC3E-05A6A801CC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58920" y="1633320"/>
            <a:ext cx="81374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81374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3970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28800" y="1633320"/>
            <a:ext cx="3970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47640" y="371520"/>
            <a:ext cx="784872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28800" y="1633320"/>
            <a:ext cx="3970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58920" y="39625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8920" y="1633320"/>
            <a:ext cx="81374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D9CCD-EB15-4CB3-A911-3EA2DF4C4F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3970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2880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28800" y="39625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2880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8920" y="3962520"/>
            <a:ext cx="813744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813744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8920" y="3962520"/>
            <a:ext cx="813744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2880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58920" y="39625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28800" y="39625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10400" y="16333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61880" y="16333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58920" y="39625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10400" y="39625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61880" y="39625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81374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FE109-8AEF-43F8-9EE7-5AD072A86C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3970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28800" y="1633320"/>
            <a:ext cx="3970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A6504-3771-445B-A2FE-58308D8D37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32953-3989-4951-81F1-1B835124F5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640" y="371520"/>
            <a:ext cx="784872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3EC24-8208-4DEE-AE24-D59277A6C8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28800" y="1633320"/>
            <a:ext cx="3970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8920" y="39625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A0E65-E742-48D0-96ED-AD4F2D6FCE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3970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2880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28800" y="39625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BB54C-A81A-4688-A7FF-8C81CB590F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2880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8920" y="3962520"/>
            <a:ext cx="813744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D6216-ED83-4770-BD9F-C960593321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7" descr="PIED.eps"/>
          <p:cNvPicPr/>
          <p:nvPr/>
        </p:nvPicPr>
        <p:blipFill>
          <a:blip r:embed="rId2"/>
          <a:stretch/>
        </p:blipFill>
        <p:spPr>
          <a:xfrm>
            <a:off x="647640" y="6261120"/>
            <a:ext cx="7848720" cy="444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06361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58920" y="1633320"/>
            <a:ext cx="81374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3760" indent="-293760"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1" marL="295200" indent="162000">
              <a:spcBef>
                <a:spcPts val="1789"/>
              </a:spcBef>
              <a:buClr>
                <a:srgbClr val="3c3c3c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2" marL="466560" indent="-169560">
              <a:spcBef>
                <a:spcPts val="1789"/>
              </a:spcBef>
              <a:buClr>
                <a:srgbClr val="50636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3" marL="658800" indent="-190440">
              <a:spcBef>
                <a:spcPts val="1789"/>
              </a:spcBef>
              <a:buClr>
                <a:srgbClr val="3c3c3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4" marL="2057400" indent="-228600">
              <a:spcBef>
                <a:spcPts val="1789"/>
              </a:spcBef>
              <a:buClr>
                <a:srgbClr val="3c3c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5" marL="2057400" indent="-228600">
              <a:spcBef>
                <a:spcPts val="1789"/>
              </a:spcBef>
              <a:buClr>
                <a:srgbClr val="3c3c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6" marL="2057400" indent="-228600">
              <a:spcBef>
                <a:spcPts val="1789"/>
              </a:spcBef>
              <a:buClr>
                <a:srgbClr val="3c3c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26920" y="6391440"/>
            <a:ext cx="71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1939-51B1-4A0D-B135-C9A2C920505A}" type="slidenum">
              <a:rPr b="0" lang="fr-FR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41480" y="6391440"/>
            <a:ext cx="449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UNECE Working party on Rail Transport SC2 24 N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506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pic>
        <p:nvPicPr>
          <p:cNvPr id="42" name="Image 5" descr="couv.eps"/>
          <p:cNvPicPr/>
          <p:nvPr/>
        </p:nvPicPr>
        <p:blipFill>
          <a:blip r:embed="rId2"/>
          <a:stretch/>
        </p:blipFill>
        <p:spPr>
          <a:xfrm>
            <a:off x="1295280" y="685800"/>
            <a:ext cx="7175520" cy="1460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06361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58920" y="1633320"/>
            <a:ext cx="81374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3760" indent="-293760"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1" marL="295200" indent="162000">
              <a:spcBef>
                <a:spcPts val="1789"/>
              </a:spcBef>
              <a:buClr>
                <a:srgbClr val="3c3c3c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2" marL="466560" indent="-169560">
              <a:spcBef>
                <a:spcPts val="1789"/>
              </a:spcBef>
              <a:buClr>
                <a:srgbClr val="50636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3" marL="658800" indent="-190440">
              <a:spcBef>
                <a:spcPts val="1789"/>
              </a:spcBef>
              <a:buClr>
                <a:srgbClr val="3c3c3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4" marL="2057400" indent="-228600">
              <a:spcBef>
                <a:spcPts val="1789"/>
              </a:spcBef>
              <a:buClr>
                <a:srgbClr val="3c3c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5" marL="2057400" indent="-228600">
              <a:spcBef>
                <a:spcPts val="1789"/>
              </a:spcBef>
              <a:buClr>
                <a:srgbClr val="3c3c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6" marL="2057400" indent="-228600">
              <a:spcBef>
                <a:spcPts val="1789"/>
              </a:spcBef>
              <a:buClr>
                <a:srgbClr val="3c3c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uic.org/security" TargetMode="External"/><Relationship Id="rId2" Type="http://schemas.openxmlformats.org/officeDocument/2006/relationships/hyperlink" Target="http://extranet.uic.org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ic.org/security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uic.org/security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85520" y="2877840"/>
            <a:ext cx="702612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Security at UIC </a:t>
            </a:r>
            <a:br>
              <a:rPr sz="3200"/>
            </a:br>
            <a:br>
              <a:rPr sz="32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High Speed security handbook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ecurity workspace</a:t>
            </a:r>
            <a:endParaRPr b="1" lang="en-US" sz="24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295280" y="4652640"/>
            <a:ext cx="651672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1295280" y="5924520"/>
            <a:ext cx="37083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Jacques Colliard, Manager of the UIC Security Division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Espace réservé du pied de page 4"/>
          <p:cNvSpPr/>
          <p:nvPr/>
        </p:nvSpPr>
        <p:spPr>
          <a:xfrm>
            <a:off x="2841480" y="6391440"/>
            <a:ext cx="449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NECE Working party on Rail Transport SC2 24 Nvember 2014</a:t>
            </a:r>
            <a:endParaRPr b="0" lang="en-US" sz="9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506361"/>
                </a:solidFill>
                <a:latin typeface="Arial"/>
              </a:rPr>
              <a:t>Context and Process</a:t>
            </a: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81374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72880" indent="-272880"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High Speed systems need to be specifically protected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1" marL="274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increased consequences of incidents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74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economic and financial aspects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74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iconic aspects...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marL="272880" indent="-272880"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Rail security at the service of the activities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1" marL="274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beside national authorities, international bodies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74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element of quality expected by the client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marL="272880" indent="-272880"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Security Handbook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1" marL="274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managed by the passenger/high speed department of the companies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74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with the expertise of their security experts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74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with the involvement of UIC HQ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74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coherent with traditional rail systems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74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restricted version and public version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74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506361"/>
                </a:solidFill>
                <a:latin typeface="Arial"/>
              </a:rPr>
              <a:t>Situation today</a:t>
            </a:r>
            <a:r>
              <a:rPr b="1" lang="fr-FR" sz="3000" spc="-1" strike="noStrike">
                <a:solidFill>
                  <a:srgbClr val="506361"/>
                </a:solidFill>
                <a:latin typeface="Arial"/>
              </a:rPr>
              <a:t>……………..</a:t>
            </a: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58920" y="1633320"/>
            <a:ext cx="81374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3760" indent="-293760"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decision UIC High Speed committee on April 2013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questionnaire sent by UIC security division on July 2013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9 answers received : TCDD, SNCB holding, JR East , FS, DB AG, Infrabel, Russian Railways FPC-JSC, ADIF, SNCF 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Draft of handbook sent to the High Speed committee on   10 October 2014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89" name="Espace réservé du pied de page 4"/>
          <p:cNvSpPr/>
          <p:nvPr/>
        </p:nvSpPr>
        <p:spPr>
          <a:xfrm>
            <a:off x="2841480" y="6391440"/>
            <a:ext cx="449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NECE Working party on Rail Transport SC2 24 Nvember 2014</a:t>
            </a:r>
            <a:endParaRPr b="0" lang="en-US" sz="9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1320" y="-214560"/>
            <a:ext cx="784836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506361"/>
                </a:solidFill>
                <a:latin typeface="Arial"/>
              </a:rPr>
              <a:t>The draft of handbook (</a:t>
            </a:r>
            <a:r>
              <a:rPr b="1" lang="en-GB" sz="2400" spc="-1" strike="noStrike">
                <a:solidFill>
                  <a:srgbClr val="506361"/>
                </a:solidFill>
                <a:latin typeface="Arial"/>
              </a:rPr>
              <a:t>Restricted document )</a:t>
            </a:r>
            <a:br>
              <a:rPr sz="2400"/>
            </a:br>
            <a:endParaRPr b="1" lang="en-US" sz="24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58920" y="857160"/>
            <a:ext cx="8137440" cy="52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95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3c3c3c"/>
                </a:solidFill>
                <a:latin typeface="Arial"/>
              </a:rPr>
              <a:t>Scope and context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95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High Speed rail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95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95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Planning rail security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95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95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Rail security prevention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95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95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Rail security perimeter (and national aspects)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95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95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Rail security assessment and planning (coherence from national 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disparities )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95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95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Security scenario assessment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95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95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Railway Security Management System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95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9520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3c3c3c"/>
                </a:solidFill>
                <a:latin typeface="Arial"/>
              </a:rPr>
              <a:t>appendix : Evolved security measures and concepts</a:t>
            </a:r>
            <a:endParaRPr b="0" lang="en-US" sz="14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92" name="Espace réservé du pied de page 4"/>
          <p:cNvSpPr/>
          <p:nvPr/>
        </p:nvSpPr>
        <p:spPr>
          <a:xfrm>
            <a:off x="2841480" y="6391440"/>
            <a:ext cx="449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NECE Working party on Rail Transport SC2 24 Nvember 2014</a:t>
            </a:r>
            <a:endParaRPr b="0" lang="en-US" sz="9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506361"/>
                </a:solidFill>
                <a:latin typeface="Arial"/>
              </a:rPr>
              <a:t>…</a:t>
            </a:r>
            <a:r>
              <a:rPr b="1" lang="fr-FR" sz="3000" spc="-1" strike="noStrike">
                <a:solidFill>
                  <a:srgbClr val="506361"/>
                </a:solidFill>
                <a:latin typeface="Arial"/>
              </a:rPr>
              <a:t>.and tomorrow</a:t>
            </a: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8920" y="1356840"/>
            <a:ext cx="8137440" cy="47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3760" indent="-293760"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Taking in account the answers we are waiting for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Analysis and  Synthesis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Presentation during Security ad hoc meetings : 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1" marL="295200" indent="1620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HS handbook, metal theft e-book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Publication on our extranet (private workspace)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Creation of the simplified public version 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95" name="Espace réservé du pied de page 4"/>
          <p:cNvSpPr/>
          <p:nvPr/>
        </p:nvSpPr>
        <p:spPr>
          <a:xfrm>
            <a:off x="2841480" y="6391440"/>
            <a:ext cx="449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NECE Working party on Rail Transport SC2 24 Nvember 2014</a:t>
            </a:r>
            <a:endParaRPr b="0" lang="en-US" sz="9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506361"/>
                </a:solidFill>
                <a:latin typeface="Arial"/>
              </a:rPr>
              <a:t>UIC Security information and contact</a:t>
            </a: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97" name="Espace réservé du pied de page 4"/>
          <p:cNvSpPr/>
          <p:nvPr/>
        </p:nvSpPr>
        <p:spPr>
          <a:xfrm>
            <a:off x="2841480" y="6391440"/>
            <a:ext cx="449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NECE Working party on Rail Transport SC2 24 Nvember 2014</a:t>
            </a:r>
            <a:endParaRPr b="0" lang="en-US" sz="9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58920" y="1633320"/>
            <a:ext cx="81374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3760" indent="-293760"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UIC Website </a:t>
            </a:r>
            <a:r>
              <a:rPr b="1" lang="en-GB" sz="2200" spc="-1" strike="noStrike" u="sng">
                <a:solidFill>
                  <a:srgbClr val="0090d4"/>
                </a:solidFill>
                <a:uFillTx/>
                <a:latin typeface="Arial"/>
                <a:hlinkClick r:id="rId1"/>
              </a:rPr>
              <a:t>http://www.uic.org/security</a:t>
            </a: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Private security workspace : </a:t>
            </a:r>
            <a:r>
              <a:rPr b="1" lang="en-GB" sz="2200" spc="-1" strike="noStrike" u="sng">
                <a:solidFill>
                  <a:srgbClr val="0090d4"/>
                </a:solidFill>
                <a:uFillTx/>
                <a:latin typeface="Arial"/>
                <a:hlinkClick r:id="rId2"/>
              </a:rPr>
              <a:t>http://extranet.uic.org</a:t>
            </a: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Contact : security@uic.org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964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506361"/>
                </a:solidFill>
                <a:latin typeface="Arial"/>
              </a:rPr>
              <a:t>UIC Security website</a:t>
            </a:r>
            <a:br>
              <a:rPr sz="3200"/>
            </a:br>
            <a:r>
              <a:rPr b="1" lang="en-GB" sz="2800" spc="-1" strike="noStrike" u="sng">
                <a:solidFill>
                  <a:srgbClr val="0090d4"/>
                </a:solidFill>
                <a:uFillTx/>
                <a:latin typeface="Arial"/>
                <a:hlinkClick r:id="rId1"/>
              </a:rPr>
              <a:t>http://www.uic.org/security</a:t>
            </a:r>
            <a:endParaRPr b="1" lang="en-US" sz="28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9280" y="1412640"/>
            <a:ext cx="813780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3760" indent="-293760">
              <a:spcBef>
                <a:spcPts val="2276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3c3c"/>
                </a:solidFill>
                <a:latin typeface="Arial"/>
              </a:rPr>
              <a:t>Portal dedicated to rail security</a:t>
            </a:r>
            <a:endParaRPr b="1" lang="en-US" sz="28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2276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3c3c"/>
                </a:solidFill>
                <a:latin typeface="Arial"/>
              </a:rPr>
              <a:t>To provide </a:t>
            </a:r>
            <a:endParaRPr b="1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2"/>
          <a:srcRect l="4238" t="0" r="7228" b="3704"/>
          <a:stretch/>
        </p:blipFill>
        <p:spPr>
          <a:xfrm>
            <a:off x="3211560" y="1989000"/>
            <a:ext cx="5932440" cy="4032360"/>
          </a:xfrm>
          <a:prstGeom prst="rect">
            <a:avLst/>
          </a:prstGeom>
          <a:ln w="0">
            <a:noFill/>
          </a:ln>
        </p:spPr>
      </p:pic>
      <p:sp>
        <p:nvSpPr>
          <p:cNvPr id="102" name="ZoneTexte 9"/>
          <p:cNvSpPr/>
          <p:nvPr/>
        </p:nvSpPr>
        <p:spPr>
          <a:xfrm>
            <a:off x="395280" y="2492280"/>
            <a:ext cx="295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41440" indent="-181080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3c3c"/>
                </a:solidFill>
                <a:latin typeface="Arial"/>
              </a:rPr>
              <a:t>up to date information </a:t>
            </a:r>
            <a:r>
              <a:rPr b="0" lang="en-US" sz="2000" spc="-1" strike="noStrike">
                <a:solidFill>
                  <a:srgbClr val="3c3c3c"/>
                </a:solidFill>
                <a:latin typeface="Arial"/>
              </a:rPr>
              <a:t>regarding security activities carried out by UIC and its partners</a:t>
            </a:r>
            <a:endParaRPr b="0" lang="en-US" sz="2000" spc="-1" strike="noStrike">
              <a:solidFill>
                <a:srgbClr val="3c3c3c"/>
              </a:solidFill>
              <a:latin typeface="Arial"/>
            </a:endParaRPr>
          </a:p>
          <a:p>
            <a:pPr lvl="1" marL="541440" indent="-181080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3c"/>
              </a:solidFill>
              <a:latin typeface="Arial"/>
            </a:endParaRPr>
          </a:p>
          <a:p>
            <a:pPr lvl="1" marL="541440" indent="-181080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3c3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c3c3c"/>
                </a:solidFill>
                <a:latin typeface="Arial"/>
              </a:rPr>
              <a:t>a means of communicating </a:t>
            </a:r>
            <a:r>
              <a:rPr b="0" lang="en-US" sz="2000" spc="-1" strike="noStrike">
                <a:solidFill>
                  <a:srgbClr val="3c3c3c"/>
                </a:solidFill>
                <a:latin typeface="Arial"/>
              </a:rPr>
              <a:t>activities and successes and sharing experience</a:t>
            </a:r>
            <a:endParaRPr b="0" lang="en-US" sz="2000" spc="-1" strike="noStrike">
              <a:solidFill>
                <a:srgbClr val="3c3c3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03" name="Espace réservé du pied de page 5"/>
          <p:cNvSpPr/>
          <p:nvPr/>
        </p:nvSpPr>
        <p:spPr>
          <a:xfrm>
            <a:off x="2841480" y="6391440"/>
            <a:ext cx="449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NECE Working party on Rail Transport SC2 24 Nvember 2014</a:t>
            </a:r>
            <a:endParaRPr b="0" lang="en-US" sz="9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964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a898d"/>
                </a:solidFill>
                <a:latin typeface="Arial"/>
              </a:rPr>
              <a:t>Security private workspace : </a:t>
            </a:r>
            <a:r>
              <a:rPr b="1" lang="en-GB" sz="3200" spc="-1" strike="noStrike" u="sng">
                <a:solidFill>
                  <a:srgbClr val="0090d4"/>
                </a:solidFill>
                <a:uFillTx/>
                <a:latin typeface="Arial"/>
                <a:hlinkClick r:id="rId1"/>
              </a:rPr>
              <a:t>http://extranet.uic.org/</a:t>
            </a:r>
            <a:endParaRPr b="1" lang="en-US" sz="32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1412640"/>
            <a:ext cx="84247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93760" indent="-293760">
              <a:spcBef>
                <a:spcPts val="2276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3c3c"/>
                </a:solidFill>
                <a:latin typeface="Arial"/>
              </a:rPr>
              <a:t>Private  workspace dedicated to rail security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1" marL="293760" indent="-2937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06" name="ZoneTexte 5"/>
          <p:cNvSpPr/>
          <p:nvPr/>
        </p:nvSpPr>
        <p:spPr>
          <a:xfrm>
            <a:off x="324000" y="1989000"/>
            <a:ext cx="8820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797040" indent="-330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c3c3c"/>
                </a:solidFill>
                <a:latin typeface="Arial"/>
              </a:rPr>
              <a:t>To share information securely, to manage contacts, </a:t>
            </a:r>
            <a:r>
              <a:rPr b="0" lang="fr-FR" sz="1800" spc="-1" strike="noStrike">
                <a:solidFill>
                  <a:srgbClr val="3c3c3c"/>
                </a:solidFill>
                <a:latin typeface="Arial"/>
              </a:rPr>
              <a:t>to organise meetings, to discuss online specific issues 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2" marL="797040" indent="-330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1" marL="625320" indent="-330120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2"/>
          <a:srcRect l="13552" t="15230" r="12875" b="9623"/>
          <a:stretch/>
        </p:blipFill>
        <p:spPr>
          <a:xfrm>
            <a:off x="2195640" y="2924280"/>
            <a:ext cx="5400720" cy="3321000"/>
          </a:xfrm>
          <a:prstGeom prst="rect">
            <a:avLst/>
          </a:prstGeom>
          <a:ln w="0">
            <a:noFill/>
          </a:ln>
        </p:spPr>
      </p:pic>
      <p:sp>
        <p:nvSpPr>
          <p:cNvPr id="108" name="Espace réservé du pied de page 6"/>
          <p:cNvSpPr/>
          <p:nvPr/>
        </p:nvSpPr>
        <p:spPr>
          <a:xfrm>
            <a:off x="2841480" y="6391440"/>
            <a:ext cx="449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NECE Working party on Rail Transport SC2 24 Nvember 2014</a:t>
            </a:r>
            <a:endParaRPr b="0" lang="en-US" sz="9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pied de page 2"/>
          <p:cNvSpPr/>
          <p:nvPr/>
        </p:nvSpPr>
        <p:spPr>
          <a:xfrm>
            <a:off x="2841480" y="6391440"/>
            <a:ext cx="449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NECE Working party on Rail Transport SC2 24 Nvember 2014</a:t>
            </a:r>
            <a:endParaRPr b="0" lang="en-US" sz="900" spc="-1" strike="noStrike">
              <a:solidFill>
                <a:srgbClr val="3c3c3c"/>
              </a:solidFill>
              <a:latin typeface="Arial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647640" y="3021120"/>
            <a:ext cx="7319880" cy="441360"/>
            <a:chOff x="647640" y="3021120"/>
            <a:chExt cx="7319880" cy="441360"/>
          </a:xfrm>
        </p:grpSpPr>
        <p:sp>
          <p:nvSpPr>
            <p:cNvPr id="111" name="Text Box 2"/>
            <p:cNvSpPr/>
            <p:nvPr/>
          </p:nvSpPr>
          <p:spPr>
            <a:xfrm>
              <a:off x="1625760" y="3021120"/>
              <a:ext cx="634176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2200" spc="-1" strike="noStrike">
                  <a:solidFill>
                    <a:srgbClr val="3b3d3c"/>
                  </a:solidFill>
                  <a:latin typeface="Arial"/>
                  <a:ea typeface="Arial"/>
                </a:rPr>
                <a:t>Thank you for your kind attention</a:t>
              </a:r>
              <a:endParaRPr b="0" lang="en-US" sz="2200" spc="-1" strike="noStrike">
                <a:solidFill>
                  <a:srgbClr val="3c3c3c"/>
                </a:solidFill>
                <a:latin typeface="Arial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>
              <a:off x="647640" y="3129120"/>
              <a:ext cx="176400" cy="176040"/>
            </a:xfrm>
            <a:prstGeom prst="rect">
              <a:avLst/>
            </a:prstGeom>
            <a:solidFill>
              <a:srgbClr val="3b3d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3c3c3c"/>
                </a:solidFill>
                <a:latin typeface="Arial"/>
              </a:endParaRPr>
            </a:p>
          </p:txBody>
        </p:sp>
        <p:sp>
          <p:nvSpPr>
            <p:cNvPr id="113" name="Rectangle 9"/>
            <p:cNvSpPr/>
            <p:nvPr/>
          </p:nvSpPr>
          <p:spPr>
            <a:xfrm>
              <a:off x="952560" y="3129120"/>
              <a:ext cx="176040" cy="176040"/>
            </a:xfrm>
            <a:prstGeom prst="rect">
              <a:avLst/>
            </a:prstGeom>
            <a:solidFill>
              <a:srgbClr val="3b3d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3c3c3c"/>
                </a:solidFill>
                <a:latin typeface="Arial"/>
              </a:endParaRPr>
            </a:p>
          </p:txBody>
        </p:sp>
        <p:sp>
          <p:nvSpPr>
            <p:cNvPr id="114" name="Rectangle 10"/>
            <p:cNvSpPr/>
            <p:nvPr/>
          </p:nvSpPr>
          <p:spPr>
            <a:xfrm>
              <a:off x="1252440" y="3129120"/>
              <a:ext cx="176400" cy="176040"/>
            </a:xfrm>
            <a:prstGeom prst="rect">
              <a:avLst/>
            </a:prstGeom>
            <a:solidFill>
              <a:srgbClr val="3b3d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3c3c3c"/>
                </a:solidFill>
                <a:latin typeface="Arial"/>
              </a:endParaRPr>
            </a:p>
          </p:txBody>
        </p:sp>
      </p:grpSp>
      <p:sp>
        <p:nvSpPr>
          <p:cNvPr id="115" name="Text Box 2"/>
          <p:cNvSpPr/>
          <p:nvPr/>
        </p:nvSpPr>
        <p:spPr>
          <a:xfrm>
            <a:off x="1625760" y="4599000"/>
            <a:ext cx="63417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-1" strike="noStrike">
                <a:solidFill>
                  <a:srgbClr val="536466"/>
                </a:solidFill>
                <a:latin typeface="Arial"/>
                <a:ea typeface="Arial"/>
              </a:rPr>
              <a:t>Jacques Colliard, Manager of the UIC security division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7T07:00:04Z</dcterms:created>
  <dc:creator>jacque_c</dc:creator>
  <dc:description/>
  <dc:language>en-US</dc:language>
  <cp:lastModifiedBy>Konstantinos Alexopoulos</cp:lastModifiedBy>
  <dcterms:modified xsi:type="dcterms:W3CDTF">2014-12-10T14:39:01Z</dcterms:modified>
  <cp:revision>30</cp:revision>
  <dc:subject/>
  <dc:title>Diapositive 1</dc:title>
</cp:coreProperties>
</file>