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236-7833-4C01-9CE9-776540A656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like to explain about a progress status  of informal group on Phase 2 of gtr No.7 (IG GTR7 - PH2) from technical spon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749D-2117-4036-818A-E699786ED3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bove sentence (in yellowed ar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633E-EE6C-4DDD-9910-999E39A4DF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shows work activity in this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see, we had several IG face to face meeting and a couple webEX and work shop for developing dynamic test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5709-63CE-44D1-B55C-2A634CAD57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6D7D-AE86-4E37-87F9-C4B611ADB5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ptember, we had the 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G meeting ,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items were address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 only checke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ury cri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G/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ification up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of GTR7/am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ual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2B8F-1253-4584-8D6D-815B1FD1E4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bove (every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4ABF-084E-417C-9938-814A0BC72F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6EE-01ED-4351-AA6A-6DE79987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CCA-D3AA-4941-9F58-57B53C6C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376-B291-4A69-9B4C-EA90813D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AC7-2738-4028-95F7-2DBA66A4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2DD-EB2B-452C-AC2B-C47A969C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40F-3F77-4C57-9603-022DA50C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187-96C8-4383-BD78-9377791D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D2C-0A66-4467-8112-57FB22E4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FAA-4C0B-4005-9342-283F2D25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011-F462-4429-8C3C-F1C7021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649-53B0-4D42-810C-D6B5881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2E3-CDE1-48E2-9FA9-44819365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AF1-7F7D-4491-B7C5-B8BADDCE56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27680" y="1989000"/>
            <a:ext cx="816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tatus report of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informal group on Phase 2 of gtr No.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(IG GTR7 - PH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108000" y="1159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000000"/>
                </a:solidFill>
                <a:latin typeface="Calibri"/>
              </a:rPr>
              <a:t>Transmitted by the experts of J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5"/>
          <p:cNvSpPr/>
          <p:nvPr/>
        </p:nvSpPr>
        <p:spPr>
          <a:xfrm>
            <a:off x="5379840" y="44280"/>
            <a:ext cx="373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formal document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WP.29-161-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61st WP.29 session, 12-15 Nov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da item 17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正方形/長方形 2"/>
          <p:cNvSpPr/>
          <p:nvPr/>
        </p:nvSpPr>
        <p:spPr>
          <a:xfrm>
            <a:off x="179280" y="836640"/>
            <a:ext cx="8785440" cy="558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in objective of IG GTR7-PH2 is the development of a draft proposal to amend the UN global technical regulation No. 7 - Phase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P29 - 143rd session November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)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ad restraint heigh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850 m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) The appropriat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ynamic t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ding the test procedur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ury criteria and the associated corridors for the Biofidelic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Dummy (BioRID II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P29-14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ssion November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)focus on develop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 low spe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ynamic t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BioRID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mmy, 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)as a first step regarding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ad restraint he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o consi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dures for definin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ffective he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6"/>
          <p:cNvSpPr/>
          <p:nvPr/>
        </p:nvSpPr>
        <p:spPr>
          <a:xfrm>
            <a:off x="129960" y="189000"/>
            <a:ext cx="43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of IG GTR7-PH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955800"/>
          <a:ext cx="8105760" cy="1968480"/>
        </p:xfrm>
        <a:graphic>
          <a:graphicData uri="http://schemas.openxmlformats.org/drawingml/2006/table">
            <a:tbl>
              <a:tblPr/>
              <a:tblGrid>
                <a:gridCol w="3929040"/>
                <a:gridCol w="1657440"/>
                <a:gridCol w="2519280"/>
              </a:tblGrid>
              <a:tr h="457200"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Working Grou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D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Ven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1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th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Brussels, Belg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13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th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4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aris, France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Gothenburg, S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15</a:t>
                      </a:r>
                      <a:r>
                        <a:rPr b="0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Geneva, Switz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16</a:t>
                      </a:r>
                      <a:r>
                        <a:rPr b="0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2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テキスト ボックス 6"/>
          <p:cNvSpPr/>
          <p:nvPr/>
        </p:nvSpPr>
        <p:spPr>
          <a:xfrm>
            <a:off x="207000" y="306000"/>
            <a:ext cx="87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schedule of IG GTR7-PH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 Recent year and pla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6960" y="4149720"/>
          <a:ext cx="8104320" cy="1973160"/>
        </p:xfrm>
        <a:graphic>
          <a:graphicData uri="http://schemas.openxmlformats.org/drawingml/2006/table">
            <a:tbl>
              <a:tblPr/>
              <a:tblGrid>
                <a:gridCol w="3930840"/>
                <a:gridCol w="1439640"/>
                <a:gridCol w="2733840"/>
              </a:tblGrid>
              <a:tr h="457200">
                <a:tc>
                  <a:txBody>
                    <a:bodyPr lIns="68760" rIns="68760" tIns="0" bIns="0" anchor="b" anchorCtr="1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Working Grou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D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Ven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Workshop / Head restraint meas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3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Koln, 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Workshop / BioRID seating 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7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Koln, 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oRID TEG and Informal mee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Web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oRID / Injury criteria /draft gt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Web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BioRID /Injury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11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Web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テキスト ボックス 6"/>
          <p:cNvSpPr/>
          <p:nvPr/>
        </p:nvSpPr>
        <p:spPr>
          <a:xfrm>
            <a:off x="277200" y="31939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RID TEG  (sub group of 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正方形/長方形 3"/>
          <p:cNvSpPr/>
          <p:nvPr/>
        </p:nvSpPr>
        <p:spPr>
          <a:xfrm>
            <a:off x="185760" y="1557360"/>
            <a:ext cx="8739000" cy="39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procedure to determine the effective height of the head restra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procedure replacing the HRMD and reducing err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ve repeatability and reproducibility work to ensure BioRID is at least as good as HI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procedure for installation and use of BioR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4"/>
          <p:cNvSpPr/>
          <p:nvPr/>
        </p:nvSpPr>
        <p:spPr>
          <a:xfrm>
            <a:off x="345960" y="260280"/>
            <a:ext cx="53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progress has been ma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テキスト ボックス 1"/>
          <p:cNvSpPr/>
          <p:nvPr/>
        </p:nvSpPr>
        <p:spPr>
          <a:xfrm>
            <a:off x="169920" y="692280"/>
            <a:ext cx="8773920" cy="5946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G GTR7-PH2 meetings, following items were address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jury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jury risk/Injury parameters/Indicative regulatory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 / Worksho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ffective height /backset/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mmy s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ication Update   ( relate to M.R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didate certification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ment of GTR7/Am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nex1 ( effective height), Annex9 (Dynamic 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tual Resolution (Test tool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 Text/Drawing Revie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6"/>
          <p:cNvSpPr/>
          <p:nvPr/>
        </p:nvSpPr>
        <p:spPr>
          <a:xfrm>
            <a:off x="203400" y="4428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nt activity of IG GTR7-PH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正方形/長方形 3"/>
          <p:cNvSpPr/>
          <p:nvPr/>
        </p:nvSpPr>
        <p:spPr>
          <a:xfrm>
            <a:off x="225360" y="692280"/>
            <a:ext cx="8425080" cy="4359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etion of NHTSA/JARI work on injury crite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 both criteria a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 new head restraint height value (referred to GRS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ermine whether to harmonize the specification of the 3-D H-point machine across all UN ECE regulations (Referred to GRS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1"/>
          <p:cNvSpPr/>
          <p:nvPr/>
        </p:nvSpPr>
        <p:spPr>
          <a:xfrm>
            <a:off x="200880" y="119160"/>
            <a:ext cx="44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ing challen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5"/>
          <p:cNvSpPr/>
          <p:nvPr/>
        </p:nvSpPr>
        <p:spPr>
          <a:xfrm>
            <a:off x="225360" y="5195880"/>
            <a:ext cx="852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1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G GTR7-PH2 meeting are planned for December and February,2014 respectively, then the IG is going to submit a formal document of draft gtr7-Phase2 for the discussion at the GRSP in May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テキスト ボックス 6"/>
          <p:cNvSpPr/>
          <p:nvPr/>
        </p:nvSpPr>
        <p:spPr>
          <a:xfrm>
            <a:off x="1078920" y="2708280"/>
            <a:ext cx="68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4:51:50Z</dcterms:created>
  <dc:creator>setup</dc:creator>
  <dc:description/>
  <dc:language>en-US</dc:language>
  <cp:lastModifiedBy>gianotti</cp:lastModifiedBy>
  <dcterms:modified xsi:type="dcterms:W3CDTF">2013-11-11T17:13:20Z</dcterms:modified>
  <cp:revision>40</cp:revision>
  <dc:subject/>
  <dc:title>PowerPoint プレゼンテーション</dc:title>
</cp:coreProperties>
</file>