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56E2-E753-4AF6-9C7D-47E2A6BCF8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like to explain about a progress status  of informal group on Phase 2 of gtr No.7 (IG GTR7 - PH2) from technical spon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　　　　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850-FB7D-43F2-A192-5D29042006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 sentence (in yellowed ar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746-99DB-465F-9715-7185790AAF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shows work activity in this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see, we had several IG face to face meeting and a couple webEX and work shop for developing dynamic test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5635-4426-432B-AC65-A467C51D20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F06-C6E6-4DB9-929D-74F466C203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ptember, we had the 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G meeting ,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items were addresse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 only checke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ury cri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G/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ification up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of GTR7/am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ual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2112-AB8F-41B5-9354-4536AA49CA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 (every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187-5E62-49EB-A579-C467BE0262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4D7-6216-4D9F-8EF4-27CF106E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169-82CB-47D6-81E7-863535AD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FD1-FDD5-47FA-8D0E-99D1D68D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DFD-B3BD-4C5F-99C0-01BF056A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854-D33C-4A97-B1C2-24FC3C7F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30-C8DD-4A6B-AB22-7F5B14D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CDE-FFB0-4982-9FB2-AE59C7C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5C7-06F2-4AF8-A97F-A736389B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22E-1B8F-4200-96F3-5F130B15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08A-F057-4D17-8869-3F49D56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D81-3D93-4CC6-B85D-F145437D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B09-E19E-4C51-B705-3B63229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B15-7189-4018-A908-47EBDDF625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27680" y="1989000"/>
            <a:ext cx="816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tatus report of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informal group on Phase 2 of gtr No.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(IG GTR7 - PH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108000" y="1159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Calibri"/>
              </a:rPr>
              <a:t>Transmitted by the experts of J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5"/>
          <p:cNvSpPr/>
          <p:nvPr/>
        </p:nvSpPr>
        <p:spPr>
          <a:xfrm>
            <a:off x="5379840" y="44280"/>
            <a:ext cx="37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formal document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WP.29-161-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1st WP.29 session, 12-15 Nov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da item 17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正方形/長方形 2"/>
          <p:cNvSpPr/>
          <p:nvPr/>
        </p:nvSpPr>
        <p:spPr>
          <a:xfrm>
            <a:off x="179280" y="836640"/>
            <a:ext cx="8785440" cy="558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in objective of IG GTR7-PH2 is the development of a draft proposal to amend the UN global technical regulation No. 7 - Phase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P29 - 143rd session Novem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)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d restraint heigh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850 m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) The appropriat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ynamic t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ing the test procedu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y criteria and the associated corridors for the Biofidelic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Dummy (BioRID I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P29-14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ssion November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)focus on develop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 low sp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ynamic t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BioRID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mmy, 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)as a first step regarding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d restraint he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o consi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dures for definin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ffective he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6"/>
          <p:cNvSpPr/>
          <p:nvPr/>
        </p:nvSpPr>
        <p:spPr>
          <a:xfrm>
            <a:off x="129960" y="189000"/>
            <a:ext cx="43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of IG GTR7-PH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955800"/>
          <a:ext cx="8105760" cy="1968480"/>
        </p:xfrm>
        <a:graphic>
          <a:graphicData uri="http://schemas.openxmlformats.org/drawingml/2006/table">
            <a:tbl>
              <a:tblPr/>
              <a:tblGrid>
                <a:gridCol w="3929040"/>
                <a:gridCol w="1657440"/>
                <a:gridCol w="2519280"/>
              </a:tblGrid>
              <a:tr h="457200">
                <a:tc>
                  <a:txBody>
                    <a:bodyPr lIns="68760" rIns="68760" tIns="0" bIns="0" anchor="t" anchorCtr="1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Working Grou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12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th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Brussels, Bel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13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th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4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is, France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Gothenburg, Swe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5</a:t>
                      </a:r>
                      <a:r>
                        <a:rPr b="0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Geneva, Switz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6</a:t>
                      </a:r>
                      <a:r>
                        <a:rPr b="0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 informal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2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テキスト ボックス 6"/>
          <p:cNvSpPr/>
          <p:nvPr/>
        </p:nvSpPr>
        <p:spPr>
          <a:xfrm>
            <a:off x="207000" y="306000"/>
            <a:ext cx="87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schedule of IG GTR7-PH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 Recent year and pla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6960" y="4149720"/>
          <a:ext cx="8104320" cy="1973160"/>
        </p:xfrm>
        <a:graphic>
          <a:graphicData uri="http://schemas.openxmlformats.org/drawingml/2006/table">
            <a:tbl>
              <a:tblPr/>
              <a:tblGrid>
                <a:gridCol w="3930840"/>
                <a:gridCol w="1439640"/>
                <a:gridCol w="2733840"/>
              </a:tblGrid>
              <a:tr h="457200">
                <a:tc>
                  <a:txBody>
                    <a:bodyPr lIns="68760" rIns="68760" tIns="0" bIns="0" anchor="b" anchorCtr="1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Working Grou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Ven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Workshop / Head restraint 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3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Koln,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orkshop / BioRID seating 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7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Koln, 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oRID TEG and Informal me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9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eb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oRID / Injury criteria /draft gt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0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eb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BioRID /Injury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11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ＭＳ 明朝"/>
                        </a:rPr>
                        <a:t>Web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テキスト ボックス 6"/>
          <p:cNvSpPr/>
          <p:nvPr/>
        </p:nvSpPr>
        <p:spPr>
          <a:xfrm>
            <a:off x="277200" y="31939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RID TEG  (sub group of 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正方形/長方形 3"/>
          <p:cNvSpPr/>
          <p:nvPr/>
        </p:nvSpPr>
        <p:spPr>
          <a:xfrm>
            <a:off x="185760" y="1557360"/>
            <a:ext cx="8739000" cy="39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rocedure to determine the effective height of the head restra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rocedure replacing the HRMD and reducing err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ve repeatability and reproducibility work to ensure BioRID is at least as good as HI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procedure for installation and use of BioR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345960" y="260280"/>
            <a:ext cx="53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rogress has been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テキスト ボックス 1"/>
          <p:cNvSpPr/>
          <p:nvPr/>
        </p:nvSpPr>
        <p:spPr>
          <a:xfrm>
            <a:off x="169920" y="692280"/>
            <a:ext cx="8773920" cy="594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 GTR7-PH2 meetings, following items were address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jury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jury risk/Injury parameters/Indicative regulatory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G / Worksh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ffective height /backset/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mmy s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ication Update   ( relate to M.R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ndidate certification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ment of GTR7/Am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nex1 ( effective height), Annex9 (Dynamic 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tual Resolution (Test tool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aft Text/Drawing Revie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6"/>
          <p:cNvSpPr/>
          <p:nvPr/>
        </p:nvSpPr>
        <p:spPr>
          <a:xfrm>
            <a:off x="203400" y="4428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 activity of IG GTR7-PH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正方形/長方形 3"/>
          <p:cNvSpPr/>
          <p:nvPr/>
        </p:nvSpPr>
        <p:spPr>
          <a:xfrm>
            <a:off x="225360" y="692280"/>
            <a:ext cx="8425080" cy="435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tion of NHTSA/JARI work on injury crite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both criteria a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tablish new head restraint height value (referred to GRS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whether to harmonize the specification of the 3-D H-point machine across all UN ECE regulations (Referred to GRS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1"/>
          <p:cNvSpPr/>
          <p:nvPr/>
        </p:nvSpPr>
        <p:spPr>
          <a:xfrm>
            <a:off x="200880" y="119160"/>
            <a:ext cx="44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ing challe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5"/>
          <p:cNvSpPr/>
          <p:nvPr/>
        </p:nvSpPr>
        <p:spPr>
          <a:xfrm>
            <a:off x="225360" y="5195880"/>
            <a:ext cx="852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1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and 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G GTR7-PH2 meeting are planned for December and February,2014 respectively, then the IG is going to submit a formal document of draft gtr7-Phase2 for the discussion at the GRSP in May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テキスト ボックス 6"/>
          <p:cNvSpPr/>
          <p:nvPr/>
        </p:nvSpPr>
        <p:spPr>
          <a:xfrm>
            <a:off x="1078920" y="2708280"/>
            <a:ext cx="68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4:51:50Z</dcterms:created>
  <dc:creator>setup</dc:creator>
  <dc:description/>
  <dc:language>en-US</dc:language>
  <cp:lastModifiedBy>gianotti</cp:lastModifiedBy>
  <dcterms:modified xsi:type="dcterms:W3CDTF">2013-11-11T17:13:20Z</dcterms:modified>
  <cp:revision>40</cp:revision>
  <dc:subject/>
  <dc:title>PowerPoint プレゼンテーション</dc:title>
</cp:coreProperties>
</file>