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6651720"/>
            <a:ext cx="9144000" cy="223920"/>
          </a:xfrm>
          <a:prstGeom prst="rect">
            <a:avLst/>
          </a:prstGeom>
          <a:gradFill rotWithShape="0">
            <a:gsLst>
              <a:gs pos="0">
                <a:srgbClr val="755d55"/>
              </a:gs>
              <a:gs pos="50000">
                <a:srgbClr val="b09992"/>
              </a:gs>
              <a:gs pos="100000">
                <a:srgbClr val="755d5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-1440" y="0"/>
            <a:ext cx="9144000" cy="576360"/>
            <a:chOff x="-1440" y="0"/>
            <a:chExt cx="9144000" cy="576360"/>
          </a:xfrm>
        </p:grpSpPr>
        <p:pic>
          <p:nvPicPr>
            <p:cNvPr id="2" name="Picture 9" descr="patron"/>
            <p:cNvPicPr/>
            <p:nvPr/>
          </p:nvPicPr>
          <p:blipFill>
            <a:blip r:embed="rId2"/>
            <a:stretch/>
          </p:blipFill>
          <p:spPr>
            <a:xfrm>
              <a:off x="-1440" y="0"/>
              <a:ext cx="9144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0" descr="primera pag de ppt"/>
            <p:cNvPicPr/>
            <p:nvPr/>
          </p:nvPicPr>
          <p:blipFill>
            <a:blip r:embed="rId3"/>
            <a:srcRect l="0" t="12112" r="61945" b="68265"/>
            <a:stretch/>
          </p:blipFill>
          <p:spPr>
            <a:xfrm>
              <a:off x="7669080" y="44280"/>
              <a:ext cx="1366920" cy="509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"/>
          <p:cNvSpPr/>
          <p:nvPr/>
        </p:nvSpPr>
        <p:spPr>
          <a:xfrm>
            <a:off x="0" y="6651720"/>
            <a:ext cx="9144000" cy="223920"/>
          </a:xfrm>
          <a:prstGeom prst="rect">
            <a:avLst/>
          </a:prstGeom>
          <a:gradFill rotWithShape="0">
            <a:gsLst>
              <a:gs pos="0">
                <a:srgbClr val="755d55"/>
              </a:gs>
              <a:gs pos="50000">
                <a:srgbClr val="b09992"/>
              </a:gs>
              <a:gs pos="100000">
                <a:srgbClr val="755d5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Group 6"/>
          <p:cNvGrpSpPr/>
          <p:nvPr/>
        </p:nvGrpSpPr>
        <p:grpSpPr>
          <a:xfrm>
            <a:off x="-1440" y="0"/>
            <a:ext cx="9144000" cy="576360"/>
            <a:chOff x="-1440" y="0"/>
            <a:chExt cx="9144000" cy="576360"/>
          </a:xfrm>
        </p:grpSpPr>
        <p:pic>
          <p:nvPicPr>
            <p:cNvPr id="42" name="Picture 7" descr="patron"/>
            <p:cNvPicPr/>
            <p:nvPr/>
          </p:nvPicPr>
          <p:blipFill>
            <a:blip r:embed="rId2"/>
            <a:stretch/>
          </p:blipFill>
          <p:spPr>
            <a:xfrm>
              <a:off x="-1440" y="0"/>
              <a:ext cx="9144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primera pag de ppt"/>
            <p:cNvPicPr/>
            <p:nvPr/>
          </p:nvPicPr>
          <p:blipFill>
            <a:blip r:embed="rId3"/>
            <a:srcRect l="0" t="12112" r="61945" b="68265"/>
            <a:stretch/>
          </p:blipFill>
          <p:spPr>
            <a:xfrm>
              <a:off x="7669080" y="44280"/>
              <a:ext cx="1366920" cy="509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6651720"/>
            <a:ext cx="9144000" cy="223920"/>
          </a:xfrm>
          <a:prstGeom prst="rect">
            <a:avLst/>
          </a:prstGeom>
          <a:gradFill rotWithShape="0">
            <a:gsLst>
              <a:gs pos="0">
                <a:srgbClr val="755d55"/>
              </a:gs>
              <a:gs pos="50000">
                <a:srgbClr val="b09992"/>
              </a:gs>
              <a:gs pos="100000">
                <a:srgbClr val="755d5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-1440" y="0"/>
            <a:ext cx="9144000" cy="576360"/>
            <a:chOff x="-1440" y="0"/>
            <a:chExt cx="9144000" cy="576360"/>
          </a:xfrm>
        </p:grpSpPr>
        <p:pic>
          <p:nvPicPr>
            <p:cNvPr id="82" name="Picture 7" descr="patron"/>
            <p:cNvPicPr/>
            <p:nvPr/>
          </p:nvPicPr>
          <p:blipFill>
            <a:blip r:embed="rId2"/>
            <a:stretch/>
          </p:blipFill>
          <p:spPr>
            <a:xfrm>
              <a:off x="-1440" y="0"/>
              <a:ext cx="9144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8" descr="primera pag de ppt"/>
            <p:cNvPicPr/>
            <p:nvPr/>
          </p:nvPicPr>
          <p:blipFill>
            <a:blip r:embed="rId3"/>
            <a:srcRect l="0" t="12112" r="61945" b="68265"/>
            <a:stretch/>
          </p:blipFill>
          <p:spPr>
            <a:xfrm>
              <a:off x="7669080" y="44280"/>
              <a:ext cx="1366920" cy="50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IWVTA-13-01.docx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file:///IWVTA-14-01.doc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Hsata6_server/hsata6/VOL1N/GRUP/HOMOLOGA/HOMOLOGACIONES%20VEHICULO%20INDUSTRIAL/HVI_01_GENERAL/UNECE/IWVTA_VI/INTERVENCIONES%20EN%20GRRF%2075%202013_09/SG58-06-02.doc" TargetMode="External"/><Relationship Id="rId3" Type="http://schemas.openxmlformats.org/officeDocument/2006/relationships/hyperlink" Target="file://Hsata6_server/hsata6/VOL1N/GRUP/HOMOLOGA/HOMOLOGACIONES%20VEHICULO%20INDUSTRIAL/HVI_01_GENERAL/UNECE/IWVTA_VI/INTERVENCIONES%20EN%20GRRF%2075%202013_09/SG58-06-02.doc" TargetMode="External"/><Relationship Id="rId4" Type="http://schemas.openxmlformats.org/officeDocument/2006/relationships/hyperlink" Target="file://Hsata6_server/hsata6/VOL1N/GRUP/HOMOLOGA/HOMOLOGACIONES%20VEHICULO%20INDUSTRIAL/HVI_01_GENERAL/UNECE/IWVTA_VI/INTERVENCIONES%20EN%20GRRF%2075%202013_09/SG58-06-02.doc" TargetMode="External"/><Relationship Id="rId5" Type="http://schemas.openxmlformats.org/officeDocument/2006/relationships/hyperlink" Target="file://Hsata6_server/hsata6/VOL1N/GRUP/HOMOLOGA/HOMOLOGACIONES%20VEHICULO%20INDUSTRIAL/HVI_01_GENERAL/UNECE/IWVTA_VI/INTERVENCIONES%20EN%20GRRF%2075%202013_09/SG58-06-02.doc" TargetMode="External"/><Relationship Id="rId6" Type="http://schemas.openxmlformats.org/officeDocument/2006/relationships/hyperlink" Target="file://Hsata6_server/hsata6/VOL1N/GRUP/HOMOLOGA/HOMOLOGACIONES%20VEHICULO%20INDUSTRIAL/HVI_01_GENERAL/UNECE/IWVTA_VI/INTERVENCIONES%20EN%20GRRF%2075%202013_09/SG58-07-01.docx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hyperlink" Target="file://Hsata6_server/hsata6/VOL1N/GRUP/HOMOLOGA/HOMOLOGACIONES%20VEHICULO%20INDUSTRIAL/HVI_01_GENERAL/UNECE/IWVTA_VI/INTERVENCIONES%20EN%20GRRF%2075%202013_09/SG58-07-02draft5.doc" TargetMode="External"/><Relationship Id="rId11" Type="http://schemas.openxmlformats.org/officeDocument/2006/relationships/hyperlink" Target="file://Hsata6_server/hsata6/VOL1N/GRUP/HOMOLOGA/HOMOLOGACIONES%20VEHICULO%20INDUSTRIAL/HVI_01_GENERAL/UNECE/IWVTA_VI/INTERVENCIONES%20EN%20GRRF%2075%202013_09/SG58-07-02draft5.doc" TargetMode="External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Hsata6_server/hsata6/VOL1N/GRUP/HOMOLOGA/HOMOLOGACIONES%20VEHICULO%20INDUSTRIAL/HVI_01_GENERAL/UNECE/IWVTA_VI/INTERVENCIONES%20EN%20GRRF%2075%202013_09/SGR0-06-02.doc" TargetMode="External"/><Relationship Id="rId3" Type="http://schemas.openxmlformats.org/officeDocument/2006/relationships/hyperlink" Target="file://Hsata6_server/hsata6/VOL1N/GRUP/HOMOLOGA/HOMOLOGACIONES%20VEHICULO%20INDUSTRIAL/HVI_01_GENERAL/UNECE/IWVTA_VI/INTERVENCIONES%20EN%20GRRF%2075%202013_09/SGR0-06-02.doc" TargetMode="External"/><Relationship Id="rId4" Type="http://schemas.openxmlformats.org/officeDocument/2006/relationships/hyperlink" Target="file://Hsata6_server/hsata6/VOL1N/GRUP/HOMOLOGA/HOMOLOGACIONES%20VEHICULO%20INDUSTRIAL/HVI_01_GENERAL/UNECE/IWVTA_VI/INTERVENCIONES%20EN%20GRRF%2075%202013_09/SGR0-06-02.doc" TargetMode="External"/><Relationship Id="rId5" Type="http://schemas.openxmlformats.org/officeDocument/2006/relationships/hyperlink" Target="file://Hsata6_server/hsata6/VOL1N/GRUP/HOMOLOGA/HOMOLOGACIONES%20VEHICULO%20INDUSTRIAL/HVI_01_GENERAL/UNECE/IWVTA_VI/INTERVENCIONES%20EN%20GRRF%2075%202013_09/SGR0-06-02.doc" TargetMode="External"/><Relationship Id="rId6" Type="http://schemas.openxmlformats.org/officeDocument/2006/relationships/hyperlink" Target="file://Hsata6_server/hsata6/VOL1N/GRUP/HOMOLOGA/HOMOLOGACIONES%20VEHICULO%20INDUSTRIAL/HVI_01_GENERAL/UNECE/IWVTA_VI/INTERVENCIONES%20EN%20GRRF%2075%202013_09/SGR0-07-01.doc" TargetMode="External"/><Relationship Id="rId7" Type="http://schemas.openxmlformats.org/officeDocument/2006/relationships/hyperlink" Target="file://Hsata6_server/hsata6/VOL1N/GRUP/HOMOLOGA/HOMOLOGACIONES%20VEHICULO%20INDUSTRIAL/HVI_01_GENERAL/UNECE/IWVTA_VI/INTERVENCIONES%20EN%20GRRF%2075%202013_09/SGR0-07-01.doc" TargetMode="External"/><Relationship Id="rId8" Type="http://schemas.openxmlformats.org/officeDocument/2006/relationships/hyperlink" Target="file://Hsata6_server/hsata6/VOL1N/GRUP/HOMOLOGA/HOMOLOGACIONES%20VEHICULO%20INDUSTRIAL/HVI_01_GENERAL/UNECE/IWVTA_VI/INTERVENCIONES%20EN%20GRRF%2075%202013_09/SGR0-07-01.doc" TargetMode="External"/><Relationship Id="rId9" Type="http://schemas.openxmlformats.org/officeDocument/2006/relationships/hyperlink" Target="file://Hsata6_server/hsata6/VOL1N/GRUP/HOMOLOGA/HOMOLOGACIONES%20VEHICULO%20INDUSTRIAL/HVI_01_GENERAL/UNECE/IWVTA_VI/INTERVENCIONES%20EN%20GRRF%2075%202013_09/SGR0-07-01.doc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hyperlink" Target="file://Hsata6_server/hsata6/VOL1N/GRUP/HOMOLOGA/HOMOLOGACIONES%20VEHICULO%20INDUSTRIAL/HVI_01_GENERAL/UNECE/IWVTA_VI/INTERVENCIONES%20EN%20GRRF%2075%202013_09/SGR0-07-02draft5.doc" TargetMode="External"/><Relationship Id="rId14" Type="http://schemas.openxmlformats.org/officeDocument/2006/relationships/hyperlink" Target="file://Hsata6_server/hsata6/VOL1N/GRUP/HOMOLOGA/HOMOLOGACIONES%20VEHICULO%20INDUSTRIAL/HVI_01_GENERAL/UNECE/IWVTA_VI/INTERVENCIONES%20EN%20GRRF%2075%202013_09/SGR0-07-02draft5.doc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Hsata6_server/hsata6/VOL1N/GRUP/HOMOLOGA/HOMOLOGACIONES%20VEHICULO%20INDUSTRIAL/HVI_01_GENERAL/UNECE/IWVTA_VI/INTERVENCIONES%20EN%20GRRF%2075%202013_09/SGR0-05-03-rev%201.doc" TargetMode="External"/><Relationship Id="rId2" Type="http://schemas.openxmlformats.org/officeDocument/2006/relationships/hyperlink" Target="file://Hsata6_server/hsata6/VOL1N/GRUP/HOMOLOGA/HOMOLOGACIONES%20VEHICULO%20INDUSTRIAL/HVI_01_GENERAL/UNECE/IWVTA_VI/INTERVENCIONES%20EN%20GRRF%2075%202013_09/SGR0-06-04.docx" TargetMode="External"/><Relationship Id="rId3" Type="http://schemas.openxmlformats.org/officeDocument/2006/relationships/hyperlink" Target="file://Hsata6_server/hsata6/VOL1N/GRUP/HOMOLOGA/HOMOLOGACIONES%20VEHICULO%20INDUSTRIAL/HVI_01_GENERAL/UNECE/IWVTA_VI/INTERVENCIONES%20EN%20GRRF%2075%202013_09/SGR0-06-03.docx" TargetMode="External"/><Relationship Id="rId4" Type="http://schemas.openxmlformats.org/officeDocument/2006/relationships/hyperlink" Target="file://Hsata6_server/hsata6/VOL1N/GRUP/HOMOLOGA/HOMOLOGACIONES%20VEHICULO%20INDUSTRIAL/HVI_01_GENERAL/UNECE/IWVTA_VI/INTERVENCIONES%20EN%20GRRF%2075%202013_09/SGR0-06-05.pptx" TargetMode="External"/><Relationship Id="rId5" Type="http://schemas.openxmlformats.org/officeDocument/2006/relationships/hyperlink" Target="file://Hsata6_server/hsata6/VOL1N/GRUP/HOMOLOGA/HOMOLOGACIONES%20VEHICULO%20INDUSTRIAL/HVI_01_GENERAL/UNECE/IWVTA_VI/INTERVENCIONES%20EN%20GRRF%2075%202013_09/SGR0-06-05-rev.1.pptx" TargetMode="External"/><Relationship Id="rId6" Type="http://schemas.openxmlformats.org/officeDocument/2006/relationships/hyperlink" Target="file://Hsata6_server/hsata6/VOL1N/GRUP/HOMOLOGA/HOMOLOGACIONES%20VEHICULO%20INDUSTRIAL/HVI_01_GENERAL/UNECE/IWVTA_VI/INTERVENCIONES%20EN%20GRRF%2075%202013_09/SGR0-06-08.doc" TargetMode="External"/><Relationship Id="rId7" Type="http://schemas.openxmlformats.org/officeDocument/2006/relationships/hyperlink" Target="file://Hsata6_server/hsata6/VOL1N/GRUP/HOMOLOGA/HOMOLOGACIONES%20VEHICULO%20INDUSTRIAL/HVI_01_GENERAL/UNECE/IWVTA_VI/INTERVENCIONES%20EN%20GRRF%2075%202013_09/SGR0-02-04-rev4_clean_2013-09-12.docx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780000" y="5576760"/>
            <a:ext cx="5005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403280" y="5224320"/>
            <a:ext cx="7475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port to GRRF from ambassador to IWV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5c4e"/>
                </a:solidFill>
                <a:latin typeface="Arial"/>
              </a:rPr>
              <a:t>Ignacio Laf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ultima pag ppt"/>
          <p:cNvPicPr/>
          <p:nvPr/>
        </p:nvPicPr>
        <p:blipFill>
          <a:blip r:embed="rId1"/>
          <a:srcRect l="11588" t="14102" r="71054" b="55032"/>
          <a:stretch/>
        </p:blipFill>
        <p:spPr>
          <a:xfrm>
            <a:off x="587520" y="985680"/>
            <a:ext cx="2447640" cy="21751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5879880" y="692280"/>
            <a:ext cx="268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Informal document </a:t>
            </a:r>
            <a:r>
              <a:rPr b="1" lang="fr-CH" sz="1000" spc="-1" strike="noStrike">
                <a:solidFill>
                  <a:srgbClr val="000000"/>
                </a:solidFill>
                <a:latin typeface="Arial"/>
              </a:rPr>
              <a:t>GRRF-75-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(75th GRRF session, 17-19 September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agenda item 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3_SG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27160" y="907920"/>
            <a:ext cx="81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Progress on GRR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50920" y="1474920"/>
            <a:ext cx="876276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79 progress will depend on LKAS +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9360">
              <a:lnSpc>
                <a:spcPct val="110000"/>
              </a:lnSpc>
              <a:spcBef>
                <a:spcPts val="675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a” no LK mod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9360">
              <a:lnSpc>
                <a:spcPct val="110000"/>
              </a:lnSpc>
              <a:spcBef>
                <a:spcPts val="675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b” LK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Eventual modification of ECE R79.01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transfer prescriptions of Automatic Driving (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Proposal from Amba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9360">
              <a:lnSpc>
                <a:spcPct val="110000"/>
              </a:lnSpc>
              <a:spcBef>
                <a:spcPts val="675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Keep R79.01 unmodified for IWVTA purposes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9360">
              <a:lnSpc>
                <a:spcPct val="110000"/>
              </a:lnSpc>
              <a:spcBef>
                <a:spcPts val="675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When R79.01 is modified to include LK + PA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3_SG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7160" y="907920"/>
            <a:ext cx="81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Progress on GRR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50920" y="1474920"/>
            <a:ext cx="87627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Tyre / T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Spl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9360">
              <a:lnSpc>
                <a:spcPct val="110000"/>
              </a:lnSpc>
              <a:spcBef>
                <a:spcPts val="675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NO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9360">
              <a:lnSpc>
                <a:spcPct val="110000"/>
              </a:lnSpc>
              <a:spcBef>
                <a:spcPts val="675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Yes (RUS)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“b”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Sponsor? Dra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b5c4e"/>
                </a:solidFill>
                <a:latin typeface="Arial"/>
              </a:rPr>
              <a:t>Proposal by the Russian Federation on the development of the technical requirements for IWV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50920" y="4219560"/>
            <a:ext cx="876276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Tyre ma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54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No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1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5 Cerrar llave"/>
          <p:cNvSpPr/>
          <p:nvPr/>
        </p:nvSpPr>
        <p:spPr>
          <a:xfrm>
            <a:off x="1763640" y="4686480"/>
            <a:ext cx="155520" cy="9936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93600"/>
              <a:gd name="textAreaBottom" fmla="*/ 989640 h 99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c6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3_SG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27160" y="907920"/>
            <a:ext cx="81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Progress on GRR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474920"/>
            <a:ext cx="8762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55: Couplings (if fit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50920" y="2635200"/>
            <a:ext cx="8762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7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79: Speed limiters (if fit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US: “c”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JPN: include comment on “necess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unning systems (J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“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c”: No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3_SG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7160" y="907920"/>
            <a:ext cx="81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Progress on GRR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50920" y="1474920"/>
            <a:ext cx="876276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9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79: Speed limiters if f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US: “c”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JPN: include comment on “necess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10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unning systens (J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96160" y="3940200"/>
            <a:ext cx="26496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b5c4e"/>
                </a:solidFill>
                <a:latin typeface="Arial"/>
                <a:ea typeface="Arial"/>
              </a:rPr>
              <a:t>For further informa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6600"/>
                </a:solidFill>
                <a:latin typeface="Arial"/>
                <a:ea typeface="Arial"/>
              </a:rPr>
              <a:t>Applus IDI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b5c4e"/>
                </a:solidFill>
                <a:latin typeface="Arial"/>
                <a:ea typeface="Arial"/>
              </a:rPr>
              <a:t>Main Technical Cent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b5c4e"/>
                </a:solidFill>
                <a:latin typeface="Arial"/>
                <a:ea typeface="Arial"/>
              </a:rPr>
              <a:t>L’Albornar – PO Box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b5c4e"/>
                </a:solidFill>
                <a:latin typeface="Arial"/>
                <a:ea typeface="Arial"/>
              </a:rPr>
              <a:t>E-43710 Santa Oliva (Tarragona) S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b5c4e"/>
                </a:solidFill>
                <a:latin typeface="Arial"/>
                <a:ea typeface="Arial"/>
              </a:rPr>
              <a:t>T +34 977 166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b5c4e"/>
                </a:solidFill>
                <a:latin typeface="Arial"/>
                <a:ea typeface="Arial"/>
              </a:rPr>
              <a:t>F +34 977 166 0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b5c4e"/>
                </a:solidFill>
                <a:latin typeface="Arial"/>
                <a:ea typeface="Arial"/>
              </a:rPr>
              <a:t>e-mail: idiada@idiada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b5c4e"/>
                </a:solidFill>
                <a:latin typeface="Arial"/>
                <a:ea typeface="Arial"/>
              </a:rPr>
              <a:t>www.idiada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ultima pag ppt"/>
          <p:cNvPicPr/>
          <p:nvPr/>
        </p:nvPicPr>
        <p:blipFill>
          <a:blip r:embed="rId1"/>
          <a:srcRect l="11588" t="14102" r="71054" b="55032"/>
          <a:stretch/>
        </p:blipFill>
        <p:spPr>
          <a:xfrm>
            <a:off x="587520" y="985680"/>
            <a:ext cx="2447640" cy="2175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>
            <a:off x="6227640" y="790560"/>
            <a:ext cx="0" cy="5573880"/>
          </a:xfrm>
          <a:prstGeom prst="line">
            <a:avLst/>
          </a:prstGeom>
          <a:ln w="9360">
            <a:solidFill>
              <a:srgbClr val="7b5c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8 CuadroTexto"/>
          <p:cNvSpPr/>
          <p:nvPr/>
        </p:nvSpPr>
        <p:spPr>
          <a:xfrm>
            <a:off x="3995640" y="620640"/>
            <a:ext cx="2448000" cy="61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32 2 719 02 45 (Brussel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belgium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Brazil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55 41 3373 0411 (Curitiba)                                                         T +55 11 4330 9880 (São Paulo)                                                     T +55 15 3205 2952 (Tatuí)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brasil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Ch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86 10 8446 3317 (Beijing)                                                          T +86 431 8190 9680 (Changchun)                                               T+ 86 23 6756 8060 (Chongqing)                                                                  T +86 20 2282 9202 (Guangzhou)                                                                          T +86 (21) 6210 0894 (Shanghai)                                   T +86 (772) 3166 619 (Liuzho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china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Czech Re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420 493 654 811 (Hradec Králové)                                            T +420 482 424 243 (Liberec)                                                                                 T +420 326 736 860 (Mladá Boleslav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nfo@idiada.c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33 (0) 141 146 085 (Sèvres CEDEX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france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Germ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7b5c4e"/>
                </a:solidFill>
                <a:latin typeface="Arial"/>
                <a:ea typeface="Arial"/>
              </a:rPr>
              <a:t>T +49 (0) 7062 928859-8 (Ilsfeld)                                                       T +49 (0) 841 88538-0 (Ingolstadt)</a:t>
            </a:r>
            <a:br>
              <a:rPr sz="700"/>
            </a:br>
            <a:r>
              <a:rPr b="1" lang="de-DE" sz="700" spc="-1" strike="noStrike">
                <a:solidFill>
                  <a:srgbClr val="7b5c4e"/>
                </a:solidFill>
                <a:latin typeface="Arial"/>
                <a:ea typeface="Arial"/>
              </a:rPr>
              <a:t>T +49 (0) 89 309056-0 (Munich)                                                      T +49 (0) 5371 875100-0 (Wolfsbur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germany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Indi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91 986 009 8659 (Bangalore)                                                     T +91 994 0679 933 (Chennai)                                                        T +91 124 4028 888 (New Delhi)                                                     T +91 203 0556 900 (Pun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india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39 011 3997 764 (Turin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italia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Jap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81 (0) 42 512 8982 (Tokyo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japan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CuadroTexto"/>
          <p:cNvSpPr/>
          <p:nvPr/>
        </p:nvSpPr>
        <p:spPr>
          <a:xfrm>
            <a:off x="6757920" y="617400"/>
            <a:ext cx="237672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South Kor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82 31 478 1821 (Seoul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@idiada.co.k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Madr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34  915 095 795 (Madrid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madrid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Malay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603 9207 7018 (Kuala Lumpur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malaysia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Po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48 61 6226 905 (Poznan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polska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Rus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7 (831) 297 94 32 (Nizhny Novgorod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russia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Saudi Ara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966 53 4147 301 (Riyadh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GCC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Tai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886 47 810 702 (Lu-Kan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taiwan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6500"/>
                </a:solidFill>
                <a:latin typeface="Arial"/>
                <a:ea typeface="Arial"/>
              </a:rPr>
              <a:t>Applus IDIADA Thai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66 86 7917 071 (Bangkok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thailand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Tur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90 216 250 6050 (Istanbul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turkey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U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44 (0) 7 979 691 631 (Hinckley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uk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Applus IDIADA US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1 248 656 3469 (Detroi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idiada_USA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c6500"/>
                </a:solidFill>
                <a:latin typeface="Arial"/>
                <a:ea typeface="Arial"/>
              </a:rPr>
              <a:t>CTAG IDIAD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T +34 986 900 300 (Pontevedr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b5c4e"/>
                </a:solidFill>
                <a:latin typeface="Arial"/>
                <a:ea typeface="Arial"/>
              </a:rPr>
              <a:t>e-mail: ctag_idiada@idiada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01600" y="106200"/>
            <a:ext cx="76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68360" y="907920"/>
            <a:ext cx="7632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01_ </a:t>
            </a:r>
            <a:r>
              <a:rPr b="0" lang="en-US" sz="2400" spc="-1" strike="noStrike">
                <a:solidFill>
                  <a:srgbClr val="7b5c4e"/>
                </a:solidFill>
                <a:latin typeface="Arial"/>
              </a:rPr>
              <a:t>IWV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725480"/>
            <a:ext cx="7632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02_ </a:t>
            </a:r>
            <a:r>
              <a:rPr b="0" lang="en-US" sz="2400" spc="-1" strike="noStrike">
                <a:solidFill>
                  <a:srgbClr val="7b5c4e"/>
                </a:solidFill>
                <a:latin typeface="Arial"/>
              </a:rPr>
              <a:t>SG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563920"/>
            <a:ext cx="7632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03_ </a:t>
            </a:r>
            <a:r>
              <a:rPr b="0" lang="en-US" sz="2400" spc="-1" strike="noStrike">
                <a:solidFill>
                  <a:srgbClr val="7b5c4e"/>
                </a:solidFill>
                <a:latin typeface="Arial"/>
              </a:rPr>
              <a:t>SGR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1_IWV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7160" y="907920"/>
            <a:ext cx="81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Majo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50920" y="1474920"/>
            <a:ext cx="876276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12th Meeting: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WVTA-13-01 Minutes of the 12th Session of the Informal Group of IWV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13th Meeting: 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WVTA-14-01 Minutes of the 13th Session of the Informal Group of IWV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2_SG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27160" y="907920"/>
            <a:ext cx="81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Majo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50920" y="1474920"/>
            <a:ext cx="876276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6th Meeting: 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G58-06-0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genda of the 6</a:t>
            </a:r>
            <a:r>
              <a:rPr b="0" lang="en-US" sz="1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18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 Session of Sub-group “1958 Agre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G58-07-01 Major results and Action items made at the 6th Sub-group “1958 Agreement”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7th Meeting: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G58-07-02draf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rovisional Agenda of the 7th Session of Sub-group “1958 Agre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Major results to be 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3_SG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7160" y="907920"/>
            <a:ext cx="81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Majo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50920" y="1474920"/>
            <a:ext cx="876276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6th Meeting: 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GR0-06-0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ovisional Agenda of the 6</a:t>
            </a:r>
            <a:r>
              <a:rPr b="0" lang="en-US" sz="1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18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 Session of Sub-group “UN R0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GR0-07-0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ajor results and Action items made at the 6</a:t>
            </a:r>
            <a:r>
              <a:rPr b="0" lang="en-US" sz="1800" spc="-1" strike="noStrike" u="sng" baseline="30000">
                <a:solidFill>
                  <a:srgbClr val="009999"/>
                </a:solidFill>
                <a:uFillTx/>
                <a:latin typeface="Arial"/>
                <a:hlinkClick r:id="rId8"/>
              </a:rPr>
              <a:t>th</a:t>
            </a:r>
            <a:r>
              <a:rPr b="0" lang="en-US" sz="1800" spc="-1" strike="noStrike" u="sng" baseline="30000">
                <a:solidFill>
                  <a:srgbClr val="009999"/>
                </a:solidFill>
                <a:uFillTx/>
                <a:latin typeface="Arial"/>
                <a:hlinkClick r:id="rId9"/>
              </a:rPr>
              <a:t> Sub-group “UN R0”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0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7th Meeting: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GR0-07-02 draft5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rovisional Agenda of the 7th Session of Sub-group “UN R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Major results to be 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Clr>
                <a:srgbClr val="7b5c4e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3_SG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27160" y="907920"/>
            <a:ext cx="813564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Flexible scheme</a:t>
            </a:r>
            <a:br>
              <a:rPr sz="2000"/>
            </a:b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GR0-05-03-rev1 The flexible IWVTA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c65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Legal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Rights of CPs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GR0-06-04-Right of Contracting Parties applying UN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Obligations of CPs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GR0-06-03 Obligations regarding Annexed Regulations to UN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If fitted requirements</a:t>
            </a:r>
            <a:br>
              <a:rPr sz="2000"/>
            </a:b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GR0-06-05 </a:t>
            </a:r>
            <a:br>
              <a:rPr sz="2000"/>
            </a:b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GR0-06-01 re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Questions &amp; Answer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GR0-06-08 Proposal of questions and answers for a Q&amp;A-Document to explain the UN-Regulation No. 0 and IWV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c65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Draft version of R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GR0-02-04-rev4 Regulation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3_SG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7160" y="907920"/>
            <a:ext cx="813564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Priority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50920" y="1474920"/>
            <a:ext cx="8762760" cy="37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Informal document by Ambassador to IWVTA GRRF-74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Upon proposal by JPN and 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RF-74-44-rev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Existing regulations will be splitted as to cover each required separat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3_SG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27160" y="907920"/>
            <a:ext cx="81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Progress on GRR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50920" y="1474920"/>
            <a:ext cx="8762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13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Draft proposal of splitting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13H.01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Brake + 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b5c4e"/>
                </a:solidFill>
                <a:latin typeface="Arial"/>
              </a:rPr>
              <a:t>Proposal for draft amendments to Regulations No. 13-H relevant to the separate ESC/BAS regulation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b5c4e"/>
                </a:solidFill>
                <a:latin typeface="Arial"/>
              </a:rPr>
              <a:t>Rxxx ECE </a:t>
            </a:r>
            <a:r>
              <a:rPr b="0" lang="en-U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7b5c4e"/>
                </a:solidFill>
                <a:latin typeface="Arial"/>
              </a:rPr>
              <a:t> ESC</a:t>
            </a:r>
            <a:r>
              <a:rPr b="0" lang="en-US" sz="1800" spc="-1" strike="noStrike">
                <a:solidFill>
                  <a:srgbClr val="7b5c4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b5c4e"/>
                </a:solidFill>
                <a:latin typeface="Arial"/>
              </a:rPr>
              <a:t>CLEPA/OICA proposal for a separate Regulation on ES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yyy ECE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b5c4e"/>
                </a:solidFill>
                <a:latin typeface="Arial"/>
              </a:rPr>
              <a:t>CLEPA/OICA proposal for a separate regulation on B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Transitional prov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Validity of existing R13H certificates and exten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http://www.clker.com/cliparts/9/1/4/0/11954322131712176739question_mark_naught101_02.svg.med.png"/>
          <p:cNvPicPr/>
          <p:nvPr/>
        </p:nvPicPr>
        <p:blipFill>
          <a:blip r:embed="rId4"/>
          <a:stretch/>
        </p:blipFill>
        <p:spPr>
          <a:xfrm>
            <a:off x="468360" y="5084640"/>
            <a:ext cx="923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01600" y="10476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3_SG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7160" y="907920"/>
            <a:ext cx="81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6500"/>
                </a:solidFill>
                <a:latin typeface="Arial"/>
              </a:rPr>
              <a:t>Progress on GRR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50920" y="1474920"/>
            <a:ext cx="876276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Tyr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Russia proposal: “c” </a:t>
            </a:r>
            <a:r>
              <a:rPr b="0" lang="es-ES" sz="1800" spc="-1" strike="noStrike">
                <a:solidFill>
                  <a:srgbClr val="7b5c4e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7b5c4e"/>
                </a:solidFill>
                <a:latin typeface="Arial"/>
              </a:rPr>
              <a:t>Draft ECE regulation based upon EU requir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AutoNum type="alphaLcParenR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b5c4e"/>
                </a:solidFill>
                <a:latin typeface="Arial"/>
              </a:rPr>
              <a:t>ETRTO/OICA proposal for a new Regulation on the installation of ty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fc6500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4:02:37Z</dcterms:created>
  <dc:creator>Dinamica</dc:creator>
  <dc:description/>
  <dc:language>en-US</dc:language>
  <cp:lastModifiedBy>Guichard</cp:lastModifiedBy>
  <cp:lastPrinted>2011-11-09T09:01:15Z</cp:lastPrinted>
  <dcterms:modified xsi:type="dcterms:W3CDTF">2013-10-10T07:51:25Z</dcterms:modified>
  <cp:revision>245</cp:revision>
  <dc:subject/>
  <dc:title>Diapositiva 1</dc:title>
</cp:coreProperties>
</file>