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8FA-51DB-4775-87A3-28CDEC71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53A-F04A-4D29-9C0C-670F596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B5A-7537-45D1-86EB-FD5BACB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6CD-AB0A-4CEE-9478-93552EE2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8F7-6EF2-4634-ACEA-4071ED4E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640-84DC-4D92-BA13-8EB31D79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EFA-71A6-4950-A6C9-76B2CD8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FBB-FBD6-4197-9524-5A1D6FC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8CF-9AA5-4227-BA4C-E57FD69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8D5-D4FC-4F14-AD18-7869444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54A-B70C-47D8-AA22-A8946B1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376-B2F1-4610-A8F4-E4C7E4F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YvdS - 28 May 0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E01C-7086-488C-9379-6D87835D69F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 7" descr="oica_logolarge.jpg"/>
          <p:cNvPicPr/>
          <p:nvPr/>
        </p:nvPicPr>
        <p:blipFill>
          <a:blip r:embed="rId3"/>
          <a:stretch/>
        </p:blipFill>
        <p:spPr>
          <a:xfrm>
            <a:off x="228600" y="380880"/>
            <a:ext cx="144792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CEL Annex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1268280"/>
            <a:ext cx="476712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he split of R13H was d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plit of R13H creates a specific issue on 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CA is seeking for guidance from GR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340000" y="2127240"/>
            <a:ext cx="2303280" cy="202392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2457360" y="2406600"/>
            <a:ext cx="1927440" cy="84132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5. General requir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EM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P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Call for CEL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2457360" y="3328920"/>
            <a:ext cx="1927440" cy="28908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Annex 8: C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3840" y="3701880"/>
            <a:ext cx="1928880" cy="28908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Annex 9: ESC &amp; B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6381720" y="404640"/>
            <a:ext cx="2367000" cy="185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6497640" y="826920"/>
            <a:ext cx="2004840" cy="84168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5. General requir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EM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P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Call for CEL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6497640" y="1751040"/>
            <a:ext cx="2023920" cy="28728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Annex 8: C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1"/>
          <p:cNvSpPr/>
          <p:nvPr/>
        </p:nvSpPr>
        <p:spPr>
          <a:xfrm>
            <a:off x="6372360" y="2424240"/>
            <a:ext cx="2376360" cy="2003400"/>
          </a:xfrm>
          <a:prstGeom prst="rect">
            <a:avLst/>
          </a:prstGeom>
          <a:solidFill>
            <a:srgbClr val="ffff9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6480000" y="2719440"/>
            <a:ext cx="2032200" cy="12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5. General requir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EM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P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ESC requirements from Annex 9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Call for CEL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3"/>
          <p:cNvSpPr/>
          <p:nvPr/>
        </p:nvSpPr>
        <p:spPr>
          <a:xfrm>
            <a:off x="6480000" y="4006800"/>
            <a:ext cx="203220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Annex CEL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5"/>
          <p:cNvSpPr/>
          <p:nvPr/>
        </p:nvSpPr>
        <p:spPr>
          <a:xfrm>
            <a:off x="6372360" y="4584600"/>
            <a:ext cx="2376360" cy="2003400"/>
          </a:xfrm>
          <a:prstGeom prst="rect">
            <a:avLst/>
          </a:prstGeom>
          <a:solidFill>
            <a:srgbClr val="99ff99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6"/>
          <p:cNvSpPr/>
          <p:nvPr/>
        </p:nvSpPr>
        <p:spPr>
          <a:xfrm>
            <a:off x="6480000" y="4879800"/>
            <a:ext cx="2041560" cy="1203480"/>
          </a:xfrm>
          <a:prstGeom prst="rect">
            <a:avLst/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5. General requir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EM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P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BAS requirements from Annex 9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Call for CEL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7"/>
          <p:cNvSpPr/>
          <p:nvPr/>
        </p:nvSpPr>
        <p:spPr>
          <a:xfrm>
            <a:off x="6480000" y="6167520"/>
            <a:ext cx="2041560" cy="287280"/>
          </a:xfrm>
          <a:prstGeom prst="rect">
            <a:avLst/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Annex CEL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68"/>
          <p:cNvSpPr/>
          <p:nvPr/>
        </p:nvSpPr>
        <p:spPr>
          <a:xfrm>
            <a:off x="5091120" y="2424240"/>
            <a:ext cx="849240" cy="1644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388960" y="212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3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6429600" y="476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3H - spl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9"/>
          <p:cNvSpPr/>
          <p:nvPr/>
        </p:nvSpPr>
        <p:spPr>
          <a:xfrm>
            <a:off x="6386400" y="2424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3"/>
          <p:cNvSpPr/>
          <p:nvPr/>
        </p:nvSpPr>
        <p:spPr>
          <a:xfrm>
            <a:off x="6434280" y="4583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4"/>
          <p:cNvSpPr/>
          <p:nvPr/>
        </p:nvSpPr>
        <p:spPr>
          <a:xfrm>
            <a:off x="5940360" y="63360"/>
            <a:ext cx="2936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formal document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RRF-75-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ing R13H CEL fully covers braking system, ESC and B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CEL Annex cannot simply be duplicated in the new ESC and BAS regulations, while remaining in R13H, since it may cre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plication and additional workload to repeat CEL approval for ESC and BAS in both R13H and independent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licting interpretations of CEL requirements by different CPs / between each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mart solution has to be found to avoid these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ICA is seeking for guidance from GRRF, on whether and how referring to CEL requirements in the independent new ESC and BAS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Annex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95280" y="4149720"/>
            <a:ext cx="8353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urpose of the complex electronic control system requirements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verify the basic braking system is not adversely affected by the complex electronic control systems, which override the basic braking system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required to respect the basic performance prescribed by R13H under non-fault and fault conditions of the complex electronic control systems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undamentally, this verification has to be completed by the braking regulatio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same situation for steering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1719360" y="981000"/>
            <a:ext cx="6356160" cy="2951280"/>
            <a:chOff x="1719360" y="981000"/>
            <a:chExt cx="6356160" cy="2951280"/>
          </a:xfrm>
        </p:grpSpPr>
        <p:sp>
          <p:nvSpPr>
            <p:cNvPr id="67" name="AutoShape 3"/>
            <p:cNvSpPr/>
            <p:nvPr/>
          </p:nvSpPr>
          <p:spPr>
            <a:xfrm>
              <a:off x="1719360" y="981000"/>
              <a:ext cx="635616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1757160" y="10209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entury"/>
                  <a:ea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3991680" y="2395440"/>
              <a:ext cx="1072440" cy="278280"/>
              <a:chOff x="3991680" y="2395440"/>
              <a:chExt cx="1072440" cy="278280"/>
            </a:xfrm>
          </p:grpSpPr>
          <p:sp>
            <p:nvSpPr>
              <p:cNvPr id="70" name="Rectangle 6"/>
              <p:cNvSpPr/>
              <p:nvPr/>
            </p:nvSpPr>
            <p:spPr>
              <a:xfrm>
                <a:off x="3991680" y="2395440"/>
                <a:ext cx="1072440" cy="27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"/>
              <p:cNvSpPr/>
              <p:nvPr/>
            </p:nvSpPr>
            <p:spPr>
              <a:xfrm>
                <a:off x="3991680" y="2395440"/>
                <a:ext cx="1072440" cy="2782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9"/>
            <p:cNvSpPr/>
            <p:nvPr/>
          </p:nvSpPr>
          <p:spPr>
            <a:xfrm>
              <a:off x="4113000" y="2457000"/>
              <a:ext cx="40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4496400" y="2457000"/>
              <a:ext cx="50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to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5007960" y="2462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S ????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4"/>
            <p:cNvGrpSpPr/>
            <p:nvPr/>
          </p:nvGrpSpPr>
          <p:grpSpPr>
            <a:xfrm>
              <a:off x="3227760" y="1563840"/>
              <a:ext cx="2771640" cy="523800"/>
              <a:chOff x="3227760" y="1563840"/>
              <a:chExt cx="2771640" cy="523800"/>
            </a:xfrm>
          </p:grpSpPr>
          <p:sp>
            <p:nvSpPr>
              <p:cNvPr id="76" name="Rectangle 12"/>
              <p:cNvSpPr/>
              <p:nvPr/>
            </p:nvSpPr>
            <p:spPr>
              <a:xfrm>
                <a:off x="3233880" y="1569600"/>
                <a:ext cx="2758680" cy="511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>
                <a:off x="3227760" y="1563840"/>
                <a:ext cx="2771640" cy="523800"/>
              </a:xfrm>
              <a:custGeom>
                <a:avLst/>
                <a:gdLst/>
                <a:ahLst/>
                <a:rect l="l" t="t" r="r" b="b"/>
                <a:pathLst>
                  <a:path w="1793" h="339">
                    <a:moveTo>
                      <a:pt x="1789" y="7"/>
                    </a:moveTo>
                    <a:lnTo>
                      <a:pt x="1760" y="7"/>
                    </a:lnTo>
                    <a:lnTo>
                      <a:pt x="1760" y="0"/>
                    </a:lnTo>
                    <a:lnTo>
                      <a:pt x="1789" y="0"/>
                    </a:lnTo>
                    <a:lnTo>
                      <a:pt x="1789" y="7"/>
                    </a:lnTo>
                    <a:close/>
                    <a:moveTo>
                      <a:pt x="1739" y="7"/>
                    </a:moveTo>
                    <a:lnTo>
                      <a:pt x="1710" y="7"/>
                    </a:lnTo>
                    <a:lnTo>
                      <a:pt x="1710" y="0"/>
                    </a:lnTo>
                    <a:lnTo>
                      <a:pt x="1739" y="0"/>
                    </a:lnTo>
                    <a:lnTo>
                      <a:pt x="1739" y="7"/>
                    </a:lnTo>
                    <a:close/>
                    <a:moveTo>
                      <a:pt x="1688" y="7"/>
                    </a:moveTo>
                    <a:lnTo>
                      <a:pt x="1659" y="7"/>
                    </a:lnTo>
                    <a:lnTo>
                      <a:pt x="1659" y="0"/>
                    </a:lnTo>
                    <a:lnTo>
                      <a:pt x="1688" y="0"/>
                    </a:lnTo>
                    <a:lnTo>
                      <a:pt x="1688" y="7"/>
                    </a:lnTo>
                    <a:close/>
                    <a:moveTo>
                      <a:pt x="1638" y="7"/>
                    </a:moveTo>
                    <a:lnTo>
                      <a:pt x="1609" y="7"/>
                    </a:lnTo>
                    <a:lnTo>
                      <a:pt x="1609" y="0"/>
                    </a:lnTo>
                    <a:lnTo>
                      <a:pt x="1638" y="0"/>
                    </a:lnTo>
                    <a:lnTo>
                      <a:pt x="1638" y="7"/>
                    </a:lnTo>
                    <a:close/>
                    <a:moveTo>
                      <a:pt x="1587" y="7"/>
                    </a:moveTo>
                    <a:lnTo>
                      <a:pt x="1558" y="7"/>
                    </a:lnTo>
                    <a:lnTo>
                      <a:pt x="1558" y="0"/>
                    </a:lnTo>
                    <a:lnTo>
                      <a:pt x="1587" y="0"/>
                    </a:lnTo>
                    <a:lnTo>
                      <a:pt x="1587" y="7"/>
                    </a:lnTo>
                    <a:close/>
                    <a:moveTo>
                      <a:pt x="1537" y="7"/>
                    </a:moveTo>
                    <a:lnTo>
                      <a:pt x="1508" y="7"/>
                    </a:lnTo>
                    <a:lnTo>
                      <a:pt x="1508" y="0"/>
                    </a:lnTo>
                    <a:lnTo>
                      <a:pt x="1537" y="0"/>
                    </a:lnTo>
                    <a:lnTo>
                      <a:pt x="1537" y="7"/>
                    </a:lnTo>
                    <a:close/>
                    <a:moveTo>
                      <a:pt x="1486" y="7"/>
                    </a:moveTo>
                    <a:lnTo>
                      <a:pt x="1458" y="7"/>
                    </a:lnTo>
                    <a:lnTo>
                      <a:pt x="1458" y="0"/>
                    </a:lnTo>
                    <a:lnTo>
                      <a:pt x="1486" y="0"/>
                    </a:lnTo>
                    <a:lnTo>
                      <a:pt x="1486" y="7"/>
                    </a:lnTo>
                    <a:close/>
                    <a:moveTo>
                      <a:pt x="1436" y="7"/>
                    </a:moveTo>
                    <a:lnTo>
                      <a:pt x="1407" y="7"/>
                    </a:lnTo>
                    <a:lnTo>
                      <a:pt x="1407" y="0"/>
                    </a:lnTo>
                    <a:lnTo>
                      <a:pt x="1436" y="0"/>
                    </a:lnTo>
                    <a:lnTo>
                      <a:pt x="1436" y="7"/>
                    </a:lnTo>
                    <a:close/>
                    <a:moveTo>
                      <a:pt x="1386" y="7"/>
                    </a:moveTo>
                    <a:lnTo>
                      <a:pt x="1357" y="7"/>
                    </a:lnTo>
                    <a:lnTo>
                      <a:pt x="1357" y="0"/>
                    </a:lnTo>
                    <a:lnTo>
                      <a:pt x="1386" y="0"/>
                    </a:lnTo>
                    <a:lnTo>
                      <a:pt x="1386" y="7"/>
                    </a:lnTo>
                    <a:close/>
                    <a:moveTo>
                      <a:pt x="1335" y="7"/>
                    </a:moveTo>
                    <a:lnTo>
                      <a:pt x="1306" y="7"/>
                    </a:lnTo>
                    <a:lnTo>
                      <a:pt x="1306" y="0"/>
                    </a:lnTo>
                    <a:lnTo>
                      <a:pt x="1335" y="0"/>
                    </a:lnTo>
                    <a:lnTo>
                      <a:pt x="1335" y="7"/>
                    </a:lnTo>
                    <a:close/>
                    <a:moveTo>
                      <a:pt x="1285" y="7"/>
                    </a:moveTo>
                    <a:lnTo>
                      <a:pt x="1256" y="7"/>
                    </a:lnTo>
                    <a:lnTo>
                      <a:pt x="1256" y="0"/>
                    </a:lnTo>
                    <a:lnTo>
                      <a:pt x="1285" y="0"/>
                    </a:lnTo>
                    <a:lnTo>
                      <a:pt x="1285" y="7"/>
                    </a:lnTo>
                    <a:close/>
                    <a:moveTo>
                      <a:pt x="1234" y="7"/>
                    </a:moveTo>
                    <a:lnTo>
                      <a:pt x="1206" y="7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34" y="7"/>
                    </a:lnTo>
                    <a:close/>
                    <a:moveTo>
                      <a:pt x="1184" y="7"/>
                    </a:moveTo>
                    <a:lnTo>
                      <a:pt x="1155" y="7"/>
                    </a:lnTo>
                    <a:lnTo>
                      <a:pt x="1155" y="0"/>
                    </a:lnTo>
                    <a:lnTo>
                      <a:pt x="1184" y="0"/>
                    </a:lnTo>
                    <a:lnTo>
                      <a:pt x="1184" y="7"/>
                    </a:lnTo>
                    <a:close/>
                    <a:moveTo>
                      <a:pt x="1133" y="7"/>
                    </a:moveTo>
                    <a:lnTo>
                      <a:pt x="1105" y="7"/>
                    </a:lnTo>
                    <a:lnTo>
                      <a:pt x="1105" y="0"/>
                    </a:lnTo>
                    <a:lnTo>
                      <a:pt x="1133" y="0"/>
                    </a:lnTo>
                    <a:lnTo>
                      <a:pt x="1133" y="7"/>
                    </a:lnTo>
                    <a:close/>
                    <a:moveTo>
                      <a:pt x="1083" y="7"/>
                    </a:moveTo>
                    <a:lnTo>
                      <a:pt x="1054" y="7"/>
                    </a:lnTo>
                    <a:lnTo>
                      <a:pt x="1054" y="0"/>
                    </a:lnTo>
                    <a:lnTo>
                      <a:pt x="1083" y="0"/>
                    </a:lnTo>
                    <a:lnTo>
                      <a:pt x="1083" y="7"/>
                    </a:lnTo>
                    <a:close/>
                    <a:moveTo>
                      <a:pt x="1033" y="7"/>
                    </a:moveTo>
                    <a:lnTo>
                      <a:pt x="1004" y="7"/>
                    </a:lnTo>
                    <a:lnTo>
                      <a:pt x="1004" y="0"/>
                    </a:lnTo>
                    <a:lnTo>
                      <a:pt x="1033" y="0"/>
                    </a:lnTo>
                    <a:lnTo>
                      <a:pt x="1033" y="7"/>
                    </a:lnTo>
                    <a:close/>
                    <a:moveTo>
                      <a:pt x="982" y="7"/>
                    </a:moveTo>
                    <a:lnTo>
                      <a:pt x="953" y="7"/>
                    </a:lnTo>
                    <a:lnTo>
                      <a:pt x="953" y="0"/>
                    </a:lnTo>
                    <a:lnTo>
                      <a:pt x="982" y="0"/>
                    </a:lnTo>
                    <a:lnTo>
                      <a:pt x="982" y="7"/>
                    </a:lnTo>
                    <a:close/>
                    <a:moveTo>
                      <a:pt x="932" y="7"/>
                    </a:moveTo>
                    <a:lnTo>
                      <a:pt x="903" y="7"/>
                    </a:lnTo>
                    <a:lnTo>
                      <a:pt x="903" y="0"/>
                    </a:lnTo>
                    <a:lnTo>
                      <a:pt x="932" y="0"/>
                    </a:lnTo>
                    <a:lnTo>
                      <a:pt x="932" y="7"/>
                    </a:lnTo>
                    <a:close/>
                    <a:moveTo>
                      <a:pt x="881" y="7"/>
                    </a:moveTo>
                    <a:lnTo>
                      <a:pt x="853" y="7"/>
                    </a:lnTo>
                    <a:lnTo>
                      <a:pt x="853" y="0"/>
                    </a:lnTo>
                    <a:lnTo>
                      <a:pt x="881" y="0"/>
                    </a:lnTo>
                    <a:lnTo>
                      <a:pt x="881" y="7"/>
                    </a:lnTo>
                    <a:close/>
                    <a:moveTo>
                      <a:pt x="831" y="7"/>
                    </a:moveTo>
                    <a:lnTo>
                      <a:pt x="802" y="7"/>
                    </a:lnTo>
                    <a:lnTo>
                      <a:pt x="802" y="0"/>
                    </a:lnTo>
                    <a:lnTo>
                      <a:pt x="831" y="0"/>
                    </a:lnTo>
                    <a:lnTo>
                      <a:pt x="831" y="7"/>
                    </a:lnTo>
                    <a:close/>
                    <a:moveTo>
                      <a:pt x="781" y="7"/>
                    </a:moveTo>
                    <a:lnTo>
                      <a:pt x="752" y="7"/>
                    </a:lnTo>
                    <a:lnTo>
                      <a:pt x="752" y="0"/>
                    </a:lnTo>
                    <a:lnTo>
                      <a:pt x="781" y="0"/>
                    </a:lnTo>
                    <a:lnTo>
                      <a:pt x="781" y="7"/>
                    </a:lnTo>
                    <a:close/>
                    <a:moveTo>
                      <a:pt x="730" y="7"/>
                    </a:moveTo>
                    <a:lnTo>
                      <a:pt x="701" y="7"/>
                    </a:lnTo>
                    <a:lnTo>
                      <a:pt x="701" y="0"/>
                    </a:lnTo>
                    <a:lnTo>
                      <a:pt x="730" y="0"/>
                    </a:lnTo>
                    <a:lnTo>
                      <a:pt x="730" y="7"/>
                    </a:lnTo>
                    <a:close/>
                    <a:moveTo>
                      <a:pt x="680" y="7"/>
                    </a:moveTo>
                    <a:lnTo>
                      <a:pt x="651" y="7"/>
                    </a:lnTo>
                    <a:lnTo>
                      <a:pt x="651" y="0"/>
                    </a:lnTo>
                    <a:lnTo>
                      <a:pt x="680" y="0"/>
                    </a:lnTo>
                    <a:lnTo>
                      <a:pt x="680" y="7"/>
                    </a:lnTo>
                    <a:close/>
                    <a:moveTo>
                      <a:pt x="629" y="7"/>
                    </a:moveTo>
                    <a:lnTo>
                      <a:pt x="600" y="7"/>
                    </a:lnTo>
                    <a:lnTo>
                      <a:pt x="600" y="0"/>
                    </a:lnTo>
                    <a:lnTo>
                      <a:pt x="629" y="0"/>
                    </a:lnTo>
                    <a:lnTo>
                      <a:pt x="629" y="7"/>
                    </a:lnTo>
                    <a:close/>
                    <a:moveTo>
                      <a:pt x="579" y="7"/>
                    </a:moveTo>
                    <a:lnTo>
                      <a:pt x="550" y="7"/>
                    </a:lnTo>
                    <a:lnTo>
                      <a:pt x="550" y="0"/>
                    </a:lnTo>
                    <a:lnTo>
                      <a:pt x="579" y="0"/>
                    </a:lnTo>
                    <a:lnTo>
                      <a:pt x="579" y="7"/>
                    </a:lnTo>
                    <a:close/>
                    <a:moveTo>
                      <a:pt x="528" y="7"/>
                    </a:moveTo>
                    <a:lnTo>
                      <a:pt x="500" y="7"/>
                    </a:lnTo>
                    <a:lnTo>
                      <a:pt x="500" y="0"/>
                    </a:lnTo>
                    <a:lnTo>
                      <a:pt x="528" y="0"/>
                    </a:lnTo>
                    <a:lnTo>
                      <a:pt x="528" y="7"/>
                    </a:lnTo>
                    <a:close/>
                    <a:moveTo>
                      <a:pt x="478" y="7"/>
                    </a:moveTo>
                    <a:lnTo>
                      <a:pt x="449" y="7"/>
                    </a:lnTo>
                    <a:lnTo>
                      <a:pt x="449" y="0"/>
                    </a:lnTo>
                    <a:lnTo>
                      <a:pt x="478" y="0"/>
                    </a:lnTo>
                    <a:lnTo>
                      <a:pt x="478" y="7"/>
                    </a:lnTo>
                    <a:close/>
                    <a:moveTo>
                      <a:pt x="428" y="7"/>
                    </a:moveTo>
                    <a:lnTo>
                      <a:pt x="399" y="7"/>
                    </a:lnTo>
                    <a:lnTo>
                      <a:pt x="399" y="0"/>
                    </a:lnTo>
                    <a:lnTo>
                      <a:pt x="428" y="0"/>
                    </a:lnTo>
                    <a:lnTo>
                      <a:pt x="428" y="7"/>
                    </a:lnTo>
                    <a:close/>
                    <a:moveTo>
                      <a:pt x="377" y="7"/>
                    </a:moveTo>
                    <a:lnTo>
                      <a:pt x="348" y="7"/>
                    </a:lnTo>
                    <a:lnTo>
                      <a:pt x="348" y="0"/>
                    </a:lnTo>
                    <a:lnTo>
                      <a:pt x="377" y="0"/>
                    </a:lnTo>
                    <a:lnTo>
                      <a:pt x="377" y="7"/>
                    </a:lnTo>
                    <a:close/>
                    <a:moveTo>
                      <a:pt x="327" y="7"/>
                    </a:moveTo>
                    <a:lnTo>
                      <a:pt x="298" y="7"/>
                    </a:lnTo>
                    <a:lnTo>
                      <a:pt x="298" y="0"/>
                    </a:lnTo>
                    <a:lnTo>
                      <a:pt x="327" y="0"/>
                    </a:lnTo>
                    <a:lnTo>
                      <a:pt x="327" y="7"/>
                    </a:lnTo>
                    <a:close/>
                    <a:moveTo>
                      <a:pt x="276" y="7"/>
                    </a:moveTo>
                    <a:lnTo>
                      <a:pt x="248" y="7"/>
                    </a:lnTo>
                    <a:lnTo>
                      <a:pt x="248" y="0"/>
                    </a:lnTo>
                    <a:lnTo>
                      <a:pt x="276" y="0"/>
                    </a:lnTo>
                    <a:lnTo>
                      <a:pt x="276" y="7"/>
                    </a:lnTo>
                    <a:close/>
                    <a:moveTo>
                      <a:pt x="226" y="7"/>
                    </a:moveTo>
                    <a:lnTo>
                      <a:pt x="197" y="7"/>
                    </a:lnTo>
                    <a:lnTo>
                      <a:pt x="197" y="0"/>
                    </a:lnTo>
                    <a:lnTo>
                      <a:pt x="226" y="0"/>
                    </a:lnTo>
                    <a:lnTo>
                      <a:pt x="226" y="7"/>
                    </a:lnTo>
                    <a:close/>
                    <a:moveTo>
                      <a:pt x="175" y="7"/>
                    </a:moveTo>
                    <a:lnTo>
                      <a:pt x="147" y="7"/>
                    </a:lnTo>
                    <a:lnTo>
                      <a:pt x="147" y="0"/>
                    </a:lnTo>
                    <a:lnTo>
                      <a:pt x="175" y="0"/>
                    </a:lnTo>
                    <a:lnTo>
                      <a:pt x="175" y="7"/>
                    </a:lnTo>
                    <a:close/>
                    <a:moveTo>
                      <a:pt x="125" y="7"/>
                    </a:moveTo>
                    <a:lnTo>
                      <a:pt x="96" y="7"/>
                    </a:lnTo>
                    <a:lnTo>
                      <a:pt x="96" y="0"/>
                    </a:lnTo>
                    <a:lnTo>
                      <a:pt x="125" y="0"/>
                    </a:lnTo>
                    <a:lnTo>
                      <a:pt x="125" y="7"/>
                    </a:lnTo>
                    <a:close/>
                    <a:moveTo>
                      <a:pt x="75" y="7"/>
                    </a:moveTo>
                    <a:lnTo>
                      <a:pt x="46" y="7"/>
                    </a:lnTo>
                    <a:lnTo>
                      <a:pt x="46" y="0"/>
                    </a:lnTo>
                    <a:lnTo>
                      <a:pt x="75" y="0"/>
                    </a:lnTo>
                    <a:lnTo>
                      <a:pt x="75" y="7"/>
                    </a:lnTo>
                    <a:close/>
                    <a:moveTo>
                      <a:pt x="24" y="7"/>
                    </a:moveTo>
                    <a:lnTo>
                      <a:pt x="4" y="7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7"/>
                    </a:lnTo>
                    <a:close/>
                    <a:moveTo>
                      <a:pt x="7" y="34"/>
                    </a:moveTo>
                    <a:lnTo>
                      <a:pt x="7" y="62"/>
                    </a:lnTo>
                    <a:lnTo>
                      <a:pt x="0" y="62"/>
                    </a:lnTo>
                    <a:lnTo>
                      <a:pt x="0" y="34"/>
                    </a:lnTo>
                    <a:lnTo>
                      <a:pt x="7" y="34"/>
                    </a:lnTo>
                    <a:close/>
                    <a:moveTo>
                      <a:pt x="7" y="84"/>
                    </a:moveTo>
                    <a:lnTo>
                      <a:pt x="7" y="113"/>
                    </a:lnTo>
                    <a:lnTo>
                      <a:pt x="0" y="113"/>
                    </a:lnTo>
                    <a:lnTo>
                      <a:pt x="0" y="84"/>
                    </a:lnTo>
                    <a:lnTo>
                      <a:pt x="7" y="84"/>
                    </a:lnTo>
                    <a:close/>
                    <a:moveTo>
                      <a:pt x="7" y="134"/>
                    </a:moveTo>
                    <a:lnTo>
                      <a:pt x="7" y="163"/>
                    </a:lnTo>
                    <a:lnTo>
                      <a:pt x="0" y="163"/>
                    </a:lnTo>
                    <a:lnTo>
                      <a:pt x="0" y="134"/>
                    </a:lnTo>
                    <a:lnTo>
                      <a:pt x="7" y="134"/>
                    </a:lnTo>
                    <a:close/>
                    <a:moveTo>
                      <a:pt x="7" y="185"/>
                    </a:moveTo>
                    <a:lnTo>
                      <a:pt x="7" y="214"/>
                    </a:lnTo>
                    <a:lnTo>
                      <a:pt x="0" y="214"/>
                    </a:lnTo>
                    <a:lnTo>
                      <a:pt x="0" y="185"/>
                    </a:lnTo>
                    <a:lnTo>
                      <a:pt x="7" y="185"/>
                    </a:lnTo>
                    <a:close/>
                    <a:moveTo>
                      <a:pt x="7" y="235"/>
                    </a:moveTo>
                    <a:lnTo>
                      <a:pt x="7" y="264"/>
                    </a:lnTo>
                    <a:lnTo>
                      <a:pt x="0" y="264"/>
                    </a:lnTo>
                    <a:lnTo>
                      <a:pt x="0" y="235"/>
                    </a:lnTo>
                    <a:lnTo>
                      <a:pt x="7" y="235"/>
                    </a:lnTo>
                    <a:close/>
                    <a:moveTo>
                      <a:pt x="7" y="286"/>
                    </a:moveTo>
                    <a:lnTo>
                      <a:pt x="7" y="315"/>
                    </a:lnTo>
                    <a:lnTo>
                      <a:pt x="0" y="315"/>
                    </a:lnTo>
                    <a:lnTo>
                      <a:pt x="0" y="286"/>
                    </a:lnTo>
                    <a:lnTo>
                      <a:pt x="7" y="286"/>
                    </a:lnTo>
                    <a:close/>
                    <a:moveTo>
                      <a:pt x="4" y="332"/>
                    </a:moveTo>
                    <a:lnTo>
                      <a:pt x="33" y="332"/>
                    </a:lnTo>
                    <a:lnTo>
                      <a:pt x="33" y="339"/>
                    </a:lnTo>
                    <a:lnTo>
                      <a:pt x="4" y="339"/>
                    </a:lnTo>
                    <a:lnTo>
                      <a:pt x="4" y="332"/>
                    </a:lnTo>
                    <a:close/>
                    <a:moveTo>
                      <a:pt x="55" y="332"/>
                    </a:moveTo>
                    <a:lnTo>
                      <a:pt x="84" y="332"/>
                    </a:lnTo>
                    <a:lnTo>
                      <a:pt x="84" y="339"/>
                    </a:lnTo>
                    <a:lnTo>
                      <a:pt x="55" y="339"/>
                    </a:lnTo>
                    <a:lnTo>
                      <a:pt x="55" y="332"/>
                    </a:lnTo>
                    <a:close/>
                    <a:moveTo>
                      <a:pt x="105" y="332"/>
                    </a:moveTo>
                    <a:lnTo>
                      <a:pt x="134" y="332"/>
                    </a:lnTo>
                    <a:lnTo>
                      <a:pt x="134" y="339"/>
                    </a:lnTo>
                    <a:lnTo>
                      <a:pt x="105" y="339"/>
                    </a:lnTo>
                    <a:lnTo>
                      <a:pt x="105" y="332"/>
                    </a:lnTo>
                    <a:close/>
                    <a:moveTo>
                      <a:pt x="156" y="332"/>
                    </a:moveTo>
                    <a:lnTo>
                      <a:pt x="185" y="332"/>
                    </a:lnTo>
                    <a:lnTo>
                      <a:pt x="185" y="339"/>
                    </a:lnTo>
                    <a:lnTo>
                      <a:pt x="156" y="339"/>
                    </a:lnTo>
                    <a:lnTo>
                      <a:pt x="156" y="332"/>
                    </a:lnTo>
                    <a:close/>
                    <a:moveTo>
                      <a:pt x="206" y="332"/>
                    </a:moveTo>
                    <a:lnTo>
                      <a:pt x="235" y="332"/>
                    </a:lnTo>
                    <a:lnTo>
                      <a:pt x="235" y="339"/>
                    </a:lnTo>
                    <a:lnTo>
                      <a:pt x="206" y="339"/>
                    </a:lnTo>
                    <a:lnTo>
                      <a:pt x="206" y="332"/>
                    </a:lnTo>
                    <a:close/>
                    <a:moveTo>
                      <a:pt x="257" y="332"/>
                    </a:moveTo>
                    <a:lnTo>
                      <a:pt x="285" y="332"/>
                    </a:lnTo>
                    <a:lnTo>
                      <a:pt x="285" y="339"/>
                    </a:lnTo>
                    <a:lnTo>
                      <a:pt x="257" y="339"/>
                    </a:lnTo>
                    <a:lnTo>
                      <a:pt x="257" y="332"/>
                    </a:lnTo>
                    <a:close/>
                    <a:moveTo>
                      <a:pt x="307" y="332"/>
                    </a:moveTo>
                    <a:lnTo>
                      <a:pt x="336" y="332"/>
                    </a:lnTo>
                    <a:lnTo>
                      <a:pt x="336" y="339"/>
                    </a:lnTo>
                    <a:lnTo>
                      <a:pt x="307" y="339"/>
                    </a:lnTo>
                    <a:lnTo>
                      <a:pt x="307" y="332"/>
                    </a:lnTo>
                    <a:close/>
                    <a:moveTo>
                      <a:pt x="357" y="332"/>
                    </a:moveTo>
                    <a:lnTo>
                      <a:pt x="386" y="332"/>
                    </a:lnTo>
                    <a:lnTo>
                      <a:pt x="386" y="339"/>
                    </a:lnTo>
                    <a:lnTo>
                      <a:pt x="357" y="339"/>
                    </a:lnTo>
                    <a:lnTo>
                      <a:pt x="357" y="332"/>
                    </a:lnTo>
                    <a:close/>
                    <a:moveTo>
                      <a:pt x="408" y="332"/>
                    </a:moveTo>
                    <a:lnTo>
                      <a:pt x="437" y="332"/>
                    </a:lnTo>
                    <a:lnTo>
                      <a:pt x="437" y="339"/>
                    </a:lnTo>
                    <a:lnTo>
                      <a:pt x="408" y="339"/>
                    </a:lnTo>
                    <a:lnTo>
                      <a:pt x="408" y="332"/>
                    </a:lnTo>
                    <a:close/>
                    <a:moveTo>
                      <a:pt x="458" y="332"/>
                    </a:moveTo>
                    <a:lnTo>
                      <a:pt x="487" y="332"/>
                    </a:lnTo>
                    <a:lnTo>
                      <a:pt x="487" y="339"/>
                    </a:lnTo>
                    <a:lnTo>
                      <a:pt x="458" y="339"/>
                    </a:lnTo>
                    <a:lnTo>
                      <a:pt x="458" y="332"/>
                    </a:lnTo>
                    <a:close/>
                    <a:moveTo>
                      <a:pt x="509" y="332"/>
                    </a:moveTo>
                    <a:lnTo>
                      <a:pt x="538" y="332"/>
                    </a:lnTo>
                    <a:lnTo>
                      <a:pt x="538" y="339"/>
                    </a:lnTo>
                    <a:lnTo>
                      <a:pt x="509" y="339"/>
                    </a:lnTo>
                    <a:lnTo>
                      <a:pt x="509" y="332"/>
                    </a:lnTo>
                    <a:close/>
                    <a:moveTo>
                      <a:pt x="559" y="332"/>
                    </a:moveTo>
                    <a:lnTo>
                      <a:pt x="588" y="332"/>
                    </a:lnTo>
                    <a:lnTo>
                      <a:pt x="588" y="339"/>
                    </a:lnTo>
                    <a:lnTo>
                      <a:pt x="559" y="339"/>
                    </a:lnTo>
                    <a:lnTo>
                      <a:pt x="559" y="332"/>
                    </a:lnTo>
                    <a:close/>
                    <a:moveTo>
                      <a:pt x="610" y="332"/>
                    </a:moveTo>
                    <a:lnTo>
                      <a:pt x="638" y="332"/>
                    </a:lnTo>
                    <a:lnTo>
                      <a:pt x="638" y="339"/>
                    </a:lnTo>
                    <a:lnTo>
                      <a:pt x="610" y="339"/>
                    </a:lnTo>
                    <a:lnTo>
                      <a:pt x="610" y="332"/>
                    </a:lnTo>
                    <a:close/>
                    <a:moveTo>
                      <a:pt x="660" y="332"/>
                    </a:moveTo>
                    <a:lnTo>
                      <a:pt x="689" y="332"/>
                    </a:lnTo>
                    <a:lnTo>
                      <a:pt x="689" y="339"/>
                    </a:lnTo>
                    <a:lnTo>
                      <a:pt x="660" y="339"/>
                    </a:lnTo>
                    <a:lnTo>
                      <a:pt x="660" y="332"/>
                    </a:lnTo>
                    <a:close/>
                    <a:moveTo>
                      <a:pt x="710" y="332"/>
                    </a:moveTo>
                    <a:lnTo>
                      <a:pt x="739" y="332"/>
                    </a:lnTo>
                    <a:lnTo>
                      <a:pt x="739" y="339"/>
                    </a:lnTo>
                    <a:lnTo>
                      <a:pt x="710" y="339"/>
                    </a:lnTo>
                    <a:lnTo>
                      <a:pt x="710" y="332"/>
                    </a:lnTo>
                    <a:close/>
                    <a:moveTo>
                      <a:pt x="761" y="332"/>
                    </a:moveTo>
                    <a:lnTo>
                      <a:pt x="790" y="332"/>
                    </a:lnTo>
                    <a:lnTo>
                      <a:pt x="790" y="339"/>
                    </a:lnTo>
                    <a:lnTo>
                      <a:pt x="761" y="339"/>
                    </a:lnTo>
                    <a:lnTo>
                      <a:pt x="761" y="332"/>
                    </a:lnTo>
                    <a:close/>
                    <a:moveTo>
                      <a:pt x="811" y="332"/>
                    </a:moveTo>
                    <a:lnTo>
                      <a:pt x="840" y="332"/>
                    </a:lnTo>
                    <a:lnTo>
                      <a:pt x="840" y="339"/>
                    </a:lnTo>
                    <a:lnTo>
                      <a:pt x="811" y="339"/>
                    </a:lnTo>
                    <a:lnTo>
                      <a:pt x="811" y="332"/>
                    </a:lnTo>
                    <a:close/>
                    <a:moveTo>
                      <a:pt x="862" y="332"/>
                    </a:moveTo>
                    <a:lnTo>
                      <a:pt x="890" y="332"/>
                    </a:lnTo>
                    <a:lnTo>
                      <a:pt x="890" y="339"/>
                    </a:lnTo>
                    <a:lnTo>
                      <a:pt x="862" y="339"/>
                    </a:lnTo>
                    <a:lnTo>
                      <a:pt x="862" y="332"/>
                    </a:lnTo>
                    <a:close/>
                    <a:moveTo>
                      <a:pt x="912" y="332"/>
                    </a:moveTo>
                    <a:lnTo>
                      <a:pt x="941" y="332"/>
                    </a:lnTo>
                    <a:lnTo>
                      <a:pt x="941" y="339"/>
                    </a:lnTo>
                    <a:lnTo>
                      <a:pt x="912" y="339"/>
                    </a:lnTo>
                    <a:lnTo>
                      <a:pt x="912" y="332"/>
                    </a:lnTo>
                    <a:close/>
                    <a:moveTo>
                      <a:pt x="962" y="332"/>
                    </a:moveTo>
                    <a:lnTo>
                      <a:pt x="991" y="332"/>
                    </a:lnTo>
                    <a:lnTo>
                      <a:pt x="991" y="339"/>
                    </a:lnTo>
                    <a:lnTo>
                      <a:pt x="962" y="339"/>
                    </a:lnTo>
                    <a:lnTo>
                      <a:pt x="962" y="332"/>
                    </a:lnTo>
                    <a:close/>
                    <a:moveTo>
                      <a:pt x="1013" y="332"/>
                    </a:moveTo>
                    <a:lnTo>
                      <a:pt x="1042" y="332"/>
                    </a:lnTo>
                    <a:lnTo>
                      <a:pt x="1042" y="339"/>
                    </a:lnTo>
                    <a:lnTo>
                      <a:pt x="1013" y="339"/>
                    </a:lnTo>
                    <a:lnTo>
                      <a:pt x="1013" y="332"/>
                    </a:lnTo>
                    <a:close/>
                    <a:moveTo>
                      <a:pt x="1063" y="332"/>
                    </a:moveTo>
                    <a:lnTo>
                      <a:pt x="1092" y="332"/>
                    </a:lnTo>
                    <a:lnTo>
                      <a:pt x="1092" y="339"/>
                    </a:lnTo>
                    <a:lnTo>
                      <a:pt x="1063" y="339"/>
                    </a:lnTo>
                    <a:lnTo>
                      <a:pt x="1063" y="332"/>
                    </a:lnTo>
                    <a:close/>
                    <a:moveTo>
                      <a:pt x="1114" y="332"/>
                    </a:moveTo>
                    <a:lnTo>
                      <a:pt x="1143" y="332"/>
                    </a:lnTo>
                    <a:lnTo>
                      <a:pt x="1143" y="339"/>
                    </a:lnTo>
                    <a:lnTo>
                      <a:pt x="1114" y="339"/>
                    </a:lnTo>
                    <a:lnTo>
                      <a:pt x="1114" y="332"/>
                    </a:lnTo>
                    <a:close/>
                    <a:moveTo>
                      <a:pt x="1164" y="332"/>
                    </a:moveTo>
                    <a:lnTo>
                      <a:pt x="1193" y="332"/>
                    </a:lnTo>
                    <a:lnTo>
                      <a:pt x="1193" y="339"/>
                    </a:lnTo>
                    <a:lnTo>
                      <a:pt x="1164" y="339"/>
                    </a:lnTo>
                    <a:lnTo>
                      <a:pt x="1164" y="332"/>
                    </a:lnTo>
                    <a:close/>
                    <a:moveTo>
                      <a:pt x="1215" y="332"/>
                    </a:moveTo>
                    <a:lnTo>
                      <a:pt x="1243" y="332"/>
                    </a:lnTo>
                    <a:lnTo>
                      <a:pt x="1243" y="339"/>
                    </a:lnTo>
                    <a:lnTo>
                      <a:pt x="1215" y="339"/>
                    </a:lnTo>
                    <a:lnTo>
                      <a:pt x="1215" y="332"/>
                    </a:lnTo>
                    <a:close/>
                    <a:moveTo>
                      <a:pt x="1265" y="332"/>
                    </a:moveTo>
                    <a:lnTo>
                      <a:pt x="1294" y="332"/>
                    </a:lnTo>
                    <a:lnTo>
                      <a:pt x="1294" y="339"/>
                    </a:lnTo>
                    <a:lnTo>
                      <a:pt x="1265" y="339"/>
                    </a:lnTo>
                    <a:lnTo>
                      <a:pt x="1265" y="332"/>
                    </a:lnTo>
                    <a:close/>
                    <a:moveTo>
                      <a:pt x="1315" y="332"/>
                    </a:moveTo>
                    <a:lnTo>
                      <a:pt x="1344" y="332"/>
                    </a:lnTo>
                    <a:lnTo>
                      <a:pt x="1344" y="339"/>
                    </a:lnTo>
                    <a:lnTo>
                      <a:pt x="1315" y="339"/>
                    </a:lnTo>
                    <a:lnTo>
                      <a:pt x="1315" y="332"/>
                    </a:lnTo>
                    <a:close/>
                    <a:moveTo>
                      <a:pt x="1366" y="332"/>
                    </a:moveTo>
                    <a:lnTo>
                      <a:pt x="1395" y="332"/>
                    </a:lnTo>
                    <a:lnTo>
                      <a:pt x="1395" y="339"/>
                    </a:lnTo>
                    <a:lnTo>
                      <a:pt x="1366" y="339"/>
                    </a:lnTo>
                    <a:lnTo>
                      <a:pt x="1366" y="332"/>
                    </a:lnTo>
                    <a:close/>
                    <a:moveTo>
                      <a:pt x="1416" y="332"/>
                    </a:moveTo>
                    <a:lnTo>
                      <a:pt x="1445" y="332"/>
                    </a:lnTo>
                    <a:lnTo>
                      <a:pt x="1445" y="339"/>
                    </a:lnTo>
                    <a:lnTo>
                      <a:pt x="1416" y="339"/>
                    </a:lnTo>
                    <a:lnTo>
                      <a:pt x="1416" y="332"/>
                    </a:lnTo>
                    <a:close/>
                    <a:moveTo>
                      <a:pt x="1467" y="332"/>
                    </a:moveTo>
                    <a:lnTo>
                      <a:pt x="1496" y="332"/>
                    </a:lnTo>
                    <a:lnTo>
                      <a:pt x="1496" y="339"/>
                    </a:lnTo>
                    <a:lnTo>
                      <a:pt x="1467" y="339"/>
                    </a:lnTo>
                    <a:lnTo>
                      <a:pt x="1467" y="332"/>
                    </a:lnTo>
                    <a:close/>
                    <a:moveTo>
                      <a:pt x="1517" y="332"/>
                    </a:moveTo>
                    <a:lnTo>
                      <a:pt x="1546" y="332"/>
                    </a:lnTo>
                    <a:lnTo>
                      <a:pt x="1546" y="339"/>
                    </a:lnTo>
                    <a:lnTo>
                      <a:pt x="1517" y="339"/>
                    </a:lnTo>
                    <a:lnTo>
                      <a:pt x="1517" y="332"/>
                    </a:lnTo>
                    <a:close/>
                    <a:moveTo>
                      <a:pt x="1568" y="332"/>
                    </a:moveTo>
                    <a:lnTo>
                      <a:pt x="1596" y="332"/>
                    </a:lnTo>
                    <a:lnTo>
                      <a:pt x="1596" y="339"/>
                    </a:lnTo>
                    <a:lnTo>
                      <a:pt x="1568" y="339"/>
                    </a:lnTo>
                    <a:lnTo>
                      <a:pt x="1568" y="332"/>
                    </a:lnTo>
                    <a:close/>
                    <a:moveTo>
                      <a:pt x="1618" y="332"/>
                    </a:moveTo>
                    <a:lnTo>
                      <a:pt x="1647" y="332"/>
                    </a:lnTo>
                    <a:lnTo>
                      <a:pt x="1647" y="339"/>
                    </a:lnTo>
                    <a:lnTo>
                      <a:pt x="1618" y="339"/>
                    </a:lnTo>
                    <a:lnTo>
                      <a:pt x="1618" y="332"/>
                    </a:lnTo>
                    <a:close/>
                    <a:moveTo>
                      <a:pt x="1668" y="332"/>
                    </a:moveTo>
                    <a:lnTo>
                      <a:pt x="1697" y="332"/>
                    </a:lnTo>
                    <a:lnTo>
                      <a:pt x="1697" y="339"/>
                    </a:lnTo>
                    <a:lnTo>
                      <a:pt x="1668" y="339"/>
                    </a:lnTo>
                    <a:lnTo>
                      <a:pt x="1668" y="332"/>
                    </a:lnTo>
                    <a:close/>
                    <a:moveTo>
                      <a:pt x="1719" y="332"/>
                    </a:moveTo>
                    <a:lnTo>
                      <a:pt x="1748" y="332"/>
                    </a:lnTo>
                    <a:lnTo>
                      <a:pt x="1748" y="339"/>
                    </a:lnTo>
                    <a:lnTo>
                      <a:pt x="1719" y="339"/>
                    </a:lnTo>
                    <a:lnTo>
                      <a:pt x="1719" y="332"/>
                    </a:lnTo>
                    <a:close/>
                    <a:moveTo>
                      <a:pt x="1769" y="332"/>
                    </a:moveTo>
                    <a:lnTo>
                      <a:pt x="1789" y="332"/>
                    </a:lnTo>
                    <a:lnTo>
                      <a:pt x="1785" y="335"/>
                    </a:lnTo>
                    <a:lnTo>
                      <a:pt x="1785" y="326"/>
                    </a:lnTo>
                    <a:lnTo>
                      <a:pt x="1793" y="326"/>
                    </a:lnTo>
                    <a:lnTo>
                      <a:pt x="1793" y="339"/>
                    </a:lnTo>
                    <a:lnTo>
                      <a:pt x="1769" y="339"/>
                    </a:lnTo>
                    <a:lnTo>
                      <a:pt x="1769" y="332"/>
                    </a:lnTo>
                    <a:close/>
                    <a:moveTo>
                      <a:pt x="1785" y="305"/>
                    </a:moveTo>
                    <a:lnTo>
                      <a:pt x="1785" y="276"/>
                    </a:lnTo>
                    <a:lnTo>
                      <a:pt x="1793" y="276"/>
                    </a:lnTo>
                    <a:lnTo>
                      <a:pt x="1793" y="305"/>
                    </a:lnTo>
                    <a:lnTo>
                      <a:pt x="1785" y="305"/>
                    </a:lnTo>
                    <a:close/>
                    <a:moveTo>
                      <a:pt x="1785" y="254"/>
                    </a:moveTo>
                    <a:lnTo>
                      <a:pt x="1785" y="225"/>
                    </a:lnTo>
                    <a:lnTo>
                      <a:pt x="1793" y="225"/>
                    </a:lnTo>
                    <a:lnTo>
                      <a:pt x="1793" y="254"/>
                    </a:lnTo>
                    <a:lnTo>
                      <a:pt x="1785" y="254"/>
                    </a:lnTo>
                    <a:close/>
                    <a:moveTo>
                      <a:pt x="1785" y="204"/>
                    </a:moveTo>
                    <a:lnTo>
                      <a:pt x="1785" y="175"/>
                    </a:lnTo>
                    <a:lnTo>
                      <a:pt x="1793" y="175"/>
                    </a:lnTo>
                    <a:lnTo>
                      <a:pt x="1793" y="204"/>
                    </a:lnTo>
                    <a:lnTo>
                      <a:pt x="1785" y="204"/>
                    </a:lnTo>
                    <a:close/>
                    <a:moveTo>
                      <a:pt x="1785" y="153"/>
                    </a:moveTo>
                    <a:lnTo>
                      <a:pt x="1785" y="124"/>
                    </a:lnTo>
                    <a:lnTo>
                      <a:pt x="1793" y="124"/>
                    </a:lnTo>
                    <a:lnTo>
                      <a:pt x="1793" y="153"/>
                    </a:lnTo>
                    <a:lnTo>
                      <a:pt x="1785" y="153"/>
                    </a:lnTo>
                    <a:close/>
                    <a:moveTo>
                      <a:pt x="1785" y="103"/>
                    </a:moveTo>
                    <a:lnTo>
                      <a:pt x="1785" y="74"/>
                    </a:lnTo>
                    <a:lnTo>
                      <a:pt x="1793" y="74"/>
                    </a:lnTo>
                    <a:lnTo>
                      <a:pt x="1793" y="103"/>
                    </a:lnTo>
                    <a:lnTo>
                      <a:pt x="1785" y="103"/>
                    </a:lnTo>
                    <a:close/>
                    <a:moveTo>
                      <a:pt x="1785" y="52"/>
                    </a:moveTo>
                    <a:lnTo>
                      <a:pt x="1785" y="24"/>
                    </a:lnTo>
                    <a:lnTo>
                      <a:pt x="1793" y="24"/>
                    </a:lnTo>
                    <a:lnTo>
                      <a:pt x="1793" y="52"/>
                    </a:lnTo>
                    <a:lnTo>
                      <a:pt x="178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17"/>
            <p:cNvGrpSpPr/>
            <p:nvPr/>
          </p:nvGrpSpPr>
          <p:grpSpPr>
            <a:xfrm>
              <a:off x="3388680" y="1658160"/>
              <a:ext cx="523800" cy="322560"/>
              <a:chOff x="3388680" y="1658160"/>
              <a:chExt cx="523800" cy="322560"/>
            </a:xfrm>
          </p:grpSpPr>
          <p:sp>
            <p:nvSpPr>
              <p:cNvPr id="79" name="Rectangle 15"/>
              <p:cNvSpPr/>
              <p:nvPr/>
            </p:nvSpPr>
            <p:spPr>
              <a:xfrm>
                <a:off x="3388680" y="1658160"/>
                <a:ext cx="52380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6"/>
              <p:cNvSpPr/>
              <p:nvPr/>
            </p:nvSpPr>
            <p:spPr>
              <a:xfrm>
                <a:off x="3388680" y="1658160"/>
                <a:ext cx="52380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18"/>
            <p:cNvSpPr/>
            <p:nvPr/>
          </p:nvSpPr>
          <p:spPr>
            <a:xfrm>
              <a:off x="3515760" y="1729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3832560" y="172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5795640" y="16718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5956560" y="16718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4271040" y="1399680"/>
              <a:ext cx="78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(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4897800" y="1399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27"/>
            <p:cNvGrpSpPr/>
            <p:nvPr/>
          </p:nvGrpSpPr>
          <p:grpSpPr>
            <a:xfrm>
              <a:off x="2263680" y="1668960"/>
              <a:ext cx="814320" cy="277920"/>
              <a:chOff x="2263680" y="1668960"/>
              <a:chExt cx="814320" cy="277920"/>
            </a:xfrm>
          </p:grpSpPr>
          <p:sp>
            <p:nvSpPr>
              <p:cNvPr id="88" name="Rectangle 25"/>
              <p:cNvSpPr/>
              <p:nvPr/>
            </p:nvSpPr>
            <p:spPr>
              <a:xfrm>
                <a:off x="2263680" y="1668960"/>
                <a:ext cx="81432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26"/>
              <p:cNvSpPr/>
              <p:nvPr/>
            </p:nvSpPr>
            <p:spPr>
              <a:xfrm>
                <a:off x="2263680" y="1668960"/>
                <a:ext cx="814320" cy="27792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Rectangle 28"/>
            <p:cNvSpPr/>
            <p:nvPr/>
          </p:nvSpPr>
          <p:spPr>
            <a:xfrm>
              <a:off x="2435400" y="174924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or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2934720" y="1749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0"/>
            <p:cNvSpPr/>
            <p:nvPr/>
          </p:nvSpPr>
          <p:spPr>
            <a:xfrm>
              <a:off x="3070440" y="1769400"/>
              <a:ext cx="163440" cy="89640"/>
            </a:xfrm>
            <a:custGeom>
              <a:avLst/>
              <a:gdLst/>
              <a:ahLst/>
              <a:rect l="l" t="t" r="r" b="b"/>
              <a:pathLst>
                <a:path w="1467" h="800">
                  <a:moveTo>
                    <a:pt x="67" y="333"/>
                  </a:moveTo>
                  <a:lnTo>
                    <a:pt x="800" y="333"/>
                  </a:lnTo>
                  <a:cubicBezTo>
                    <a:pt x="837" y="333"/>
                    <a:pt x="867" y="363"/>
                    <a:pt x="867" y="400"/>
                  </a:cubicBezTo>
                  <a:cubicBezTo>
                    <a:pt x="867" y="437"/>
                    <a:pt x="837" y="467"/>
                    <a:pt x="800" y="467"/>
                  </a:cubicBezTo>
                  <a:lnTo>
                    <a:pt x="67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7" y="333"/>
                  </a:cubicBezTo>
                  <a:close/>
                  <a:moveTo>
                    <a:pt x="667" y="0"/>
                  </a:moveTo>
                  <a:lnTo>
                    <a:pt x="1467" y="400"/>
                  </a:lnTo>
                  <a:lnTo>
                    <a:pt x="667" y="80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1"/>
            <p:cNvSpPr/>
            <p:nvPr/>
          </p:nvSpPr>
          <p:spPr>
            <a:xfrm>
              <a:off x="2258640" y="1339560"/>
              <a:ext cx="3731400" cy="10800"/>
            </a:xfrm>
            <a:custGeom>
              <a:avLst/>
              <a:gdLst/>
              <a:ahLst/>
              <a:rect l="l" t="t" r="r" b="b"/>
              <a:pathLst>
                <a:path w="16757" h="50">
                  <a:moveTo>
                    <a:pt x="25" y="0"/>
                  </a:moveTo>
                  <a:lnTo>
                    <a:pt x="375" y="0"/>
                  </a:lnTo>
                  <a:cubicBezTo>
                    <a:pt x="389" y="0"/>
                    <a:pt x="400" y="12"/>
                    <a:pt x="400" y="25"/>
                  </a:cubicBezTo>
                  <a:cubicBezTo>
                    <a:pt x="400" y="39"/>
                    <a:pt x="389" y="50"/>
                    <a:pt x="375" y="50"/>
                  </a:cubicBezTo>
                  <a:lnTo>
                    <a:pt x="25" y="50"/>
                  </a:lnTo>
                  <a:cubicBezTo>
                    <a:pt x="12" y="50"/>
                    <a:pt x="0" y="39"/>
                    <a:pt x="0" y="25"/>
                  </a:cubicBezTo>
                  <a:cubicBezTo>
                    <a:pt x="0" y="12"/>
                    <a:pt x="12" y="0"/>
                    <a:pt x="25" y="0"/>
                  </a:cubicBezTo>
                  <a:close/>
                  <a:moveTo>
                    <a:pt x="575" y="0"/>
                  </a:moveTo>
                  <a:lnTo>
                    <a:pt x="576" y="0"/>
                  </a:lnTo>
                  <a:cubicBezTo>
                    <a:pt x="589" y="0"/>
                    <a:pt x="601" y="12"/>
                    <a:pt x="601" y="25"/>
                  </a:cubicBezTo>
                  <a:cubicBezTo>
                    <a:pt x="601" y="39"/>
                    <a:pt x="589" y="50"/>
                    <a:pt x="576" y="50"/>
                  </a:cubicBezTo>
                  <a:lnTo>
                    <a:pt x="575" y="50"/>
                  </a:lnTo>
                  <a:cubicBezTo>
                    <a:pt x="562" y="50"/>
                    <a:pt x="550" y="39"/>
                    <a:pt x="550" y="25"/>
                  </a:cubicBezTo>
                  <a:cubicBezTo>
                    <a:pt x="550" y="12"/>
                    <a:pt x="562" y="0"/>
                    <a:pt x="575" y="0"/>
                  </a:cubicBezTo>
                  <a:close/>
                  <a:moveTo>
                    <a:pt x="776" y="0"/>
                  </a:moveTo>
                  <a:lnTo>
                    <a:pt x="1126" y="0"/>
                  </a:lnTo>
                  <a:cubicBezTo>
                    <a:pt x="1139" y="0"/>
                    <a:pt x="1151" y="12"/>
                    <a:pt x="1151" y="25"/>
                  </a:cubicBezTo>
                  <a:cubicBezTo>
                    <a:pt x="1151" y="39"/>
                    <a:pt x="1139" y="50"/>
                    <a:pt x="1126" y="50"/>
                  </a:cubicBezTo>
                  <a:lnTo>
                    <a:pt x="776" y="50"/>
                  </a:lnTo>
                  <a:cubicBezTo>
                    <a:pt x="762" y="50"/>
                    <a:pt x="751" y="39"/>
                    <a:pt x="751" y="25"/>
                  </a:cubicBezTo>
                  <a:cubicBezTo>
                    <a:pt x="751" y="12"/>
                    <a:pt x="762" y="0"/>
                    <a:pt x="776" y="0"/>
                  </a:cubicBezTo>
                  <a:close/>
                  <a:moveTo>
                    <a:pt x="1326" y="0"/>
                  </a:moveTo>
                  <a:lnTo>
                    <a:pt x="1326" y="0"/>
                  </a:lnTo>
                  <a:cubicBezTo>
                    <a:pt x="1339" y="0"/>
                    <a:pt x="1351" y="12"/>
                    <a:pt x="1351" y="25"/>
                  </a:cubicBezTo>
                  <a:cubicBezTo>
                    <a:pt x="1351" y="39"/>
                    <a:pt x="1339" y="50"/>
                    <a:pt x="1326" y="50"/>
                  </a:cubicBezTo>
                  <a:lnTo>
                    <a:pt x="1326" y="50"/>
                  </a:lnTo>
                  <a:cubicBezTo>
                    <a:pt x="1312" y="50"/>
                    <a:pt x="1301" y="39"/>
                    <a:pt x="1301" y="25"/>
                  </a:cubicBezTo>
                  <a:cubicBezTo>
                    <a:pt x="1301" y="12"/>
                    <a:pt x="1312" y="0"/>
                    <a:pt x="1326" y="0"/>
                  </a:cubicBezTo>
                  <a:close/>
                  <a:moveTo>
                    <a:pt x="1526" y="0"/>
                  </a:moveTo>
                  <a:lnTo>
                    <a:pt x="1876" y="0"/>
                  </a:lnTo>
                  <a:cubicBezTo>
                    <a:pt x="1889" y="0"/>
                    <a:pt x="1901" y="12"/>
                    <a:pt x="1901" y="25"/>
                  </a:cubicBezTo>
                  <a:cubicBezTo>
                    <a:pt x="1901" y="39"/>
                    <a:pt x="1889" y="50"/>
                    <a:pt x="1876" y="50"/>
                  </a:cubicBezTo>
                  <a:lnTo>
                    <a:pt x="1526" y="50"/>
                  </a:lnTo>
                  <a:cubicBezTo>
                    <a:pt x="1512" y="50"/>
                    <a:pt x="1501" y="39"/>
                    <a:pt x="1501" y="25"/>
                  </a:cubicBezTo>
                  <a:cubicBezTo>
                    <a:pt x="1501" y="12"/>
                    <a:pt x="1512" y="0"/>
                    <a:pt x="1526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9" y="0"/>
                    <a:pt x="2101" y="12"/>
                    <a:pt x="2101" y="25"/>
                  </a:cubicBezTo>
                  <a:cubicBezTo>
                    <a:pt x="2101" y="39"/>
                    <a:pt x="2089" y="50"/>
                    <a:pt x="2076" y="50"/>
                  </a:cubicBezTo>
                  <a:lnTo>
                    <a:pt x="2076" y="50"/>
                  </a:lnTo>
                  <a:cubicBezTo>
                    <a:pt x="2062" y="50"/>
                    <a:pt x="2051" y="39"/>
                    <a:pt x="2051" y="25"/>
                  </a:cubicBezTo>
                  <a:cubicBezTo>
                    <a:pt x="2051" y="12"/>
                    <a:pt x="2062" y="0"/>
                    <a:pt x="2076" y="0"/>
                  </a:cubicBezTo>
                  <a:close/>
                  <a:moveTo>
                    <a:pt x="2276" y="0"/>
                  </a:moveTo>
                  <a:lnTo>
                    <a:pt x="2626" y="0"/>
                  </a:lnTo>
                  <a:cubicBezTo>
                    <a:pt x="2639" y="0"/>
                    <a:pt x="2651" y="12"/>
                    <a:pt x="2651" y="25"/>
                  </a:cubicBezTo>
                  <a:cubicBezTo>
                    <a:pt x="2651" y="39"/>
                    <a:pt x="2639" y="50"/>
                    <a:pt x="2626" y="50"/>
                  </a:cubicBezTo>
                  <a:lnTo>
                    <a:pt x="2276" y="50"/>
                  </a:lnTo>
                  <a:cubicBezTo>
                    <a:pt x="2262" y="50"/>
                    <a:pt x="2251" y="39"/>
                    <a:pt x="2251" y="25"/>
                  </a:cubicBezTo>
                  <a:cubicBezTo>
                    <a:pt x="2251" y="12"/>
                    <a:pt x="2262" y="0"/>
                    <a:pt x="2276" y="0"/>
                  </a:cubicBezTo>
                  <a:close/>
                  <a:moveTo>
                    <a:pt x="2826" y="0"/>
                  </a:moveTo>
                  <a:lnTo>
                    <a:pt x="2826" y="0"/>
                  </a:lnTo>
                  <a:cubicBezTo>
                    <a:pt x="2839" y="0"/>
                    <a:pt x="2851" y="12"/>
                    <a:pt x="2851" y="25"/>
                  </a:cubicBezTo>
                  <a:cubicBezTo>
                    <a:pt x="2851" y="39"/>
                    <a:pt x="2839" y="50"/>
                    <a:pt x="2826" y="50"/>
                  </a:cubicBezTo>
                  <a:lnTo>
                    <a:pt x="2826" y="50"/>
                  </a:lnTo>
                  <a:cubicBezTo>
                    <a:pt x="2812" y="50"/>
                    <a:pt x="2801" y="39"/>
                    <a:pt x="2801" y="25"/>
                  </a:cubicBezTo>
                  <a:cubicBezTo>
                    <a:pt x="2801" y="12"/>
                    <a:pt x="2812" y="0"/>
                    <a:pt x="2826" y="0"/>
                  </a:cubicBezTo>
                  <a:close/>
                  <a:moveTo>
                    <a:pt x="3026" y="0"/>
                  </a:moveTo>
                  <a:lnTo>
                    <a:pt x="3376" y="0"/>
                  </a:lnTo>
                  <a:cubicBezTo>
                    <a:pt x="3389" y="0"/>
                    <a:pt x="3401" y="12"/>
                    <a:pt x="3401" y="25"/>
                  </a:cubicBezTo>
                  <a:cubicBezTo>
                    <a:pt x="3401" y="39"/>
                    <a:pt x="3389" y="50"/>
                    <a:pt x="3376" y="50"/>
                  </a:cubicBezTo>
                  <a:lnTo>
                    <a:pt x="3026" y="50"/>
                  </a:lnTo>
                  <a:cubicBezTo>
                    <a:pt x="3012" y="50"/>
                    <a:pt x="3001" y="39"/>
                    <a:pt x="3001" y="25"/>
                  </a:cubicBezTo>
                  <a:cubicBezTo>
                    <a:pt x="3001" y="12"/>
                    <a:pt x="3012" y="0"/>
                    <a:pt x="3026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90" y="0"/>
                    <a:pt x="3601" y="12"/>
                    <a:pt x="3601" y="25"/>
                  </a:cubicBezTo>
                  <a:cubicBezTo>
                    <a:pt x="3601" y="39"/>
                    <a:pt x="3590" y="50"/>
                    <a:pt x="3576" y="50"/>
                  </a:cubicBezTo>
                  <a:lnTo>
                    <a:pt x="3576" y="50"/>
                  </a:lnTo>
                  <a:cubicBezTo>
                    <a:pt x="3562" y="50"/>
                    <a:pt x="3551" y="39"/>
                    <a:pt x="3551" y="25"/>
                  </a:cubicBezTo>
                  <a:cubicBezTo>
                    <a:pt x="3551" y="12"/>
                    <a:pt x="3562" y="0"/>
                    <a:pt x="3576" y="0"/>
                  </a:cubicBezTo>
                  <a:close/>
                  <a:moveTo>
                    <a:pt x="3776" y="0"/>
                  </a:moveTo>
                  <a:lnTo>
                    <a:pt x="4126" y="0"/>
                  </a:lnTo>
                  <a:cubicBezTo>
                    <a:pt x="4140" y="0"/>
                    <a:pt x="4151" y="12"/>
                    <a:pt x="4151" y="25"/>
                  </a:cubicBezTo>
                  <a:cubicBezTo>
                    <a:pt x="4151" y="39"/>
                    <a:pt x="4140" y="50"/>
                    <a:pt x="4126" y="50"/>
                  </a:cubicBezTo>
                  <a:lnTo>
                    <a:pt x="3776" y="50"/>
                  </a:lnTo>
                  <a:cubicBezTo>
                    <a:pt x="3762" y="50"/>
                    <a:pt x="3751" y="39"/>
                    <a:pt x="3751" y="25"/>
                  </a:cubicBezTo>
                  <a:cubicBezTo>
                    <a:pt x="3751" y="12"/>
                    <a:pt x="3762" y="0"/>
                    <a:pt x="3776" y="0"/>
                  </a:cubicBezTo>
                  <a:close/>
                  <a:moveTo>
                    <a:pt x="4326" y="0"/>
                  </a:moveTo>
                  <a:lnTo>
                    <a:pt x="4326" y="0"/>
                  </a:lnTo>
                  <a:cubicBezTo>
                    <a:pt x="4340" y="0"/>
                    <a:pt x="4351" y="12"/>
                    <a:pt x="4351" y="25"/>
                  </a:cubicBezTo>
                  <a:cubicBezTo>
                    <a:pt x="4351" y="39"/>
                    <a:pt x="4340" y="50"/>
                    <a:pt x="4326" y="50"/>
                  </a:cubicBezTo>
                  <a:lnTo>
                    <a:pt x="4326" y="50"/>
                  </a:lnTo>
                  <a:cubicBezTo>
                    <a:pt x="4312" y="50"/>
                    <a:pt x="4301" y="39"/>
                    <a:pt x="4301" y="25"/>
                  </a:cubicBezTo>
                  <a:cubicBezTo>
                    <a:pt x="4301" y="12"/>
                    <a:pt x="4312" y="0"/>
                    <a:pt x="4326" y="0"/>
                  </a:cubicBezTo>
                  <a:close/>
                  <a:moveTo>
                    <a:pt x="4526" y="0"/>
                  </a:moveTo>
                  <a:lnTo>
                    <a:pt x="4876" y="0"/>
                  </a:lnTo>
                  <a:cubicBezTo>
                    <a:pt x="4890" y="0"/>
                    <a:pt x="4901" y="12"/>
                    <a:pt x="4901" y="25"/>
                  </a:cubicBezTo>
                  <a:cubicBezTo>
                    <a:pt x="4901" y="39"/>
                    <a:pt x="4890" y="50"/>
                    <a:pt x="4876" y="50"/>
                  </a:cubicBezTo>
                  <a:lnTo>
                    <a:pt x="4526" y="50"/>
                  </a:lnTo>
                  <a:cubicBezTo>
                    <a:pt x="4512" y="50"/>
                    <a:pt x="4501" y="39"/>
                    <a:pt x="4501" y="25"/>
                  </a:cubicBezTo>
                  <a:cubicBezTo>
                    <a:pt x="4501" y="12"/>
                    <a:pt x="4512" y="0"/>
                    <a:pt x="4526" y="0"/>
                  </a:cubicBezTo>
                  <a:close/>
                  <a:moveTo>
                    <a:pt x="5076" y="0"/>
                  </a:moveTo>
                  <a:lnTo>
                    <a:pt x="5076" y="0"/>
                  </a:lnTo>
                  <a:cubicBezTo>
                    <a:pt x="5090" y="0"/>
                    <a:pt x="5101" y="12"/>
                    <a:pt x="5101" y="25"/>
                  </a:cubicBezTo>
                  <a:cubicBezTo>
                    <a:pt x="5101" y="39"/>
                    <a:pt x="5090" y="50"/>
                    <a:pt x="5076" y="50"/>
                  </a:cubicBezTo>
                  <a:lnTo>
                    <a:pt x="5076" y="50"/>
                  </a:lnTo>
                  <a:cubicBezTo>
                    <a:pt x="5062" y="50"/>
                    <a:pt x="5051" y="39"/>
                    <a:pt x="5051" y="25"/>
                  </a:cubicBezTo>
                  <a:cubicBezTo>
                    <a:pt x="5051" y="12"/>
                    <a:pt x="5062" y="0"/>
                    <a:pt x="5076" y="0"/>
                  </a:cubicBezTo>
                  <a:close/>
                  <a:moveTo>
                    <a:pt x="5276" y="0"/>
                  </a:moveTo>
                  <a:lnTo>
                    <a:pt x="5626" y="0"/>
                  </a:lnTo>
                  <a:cubicBezTo>
                    <a:pt x="5640" y="0"/>
                    <a:pt x="5651" y="12"/>
                    <a:pt x="5651" y="25"/>
                  </a:cubicBezTo>
                  <a:cubicBezTo>
                    <a:pt x="5651" y="39"/>
                    <a:pt x="5640" y="50"/>
                    <a:pt x="5626" y="50"/>
                  </a:cubicBezTo>
                  <a:lnTo>
                    <a:pt x="5276" y="50"/>
                  </a:lnTo>
                  <a:cubicBezTo>
                    <a:pt x="5262" y="50"/>
                    <a:pt x="5251" y="39"/>
                    <a:pt x="5251" y="25"/>
                  </a:cubicBezTo>
                  <a:cubicBezTo>
                    <a:pt x="5251" y="12"/>
                    <a:pt x="5262" y="0"/>
                    <a:pt x="5276" y="0"/>
                  </a:cubicBezTo>
                  <a:close/>
                  <a:moveTo>
                    <a:pt x="5826" y="0"/>
                  </a:moveTo>
                  <a:lnTo>
                    <a:pt x="5826" y="0"/>
                  </a:lnTo>
                  <a:cubicBezTo>
                    <a:pt x="5840" y="0"/>
                    <a:pt x="5851" y="12"/>
                    <a:pt x="5851" y="25"/>
                  </a:cubicBezTo>
                  <a:cubicBezTo>
                    <a:pt x="5851" y="39"/>
                    <a:pt x="5840" y="50"/>
                    <a:pt x="5826" y="50"/>
                  </a:cubicBezTo>
                  <a:lnTo>
                    <a:pt x="5826" y="50"/>
                  </a:lnTo>
                  <a:cubicBezTo>
                    <a:pt x="5812" y="50"/>
                    <a:pt x="5801" y="39"/>
                    <a:pt x="5801" y="25"/>
                  </a:cubicBezTo>
                  <a:cubicBezTo>
                    <a:pt x="5801" y="12"/>
                    <a:pt x="5812" y="0"/>
                    <a:pt x="5826" y="0"/>
                  </a:cubicBezTo>
                  <a:close/>
                  <a:moveTo>
                    <a:pt x="6026" y="0"/>
                  </a:moveTo>
                  <a:lnTo>
                    <a:pt x="6376" y="0"/>
                  </a:lnTo>
                  <a:cubicBezTo>
                    <a:pt x="6390" y="0"/>
                    <a:pt x="6401" y="12"/>
                    <a:pt x="6401" y="25"/>
                  </a:cubicBezTo>
                  <a:cubicBezTo>
                    <a:pt x="6401" y="39"/>
                    <a:pt x="6390" y="50"/>
                    <a:pt x="6376" y="50"/>
                  </a:cubicBezTo>
                  <a:lnTo>
                    <a:pt x="6026" y="50"/>
                  </a:lnTo>
                  <a:cubicBezTo>
                    <a:pt x="6012" y="50"/>
                    <a:pt x="6001" y="39"/>
                    <a:pt x="6001" y="25"/>
                  </a:cubicBezTo>
                  <a:cubicBezTo>
                    <a:pt x="6001" y="12"/>
                    <a:pt x="6012" y="0"/>
                    <a:pt x="6026" y="0"/>
                  </a:cubicBezTo>
                  <a:close/>
                  <a:moveTo>
                    <a:pt x="6576" y="0"/>
                  </a:moveTo>
                  <a:lnTo>
                    <a:pt x="6576" y="0"/>
                  </a:lnTo>
                  <a:cubicBezTo>
                    <a:pt x="6590" y="0"/>
                    <a:pt x="6601" y="12"/>
                    <a:pt x="6601" y="25"/>
                  </a:cubicBezTo>
                  <a:cubicBezTo>
                    <a:pt x="6601" y="39"/>
                    <a:pt x="6590" y="50"/>
                    <a:pt x="6576" y="50"/>
                  </a:cubicBezTo>
                  <a:lnTo>
                    <a:pt x="6576" y="50"/>
                  </a:lnTo>
                  <a:cubicBezTo>
                    <a:pt x="6562" y="50"/>
                    <a:pt x="6551" y="39"/>
                    <a:pt x="6551" y="25"/>
                  </a:cubicBezTo>
                  <a:cubicBezTo>
                    <a:pt x="6551" y="12"/>
                    <a:pt x="6562" y="0"/>
                    <a:pt x="6576" y="0"/>
                  </a:cubicBezTo>
                  <a:close/>
                  <a:moveTo>
                    <a:pt x="6776" y="0"/>
                  </a:moveTo>
                  <a:lnTo>
                    <a:pt x="7126" y="0"/>
                  </a:lnTo>
                  <a:cubicBezTo>
                    <a:pt x="7140" y="0"/>
                    <a:pt x="7151" y="12"/>
                    <a:pt x="7151" y="25"/>
                  </a:cubicBezTo>
                  <a:cubicBezTo>
                    <a:pt x="7151" y="39"/>
                    <a:pt x="7140" y="50"/>
                    <a:pt x="7126" y="50"/>
                  </a:cubicBezTo>
                  <a:lnTo>
                    <a:pt x="6776" y="50"/>
                  </a:lnTo>
                  <a:cubicBezTo>
                    <a:pt x="6762" y="50"/>
                    <a:pt x="6751" y="39"/>
                    <a:pt x="6751" y="25"/>
                  </a:cubicBezTo>
                  <a:cubicBezTo>
                    <a:pt x="6751" y="12"/>
                    <a:pt x="6762" y="0"/>
                    <a:pt x="6776" y="0"/>
                  </a:cubicBezTo>
                  <a:close/>
                  <a:moveTo>
                    <a:pt x="7326" y="0"/>
                  </a:moveTo>
                  <a:lnTo>
                    <a:pt x="7326" y="0"/>
                  </a:lnTo>
                  <a:cubicBezTo>
                    <a:pt x="7340" y="0"/>
                    <a:pt x="7351" y="12"/>
                    <a:pt x="7351" y="25"/>
                  </a:cubicBezTo>
                  <a:cubicBezTo>
                    <a:pt x="7351" y="39"/>
                    <a:pt x="7340" y="50"/>
                    <a:pt x="7326" y="50"/>
                  </a:cubicBezTo>
                  <a:lnTo>
                    <a:pt x="7326" y="50"/>
                  </a:lnTo>
                  <a:cubicBezTo>
                    <a:pt x="7312" y="50"/>
                    <a:pt x="7301" y="39"/>
                    <a:pt x="7301" y="25"/>
                  </a:cubicBezTo>
                  <a:cubicBezTo>
                    <a:pt x="7301" y="12"/>
                    <a:pt x="7312" y="0"/>
                    <a:pt x="7326" y="0"/>
                  </a:cubicBezTo>
                  <a:close/>
                  <a:moveTo>
                    <a:pt x="7526" y="0"/>
                  </a:moveTo>
                  <a:lnTo>
                    <a:pt x="7876" y="0"/>
                  </a:lnTo>
                  <a:cubicBezTo>
                    <a:pt x="7890" y="0"/>
                    <a:pt x="7901" y="12"/>
                    <a:pt x="7901" y="25"/>
                  </a:cubicBezTo>
                  <a:cubicBezTo>
                    <a:pt x="7901" y="39"/>
                    <a:pt x="7890" y="50"/>
                    <a:pt x="7876" y="50"/>
                  </a:cubicBezTo>
                  <a:lnTo>
                    <a:pt x="7526" y="50"/>
                  </a:lnTo>
                  <a:cubicBezTo>
                    <a:pt x="7512" y="50"/>
                    <a:pt x="7501" y="39"/>
                    <a:pt x="7501" y="25"/>
                  </a:cubicBezTo>
                  <a:cubicBezTo>
                    <a:pt x="7501" y="12"/>
                    <a:pt x="7512" y="0"/>
                    <a:pt x="7526" y="0"/>
                  </a:cubicBezTo>
                  <a:close/>
                  <a:moveTo>
                    <a:pt x="8076" y="0"/>
                  </a:moveTo>
                  <a:lnTo>
                    <a:pt x="8076" y="0"/>
                  </a:lnTo>
                  <a:cubicBezTo>
                    <a:pt x="8090" y="0"/>
                    <a:pt x="8101" y="12"/>
                    <a:pt x="8101" y="25"/>
                  </a:cubicBezTo>
                  <a:cubicBezTo>
                    <a:pt x="8101" y="39"/>
                    <a:pt x="8090" y="50"/>
                    <a:pt x="8076" y="50"/>
                  </a:cubicBezTo>
                  <a:lnTo>
                    <a:pt x="8076" y="50"/>
                  </a:lnTo>
                  <a:cubicBezTo>
                    <a:pt x="8062" y="50"/>
                    <a:pt x="8051" y="39"/>
                    <a:pt x="8051" y="25"/>
                  </a:cubicBezTo>
                  <a:cubicBezTo>
                    <a:pt x="8051" y="12"/>
                    <a:pt x="8062" y="0"/>
                    <a:pt x="8076" y="0"/>
                  </a:cubicBezTo>
                  <a:close/>
                  <a:moveTo>
                    <a:pt x="8276" y="0"/>
                  </a:moveTo>
                  <a:lnTo>
                    <a:pt x="8626" y="0"/>
                  </a:lnTo>
                  <a:cubicBezTo>
                    <a:pt x="8640" y="0"/>
                    <a:pt x="8651" y="12"/>
                    <a:pt x="8651" y="25"/>
                  </a:cubicBezTo>
                  <a:cubicBezTo>
                    <a:pt x="8651" y="39"/>
                    <a:pt x="8640" y="50"/>
                    <a:pt x="8626" y="50"/>
                  </a:cubicBezTo>
                  <a:lnTo>
                    <a:pt x="8276" y="50"/>
                  </a:lnTo>
                  <a:cubicBezTo>
                    <a:pt x="8262" y="50"/>
                    <a:pt x="8251" y="39"/>
                    <a:pt x="8251" y="25"/>
                  </a:cubicBezTo>
                  <a:cubicBezTo>
                    <a:pt x="8251" y="12"/>
                    <a:pt x="8262" y="0"/>
                    <a:pt x="8276" y="0"/>
                  </a:cubicBezTo>
                  <a:close/>
                  <a:moveTo>
                    <a:pt x="8826" y="0"/>
                  </a:moveTo>
                  <a:lnTo>
                    <a:pt x="8826" y="0"/>
                  </a:lnTo>
                  <a:cubicBezTo>
                    <a:pt x="8840" y="0"/>
                    <a:pt x="8851" y="12"/>
                    <a:pt x="8851" y="25"/>
                  </a:cubicBezTo>
                  <a:cubicBezTo>
                    <a:pt x="8851" y="39"/>
                    <a:pt x="8840" y="50"/>
                    <a:pt x="8826" y="50"/>
                  </a:cubicBezTo>
                  <a:lnTo>
                    <a:pt x="8826" y="50"/>
                  </a:lnTo>
                  <a:cubicBezTo>
                    <a:pt x="8812" y="50"/>
                    <a:pt x="8801" y="39"/>
                    <a:pt x="8801" y="25"/>
                  </a:cubicBezTo>
                  <a:cubicBezTo>
                    <a:pt x="8801" y="12"/>
                    <a:pt x="8812" y="0"/>
                    <a:pt x="8826" y="0"/>
                  </a:cubicBezTo>
                  <a:close/>
                  <a:moveTo>
                    <a:pt x="9026" y="0"/>
                  </a:moveTo>
                  <a:lnTo>
                    <a:pt x="9376" y="0"/>
                  </a:lnTo>
                  <a:cubicBezTo>
                    <a:pt x="9390" y="0"/>
                    <a:pt x="9401" y="12"/>
                    <a:pt x="9401" y="25"/>
                  </a:cubicBezTo>
                  <a:cubicBezTo>
                    <a:pt x="9401" y="39"/>
                    <a:pt x="9390" y="50"/>
                    <a:pt x="9376" y="50"/>
                  </a:cubicBezTo>
                  <a:lnTo>
                    <a:pt x="9026" y="50"/>
                  </a:lnTo>
                  <a:cubicBezTo>
                    <a:pt x="9012" y="50"/>
                    <a:pt x="9001" y="39"/>
                    <a:pt x="9001" y="25"/>
                  </a:cubicBezTo>
                  <a:cubicBezTo>
                    <a:pt x="9001" y="12"/>
                    <a:pt x="9012" y="0"/>
                    <a:pt x="9026" y="0"/>
                  </a:cubicBezTo>
                  <a:close/>
                  <a:moveTo>
                    <a:pt x="9576" y="0"/>
                  </a:moveTo>
                  <a:lnTo>
                    <a:pt x="9576" y="0"/>
                  </a:lnTo>
                  <a:cubicBezTo>
                    <a:pt x="9590" y="0"/>
                    <a:pt x="9601" y="12"/>
                    <a:pt x="9601" y="25"/>
                  </a:cubicBezTo>
                  <a:cubicBezTo>
                    <a:pt x="9601" y="39"/>
                    <a:pt x="9590" y="50"/>
                    <a:pt x="9576" y="50"/>
                  </a:cubicBezTo>
                  <a:lnTo>
                    <a:pt x="9576" y="50"/>
                  </a:lnTo>
                  <a:cubicBezTo>
                    <a:pt x="9562" y="50"/>
                    <a:pt x="9551" y="39"/>
                    <a:pt x="9551" y="25"/>
                  </a:cubicBezTo>
                  <a:cubicBezTo>
                    <a:pt x="9551" y="12"/>
                    <a:pt x="9562" y="0"/>
                    <a:pt x="9576" y="0"/>
                  </a:cubicBezTo>
                  <a:close/>
                  <a:moveTo>
                    <a:pt x="9776" y="0"/>
                  </a:moveTo>
                  <a:lnTo>
                    <a:pt x="10126" y="0"/>
                  </a:lnTo>
                  <a:cubicBezTo>
                    <a:pt x="10140" y="0"/>
                    <a:pt x="10151" y="12"/>
                    <a:pt x="10151" y="25"/>
                  </a:cubicBezTo>
                  <a:cubicBezTo>
                    <a:pt x="10151" y="39"/>
                    <a:pt x="10140" y="50"/>
                    <a:pt x="10126" y="50"/>
                  </a:cubicBezTo>
                  <a:lnTo>
                    <a:pt x="9776" y="50"/>
                  </a:lnTo>
                  <a:cubicBezTo>
                    <a:pt x="9762" y="50"/>
                    <a:pt x="9751" y="39"/>
                    <a:pt x="9751" y="25"/>
                  </a:cubicBezTo>
                  <a:cubicBezTo>
                    <a:pt x="9751" y="12"/>
                    <a:pt x="9762" y="0"/>
                    <a:pt x="9776" y="0"/>
                  </a:cubicBezTo>
                  <a:close/>
                  <a:moveTo>
                    <a:pt x="10326" y="0"/>
                  </a:moveTo>
                  <a:lnTo>
                    <a:pt x="10326" y="0"/>
                  </a:lnTo>
                  <a:cubicBezTo>
                    <a:pt x="10340" y="0"/>
                    <a:pt x="10351" y="12"/>
                    <a:pt x="10351" y="25"/>
                  </a:cubicBezTo>
                  <a:cubicBezTo>
                    <a:pt x="10351" y="39"/>
                    <a:pt x="10340" y="50"/>
                    <a:pt x="10326" y="50"/>
                  </a:cubicBezTo>
                  <a:lnTo>
                    <a:pt x="10326" y="50"/>
                  </a:lnTo>
                  <a:cubicBezTo>
                    <a:pt x="10312" y="50"/>
                    <a:pt x="10301" y="39"/>
                    <a:pt x="10301" y="25"/>
                  </a:cubicBezTo>
                  <a:cubicBezTo>
                    <a:pt x="10301" y="12"/>
                    <a:pt x="10312" y="0"/>
                    <a:pt x="10326" y="0"/>
                  </a:cubicBezTo>
                  <a:close/>
                  <a:moveTo>
                    <a:pt x="10526" y="0"/>
                  </a:moveTo>
                  <a:lnTo>
                    <a:pt x="10876" y="0"/>
                  </a:lnTo>
                  <a:cubicBezTo>
                    <a:pt x="10890" y="0"/>
                    <a:pt x="10901" y="12"/>
                    <a:pt x="10901" y="25"/>
                  </a:cubicBezTo>
                  <a:cubicBezTo>
                    <a:pt x="10901" y="39"/>
                    <a:pt x="10890" y="50"/>
                    <a:pt x="10876" y="50"/>
                  </a:cubicBezTo>
                  <a:lnTo>
                    <a:pt x="10526" y="50"/>
                  </a:lnTo>
                  <a:cubicBezTo>
                    <a:pt x="10512" y="50"/>
                    <a:pt x="10501" y="39"/>
                    <a:pt x="10501" y="25"/>
                  </a:cubicBezTo>
                  <a:cubicBezTo>
                    <a:pt x="10501" y="12"/>
                    <a:pt x="10512" y="0"/>
                    <a:pt x="10526" y="0"/>
                  </a:cubicBezTo>
                  <a:close/>
                  <a:moveTo>
                    <a:pt x="11076" y="0"/>
                  </a:moveTo>
                  <a:lnTo>
                    <a:pt x="11076" y="0"/>
                  </a:lnTo>
                  <a:cubicBezTo>
                    <a:pt x="11090" y="0"/>
                    <a:pt x="11101" y="12"/>
                    <a:pt x="11101" y="25"/>
                  </a:cubicBezTo>
                  <a:cubicBezTo>
                    <a:pt x="11101" y="39"/>
                    <a:pt x="11090" y="50"/>
                    <a:pt x="11076" y="50"/>
                  </a:cubicBezTo>
                  <a:lnTo>
                    <a:pt x="11076" y="50"/>
                  </a:lnTo>
                  <a:cubicBezTo>
                    <a:pt x="11062" y="50"/>
                    <a:pt x="11051" y="39"/>
                    <a:pt x="11051" y="25"/>
                  </a:cubicBezTo>
                  <a:cubicBezTo>
                    <a:pt x="11051" y="12"/>
                    <a:pt x="11062" y="0"/>
                    <a:pt x="11076" y="0"/>
                  </a:cubicBezTo>
                  <a:close/>
                  <a:moveTo>
                    <a:pt x="11276" y="0"/>
                  </a:moveTo>
                  <a:lnTo>
                    <a:pt x="11626" y="0"/>
                  </a:lnTo>
                  <a:cubicBezTo>
                    <a:pt x="11640" y="0"/>
                    <a:pt x="11651" y="12"/>
                    <a:pt x="11651" y="25"/>
                  </a:cubicBezTo>
                  <a:cubicBezTo>
                    <a:pt x="11651" y="39"/>
                    <a:pt x="11640" y="50"/>
                    <a:pt x="11626" y="50"/>
                  </a:cubicBezTo>
                  <a:lnTo>
                    <a:pt x="11276" y="50"/>
                  </a:lnTo>
                  <a:cubicBezTo>
                    <a:pt x="11262" y="50"/>
                    <a:pt x="11251" y="39"/>
                    <a:pt x="11251" y="25"/>
                  </a:cubicBezTo>
                  <a:cubicBezTo>
                    <a:pt x="11251" y="12"/>
                    <a:pt x="11262" y="0"/>
                    <a:pt x="11276" y="0"/>
                  </a:cubicBezTo>
                  <a:close/>
                  <a:moveTo>
                    <a:pt x="11826" y="0"/>
                  </a:moveTo>
                  <a:lnTo>
                    <a:pt x="11826" y="0"/>
                  </a:lnTo>
                  <a:cubicBezTo>
                    <a:pt x="11840" y="0"/>
                    <a:pt x="11851" y="12"/>
                    <a:pt x="11851" y="25"/>
                  </a:cubicBezTo>
                  <a:cubicBezTo>
                    <a:pt x="11851" y="39"/>
                    <a:pt x="11840" y="50"/>
                    <a:pt x="11826" y="50"/>
                  </a:cubicBezTo>
                  <a:lnTo>
                    <a:pt x="11826" y="50"/>
                  </a:lnTo>
                  <a:cubicBezTo>
                    <a:pt x="11812" y="50"/>
                    <a:pt x="11801" y="39"/>
                    <a:pt x="11801" y="25"/>
                  </a:cubicBezTo>
                  <a:cubicBezTo>
                    <a:pt x="11801" y="12"/>
                    <a:pt x="11812" y="0"/>
                    <a:pt x="11826" y="0"/>
                  </a:cubicBezTo>
                  <a:close/>
                  <a:moveTo>
                    <a:pt x="12026" y="0"/>
                  </a:moveTo>
                  <a:lnTo>
                    <a:pt x="12376" y="0"/>
                  </a:lnTo>
                  <a:cubicBezTo>
                    <a:pt x="12390" y="0"/>
                    <a:pt x="12401" y="12"/>
                    <a:pt x="12401" y="25"/>
                  </a:cubicBezTo>
                  <a:cubicBezTo>
                    <a:pt x="12401" y="39"/>
                    <a:pt x="12390" y="50"/>
                    <a:pt x="12376" y="50"/>
                  </a:cubicBezTo>
                  <a:lnTo>
                    <a:pt x="12026" y="50"/>
                  </a:lnTo>
                  <a:cubicBezTo>
                    <a:pt x="12012" y="50"/>
                    <a:pt x="12001" y="39"/>
                    <a:pt x="12001" y="25"/>
                  </a:cubicBezTo>
                  <a:cubicBezTo>
                    <a:pt x="12001" y="12"/>
                    <a:pt x="12012" y="0"/>
                    <a:pt x="12026" y="0"/>
                  </a:cubicBezTo>
                  <a:close/>
                  <a:moveTo>
                    <a:pt x="12576" y="0"/>
                  </a:moveTo>
                  <a:lnTo>
                    <a:pt x="12576" y="0"/>
                  </a:lnTo>
                  <a:cubicBezTo>
                    <a:pt x="12590" y="0"/>
                    <a:pt x="12601" y="12"/>
                    <a:pt x="12601" y="25"/>
                  </a:cubicBezTo>
                  <a:cubicBezTo>
                    <a:pt x="12601" y="39"/>
                    <a:pt x="12590" y="50"/>
                    <a:pt x="12576" y="50"/>
                  </a:cubicBezTo>
                  <a:lnTo>
                    <a:pt x="12576" y="50"/>
                  </a:lnTo>
                  <a:cubicBezTo>
                    <a:pt x="12562" y="50"/>
                    <a:pt x="12551" y="39"/>
                    <a:pt x="12551" y="25"/>
                  </a:cubicBezTo>
                  <a:cubicBezTo>
                    <a:pt x="12551" y="12"/>
                    <a:pt x="12562" y="0"/>
                    <a:pt x="12576" y="0"/>
                  </a:cubicBezTo>
                  <a:close/>
                  <a:moveTo>
                    <a:pt x="12776" y="0"/>
                  </a:moveTo>
                  <a:lnTo>
                    <a:pt x="13126" y="0"/>
                  </a:lnTo>
                  <a:cubicBezTo>
                    <a:pt x="13140" y="0"/>
                    <a:pt x="13151" y="12"/>
                    <a:pt x="13151" y="25"/>
                  </a:cubicBezTo>
                  <a:cubicBezTo>
                    <a:pt x="13151" y="39"/>
                    <a:pt x="13140" y="50"/>
                    <a:pt x="13126" y="50"/>
                  </a:cubicBezTo>
                  <a:lnTo>
                    <a:pt x="12776" y="50"/>
                  </a:lnTo>
                  <a:cubicBezTo>
                    <a:pt x="12763" y="50"/>
                    <a:pt x="12751" y="39"/>
                    <a:pt x="12751" y="25"/>
                  </a:cubicBezTo>
                  <a:cubicBezTo>
                    <a:pt x="12751" y="12"/>
                    <a:pt x="12763" y="0"/>
                    <a:pt x="12776" y="0"/>
                  </a:cubicBezTo>
                  <a:close/>
                  <a:moveTo>
                    <a:pt x="13326" y="0"/>
                  </a:moveTo>
                  <a:lnTo>
                    <a:pt x="13326" y="0"/>
                  </a:lnTo>
                  <a:cubicBezTo>
                    <a:pt x="13340" y="0"/>
                    <a:pt x="13351" y="12"/>
                    <a:pt x="13351" y="25"/>
                  </a:cubicBezTo>
                  <a:cubicBezTo>
                    <a:pt x="13351" y="39"/>
                    <a:pt x="13340" y="50"/>
                    <a:pt x="13326" y="50"/>
                  </a:cubicBezTo>
                  <a:lnTo>
                    <a:pt x="13326" y="50"/>
                  </a:lnTo>
                  <a:cubicBezTo>
                    <a:pt x="13313" y="50"/>
                    <a:pt x="13301" y="39"/>
                    <a:pt x="13301" y="25"/>
                  </a:cubicBezTo>
                  <a:cubicBezTo>
                    <a:pt x="13301" y="12"/>
                    <a:pt x="13313" y="0"/>
                    <a:pt x="13326" y="0"/>
                  </a:cubicBezTo>
                  <a:close/>
                  <a:moveTo>
                    <a:pt x="13526" y="0"/>
                  </a:moveTo>
                  <a:lnTo>
                    <a:pt x="13876" y="0"/>
                  </a:lnTo>
                  <a:cubicBezTo>
                    <a:pt x="13890" y="0"/>
                    <a:pt x="13901" y="12"/>
                    <a:pt x="13901" y="25"/>
                  </a:cubicBezTo>
                  <a:cubicBezTo>
                    <a:pt x="13901" y="39"/>
                    <a:pt x="13890" y="50"/>
                    <a:pt x="13876" y="50"/>
                  </a:cubicBezTo>
                  <a:lnTo>
                    <a:pt x="13526" y="50"/>
                  </a:lnTo>
                  <a:cubicBezTo>
                    <a:pt x="13513" y="50"/>
                    <a:pt x="13501" y="39"/>
                    <a:pt x="13501" y="25"/>
                  </a:cubicBezTo>
                  <a:cubicBezTo>
                    <a:pt x="13501" y="12"/>
                    <a:pt x="13513" y="0"/>
                    <a:pt x="13526" y="0"/>
                  </a:cubicBezTo>
                  <a:close/>
                  <a:moveTo>
                    <a:pt x="14076" y="0"/>
                  </a:moveTo>
                  <a:lnTo>
                    <a:pt x="14076" y="0"/>
                  </a:lnTo>
                  <a:cubicBezTo>
                    <a:pt x="14090" y="0"/>
                    <a:pt x="14101" y="12"/>
                    <a:pt x="14101" y="25"/>
                  </a:cubicBezTo>
                  <a:cubicBezTo>
                    <a:pt x="14101" y="39"/>
                    <a:pt x="14090" y="50"/>
                    <a:pt x="14076" y="50"/>
                  </a:cubicBezTo>
                  <a:lnTo>
                    <a:pt x="14076" y="50"/>
                  </a:lnTo>
                  <a:cubicBezTo>
                    <a:pt x="14063" y="50"/>
                    <a:pt x="14051" y="39"/>
                    <a:pt x="14051" y="25"/>
                  </a:cubicBezTo>
                  <a:cubicBezTo>
                    <a:pt x="14051" y="12"/>
                    <a:pt x="14063" y="0"/>
                    <a:pt x="14076" y="0"/>
                  </a:cubicBezTo>
                  <a:close/>
                  <a:moveTo>
                    <a:pt x="14276" y="0"/>
                  </a:moveTo>
                  <a:lnTo>
                    <a:pt x="14626" y="0"/>
                  </a:lnTo>
                  <a:cubicBezTo>
                    <a:pt x="14640" y="0"/>
                    <a:pt x="14651" y="12"/>
                    <a:pt x="14651" y="25"/>
                  </a:cubicBezTo>
                  <a:cubicBezTo>
                    <a:pt x="14651" y="39"/>
                    <a:pt x="14640" y="50"/>
                    <a:pt x="14626" y="50"/>
                  </a:cubicBezTo>
                  <a:lnTo>
                    <a:pt x="14276" y="50"/>
                  </a:lnTo>
                  <a:cubicBezTo>
                    <a:pt x="14263" y="50"/>
                    <a:pt x="14251" y="39"/>
                    <a:pt x="14251" y="25"/>
                  </a:cubicBezTo>
                  <a:cubicBezTo>
                    <a:pt x="14251" y="12"/>
                    <a:pt x="14263" y="0"/>
                    <a:pt x="14276" y="0"/>
                  </a:cubicBezTo>
                  <a:close/>
                  <a:moveTo>
                    <a:pt x="14826" y="0"/>
                  </a:moveTo>
                  <a:lnTo>
                    <a:pt x="14826" y="0"/>
                  </a:lnTo>
                  <a:cubicBezTo>
                    <a:pt x="14840" y="0"/>
                    <a:pt x="14851" y="12"/>
                    <a:pt x="14851" y="25"/>
                  </a:cubicBezTo>
                  <a:cubicBezTo>
                    <a:pt x="14851" y="39"/>
                    <a:pt x="14840" y="50"/>
                    <a:pt x="14826" y="50"/>
                  </a:cubicBezTo>
                  <a:lnTo>
                    <a:pt x="14826" y="50"/>
                  </a:lnTo>
                  <a:cubicBezTo>
                    <a:pt x="14813" y="50"/>
                    <a:pt x="14801" y="39"/>
                    <a:pt x="14801" y="25"/>
                  </a:cubicBezTo>
                  <a:cubicBezTo>
                    <a:pt x="14801" y="12"/>
                    <a:pt x="14813" y="0"/>
                    <a:pt x="14826" y="0"/>
                  </a:cubicBezTo>
                  <a:close/>
                  <a:moveTo>
                    <a:pt x="15026" y="0"/>
                  </a:moveTo>
                  <a:lnTo>
                    <a:pt x="15376" y="0"/>
                  </a:lnTo>
                  <a:cubicBezTo>
                    <a:pt x="15390" y="0"/>
                    <a:pt x="15401" y="12"/>
                    <a:pt x="15401" y="25"/>
                  </a:cubicBezTo>
                  <a:cubicBezTo>
                    <a:pt x="15401" y="39"/>
                    <a:pt x="15390" y="50"/>
                    <a:pt x="15376" y="50"/>
                  </a:cubicBezTo>
                  <a:lnTo>
                    <a:pt x="15026" y="50"/>
                  </a:lnTo>
                  <a:cubicBezTo>
                    <a:pt x="15013" y="50"/>
                    <a:pt x="15001" y="39"/>
                    <a:pt x="15001" y="25"/>
                  </a:cubicBezTo>
                  <a:cubicBezTo>
                    <a:pt x="15001" y="12"/>
                    <a:pt x="15013" y="0"/>
                    <a:pt x="15026" y="0"/>
                  </a:cubicBezTo>
                  <a:close/>
                  <a:moveTo>
                    <a:pt x="15576" y="0"/>
                  </a:moveTo>
                  <a:lnTo>
                    <a:pt x="15577" y="0"/>
                  </a:lnTo>
                  <a:cubicBezTo>
                    <a:pt x="15590" y="0"/>
                    <a:pt x="15602" y="12"/>
                    <a:pt x="15602" y="25"/>
                  </a:cubicBezTo>
                  <a:cubicBezTo>
                    <a:pt x="15602" y="39"/>
                    <a:pt x="15590" y="50"/>
                    <a:pt x="15577" y="50"/>
                  </a:cubicBezTo>
                  <a:lnTo>
                    <a:pt x="15576" y="50"/>
                  </a:lnTo>
                  <a:cubicBezTo>
                    <a:pt x="15563" y="50"/>
                    <a:pt x="15551" y="39"/>
                    <a:pt x="15551" y="25"/>
                  </a:cubicBezTo>
                  <a:cubicBezTo>
                    <a:pt x="15551" y="12"/>
                    <a:pt x="15563" y="0"/>
                    <a:pt x="15576" y="0"/>
                  </a:cubicBezTo>
                  <a:close/>
                  <a:moveTo>
                    <a:pt x="15777" y="0"/>
                  </a:moveTo>
                  <a:lnTo>
                    <a:pt x="16127" y="0"/>
                  </a:lnTo>
                  <a:cubicBezTo>
                    <a:pt x="16140" y="0"/>
                    <a:pt x="16152" y="12"/>
                    <a:pt x="16152" y="25"/>
                  </a:cubicBezTo>
                  <a:cubicBezTo>
                    <a:pt x="16152" y="39"/>
                    <a:pt x="16140" y="50"/>
                    <a:pt x="16127" y="50"/>
                  </a:cubicBezTo>
                  <a:lnTo>
                    <a:pt x="15777" y="50"/>
                  </a:lnTo>
                  <a:cubicBezTo>
                    <a:pt x="15763" y="50"/>
                    <a:pt x="15752" y="39"/>
                    <a:pt x="15752" y="25"/>
                  </a:cubicBezTo>
                  <a:cubicBezTo>
                    <a:pt x="15752" y="12"/>
                    <a:pt x="15763" y="0"/>
                    <a:pt x="15777" y="0"/>
                  </a:cubicBezTo>
                  <a:close/>
                  <a:moveTo>
                    <a:pt x="16327" y="0"/>
                  </a:moveTo>
                  <a:lnTo>
                    <a:pt x="16327" y="0"/>
                  </a:lnTo>
                  <a:cubicBezTo>
                    <a:pt x="16340" y="0"/>
                    <a:pt x="16352" y="12"/>
                    <a:pt x="16352" y="25"/>
                  </a:cubicBezTo>
                  <a:cubicBezTo>
                    <a:pt x="16352" y="39"/>
                    <a:pt x="16340" y="50"/>
                    <a:pt x="16327" y="50"/>
                  </a:cubicBezTo>
                  <a:lnTo>
                    <a:pt x="16327" y="50"/>
                  </a:lnTo>
                  <a:cubicBezTo>
                    <a:pt x="16313" y="50"/>
                    <a:pt x="16302" y="39"/>
                    <a:pt x="16302" y="25"/>
                  </a:cubicBezTo>
                  <a:cubicBezTo>
                    <a:pt x="16302" y="12"/>
                    <a:pt x="16313" y="0"/>
                    <a:pt x="16327" y="0"/>
                  </a:cubicBezTo>
                  <a:close/>
                  <a:moveTo>
                    <a:pt x="16527" y="0"/>
                  </a:moveTo>
                  <a:lnTo>
                    <a:pt x="16732" y="0"/>
                  </a:lnTo>
                  <a:cubicBezTo>
                    <a:pt x="16746" y="0"/>
                    <a:pt x="16757" y="12"/>
                    <a:pt x="16757" y="25"/>
                  </a:cubicBezTo>
                  <a:cubicBezTo>
                    <a:pt x="16757" y="39"/>
                    <a:pt x="16746" y="50"/>
                    <a:pt x="16732" y="50"/>
                  </a:cubicBezTo>
                  <a:lnTo>
                    <a:pt x="16527" y="50"/>
                  </a:lnTo>
                  <a:cubicBezTo>
                    <a:pt x="16513" y="50"/>
                    <a:pt x="16502" y="39"/>
                    <a:pt x="16502" y="25"/>
                  </a:cubicBezTo>
                  <a:cubicBezTo>
                    <a:pt x="16502" y="12"/>
                    <a:pt x="16513" y="0"/>
                    <a:pt x="1652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4920" bIns="-34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5983920" y="1339560"/>
              <a:ext cx="166680" cy="169920"/>
            </a:xfrm>
            <a:custGeom>
              <a:avLst/>
              <a:gdLst/>
              <a:ahLst/>
              <a:rect l="l" t="t" r="r" b="b"/>
              <a:pathLst>
                <a:path w="750" h="762">
                  <a:moveTo>
                    <a:pt x="27" y="1"/>
                  </a:moveTo>
                  <a:lnTo>
                    <a:pt x="99" y="5"/>
                  </a:lnTo>
                  <a:lnTo>
                    <a:pt x="171" y="16"/>
                  </a:lnTo>
                  <a:lnTo>
                    <a:pt x="241" y="35"/>
                  </a:lnTo>
                  <a:lnTo>
                    <a:pt x="308" y="61"/>
                  </a:lnTo>
                  <a:lnTo>
                    <a:pt x="371" y="94"/>
                  </a:lnTo>
                  <a:lnTo>
                    <a:pt x="373" y="95"/>
                  </a:lnTo>
                  <a:cubicBezTo>
                    <a:pt x="385" y="103"/>
                    <a:pt x="388" y="118"/>
                    <a:pt x="381" y="130"/>
                  </a:cubicBezTo>
                  <a:cubicBezTo>
                    <a:pt x="373" y="141"/>
                    <a:pt x="358" y="145"/>
                    <a:pt x="346" y="137"/>
                  </a:cubicBezTo>
                  <a:lnTo>
                    <a:pt x="348" y="138"/>
                  </a:lnTo>
                  <a:lnTo>
                    <a:pt x="348" y="138"/>
                  </a:lnTo>
                  <a:lnTo>
                    <a:pt x="289" y="108"/>
                  </a:lnTo>
                  <a:lnTo>
                    <a:pt x="227" y="83"/>
                  </a:lnTo>
                  <a:lnTo>
                    <a:pt x="163" y="65"/>
                  </a:lnTo>
                  <a:lnTo>
                    <a:pt x="96" y="54"/>
                  </a:lnTo>
                  <a:lnTo>
                    <a:pt x="25" y="50"/>
                  </a:lnTo>
                  <a:cubicBezTo>
                    <a:pt x="11" y="50"/>
                    <a:pt x="0" y="38"/>
                    <a:pt x="1" y="24"/>
                  </a:cubicBezTo>
                  <a:cubicBezTo>
                    <a:pt x="2" y="10"/>
                    <a:pt x="14" y="0"/>
                    <a:pt x="27" y="1"/>
                  </a:cubicBezTo>
                  <a:close/>
                  <a:moveTo>
                    <a:pt x="533" y="223"/>
                  </a:moveTo>
                  <a:lnTo>
                    <a:pt x="533" y="223"/>
                  </a:lnTo>
                  <a:cubicBezTo>
                    <a:pt x="543" y="232"/>
                    <a:pt x="543" y="248"/>
                    <a:pt x="534" y="258"/>
                  </a:cubicBezTo>
                  <a:cubicBezTo>
                    <a:pt x="524" y="268"/>
                    <a:pt x="508" y="268"/>
                    <a:pt x="498" y="258"/>
                  </a:cubicBezTo>
                  <a:lnTo>
                    <a:pt x="498" y="258"/>
                  </a:lnTo>
                  <a:cubicBezTo>
                    <a:pt x="488" y="249"/>
                    <a:pt x="488" y="233"/>
                    <a:pt x="498" y="223"/>
                  </a:cubicBezTo>
                  <a:cubicBezTo>
                    <a:pt x="508" y="213"/>
                    <a:pt x="524" y="213"/>
                    <a:pt x="533" y="223"/>
                  </a:cubicBezTo>
                  <a:close/>
                  <a:moveTo>
                    <a:pt x="654" y="390"/>
                  </a:moveTo>
                  <a:lnTo>
                    <a:pt x="663" y="406"/>
                  </a:lnTo>
                  <a:lnTo>
                    <a:pt x="694" y="473"/>
                  </a:lnTo>
                  <a:lnTo>
                    <a:pt x="718" y="544"/>
                  </a:lnTo>
                  <a:lnTo>
                    <a:pt x="736" y="619"/>
                  </a:lnTo>
                  <a:lnTo>
                    <a:pt x="747" y="695"/>
                  </a:lnTo>
                  <a:lnTo>
                    <a:pt x="749" y="736"/>
                  </a:lnTo>
                  <a:cubicBezTo>
                    <a:pt x="750" y="749"/>
                    <a:pt x="739" y="761"/>
                    <a:pt x="725" y="762"/>
                  </a:cubicBezTo>
                  <a:cubicBezTo>
                    <a:pt x="712" y="762"/>
                    <a:pt x="700" y="752"/>
                    <a:pt x="699" y="738"/>
                  </a:cubicBezTo>
                  <a:lnTo>
                    <a:pt x="698" y="702"/>
                  </a:lnTo>
                  <a:lnTo>
                    <a:pt x="688" y="630"/>
                  </a:lnTo>
                  <a:lnTo>
                    <a:pt x="671" y="561"/>
                  </a:lnTo>
                  <a:lnTo>
                    <a:pt x="648" y="494"/>
                  </a:lnTo>
                  <a:lnTo>
                    <a:pt x="620" y="430"/>
                  </a:lnTo>
                  <a:lnTo>
                    <a:pt x="611" y="415"/>
                  </a:lnTo>
                  <a:cubicBezTo>
                    <a:pt x="604" y="403"/>
                    <a:pt x="608" y="387"/>
                    <a:pt x="620" y="380"/>
                  </a:cubicBezTo>
                  <a:cubicBezTo>
                    <a:pt x="632" y="374"/>
                    <a:pt x="647" y="378"/>
                    <a:pt x="654" y="3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3447720" y="2823840"/>
              <a:ext cx="2551680" cy="12240"/>
            </a:xfrm>
            <a:custGeom>
              <a:avLst/>
              <a:gdLst/>
              <a:ahLst/>
              <a:rect l="l" t="t" r="r" b="b"/>
              <a:pathLst>
                <a:path w="11457" h="60">
                  <a:moveTo>
                    <a:pt x="25" y="0"/>
                  </a:moveTo>
                  <a:lnTo>
                    <a:pt x="375" y="1"/>
                  </a:lnTo>
                  <a:cubicBezTo>
                    <a:pt x="389" y="1"/>
                    <a:pt x="400" y="12"/>
                    <a:pt x="400" y="26"/>
                  </a:cubicBezTo>
                  <a:cubicBezTo>
                    <a:pt x="400" y="40"/>
                    <a:pt x="389" y="51"/>
                    <a:pt x="375" y="51"/>
                  </a:cubicBezTo>
                  <a:lnTo>
                    <a:pt x="25" y="50"/>
                  </a:lnTo>
                  <a:cubicBezTo>
                    <a:pt x="12" y="50"/>
                    <a:pt x="0" y="39"/>
                    <a:pt x="0" y="25"/>
                  </a:cubicBezTo>
                  <a:cubicBezTo>
                    <a:pt x="0" y="12"/>
                    <a:pt x="12" y="0"/>
                    <a:pt x="25" y="0"/>
                  </a:cubicBezTo>
                  <a:close/>
                  <a:moveTo>
                    <a:pt x="575" y="1"/>
                  </a:moveTo>
                  <a:lnTo>
                    <a:pt x="576" y="1"/>
                  </a:lnTo>
                  <a:cubicBezTo>
                    <a:pt x="589" y="1"/>
                    <a:pt x="601" y="12"/>
                    <a:pt x="601" y="26"/>
                  </a:cubicBezTo>
                  <a:cubicBezTo>
                    <a:pt x="601" y="40"/>
                    <a:pt x="589" y="51"/>
                    <a:pt x="576" y="51"/>
                  </a:cubicBezTo>
                  <a:lnTo>
                    <a:pt x="575" y="51"/>
                  </a:lnTo>
                  <a:cubicBezTo>
                    <a:pt x="562" y="51"/>
                    <a:pt x="550" y="40"/>
                    <a:pt x="550" y="26"/>
                  </a:cubicBezTo>
                  <a:cubicBezTo>
                    <a:pt x="550" y="12"/>
                    <a:pt x="562" y="1"/>
                    <a:pt x="575" y="1"/>
                  </a:cubicBezTo>
                  <a:close/>
                  <a:moveTo>
                    <a:pt x="776" y="1"/>
                  </a:moveTo>
                  <a:lnTo>
                    <a:pt x="1126" y="1"/>
                  </a:lnTo>
                  <a:cubicBezTo>
                    <a:pt x="1139" y="1"/>
                    <a:pt x="1151" y="13"/>
                    <a:pt x="1151" y="26"/>
                  </a:cubicBezTo>
                  <a:cubicBezTo>
                    <a:pt x="1151" y="40"/>
                    <a:pt x="1139" y="51"/>
                    <a:pt x="1125" y="51"/>
                  </a:cubicBezTo>
                  <a:lnTo>
                    <a:pt x="775" y="51"/>
                  </a:lnTo>
                  <a:cubicBezTo>
                    <a:pt x="762" y="51"/>
                    <a:pt x="751" y="40"/>
                    <a:pt x="751" y="26"/>
                  </a:cubicBezTo>
                  <a:cubicBezTo>
                    <a:pt x="751" y="12"/>
                    <a:pt x="762" y="1"/>
                    <a:pt x="776" y="1"/>
                  </a:cubicBezTo>
                  <a:close/>
                  <a:moveTo>
                    <a:pt x="1326" y="2"/>
                  </a:moveTo>
                  <a:lnTo>
                    <a:pt x="1326" y="2"/>
                  </a:lnTo>
                  <a:cubicBezTo>
                    <a:pt x="1339" y="2"/>
                    <a:pt x="1351" y="13"/>
                    <a:pt x="1351" y="27"/>
                  </a:cubicBezTo>
                  <a:cubicBezTo>
                    <a:pt x="1351" y="40"/>
                    <a:pt x="1339" y="52"/>
                    <a:pt x="1326" y="52"/>
                  </a:cubicBezTo>
                  <a:lnTo>
                    <a:pt x="1326" y="52"/>
                  </a:lnTo>
                  <a:cubicBezTo>
                    <a:pt x="1312" y="52"/>
                    <a:pt x="1301" y="40"/>
                    <a:pt x="1301" y="27"/>
                  </a:cubicBezTo>
                  <a:cubicBezTo>
                    <a:pt x="1301" y="13"/>
                    <a:pt x="1312" y="2"/>
                    <a:pt x="1326" y="2"/>
                  </a:cubicBezTo>
                  <a:close/>
                  <a:moveTo>
                    <a:pt x="1526" y="2"/>
                  </a:moveTo>
                  <a:lnTo>
                    <a:pt x="1876" y="2"/>
                  </a:lnTo>
                  <a:cubicBezTo>
                    <a:pt x="1889" y="2"/>
                    <a:pt x="1901" y="13"/>
                    <a:pt x="1901" y="27"/>
                  </a:cubicBezTo>
                  <a:cubicBezTo>
                    <a:pt x="1901" y="41"/>
                    <a:pt x="1889" y="52"/>
                    <a:pt x="1876" y="52"/>
                  </a:cubicBezTo>
                  <a:lnTo>
                    <a:pt x="1526" y="52"/>
                  </a:lnTo>
                  <a:cubicBezTo>
                    <a:pt x="1512" y="52"/>
                    <a:pt x="1501" y="41"/>
                    <a:pt x="1501" y="27"/>
                  </a:cubicBezTo>
                  <a:cubicBezTo>
                    <a:pt x="1501" y="13"/>
                    <a:pt x="1512" y="2"/>
                    <a:pt x="1526" y="2"/>
                  </a:cubicBezTo>
                  <a:close/>
                  <a:moveTo>
                    <a:pt x="2076" y="2"/>
                  </a:moveTo>
                  <a:lnTo>
                    <a:pt x="2076" y="2"/>
                  </a:lnTo>
                  <a:cubicBezTo>
                    <a:pt x="2089" y="2"/>
                    <a:pt x="2101" y="13"/>
                    <a:pt x="2101" y="27"/>
                  </a:cubicBezTo>
                  <a:cubicBezTo>
                    <a:pt x="2101" y="41"/>
                    <a:pt x="2089" y="52"/>
                    <a:pt x="2076" y="52"/>
                  </a:cubicBezTo>
                  <a:lnTo>
                    <a:pt x="2076" y="52"/>
                  </a:lnTo>
                  <a:cubicBezTo>
                    <a:pt x="2062" y="52"/>
                    <a:pt x="2051" y="41"/>
                    <a:pt x="2051" y="27"/>
                  </a:cubicBezTo>
                  <a:cubicBezTo>
                    <a:pt x="2051" y="13"/>
                    <a:pt x="2062" y="2"/>
                    <a:pt x="2076" y="2"/>
                  </a:cubicBezTo>
                  <a:close/>
                  <a:moveTo>
                    <a:pt x="2276" y="2"/>
                  </a:moveTo>
                  <a:lnTo>
                    <a:pt x="2626" y="3"/>
                  </a:lnTo>
                  <a:cubicBezTo>
                    <a:pt x="2639" y="3"/>
                    <a:pt x="2651" y="14"/>
                    <a:pt x="2651" y="28"/>
                  </a:cubicBezTo>
                  <a:cubicBezTo>
                    <a:pt x="2651" y="42"/>
                    <a:pt x="2639" y="53"/>
                    <a:pt x="2626" y="53"/>
                  </a:cubicBezTo>
                  <a:lnTo>
                    <a:pt x="2276" y="52"/>
                  </a:lnTo>
                  <a:cubicBezTo>
                    <a:pt x="2262" y="52"/>
                    <a:pt x="2251" y="41"/>
                    <a:pt x="2251" y="27"/>
                  </a:cubicBezTo>
                  <a:cubicBezTo>
                    <a:pt x="2251" y="14"/>
                    <a:pt x="2262" y="2"/>
                    <a:pt x="2276" y="2"/>
                  </a:cubicBezTo>
                  <a:close/>
                  <a:moveTo>
                    <a:pt x="2826" y="3"/>
                  </a:moveTo>
                  <a:lnTo>
                    <a:pt x="2826" y="3"/>
                  </a:lnTo>
                  <a:cubicBezTo>
                    <a:pt x="2839" y="3"/>
                    <a:pt x="2851" y="14"/>
                    <a:pt x="2851" y="28"/>
                  </a:cubicBezTo>
                  <a:cubicBezTo>
                    <a:pt x="2851" y="42"/>
                    <a:pt x="2839" y="53"/>
                    <a:pt x="2826" y="53"/>
                  </a:cubicBezTo>
                  <a:lnTo>
                    <a:pt x="2826" y="53"/>
                  </a:lnTo>
                  <a:cubicBezTo>
                    <a:pt x="2812" y="53"/>
                    <a:pt x="2801" y="42"/>
                    <a:pt x="2801" y="28"/>
                  </a:cubicBezTo>
                  <a:cubicBezTo>
                    <a:pt x="2801" y="14"/>
                    <a:pt x="2812" y="3"/>
                    <a:pt x="2826" y="3"/>
                  </a:cubicBezTo>
                  <a:close/>
                  <a:moveTo>
                    <a:pt x="3026" y="3"/>
                  </a:moveTo>
                  <a:lnTo>
                    <a:pt x="3376" y="3"/>
                  </a:lnTo>
                  <a:cubicBezTo>
                    <a:pt x="3389" y="3"/>
                    <a:pt x="3401" y="15"/>
                    <a:pt x="3401" y="28"/>
                  </a:cubicBezTo>
                  <a:cubicBezTo>
                    <a:pt x="3401" y="42"/>
                    <a:pt x="3389" y="53"/>
                    <a:pt x="3376" y="53"/>
                  </a:cubicBezTo>
                  <a:lnTo>
                    <a:pt x="3026" y="53"/>
                  </a:lnTo>
                  <a:cubicBezTo>
                    <a:pt x="3012" y="53"/>
                    <a:pt x="3001" y="42"/>
                    <a:pt x="3001" y="28"/>
                  </a:cubicBezTo>
                  <a:cubicBezTo>
                    <a:pt x="3001" y="14"/>
                    <a:pt x="3012" y="3"/>
                    <a:pt x="3026" y="3"/>
                  </a:cubicBezTo>
                  <a:close/>
                  <a:moveTo>
                    <a:pt x="3576" y="4"/>
                  </a:moveTo>
                  <a:lnTo>
                    <a:pt x="3576" y="4"/>
                  </a:lnTo>
                  <a:cubicBezTo>
                    <a:pt x="3590" y="4"/>
                    <a:pt x="3601" y="15"/>
                    <a:pt x="3601" y="29"/>
                  </a:cubicBezTo>
                  <a:cubicBezTo>
                    <a:pt x="3601" y="42"/>
                    <a:pt x="3590" y="54"/>
                    <a:pt x="3576" y="54"/>
                  </a:cubicBezTo>
                  <a:lnTo>
                    <a:pt x="3576" y="54"/>
                  </a:lnTo>
                  <a:cubicBezTo>
                    <a:pt x="3562" y="54"/>
                    <a:pt x="3551" y="42"/>
                    <a:pt x="3551" y="29"/>
                  </a:cubicBezTo>
                  <a:cubicBezTo>
                    <a:pt x="3551" y="15"/>
                    <a:pt x="3562" y="4"/>
                    <a:pt x="3576" y="4"/>
                  </a:cubicBezTo>
                  <a:close/>
                  <a:moveTo>
                    <a:pt x="3776" y="4"/>
                  </a:moveTo>
                  <a:lnTo>
                    <a:pt x="4126" y="4"/>
                  </a:lnTo>
                  <a:cubicBezTo>
                    <a:pt x="4140" y="4"/>
                    <a:pt x="4151" y="15"/>
                    <a:pt x="4151" y="29"/>
                  </a:cubicBezTo>
                  <a:cubicBezTo>
                    <a:pt x="4151" y="43"/>
                    <a:pt x="4139" y="54"/>
                    <a:pt x="4126" y="54"/>
                  </a:cubicBezTo>
                  <a:lnTo>
                    <a:pt x="3776" y="54"/>
                  </a:lnTo>
                  <a:cubicBezTo>
                    <a:pt x="3762" y="54"/>
                    <a:pt x="3751" y="43"/>
                    <a:pt x="3751" y="29"/>
                  </a:cubicBezTo>
                  <a:cubicBezTo>
                    <a:pt x="3751" y="15"/>
                    <a:pt x="3762" y="4"/>
                    <a:pt x="3776" y="4"/>
                  </a:cubicBezTo>
                  <a:close/>
                  <a:moveTo>
                    <a:pt x="4326" y="4"/>
                  </a:moveTo>
                  <a:lnTo>
                    <a:pt x="4326" y="4"/>
                  </a:lnTo>
                  <a:cubicBezTo>
                    <a:pt x="4340" y="4"/>
                    <a:pt x="4351" y="15"/>
                    <a:pt x="4351" y="29"/>
                  </a:cubicBezTo>
                  <a:cubicBezTo>
                    <a:pt x="4351" y="43"/>
                    <a:pt x="4340" y="54"/>
                    <a:pt x="4326" y="54"/>
                  </a:cubicBezTo>
                  <a:lnTo>
                    <a:pt x="4326" y="54"/>
                  </a:lnTo>
                  <a:cubicBezTo>
                    <a:pt x="4312" y="54"/>
                    <a:pt x="4301" y="43"/>
                    <a:pt x="4301" y="29"/>
                  </a:cubicBezTo>
                  <a:cubicBezTo>
                    <a:pt x="4301" y="15"/>
                    <a:pt x="4312" y="4"/>
                    <a:pt x="4326" y="4"/>
                  </a:cubicBezTo>
                  <a:close/>
                  <a:moveTo>
                    <a:pt x="4526" y="4"/>
                  </a:moveTo>
                  <a:lnTo>
                    <a:pt x="4876" y="5"/>
                  </a:lnTo>
                  <a:cubicBezTo>
                    <a:pt x="4890" y="5"/>
                    <a:pt x="4901" y="16"/>
                    <a:pt x="4901" y="30"/>
                  </a:cubicBezTo>
                  <a:cubicBezTo>
                    <a:pt x="4901" y="44"/>
                    <a:pt x="4890" y="55"/>
                    <a:pt x="4876" y="55"/>
                  </a:cubicBezTo>
                  <a:lnTo>
                    <a:pt x="4526" y="54"/>
                  </a:lnTo>
                  <a:cubicBezTo>
                    <a:pt x="4512" y="54"/>
                    <a:pt x="4501" y="43"/>
                    <a:pt x="4501" y="29"/>
                  </a:cubicBezTo>
                  <a:cubicBezTo>
                    <a:pt x="4501" y="16"/>
                    <a:pt x="4512" y="4"/>
                    <a:pt x="4526" y="4"/>
                  </a:cubicBezTo>
                  <a:close/>
                  <a:moveTo>
                    <a:pt x="5076" y="5"/>
                  </a:moveTo>
                  <a:lnTo>
                    <a:pt x="5076" y="5"/>
                  </a:lnTo>
                  <a:cubicBezTo>
                    <a:pt x="5090" y="5"/>
                    <a:pt x="5101" y="16"/>
                    <a:pt x="5101" y="30"/>
                  </a:cubicBezTo>
                  <a:cubicBezTo>
                    <a:pt x="5101" y="44"/>
                    <a:pt x="5090" y="55"/>
                    <a:pt x="5076" y="55"/>
                  </a:cubicBezTo>
                  <a:lnTo>
                    <a:pt x="5076" y="55"/>
                  </a:lnTo>
                  <a:cubicBezTo>
                    <a:pt x="5062" y="55"/>
                    <a:pt x="5051" y="44"/>
                    <a:pt x="5051" y="30"/>
                  </a:cubicBezTo>
                  <a:cubicBezTo>
                    <a:pt x="5051" y="16"/>
                    <a:pt x="5062" y="5"/>
                    <a:pt x="5076" y="5"/>
                  </a:cubicBezTo>
                  <a:close/>
                  <a:moveTo>
                    <a:pt x="5276" y="5"/>
                  </a:moveTo>
                  <a:lnTo>
                    <a:pt x="5626" y="5"/>
                  </a:lnTo>
                  <a:cubicBezTo>
                    <a:pt x="5640" y="5"/>
                    <a:pt x="5651" y="17"/>
                    <a:pt x="5651" y="30"/>
                  </a:cubicBezTo>
                  <a:cubicBezTo>
                    <a:pt x="5651" y="44"/>
                    <a:pt x="5640" y="55"/>
                    <a:pt x="5626" y="55"/>
                  </a:cubicBezTo>
                  <a:lnTo>
                    <a:pt x="5276" y="55"/>
                  </a:lnTo>
                  <a:cubicBezTo>
                    <a:pt x="5262" y="55"/>
                    <a:pt x="5251" y="44"/>
                    <a:pt x="5251" y="30"/>
                  </a:cubicBezTo>
                  <a:cubicBezTo>
                    <a:pt x="5251" y="16"/>
                    <a:pt x="5262" y="5"/>
                    <a:pt x="5276" y="5"/>
                  </a:cubicBezTo>
                  <a:close/>
                  <a:moveTo>
                    <a:pt x="5826" y="6"/>
                  </a:moveTo>
                  <a:lnTo>
                    <a:pt x="5826" y="6"/>
                  </a:lnTo>
                  <a:cubicBezTo>
                    <a:pt x="5840" y="6"/>
                    <a:pt x="5851" y="17"/>
                    <a:pt x="5851" y="31"/>
                  </a:cubicBezTo>
                  <a:cubicBezTo>
                    <a:pt x="5851" y="44"/>
                    <a:pt x="5840" y="56"/>
                    <a:pt x="5826" y="56"/>
                  </a:cubicBezTo>
                  <a:lnTo>
                    <a:pt x="5826" y="56"/>
                  </a:lnTo>
                  <a:cubicBezTo>
                    <a:pt x="5812" y="56"/>
                    <a:pt x="5801" y="44"/>
                    <a:pt x="5801" y="31"/>
                  </a:cubicBezTo>
                  <a:cubicBezTo>
                    <a:pt x="5801" y="17"/>
                    <a:pt x="5812" y="6"/>
                    <a:pt x="5826" y="6"/>
                  </a:cubicBezTo>
                  <a:close/>
                  <a:moveTo>
                    <a:pt x="6026" y="6"/>
                  </a:moveTo>
                  <a:lnTo>
                    <a:pt x="6376" y="6"/>
                  </a:lnTo>
                  <a:cubicBezTo>
                    <a:pt x="6390" y="6"/>
                    <a:pt x="6401" y="17"/>
                    <a:pt x="6401" y="31"/>
                  </a:cubicBezTo>
                  <a:cubicBezTo>
                    <a:pt x="6401" y="45"/>
                    <a:pt x="6390" y="56"/>
                    <a:pt x="6376" y="56"/>
                  </a:cubicBezTo>
                  <a:lnTo>
                    <a:pt x="6026" y="56"/>
                  </a:lnTo>
                  <a:cubicBezTo>
                    <a:pt x="6012" y="56"/>
                    <a:pt x="6001" y="45"/>
                    <a:pt x="6001" y="31"/>
                  </a:cubicBezTo>
                  <a:cubicBezTo>
                    <a:pt x="6001" y="17"/>
                    <a:pt x="6012" y="6"/>
                    <a:pt x="6026" y="6"/>
                  </a:cubicBezTo>
                  <a:close/>
                  <a:moveTo>
                    <a:pt x="6576" y="6"/>
                  </a:moveTo>
                  <a:lnTo>
                    <a:pt x="6576" y="6"/>
                  </a:lnTo>
                  <a:cubicBezTo>
                    <a:pt x="6590" y="6"/>
                    <a:pt x="6601" y="17"/>
                    <a:pt x="6601" y="31"/>
                  </a:cubicBezTo>
                  <a:cubicBezTo>
                    <a:pt x="6601" y="45"/>
                    <a:pt x="6590" y="56"/>
                    <a:pt x="6576" y="56"/>
                  </a:cubicBezTo>
                  <a:lnTo>
                    <a:pt x="6576" y="56"/>
                  </a:lnTo>
                  <a:cubicBezTo>
                    <a:pt x="6562" y="56"/>
                    <a:pt x="6551" y="45"/>
                    <a:pt x="6551" y="31"/>
                  </a:cubicBezTo>
                  <a:cubicBezTo>
                    <a:pt x="6551" y="17"/>
                    <a:pt x="6562" y="6"/>
                    <a:pt x="6576" y="6"/>
                  </a:cubicBezTo>
                  <a:close/>
                  <a:moveTo>
                    <a:pt x="6776" y="6"/>
                  </a:moveTo>
                  <a:lnTo>
                    <a:pt x="7126" y="7"/>
                  </a:lnTo>
                  <a:cubicBezTo>
                    <a:pt x="7140" y="7"/>
                    <a:pt x="7151" y="18"/>
                    <a:pt x="7151" y="32"/>
                  </a:cubicBezTo>
                  <a:cubicBezTo>
                    <a:pt x="7151" y="46"/>
                    <a:pt x="7140" y="57"/>
                    <a:pt x="7126" y="57"/>
                  </a:cubicBezTo>
                  <a:lnTo>
                    <a:pt x="6776" y="56"/>
                  </a:lnTo>
                  <a:cubicBezTo>
                    <a:pt x="6762" y="56"/>
                    <a:pt x="6751" y="45"/>
                    <a:pt x="6751" y="31"/>
                  </a:cubicBezTo>
                  <a:cubicBezTo>
                    <a:pt x="6751" y="18"/>
                    <a:pt x="6762" y="6"/>
                    <a:pt x="6776" y="6"/>
                  </a:cubicBezTo>
                  <a:close/>
                  <a:moveTo>
                    <a:pt x="7326" y="7"/>
                  </a:moveTo>
                  <a:lnTo>
                    <a:pt x="7326" y="7"/>
                  </a:lnTo>
                  <a:cubicBezTo>
                    <a:pt x="7340" y="7"/>
                    <a:pt x="7351" y="18"/>
                    <a:pt x="7351" y="32"/>
                  </a:cubicBezTo>
                  <a:cubicBezTo>
                    <a:pt x="7351" y="46"/>
                    <a:pt x="7340" y="57"/>
                    <a:pt x="7326" y="57"/>
                  </a:cubicBezTo>
                  <a:lnTo>
                    <a:pt x="7326" y="57"/>
                  </a:lnTo>
                  <a:cubicBezTo>
                    <a:pt x="7312" y="57"/>
                    <a:pt x="7301" y="46"/>
                    <a:pt x="7301" y="32"/>
                  </a:cubicBezTo>
                  <a:cubicBezTo>
                    <a:pt x="7301" y="18"/>
                    <a:pt x="7312" y="7"/>
                    <a:pt x="7326" y="7"/>
                  </a:cubicBezTo>
                  <a:close/>
                  <a:moveTo>
                    <a:pt x="7526" y="7"/>
                  </a:moveTo>
                  <a:lnTo>
                    <a:pt x="7876" y="7"/>
                  </a:lnTo>
                  <a:cubicBezTo>
                    <a:pt x="7890" y="7"/>
                    <a:pt x="7901" y="19"/>
                    <a:pt x="7901" y="32"/>
                  </a:cubicBezTo>
                  <a:cubicBezTo>
                    <a:pt x="7901" y="46"/>
                    <a:pt x="7890" y="57"/>
                    <a:pt x="7876" y="57"/>
                  </a:cubicBezTo>
                  <a:lnTo>
                    <a:pt x="7526" y="57"/>
                  </a:lnTo>
                  <a:cubicBezTo>
                    <a:pt x="7512" y="57"/>
                    <a:pt x="7501" y="46"/>
                    <a:pt x="7501" y="32"/>
                  </a:cubicBezTo>
                  <a:cubicBezTo>
                    <a:pt x="7501" y="18"/>
                    <a:pt x="7512" y="7"/>
                    <a:pt x="7526" y="7"/>
                  </a:cubicBezTo>
                  <a:close/>
                  <a:moveTo>
                    <a:pt x="8076" y="8"/>
                  </a:moveTo>
                  <a:lnTo>
                    <a:pt x="8076" y="8"/>
                  </a:lnTo>
                  <a:cubicBezTo>
                    <a:pt x="8090" y="8"/>
                    <a:pt x="8101" y="19"/>
                    <a:pt x="8101" y="33"/>
                  </a:cubicBezTo>
                  <a:cubicBezTo>
                    <a:pt x="8101" y="46"/>
                    <a:pt x="8090" y="58"/>
                    <a:pt x="8076" y="58"/>
                  </a:cubicBezTo>
                  <a:lnTo>
                    <a:pt x="8076" y="58"/>
                  </a:lnTo>
                  <a:cubicBezTo>
                    <a:pt x="8062" y="58"/>
                    <a:pt x="8051" y="46"/>
                    <a:pt x="8051" y="33"/>
                  </a:cubicBezTo>
                  <a:cubicBezTo>
                    <a:pt x="8051" y="19"/>
                    <a:pt x="8062" y="8"/>
                    <a:pt x="8076" y="8"/>
                  </a:cubicBezTo>
                  <a:close/>
                  <a:moveTo>
                    <a:pt x="8276" y="8"/>
                  </a:moveTo>
                  <a:lnTo>
                    <a:pt x="8626" y="8"/>
                  </a:lnTo>
                  <a:cubicBezTo>
                    <a:pt x="8640" y="8"/>
                    <a:pt x="8651" y="19"/>
                    <a:pt x="8651" y="33"/>
                  </a:cubicBezTo>
                  <a:cubicBezTo>
                    <a:pt x="8651" y="47"/>
                    <a:pt x="8640" y="58"/>
                    <a:pt x="8626" y="58"/>
                  </a:cubicBezTo>
                  <a:lnTo>
                    <a:pt x="8276" y="58"/>
                  </a:lnTo>
                  <a:cubicBezTo>
                    <a:pt x="8262" y="58"/>
                    <a:pt x="8251" y="46"/>
                    <a:pt x="8251" y="33"/>
                  </a:cubicBezTo>
                  <a:cubicBezTo>
                    <a:pt x="8251" y="19"/>
                    <a:pt x="8262" y="8"/>
                    <a:pt x="8276" y="8"/>
                  </a:cubicBezTo>
                  <a:close/>
                  <a:moveTo>
                    <a:pt x="8826" y="8"/>
                  </a:moveTo>
                  <a:lnTo>
                    <a:pt x="8826" y="8"/>
                  </a:lnTo>
                  <a:cubicBezTo>
                    <a:pt x="8840" y="8"/>
                    <a:pt x="8851" y="19"/>
                    <a:pt x="8851" y="33"/>
                  </a:cubicBezTo>
                  <a:cubicBezTo>
                    <a:pt x="8851" y="47"/>
                    <a:pt x="8840" y="58"/>
                    <a:pt x="8826" y="58"/>
                  </a:cubicBezTo>
                  <a:lnTo>
                    <a:pt x="8826" y="58"/>
                  </a:lnTo>
                  <a:cubicBezTo>
                    <a:pt x="8812" y="58"/>
                    <a:pt x="8801" y="47"/>
                    <a:pt x="8801" y="33"/>
                  </a:cubicBezTo>
                  <a:cubicBezTo>
                    <a:pt x="8801" y="19"/>
                    <a:pt x="8812" y="8"/>
                    <a:pt x="8826" y="8"/>
                  </a:cubicBezTo>
                  <a:close/>
                  <a:moveTo>
                    <a:pt x="9026" y="8"/>
                  </a:moveTo>
                  <a:lnTo>
                    <a:pt x="9376" y="9"/>
                  </a:lnTo>
                  <a:cubicBezTo>
                    <a:pt x="9390" y="9"/>
                    <a:pt x="9401" y="20"/>
                    <a:pt x="9401" y="34"/>
                  </a:cubicBezTo>
                  <a:cubicBezTo>
                    <a:pt x="9401" y="47"/>
                    <a:pt x="9390" y="59"/>
                    <a:pt x="9376" y="59"/>
                  </a:cubicBezTo>
                  <a:lnTo>
                    <a:pt x="9026" y="58"/>
                  </a:lnTo>
                  <a:cubicBezTo>
                    <a:pt x="9012" y="58"/>
                    <a:pt x="9001" y="47"/>
                    <a:pt x="9001" y="33"/>
                  </a:cubicBezTo>
                  <a:cubicBezTo>
                    <a:pt x="9001" y="20"/>
                    <a:pt x="9012" y="8"/>
                    <a:pt x="9026" y="8"/>
                  </a:cubicBezTo>
                  <a:close/>
                  <a:moveTo>
                    <a:pt x="9576" y="9"/>
                  </a:moveTo>
                  <a:lnTo>
                    <a:pt x="9576" y="9"/>
                  </a:lnTo>
                  <a:cubicBezTo>
                    <a:pt x="9590" y="9"/>
                    <a:pt x="9601" y="20"/>
                    <a:pt x="9601" y="34"/>
                  </a:cubicBezTo>
                  <a:cubicBezTo>
                    <a:pt x="9601" y="48"/>
                    <a:pt x="9590" y="59"/>
                    <a:pt x="9576" y="59"/>
                  </a:cubicBezTo>
                  <a:lnTo>
                    <a:pt x="9576" y="59"/>
                  </a:lnTo>
                  <a:cubicBezTo>
                    <a:pt x="9562" y="59"/>
                    <a:pt x="9551" y="48"/>
                    <a:pt x="9551" y="34"/>
                  </a:cubicBezTo>
                  <a:cubicBezTo>
                    <a:pt x="9551" y="20"/>
                    <a:pt x="9562" y="9"/>
                    <a:pt x="9576" y="9"/>
                  </a:cubicBezTo>
                  <a:close/>
                  <a:moveTo>
                    <a:pt x="9776" y="9"/>
                  </a:moveTo>
                  <a:lnTo>
                    <a:pt x="10126" y="9"/>
                  </a:lnTo>
                  <a:cubicBezTo>
                    <a:pt x="10140" y="9"/>
                    <a:pt x="10151" y="21"/>
                    <a:pt x="10151" y="34"/>
                  </a:cubicBezTo>
                  <a:cubicBezTo>
                    <a:pt x="10151" y="48"/>
                    <a:pt x="10140" y="59"/>
                    <a:pt x="10126" y="59"/>
                  </a:cubicBezTo>
                  <a:lnTo>
                    <a:pt x="9776" y="59"/>
                  </a:lnTo>
                  <a:cubicBezTo>
                    <a:pt x="9762" y="59"/>
                    <a:pt x="9751" y="48"/>
                    <a:pt x="9751" y="34"/>
                  </a:cubicBezTo>
                  <a:cubicBezTo>
                    <a:pt x="9751" y="20"/>
                    <a:pt x="9762" y="9"/>
                    <a:pt x="9776" y="9"/>
                  </a:cubicBezTo>
                  <a:close/>
                  <a:moveTo>
                    <a:pt x="10326" y="9"/>
                  </a:moveTo>
                  <a:lnTo>
                    <a:pt x="10326" y="9"/>
                  </a:lnTo>
                  <a:cubicBezTo>
                    <a:pt x="10340" y="9"/>
                    <a:pt x="10351" y="21"/>
                    <a:pt x="10351" y="34"/>
                  </a:cubicBezTo>
                  <a:cubicBezTo>
                    <a:pt x="10351" y="48"/>
                    <a:pt x="10340" y="59"/>
                    <a:pt x="10326" y="59"/>
                  </a:cubicBezTo>
                  <a:lnTo>
                    <a:pt x="10326" y="59"/>
                  </a:lnTo>
                  <a:cubicBezTo>
                    <a:pt x="10312" y="59"/>
                    <a:pt x="10301" y="48"/>
                    <a:pt x="10301" y="34"/>
                  </a:cubicBezTo>
                  <a:cubicBezTo>
                    <a:pt x="10301" y="21"/>
                    <a:pt x="10312" y="9"/>
                    <a:pt x="10326" y="9"/>
                  </a:cubicBezTo>
                  <a:close/>
                  <a:moveTo>
                    <a:pt x="10526" y="10"/>
                  </a:moveTo>
                  <a:lnTo>
                    <a:pt x="10876" y="10"/>
                  </a:lnTo>
                  <a:cubicBezTo>
                    <a:pt x="10890" y="10"/>
                    <a:pt x="10901" y="21"/>
                    <a:pt x="10901" y="35"/>
                  </a:cubicBezTo>
                  <a:cubicBezTo>
                    <a:pt x="10901" y="49"/>
                    <a:pt x="10890" y="60"/>
                    <a:pt x="10876" y="60"/>
                  </a:cubicBezTo>
                  <a:lnTo>
                    <a:pt x="10526" y="60"/>
                  </a:lnTo>
                  <a:cubicBezTo>
                    <a:pt x="10512" y="60"/>
                    <a:pt x="10501" y="48"/>
                    <a:pt x="10501" y="35"/>
                  </a:cubicBezTo>
                  <a:cubicBezTo>
                    <a:pt x="10501" y="21"/>
                    <a:pt x="10512" y="10"/>
                    <a:pt x="10526" y="10"/>
                  </a:cubicBezTo>
                  <a:close/>
                  <a:moveTo>
                    <a:pt x="11076" y="10"/>
                  </a:moveTo>
                  <a:lnTo>
                    <a:pt x="11076" y="10"/>
                  </a:lnTo>
                  <a:cubicBezTo>
                    <a:pt x="11090" y="10"/>
                    <a:pt x="11101" y="21"/>
                    <a:pt x="11101" y="35"/>
                  </a:cubicBezTo>
                  <a:cubicBezTo>
                    <a:pt x="11101" y="49"/>
                    <a:pt x="11090" y="60"/>
                    <a:pt x="11076" y="60"/>
                  </a:cubicBezTo>
                  <a:lnTo>
                    <a:pt x="11076" y="60"/>
                  </a:lnTo>
                  <a:cubicBezTo>
                    <a:pt x="11062" y="60"/>
                    <a:pt x="11051" y="49"/>
                    <a:pt x="11051" y="35"/>
                  </a:cubicBezTo>
                  <a:cubicBezTo>
                    <a:pt x="11051" y="21"/>
                    <a:pt x="11062" y="10"/>
                    <a:pt x="11076" y="10"/>
                  </a:cubicBezTo>
                  <a:close/>
                  <a:moveTo>
                    <a:pt x="11276" y="10"/>
                  </a:moveTo>
                  <a:lnTo>
                    <a:pt x="11432" y="10"/>
                  </a:lnTo>
                  <a:cubicBezTo>
                    <a:pt x="11446" y="10"/>
                    <a:pt x="11457" y="22"/>
                    <a:pt x="11457" y="35"/>
                  </a:cubicBezTo>
                  <a:cubicBezTo>
                    <a:pt x="11457" y="49"/>
                    <a:pt x="11446" y="60"/>
                    <a:pt x="11432" y="60"/>
                  </a:cubicBezTo>
                  <a:lnTo>
                    <a:pt x="11276" y="60"/>
                  </a:lnTo>
                  <a:cubicBezTo>
                    <a:pt x="11262" y="60"/>
                    <a:pt x="11251" y="49"/>
                    <a:pt x="11251" y="35"/>
                  </a:cubicBezTo>
                  <a:cubicBezTo>
                    <a:pt x="11251" y="22"/>
                    <a:pt x="11262" y="10"/>
                    <a:pt x="11276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4"/>
            <p:cNvSpPr/>
            <p:nvPr/>
          </p:nvSpPr>
          <p:spPr>
            <a:xfrm>
              <a:off x="5982480" y="2666160"/>
              <a:ext cx="170280" cy="166680"/>
            </a:xfrm>
            <a:custGeom>
              <a:avLst/>
              <a:gdLst/>
              <a:ahLst/>
              <a:rect l="l" t="t" r="r" b="b"/>
              <a:pathLst>
                <a:path w="763" h="750">
                  <a:moveTo>
                    <a:pt x="762" y="27"/>
                  </a:moveTo>
                  <a:lnTo>
                    <a:pt x="758" y="99"/>
                  </a:lnTo>
                  <a:lnTo>
                    <a:pt x="747" y="171"/>
                  </a:lnTo>
                  <a:lnTo>
                    <a:pt x="728" y="241"/>
                  </a:lnTo>
                  <a:lnTo>
                    <a:pt x="701" y="308"/>
                  </a:lnTo>
                  <a:lnTo>
                    <a:pt x="669" y="371"/>
                  </a:lnTo>
                  <a:lnTo>
                    <a:pt x="667" y="374"/>
                  </a:lnTo>
                  <a:cubicBezTo>
                    <a:pt x="660" y="385"/>
                    <a:pt x="644" y="388"/>
                    <a:pt x="633" y="381"/>
                  </a:cubicBezTo>
                  <a:cubicBezTo>
                    <a:pt x="621" y="373"/>
                    <a:pt x="618" y="358"/>
                    <a:pt x="625" y="346"/>
                  </a:cubicBezTo>
                  <a:lnTo>
                    <a:pt x="624" y="348"/>
                  </a:lnTo>
                  <a:lnTo>
                    <a:pt x="624" y="348"/>
                  </a:lnTo>
                  <a:lnTo>
                    <a:pt x="655" y="289"/>
                  </a:lnTo>
                  <a:lnTo>
                    <a:pt x="679" y="227"/>
                  </a:lnTo>
                  <a:lnTo>
                    <a:pt x="697" y="163"/>
                  </a:lnTo>
                  <a:lnTo>
                    <a:pt x="708" y="96"/>
                  </a:lnTo>
                  <a:lnTo>
                    <a:pt x="712" y="25"/>
                  </a:lnTo>
                  <a:cubicBezTo>
                    <a:pt x="713" y="11"/>
                    <a:pt x="725" y="0"/>
                    <a:pt x="738" y="1"/>
                  </a:cubicBezTo>
                  <a:cubicBezTo>
                    <a:pt x="752" y="2"/>
                    <a:pt x="763" y="14"/>
                    <a:pt x="762" y="27"/>
                  </a:cubicBezTo>
                  <a:close/>
                  <a:moveTo>
                    <a:pt x="540" y="534"/>
                  </a:moveTo>
                  <a:lnTo>
                    <a:pt x="540" y="534"/>
                  </a:lnTo>
                  <a:cubicBezTo>
                    <a:pt x="530" y="543"/>
                    <a:pt x="514" y="544"/>
                    <a:pt x="505" y="534"/>
                  </a:cubicBezTo>
                  <a:cubicBezTo>
                    <a:pt x="495" y="524"/>
                    <a:pt x="495" y="508"/>
                    <a:pt x="504" y="499"/>
                  </a:cubicBezTo>
                  <a:lnTo>
                    <a:pt x="504" y="498"/>
                  </a:lnTo>
                  <a:cubicBezTo>
                    <a:pt x="514" y="489"/>
                    <a:pt x="530" y="489"/>
                    <a:pt x="540" y="498"/>
                  </a:cubicBezTo>
                  <a:cubicBezTo>
                    <a:pt x="550" y="508"/>
                    <a:pt x="550" y="524"/>
                    <a:pt x="540" y="534"/>
                  </a:cubicBezTo>
                  <a:close/>
                  <a:moveTo>
                    <a:pt x="373" y="654"/>
                  </a:moveTo>
                  <a:lnTo>
                    <a:pt x="357" y="663"/>
                  </a:lnTo>
                  <a:lnTo>
                    <a:pt x="289" y="694"/>
                  </a:lnTo>
                  <a:lnTo>
                    <a:pt x="218" y="718"/>
                  </a:lnTo>
                  <a:lnTo>
                    <a:pt x="144" y="736"/>
                  </a:lnTo>
                  <a:lnTo>
                    <a:pt x="67" y="747"/>
                  </a:lnTo>
                  <a:lnTo>
                    <a:pt x="27" y="749"/>
                  </a:lnTo>
                  <a:cubicBezTo>
                    <a:pt x="13" y="750"/>
                    <a:pt x="1" y="739"/>
                    <a:pt x="1" y="725"/>
                  </a:cubicBezTo>
                  <a:cubicBezTo>
                    <a:pt x="0" y="712"/>
                    <a:pt x="11" y="700"/>
                    <a:pt x="25" y="699"/>
                  </a:cubicBezTo>
                  <a:lnTo>
                    <a:pt x="60" y="698"/>
                  </a:lnTo>
                  <a:lnTo>
                    <a:pt x="132" y="688"/>
                  </a:lnTo>
                  <a:lnTo>
                    <a:pt x="202" y="671"/>
                  </a:lnTo>
                  <a:lnTo>
                    <a:pt x="269" y="648"/>
                  </a:lnTo>
                  <a:lnTo>
                    <a:pt x="332" y="620"/>
                  </a:lnTo>
                  <a:lnTo>
                    <a:pt x="348" y="611"/>
                  </a:lnTo>
                  <a:cubicBezTo>
                    <a:pt x="360" y="604"/>
                    <a:pt x="375" y="608"/>
                    <a:pt x="382" y="620"/>
                  </a:cubicBezTo>
                  <a:cubicBezTo>
                    <a:pt x="389" y="632"/>
                    <a:pt x="385" y="647"/>
                    <a:pt x="373" y="65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6140160" y="1545120"/>
              <a:ext cx="12600" cy="1134360"/>
            </a:xfrm>
            <a:custGeom>
              <a:avLst/>
              <a:gdLst/>
              <a:ahLst/>
              <a:rect l="l" t="t" r="r" b="b"/>
              <a:pathLst>
                <a:path w="50" h="5100">
                  <a:moveTo>
                    <a:pt x="0" y="5075"/>
                  </a:moveTo>
                  <a:lnTo>
                    <a:pt x="0" y="4725"/>
                  </a:lnTo>
                  <a:cubicBezTo>
                    <a:pt x="0" y="4712"/>
                    <a:pt x="11" y="4700"/>
                    <a:pt x="25" y="4700"/>
                  </a:cubicBezTo>
                  <a:cubicBezTo>
                    <a:pt x="39" y="4700"/>
                    <a:pt x="50" y="4712"/>
                    <a:pt x="50" y="4725"/>
                  </a:cubicBezTo>
                  <a:lnTo>
                    <a:pt x="50" y="5075"/>
                  </a:lnTo>
                  <a:cubicBezTo>
                    <a:pt x="50" y="5089"/>
                    <a:pt x="39" y="5100"/>
                    <a:pt x="25" y="5100"/>
                  </a:cubicBezTo>
                  <a:cubicBezTo>
                    <a:pt x="11" y="5100"/>
                    <a:pt x="0" y="5089"/>
                    <a:pt x="0" y="5075"/>
                  </a:cubicBezTo>
                  <a:close/>
                  <a:moveTo>
                    <a:pt x="0" y="4525"/>
                  </a:moveTo>
                  <a:lnTo>
                    <a:pt x="0" y="4525"/>
                  </a:lnTo>
                  <a:cubicBezTo>
                    <a:pt x="0" y="4512"/>
                    <a:pt x="11" y="4500"/>
                    <a:pt x="25" y="4500"/>
                  </a:cubicBezTo>
                  <a:cubicBezTo>
                    <a:pt x="39" y="4500"/>
                    <a:pt x="50" y="4512"/>
                    <a:pt x="50" y="4525"/>
                  </a:cubicBezTo>
                  <a:lnTo>
                    <a:pt x="50" y="4525"/>
                  </a:lnTo>
                  <a:cubicBezTo>
                    <a:pt x="50" y="4539"/>
                    <a:pt x="39" y="4550"/>
                    <a:pt x="25" y="4550"/>
                  </a:cubicBezTo>
                  <a:cubicBezTo>
                    <a:pt x="11" y="4550"/>
                    <a:pt x="0" y="4539"/>
                    <a:pt x="0" y="4525"/>
                  </a:cubicBezTo>
                  <a:close/>
                  <a:moveTo>
                    <a:pt x="0" y="4325"/>
                  </a:moveTo>
                  <a:lnTo>
                    <a:pt x="0" y="3975"/>
                  </a:lnTo>
                  <a:cubicBezTo>
                    <a:pt x="0" y="3962"/>
                    <a:pt x="11" y="3950"/>
                    <a:pt x="25" y="3950"/>
                  </a:cubicBezTo>
                  <a:cubicBezTo>
                    <a:pt x="39" y="3950"/>
                    <a:pt x="50" y="3962"/>
                    <a:pt x="50" y="3975"/>
                  </a:cubicBezTo>
                  <a:lnTo>
                    <a:pt x="50" y="4325"/>
                  </a:lnTo>
                  <a:cubicBezTo>
                    <a:pt x="50" y="4339"/>
                    <a:pt x="39" y="4350"/>
                    <a:pt x="25" y="4350"/>
                  </a:cubicBezTo>
                  <a:cubicBezTo>
                    <a:pt x="11" y="4350"/>
                    <a:pt x="0" y="4339"/>
                    <a:pt x="0" y="4325"/>
                  </a:cubicBezTo>
                  <a:close/>
                  <a:moveTo>
                    <a:pt x="0" y="3775"/>
                  </a:moveTo>
                  <a:lnTo>
                    <a:pt x="0" y="3775"/>
                  </a:lnTo>
                  <a:cubicBezTo>
                    <a:pt x="0" y="3762"/>
                    <a:pt x="11" y="3750"/>
                    <a:pt x="25" y="3750"/>
                  </a:cubicBezTo>
                  <a:cubicBezTo>
                    <a:pt x="39" y="3750"/>
                    <a:pt x="50" y="3762"/>
                    <a:pt x="50" y="3775"/>
                  </a:cubicBezTo>
                  <a:lnTo>
                    <a:pt x="50" y="3775"/>
                  </a:lnTo>
                  <a:cubicBezTo>
                    <a:pt x="50" y="3789"/>
                    <a:pt x="39" y="3800"/>
                    <a:pt x="25" y="3800"/>
                  </a:cubicBezTo>
                  <a:cubicBezTo>
                    <a:pt x="11" y="3800"/>
                    <a:pt x="0" y="3789"/>
                    <a:pt x="0" y="3775"/>
                  </a:cubicBezTo>
                  <a:close/>
                  <a:moveTo>
                    <a:pt x="0" y="3575"/>
                  </a:moveTo>
                  <a:lnTo>
                    <a:pt x="0" y="3225"/>
                  </a:lnTo>
                  <a:cubicBezTo>
                    <a:pt x="0" y="3212"/>
                    <a:pt x="11" y="3200"/>
                    <a:pt x="25" y="3200"/>
                  </a:cubicBezTo>
                  <a:cubicBezTo>
                    <a:pt x="39" y="3200"/>
                    <a:pt x="50" y="3212"/>
                    <a:pt x="50" y="3225"/>
                  </a:cubicBezTo>
                  <a:lnTo>
                    <a:pt x="50" y="3575"/>
                  </a:lnTo>
                  <a:cubicBezTo>
                    <a:pt x="50" y="3589"/>
                    <a:pt x="39" y="3600"/>
                    <a:pt x="25" y="3600"/>
                  </a:cubicBezTo>
                  <a:cubicBezTo>
                    <a:pt x="11" y="3600"/>
                    <a:pt x="0" y="3589"/>
                    <a:pt x="0" y="3575"/>
                  </a:cubicBezTo>
                  <a:close/>
                  <a:moveTo>
                    <a:pt x="0" y="3025"/>
                  </a:moveTo>
                  <a:lnTo>
                    <a:pt x="0" y="3025"/>
                  </a:lnTo>
                  <a:cubicBezTo>
                    <a:pt x="0" y="3012"/>
                    <a:pt x="11" y="3000"/>
                    <a:pt x="25" y="3000"/>
                  </a:cubicBezTo>
                  <a:cubicBezTo>
                    <a:pt x="39" y="3000"/>
                    <a:pt x="50" y="3012"/>
                    <a:pt x="50" y="3025"/>
                  </a:cubicBezTo>
                  <a:lnTo>
                    <a:pt x="50" y="3025"/>
                  </a:lnTo>
                  <a:cubicBezTo>
                    <a:pt x="50" y="3039"/>
                    <a:pt x="39" y="3050"/>
                    <a:pt x="25" y="3050"/>
                  </a:cubicBezTo>
                  <a:cubicBezTo>
                    <a:pt x="11" y="3050"/>
                    <a:pt x="0" y="3039"/>
                    <a:pt x="0" y="3025"/>
                  </a:cubicBezTo>
                  <a:close/>
                  <a:moveTo>
                    <a:pt x="0" y="2825"/>
                  </a:moveTo>
                  <a:lnTo>
                    <a:pt x="0" y="2475"/>
                  </a:lnTo>
                  <a:cubicBezTo>
                    <a:pt x="0" y="2462"/>
                    <a:pt x="11" y="2450"/>
                    <a:pt x="25" y="2450"/>
                  </a:cubicBezTo>
                  <a:cubicBezTo>
                    <a:pt x="39" y="2450"/>
                    <a:pt x="50" y="2462"/>
                    <a:pt x="50" y="2475"/>
                  </a:cubicBezTo>
                  <a:lnTo>
                    <a:pt x="50" y="2825"/>
                  </a:lnTo>
                  <a:cubicBezTo>
                    <a:pt x="50" y="2839"/>
                    <a:pt x="39" y="2850"/>
                    <a:pt x="25" y="2850"/>
                  </a:cubicBezTo>
                  <a:cubicBezTo>
                    <a:pt x="11" y="2850"/>
                    <a:pt x="0" y="2839"/>
                    <a:pt x="0" y="2825"/>
                  </a:cubicBezTo>
                  <a:close/>
                  <a:moveTo>
                    <a:pt x="0" y="2275"/>
                  </a:moveTo>
                  <a:lnTo>
                    <a:pt x="0" y="2275"/>
                  </a:lnTo>
                  <a:cubicBezTo>
                    <a:pt x="0" y="2261"/>
                    <a:pt x="11" y="2250"/>
                    <a:pt x="25" y="2250"/>
                  </a:cubicBezTo>
                  <a:cubicBezTo>
                    <a:pt x="39" y="2250"/>
                    <a:pt x="50" y="2261"/>
                    <a:pt x="50" y="2275"/>
                  </a:cubicBezTo>
                  <a:lnTo>
                    <a:pt x="50" y="2275"/>
                  </a:lnTo>
                  <a:cubicBezTo>
                    <a:pt x="50" y="2289"/>
                    <a:pt x="39" y="2300"/>
                    <a:pt x="25" y="2300"/>
                  </a:cubicBezTo>
                  <a:cubicBezTo>
                    <a:pt x="11" y="2300"/>
                    <a:pt x="0" y="2289"/>
                    <a:pt x="0" y="2275"/>
                  </a:cubicBezTo>
                  <a:close/>
                  <a:moveTo>
                    <a:pt x="0" y="2075"/>
                  </a:moveTo>
                  <a:lnTo>
                    <a:pt x="0" y="1725"/>
                  </a:lnTo>
                  <a:cubicBezTo>
                    <a:pt x="0" y="1711"/>
                    <a:pt x="11" y="1700"/>
                    <a:pt x="25" y="1700"/>
                  </a:cubicBezTo>
                  <a:cubicBezTo>
                    <a:pt x="39" y="1700"/>
                    <a:pt x="50" y="1711"/>
                    <a:pt x="50" y="1725"/>
                  </a:cubicBezTo>
                  <a:lnTo>
                    <a:pt x="50" y="2075"/>
                  </a:lnTo>
                  <a:cubicBezTo>
                    <a:pt x="50" y="2089"/>
                    <a:pt x="39" y="2100"/>
                    <a:pt x="25" y="2100"/>
                  </a:cubicBezTo>
                  <a:cubicBezTo>
                    <a:pt x="11" y="2100"/>
                    <a:pt x="0" y="2089"/>
                    <a:pt x="0" y="2075"/>
                  </a:cubicBezTo>
                  <a:close/>
                  <a:moveTo>
                    <a:pt x="0" y="1525"/>
                  </a:moveTo>
                  <a:lnTo>
                    <a:pt x="0" y="1525"/>
                  </a:lnTo>
                  <a:cubicBezTo>
                    <a:pt x="0" y="1511"/>
                    <a:pt x="11" y="1500"/>
                    <a:pt x="25" y="1500"/>
                  </a:cubicBezTo>
                  <a:cubicBezTo>
                    <a:pt x="39" y="1500"/>
                    <a:pt x="50" y="1511"/>
                    <a:pt x="50" y="1525"/>
                  </a:cubicBezTo>
                  <a:lnTo>
                    <a:pt x="50" y="1525"/>
                  </a:lnTo>
                  <a:cubicBezTo>
                    <a:pt x="50" y="1539"/>
                    <a:pt x="39" y="1550"/>
                    <a:pt x="25" y="1550"/>
                  </a:cubicBezTo>
                  <a:cubicBezTo>
                    <a:pt x="11" y="1550"/>
                    <a:pt x="0" y="1539"/>
                    <a:pt x="0" y="1525"/>
                  </a:cubicBezTo>
                  <a:close/>
                  <a:moveTo>
                    <a:pt x="0" y="1325"/>
                  </a:moveTo>
                  <a:lnTo>
                    <a:pt x="0" y="975"/>
                  </a:lnTo>
                  <a:cubicBezTo>
                    <a:pt x="0" y="961"/>
                    <a:pt x="11" y="950"/>
                    <a:pt x="25" y="950"/>
                  </a:cubicBezTo>
                  <a:cubicBezTo>
                    <a:pt x="39" y="950"/>
                    <a:pt x="50" y="961"/>
                    <a:pt x="50" y="975"/>
                  </a:cubicBezTo>
                  <a:lnTo>
                    <a:pt x="50" y="1325"/>
                  </a:lnTo>
                  <a:cubicBezTo>
                    <a:pt x="50" y="1339"/>
                    <a:pt x="39" y="1350"/>
                    <a:pt x="25" y="1350"/>
                  </a:cubicBezTo>
                  <a:cubicBezTo>
                    <a:pt x="11" y="1350"/>
                    <a:pt x="0" y="1339"/>
                    <a:pt x="0" y="1325"/>
                  </a:cubicBezTo>
                  <a:close/>
                  <a:moveTo>
                    <a:pt x="0" y="775"/>
                  </a:moveTo>
                  <a:lnTo>
                    <a:pt x="0" y="775"/>
                  </a:lnTo>
                  <a:cubicBezTo>
                    <a:pt x="0" y="761"/>
                    <a:pt x="11" y="750"/>
                    <a:pt x="25" y="750"/>
                  </a:cubicBezTo>
                  <a:cubicBezTo>
                    <a:pt x="39" y="750"/>
                    <a:pt x="50" y="761"/>
                    <a:pt x="50" y="775"/>
                  </a:cubicBezTo>
                  <a:lnTo>
                    <a:pt x="50" y="775"/>
                  </a:lnTo>
                  <a:cubicBezTo>
                    <a:pt x="50" y="789"/>
                    <a:pt x="39" y="800"/>
                    <a:pt x="25" y="800"/>
                  </a:cubicBezTo>
                  <a:cubicBezTo>
                    <a:pt x="11" y="800"/>
                    <a:pt x="0" y="789"/>
                    <a:pt x="0" y="775"/>
                  </a:cubicBezTo>
                  <a:close/>
                  <a:moveTo>
                    <a:pt x="0" y="575"/>
                  </a:moveTo>
                  <a:lnTo>
                    <a:pt x="0" y="225"/>
                  </a:lnTo>
                  <a:cubicBezTo>
                    <a:pt x="0" y="211"/>
                    <a:pt x="11" y="200"/>
                    <a:pt x="25" y="200"/>
                  </a:cubicBezTo>
                  <a:cubicBezTo>
                    <a:pt x="39" y="200"/>
                    <a:pt x="50" y="211"/>
                    <a:pt x="50" y="225"/>
                  </a:cubicBezTo>
                  <a:lnTo>
                    <a:pt x="50" y="575"/>
                  </a:lnTo>
                  <a:cubicBezTo>
                    <a:pt x="50" y="589"/>
                    <a:pt x="39" y="600"/>
                    <a:pt x="25" y="600"/>
                  </a:cubicBezTo>
                  <a:cubicBezTo>
                    <a:pt x="11" y="600"/>
                    <a:pt x="0" y="589"/>
                    <a:pt x="0" y="575"/>
                  </a:cubicBezTo>
                  <a:close/>
                  <a:moveTo>
                    <a:pt x="0" y="25"/>
                  </a:moveTo>
                  <a:lnTo>
                    <a:pt x="0" y="25"/>
                  </a:lnTo>
                  <a:cubicBezTo>
                    <a:pt x="0" y="11"/>
                    <a:pt x="11" y="0"/>
                    <a:pt x="25" y="0"/>
                  </a:cubicBezTo>
                  <a:cubicBezTo>
                    <a:pt x="39" y="0"/>
                    <a:pt x="50" y="11"/>
                    <a:pt x="50" y="25"/>
                  </a:cubicBezTo>
                  <a:lnTo>
                    <a:pt x="50" y="25"/>
                  </a:lnTo>
                  <a:cubicBezTo>
                    <a:pt x="50" y="39"/>
                    <a:pt x="39" y="50"/>
                    <a:pt x="25" y="50"/>
                  </a:cubicBezTo>
                  <a:cubicBezTo>
                    <a:pt x="11" y="50"/>
                    <a:pt x="0" y="39"/>
                    <a:pt x="0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2102760" y="1339560"/>
              <a:ext cx="166680" cy="169920"/>
            </a:xfrm>
            <a:custGeom>
              <a:avLst/>
              <a:gdLst/>
              <a:ahLst/>
              <a:rect l="l" t="t" r="r" b="b"/>
              <a:pathLst>
                <a:path w="1500" h="1524">
                  <a:moveTo>
                    <a:pt x="1451" y="101"/>
                  </a:moveTo>
                  <a:lnTo>
                    <a:pt x="1308" y="109"/>
                  </a:lnTo>
                  <a:lnTo>
                    <a:pt x="1174" y="131"/>
                  </a:lnTo>
                  <a:lnTo>
                    <a:pt x="1045" y="167"/>
                  </a:lnTo>
                  <a:lnTo>
                    <a:pt x="922" y="216"/>
                  </a:lnTo>
                  <a:lnTo>
                    <a:pt x="803" y="277"/>
                  </a:lnTo>
                  <a:lnTo>
                    <a:pt x="803" y="277"/>
                  </a:lnTo>
                  <a:lnTo>
                    <a:pt x="808" y="274"/>
                  </a:lnTo>
                  <a:cubicBezTo>
                    <a:pt x="784" y="289"/>
                    <a:pt x="753" y="283"/>
                    <a:pt x="738" y="260"/>
                  </a:cubicBezTo>
                  <a:cubicBezTo>
                    <a:pt x="723" y="237"/>
                    <a:pt x="730" y="206"/>
                    <a:pt x="753" y="191"/>
                  </a:cubicBezTo>
                  <a:lnTo>
                    <a:pt x="758" y="188"/>
                  </a:lnTo>
                  <a:lnTo>
                    <a:pt x="885" y="123"/>
                  </a:lnTo>
                  <a:lnTo>
                    <a:pt x="1018" y="70"/>
                  </a:lnTo>
                  <a:lnTo>
                    <a:pt x="1159" y="32"/>
                  </a:lnTo>
                  <a:lnTo>
                    <a:pt x="1303" y="10"/>
                  </a:lnTo>
                  <a:lnTo>
                    <a:pt x="1446" y="2"/>
                  </a:lnTo>
                  <a:cubicBezTo>
                    <a:pt x="1473" y="0"/>
                    <a:pt x="1497" y="21"/>
                    <a:pt x="1498" y="49"/>
                  </a:cubicBezTo>
                  <a:cubicBezTo>
                    <a:pt x="1500" y="76"/>
                    <a:pt x="1479" y="100"/>
                    <a:pt x="1451" y="101"/>
                  </a:cubicBezTo>
                  <a:close/>
                  <a:moveTo>
                    <a:pt x="503" y="517"/>
                  </a:moveTo>
                  <a:lnTo>
                    <a:pt x="503" y="517"/>
                  </a:lnTo>
                  <a:cubicBezTo>
                    <a:pt x="483" y="536"/>
                    <a:pt x="452" y="536"/>
                    <a:pt x="432" y="516"/>
                  </a:cubicBezTo>
                  <a:cubicBezTo>
                    <a:pt x="413" y="496"/>
                    <a:pt x="414" y="464"/>
                    <a:pt x="434" y="445"/>
                  </a:cubicBezTo>
                  <a:lnTo>
                    <a:pt x="434" y="445"/>
                  </a:lnTo>
                  <a:cubicBezTo>
                    <a:pt x="454" y="426"/>
                    <a:pt x="485" y="426"/>
                    <a:pt x="504" y="446"/>
                  </a:cubicBezTo>
                  <a:cubicBezTo>
                    <a:pt x="524" y="466"/>
                    <a:pt x="523" y="498"/>
                    <a:pt x="503" y="517"/>
                  </a:cubicBezTo>
                  <a:close/>
                  <a:moveTo>
                    <a:pt x="278" y="829"/>
                  </a:moveTo>
                  <a:lnTo>
                    <a:pt x="260" y="861"/>
                  </a:lnTo>
                  <a:lnTo>
                    <a:pt x="203" y="988"/>
                  </a:lnTo>
                  <a:lnTo>
                    <a:pt x="158" y="1122"/>
                  </a:lnTo>
                  <a:lnTo>
                    <a:pt x="124" y="1261"/>
                  </a:lnTo>
                  <a:lnTo>
                    <a:pt x="104" y="1405"/>
                  </a:lnTo>
                  <a:lnTo>
                    <a:pt x="101" y="1475"/>
                  </a:lnTo>
                  <a:cubicBezTo>
                    <a:pt x="100" y="1503"/>
                    <a:pt x="76" y="1524"/>
                    <a:pt x="49" y="1523"/>
                  </a:cubicBezTo>
                  <a:cubicBezTo>
                    <a:pt x="21" y="1522"/>
                    <a:pt x="0" y="1498"/>
                    <a:pt x="1" y="1471"/>
                  </a:cubicBezTo>
                  <a:lnTo>
                    <a:pt x="5" y="1391"/>
                  </a:lnTo>
                  <a:lnTo>
                    <a:pt x="27" y="1238"/>
                  </a:lnTo>
                  <a:lnTo>
                    <a:pt x="63" y="1089"/>
                  </a:lnTo>
                  <a:lnTo>
                    <a:pt x="112" y="947"/>
                  </a:lnTo>
                  <a:lnTo>
                    <a:pt x="173" y="812"/>
                  </a:lnTo>
                  <a:lnTo>
                    <a:pt x="191" y="779"/>
                  </a:lnTo>
                  <a:cubicBezTo>
                    <a:pt x="205" y="755"/>
                    <a:pt x="236" y="747"/>
                    <a:pt x="260" y="761"/>
                  </a:cubicBezTo>
                  <a:cubicBezTo>
                    <a:pt x="284" y="774"/>
                    <a:pt x="292" y="805"/>
                    <a:pt x="278" y="82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2102760" y="1506600"/>
              <a:ext cx="10800" cy="563760"/>
            </a:xfrm>
            <a:custGeom>
              <a:avLst/>
              <a:gdLst/>
              <a:ahLst/>
              <a:rect l="l" t="t" r="r" b="b"/>
              <a:pathLst>
                <a:path w="100" h="5060">
                  <a:moveTo>
                    <a:pt x="0" y="5010"/>
                  </a:moveTo>
                  <a:lnTo>
                    <a:pt x="0" y="4310"/>
                  </a:lnTo>
                  <a:cubicBezTo>
                    <a:pt x="0" y="4283"/>
                    <a:pt x="23" y="4260"/>
                    <a:pt x="50" y="4260"/>
                  </a:cubicBezTo>
                  <a:cubicBezTo>
                    <a:pt x="78" y="4260"/>
                    <a:pt x="100" y="4283"/>
                    <a:pt x="100" y="4310"/>
                  </a:cubicBezTo>
                  <a:lnTo>
                    <a:pt x="100" y="5010"/>
                  </a:lnTo>
                  <a:cubicBezTo>
                    <a:pt x="100" y="5038"/>
                    <a:pt x="78" y="5060"/>
                    <a:pt x="50" y="5060"/>
                  </a:cubicBezTo>
                  <a:cubicBezTo>
                    <a:pt x="23" y="5060"/>
                    <a:pt x="0" y="5038"/>
                    <a:pt x="0" y="5010"/>
                  </a:cubicBezTo>
                  <a:close/>
                  <a:moveTo>
                    <a:pt x="0" y="3910"/>
                  </a:moveTo>
                  <a:lnTo>
                    <a:pt x="0" y="3910"/>
                  </a:lnTo>
                  <a:cubicBezTo>
                    <a:pt x="0" y="3883"/>
                    <a:pt x="23" y="3860"/>
                    <a:pt x="50" y="3860"/>
                  </a:cubicBezTo>
                  <a:cubicBezTo>
                    <a:pt x="78" y="3860"/>
                    <a:pt x="100" y="3883"/>
                    <a:pt x="100" y="3910"/>
                  </a:cubicBezTo>
                  <a:lnTo>
                    <a:pt x="100" y="3910"/>
                  </a:lnTo>
                  <a:cubicBezTo>
                    <a:pt x="100" y="3938"/>
                    <a:pt x="78" y="3960"/>
                    <a:pt x="50" y="3960"/>
                  </a:cubicBezTo>
                  <a:cubicBezTo>
                    <a:pt x="23" y="3960"/>
                    <a:pt x="0" y="3938"/>
                    <a:pt x="0" y="3910"/>
                  </a:cubicBezTo>
                  <a:close/>
                  <a:moveTo>
                    <a:pt x="0" y="3510"/>
                  </a:moveTo>
                  <a:lnTo>
                    <a:pt x="0" y="2810"/>
                  </a:lnTo>
                  <a:cubicBezTo>
                    <a:pt x="0" y="2783"/>
                    <a:pt x="23" y="2760"/>
                    <a:pt x="50" y="2760"/>
                  </a:cubicBezTo>
                  <a:cubicBezTo>
                    <a:pt x="78" y="2760"/>
                    <a:pt x="100" y="2783"/>
                    <a:pt x="100" y="2810"/>
                  </a:cubicBezTo>
                  <a:lnTo>
                    <a:pt x="100" y="3510"/>
                  </a:lnTo>
                  <a:cubicBezTo>
                    <a:pt x="100" y="3538"/>
                    <a:pt x="78" y="3560"/>
                    <a:pt x="50" y="3560"/>
                  </a:cubicBezTo>
                  <a:cubicBezTo>
                    <a:pt x="23" y="3560"/>
                    <a:pt x="0" y="3538"/>
                    <a:pt x="0" y="3510"/>
                  </a:cubicBezTo>
                  <a:close/>
                  <a:moveTo>
                    <a:pt x="0" y="2410"/>
                  </a:moveTo>
                  <a:lnTo>
                    <a:pt x="0" y="2410"/>
                  </a:lnTo>
                  <a:cubicBezTo>
                    <a:pt x="0" y="2383"/>
                    <a:pt x="23" y="2360"/>
                    <a:pt x="50" y="2360"/>
                  </a:cubicBezTo>
                  <a:cubicBezTo>
                    <a:pt x="78" y="2360"/>
                    <a:pt x="100" y="2383"/>
                    <a:pt x="100" y="2410"/>
                  </a:cubicBezTo>
                  <a:lnTo>
                    <a:pt x="100" y="2410"/>
                  </a:lnTo>
                  <a:cubicBezTo>
                    <a:pt x="100" y="2438"/>
                    <a:pt x="78" y="2460"/>
                    <a:pt x="50" y="2460"/>
                  </a:cubicBezTo>
                  <a:cubicBezTo>
                    <a:pt x="23" y="2460"/>
                    <a:pt x="0" y="2438"/>
                    <a:pt x="0" y="2410"/>
                  </a:cubicBezTo>
                  <a:close/>
                  <a:moveTo>
                    <a:pt x="0" y="2010"/>
                  </a:moveTo>
                  <a:lnTo>
                    <a:pt x="0" y="1310"/>
                  </a:lnTo>
                  <a:cubicBezTo>
                    <a:pt x="0" y="1283"/>
                    <a:pt x="23" y="1260"/>
                    <a:pt x="50" y="1260"/>
                  </a:cubicBezTo>
                  <a:cubicBezTo>
                    <a:pt x="78" y="1260"/>
                    <a:pt x="100" y="1283"/>
                    <a:pt x="100" y="1310"/>
                  </a:cubicBezTo>
                  <a:lnTo>
                    <a:pt x="100" y="2010"/>
                  </a:lnTo>
                  <a:cubicBezTo>
                    <a:pt x="100" y="2038"/>
                    <a:pt x="78" y="2060"/>
                    <a:pt x="50" y="2060"/>
                  </a:cubicBezTo>
                  <a:cubicBezTo>
                    <a:pt x="23" y="2060"/>
                    <a:pt x="0" y="2038"/>
                    <a:pt x="0" y="2010"/>
                  </a:cubicBezTo>
                  <a:close/>
                  <a:moveTo>
                    <a:pt x="0" y="910"/>
                  </a:moveTo>
                  <a:lnTo>
                    <a:pt x="0" y="910"/>
                  </a:lnTo>
                  <a:cubicBezTo>
                    <a:pt x="0" y="883"/>
                    <a:pt x="23" y="860"/>
                    <a:pt x="50" y="860"/>
                  </a:cubicBezTo>
                  <a:cubicBezTo>
                    <a:pt x="78" y="860"/>
                    <a:pt x="100" y="883"/>
                    <a:pt x="100" y="910"/>
                  </a:cubicBezTo>
                  <a:lnTo>
                    <a:pt x="100" y="910"/>
                  </a:lnTo>
                  <a:cubicBezTo>
                    <a:pt x="100" y="938"/>
                    <a:pt x="78" y="960"/>
                    <a:pt x="50" y="960"/>
                  </a:cubicBezTo>
                  <a:cubicBezTo>
                    <a:pt x="23" y="960"/>
                    <a:pt x="0" y="938"/>
                    <a:pt x="0" y="910"/>
                  </a:cubicBezTo>
                  <a:close/>
                  <a:moveTo>
                    <a:pt x="0" y="510"/>
                  </a:moveTo>
                  <a:lnTo>
                    <a:pt x="0" y="50"/>
                  </a:lnTo>
                  <a:cubicBezTo>
                    <a:pt x="0" y="23"/>
                    <a:pt x="23" y="0"/>
                    <a:pt x="50" y="0"/>
                  </a:cubicBezTo>
                  <a:cubicBezTo>
                    <a:pt x="78" y="0"/>
                    <a:pt x="100" y="23"/>
                    <a:pt x="100" y="50"/>
                  </a:cubicBezTo>
                  <a:lnTo>
                    <a:pt x="100" y="510"/>
                  </a:lnTo>
                  <a:cubicBezTo>
                    <a:pt x="100" y="538"/>
                    <a:pt x="78" y="560"/>
                    <a:pt x="50" y="560"/>
                  </a:cubicBezTo>
                  <a:cubicBezTo>
                    <a:pt x="23" y="560"/>
                    <a:pt x="0" y="538"/>
                    <a:pt x="0" y="5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>
              <a:off x="2135160" y="2137320"/>
              <a:ext cx="169920" cy="166680"/>
            </a:xfrm>
            <a:custGeom>
              <a:avLst/>
              <a:gdLst/>
              <a:ahLst/>
              <a:rect l="l" t="t" r="r" b="b"/>
              <a:pathLst>
                <a:path w="1525" h="1499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5"/>
                  </a:lnTo>
                  <a:lnTo>
                    <a:pt x="216" y="578"/>
                  </a:lnTo>
                  <a:lnTo>
                    <a:pt x="277" y="697"/>
                  </a:lnTo>
                  <a:lnTo>
                    <a:pt x="277" y="697"/>
                  </a:lnTo>
                  <a:lnTo>
                    <a:pt x="274" y="692"/>
                  </a:lnTo>
                  <a:cubicBezTo>
                    <a:pt x="289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7"/>
                  </a:cubicBezTo>
                  <a:lnTo>
                    <a:pt x="188" y="742"/>
                  </a:lnTo>
                  <a:lnTo>
                    <a:pt x="123" y="615"/>
                  </a:lnTo>
                  <a:lnTo>
                    <a:pt x="70" y="482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6" y="997"/>
                  </a:moveTo>
                  <a:lnTo>
                    <a:pt x="517" y="997"/>
                  </a:lnTo>
                  <a:cubicBezTo>
                    <a:pt x="536" y="1016"/>
                    <a:pt x="536" y="1048"/>
                    <a:pt x="516" y="1067"/>
                  </a:cubicBezTo>
                  <a:cubicBezTo>
                    <a:pt x="496" y="1087"/>
                    <a:pt x="464" y="1086"/>
                    <a:pt x="445" y="1067"/>
                  </a:cubicBezTo>
                  <a:lnTo>
                    <a:pt x="445" y="1067"/>
                  </a:lnTo>
                  <a:cubicBezTo>
                    <a:pt x="426" y="1047"/>
                    <a:pt x="426" y="1015"/>
                    <a:pt x="446" y="996"/>
                  </a:cubicBezTo>
                  <a:cubicBezTo>
                    <a:pt x="466" y="977"/>
                    <a:pt x="497" y="977"/>
                    <a:pt x="516" y="997"/>
                  </a:cubicBezTo>
                  <a:close/>
                  <a:moveTo>
                    <a:pt x="829" y="1221"/>
                  </a:moveTo>
                  <a:lnTo>
                    <a:pt x="861" y="1239"/>
                  </a:lnTo>
                  <a:lnTo>
                    <a:pt x="988" y="1296"/>
                  </a:lnTo>
                  <a:lnTo>
                    <a:pt x="1122" y="1341"/>
                  </a:lnTo>
                  <a:lnTo>
                    <a:pt x="1261" y="1375"/>
                  </a:lnTo>
                  <a:lnTo>
                    <a:pt x="1405" y="1395"/>
                  </a:lnTo>
                  <a:lnTo>
                    <a:pt x="1476" y="1398"/>
                  </a:lnTo>
                  <a:cubicBezTo>
                    <a:pt x="1503" y="1399"/>
                    <a:pt x="1525" y="1423"/>
                    <a:pt x="1524" y="1450"/>
                  </a:cubicBezTo>
                  <a:cubicBezTo>
                    <a:pt x="1522" y="1478"/>
                    <a:pt x="1499" y="1499"/>
                    <a:pt x="1471" y="1498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089" y="1436"/>
                  </a:lnTo>
                  <a:lnTo>
                    <a:pt x="947" y="1387"/>
                  </a:lnTo>
                  <a:lnTo>
                    <a:pt x="812" y="1326"/>
                  </a:lnTo>
                  <a:lnTo>
                    <a:pt x="780" y="1308"/>
                  </a:lnTo>
                  <a:cubicBezTo>
                    <a:pt x="756" y="1294"/>
                    <a:pt x="747" y="1264"/>
                    <a:pt x="761" y="1240"/>
                  </a:cubicBezTo>
                  <a:cubicBezTo>
                    <a:pt x="775" y="1216"/>
                    <a:pt x="805" y="1207"/>
                    <a:pt x="829" y="12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>
              <a:off x="3288240" y="2661480"/>
              <a:ext cx="169920" cy="166680"/>
            </a:xfrm>
            <a:custGeom>
              <a:avLst/>
              <a:gdLst/>
              <a:ahLst/>
              <a:rect l="l" t="t" r="r" b="b"/>
              <a:pathLst>
                <a:path w="1525" h="1499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4"/>
                  </a:lnTo>
                  <a:lnTo>
                    <a:pt x="216" y="578"/>
                  </a:lnTo>
                  <a:lnTo>
                    <a:pt x="277" y="696"/>
                  </a:lnTo>
                  <a:lnTo>
                    <a:pt x="277" y="696"/>
                  </a:lnTo>
                  <a:lnTo>
                    <a:pt x="275" y="692"/>
                  </a:lnTo>
                  <a:cubicBezTo>
                    <a:pt x="290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6"/>
                  </a:cubicBezTo>
                  <a:lnTo>
                    <a:pt x="188" y="741"/>
                  </a:lnTo>
                  <a:lnTo>
                    <a:pt x="123" y="615"/>
                  </a:lnTo>
                  <a:lnTo>
                    <a:pt x="70" y="481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7" y="996"/>
                  </a:moveTo>
                  <a:lnTo>
                    <a:pt x="517" y="996"/>
                  </a:lnTo>
                  <a:cubicBezTo>
                    <a:pt x="537" y="1016"/>
                    <a:pt x="536" y="1048"/>
                    <a:pt x="516" y="1067"/>
                  </a:cubicBezTo>
                  <a:cubicBezTo>
                    <a:pt x="497" y="1086"/>
                    <a:pt x="465" y="1086"/>
                    <a:pt x="446" y="1066"/>
                  </a:cubicBezTo>
                  <a:lnTo>
                    <a:pt x="446" y="1066"/>
                  </a:lnTo>
                  <a:cubicBezTo>
                    <a:pt x="426" y="1046"/>
                    <a:pt x="427" y="1015"/>
                    <a:pt x="447" y="995"/>
                  </a:cubicBezTo>
                  <a:cubicBezTo>
                    <a:pt x="466" y="976"/>
                    <a:pt x="498" y="977"/>
                    <a:pt x="517" y="996"/>
                  </a:cubicBezTo>
                  <a:close/>
                  <a:moveTo>
                    <a:pt x="830" y="1221"/>
                  </a:moveTo>
                  <a:lnTo>
                    <a:pt x="861" y="1239"/>
                  </a:lnTo>
                  <a:lnTo>
                    <a:pt x="988" y="1296"/>
                  </a:lnTo>
                  <a:lnTo>
                    <a:pt x="1122" y="1341"/>
                  </a:lnTo>
                  <a:lnTo>
                    <a:pt x="1261" y="1375"/>
                  </a:lnTo>
                  <a:lnTo>
                    <a:pt x="1405" y="1395"/>
                  </a:lnTo>
                  <a:lnTo>
                    <a:pt x="1476" y="1398"/>
                  </a:lnTo>
                  <a:cubicBezTo>
                    <a:pt x="1504" y="1399"/>
                    <a:pt x="1525" y="1423"/>
                    <a:pt x="1524" y="1450"/>
                  </a:cubicBezTo>
                  <a:cubicBezTo>
                    <a:pt x="1523" y="1478"/>
                    <a:pt x="1499" y="1499"/>
                    <a:pt x="1472" y="1498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089" y="1436"/>
                  </a:lnTo>
                  <a:lnTo>
                    <a:pt x="947" y="1387"/>
                  </a:lnTo>
                  <a:lnTo>
                    <a:pt x="812" y="1326"/>
                  </a:lnTo>
                  <a:lnTo>
                    <a:pt x="780" y="1308"/>
                  </a:lnTo>
                  <a:cubicBezTo>
                    <a:pt x="756" y="1294"/>
                    <a:pt x="748" y="1264"/>
                    <a:pt x="761" y="1240"/>
                  </a:cubicBezTo>
                  <a:cubicBezTo>
                    <a:pt x="775" y="1216"/>
                    <a:pt x="806" y="1207"/>
                    <a:pt x="830" y="12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>
              <a:off x="2302200" y="2293560"/>
              <a:ext cx="757440" cy="15120"/>
            </a:xfrm>
            <a:custGeom>
              <a:avLst/>
              <a:gdLst/>
              <a:ahLst/>
              <a:rect l="l" t="t" r="r" b="b"/>
              <a:pathLst>
                <a:path w="6800" h="145">
                  <a:moveTo>
                    <a:pt x="50" y="0"/>
                  </a:moveTo>
                  <a:lnTo>
                    <a:pt x="750" y="5"/>
                  </a:lnTo>
                  <a:cubicBezTo>
                    <a:pt x="778" y="5"/>
                    <a:pt x="800" y="28"/>
                    <a:pt x="800" y="55"/>
                  </a:cubicBezTo>
                  <a:cubicBezTo>
                    <a:pt x="800" y="83"/>
                    <a:pt x="777" y="105"/>
                    <a:pt x="749" y="105"/>
                  </a:cubicBezTo>
                  <a:lnTo>
                    <a:pt x="49" y="100"/>
                  </a:lnTo>
                  <a:cubicBezTo>
                    <a:pt x="22" y="100"/>
                    <a:pt x="0" y="78"/>
                    <a:pt x="0" y="50"/>
                  </a:cubicBezTo>
                  <a:cubicBezTo>
                    <a:pt x="0" y="23"/>
                    <a:pt x="23" y="0"/>
                    <a:pt x="50" y="0"/>
                  </a:cubicBezTo>
                  <a:close/>
                  <a:moveTo>
                    <a:pt x="1150" y="8"/>
                  </a:moveTo>
                  <a:lnTo>
                    <a:pt x="1150" y="8"/>
                  </a:lnTo>
                  <a:cubicBezTo>
                    <a:pt x="1177" y="8"/>
                    <a:pt x="1200" y="30"/>
                    <a:pt x="1200" y="58"/>
                  </a:cubicBezTo>
                  <a:cubicBezTo>
                    <a:pt x="1200" y="85"/>
                    <a:pt x="1177" y="108"/>
                    <a:pt x="1150" y="108"/>
                  </a:cubicBezTo>
                  <a:lnTo>
                    <a:pt x="1150" y="108"/>
                  </a:lnTo>
                  <a:cubicBezTo>
                    <a:pt x="1122" y="108"/>
                    <a:pt x="1100" y="85"/>
                    <a:pt x="1100" y="58"/>
                  </a:cubicBezTo>
                  <a:cubicBezTo>
                    <a:pt x="1100" y="30"/>
                    <a:pt x="1122" y="8"/>
                    <a:pt x="1150" y="8"/>
                  </a:cubicBezTo>
                  <a:close/>
                  <a:moveTo>
                    <a:pt x="1550" y="10"/>
                  </a:moveTo>
                  <a:lnTo>
                    <a:pt x="2250" y="15"/>
                  </a:lnTo>
                  <a:cubicBezTo>
                    <a:pt x="2278" y="15"/>
                    <a:pt x="2300" y="38"/>
                    <a:pt x="2300" y="65"/>
                  </a:cubicBezTo>
                  <a:cubicBezTo>
                    <a:pt x="2300" y="93"/>
                    <a:pt x="2277" y="115"/>
                    <a:pt x="2250" y="115"/>
                  </a:cubicBezTo>
                  <a:lnTo>
                    <a:pt x="1550" y="110"/>
                  </a:lnTo>
                  <a:cubicBezTo>
                    <a:pt x="1522" y="110"/>
                    <a:pt x="1500" y="88"/>
                    <a:pt x="1500" y="60"/>
                  </a:cubicBezTo>
                  <a:cubicBezTo>
                    <a:pt x="1500" y="33"/>
                    <a:pt x="1523" y="10"/>
                    <a:pt x="1550" y="10"/>
                  </a:cubicBezTo>
                  <a:close/>
                  <a:moveTo>
                    <a:pt x="2650" y="18"/>
                  </a:moveTo>
                  <a:lnTo>
                    <a:pt x="2650" y="18"/>
                  </a:lnTo>
                  <a:cubicBezTo>
                    <a:pt x="2678" y="18"/>
                    <a:pt x="2700" y="40"/>
                    <a:pt x="2700" y="68"/>
                  </a:cubicBezTo>
                  <a:cubicBezTo>
                    <a:pt x="2700" y="95"/>
                    <a:pt x="2678" y="118"/>
                    <a:pt x="2650" y="118"/>
                  </a:cubicBezTo>
                  <a:lnTo>
                    <a:pt x="2650" y="118"/>
                  </a:lnTo>
                  <a:cubicBezTo>
                    <a:pt x="2622" y="118"/>
                    <a:pt x="2600" y="95"/>
                    <a:pt x="2600" y="68"/>
                  </a:cubicBezTo>
                  <a:cubicBezTo>
                    <a:pt x="2600" y="40"/>
                    <a:pt x="2622" y="18"/>
                    <a:pt x="2650" y="18"/>
                  </a:cubicBezTo>
                  <a:close/>
                  <a:moveTo>
                    <a:pt x="3050" y="20"/>
                  </a:moveTo>
                  <a:lnTo>
                    <a:pt x="3750" y="25"/>
                  </a:lnTo>
                  <a:cubicBezTo>
                    <a:pt x="3778" y="25"/>
                    <a:pt x="3800" y="48"/>
                    <a:pt x="3800" y="75"/>
                  </a:cubicBezTo>
                  <a:cubicBezTo>
                    <a:pt x="3800" y="103"/>
                    <a:pt x="3777" y="125"/>
                    <a:pt x="3750" y="125"/>
                  </a:cubicBezTo>
                  <a:lnTo>
                    <a:pt x="3050" y="120"/>
                  </a:lnTo>
                  <a:cubicBezTo>
                    <a:pt x="3022" y="120"/>
                    <a:pt x="3000" y="98"/>
                    <a:pt x="3000" y="70"/>
                  </a:cubicBezTo>
                  <a:cubicBezTo>
                    <a:pt x="3000" y="43"/>
                    <a:pt x="3023" y="20"/>
                    <a:pt x="3050" y="20"/>
                  </a:cubicBezTo>
                  <a:close/>
                  <a:moveTo>
                    <a:pt x="4150" y="28"/>
                  </a:moveTo>
                  <a:lnTo>
                    <a:pt x="4150" y="28"/>
                  </a:lnTo>
                  <a:cubicBezTo>
                    <a:pt x="4178" y="28"/>
                    <a:pt x="4200" y="50"/>
                    <a:pt x="4200" y="78"/>
                  </a:cubicBezTo>
                  <a:cubicBezTo>
                    <a:pt x="4200" y="105"/>
                    <a:pt x="4178" y="128"/>
                    <a:pt x="4150" y="128"/>
                  </a:cubicBezTo>
                  <a:lnTo>
                    <a:pt x="4150" y="128"/>
                  </a:lnTo>
                  <a:cubicBezTo>
                    <a:pt x="4122" y="128"/>
                    <a:pt x="4100" y="105"/>
                    <a:pt x="4100" y="78"/>
                  </a:cubicBezTo>
                  <a:cubicBezTo>
                    <a:pt x="4100" y="50"/>
                    <a:pt x="4122" y="28"/>
                    <a:pt x="4150" y="28"/>
                  </a:cubicBezTo>
                  <a:close/>
                  <a:moveTo>
                    <a:pt x="4550" y="30"/>
                  </a:moveTo>
                  <a:lnTo>
                    <a:pt x="5250" y="35"/>
                  </a:lnTo>
                  <a:cubicBezTo>
                    <a:pt x="5278" y="35"/>
                    <a:pt x="5300" y="58"/>
                    <a:pt x="5300" y="85"/>
                  </a:cubicBezTo>
                  <a:cubicBezTo>
                    <a:pt x="5300" y="113"/>
                    <a:pt x="5277" y="135"/>
                    <a:pt x="5250" y="135"/>
                  </a:cubicBezTo>
                  <a:lnTo>
                    <a:pt x="4550" y="130"/>
                  </a:lnTo>
                  <a:cubicBezTo>
                    <a:pt x="4522" y="130"/>
                    <a:pt x="4500" y="108"/>
                    <a:pt x="4500" y="80"/>
                  </a:cubicBezTo>
                  <a:cubicBezTo>
                    <a:pt x="4500" y="52"/>
                    <a:pt x="4523" y="30"/>
                    <a:pt x="4550" y="30"/>
                  </a:cubicBezTo>
                  <a:close/>
                  <a:moveTo>
                    <a:pt x="5650" y="38"/>
                  </a:moveTo>
                  <a:lnTo>
                    <a:pt x="5650" y="38"/>
                  </a:lnTo>
                  <a:cubicBezTo>
                    <a:pt x="5678" y="38"/>
                    <a:pt x="5700" y="60"/>
                    <a:pt x="5700" y="88"/>
                  </a:cubicBezTo>
                  <a:cubicBezTo>
                    <a:pt x="5700" y="115"/>
                    <a:pt x="5678" y="138"/>
                    <a:pt x="5650" y="138"/>
                  </a:cubicBezTo>
                  <a:lnTo>
                    <a:pt x="5650" y="138"/>
                  </a:lnTo>
                  <a:cubicBezTo>
                    <a:pt x="5622" y="138"/>
                    <a:pt x="5600" y="115"/>
                    <a:pt x="5600" y="88"/>
                  </a:cubicBezTo>
                  <a:cubicBezTo>
                    <a:pt x="5600" y="60"/>
                    <a:pt x="5622" y="38"/>
                    <a:pt x="5650" y="38"/>
                  </a:cubicBezTo>
                  <a:close/>
                  <a:moveTo>
                    <a:pt x="6050" y="40"/>
                  </a:moveTo>
                  <a:lnTo>
                    <a:pt x="6750" y="45"/>
                  </a:lnTo>
                  <a:cubicBezTo>
                    <a:pt x="6778" y="45"/>
                    <a:pt x="6800" y="68"/>
                    <a:pt x="6800" y="95"/>
                  </a:cubicBezTo>
                  <a:cubicBezTo>
                    <a:pt x="6800" y="123"/>
                    <a:pt x="6777" y="145"/>
                    <a:pt x="6750" y="145"/>
                  </a:cubicBezTo>
                  <a:lnTo>
                    <a:pt x="6050" y="140"/>
                  </a:lnTo>
                  <a:cubicBezTo>
                    <a:pt x="6022" y="140"/>
                    <a:pt x="6000" y="118"/>
                    <a:pt x="6000" y="90"/>
                  </a:cubicBezTo>
                  <a:cubicBezTo>
                    <a:pt x="6000" y="62"/>
                    <a:pt x="6023" y="40"/>
                    <a:pt x="6050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>
              <a:off x="3280320" y="2437200"/>
              <a:ext cx="13680" cy="227160"/>
            </a:xfrm>
            <a:custGeom>
              <a:avLst/>
              <a:gdLst/>
              <a:ahLst/>
              <a:rect l="l" t="t" r="r" b="b"/>
              <a:pathLst>
                <a:path w="128" h="2041">
                  <a:moveTo>
                    <a:pt x="27" y="1991"/>
                  </a:moveTo>
                  <a:lnTo>
                    <a:pt x="18" y="1291"/>
                  </a:lnTo>
                  <a:cubicBezTo>
                    <a:pt x="17" y="1264"/>
                    <a:pt x="40" y="1241"/>
                    <a:pt x="67" y="1241"/>
                  </a:cubicBezTo>
                  <a:cubicBezTo>
                    <a:pt x="95" y="1240"/>
                    <a:pt x="117" y="1262"/>
                    <a:pt x="118" y="1290"/>
                  </a:cubicBezTo>
                  <a:lnTo>
                    <a:pt x="127" y="1990"/>
                  </a:lnTo>
                  <a:cubicBezTo>
                    <a:pt x="128" y="2017"/>
                    <a:pt x="106" y="2040"/>
                    <a:pt x="78" y="2040"/>
                  </a:cubicBezTo>
                  <a:cubicBezTo>
                    <a:pt x="51" y="2041"/>
                    <a:pt x="28" y="2019"/>
                    <a:pt x="27" y="1991"/>
                  </a:cubicBezTo>
                  <a:close/>
                  <a:moveTo>
                    <a:pt x="12" y="892"/>
                  </a:moveTo>
                  <a:lnTo>
                    <a:pt x="12" y="891"/>
                  </a:lnTo>
                  <a:cubicBezTo>
                    <a:pt x="12" y="864"/>
                    <a:pt x="34" y="841"/>
                    <a:pt x="61" y="840"/>
                  </a:cubicBezTo>
                  <a:cubicBezTo>
                    <a:pt x="89" y="840"/>
                    <a:pt x="112" y="862"/>
                    <a:pt x="112" y="890"/>
                  </a:cubicBezTo>
                  <a:lnTo>
                    <a:pt x="112" y="890"/>
                  </a:lnTo>
                  <a:cubicBezTo>
                    <a:pt x="113" y="917"/>
                    <a:pt x="91" y="940"/>
                    <a:pt x="63" y="941"/>
                  </a:cubicBezTo>
                  <a:cubicBezTo>
                    <a:pt x="36" y="941"/>
                    <a:pt x="13" y="919"/>
                    <a:pt x="12" y="892"/>
                  </a:cubicBezTo>
                  <a:close/>
                  <a:moveTo>
                    <a:pt x="7" y="491"/>
                  </a:moveTo>
                  <a:lnTo>
                    <a:pt x="1" y="51"/>
                  </a:lnTo>
                  <a:cubicBezTo>
                    <a:pt x="0" y="24"/>
                    <a:pt x="23" y="1"/>
                    <a:pt x="50" y="0"/>
                  </a:cubicBezTo>
                  <a:cubicBezTo>
                    <a:pt x="78" y="0"/>
                    <a:pt x="100" y="22"/>
                    <a:pt x="101" y="50"/>
                  </a:cubicBezTo>
                  <a:lnTo>
                    <a:pt x="107" y="490"/>
                  </a:lnTo>
                  <a:cubicBezTo>
                    <a:pt x="107" y="517"/>
                    <a:pt x="85" y="540"/>
                    <a:pt x="58" y="541"/>
                  </a:cubicBezTo>
                  <a:cubicBezTo>
                    <a:pt x="30" y="541"/>
                    <a:pt x="7" y="519"/>
                    <a:pt x="7" y="4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>
              <a:off x="3127680" y="2297880"/>
              <a:ext cx="166680" cy="169920"/>
            </a:xfrm>
            <a:custGeom>
              <a:avLst/>
              <a:gdLst/>
              <a:ahLst/>
              <a:rect l="l" t="t" r="r" b="b"/>
              <a:pathLst>
                <a:path w="1499" h="1525">
                  <a:moveTo>
                    <a:pt x="54" y="2"/>
                  </a:moveTo>
                  <a:lnTo>
                    <a:pt x="197" y="10"/>
                  </a:lnTo>
                  <a:lnTo>
                    <a:pt x="341" y="32"/>
                  </a:lnTo>
                  <a:lnTo>
                    <a:pt x="482" y="70"/>
                  </a:lnTo>
                  <a:lnTo>
                    <a:pt x="615" y="123"/>
                  </a:lnTo>
                  <a:lnTo>
                    <a:pt x="742" y="188"/>
                  </a:lnTo>
                  <a:lnTo>
                    <a:pt x="747" y="191"/>
                  </a:lnTo>
                  <a:cubicBezTo>
                    <a:pt x="770" y="206"/>
                    <a:pt x="776" y="237"/>
                    <a:pt x="761" y="260"/>
                  </a:cubicBezTo>
                  <a:cubicBezTo>
                    <a:pt x="746" y="283"/>
                    <a:pt x="715" y="289"/>
                    <a:pt x="692" y="274"/>
                  </a:cubicBezTo>
                  <a:lnTo>
                    <a:pt x="697" y="277"/>
                  </a:lnTo>
                  <a:lnTo>
                    <a:pt x="697" y="277"/>
                  </a:lnTo>
                  <a:lnTo>
                    <a:pt x="578" y="216"/>
                  </a:lnTo>
                  <a:lnTo>
                    <a:pt x="455" y="167"/>
                  </a:lnTo>
                  <a:lnTo>
                    <a:pt x="326" y="131"/>
                  </a:lnTo>
                  <a:lnTo>
                    <a:pt x="192" y="109"/>
                  </a:lnTo>
                  <a:lnTo>
                    <a:pt x="49" y="101"/>
                  </a:lnTo>
                  <a:cubicBezTo>
                    <a:pt x="21" y="100"/>
                    <a:pt x="0" y="76"/>
                    <a:pt x="2" y="49"/>
                  </a:cubicBezTo>
                  <a:cubicBezTo>
                    <a:pt x="3" y="21"/>
                    <a:pt x="27" y="0"/>
                    <a:pt x="54" y="2"/>
                  </a:cubicBezTo>
                  <a:close/>
                  <a:moveTo>
                    <a:pt x="1066" y="445"/>
                  </a:moveTo>
                  <a:lnTo>
                    <a:pt x="1066" y="446"/>
                  </a:lnTo>
                  <a:cubicBezTo>
                    <a:pt x="1086" y="465"/>
                    <a:pt x="1086" y="496"/>
                    <a:pt x="1067" y="516"/>
                  </a:cubicBezTo>
                  <a:cubicBezTo>
                    <a:pt x="1048" y="536"/>
                    <a:pt x="1016" y="536"/>
                    <a:pt x="996" y="517"/>
                  </a:cubicBezTo>
                  <a:lnTo>
                    <a:pt x="996" y="517"/>
                  </a:lnTo>
                  <a:cubicBezTo>
                    <a:pt x="976" y="498"/>
                    <a:pt x="976" y="466"/>
                    <a:pt x="995" y="446"/>
                  </a:cubicBezTo>
                  <a:cubicBezTo>
                    <a:pt x="1015" y="427"/>
                    <a:pt x="1046" y="426"/>
                    <a:pt x="1066" y="445"/>
                  </a:cubicBezTo>
                  <a:close/>
                  <a:moveTo>
                    <a:pt x="1308" y="780"/>
                  </a:moveTo>
                  <a:lnTo>
                    <a:pt x="1326" y="812"/>
                  </a:lnTo>
                  <a:lnTo>
                    <a:pt x="1387" y="947"/>
                  </a:lnTo>
                  <a:lnTo>
                    <a:pt x="1436" y="1089"/>
                  </a:lnTo>
                  <a:lnTo>
                    <a:pt x="1472" y="1238"/>
                  </a:lnTo>
                  <a:lnTo>
                    <a:pt x="1494" y="1391"/>
                  </a:lnTo>
                  <a:lnTo>
                    <a:pt x="1498" y="1471"/>
                  </a:lnTo>
                  <a:cubicBezTo>
                    <a:pt x="1499" y="1499"/>
                    <a:pt x="1478" y="1522"/>
                    <a:pt x="1450" y="1524"/>
                  </a:cubicBezTo>
                  <a:cubicBezTo>
                    <a:pt x="1423" y="1525"/>
                    <a:pt x="1399" y="1504"/>
                    <a:pt x="1398" y="1476"/>
                  </a:cubicBezTo>
                  <a:lnTo>
                    <a:pt x="1395" y="1405"/>
                  </a:lnTo>
                  <a:lnTo>
                    <a:pt x="1375" y="1261"/>
                  </a:lnTo>
                  <a:lnTo>
                    <a:pt x="1341" y="1122"/>
                  </a:lnTo>
                  <a:lnTo>
                    <a:pt x="1296" y="988"/>
                  </a:lnTo>
                  <a:lnTo>
                    <a:pt x="1239" y="861"/>
                  </a:lnTo>
                  <a:lnTo>
                    <a:pt x="1221" y="829"/>
                  </a:lnTo>
                  <a:cubicBezTo>
                    <a:pt x="1207" y="805"/>
                    <a:pt x="1216" y="775"/>
                    <a:pt x="1240" y="761"/>
                  </a:cubicBezTo>
                  <a:cubicBezTo>
                    <a:pt x="1264" y="748"/>
                    <a:pt x="1294" y="756"/>
                    <a:pt x="1308" y="7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5"/>
            <p:cNvGrpSpPr/>
            <p:nvPr/>
          </p:nvGrpSpPr>
          <p:grpSpPr>
            <a:xfrm>
              <a:off x="3991680" y="1658160"/>
              <a:ext cx="523800" cy="322560"/>
              <a:chOff x="3991680" y="1658160"/>
              <a:chExt cx="523800" cy="32256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3991680" y="1658160"/>
                <a:ext cx="52380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44"/>
              <p:cNvSpPr/>
              <p:nvPr/>
            </p:nvSpPr>
            <p:spPr>
              <a:xfrm>
                <a:off x="3991680" y="1658160"/>
                <a:ext cx="52380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46"/>
            <p:cNvSpPr/>
            <p:nvPr/>
          </p:nvSpPr>
          <p:spPr>
            <a:xfrm>
              <a:off x="4119480" y="17294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7"/>
            <p:cNvSpPr/>
            <p:nvPr/>
          </p:nvSpPr>
          <p:spPr>
            <a:xfrm>
              <a:off x="4426560" y="172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0"/>
            <p:cNvGrpSpPr/>
            <p:nvPr/>
          </p:nvGrpSpPr>
          <p:grpSpPr>
            <a:xfrm>
              <a:off x="4594680" y="1658160"/>
              <a:ext cx="523440" cy="322560"/>
              <a:chOff x="4594680" y="1658160"/>
              <a:chExt cx="523440" cy="322560"/>
            </a:xfrm>
          </p:grpSpPr>
          <p:sp>
            <p:nvSpPr>
              <p:cNvPr id="111" name="Rectangle 48"/>
              <p:cNvSpPr/>
              <p:nvPr/>
            </p:nvSpPr>
            <p:spPr>
              <a:xfrm>
                <a:off x="4594680" y="1658160"/>
                <a:ext cx="52344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49"/>
              <p:cNvSpPr/>
              <p:nvPr/>
            </p:nvSpPr>
            <p:spPr>
              <a:xfrm>
                <a:off x="4594680" y="1658160"/>
                <a:ext cx="52344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51"/>
            <p:cNvSpPr/>
            <p:nvPr/>
          </p:nvSpPr>
          <p:spPr>
            <a:xfrm>
              <a:off x="4723920" y="1729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2"/>
            <p:cNvSpPr/>
            <p:nvPr/>
          </p:nvSpPr>
          <p:spPr>
            <a:xfrm>
              <a:off x="4831560" y="1729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3"/>
            <p:cNvSpPr/>
            <p:nvPr/>
          </p:nvSpPr>
          <p:spPr>
            <a:xfrm>
              <a:off x="4936320" y="1729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4"/>
            <p:cNvSpPr/>
            <p:nvPr/>
          </p:nvSpPr>
          <p:spPr>
            <a:xfrm>
              <a:off x="5037120" y="1729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7"/>
            <p:cNvGrpSpPr/>
            <p:nvPr/>
          </p:nvGrpSpPr>
          <p:grpSpPr>
            <a:xfrm>
              <a:off x="5186160" y="1651680"/>
              <a:ext cx="520920" cy="322920"/>
              <a:chOff x="5186160" y="1651680"/>
              <a:chExt cx="520920" cy="322920"/>
            </a:xfrm>
          </p:grpSpPr>
          <p:sp>
            <p:nvSpPr>
              <p:cNvPr id="118" name="Rectangle 55"/>
              <p:cNvSpPr/>
              <p:nvPr/>
            </p:nvSpPr>
            <p:spPr>
              <a:xfrm>
                <a:off x="5186160" y="1651680"/>
                <a:ext cx="520920" cy="32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56"/>
              <p:cNvSpPr/>
              <p:nvPr/>
            </p:nvSpPr>
            <p:spPr>
              <a:xfrm>
                <a:off x="5186160" y="1651680"/>
                <a:ext cx="520920" cy="32292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58"/>
            <p:cNvSpPr/>
            <p:nvPr/>
          </p:nvSpPr>
          <p:spPr>
            <a:xfrm>
              <a:off x="5321880" y="172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9"/>
            <p:cNvSpPr/>
            <p:nvPr/>
          </p:nvSpPr>
          <p:spPr>
            <a:xfrm>
              <a:off x="5425560" y="172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0"/>
            <p:cNvSpPr/>
            <p:nvPr/>
          </p:nvSpPr>
          <p:spPr>
            <a:xfrm>
              <a:off x="5535360" y="172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1"/>
            <p:cNvSpPr/>
            <p:nvPr/>
          </p:nvSpPr>
          <p:spPr>
            <a:xfrm>
              <a:off x="5644800" y="172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2"/>
            <p:cNvSpPr/>
            <p:nvPr/>
          </p:nvSpPr>
          <p:spPr>
            <a:xfrm>
              <a:off x="4453560" y="2070720"/>
              <a:ext cx="105120" cy="318240"/>
            </a:xfrm>
            <a:custGeom>
              <a:avLst/>
              <a:gdLst/>
              <a:ahLst/>
              <a:rect l="l" t="t" r="r" b="b"/>
              <a:pathLst>
                <a:path w="800" h="2334">
                  <a:moveTo>
                    <a:pt x="454" y="67"/>
                  </a:moveTo>
                  <a:lnTo>
                    <a:pt x="468" y="1667"/>
                  </a:lnTo>
                  <a:cubicBezTo>
                    <a:pt x="469" y="1703"/>
                    <a:pt x="439" y="1734"/>
                    <a:pt x="402" y="1734"/>
                  </a:cubicBezTo>
                  <a:cubicBezTo>
                    <a:pt x="365" y="1734"/>
                    <a:pt x="335" y="1705"/>
                    <a:pt x="335" y="1668"/>
                  </a:cubicBezTo>
                  <a:lnTo>
                    <a:pt x="321" y="68"/>
                  </a:lnTo>
                  <a:cubicBezTo>
                    <a:pt x="320" y="31"/>
                    <a:pt x="350" y="1"/>
                    <a:pt x="387" y="0"/>
                  </a:cubicBezTo>
                  <a:cubicBezTo>
                    <a:pt x="424" y="0"/>
                    <a:pt x="454" y="30"/>
                    <a:pt x="454" y="67"/>
                  </a:cubicBezTo>
                  <a:close/>
                  <a:moveTo>
                    <a:pt x="800" y="1530"/>
                  </a:moveTo>
                  <a:lnTo>
                    <a:pt x="407" y="2334"/>
                  </a:lnTo>
                  <a:lnTo>
                    <a:pt x="0" y="1537"/>
                  </a:lnTo>
                  <a:lnTo>
                    <a:pt x="800" y="15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4"/>
            <p:cNvSpPr/>
            <p:nvPr/>
          </p:nvSpPr>
          <p:spPr>
            <a:xfrm>
              <a:off x="2701080" y="3117240"/>
              <a:ext cx="4094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2343960" y="2995200"/>
              <a:ext cx="389160" cy="244080"/>
              <a:chOff x="2343960" y="2995200"/>
              <a:chExt cx="389160" cy="244080"/>
            </a:xfrm>
          </p:grpSpPr>
          <p:sp>
            <p:nvSpPr>
              <p:cNvPr id="127" name="Rectangle 75"/>
              <p:cNvSpPr/>
              <p:nvPr/>
            </p:nvSpPr>
            <p:spPr>
              <a:xfrm>
                <a:off x="2343960" y="2995200"/>
                <a:ext cx="38916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2343960" y="2995200"/>
                <a:ext cx="389160" cy="2440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80"/>
            <p:cNvGrpSpPr/>
            <p:nvPr/>
          </p:nvGrpSpPr>
          <p:grpSpPr>
            <a:xfrm>
              <a:off x="6828120" y="2783520"/>
              <a:ext cx="656640" cy="635040"/>
              <a:chOff x="6828120" y="2783520"/>
              <a:chExt cx="656640" cy="635040"/>
            </a:xfrm>
          </p:grpSpPr>
          <p:sp>
            <p:nvSpPr>
              <p:cNvPr id="130" name="Oval 78"/>
              <p:cNvSpPr/>
              <p:nvPr/>
            </p:nvSpPr>
            <p:spPr>
              <a:xfrm>
                <a:off x="6828120" y="2783520"/>
                <a:ext cx="656640" cy="6350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79"/>
              <p:cNvSpPr/>
              <p:nvPr/>
            </p:nvSpPr>
            <p:spPr>
              <a:xfrm>
                <a:off x="6828120" y="2783520"/>
                <a:ext cx="656640" cy="63504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83"/>
            <p:cNvGrpSpPr/>
            <p:nvPr/>
          </p:nvGrpSpPr>
          <p:grpSpPr>
            <a:xfrm>
              <a:off x="6795720" y="2939760"/>
              <a:ext cx="166680" cy="344880"/>
              <a:chOff x="6795720" y="2939760"/>
              <a:chExt cx="166680" cy="344880"/>
            </a:xfrm>
          </p:grpSpPr>
          <p:sp>
            <p:nvSpPr>
              <p:cNvPr id="133" name="Rectangle 81"/>
              <p:cNvSpPr/>
              <p:nvPr/>
            </p:nvSpPr>
            <p:spPr>
              <a:xfrm>
                <a:off x="6795720" y="2939760"/>
                <a:ext cx="166680" cy="34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82"/>
              <p:cNvSpPr/>
              <p:nvPr/>
            </p:nvSpPr>
            <p:spPr>
              <a:xfrm>
                <a:off x="6795720" y="2939760"/>
                <a:ext cx="166680" cy="3448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Line 84"/>
            <p:cNvSpPr/>
            <p:nvPr/>
          </p:nvSpPr>
          <p:spPr>
            <a:xfrm flipH="1">
              <a:off x="2176560" y="3117240"/>
              <a:ext cx="166680" cy="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5"/>
            <p:cNvSpPr/>
            <p:nvPr/>
          </p:nvSpPr>
          <p:spPr>
            <a:xfrm>
              <a:off x="1943640" y="2805480"/>
              <a:ext cx="267120" cy="891720"/>
            </a:xfrm>
            <a:custGeom>
              <a:avLst/>
              <a:gdLst/>
              <a:ahLst/>
              <a:rect l="l" t="t" r="r" b="b"/>
              <a:pathLst>
                <a:path w="173" h="577">
                  <a:moveTo>
                    <a:pt x="0" y="577"/>
                  </a:moveTo>
                  <a:cubicBezTo>
                    <a:pt x="95" y="577"/>
                    <a:pt x="173" y="319"/>
                    <a:pt x="173" y="0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8"/>
            <p:cNvGrpSpPr/>
            <p:nvPr/>
          </p:nvGrpSpPr>
          <p:grpSpPr>
            <a:xfrm>
              <a:off x="2166120" y="3096000"/>
              <a:ext cx="52560" cy="52560"/>
              <a:chOff x="2166120" y="3096000"/>
              <a:chExt cx="52560" cy="52560"/>
            </a:xfrm>
          </p:grpSpPr>
          <p:sp>
            <p:nvSpPr>
              <p:cNvPr id="138" name="Oval 86"/>
              <p:cNvSpPr/>
              <p:nvPr/>
            </p:nvSpPr>
            <p:spPr>
              <a:xfrm>
                <a:off x="2166120" y="3096000"/>
                <a:ext cx="52560" cy="52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87"/>
              <p:cNvSpPr/>
              <p:nvPr/>
            </p:nvSpPr>
            <p:spPr>
              <a:xfrm>
                <a:off x="2166120" y="3096000"/>
                <a:ext cx="52560" cy="525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91"/>
            <p:cNvGrpSpPr/>
            <p:nvPr/>
          </p:nvGrpSpPr>
          <p:grpSpPr>
            <a:xfrm>
              <a:off x="2176920" y="2761920"/>
              <a:ext cx="52560" cy="52560"/>
              <a:chOff x="2176920" y="2761920"/>
              <a:chExt cx="52560" cy="52560"/>
            </a:xfrm>
          </p:grpSpPr>
          <p:sp>
            <p:nvSpPr>
              <p:cNvPr id="141" name="Oval 89"/>
              <p:cNvSpPr/>
              <p:nvPr/>
            </p:nvSpPr>
            <p:spPr>
              <a:xfrm>
                <a:off x="2176920" y="2761920"/>
                <a:ext cx="52560" cy="52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90"/>
              <p:cNvSpPr/>
              <p:nvPr/>
            </p:nvSpPr>
            <p:spPr>
              <a:xfrm>
                <a:off x="2176920" y="2761920"/>
                <a:ext cx="52560" cy="525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Line 92"/>
            <p:cNvSpPr/>
            <p:nvPr/>
          </p:nvSpPr>
          <p:spPr>
            <a:xfrm flipH="1">
              <a:off x="1909440" y="3585960"/>
              <a:ext cx="33840" cy="2224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3"/>
            <p:cNvSpPr/>
            <p:nvPr/>
          </p:nvSpPr>
          <p:spPr>
            <a:xfrm>
              <a:off x="7017120" y="34898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4"/>
            <p:cNvSpPr/>
            <p:nvPr/>
          </p:nvSpPr>
          <p:spPr>
            <a:xfrm>
              <a:off x="7371360" y="3489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95"/>
            <p:cNvSpPr/>
            <p:nvPr/>
          </p:nvSpPr>
          <p:spPr>
            <a:xfrm>
              <a:off x="2188800" y="362160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 pedal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6"/>
            <p:cNvSpPr/>
            <p:nvPr/>
          </p:nvSpPr>
          <p:spPr>
            <a:xfrm>
              <a:off x="2928960" y="362592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S ????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7"/>
            <p:cNvSpPr/>
            <p:nvPr/>
          </p:nvSpPr>
          <p:spPr>
            <a:xfrm>
              <a:off x="3018600" y="3621600"/>
              <a:ext cx="172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rimary control of braking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8"/>
            <p:cNvSpPr/>
            <p:nvPr/>
          </p:nvSpPr>
          <p:spPr>
            <a:xfrm>
              <a:off x="4682880" y="3621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9"/>
            <p:cNvSpPr/>
            <p:nvPr/>
          </p:nvSpPr>
          <p:spPr>
            <a:xfrm>
              <a:off x="1958760" y="994680"/>
              <a:ext cx="145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x electronic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0"/>
            <p:cNvSpPr/>
            <p:nvPr/>
          </p:nvSpPr>
          <p:spPr>
            <a:xfrm>
              <a:off x="3383280" y="9946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1"/>
            <p:cNvSpPr/>
            <p:nvPr/>
          </p:nvSpPr>
          <p:spPr>
            <a:xfrm>
              <a:off x="3880440" y="994680"/>
              <a:ext cx="65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2"/>
            <p:cNvSpPr/>
            <p:nvPr/>
          </p:nvSpPr>
          <p:spPr>
            <a:xfrm>
              <a:off x="4526640" y="99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3"/>
            <p:cNvSpPr/>
            <p:nvPr/>
          </p:nvSpPr>
          <p:spPr>
            <a:xfrm>
              <a:off x="4566960" y="999360"/>
              <a:ext cx="13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4"/>
            <p:cNvSpPr/>
            <p:nvPr/>
          </p:nvSpPr>
          <p:spPr>
            <a:xfrm>
              <a:off x="4666320" y="999360"/>
              <a:ext cx="18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x controls of bra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5"/>
            <p:cNvSpPr/>
            <p:nvPr/>
          </p:nvSpPr>
          <p:spPr>
            <a:xfrm>
              <a:off x="6536520" y="99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6"/>
            <p:cNvSpPr/>
            <p:nvPr/>
          </p:nvSpPr>
          <p:spPr>
            <a:xfrm>
              <a:off x="1719360" y="2627640"/>
              <a:ext cx="177840" cy="16812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2" y="1449"/>
                  </a:moveTo>
                  <a:lnTo>
                    <a:pt x="10" y="1306"/>
                  </a:lnTo>
                  <a:lnTo>
                    <a:pt x="32" y="1162"/>
                  </a:lnTo>
                  <a:lnTo>
                    <a:pt x="70" y="1022"/>
                  </a:lnTo>
                  <a:lnTo>
                    <a:pt x="123" y="888"/>
                  </a:lnTo>
                  <a:lnTo>
                    <a:pt x="188" y="762"/>
                  </a:lnTo>
                  <a:lnTo>
                    <a:pt x="191" y="756"/>
                  </a:lnTo>
                  <a:cubicBezTo>
                    <a:pt x="206" y="733"/>
                    <a:pt x="237" y="727"/>
                    <a:pt x="260" y="742"/>
                  </a:cubicBezTo>
                  <a:cubicBezTo>
                    <a:pt x="283" y="757"/>
                    <a:pt x="290" y="788"/>
                    <a:pt x="275" y="811"/>
                  </a:cubicBezTo>
                  <a:lnTo>
                    <a:pt x="277" y="807"/>
                  </a:lnTo>
                  <a:lnTo>
                    <a:pt x="277" y="807"/>
                  </a:lnTo>
                  <a:lnTo>
                    <a:pt x="216" y="925"/>
                  </a:lnTo>
                  <a:lnTo>
                    <a:pt x="167" y="1049"/>
                  </a:lnTo>
                  <a:lnTo>
                    <a:pt x="131" y="1177"/>
                  </a:lnTo>
                  <a:lnTo>
                    <a:pt x="109" y="1311"/>
                  </a:lnTo>
                  <a:lnTo>
                    <a:pt x="101" y="1454"/>
                  </a:lnTo>
                  <a:cubicBezTo>
                    <a:pt x="100" y="1482"/>
                    <a:pt x="76" y="1503"/>
                    <a:pt x="49" y="1501"/>
                  </a:cubicBezTo>
                  <a:cubicBezTo>
                    <a:pt x="21" y="1500"/>
                    <a:pt x="0" y="1476"/>
                    <a:pt x="2" y="1449"/>
                  </a:cubicBezTo>
                  <a:close/>
                  <a:moveTo>
                    <a:pt x="445" y="437"/>
                  </a:moveTo>
                  <a:lnTo>
                    <a:pt x="445" y="437"/>
                  </a:lnTo>
                  <a:cubicBezTo>
                    <a:pt x="464" y="417"/>
                    <a:pt x="496" y="416"/>
                    <a:pt x="516" y="435"/>
                  </a:cubicBezTo>
                  <a:cubicBezTo>
                    <a:pt x="536" y="454"/>
                    <a:pt x="536" y="486"/>
                    <a:pt x="517" y="506"/>
                  </a:cubicBezTo>
                  <a:lnTo>
                    <a:pt x="517" y="506"/>
                  </a:lnTo>
                  <a:cubicBezTo>
                    <a:pt x="498" y="526"/>
                    <a:pt x="466" y="526"/>
                    <a:pt x="446" y="507"/>
                  </a:cubicBezTo>
                  <a:cubicBezTo>
                    <a:pt x="426" y="488"/>
                    <a:pt x="426" y="457"/>
                    <a:pt x="445" y="437"/>
                  </a:cubicBezTo>
                  <a:close/>
                  <a:moveTo>
                    <a:pt x="780" y="195"/>
                  </a:moveTo>
                  <a:lnTo>
                    <a:pt x="780" y="195"/>
                  </a:lnTo>
                  <a:cubicBezTo>
                    <a:pt x="804" y="181"/>
                    <a:pt x="834" y="190"/>
                    <a:pt x="848" y="214"/>
                  </a:cubicBezTo>
                  <a:cubicBezTo>
                    <a:pt x="862" y="237"/>
                    <a:pt x="854" y="268"/>
                    <a:pt x="830" y="282"/>
                  </a:cubicBezTo>
                  <a:lnTo>
                    <a:pt x="830" y="282"/>
                  </a:lnTo>
                  <a:cubicBezTo>
                    <a:pt x="806" y="296"/>
                    <a:pt x="775" y="287"/>
                    <a:pt x="761" y="263"/>
                  </a:cubicBezTo>
                  <a:cubicBezTo>
                    <a:pt x="748" y="239"/>
                    <a:pt x="756" y="209"/>
                    <a:pt x="780" y="195"/>
                  </a:cubicBezTo>
                  <a:close/>
                  <a:moveTo>
                    <a:pt x="1166" y="48"/>
                  </a:moveTo>
                  <a:lnTo>
                    <a:pt x="1238" y="31"/>
                  </a:lnTo>
                  <a:lnTo>
                    <a:pt x="1391" y="9"/>
                  </a:lnTo>
                  <a:lnTo>
                    <a:pt x="1549" y="2"/>
                  </a:lnTo>
                  <a:cubicBezTo>
                    <a:pt x="1577" y="0"/>
                    <a:pt x="1600" y="22"/>
                    <a:pt x="1601" y="49"/>
                  </a:cubicBezTo>
                  <a:cubicBezTo>
                    <a:pt x="1603" y="77"/>
                    <a:pt x="1581" y="100"/>
                    <a:pt x="1554" y="101"/>
                  </a:cubicBezTo>
                  <a:lnTo>
                    <a:pt x="1405" y="108"/>
                  </a:lnTo>
                  <a:lnTo>
                    <a:pt x="1261" y="128"/>
                  </a:lnTo>
                  <a:lnTo>
                    <a:pt x="1189" y="146"/>
                  </a:lnTo>
                  <a:cubicBezTo>
                    <a:pt x="1162" y="152"/>
                    <a:pt x="1135" y="136"/>
                    <a:pt x="1129" y="109"/>
                  </a:cubicBezTo>
                  <a:cubicBezTo>
                    <a:pt x="1122" y="82"/>
                    <a:pt x="1139" y="55"/>
                    <a:pt x="1166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7"/>
            <p:cNvSpPr/>
            <p:nvPr/>
          </p:nvSpPr>
          <p:spPr>
            <a:xfrm>
              <a:off x="1886400" y="2619720"/>
              <a:ext cx="1121760" cy="19800"/>
            </a:xfrm>
            <a:custGeom>
              <a:avLst/>
              <a:gdLst/>
              <a:ahLst/>
              <a:rect l="l" t="t" r="r" b="b"/>
              <a:pathLst>
                <a:path w="10087" h="173">
                  <a:moveTo>
                    <a:pt x="49" y="73"/>
                  </a:moveTo>
                  <a:lnTo>
                    <a:pt x="749" y="68"/>
                  </a:lnTo>
                  <a:cubicBezTo>
                    <a:pt x="777" y="68"/>
                    <a:pt x="800" y="90"/>
                    <a:pt x="800" y="118"/>
                  </a:cubicBezTo>
                  <a:cubicBezTo>
                    <a:pt x="800" y="145"/>
                    <a:pt x="778" y="168"/>
                    <a:pt x="750" y="168"/>
                  </a:cubicBezTo>
                  <a:lnTo>
                    <a:pt x="50" y="173"/>
                  </a:lnTo>
                  <a:cubicBezTo>
                    <a:pt x="23" y="173"/>
                    <a:pt x="0" y="151"/>
                    <a:pt x="0" y="124"/>
                  </a:cubicBezTo>
                  <a:cubicBezTo>
                    <a:pt x="0" y="96"/>
                    <a:pt x="22" y="73"/>
                    <a:pt x="49" y="73"/>
                  </a:cubicBezTo>
                  <a:close/>
                  <a:moveTo>
                    <a:pt x="1149" y="65"/>
                  </a:moveTo>
                  <a:lnTo>
                    <a:pt x="1149" y="65"/>
                  </a:lnTo>
                  <a:cubicBezTo>
                    <a:pt x="1177" y="65"/>
                    <a:pt x="1200" y="87"/>
                    <a:pt x="1200" y="115"/>
                  </a:cubicBezTo>
                  <a:cubicBezTo>
                    <a:pt x="1200" y="142"/>
                    <a:pt x="1178" y="165"/>
                    <a:pt x="1150" y="165"/>
                  </a:cubicBezTo>
                  <a:lnTo>
                    <a:pt x="1150" y="165"/>
                  </a:lnTo>
                  <a:cubicBezTo>
                    <a:pt x="1123" y="165"/>
                    <a:pt x="1100" y="143"/>
                    <a:pt x="1100" y="116"/>
                  </a:cubicBezTo>
                  <a:cubicBezTo>
                    <a:pt x="1100" y="88"/>
                    <a:pt x="1122" y="65"/>
                    <a:pt x="1149" y="65"/>
                  </a:cubicBezTo>
                  <a:close/>
                  <a:moveTo>
                    <a:pt x="1549" y="62"/>
                  </a:moveTo>
                  <a:lnTo>
                    <a:pt x="1549" y="62"/>
                  </a:lnTo>
                  <a:cubicBezTo>
                    <a:pt x="1577" y="62"/>
                    <a:pt x="1600" y="84"/>
                    <a:pt x="1600" y="112"/>
                  </a:cubicBezTo>
                  <a:cubicBezTo>
                    <a:pt x="1600" y="139"/>
                    <a:pt x="1578" y="162"/>
                    <a:pt x="1550" y="162"/>
                  </a:cubicBezTo>
                  <a:lnTo>
                    <a:pt x="1550" y="162"/>
                  </a:lnTo>
                  <a:cubicBezTo>
                    <a:pt x="1523" y="162"/>
                    <a:pt x="1500" y="140"/>
                    <a:pt x="1500" y="113"/>
                  </a:cubicBezTo>
                  <a:cubicBezTo>
                    <a:pt x="1500" y="85"/>
                    <a:pt x="1522" y="62"/>
                    <a:pt x="1549" y="62"/>
                  </a:cubicBezTo>
                  <a:close/>
                  <a:moveTo>
                    <a:pt x="1950" y="59"/>
                  </a:moveTo>
                  <a:lnTo>
                    <a:pt x="2650" y="54"/>
                  </a:lnTo>
                  <a:cubicBezTo>
                    <a:pt x="2677" y="54"/>
                    <a:pt x="2700" y="76"/>
                    <a:pt x="2700" y="104"/>
                  </a:cubicBezTo>
                  <a:cubicBezTo>
                    <a:pt x="2700" y="131"/>
                    <a:pt x="2678" y="154"/>
                    <a:pt x="2650" y="154"/>
                  </a:cubicBezTo>
                  <a:lnTo>
                    <a:pt x="1950" y="159"/>
                  </a:lnTo>
                  <a:cubicBezTo>
                    <a:pt x="1923" y="159"/>
                    <a:pt x="1900" y="137"/>
                    <a:pt x="1900" y="110"/>
                  </a:cubicBezTo>
                  <a:cubicBezTo>
                    <a:pt x="1900" y="82"/>
                    <a:pt x="1922" y="59"/>
                    <a:pt x="1950" y="59"/>
                  </a:cubicBezTo>
                  <a:close/>
                  <a:moveTo>
                    <a:pt x="3049" y="51"/>
                  </a:moveTo>
                  <a:lnTo>
                    <a:pt x="3050" y="51"/>
                  </a:lnTo>
                  <a:cubicBezTo>
                    <a:pt x="3077" y="51"/>
                    <a:pt x="3100" y="73"/>
                    <a:pt x="3100" y="101"/>
                  </a:cubicBezTo>
                  <a:cubicBezTo>
                    <a:pt x="3100" y="128"/>
                    <a:pt x="3078" y="151"/>
                    <a:pt x="3051" y="151"/>
                  </a:cubicBezTo>
                  <a:lnTo>
                    <a:pt x="3050" y="151"/>
                  </a:lnTo>
                  <a:cubicBezTo>
                    <a:pt x="3023" y="151"/>
                    <a:pt x="3000" y="129"/>
                    <a:pt x="3000" y="102"/>
                  </a:cubicBezTo>
                  <a:cubicBezTo>
                    <a:pt x="3000" y="74"/>
                    <a:pt x="3022" y="51"/>
                    <a:pt x="3049" y="51"/>
                  </a:cubicBezTo>
                  <a:close/>
                  <a:moveTo>
                    <a:pt x="3450" y="48"/>
                  </a:moveTo>
                  <a:lnTo>
                    <a:pt x="3450" y="48"/>
                  </a:lnTo>
                  <a:cubicBezTo>
                    <a:pt x="3477" y="48"/>
                    <a:pt x="3500" y="70"/>
                    <a:pt x="3500" y="98"/>
                  </a:cubicBezTo>
                  <a:cubicBezTo>
                    <a:pt x="3500" y="125"/>
                    <a:pt x="3478" y="148"/>
                    <a:pt x="3451" y="148"/>
                  </a:cubicBezTo>
                  <a:lnTo>
                    <a:pt x="3450" y="148"/>
                  </a:lnTo>
                  <a:cubicBezTo>
                    <a:pt x="3423" y="148"/>
                    <a:pt x="3400" y="126"/>
                    <a:pt x="3400" y="99"/>
                  </a:cubicBezTo>
                  <a:cubicBezTo>
                    <a:pt x="3400" y="71"/>
                    <a:pt x="3422" y="48"/>
                    <a:pt x="3450" y="48"/>
                  </a:cubicBezTo>
                  <a:close/>
                  <a:moveTo>
                    <a:pt x="3850" y="45"/>
                  </a:moveTo>
                  <a:lnTo>
                    <a:pt x="4550" y="40"/>
                  </a:lnTo>
                  <a:cubicBezTo>
                    <a:pt x="4577" y="40"/>
                    <a:pt x="4600" y="62"/>
                    <a:pt x="4600" y="90"/>
                  </a:cubicBezTo>
                  <a:cubicBezTo>
                    <a:pt x="4600" y="117"/>
                    <a:pt x="4578" y="140"/>
                    <a:pt x="4550" y="140"/>
                  </a:cubicBezTo>
                  <a:lnTo>
                    <a:pt x="3850" y="145"/>
                  </a:lnTo>
                  <a:cubicBezTo>
                    <a:pt x="3823" y="145"/>
                    <a:pt x="3800" y="123"/>
                    <a:pt x="3800" y="96"/>
                  </a:cubicBezTo>
                  <a:cubicBezTo>
                    <a:pt x="3800" y="68"/>
                    <a:pt x="3822" y="45"/>
                    <a:pt x="3850" y="45"/>
                  </a:cubicBezTo>
                  <a:close/>
                  <a:moveTo>
                    <a:pt x="4950" y="37"/>
                  </a:moveTo>
                  <a:lnTo>
                    <a:pt x="4950" y="37"/>
                  </a:lnTo>
                  <a:cubicBezTo>
                    <a:pt x="4977" y="37"/>
                    <a:pt x="5000" y="59"/>
                    <a:pt x="5000" y="87"/>
                  </a:cubicBezTo>
                  <a:cubicBezTo>
                    <a:pt x="5000" y="114"/>
                    <a:pt x="4978" y="137"/>
                    <a:pt x="4951" y="137"/>
                  </a:cubicBezTo>
                  <a:lnTo>
                    <a:pt x="4951" y="137"/>
                  </a:lnTo>
                  <a:cubicBezTo>
                    <a:pt x="4923" y="137"/>
                    <a:pt x="4900" y="115"/>
                    <a:pt x="4900" y="88"/>
                  </a:cubicBezTo>
                  <a:cubicBezTo>
                    <a:pt x="4900" y="60"/>
                    <a:pt x="4922" y="37"/>
                    <a:pt x="4950" y="37"/>
                  </a:cubicBezTo>
                  <a:close/>
                  <a:moveTo>
                    <a:pt x="5350" y="34"/>
                  </a:moveTo>
                  <a:lnTo>
                    <a:pt x="5350" y="34"/>
                  </a:lnTo>
                  <a:cubicBezTo>
                    <a:pt x="5377" y="34"/>
                    <a:pt x="5400" y="56"/>
                    <a:pt x="5400" y="84"/>
                  </a:cubicBezTo>
                  <a:cubicBezTo>
                    <a:pt x="5401" y="111"/>
                    <a:pt x="5378" y="134"/>
                    <a:pt x="5351" y="134"/>
                  </a:cubicBezTo>
                  <a:lnTo>
                    <a:pt x="5351" y="134"/>
                  </a:lnTo>
                  <a:cubicBezTo>
                    <a:pt x="5323" y="134"/>
                    <a:pt x="5300" y="112"/>
                    <a:pt x="5300" y="85"/>
                  </a:cubicBezTo>
                  <a:cubicBezTo>
                    <a:pt x="5300" y="57"/>
                    <a:pt x="5322" y="34"/>
                    <a:pt x="5350" y="34"/>
                  </a:cubicBezTo>
                  <a:close/>
                  <a:moveTo>
                    <a:pt x="5750" y="31"/>
                  </a:moveTo>
                  <a:lnTo>
                    <a:pt x="6450" y="26"/>
                  </a:lnTo>
                  <a:cubicBezTo>
                    <a:pt x="6477" y="26"/>
                    <a:pt x="6500" y="48"/>
                    <a:pt x="6500" y="76"/>
                  </a:cubicBezTo>
                  <a:cubicBezTo>
                    <a:pt x="6500" y="103"/>
                    <a:pt x="6478" y="126"/>
                    <a:pt x="6451" y="126"/>
                  </a:cubicBezTo>
                  <a:lnTo>
                    <a:pt x="5751" y="131"/>
                  </a:lnTo>
                  <a:cubicBezTo>
                    <a:pt x="5723" y="131"/>
                    <a:pt x="5700" y="109"/>
                    <a:pt x="5700" y="82"/>
                  </a:cubicBezTo>
                  <a:cubicBezTo>
                    <a:pt x="5700" y="54"/>
                    <a:pt x="5722" y="31"/>
                    <a:pt x="5750" y="31"/>
                  </a:cubicBezTo>
                  <a:close/>
                  <a:moveTo>
                    <a:pt x="6850" y="23"/>
                  </a:moveTo>
                  <a:lnTo>
                    <a:pt x="6850" y="23"/>
                  </a:lnTo>
                  <a:cubicBezTo>
                    <a:pt x="6877" y="23"/>
                    <a:pt x="6900" y="45"/>
                    <a:pt x="6900" y="73"/>
                  </a:cubicBezTo>
                  <a:cubicBezTo>
                    <a:pt x="6901" y="100"/>
                    <a:pt x="6878" y="123"/>
                    <a:pt x="6851" y="123"/>
                  </a:cubicBezTo>
                  <a:lnTo>
                    <a:pt x="6851" y="123"/>
                  </a:lnTo>
                  <a:cubicBezTo>
                    <a:pt x="6823" y="123"/>
                    <a:pt x="6800" y="101"/>
                    <a:pt x="6800" y="74"/>
                  </a:cubicBezTo>
                  <a:cubicBezTo>
                    <a:pt x="6800" y="46"/>
                    <a:pt x="6822" y="23"/>
                    <a:pt x="6850" y="23"/>
                  </a:cubicBezTo>
                  <a:close/>
                  <a:moveTo>
                    <a:pt x="7250" y="20"/>
                  </a:moveTo>
                  <a:lnTo>
                    <a:pt x="7250" y="20"/>
                  </a:lnTo>
                  <a:cubicBezTo>
                    <a:pt x="7278" y="20"/>
                    <a:pt x="7300" y="42"/>
                    <a:pt x="7300" y="70"/>
                  </a:cubicBezTo>
                  <a:cubicBezTo>
                    <a:pt x="7301" y="97"/>
                    <a:pt x="7279" y="120"/>
                    <a:pt x="7251" y="120"/>
                  </a:cubicBezTo>
                  <a:lnTo>
                    <a:pt x="7251" y="120"/>
                  </a:lnTo>
                  <a:cubicBezTo>
                    <a:pt x="7223" y="121"/>
                    <a:pt x="7201" y="98"/>
                    <a:pt x="7200" y="71"/>
                  </a:cubicBezTo>
                  <a:cubicBezTo>
                    <a:pt x="7200" y="43"/>
                    <a:pt x="7222" y="21"/>
                    <a:pt x="7250" y="20"/>
                  </a:cubicBezTo>
                  <a:close/>
                  <a:moveTo>
                    <a:pt x="7650" y="17"/>
                  </a:moveTo>
                  <a:lnTo>
                    <a:pt x="8350" y="12"/>
                  </a:lnTo>
                  <a:cubicBezTo>
                    <a:pt x="8378" y="12"/>
                    <a:pt x="8400" y="34"/>
                    <a:pt x="8400" y="62"/>
                  </a:cubicBezTo>
                  <a:cubicBezTo>
                    <a:pt x="8401" y="89"/>
                    <a:pt x="8378" y="112"/>
                    <a:pt x="8351" y="112"/>
                  </a:cubicBezTo>
                  <a:lnTo>
                    <a:pt x="7651" y="117"/>
                  </a:lnTo>
                  <a:cubicBezTo>
                    <a:pt x="7623" y="118"/>
                    <a:pt x="7601" y="95"/>
                    <a:pt x="7600" y="68"/>
                  </a:cubicBezTo>
                  <a:cubicBezTo>
                    <a:pt x="7600" y="40"/>
                    <a:pt x="7622" y="18"/>
                    <a:pt x="7650" y="17"/>
                  </a:cubicBezTo>
                  <a:close/>
                  <a:moveTo>
                    <a:pt x="8750" y="9"/>
                  </a:moveTo>
                  <a:lnTo>
                    <a:pt x="8750" y="9"/>
                  </a:lnTo>
                  <a:cubicBezTo>
                    <a:pt x="8778" y="9"/>
                    <a:pt x="8800" y="31"/>
                    <a:pt x="8800" y="59"/>
                  </a:cubicBezTo>
                  <a:cubicBezTo>
                    <a:pt x="8801" y="86"/>
                    <a:pt x="8779" y="109"/>
                    <a:pt x="8751" y="109"/>
                  </a:cubicBezTo>
                  <a:lnTo>
                    <a:pt x="8751" y="109"/>
                  </a:lnTo>
                  <a:cubicBezTo>
                    <a:pt x="8723" y="110"/>
                    <a:pt x="8701" y="87"/>
                    <a:pt x="8700" y="60"/>
                  </a:cubicBezTo>
                  <a:cubicBezTo>
                    <a:pt x="8700" y="32"/>
                    <a:pt x="8722" y="10"/>
                    <a:pt x="8750" y="9"/>
                  </a:cubicBezTo>
                  <a:close/>
                  <a:moveTo>
                    <a:pt x="9150" y="6"/>
                  </a:moveTo>
                  <a:lnTo>
                    <a:pt x="9150" y="6"/>
                  </a:lnTo>
                  <a:cubicBezTo>
                    <a:pt x="9178" y="6"/>
                    <a:pt x="9200" y="28"/>
                    <a:pt x="9201" y="56"/>
                  </a:cubicBezTo>
                  <a:cubicBezTo>
                    <a:pt x="9201" y="83"/>
                    <a:pt x="9179" y="106"/>
                    <a:pt x="9151" y="106"/>
                  </a:cubicBezTo>
                  <a:lnTo>
                    <a:pt x="9151" y="106"/>
                  </a:lnTo>
                  <a:cubicBezTo>
                    <a:pt x="9123" y="107"/>
                    <a:pt x="9101" y="84"/>
                    <a:pt x="9100" y="57"/>
                  </a:cubicBezTo>
                  <a:cubicBezTo>
                    <a:pt x="9100" y="29"/>
                    <a:pt x="9122" y="7"/>
                    <a:pt x="9150" y="6"/>
                  </a:cubicBezTo>
                  <a:close/>
                  <a:moveTo>
                    <a:pt x="9550" y="3"/>
                  </a:moveTo>
                  <a:lnTo>
                    <a:pt x="10036" y="0"/>
                  </a:lnTo>
                  <a:cubicBezTo>
                    <a:pt x="10064" y="0"/>
                    <a:pt x="10086" y="22"/>
                    <a:pt x="10086" y="49"/>
                  </a:cubicBezTo>
                  <a:cubicBezTo>
                    <a:pt x="10087" y="77"/>
                    <a:pt x="10064" y="100"/>
                    <a:pt x="10037" y="100"/>
                  </a:cubicBezTo>
                  <a:lnTo>
                    <a:pt x="9551" y="103"/>
                  </a:lnTo>
                  <a:cubicBezTo>
                    <a:pt x="9523" y="104"/>
                    <a:pt x="9501" y="81"/>
                    <a:pt x="9501" y="54"/>
                  </a:cubicBezTo>
                  <a:cubicBezTo>
                    <a:pt x="9500" y="26"/>
                    <a:pt x="9523" y="4"/>
                    <a:pt x="955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8"/>
            <p:cNvSpPr/>
            <p:nvPr/>
          </p:nvSpPr>
          <p:spPr>
            <a:xfrm>
              <a:off x="1719360" y="2840760"/>
              <a:ext cx="10800" cy="935280"/>
            </a:xfrm>
            <a:custGeom>
              <a:avLst/>
              <a:gdLst/>
              <a:ahLst/>
              <a:rect l="l" t="t" r="r" b="b"/>
              <a:pathLst>
                <a:path w="100" h="8400">
                  <a:moveTo>
                    <a:pt x="0" y="8350"/>
                  </a:moveTo>
                  <a:lnTo>
                    <a:pt x="0" y="7650"/>
                  </a:lnTo>
                  <a:cubicBezTo>
                    <a:pt x="0" y="7623"/>
                    <a:pt x="22" y="7600"/>
                    <a:pt x="50" y="7600"/>
                  </a:cubicBezTo>
                  <a:cubicBezTo>
                    <a:pt x="77" y="7600"/>
                    <a:pt x="100" y="7623"/>
                    <a:pt x="100" y="7650"/>
                  </a:cubicBezTo>
                  <a:lnTo>
                    <a:pt x="100" y="8350"/>
                  </a:lnTo>
                  <a:cubicBezTo>
                    <a:pt x="100" y="8378"/>
                    <a:pt x="77" y="8400"/>
                    <a:pt x="50" y="8400"/>
                  </a:cubicBezTo>
                  <a:cubicBezTo>
                    <a:pt x="22" y="8400"/>
                    <a:pt x="0" y="8378"/>
                    <a:pt x="0" y="8350"/>
                  </a:cubicBezTo>
                  <a:close/>
                  <a:moveTo>
                    <a:pt x="0" y="7250"/>
                  </a:moveTo>
                  <a:lnTo>
                    <a:pt x="0" y="7250"/>
                  </a:lnTo>
                  <a:cubicBezTo>
                    <a:pt x="0" y="7223"/>
                    <a:pt x="22" y="7200"/>
                    <a:pt x="50" y="7200"/>
                  </a:cubicBezTo>
                  <a:cubicBezTo>
                    <a:pt x="77" y="7200"/>
                    <a:pt x="100" y="7223"/>
                    <a:pt x="100" y="7250"/>
                  </a:cubicBezTo>
                  <a:lnTo>
                    <a:pt x="100" y="7250"/>
                  </a:lnTo>
                  <a:cubicBezTo>
                    <a:pt x="100" y="7278"/>
                    <a:pt x="77" y="7300"/>
                    <a:pt x="50" y="7300"/>
                  </a:cubicBezTo>
                  <a:cubicBezTo>
                    <a:pt x="22" y="7300"/>
                    <a:pt x="0" y="7278"/>
                    <a:pt x="0" y="7250"/>
                  </a:cubicBezTo>
                  <a:close/>
                  <a:moveTo>
                    <a:pt x="0" y="6850"/>
                  </a:moveTo>
                  <a:lnTo>
                    <a:pt x="0" y="6850"/>
                  </a:lnTo>
                  <a:cubicBezTo>
                    <a:pt x="0" y="6823"/>
                    <a:pt x="22" y="6800"/>
                    <a:pt x="50" y="6800"/>
                  </a:cubicBezTo>
                  <a:cubicBezTo>
                    <a:pt x="77" y="6800"/>
                    <a:pt x="100" y="6823"/>
                    <a:pt x="100" y="6850"/>
                  </a:cubicBezTo>
                  <a:lnTo>
                    <a:pt x="100" y="6850"/>
                  </a:lnTo>
                  <a:cubicBezTo>
                    <a:pt x="100" y="6878"/>
                    <a:pt x="77" y="6900"/>
                    <a:pt x="50" y="6900"/>
                  </a:cubicBezTo>
                  <a:cubicBezTo>
                    <a:pt x="22" y="6900"/>
                    <a:pt x="0" y="6878"/>
                    <a:pt x="0" y="6850"/>
                  </a:cubicBezTo>
                  <a:close/>
                  <a:moveTo>
                    <a:pt x="0" y="6450"/>
                  </a:moveTo>
                  <a:lnTo>
                    <a:pt x="0" y="5750"/>
                  </a:lnTo>
                  <a:cubicBezTo>
                    <a:pt x="0" y="5723"/>
                    <a:pt x="22" y="5700"/>
                    <a:pt x="50" y="5700"/>
                  </a:cubicBezTo>
                  <a:cubicBezTo>
                    <a:pt x="77" y="5700"/>
                    <a:pt x="100" y="5723"/>
                    <a:pt x="100" y="5750"/>
                  </a:cubicBezTo>
                  <a:lnTo>
                    <a:pt x="100" y="6450"/>
                  </a:lnTo>
                  <a:cubicBezTo>
                    <a:pt x="100" y="6478"/>
                    <a:pt x="77" y="6500"/>
                    <a:pt x="50" y="6500"/>
                  </a:cubicBezTo>
                  <a:cubicBezTo>
                    <a:pt x="22" y="6500"/>
                    <a:pt x="0" y="6478"/>
                    <a:pt x="0" y="6450"/>
                  </a:cubicBezTo>
                  <a:close/>
                  <a:moveTo>
                    <a:pt x="0" y="5350"/>
                  </a:moveTo>
                  <a:lnTo>
                    <a:pt x="0" y="5350"/>
                  </a:lnTo>
                  <a:cubicBezTo>
                    <a:pt x="0" y="5323"/>
                    <a:pt x="22" y="5300"/>
                    <a:pt x="50" y="5300"/>
                  </a:cubicBezTo>
                  <a:cubicBezTo>
                    <a:pt x="77" y="5300"/>
                    <a:pt x="100" y="5323"/>
                    <a:pt x="100" y="5350"/>
                  </a:cubicBezTo>
                  <a:lnTo>
                    <a:pt x="100" y="5350"/>
                  </a:lnTo>
                  <a:cubicBezTo>
                    <a:pt x="100" y="5378"/>
                    <a:pt x="77" y="5400"/>
                    <a:pt x="50" y="5400"/>
                  </a:cubicBezTo>
                  <a:cubicBezTo>
                    <a:pt x="22" y="5400"/>
                    <a:pt x="0" y="5378"/>
                    <a:pt x="0" y="5350"/>
                  </a:cubicBezTo>
                  <a:close/>
                  <a:moveTo>
                    <a:pt x="0" y="4950"/>
                  </a:moveTo>
                  <a:lnTo>
                    <a:pt x="0" y="4950"/>
                  </a:lnTo>
                  <a:cubicBezTo>
                    <a:pt x="0" y="4922"/>
                    <a:pt x="22" y="4900"/>
                    <a:pt x="50" y="4900"/>
                  </a:cubicBezTo>
                  <a:cubicBezTo>
                    <a:pt x="77" y="4900"/>
                    <a:pt x="100" y="4922"/>
                    <a:pt x="100" y="4950"/>
                  </a:cubicBezTo>
                  <a:lnTo>
                    <a:pt x="100" y="4950"/>
                  </a:lnTo>
                  <a:cubicBezTo>
                    <a:pt x="100" y="4978"/>
                    <a:pt x="77" y="5000"/>
                    <a:pt x="50" y="5000"/>
                  </a:cubicBezTo>
                  <a:cubicBezTo>
                    <a:pt x="22" y="5000"/>
                    <a:pt x="0" y="4978"/>
                    <a:pt x="0" y="4950"/>
                  </a:cubicBezTo>
                  <a:close/>
                  <a:moveTo>
                    <a:pt x="0" y="4550"/>
                  </a:moveTo>
                  <a:lnTo>
                    <a:pt x="0" y="3850"/>
                  </a:lnTo>
                  <a:cubicBezTo>
                    <a:pt x="0" y="3822"/>
                    <a:pt x="22" y="3800"/>
                    <a:pt x="50" y="3800"/>
                  </a:cubicBezTo>
                  <a:cubicBezTo>
                    <a:pt x="77" y="3800"/>
                    <a:pt x="100" y="3822"/>
                    <a:pt x="100" y="3850"/>
                  </a:cubicBezTo>
                  <a:lnTo>
                    <a:pt x="100" y="4550"/>
                  </a:lnTo>
                  <a:cubicBezTo>
                    <a:pt x="100" y="4578"/>
                    <a:pt x="77" y="4600"/>
                    <a:pt x="50" y="4600"/>
                  </a:cubicBezTo>
                  <a:cubicBezTo>
                    <a:pt x="22" y="4600"/>
                    <a:pt x="0" y="4578"/>
                    <a:pt x="0" y="4550"/>
                  </a:cubicBezTo>
                  <a:close/>
                  <a:moveTo>
                    <a:pt x="0" y="3450"/>
                  </a:moveTo>
                  <a:lnTo>
                    <a:pt x="0" y="3450"/>
                  </a:lnTo>
                  <a:cubicBezTo>
                    <a:pt x="0" y="3422"/>
                    <a:pt x="22" y="3400"/>
                    <a:pt x="50" y="3400"/>
                  </a:cubicBezTo>
                  <a:cubicBezTo>
                    <a:pt x="77" y="3400"/>
                    <a:pt x="100" y="3422"/>
                    <a:pt x="100" y="3450"/>
                  </a:cubicBezTo>
                  <a:lnTo>
                    <a:pt x="100" y="3450"/>
                  </a:lnTo>
                  <a:cubicBezTo>
                    <a:pt x="100" y="3478"/>
                    <a:pt x="77" y="3500"/>
                    <a:pt x="50" y="3500"/>
                  </a:cubicBezTo>
                  <a:cubicBezTo>
                    <a:pt x="22" y="3500"/>
                    <a:pt x="0" y="3478"/>
                    <a:pt x="0" y="3450"/>
                  </a:cubicBezTo>
                  <a:close/>
                  <a:moveTo>
                    <a:pt x="0" y="3050"/>
                  </a:moveTo>
                  <a:lnTo>
                    <a:pt x="0" y="3050"/>
                  </a:lnTo>
                  <a:cubicBezTo>
                    <a:pt x="0" y="3022"/>
                    <a:pt x="22" y="3000"/>
                    <a:pt x="50" y="3000"/>
                  </a:cubicBezTo>
                  <a:cubicBezTo>
                    <a:pt x="77" y="3000"/>
                    <a:pt x="100" y="3022"/>
                    <a:pt x="100" y="3050"/>
                  </a:cubicBezTo>
                  <a:lnTo>
                    <a:pt x="100" y="3050"/>
                  </a:lnTo>
                  <a:cubicBezTo>
                    <a:pt x="100" y="3078"/>
                    <a:pt x="77" y="3100"/>
                    <a:pt x="50" y="3100"/>
                  </a:cubicBezTo>
                  <a:cubicBezTo>
                    <a:pt x="22" y="3100"/>
                    <a:pt x="0" y="3078"/>
                    <a:pt x="0" y="3050"/>
                  </a:cubicBezTo>
                  <a:close/>
                  <a:moveTo>
                    <a:pt x="0" y="2650"/>
                  </a:moveTo>
                  <a:lnTo>
                    <a:pt x="0" y="1950"/>
                  </a:lnTo>
                  <a:cubicBezTo>
                    <a:pt x="0" y="1922"/>
                    <a:pt x="22" y="1900"/>
                    <a:pt x="50" y="1900"/>
                  </a:cubicBezTo>
                  <a:cubicBezTo>
                    <a:pt x="77" y="1900"/>
                    <a:pt x="100" y="1922"/>
                    <a:pt x="100" y="1950"/>
                  </a:cubicBezTo>
                  <a:lnTo>
                    <a:pt x="100" y="2650"/>
                  </a:lnTo>
                  <a:cubicBezTo>
                    <a:pt x="100" y="2677"/>
                    <a:pt x="77" y="2700"/>
                    <a:pt x="50" y="2700"/>
                  </a:cubicBezTo>
                  <a:cubicBezTo>
                    <a:pt x="22" y="2700"/>
                    <a:pt x="0" y="2677"/>
                    <a:pt x="0" y="2650"/>
                  </a:cubicBezTo>
                  <a:close/>
                  <a:moveTo>
                    <a:pt x="0" y="1550"/>
                  </a:moveTo>
                  <a:lnTo>
                    <a:pt x="0" y="1550"/>
                  </a:lnTo>
                  <a:cubicBezTo>
                    <a:pt x="0" y="1522"/>
                    <a:pt x="22" y="1500"/>
                    <a:pt x="50" y="1500"/>
                  </a:cubicBezTo>
                  <a:cubicBezTo>
                    <a:pt x="77" y="1500"/>
                    <a:pt x="100" y="1522"/>
                    <a:pt x="100" y="1550"/>
                  </a:cubicBezTo>
                  <a:lnTo>
                    <a:pt x="100" y="1550"/>
                  </a:lnTo>
                  <a:cubicBezTo>
                    <a:pt x="100" y="1577"/>
                    <a:pt x="77" y="1600"/>
                    <a:pt x="50" y="1600"/>
                  </a:cubicBezTo>
                  <a:cubicBezTo>
                    <a:pt x="22" y="1600"/>
                    <a:pt x="0" y="1577"/>
                    <a:pt x="0" y="1550"/>
                  </a:cubicBezTo>
                  <a:close/>
                  <a:moveTo>
                    <a:pt x="0" y="1150"/>
                  </a:moveTo>
                  <a:lnTo>
                    <a:pt x="0" y="1150"/>
                  </a:lnTo>
                  <a:cubicBezTo>
                    <a:pt x="0" y="1122"/>
                    <a:pt x="22" y="1100"/>
                    <a:pt x="50" y="1100"/>
                  </a:cubicBezTo>
                  <a:cubicBezTo>
                    <a:pt x="77" y="1100"/>
                    <a:pt x="100" y="1122"/>
                    <a:pt x="100" y="1150"/>
                  </a:cubicBezTo>
                  <a:lnTo>
                    <a:pt x="100" y="1150"/>
                  </a:lnTo>
                  <a:cubicBezTo>
                    <a:pt x="100" y="1177"/>
                    <a:pt x="77" y="1200"/>
                    <a:pt x="50" y="1200"/>
                  </a:cubicBezTo>
                  <a:cubicBezTo>
                    <a:pt x="22" y="1200"/>
                    <a:pt x="0" y="1177"/>
                    <a:pt x="0" y="1150"/>
                  </a:cubicBezTo>
                  <a:close/>
                  <a:moveTo>
                    <a:pt x="0" y="750"/>
                  </a:moveTo>
                  <a:lnTo>
                    <a:pt x="0" y="50"/>
                  </a:lnTo>
                  <a:cubicBezTo>
                    <a:pt x="0" y="22"/>
                    <a:pt x="22" y="0"/>
                    <a:pt x="50" y="0"/>
                  </a:cubicBezTo>
                  <a:cubicBezTo>
                    <a:pt x="77" y="0"/>
                    <a:pt x="100" y="22"/>
                    <a:pt x="100" y="50"/>
                  </a:cubicBezTo>
                  <a:lnTo>
                    <a:pt x="100" y="750"/>
                  </a:lnTo>
                  <a:cubicBezTo>
                    <a:pt x="100" y="777"/>
                    <a:pt x="77" y="800"/>
                    <a:pt x="50" y="800"/>
                  </a:cubicBezTo>
                  <a:cubicBezTo>
                    <a:pt x="22" y="800"/>
                    <a:pt x="0" y="777"/>
                    <a:pt x="0" y="7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9"/>
            <p:cNvSpPr/>
            <p:nvPr/>
          </p:nvSpPr>
          <p:spPr>
            <a:xfrm>
              <a:off x="1719360" y="3765240"/>
              <a:ext cx="177840" cy="16668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5"/>
                  </a:lnTo>
                  <a:lnTo>
                    <a:pt x="216" y="578"/>
                  </a:lnTo>
                  <a:lnTo>
                    <a:pt x="277" y="697"/>
                  </a:lnTo>
                  <a:lnTo>
                    <a:pt x="277" y="697"/>
                  </a:lnTo>
                  <a:lnTo>
                    <a:pt x="274" y="692"/>
                  </a:lnTo>
                  <a:cubicBezTo>
                    <a:pt x="289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7"/>
                  </a:cubicBezTo>
                  <a:lnTo>
                    <a:pt x="188" y="742"/>
                  </a:lnTo>
                  <a:lnTo>
                    <a:pt x="123" y="615"/>
                  </a:lnTo>
                  <a:lnTo>
                    <a:pt x="70" y="482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6" y="996"/>
                  </a:moveTo>
                  <a:lnTo>
                    <a:pt x="516" y="996"/>
                  </a:lnTo>
                  <a:cubicBezTo>
                    <a:pt x="536" y="1016"/>
                    <a:pt x="536" y="1048"/>
                    <a:pt x="516" y="1067"/>
                  </a:cubicBezTo>
                  <a:cubicBezTo>
                    <a:pt x="497" y="1087"/>
                    <a:pt x="465" y="1086"/>
                    <a:pt x="445" y="1067"/>
                  </a:cubicBezTo>
                  <a:lnTo>
                    <a:pt x="445" y="1067"/>
                  </a:lnTo>
                  <a:cubicBezTo>
                    <a:pt x="426" y="1047"/>
                    <a:pt x="426" y="1016"/>
                    <a:pt x="445" y="996"/>
                  </a:cubicBezTo>
                  <a:cubicBezTo>
                    <a:pt x="465" y="977"/>
                    <a:pt x="497" y="977"/>
                    <a:pt x="516" y="996"/>
                  </a:cubicBezTo>
                  <a:close/>
                  <a:moveTo>
                    <a:pt x="829" y="1221"/>
                  </a:moveTo>
                  <a:lnTo>
                    <a:pt x="829" y="1221"/>
                  </a:lnTo>
                  <a:cubicBezTo>
                    <a:pt x="853" y="1234"/>
                    <a:pt x="862" y="1265"/>
                    <a:pt x="848" y="1289"/>
                  </a:cubicBezTo>
                  <a:cubicBezTo>
                    <a:pt x="835" y="1313"/>
                    <a:pt x="804" y="1322"/>
                    <a:pt x="780" y="1308"/>
                  </a:cubicBezTo>
                  <a:lnTo>
                    <a:pt x="780" y="1308"/>
                  </a:lnTo>
                  <a:cubicBezTo>
                    <a:pt x="756" y="1295"/>
                    <a:pt x="747" y="1264"/>
                    <a:pt x="761" y="1240"/>
                  </a:cubicBezTo>
                  <a:cubicBezTo>
                    <a:pt x="774" y="1216"/>
                    <a:pt x="805" y="1207"/>
                    <a:pt x="829" y="1221"/>
                  </a:cubicBezTo>
                  <a:close/>
                  <a:moveTo>
                    <a:pt x="1189" y="1357"/>
                  </a:moveTo>
                  <a:lnTo>
                    <a:pt x="1261" y="1375"/>
                  </a:lnTo>
                  <a:lnTo>
                    <a:pt x="1405" y="1395"/>
                  </a:lnTo>
                  <a:lnTo>
                    <a:pt x="1554" y="1402"/>
                  </a:lnTo>
                  <a:cubicBezTo>
                    <a:pt x="1581" y="1403"/>
                    <a:pt x="1603" y="1426"/>
                    <a:pt x="1601" y="1454"/>
                  </a:cubicBezTo>
                  <a:cubicBezTo>
                    <a:pt x="1600" y="1481"/>
                    <a:pt x="1577" y="1503"/>
                    <a:pt x="1549" y="1501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165" y="1455"/>
                  </a:lnTo>
                  <a:cubicBezTo>
                    <a:pt x="1139" y="1448"/>
                    <a:pt x="1122" y="1421"/>
                    <a:pt x="1129" y="1394"/>
                  </a:cubicBezTo>
                  <a:cubicBezTo>
                    <a:pt x="1135" y="1367"/>
                    <a:pt x="1162" y="1351"/>
                    <a:pt x="1189" y="13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0"/>
            <p:cNvSpPr/>
            <p:nvPr/>
          </p:nvSpPr>
          <p:spPr>
            <a:xfrm>
              <a:off x="1886400" y="3893400"/>
              <a:ext cx="5634000" cy="38520"/>
            </a:xfrm>
            <a:custGeom>
              <a:avLst/>
              <a:gdLst/>
              <a:ahLst/>
              <a:rect l="l" t="t" r="r" b="b"/>
              <a:pathLst>
                <a:path w="25303" h="177">
                  <a:moveTo>
                    <a:pt x="25" y="126"/>
                  </a:moveTo>
                  <a:lnTo>
                    <a:pt x="375" y="125"/>
                  </a:lnTo>
                  <a:cubicBezTo>
                    <a:pt x="389" y="125"/>
                    <a:pt x="400" y="136"/>
                    <a:pt x="400" y="150"/>
                  </a:cubicBezTo>
                  <a:cubicBezTo>
                    <a:pt x="400" y="163"/>
                    <a:pt x="389" y="175"/>
                    <a:pt x="375" y="175"/>
                  </a:cubicBezTo>
                  <a:lnTo>
                    <a:pt x="25" y="176"/>
                  </a:lnTo>
                  <a:cubicBezTo>
                    <a:pt x="11" y="177"/>
                    <a:pt x="0" y="165"/>
                    <a:pt x="0" y="152"/>
                  </a:cubicBezTo>
                  <a:cubicBezTo>
                    <a:pt x="0" y="138"/>
                    <a:pt x="11" y="127"/>
                    <a:pt x="25" y="126"/>
                  </a:cubicBezTo>
                  <a:close/>
                  <a:moveTo>
                    <a:pt x="575" y="124"/>
                  </a:moveTo>
                  <a:lnTo>
                    <a:pt x="575" y="124"/>
                  </a:lnTo>
                  <a:cubicBezTo>
                    <a:pt x="588" y="123"/>
                    <a:pt x="600" y="134"/>
                    <a:pt x="600" y="148"/>
                  </a:cubicBezTo>
                  <a:cubicBezTo>
                    <a:pt x="600" y="162"/>
                    <a:pt x="589" y="173"/>
                    <a:pt x="576" y="174"/>
                  </a:cubicBezTo>
                  <a:lnTo>
                    <a:pt x="576" y="174"/>
                  </a:lnTo>
                  <a:cubicBezTo>
                    <a:pt x="562" y="174"/>
                    <a:pt x="550" y="163"/>
                    <a:pt x="550" y="149"/>
                  </a:cubicBezTo>
                  <a:cubicBezTo>
                    <a:pt x="550" y="135"/>
                    <a:pt x="561" y="124"/>
                    <a:pt x="575" y="124"/>
                  </a:cubicBezTo>
                  <a:close/>
                  <a:moveTo>
                    <a:pt x="775" y="123"/>
                  </a:moveTo>
                  <a:lnTo>
                    <a:pt x="775" y="123"/>
                  </a:lnTo>
                  <a:cubicBezTo>
                    <a:pt x="789" y="122"/>
                    <a:pt x="800" y="133"/>
                    <a:pt x="800" y="147"/>
                  </a:cubicBezTo>
                  <a:cubicBezTo>
                    <a:pt x="800" y="161"/>
                    <a:pt x="790" y="172"/>
                    <a:pt x="776" y="173"/>
                  </a:cubicBezTo>
                  <a:lnTo>
                    <a:pt x="776" y="173"/>
                  </a:lnTo>
                  <a:cubicBezTo>
                    <a:pt x="762" y="173"/>
                    <a:pt x="750" y="162"/>
                    <a:pt x="750" y="148"/>
                  </a:cubicBezTo>
                  <a:cubicBezTo>
                    <a:pt x="750" y="134"/>
                    <a:pt x="761" y="123"/>
                    <a:pt x="775" y="123"/>
                  </a:cubicBezTo>
                  <a:close/>
                  <a:moveTo>
                    <a:pt x="975" y="122"/>
                  </a:moveTo>
                  <a:lnTo>
                    <a:pt x="1325" y="120"/>
                  </a:lnTo>
                  <a:cubicBezTo>
                    <a:pt x="1339" y="120"/>
                    <a:pt x="1350" y="131"/>
                    <a:pt x="1350" y="145"/>
                  </a:cubicBezTo>
                  <a:cubicBezTo>
                    <a:pt x="1350" y="159"/>
                    <a:pt x="1339" y="170"/>
                    <a:pt x="1325" y="170"/>
                  </a:cubicBezTo>
                  <a:lnTo>
                    <a:pt x="975" y="172"/>
                  </a:lnTo>
                  <a:cubicBezTo>
                    <a:pt x="962" y="172"/>
                    <a:pt x="950" y="161"/>
                    <a:pt x="950" y="147"/>
                  </a:cubicBezTo>
                  <a:cubicBezTo>
                    <a:pt x="950" y="133"/>
                    <a:pt x="961" y="122"/>
                    <a:pt x="975" y="122"/>
                  </a:cubicBezTo>
                  <a:close/>
                  <a:moveTo>
                    <a:pt x="1525" y="119"/>
                  </a:moveTo>
                  <a:lnTo>
                    <a:pt x="1525" y="119"/>
                  </a:lnTo>
                  <a:cubicBezTo>
                    <a:pt x="1539" y="119"/>
                    <a:pt x="1550" y="130"/>
                    <a:pt x="1550" y="143"/>
                  </a:cubicBezTo>
                  <a:cubicBezTo>
                    <a:pt x="1551" y="157"/>
                    <a:pt x="1540" y="169"/>
                    <a:pt x="1526" y="169"/>
                  </a:cubicBezTo>
                  <a:lnTo>
                    <a:pt x="1526" y="169"/>
                  </a:lnTo>
                  <a:cubicBezTo>
                    <a:pt x="1512" y="169"/>
                    <a:pt x="1500" y="158"/>
                    <a:pt x="1500" y="144"/>
                  </a:cubicBezTo>
                  <a:cubicBezTo>
                    <a:pt x="1500" y="131"/>
                    <a:pt x="1511" y="119"/>
                    <a:pt x="1525" y="119"/>
                  </a:cubicBezTo>
                  <a:close/>
                  <a:moveTo>
                    <a:pt x="1725" y="118"/>
                  </a:moveTo>
                  <a:lnTo>
                    <a:pt x="1725" y="118"/>
                  </a:lnTo>
                  <a:cubicBezTo>
                    <a:pt x="1739" y="118"/>
                    <a:pt x="1750" y="129"/>
                    <a:pt x="1750" y="142"/>
                  </a:cubicBezTo>
                  <a:cubicBezTo>
                    <a:pt x="1751" y="156"/>
                    <a:pt x="1740" y="168"/>
                    <a:pt x="1726" y="168"/>
                  </a:cubicBezTo>
                  <a:lnTo>
                    <a:pt x="1726" y="168"/>
                  </a:lnTo>
                  <a:cubicBezTo>
                    <a:pt x="1712" y="168"/>
                    <a:pt x="1701" y="157"/>
                    <a:pt x="1700" y="143"/>
                  </a:cubicBezTo>
                  <a:cubicBezTo>
                    <a:pt x="1700" y="130"/>
                    <a:pt x="1711" y="118"/>
                    <a:pt x="1725" y="118"/>
                  </a:cubicBezTo>
                  <a:close/>
                  <a:moveTo>
                    <a:pt x="1925" y="117"/>
                  </a:moveTo>
                  <a:lnTo>
                    <a:pt x="2275" y="115"/>
                  </a:lnTo>
                  <a:cubicBezTo>
                    <a:pt x="2289" y="115"/>
                    <a:pt x="2300" y="126"/>
                    <a:pt x="2300" y="140"/>
                  </a:cubicBezTo>
                  <a:cubicBezTo>
                    <a:pt x="2300" y="154"/>
                    <a:pt x="2289" y="165"/>
                    <a:pt x="2275" y="165"/>
                  </a:cubicBezTo>
                  <a:lnTo>
                    <a:pt x="1925" y="167"/>
                  </a:lnTo>
                  <a:cubicBezTo>
                    <a:pt x="1912" y="167"/>
                    <a:pt x="1900" y="156"/>
                    <a:pt x="1900" y="142"/>
                  </a:cubicBezTo>
                  <a:cubicBezTo>
                    <a:pt x="1900" y="128"/>
                    <a:pt x="1911" y="117"/>
                    <a:pt x="1925" y="117"/>
                  </a:cubicBezTo>
                  <a:close/>
                  <a:moveTo>
                    <a:pt x="2475" y="114"/>
                  </a:moveTo>
                  <a:lnTo>
                    <a:pt x="2475" y="114"/>
                  </a:lnTo>
                  <a:cubicBezTo>
                    <a:pt x="2489" y="114"/>
                    <a:pt x="2500" y="125"/>
                    <a:pt x="2500" y="139"/>
                  </a:cubicBezTo>
                  <a:cubicBezTo>
                    <a:pt x="2501" y="153"/>
                    <a:pt x="2490" y="164"/>
                    <a:pt x="2476" y="164"/>
                  </a:cubicBezTo>
                  <a:lnTo>
                    <a:pt x="2476" y="164"/>
                  </a:lnTo>
                  <a:cubicBezTo>
                    <a:pt x="2462" y="164"/>
                    <a:pt x="2451" y="154"/>
                    <a:pt x="2450" y="140"/>
                  </a:cubicBezTo>
                  <a:cubicBezTo>
                    <a:pt x="2450" y="126"/>
                    <a:pt x="2461" y="114"/>
                    <a:pt x="2475" y="114"/>
                  </a:cubicBezTo>
                  <a:close/>
                  <a:moveTo>
                    <a:pt x="2675" y="113"/>
                  </a:moveTo>
                  <a:lnTo>
                    <a:pt x="2675" y="113"/>
                  </a:lnTo>
                  <a:cubicBezTo>
                    <a:pt x="2689" y="113"/>
                    <a:pt x="2700" y="124"/>
                    <a:pt x="2700" y="138"/>
                  </a:cubicBezTo>
                  <a:cubicBezTo>
                    <a:pt x="2701" y="152"/>
                    <a:pt x="2690" y="163"/>
                    <a:pt x="2676" y="163"/>
                  </a:cubicBezTo>
                  <a:lnTo>
                    <a:pt x="2676" y="163"/>
                  </a:lnTo>
                  <a:cubicBezTo>
                    <a:pt x="2662" y="163"/>
                    <a:pt x="2651" y="153"/>
                    <a:pt x="2650" y="139"/>
                  </a:cubicBezTo>
                  <a:cubicBezTo>
                    <a:pt x="2650" y="125"/>
                    <a:pt x="2661" y="113"/>
                    <a:pt x="2675" y="113"/>
                  </a:cubicBezTo>
                  <a:close/>
                  <a:moveTo>
                    <a:pt x="2875" y="112"/>
                  </a:moveTo>
                  <a:lnTo>
                    <a:pt x="3225" y="110"/>
                  </a:lnTo>
                  <a:cubicBezTo>
                    <a:pt x="3239" y="110"/>
                    <a:pt x="3250" y="122"/>
                    <a:pt x="3250" y="135"/>
                  </a:cubicBezTo>
                  <a:cubicBezTo>
                    <a:pt x="3250" y="149"/>
                    <a:pt x="3239" y="160"/>
                    <a:pt x="3226" y="160"/>
                  </a:cubicBezTo>
                  <a:lnTo>
                    <a:pt x="2876" y="162"/>
                  </a:lnTo>
                  <a:cubicBezTo>
                    <a:pt x="2862" y="162"/>
                    <a:pt x="2850" y="151"/>
                    <a:pt x="2850" y="137"/>
                  </a:cubicBezTo>
                  <a:cubicBezTo>
                    <a:pt x="2850" y="124"/>
                    <a:pt x="2861" y="112"/>
                    <a:pt x="2875" y="112"/>
                  </a:cubicBezTo>
                  <a:close/>
                  <a:moveTo>
                    <a:pt x="3425" y="109"/>
                  </a:moveTo>
                  <a:lnTo>
                    <a:pt x="3425" y="109"/>
                  </a:lnTo>
                  <a:cubicBezTo>
                    <a:pt x="3439" y="109"/>
                    <a:pt x="3450" y="120"/>
                    <a:pt x="3450" y="134"/>
                  </a:cubicBezTo>
                  <a:cubicBezTo>
                    <a:pt x="3451" y="148"/>
                    <a:pt x="3440" y="159"/>
                    <a:pt x="3426" y="159"/>
                  </a:cubicBezTo>
                  <a:lnTo>
                    <a:pt x="3426" y="159"/>
                  </a:lnTo>
                  <a:cubicBezTo>
                    <a:pt x="3412" y="160"/>
                    <a:pt x="3401" y="149"/>
                    <a:pt x="3400" y="135"/>
                  </a:cubicBezTo>
                  <a:cubicBezTo>
                    <a:pt x="3400" y="121"/>
                    <a:pt x="3411" y="110"/>
                    <a:pt x="3425" y="109"/>
                  </a:cubicBezTo>
                  <a:close/>
                  <a:moveTo>
                    <a:pt x="3625" y="108"/>
                  </a:moveTo>
                  <a:lnTo>
                    <a:pt x="3625" y="108"/>
                  </a:lnTo>
                  <a:cubicBezTo>
                    <a:pt x="3639" y="108"/>
                    <a:pt x="3650" y="119"/>
                    <a:pt x="3650" y="133"/>
                  </a:cubicBezTo>
                  <a:cubicBezTo>
                    <a:pt x="3651" y="147"/>
                    <a:pt x="3640" y="158"/>
                    <a:pt x="3626" y="158"/>
                  </a:cubicBezTo>
                  <a:lnTo>
                    <a:pt x="3626" y="158"/>
                  </a:lnTo>
                  <a:cubicBezTo>
                    <a:pt x="3612" y="159"/>
                    <a:pt x="3601" y="148"/>
                    <a:pt x="3600" y="134"/>
                  </a:cubicBezTo>
                  <a:cubicBezTo>
                    <a:pt x="3600" y="120"/>
                    <a:pt x="3611" y="109"/>
                    <a:pt x="3625" y="108"/>
                  </a:cubicBezTo>
                  <a:close/>
                  <a:moveTo>
                    <a:pt x="3825" y="107"/>
                  </a:moveTo>
                  <a:lnTo>
                    <a:pt x="4175" y="106"/>
                  </a:lnTo>
                  <a:cubicBezTo>
                    <a:pt x="4189" y="106"/>
                    <a:pt x="4200" y="117"/>
                    <a:pt x="4200" y="131"/>
                  </a:cubicBezTo>
                  <a:cubicBezTo>
                    <a:pt x="4201" y="144"/>
                    <a:pt x="4189" y="156"/>
                    <a:pt x="4176" y="156"/>
                  </a:cubicBezTo>
                  <a:lnTo>
                    <a:pt x="3826" y="157"/>
                  </a:lnTo>
                  <a:cubicBezTo>
                    <a:pt x="3812" y="158"/>
                    <a:pt x="3801" y="146"/>
                    <a:pt x="3800" y="133"/>
                  </a:cubicBezTo>
                  <a:cubicBezTo>
                    <a:pt x="3800" y="119"/>
                    <a:pt x="3812" y="108"/>
                    <a:pt x="3825" y="107"/>
                  </a:cubicBezTo>
                  <a:close/>
                  <a:moveTo>
                    <a:pt x="4375" y="105"/>
                  </a:moveTo>
                  <a:lnTo>
                    <a:pt x="4375" y="105"/>
                  </a:lnTo>
                  <a:cubicBezTo>
                    <a:pt x="4389" y="104"/>
                    <a:pt x="4400" y="115"/>
                    <a:pt x="4401" y="129"/>
                  </a:cubicBezTo>
                  <a:cubicBezTo>
                    <a:pt x="4401" y="143"/>
                    <a:pt x="4390" y="154"/>
                    <a:pt x="4376" y="155"/>
                  </a:cubicBezTo>
                  <a:lnTo>
                    <a:pt x="4376" y="155"/>
                  </a:lnTo>
                  <a:cubicBezTo>
                    <a:pt x="4362" y="155"/>
                    <a:pt x="4351" y="144"/>
                    <a:pt x="4350" y="130"/>
                  </a:cubicBezTo>
                  <a:cubicBezTo>
                    <a:pt x="4350" y="116"/>
                    <a:pt x="4361" y="105"/>
                    <a:pt x="4375" y="105"/>
                  </a:cubicBezTo>
                  <a:close/>
                  <a:moveTo>
                    <a:pt x="4575" y="104"/>
                  </a:moveTo>
                  <a:lnTo>
                    <a:pt x="4575" y="104"/>
                  </a:lnTo>
                  <a:cubicBezTo>
                    <a:pt x="4589" y="103"/>
                    <a:pt x="4600" y="114"/>
                    <a:pt x="4601" y="128"/>
                  </a:cubicBezTo>
                  <a:cubicBezTo>
                    <a:pt x="4601" y="142"/>
                    <a:pt x="4590" y="153"/>
                    <a:pt x="4576" y="154"/>
                  </a:cubicBezTo>
                  <a:lnTo>
                    <a:pt x="4576" y="154"/>
                  </a:lnTo>
                  <a:cubicBezTo>
                    <a:pt x="4562" y="154"/>
                    <a:pt x="4551" y="143"/>
                    <a:pt x="4551" y="129"/>
                  </a:cubicBezTo>
                  <a:cubicBezTo>
                    <a:pt x="4550" y="115"/>
                    <a:pt x="4561" y="104"/>
                    <a:pt x="4575" y="104"/>
                  </a:cubicBezTo>
                  <a:close/>
                  <a:moveTo>
                    <a:pt x="4775" y="103"/>
                  </a:moveTo>
                  <a:lnTo>
                    <a:pt x="5125" y="101"/>
                  </a:lnTo>
                  <a:cubicBezTo>
                    <a:pt x="5139" y="101"/>
                    <a:pt x="5150" y="112"/>
                    <a:pt x="5151" y="126"/>
                  </a:cubicBezTo>
                  <a:cubicBezTo>
                    <a:pt x="5151" y="140"/>
                    <a:pt x="5140" y="151"/>
                    <a:pt x="5126" y="151"/>
                  </a:cubicBezTo>
                  <a:lnTo>
                    <a:pt x="4776" y="153"/>
                  </a:lnTo>
                  <a:cubicBezTo>
                    <a:pt x="4762" y="153"/>
                    <a:pt x="4751" y="142"/>
                    <a:pt x="4751" y="128"/>
                  </a:cubicBezTo>
                  <a:cubicBezTo>
                    <a:pt x="4751" y="114"/>
                    <a:pt x="4762" y="103"/>
                    <a:pt x="4775" y="103"/>
                  </a:cubicBezTo>
                  <a:close/>
                  <a:moveTo>
                    <a:pt x="5325" y="100"/>
                  </a:moveTo>
                  <a:lnTo>
                    <a:pt x="5325" y="100"/>
                  </a:lnTo>
                  <a:cubicBezTo>
                    <a:pt x="5339" y="100"/>
                    <a:pt x="5350" y="111"/>
                    <a:pt x="5351" y="124"/>
                  </a:cubicBezTo>
                  <a:cubicBezTo>
                    <a:pt x="5351" y="138"/>
                    <a:pt x="5340" y="150"/>
                    <a:pt x="5326" y="150"/>
                  </a:cubicBezTo>
                  <a:lnTo>
                    <a:pt x="5326" y="150"/>
                  </a:lnTo>
                  <a:cubicBezTo>
                    <a:pt x="5312" y="150"/>
                    <a:pt x="5301" y="139"/>
                    <a:pt x="5301" y="125"/>
                  </a:cubicBezTo>
                  <a:cubicBezTo>
                    <a:pt x="5300" y="112"/>
                    <a:pt x="5311" y="100"/>
                    <a:pt x="5325" y="100"/>
                  </a:cubicBezTo>
                  <a:close/>
                  <a:moveTo>
                    <a:pt x="5525" y="99"/>
                  </a:moveTo>
                  <a:lnTo>
                    <a:pt x="5525" y="99"/>
                  </a:lnTo>
                  <a:cubicBezTo>
                    <a:pt x="5539" y="99"/>
                    <a:pt x="5550" y="110"/>
                    <a:pt x="5551" y="123"/>
                  </a:cubicBezTo>
                  <a:cubicBezTo>
                    <a:pt x="5551" y="137"/>
                    <a:pt x="5540" y="149"/>
                    <a:pt x="5526" y="149"/>
                  </a:cubicBezTo>
                  <a:lnTo>
                    <a:pt x="5526" y="149"/>
                  </a:lnTo>
                  <a:cubicBezTo>
                    <a:pt x="5512" y="149"/>
                    <a:pt x="5501" y="138"/>
                    <a:pt x="5501" y="124"/>
                  </a:cubicBezTo>
                  <a:cubicBezTo>
                    <a:pt x="5500" y="111"/>
                    <a:pt x="5511" y="99"/>
                    <a:pt x="5525" y="99"/>
                  </a:cubicBezTo>
                  <a:close/>
                  <a:moveTo>
                    <a:pt x="5726" y="98"/>
                  </a:moveTo>
                  <a:lnTo>
                    <a:pt x="6076" y="96"/>
                  </a:lnTo>
                  <a:cubicBezTo>
                    <a:pt x="6089" y="96"/>
                    <a:pt x="6101" y="107"/>
                    <a:pt x="6101" y="121"/>
                  </a:cubicBezTo>
                  <a:cubicBezTo>
                    <a:pt x="6101" y="135"/>
                    <a:pt x="6090" y="146"/>
                    <a:pt x="6076" y="146"/>
                  </a:cubicBezTo>
                  <a:lnTo>
                    <a:pt x="5726" y="148"/>
                  </a:lnTo>
                  <a:cubicBezTo>
                    <a:pt x="5712" y="148"/>
                    <a:pt x="5701" y="137"/>
                    <a:pt x="5701" y="123"/>
                  </a:cubicBezTo>
                  <a:cubicBezTo>
                    <a:pt x="5701" y="109"/>
                    <a:pt x="5712" y="98"/>
                    <a:pt x="5726" y="98"/>
                  </a:cubicBezTo>
                  <a:close/>
                  <a:moveTo>
                    <a:pt x="6275" y="95"/>
                  </a:moveTo>
                  <a:lnTo>
                    <a:pt x="6275" y="95"/>
                  </a:lnTo>
                  <a:cubicBezTo>
                    <a:pt x="6289" y="95"/>
                    <a:pt x="6300" y="106"/>
                    <a:pt x="6301" y="120"/>
                  </a:cubicBezTo>
                  <a:cubicBezTo>
                    <a:pt x="6301" y="134"/>
                    <a:pt x="6290" y="145"/>
                    <a:pt x="6276" y="145"/>
                  </a:cubicBezTo>
                  <a:lnTo>
                    <a:pt x="6276" y="145"/>
                  </a:lnTo>
                  <a:cubicBezTo>
                    <a:pt x="6262" y="145"/>
                    <a:pt x="6251" y="135"/>
                    <a:pt x="6251" y="121"/>
                  </a:cubicBezTo>
                  <a:cubicBezTo>
                    <a:pt x="6250" y="107"/>
                    <a:pt x="6261" y="95"/>
                    <a:pt x="6275" y="95"/>
                  </a:cubicBezTo>
                  <a:close/>
                  <a:moveTo>
                    <a:pt x="6475" y="94"/>
                  </a:moveTo>
                  <a:lnTo>
                    <a:pt x="6475" y="94"/>
                  </a:lnTo>
                  <a:cubicBezTo>
                    <a:pt x="6489" y="94"/>
                    <a:pt x="6500" y="105"/>
                    <a:pt x="6501" y="119"/>
                  </a:cubicBezTo>
                  <a:cubicBezTo>
                    <a:pt x="6501" y="133"/>
                    <a:pt x="6490" y="144"/>
                    <a:pt x="6476" y="144"/>
                  </a:cubicBezTo>
                  <a:lnTo>
                    <a:pt x="6476" y="144"/>
                  </a:lnTo>
                  <a:cubicBezTo>
                    <a:pt x="6462" y="144"/>
                    <a:pt x="6451" y="134"/>
                    <a:pt x="6451" y="120"/>
                  </a:cubicBezTo>
                  <a:cubicBezTo>
                    <a:pt x="6450" y="106"/>
                    <a:pt x="6461" y="94"/>
                    <a:pt x="6475" y="94"/>
                  </a:cubicBezTo>
                  <a:close/>
                  <a:moveTo>
                    <a:pt x="6676" y="93"/>
                  </a:moveTo>
                  <a:lnTo>
                    <a:pt x="7026" y="91"/>
                  </a:lnTo>
                  <a:cubicBezTo>
                    <a:pt x="7039" y="91"/>
                    <a:pt x="7051" y="103"/>
                    <a:pt x="7051" y="116"/>
                  </a:cubicBezTo>
                  <a:cubicBezTo>
                    <a:pt x="7051" y="130"/>
                    <a:pt x="7040" y="141"/>
                    <a:pt x="7026" y="141"/>
                  </a:cubicBezTo>
                  <a:lnTo>
                    <a:pt x="6676" y="143"/>
                  </a:lnTo>
                  <a:cubicBezTo>
                    <a:pt x="6662" y="143"/>
                    <a:pt x="6651" y="132"/>
                    <a:pt x="6651" y="118"/>
                  </a:cubicBezTo>
                  <a:cubicBezTo>
                    <a:pt x="6651" y="105"/>
                    <a:pt x="6662" y="93"/>
                    <a:pt x="6676" y="93"/>
                  </a:cubicBezTo>
                  <a:close/>
                  <a:moveTo>
                    <a:pt x="7225" y="90"/>
                  </a:moveTo>
                  <a:lnTo>
                    <a:pt x="7225" y="90"/>
                  </a:lnTo>
                  <a:cubicBezTo>
                    <a:pt x="7239" y="90"/>
                    <a:pt x="7251" y="101"/>
                    <a:pt x="7251" y="115"/>
                  </a:cubicBezTo>
                  <a:cubicBezTo>
                    <a:pt x="7251" y="129"/>
                    <a:pt x="7240" y="140"/>
                    <a:pt x="7226" y="140"/>
                  </a:cubicBezTo>
                  <a:lnTo>
                    <a:pt x="7226" y="140"/>
                  </a:lnTo>
                  <a:cubicBezTo>
                    <a:pt x="7212" y="141"/>
                    <a:pt x="7201" y="130"/>
                    <a:pt x="7201" y="116"/>
                  </a:cubicBezTo>
                  <a:cubicBezTo>
                    <a:pt x="7200" y="102"/>
                    <a:pt x="7211" y="91"/>
                    <a:pt x="7225" y="90"/>
                  </a:cubicBezTo>
                  <a:close/>
                  <a:moveTo>
                    <a:pt x="7425" y="89"/>
                  </a:moveTo>
                  <a:lnTo>
                    <a:pt x="7425" y="89"/>
                  </a:lnTo>
                  <a:cubicBezTo>
                    <a:pt x="7439" y="89"/>
                    <a:pt x="7451" y="100"/>
                    <a:pt x="7451" y="114"/>
                  </a:cubicBezTo>
                  <a:cubicBezTo>
                    <a:pt x="7451" y="128"/>
                    <a:pt x="7440" y="139"/>
                    <a:pt x="7426" y="139"/>
                  </a:cubicBezTo>
                  <a:lnTo>
                    <a:pt x="7426" y="139"/>
                  </a:lnTo>
                  <a:cubicBezTo>
                    <a:pt x="7412" y="140"/>
                    <a:pt x="7401" y="129"/>
                    <a:pt x="7401" y="115"/>
                  </a:cubicBezTo>
                  <a:cubicBezTo>
                    <a:pt x="7401" y="101"/>
                    <a:pt x="7411" y="90"/>
                    <a:pt x="7425" y="89"/>
                  </a:cubicBezTo>
                  <a:close/>
                  <a:moveTo>
                    <a:pt x="7626" y="88"/>
                  </a:moveTo>
                  <a:lnTo>
                    <a:pt x="7976" y="87"/>
                  </a:lnTo>
                  <a:cubicBezTo>
                    <a:pt x="7990" y="87"/>
                    <a:pt x="8001" y="98"/>
                    <a:pt x="8001" y="112"/>
                  </a:cubicBezTo>
                  <a:cubicBezTo>
                    <a:pt x="8001" y="125"/>
                    <a:pt x="7990" y="137"/>
                    <a:pt x="7976" y="137"/>
                  </a:cubicBezTo>
                  <a:lnTo>
                    <a:pt x="7626" y="138"/>
                  </a:lnTo>
                  <a:cubicBezTo>
                    <a:pt x="7612" y="139"/>
                    <a:pt x="7601" y="127"/>
                    <a:pt x="7601" y="114"/>
                  </a:cubicBezTo>
                  <a:cubicBezTo>
                    <a:pt x="7601" y="100"/>
                    <a:pt x="7612" y="89"/>
                    <a:pt x="7626" y="88"/>
                  </a:cubicBezTo>
                  <a:close/>
                  <a:moveTo>
                    <a:pt x="8175" y="86"/>
                  </a:moveTo>
                  <a:lnTo>
                    <a:pt x="8175" y="86"/>
                  </a:lnTo>
                  <a:cubicBezTo>
                    <a:pt x="8189" y="85"/>
                    <a:pt x="8201" y="96"/>
                    <a:pt x="8201" y="110"/>
                  </a:cubicBezTo>
                  <a:cubicBezTo>
                    <a:pt x="8201" y="124"/>
                    <a:pt x="8190" y="135"/>
                    <a:pt x="8176" y="136"/>
                  </a:cubicBezTo>
                  <a:lnTo>
                    <a:pt x="8176" y="136"/>
                  </a:lnTo>
                  <a:cubicBezTo>
                    <a:pt x="8163" y="136"/>
                    <a:pt x="8151" y="125"/>
                    <a:pt x="8151" y="111"/>
                  </a:cubicBezTo>
                  <a:cubicBezTo>
                    <a:pt x="8151" y="97"/>
                    <a:pt x="8162" y="86"/>
                    <a:pt x="8175" y="86"/>
                  </a:cubicBezTo>
                  <a:close/>
                  <a:moveTo>
                    <a:pt x="8375" y="85"/>
                  </a:moveTo>
                  <a:lnTo>
                    <a:pt x="8375" y="85"/>
                  </a:lnTo>
                  <a:cubicBezTo>
                    <a:pt x="8389" y="84"/>
                    <a:pt x="8401" y="95"/>
                    <a:pt x="8401" y="109"/>
                  </a:cubicBezTo>
                  <a:cubicBezTo>
                    <a:pt x="8401" y="123"/>
                    <a:pt x="8390" y="134"/>
                    <a:pt x="8376" y="135"/>
                  </a:cubicBezTo>
                  <a:lnTo>
                    <a:pt x="8376" y="135"/>
                  </a:lnTo>
                  <a:cubicBezTo>
                    <a:pt x="8363" y="135"/>
                    <a:pt x="8351" y="124"/>
                    <a:pt x="8351" y="110"/>
                  </a:cubicBezTo>
                  <a:cubicBezTo>
                    <a:pt x="8351" y="96"/>
                    <a:pt x="8362" y="85"/>
                    <a:pt x="8375" y="85"/>
                  </a:cubicBezTo>
                  <a:close/>
                  <a:moveTo>
                    <a:pt x="8576" y="84"/>
                  </a:moveTo>
                  <a:lnTo>
                    <a:pt x="8926" y="82"/>
                  </a:lnTo>
                  <a:cubicBezTo>
                    <a:pt x="8940" y="82"/>
                    <a:pt x="8951" y="93"/>
                    <a:pt x="8951" y="107"/>
                  </a:cubicBezTo>
                  <a:cubicBezTo>
                    <a:pt x="8951" y="121"/>
                    <a:pt x="8940" y="132"/>
                    <a:pt x="8926" y="132"/>
                  </a:cubicBezTo>
                  <a:lnTo>
                    <a:pt x="8576" y="134"/>
                  </a:lnTo>
                  <a:cubicBezTo>
                    <a:pt x="8562" y="134"/>
                    <a:pt x="8551" y="123"/>
                    <a:pt x="8551" y="109"/>
                  </a:cubicBezTo>
                  <a:cubicBezTo>
                    <a:pt x="8551" y="95"/>
                    <a:pt x="8562" y="84"/>
                    <a:pt x="8576" y="84"/>
                  </a:cubicBezTo>
                  <a:close/>
                  <a:moveTo>
                    <a:pt x="9125" y="81"/>
                  </a:moveTo>
                  <a:lnTo>
                    <a:pt x="9125" y="81"/>
                  </a:lnTo>
                  <a:cubicBezTo>
                    <a:pt x="9139" y="81"/>
                    <a:pt x="9151" y="92"/>
                    <a:pt x="9151" y="105"/>
                  </a:cubicBezTo>
                  <a:cubicBezTo>
                    <a:pt x="9151" y="119"/>
                    <a:pt x="9140" y="131"/>
                    <a:pt x="9126" y="131"/>
                  </a:cubicBezTo>
                  <a:lnTo>
                    <a:pt x="9126" y="131"/>
                  </a:lnTo>
                  <a:cubicBezTo>
                    <a:pt x="9113" y="131"/>
                    <a:pt x="9101" y="120"/>
                    <a:pt x="9101" y="106"/>
                  </a:cubicBezTo>
                  <a:cubicBezTo>
                    <a:pt x="9101" y="93"/>
                    <a:pt x="9112" y="81"/>
                    <a:pt x="9125" y="81"/>
                  </a:cubicBezTo>
                  <a:close/>
                  <a:moveTo>
                    <a:pt x="9325" y="80"/>
                  </a:moveTo>
                  <a:lnTo>
                    <a:pt x="9326" y="80"/>
                  </a:lnTo>
                  <a:cubicBezTo>
                    <a:pt x="9339" y="80"/>
                    <a:pt x="9351" y="91"/>
                    <a:pt x="9351" y="104"/>
                  </a:cubicBezTo>
                  <a:cubicBezTo>
                    <a:pt x="9351" y="118"/>
                    <a:pt x="9340" y="130"/>
                    <a:pt x="9327" y="130"/>
                  </a:cubicBezTo>
                  <a:lnTo>
                    <a:pt x="9326" y="130"/>
                  </a:lnTo>
                  <a:cubicBezTo>
                    <a:pt x="9313" y="130"/>
                    <a:pt x="9301" y="119"/>
                    <a:pt x="9301" y="105"/>
                  </a:cubicBezTo>
                  <a:cubicBezTo>
                    <a:pt x="9301" y="92"/>
                    <a:pt x="9312" y="80"/>
                    <a:pt x="9325" y="80"/>
                  </a:cubicBezTo>
                  <a:close/>
                  <a:moveTo>
                    <a:pt x="9526" y="79"/>
                  </a:moveTo>
                  <a:lnTo>
                    <a:pt x="9876" y="77"/>
                  </a:lnTo>
                  <a:cubicBezTo>
                    <a:pt x="9890" y="77"/>
                    <a:pt x="9901" y="88"/>
                    <a:pt x="9901" y="102"/>
                  </a:cubicBezTo>
                  <a:cubicBezTo>
                    <a:pt x="9901" y="116"/>
                    <a:pt x="9890" y="127"/>
                    <a:pt x="9876" y="127"/>
                  </a:cubicBezTo>
                  <a:lnTo>
                    <a:pt x="9526" y="129"/>
                  </a:lnTo>
                  <a:cubicBezTo>
                    <a:pt x="9512" y="129"/>
                    <a:pt x="9501" y="118"/>
                    <a:pt x="9501" y="104"/>
                  </a:cubicBezTo>
                  <a:cubicBezTo>
                    <a:pt x="9501" y="90"/>
                    <a:pt x="9512" y="79"/>
                    <a:pt x="9526" y="79"/>
                  </a:cubicBezTo>
                  <a:close/>
                  <a:moveTo>
                    <a:pt x="10076" y="76"/>
                  </a:moveTo>
                  <a:lnTo>
                    <a:pt x="10076" y="76"/>
                  </a:lnTo>
                  <a:cubicBezTo>
                    <a:pt x="10089" y="76"/>
                    <a:pt x="10101" y="87"/>
                    <a:pt x="10101" y="101"/>
                  </a:cubicBezTo>
                  <a:cubicBezTo>
                    <a:pt x="10101" y="115"/>
                    <a:pt x="10090" y="126"/>
                    <a:pt x="10077" y="126"/>
                  </a:cubicBezTo>
                  <a:lnTo>
                    <a:pt x="10076" y="126"/>
                  </a:lnTo>
                  <a:cubicBezTo>
                    <a:pt x="10063" y="126"/>
                    <a:pt x="10051" y="115"/>
                    <a:pt x="10051" y="102"/>
                  </a:cubicBezTo>
                  <a:cubicBezTo>
                    <a:pt x="10051" y="88"/>
                    <a:pt x="10062" y="76"/>
                    <a:pt x="10076" y="76"/>
                  </a:cubicBezTo>
                  <a:close/>
                  <a:moveTo>
                    <a:pt x="10276" y="75"/>
                  </a:moveTo>
                  <a:lnTo>
                    <a:pt x="10276" y="75"/>
                  </a:lnTo>
                  <a:cubicBezTo>
                    <a:pt x="10289" y="75"/>
                    <a:pt x="10301" y="86"/>
                    <a:pt x="10301" y="100"/>
                  </a:cubicBezTo>
                  <a:cubicBezTo>
                    <a:pt x="10301" y="114"/>
                    <a:pt x="10290" y="125"/>
                    <a:pt x="10277" y="125"/>
                  </a:cubicBezTo>
                  <a:lnTo>
                    <a:pt x="10277" y="125"/>
                  </a:lnTo>
                  <a:cubicBezTo>
                    <a:pt x="10263" y="125"/>
                    <a:pt x="10251" y="114"/>
                    <a:pt x="10251" y="101"/>
                  </a:cubicBezTo>
                  <a:cubicBezTo>
                    <a:pt x="10251" y="87"/>
                    <a:pt x="10262" y="75"/>
                    <a:pt x="10276" y="75"/>
                  </a:cubicBezTo>
                  <a:close/>
                  <a:moveTo>
                    <a:pt x="10476" y="74"/>
                  </a:moveTo>
                  <a:lnTo>
                    <a:pt x="10826" y="72"/>
                  </a:lnTo>
                  <a:cubicBezTo>
                    <a:pt x="10840" y="72"/>
                    <a:pt x="10851" y="84"/>
                    <a:pt x="10851" y="97"/>
                  </a:cubicBezTo>
                  <a:cubicBezTo>
                    <a:pt x="10851" y="111"/>
                    <a:pt x="10840" y="122"/>
                    <a:pt x="10826" y="122"/>
                  </a:cubicBezTo>
                  <a:lnTo>
                    <a:pt x="10476" y="124"/>
                  </a:lnTo>
                  <a:cubicBezTo>
                    <a:pt x="10462" y="124"/>
                    <a:pt x="10451" y="113"/>
                    <a:pt x="10451" y="99"/>
                  </a:cubicBezTo>
                  <a:cubicBezTo>
                    <a:pt x="10451" y="86"/>
                    <a:pt x="10462" y="74"/>
                    <a:pt x="10476" y="74"/>
                  </a:cubicBezTo>
                  <a:close/>
                  <a:moveTo>
                    <a:pt x="11026" y="71"/>
                  </a:moveTo>
                  <a:lnTo>
                    <a:pt x="11026" y="71"/>
                  </a:lnTo>
                  <a:cubicBezTo>
                    <a:pt x="11039" y="71"/>
                    <a:pt x="11051" y="82"/>
                    <a:pt x="11051" y="96"/>
                  </a:cubicBezTo>
                  <a:cubicBezTo>
                    <a:pt x="11051" y="110"/>
                    <a:pt x="11040" y="121"/>
                    <a:pt x="11027" y="121"/>
                  </a:cubicBezTo>
                  <a:lnTo>
                    <a:pt x="11027" y="121"/>
                  </a:lnTo>
                  <a:cubicBezTo>
                    <a:pt x="11013" y="122"/>
                    <a:pt x="11001" y="111"/>
                    <a:pt x="11001" y="97"/>
                  </a:cubicBezTo>
                  <a:cubicBezTo>
                    <a:pt x="11001" y="83"/>
                    <a:pt x="11012" y="72"/>
                    <a:pt x="11026" y="71"/>
                  </a:cubicBezTo>
                  <a:close/>
                  <a:moveTo>
                    <a:pt x="11226" y="70"/>
                  </a:moveTo>
                  <a:lnTo>
                    <a:pt x="11226" y="70"/>
                  </a:lnTo>
                  <a:cubicBezTo>
                    <a:pt x="11239" y="70"/>
                    <a:pt x="11251" y="81"/>
                    <a:pt x="11251" y="95"/>
                  </a:cubicBezTo>
                  <a:cubicBezTo>
                    <a:pt x="11251" y="109"/>
                    <a:pt x="11240" y="120"/>
                    <a:pt x="11227" y="120"/>
                  </a:cubicBezTo>
                  <a:lnTo>
                    <a:pt x="11227" y="120"/>
                  </a:lnTo>
                  <a:cubicBezTo>
                    <a:pt x="11213" y="121"/>
                    <a:pt x="11201" y="110"/>
                    <a:pt x="11201" y="96"/>
                  </a:cubicBezTo>
                  <a:cubicBezTo>
                    <a:pt x="11201" y="82"/>
                    <a:pt x="11212" y="71"/>
                    <a:pt x="11226" y="70"/>
                  </a:cubicBezTo>
                  <a:close/>
                  <a:moveTo>
                    <a:pt x="11426" y="69"/>
                  </a:moveTo>
                  <a:lnTo>
                    <a:pt x="11776" y="68"/>
                  </a:lnTo>
                  <a:cubicBezTo>
                    <a:pt x="11790" y="68"/>
                    <a:pt x="11801" y="79"/>
                    <a:pt x="11801" y="93"/>
                  </a:cubicBezTo>
                  <a:cubicBezTo>
                    <a:pt x="11801" y="106"/>
                    <a:pt x="11790" y="118"/>
                    <a:pt x="11776" y="118"/>
                  </a:cubicBezTo>
                  <a:lnTo>
                    <a:pt x="11426" y="119"/>
                  </a:lnTo>
                  <a:cubicBezTo>
                    <a:pt x="11413" y="120"/>
                    <a:pt x="11401" y="108"/>
                    <a:pt x="11401" y="95"/>
                  </a:cubicBezTo>
                  <a:cubicBezTo>
                    <a:pt x="11401" y="81"/>
                    <a:pt x="11412" y="70"/>
                    <a:pt x="11426" y="69"/>
                  </a:cubicBezTo>
                  <a:close/>
                  <a:moveTo>
                    <a:pt x="11976" y="67"/>
                  </a:moveTo>
                  <a:lnTo>
                    <a:pt x="11976" y="67"/>
                  </a:lnTo>
                  <a:cubicBezTo>
                    <a:pt x="11990" y="66"/>
                    <a:pt x="12001" y="77"/>
                    <a:pt x="12001" y="91"/>
                  </a:cubicBezTo>
                  <a:cubicBezTo>
                    <a:pt x="12001" y="105"/>
                    <a:pt x="11991" y="116"/>
                    <a:pt x="11977" y="117"/>
                  </a:cubicBezTo>
                  <a:lnTo>
                    <a:pt x="11977" y="117"/>
                  </a:lnTo>
                  <a:cubicBezTo>
                    <a:pt x="11963" y="117"/>
                    <a:pt x="11951" y="106"/>
                    <a:pt x="11951" y="92"/>
                  </a:cubicBezTo>
                  <a:cubicBezTo>
                    <a:pt x="11951" y="78"/>
                    <a:pt x="11962" y="67"/>
                    <a:pt x="11976" y="67"/>
                  </a:cubicBezTo>
                  <a:close/>
                  <a:moveTo>
                    <a:pt x="12176" y="66"/>
                  </a:moveTo>
                  <a:lnTo>
                    <a:pt x="12176" y="66"/>
                  </a:lnTo>
                  <a:cubicBezTo>
                    <a:pt x="12190" y="65"/>
                    <a:pt x="12201" y="76"/>
                    <a:pt x="12201" y="90"/>
                  </a:cubicBezTo>
                  <a:cubicBezTo>
                    <a:pt x="12202" y="104"/>
                    <a:pt x="12191" y="115"/>
                    <a:pt x="12177" y="116"/>
                  </a:cubicBezTo>
                  <a:lnTo>
                    <a:pt x="12177" y="116"/>
                  </a:lnTo>
                  <a:cubicBezTo>
                    <a:pt x="12163" y="116"/>
                    <a:pt x="12151" y="105"/>
                    <a:pt x="12151" y="91"/>
                  </a:cubicBezTo>
                  <a:cubicBezTo>
                    <a:pt x="12151" y="77"/>
                    <a:pt x="12162" y="66"/>
                    <a:pt x="12176" y="66"/>
                  </a:cubicBezTo>
                  <a:close/>
                  <a:moveTo>
                    <a:pt x="12376" y="65"/>
                  </a:moveTo>
                  <a:lnTo>
                    <a:pt x="12726" y="63"/>
                  </a:lnTo>
                  <a:cubicBezTo>
                    <a:pt x="12740" y="63"/>
                    <a:pt x="12751" y="74"/>
                    <a:pt x="12751" y="88"/>
                  </a:cubicBezTo>
                  <a:cubicBezTo>
                    <a:pt x="12751" y="102"/>
                    <a:pt x="12740" y="113"/>
                    <a:pt x="12726" y="113"/>
                  </a:cubicBezTo>
                  <a:lnTo>
                    <a:pt x="12376" y="115"/>
                  </a:lnTo>
                  <a:cubicBezTo>
                    <a:pt x="12363" y="115"/>
                    <a:pt x="12351" y="104"/>
                    <a:pt x="12351" y="90"/>
                  </a:cubicBezTo>
                  <a:cubicBezTo>
                    <a:pt x="12351" y="76"/>
                    <a:pt x="12362" y="65"/>
                    <a:pt x="12376" y="65"/>
                  </a:cubicBezTo>
                  <a:close/>
                  <a:moveTo>
                    <a:pt x="12926" y="62"/>
                  </a:moveTo>
                  <a:lnTo>
                    <a:pt x="12926" y="62"/>
                  </a:lnTo>
                  <a:cubicBezTo>
                    <a:pt x="12940" y="62"/>
                    <a:pt x="12951" y="73"/>
                    <a:pt x="12951" y="86"/>
                  </a:cubicBezTo>
                  <a:cubicBezTo>
                    <a:pt x="12952" y="100"/>
                    <a:pt x="12941" y="112"/>
                    <a:pt x="12927" y="112"/>
                  </a:cubicBezTo>
                  <a:lnTo>
                    <a:pt x="12927" y="112"/>
                  </a:lnTo>
                  <a:cubicBezTo>
                    <a:pt x="12913" y="112"/>
                    <a:pt x="12902" y="101"/>
                    <a:pt x="12901" y="87"/>
                  </a:cubicBezTo>
                  <a:cubicBezTo>
                    <a:pt x="12901" y="74"/>
                    <a:pt x="12912" y="62"/>
                    <a:pt x="12926" y="62"/>
                  </a:cubicBezTo>
                  <a:close/>
                  <a:moveTo>
                    <a:pt x="13126" y="61"/>
                  </a:moveTo>
                  <a:lnTo>
                    <a:pt x="13126" y="61"/>
                  </a:lnTo>
                  <a:cubicBezTo>
                    <a:pt x="13140" y="61"/>
                    <a:pt x="13151" y="72"/>
                    <a:pt x="13151" y="85"/>
                  </a:cubicBezTo>
                  <a:cubicBezTo>
                    <a:pt x="13152" y="99"/>
                    <a:pt x="13141" y="111"/>
                    <a:pt x="13127" y="111"/>
                  </a:cubicBezTo>
                  <a:lnTo>
                    <a:pt x="13127" y="111"/>
                  </a:lnTo>
                  <a:cubicBezTo>
                    <a:pt x="13113" y="111"/>
                    <a:pt x="13102" y="100"/>
                    <a:pt x="13101" y="86"/>
                  </a:cubicBezTo>
                  <a:cubicBezTo>
                    <a:pt x="13101" y="73"/>
                    <a:pt x="13112" y="61"/>
                    <a:pt x="13126" y="61"/>
                  </a:cubicBezTo>
                  <a:close/>
                  <a:moveTo>
                    <a:pt x="13326" y="60"/>
                  </a:moveTo>
                  <a:lnTo>
                    <a:pt x="13676" y="58"/>
                  </a:lnTo>
                  <a:cubicBezTo>
                    <a:pt x="13690" y="58"/>
                    <a:pt x="13701" y="69"/>
                    <a:pt x="13701" y="83"/>
                  </a:cubicBezTo>
                  <a:cubicBezTo>
                    <a:pt x="13701" y="97"/>
                    <a:pt x="13690" y="108"/>
                    <a:pt x="13676" y="108"/>
                  </a:cubicBezTo>
                  <a:lnTo>
                    <a:pt x="13326" y="110"/>
                  </a:lnTo>
                  <a:cubicBezTo>
                    <a:pt x="13313" y="110"/>
                    <a:pt x="13301" y="99"/>
                    <a:pt x="13301" y="85"/>
                  </a:cubicBezTo>
                  <a:cubicBezTo>
                    <a:pt x="13301" y="71"/>
                    <a:pt x="13312" y="60"/>
                    <a:pt x="13326" y="60"/>
                  </a:cubicBezTo>
                  <a:close/>
                  <a:moveTo>
                    <a:pt x="13876" y="57"/>
                  </a:moveTo>
                  <a:lnTo>
                    <a:pt x="13876" y="57"/>
                  </a:lnTo>
                  <a:cubicBezTo>
                    <a:pt x="13890" y="57"/>
                    <a:pt x="13901" y="68"/>
                    <a:pt x="13901" y="82"/>
                  </a:cubicBezTo>
                  <a:cubicBezTo>
                    <a:pt x="13902" y="96"/>
                    <a:pt x="13891" y="107"/>
                    <a:pt x="13877" y="107"/>
                  </a:cubicBezTo>
                  <a:lnTo>
                    <a:pt x="13877" y="107"/>
                  </a:lnTo>
                  <a:cubicBezTo>
                    <a:pt x="13863" y="107"/>
                    <a:pt x="13852" y="96"/>
                    <a:pt x="13851" y="83"/>
                  </a:cubicBezTo>
                  <a:cubicBezTo>
                    <a:pt x="13851" y="69"/>
                    <a:pt x="13862" y="57"/>
                    <a:pt x="13876" y="57"/>
                  </a:cubicBezTo>
                  <a:close/>
                  <a:moveTo>
                    <a:pt x="14076" y="56"/>
                  </a:moveTo>
                  <a:lnTo>
                    <a:pt x="14076" y="56"/>
                  </a:lnTo>
                  <a:cubicBezTo>
                    <a:pt x="14090" y="56"/>
                    <a:pt x="14101" y="67"/>
                    <a:pt x="14101" y="81"/>
                  </a:cubicBezTo>
                  <a:cubicBezTo>
                    <a:pt x="14102" y="95"/>
                    <a:pt x="14091" y="106"/>
                    <a:pt x="14077" y="106"/>
                  </a:cubicBezTo>
                  <a:lnTo>
                    <a:pt x="14077" y="106"/>
                  </a:lnTo>
                  <a:cubicBezTo>
                    <a:pt x="14063" y="106"/>
                    <a:pt x="14052" y="95"/>
                    <a:pt x="14051" y="82"/>
                  </a:cubicBezTo>
                  <a:cubicBezTo>
                    <a:pt x="14051" y="68"/>
                    <a:pt x="14062" y="56"/>
                    <a:pt x="14076" y="56"/>
                  </a:cubicBezTo>
                  <a:close/>
                  <a:moveTo>
                    <a:pt x="14276" y="55"/>
                  </a:moveTo>
                  <a:lnTo>
                    <a:pt x="14626" y="53"/>
                  </a:lnTo>
                  <a:cubicBezTo>
                    <a:pt x="14640" y="53"/>
                    <a:pt x="14651" y="65"/>
                    <a:pt x="14651" y="78"/>
                  </a:cubicBezTo>
                  <a:cubicBezTo>
                    <a:pt x="14652" y="92"/>
                    <a:pt x="14640" y="103"/>
                    <a:pt x="14627" y="103"/>
                  </a:cubicBezTo>
                  <a:lnTo>
                    <a:pt x="14277" y="105"/>
                  </a:lnTo>
                  <a:cubicBezTo>
                    <a:pt x="14263" y="105"/>
                    <a:pt x="14252" y="94"/>
                    <a:pt x="14251" y="80"/>
                  </a:cubicBezTo>
                  <a:cubicBezTo>
                    <a:pt x="14251" y="67"/>
                    <a:pt x="14263" y="55"/>
                    <a:pt x="14276" y="55"/>
                  </a:cubicBezTo>
                  <a:close/>
                  <a:moveTo>
                    <a:pt x="14826" y="52"/>
                  </a:moveTo>
                  <a:lnTo>
                    <a:pt x="14826" y="52"/>
                  </a:lnTo>
                  <a:cubicBezTo>
                    <a:pt x="14840" y="52"/>
                    <a:pt x="14851" y="63"/>
                    <a:pt x="14851" y="77"/>
                  </a:cubicBezTo>
                  <a:cubicBezTo>
                    <a:pt x="14852" y="91"/>
                    <a:pt x="14841" y="102"/>
                    <a:pt x="14827" y="102"/>
                  </a:cubicBezTo>
                  <a:lnTo>
                    <a:pt x="14827" y="102"/>
                  </a:lnTo>
                  <a:cubicBezTo>
                    <a:pt x="14813" y="103"/>
                    <a:pt x="14802" y="92"/>
                    <a:pt x="14801" y="78"/>
                  </a:cubicBezTo>
                  <a:cubicBezTo>
                    <a:pt x="14801" y="64"/>
                    <a:pt x="14812" y="53"/>
                    <a:pt x="14826" y="52"/>
                  </a:cubicBezTo>
                  <a:close/>
                  <a:moveTo>
                    <a:pt x="15026" y="51"/>
                  </a:moveTo>
                  <a:lnTo>
                    <a:pt x="15026" y="51"/>
                  </a:lnTo>
                  <a:cubicBezTo>
                    <a:pt x="15040" y="51"/>
                    <a:pt x="15051" y="62"/>
                    <a:pt x="15052" y="76"/>
                  </a:cubicBezTo>
                  <a:cubicBezTo>
                    <a:pt x="15052" y="90"/>
                    <a:pt x="15041" y="101"/>
                    <a:pt x="15027" y="101"/>
                  </a:cubicBezTo>
                  <a:lnTo>
                    <a:pt x="15027" y="101"/>
                  </a:lnTo>
                  <a:cubicBezTo>
                    <a:pt x="15013" y="102"/>
                    <a:pt x="15002" y="91"/>
                    <a:pt x="15001" y="77"/>
                  </a:cubicBezTo>
                  <a:cubicBezTo>
                    <a:pt x="15001" y="63"/>
                    <a:pt x="15012" y="52"/>
                    <a:pt x="15026" y="51"/>
                  </a:cubicBezTo>
                  <a:close/>
                  <a:moveTo>
                    <a:pt x="15226" y="50"/>
                  </a:moveTo>
                  <a:lnTo>
                    <a:pt x="15576" y="49"/>
                  </a:lnTo>
                  <a:cubicBezTo>
                    <a:pt x="15590" y="49"/>
                    <a:pt x="15601" y="60"/>
                    <a:pt x="15602" y="74"/>
                  </a:cubicBezTo>
                  <a:cubicBezTo>
                    <a:pt x="15602" y="87"/>
                    <a:pt x="15590" y="99"/>
                    <a:pt x="15577" y="99"/>
                  </a:cubicBezTo>
                  <a:lnTo>
                    <a:pt x="15227" y="100"/>
                  </a:lnTo>
                  <a:cubicBezTo>
                    <a:pt x="15213" y="101"/>
                    <a:pt x="15202" y="89"/>
                    <a:pt x="15202" y="76"/>
                  </a:cubicBezTo>
                  <a:cubicBezTo>
                    <a:pt x="15201" y="62"/>
                    <a:pt x="15213" y="51"/>
                    <a:pt x="15226" y="50"/>
                  </a:cubicBezTo>
                  <a:close/>
                  <a:moveTo>
                    <a:pt x="15776" y="48"/>
                  </a:moveTo>
                  <a:lnTo>
                    <a:pt x="15776" y="48"/>
                  </a:lnTo>
                  <a:cubicBezTo>
                    <a:pt x="15790" y="47"/>
                    <a:pt x="15801" y="58"/>
                    <a:pt x="15802" y="72"/>
                  </a:cubicBezTo>
                  <a:cubicBezTo>
                    <a:pt x="15802" y="86"/>
                    <a:pt x="15791" y="97"/>
                    <a:pt x="15777" y="98"/>
                  </a:cubicBezTo>
                  <a:lnTo>
                    <a:pt x="15777" y="98"/>
                  </a:lnTo>
                  <a:cubicBezTo>
                    <a:pt x="15763" y="98"/>
                    <a:pt x="15752" y="87"/>
                    <a:pt x="15752" y="73"/>
                  </a:cubicBezTo>
                  <a:cubicBezTo>
                    <a:pt x="15751" y="59"/>
                    <a:pt x="15762" y="48"/>
                    <a:pt x="15776" y="48"/>
                  </a:cubicBezTo>
                  <a:close/>
                  <a:moveTo>
                    <a:pt x="15976" y="47"/>
                  </a:moveTo>
                  <a:lnTo>
                    <a:pt x="15976" y="47"/>
                  </a:lnTo>
                  <a:cubicBezTo>
                    <a:pt x="15990" y="46"/>
                    <a:pt x="16001" y="57"/>
                    <a:pt x="16002" y="71"/>
                  </a:cubicBezTo>
                  <a:cubicBezTo>
                    <a:pt x="16002" y="85"/>
                    <a:pt x="15991" y="96"/>
                    <a:pt x="15977" y="97"/>
                  </a:cubicBezTo>
                  <a:lnTo>
                    <a:pt x="15977" y="97"/>
                  </a:lnTo>
                  <a:cubicBezTo>
                    <a:pt x="15963" y="97"/>
                    <a:pt x="15952" y="86"/>
                    <a:pt x="15952" y="72"/>
                  </a:cubicBezTo>
                  <a:cubicBezTo>
                    <a:pt x="15951" y="58"/>
                    <a:pt x="15962" y="47"/>
                    <a:pt x="15976" y="47"/>
                  </a:cubicBezTo>
                  <a:close/>
                  <a:moveTo>
                    <a:pt x="16177" y="46"/>
                  </a:moveTo>
                  <a:lnTo>
                    <a:pt x="16526" y="44"/>
                  </a:lnTo>
                  <a:cubicBezTo>
                    <a:pt x="16540" y="44"/>
                    <a:pt x="16552" y="55"/>
                    <a:pt x="16552" y="69"/>
                  </a:cubicBezTo>
                  <a:cubicBezTo>
                    <a:pt x="16552" y="83"/>
                    <a:pt x="16541" y="94"/>
                    <a:pt x="16527" y="94"/>
                  </a:cubicBezTo>
                  <a:lnTo>
                    <a:pt x="16177" y="96"/>
                  </a:lnTo>
                  <a:cubicBezTo>
                    <a:pt x="16163" y="96"/>
                    <a:pt x="16152" y="85"/>
                    <a:pt x="16152" y="71"/>
                  </a:cubicBezTo>
                  <a:cubicBezTo>
                    <a:pt x="16152" y="57"/>
                    <a:pt x="16163" y="46"/>
                    <a:pt x="16177" y="46"/>
                  </a:cubicBezTo>
                  <a:close/>
                  <a:moveTo>
                    <a:pt x="16726" y="43"/>
                  </a:moveTo>
                  <a:lnTo>
                    <a:pt x="16726" y="43"/>
                  </a:lnTo>
                  <a:cubicBezTo>
                    <a:pt x="16740" y="43"/>
                    <a:pt x="16751" y="54"/>
                    <a:pt x="16752" y="67"/>
                  </a:cubicBezTo>
                  <a:cubicBezTo>
                    <a:pt x="16752" y="81"/>
                    <a:pt x="16741" y="93"/>
                    <a:pt x="16727" y="93"/>
                  </a:cubicBezTo>
                  <a:lnTo>
                    <a:pt x="16727" y="93"/>
                  </a:lnTo>
                  <a:cubicBezTo>
                    <a:pt x="16713" y="93"/>
                    <a:pt x="16702" y="82"/>
                    <a:pt x="16702" y="68"/>
                  </a:cubicBezTo>
                  <a:cubicBezTo>
                    <a:pt x="16701" y="55"/>
                    <a:pt x="16712" y="43"/>
                    <a:pt x="16726" y="43"/>
                  </a:cubicBezTo>
                  <a:close/>
                  <a:moveTo>
                    <a:pt x="16926" y="42"/>
                  </a:moveTo>
                  <a:lnTo>
                    <a:pt x="16926" y="42"/>
                  </a:lnTo>
                  <a:cubicBezTo>
                    <a:pt x="16940" y="42"/>
                    <a:pt x="16951" y="53"/>
                    <a:pt x="16952" y="66"/>
                  </a:cubicBezTo>
                  <a:cubicBezTo>
                    <a:pt x="16952" y="80"/>
                    <a:pt x="16941" y="92"/>
                    <a:pt x="16927" y="92"/>
                  </a:cubicBezTo>
                  <a:lnTo>
                    <a:pt x="16927" y="92"/>
                  </a:lnTo>
                  <a:cubicBezTo>
                    <a:pt x="16913" y="92"/>
                    <a:pt x="16902" y="81"/>
                    <a:pt x="16902" y="67"/>
                  </a:cubicBezTo>
                  <a:cubicBezTo>
                    <a:pt x="16901" y="54"/>
                    <a:pt x="16912" y="42"/>
                    <a:pt x="16926" y="42"/>
                  </a:cubicBezTo>
                  <a:close/>
                  <a:moveTo>
                    <a:pt x="17127" y="41"/>
                  </a:moveTo>
                  <a:lnTo>
                    <a:pt x="17477" y="39"/>
                  </a:lnTo>
                  <a:cubicBezTo>
                    <a:pt x="17490" y="39"/>
                    <a:pt x="17502" y="50"/>
                    <a:pt x="17502" y="64"/>
                  </a:cubicBezTo>
                  <a:cubicBezTo>
                    <a:pt x="17502" y="78"/>
                    <a:pt x="17491" y="89"/>
                    <a:pt x="17477" y="89"/>
                  </a:cubicBezTo>
                  <a:lnTo>
                    <a:pt x="17127" y="91"/>
                  </a:lnTo>
                  <a:cubicBezTo>
                    <a:pt x="17113" y="91"/>
                    <a:pt x="17102" y="80"/>
                    <a:pt x="17102" y="66"/>
                  </a:cubicBezTo>
                  <a:cubicBezTo>
                    <a:pt x="17102" y="52"/>
                    <a:pt x="17113" y="41"/>
                    <a:pt x="17127" y="41"/>
                  </a:cubicBezTo>
                  <a:close/>
                  <a:moveTo>
                    <a:pt x="17676" y="38"/>
                  </a:moveTo>
                  <a:lnTo>
                    <a:pt x="17676" y="38"/>
                  </a:lnTo>
                  <a:cubicBezTo>
                    <a:pt x="17690" y="38"/>
                    <a:pt x="17701" y="49"/>
                    <a:pt x="17702" y="63"/>
                  </a:cubicBezTo>
                  <a:cubicBezTo>
                    <a:pt x="17702" y="76"/>
                    <a:pt x="17691" y="88"/>
                    <a:pt x="17677" y="88"/>
                  </a:cubicBezTo>
                  <a:lnTo>
                    <a:pt x="17677" y="88"/>
                  </a:lnTo>
                  <a:cubicBezTo>
                    <a:pt x="17663" y="88"/>
                    <a:pt x="17652" y="77"/>
                    <a:pt x="17652" y="64"/>
                  </a:cubicBezTo>
                  <a:cubicBezTo>
                    <a:pt x="17651" y="50"/>
                    <a:pt x="17662" y="38"/>
                    <a:pt x="17676" y="38"/>
                  </a:cubicBezTo>
                  <a:close/>
                  <a:moveTo>
                    <a:pt x="17876" y="37"/>
                  </a:moveTo>
                  <a:lnTo>
                    <a:pt x="17876" y="37"/>
                  </a:lnTo>
                  <a:cubicBezTo>
                    <a:pt x="17890" y="37"/>
                    <a:pt x="17902" y="48"/>
                    <a:pt x="17902" y="62"/>
                  </a:cubicBezTo>
                  <a:cubicBezTo>
                    <a:pt x="17902" y="75"/>
                    <a:pt x="17891" y="87"/>
                    <a:pt x="17877" y="87"/>
                  </a:cubicBezTo>
                  <a:lnTo>
                    <a:pt x="17877" y="87"/>
                  </a:lnTo>
                  <a:cubicBezTo>
                    <a:pt x="17863" y="87"/>
                    <a:pt x="17852" y="76"/>
                    <a:pt x="17852" y="63"/>
                  </a:cubicBezTo>
                  <a:cubicBezTo>
                    <a:pt x="17851" y="49"/>
                    <a:pt x="17862" y="37"/>
                    <a:pt x="17876" y="37"/>
                  </a:cubicBezTo>
                  <a:close/>
                  <a:moveTo>
                    <a:pt x="18077" y="36"/>
                  </a:moveTo>
                  <a:lnTo>
                    <a:pt x="18427" y="34"/>
                  </a:lnTo>
                  <a:cubicBezTo>
                    <a:pt x="18440" y="34"/>
                    <a:pt x="18452" y="46"/>
                    <a:pt x="18452" y="59"/>
                  </a:cubicBezTo>
                  <a:cubicBezTo>
                    <a:pt x="18452" y="73"/>
                    <a:pt x="18441" y="84"/>
                    <a:pt x="18427" y="84"/>
                  </a:cubicBezTo>
                  <a:lnTo>
                    <a:pt x="18077" y="86"/>
                  </a:lnTo>
                  <a:cubicBezTo>
                    <a:pt x="18063" y="86"/>
                    <a:pt x="18052" y="75"/>
                    <a:pt x="18052" y="61"/>
                  </a:cubicBezTo>
                  <a:cubicBezTo>
                    <a:pt x="18052" y="48"/>
                    <a:pt x="18063" y="36"/>
                    <a:pt x="18077" y="36"/>
                  </a:cubicBezTo>
                  <a:close/>
                  <a:moveTo>
                    <a:pt x="18626" y="33"/>
                  </a:moveTo>
                  <a:lnTo>
                    <a:pt x="18626" y="33"/>
                  </a:lnTo>
                  <a:cubicBezTo>
                    <a:pt x="18640" y="33"/>
                    <a:pt x="18652" y="44"/>
                    <a:pt x="18652" y="58"/>
                  </a:cubicBezTo>
                  <a:cubicBezTo>
                    <a:pt x="18652" y="72"/>
                    <a:pt x="18641" y="83"/>
                    <a:pt x="18627" y="83"/>
                  </a:cubicBezTo>
                  <a:lnTo>
                    <a:pt x="18627" y="83"/>
                  </a:lnTo>
                  <a:cubicBezTo>
                    <a:pt x="18613" y="84"/>
                    <a:pt x="18602" y="73"/>
                    <a:pt x="18602" y="59"/>
                  </a:cubicBezTo>
                  <a:cubicBezTo>
                    <a:pt x="18602" y="45"/>
                    <a:pt x="18612" y="34"/>
                    <a:pt x="18626" y="33"/>
                  </a:cubicBezTo>
                  <a:close/>
                  <a:moveTo>
                    <a:pt x="18826" y="32"/>
                  </a:moveTo>
                  <a:lnTo>
                    <a:pt x="18826" y="32"/>
                  </a:lnTo>
                  <a:cubicBezTo>
                    <a:pt x="18840" y="32"/>
                    <a:pt x="18852" y="43"/>
                    <a:pt x="18852" y="57"/>
                  </a:cubicBezTo>
                  <a:cubicBezTo>
                    <a:pt x="18852" y="71"/>
                    <a:pt x="18841" y="82"/>
                    <a:pt x="18827" y="82"/>
                  </a:cubicBezTo>
                  <a:lnTo>
                    <a:pt x="18827" y="82"/>
                  </a:lnTo>
                  <a:cubicBezTo>
                    <a:pt x="18814" y="83"/>
                    <a:pt x="18802" y="72"/>
                    <a:pt x="18802" y="58"/>
                  </a:cubicBezTo>
                  <a:cubicBezTo>
                    <a:pt x="18802" y="44"/>
                    <a:pt x="18813" y="33"/>
                    <a:pt x="18826" y="32"/>
                  </a:cubicBezTo>
                  <a:close/>
                  <a:moveTo>
                    <a:pt x="19027" y="31"/>
                  </a:moveTo>
                  <a:lnTo>
                    <a:pt x="19377" y="30"/>
                  </a:lnTo>
                  <a:cubicBezTo>
                    <a:pt x="19391" y="30"/>
                    <a:pt x="19402" y="41"/>
                    <a:pt x="19402" y="55"/>
                  </a:cubicBezTo>
                  <a:cubicBezTo>
                    <a:pt x="19402" y="68"/>
                    <a:pt x="19391" y="80"/>
                    <a:pt x="19377" y="80"/>
                  </a:cubicBezTo>
                  <a:lnTo>
                    <a:pt x="19027" y="81"/>
                  </a:lnTo>
                  <a:cubicBezTo>
                    <a:pt x="19013" y="82"/>
                    <a:pt x="19002" y="70"/>
                    <a:pt x="19002" y="57"/>
                  </a:cubicBezTo>
                  <a:cubicBezTo>
                    <a:pt x="19002" y="43"/>
                    <a:pt x="19013" y="32"/>
                    <a:pt x="19027" y="31"/>
                  </a:cubicBezTo>
                  <a:close/>
                  <a:moveTo>
                    <a:pt x="19576" y="29"/>
                  </a:moveTo>
                  <a:lnTo>
                    <a:pt x="19576" y="29"/>
                  </a:lnTo>
                  <a:cubicBezTo>
                    <a:pt x="19590" y="28"/>
                    <a:pt x="19602" y="39"/>
                    <a:pt x="19602" y="53"/>
                  </a:cubicBezTo>
                  <a:cubicBezTo>
                    <a:pt x="19602" y="67"/>
                    <a:pt x="19591" y="78"/>
                    <a:pt x="19577" y="79"/>
                  </a:cubicBezTo>
                  <a:lnTo>
                    <a:pt x="19577" y="79"/>
                  </a:lnTo>
                  <a:cubicBezTo>
                    <a:pt x="19564" y="79"/>
                    <a:pt x="19552" y="68"/>
                    <a:pt x="19552" y="54"/>
                  </a:cubicBezTo>
                  <a:cubicBezTo>
                    <a:pt x="19552" y="40"/>
                    <a:pt x="19563" y="29"/>
                    <a:pt x="19576" y="29"/>
                  </a:cubicBezTo>
                  <a:close/>
                  <a:moveTo>
                    <a:pt x="19776" y="28"/>
                  </a:moveTo>
                  <a:lnTo>
                    <a:pt x="19776" y="28"/>
                  </a:lnTo>
                  <a:cubicBezTo>
                    <a:pt x="19790" y="27"/>
                    <a:pt x="19802" y="38"/>
                    <a:pt x="19802" y="52"/>
                  </a:cubicBezTo>
                  <a:cubicBezTo>
                    <a:pt x="19802" y="66"/>
                    <a:pt x="19791" y="77"/>
                    <a:pt x="19777" y="78"/>
                  </a:cubicBezTo>
                  <a:lnTo>
                    <a:pt x="19777" y="78"/>
                  </a:lnTo>
                  <a:cubicBezTo>
                    <a:pt x="19764" y="78"/>
                    <a:pt x="19752" y="67"/>
                    <a:pt x="19752" y="53"/>
                  </a:cubicBezTo>
                  <a:cubicBezTo>
                    <a:pt x="19752" y="39"/>
                    <a:pt x="19763" y="28"/>
                    <a:pt x="19776" y="28"/>
                  </a:cubicBezTo>
                  <a:close/>
                  <a:moveTo>
                    <a:pt x="19977" y="27"/>
                  </a:moveTo>
                  <a:lnTo>
                    <a:pt x="20327" y="25"/>
                  </a:lnTo>
                  <a:cubicBezTo>
                    <a:pt x="20341" y="25"/>
                    <a:pt x="20352" y="36"/>
                    <a:pt x="20352" y="50"/>
                  </a:cubicBezTo>
                  <a:cubicBezTo>
                    <a:pt x="20352" y="64"/>
                    <a:pt x="20341" y="75"/>
                    <a:pt x="20327" y="75"/>
                  </a:cubicBezTo>
                  <a:lnTo>
                    <a:pt x="19977" y="77"/>
                  </a:lnTo>
                  <a:cubicBezTo>
                    <a:pt x="19963" y="77"/>
                    <a:pt x="19952" y="66"/>
                    <a:pt x="19952" y="52"/>
                  </a:cubicBezTo>
                  <a:cubicBezTo>
                    <a:pt x="19952" y="38"/>
                    <a:pt x="19963" y="27"/>
                    <a:pt x="19977" y="27"/>
                  </a:cubicBezTo>
                  <a:close/>
                  <a:moveTo>
                    <a:pt x="20526" y="24"/>
                  </a:moveTo>
                  <a:lnTo>
                    <a:pt x="20527" y="24"/>
                  </a:lnTo>
                  <a:cubicBezTo>
                    <a:pt x="20540" y="24"/>
                    <a:pt x="20552" y="35"/>
                    <a:pt x="20552" y="48"/>
                  </a:cubicBezTo>
                  <a:cubicBezTo>
                    <a:pt x="20552" y="62"/>
                    <a:pt x="20541" y="74"/>
                    <a:pt x="20528" y="74"/>
                  </a:cubicBezTo>
                  <a:lnTo>
                    <a:pt x="20527" y="74"/>
                  </a:lnTo>
                  <a:cubicBezTo>
                    <a:pt x="20514" y="74"/>
                    <a:pt x="20502" y="63"/>
                    <a:pt x="20502" y="49"/>
                  </a:cubicBezTo>
                  <a:cubicBezTo>
                    <a:pt x="20502" y="36"/>
                    <a:pt x="20513" y="24"/>
                    <a:pt x="20526" y="24"/>
                  </a:cubicBezTo>
                  <a:close/>
                  <a:moveTo>
                    <a:pt x="20727" y="23"/>
                  </a:moveTo>
                  <a:lnTo>
                    <a:pt x="20727" y="23"/>
                  </a:lnTo>
                  <a:cubicBezTo>
                    <a:pt x="20740" y="23"/>
                    <a:pt x="20752" y="34"/>
                    <a:pt x="20752" y="47"/>
                  </a:cubicBezTo>
                  <a:cubicBezTo>
                    <a:pt x="20752" y="61"/>
                    <a:pt x="20741" y="73"/>
                    <a:pt x="20728" y="73"/>
                  </a:cubicBezTo>
                  <a:lnTo>
                    <a:pt x="20728" y="73"/>
                  </a:lnTo>
                  <a:cubicBezTo>
                    <a:pt x="20714" y="73"/>
                    <a:pt x="20702" y="62"/>
                    <a:pt x="20702" y="48"/>
                  </a:cubicBezTo>
                  <a:cubicBezTo>
                    <a:pt x="20702" y="35"/>
                    <a:pt x="20713" y="23"/>
                    <a:pt x="20727" y="23"/>
                  </a:cubicBezTo>
                  <a:close/>
                  <a:moveTo>
                    <a:pt x="20927" y="22"/>
                  </a:moveTo>
                  <a:lnTo>
                    <a:pt x="21277" y="20"/>
                  </a:lnTo>
                  <a:cubicBezTo>
                    <a:pt x="21291" y="20"/>
                    <a:pt x="21302" y="31"/>
                    <a:pt x="21302" y="45"/>
                  </a:cubicBezTo>
                  <a:cubicBezTo>
                    <a:pt x="21302" y="59"/>
                    <a:pt x="21291" y="70"/>
                    <a:pt x="21277" y="70"/>
                  </a:cubicBezTo>
                  <a:lnTo>
                    <a:pt x="20927" y="72"/>
                  </a:lnTo>
                  <a:cubicBezTo>
                    <a:pt x="20913" y="72"/>
                    <a:pt x="20902" y="61"/>
                    <a:pt x="20902" y="47"/>
                  </a:cubicBezTo>
                  <a:cubicBezTo>
                    <a:pt x="20902" y="33"/>
                    <a:pt x="20913" y="22"/>
                    <a:pt x="20927" y="22"/>
                  </a:cubicBezTo>
                  <a:close/>
                  <a:moveTo>
                    <a:pt x="21477" y="19"/>
                  </a:moveTo>
                  <a:lnTo>
                    <a:pt x="21477" y="19"/>
                  </a:lnTo>
                  <a:cubicBezTo>
                    <a:pt x="21490" y="19"/>
                    <a:pt x="21502" y="30"/>
                    <a:pt x="21502" y="44"/>
                  </a:cubicBezTo>
                  <a:cubicBezTo>
                    <a:pt x="21502" y="58"/>
                    <a:pt x="21491" y="69"/>
                    <a:pt x="21478" y="69"/>
                  </a:cubicBezTo>
                  <a:lnTo>
                    <a:pt x="21478" y="69"/>
                  </a:lnTo>
                  <a:cubicBezTo>
                    <a:pt x="21464" y="69"/>
                    <a:pt x="21452" y="59"/>
                    <a:pt x="21452" y="45"/>
                  </a:cubicBezTo>
                  <a:cubicBezTo>
                    <a:pt x="21452" y="31"/>
                    <a:pt x="21463" y="19"/>
                    <a:pt x="21477" y="19"/>
                  </a:cubicBezTo>
                  <a:close/>
                  <a:moveTo>
                    <a:pt x="21677" y="18"/>
                  </a:moveTo>
                  <a:lnTo>
                    <a:pt x="21677" y="18"/>
                  </a:lnTo>
                  <a:cubicBezTo>
                    <a:pt x="21690" y="18"/>
                    <a:pt x="21702" y="29"/>
                    <a:pt x="21702" y="43"/>
                  </a:cubicBezTo>
                  <a:cubicBezTo>
                    <a:pt x="21702" y="57"/>
                    <a:pt x="21691" y="68"/>
                    <a:pt x="21678" y="68"/>
                  </a:cubicBezTo>
                  <a:lnTo>
                    <a:pt x="21678" y="68"/>
                  </a:lnTo>
                  <a:cubicBezTo>
                    <a:pt x="21664" y="68"/>
                    <a:pt x="21652" y="58"/>
                    <a:pt x="21652" y="44"/>
                  </a:cubicBezTo>
                  <a:cubicBezTo>
                    <a:pt x="21652" y="30"/>
                    <a:pt x="21663" y="18"/>
                    <a:pt x="21677" y="18"/>
                  </a:cubicBezTo>
                  <a:close/>
                  <a:moveTo>
                    <a:pt x="21877" y="17"/>
                  </a:moveTo>
                  <a:lnTo>
                    <a:pt x="22227" y="15"/>
                  </a:lnTo>
                  <a:cubicBezTo>
                    <a:pt x="22241" y="15"/>
                    <a:pt x="22252" y="27"/>
                    <a:pt x="22252" y="40"/>
                  </a:cubicBezTo>
                  <a:cubicBezTo>
                    <a:pt x="22252" y="54"/>
                    <a:pt x="22241" y="65"/>
                    <a:pt x="22227" y="65"/>
                  </a:cubicBezTo>
                  <a:lnTo>
                    <a:pt x="21877" y="67"/>
                  </a:lnTo>
                  <a:cubicBezTo>
                    <a:pt x="21863" y="67"/>
                    <a:pt x="21852" y="56"/>
                    <a:pt x="21852" y="42"/>
                  </a:cubicBezTo>
                  <a:cubicBezTo>
                    <a:pt x="21852" y="29"/>
                    <a:pt x="21863" y="17"/>
                    <a:pt x="21877" y="17"/>
                  </a:cubicBezTo>
                  <a:close/>
                  <a:moveTo>
                    <a:pt x="22427" y="14"/>
                  </a:moveTo>
                  <a:lnTo>
                    <a:pt x="22427" y="14"/>
                  </a:lnTo>
                  <a:cubicBezTo>
                    <a:pt x="22441" y="14"/>
                    <a:pt x="22452" y="25"/>
                    <a:pt x="22452" y="39"/>
                  </a:cubicBezTo>
                  <a:cubicBezTo>
                    <a:pt x="22452" y="53"/>
                    <a:pt x="22442" y="64"/>
                    <a:pt x="22428" y="64"/>
                  </a:cubicBezTo>
                  <a:lnTo>
                    <a:pt x="22428" y="64"/>
                  </a:lnTo>
                  <a:cubicBezTo>
                    <a:pt x="22414" y="65"/>
                    <a:pt x="22402" y="54"/>
                    <a:pt x="22402" y="40"/>
                  </a:cubicBezTo>
                  <a:cubicBezTo>
                    <a:pt x="22402" y="26"/>
                    <a:pt x="22413" y="15"/>
                    <a:pt x="22427" y="14"/>
                  </a:cubicBezTo>
                  <a:close/>
                  <a:moveTo>
                    <a:pt x="22627" y="13"/>
                  </a:moveTo>
                  <a:lnTo>
                    <a:pt x="22627" y="13"/>
                  </a:lnTo>
                  <a:cubicBezTo>
                    <a:pt x="22641" y="13"/>
                    <a:pt x="22652" y="24"/>
                    <a:pt x="22652" y="38"/>
                  </a:cubicBezTo>
                  <a:cubicBezTo>
                    <a:pt x="22653" y="52"/>
                    <a:pt x="22642" y="63"/>
                    <a:pt x="22628" y="63"/>
                  </a:cubicBezTo>
                  <a:lnTo>
                    <a:pt x="22628" y="63"/>
                  </a:lnTo>
                  <a:cubicBezTo>
                    <a:pt x="22614" y="64"/>
                    <a:pt x="22602" y="53"/>
                    <a:pt x="22602" y="39"/>
                  </a:cubicBezTo>
                  <a:cubicBezTo>
                    <a:pt x="22602" y="25"/>
                    <a:pt x="22613" y="14"/>
                    <a:pt x="22627" y="13"/>
                  </a:cubicBezTo>
                  <a:close/>
                  <a:moveTo>
                    <a:pt x="22827" y="12"/>
                  </a:moveTo>
                  <a:lnTo>
                    <a:pt x="23177" y="11"/>
                  </a:lnTo>
                  <a:cubicBezTo>
                    <a:pt x="23191" y="11"/>
                    <a:pt x="23202" y="22"/>
                    <a:pt x="23202" y="36"/>
                  </a:cubicBezTo>
                  <a:cubicBezTo>
                    <a:pt x="23202" y="49"/>
                    <a:pt x="23191" y="61"/>
                    <a:pt x="23177" y="61"/>
                  </a:cubicBezTo>
                  <a:lnTo>
                    <a:pt x="22827" y="62"/>
                  </a:lnTo>
                  <a:cubicBezTo>
                    <a:pt x="22814" y="63"/>
                    <a:pt x="22802" y="51"/>
                    <a:pt x="22802" y="38"/>
                  </a:cubicBezTo>
                  <a:cubicBezTo>
                    <a:pt x="22802" y="24"/>
                    <a:pt x="22813" y="13"/>
                    <a:pt x="22827" y="12"/>
                  </a:cubicBezTo>
                  <a:close/>
                  <a:moveTo>
                    <a:pt x="23377" y="10"/>
                  </a:moveTo>
                  <a:lnTo>
                    <a:pt x="23377" y="10"/>
                  </a:lnTo>
                  <a:cubicBezTo>
                    <a:pt x="23391" y="9"/>
                    <a:pt x="23402" y="20"/>
                    <a:pt x="23402" y="34"/>
                  </a:cubicBezTo>
                  <a:cubicBezTo>
                    <a:pt x="23403" y="48"/>
                    <a:pt x="23392" y="59"/>
                    <a:pt x="23378" y="60"/>
                  </a:cubicBezTo>
                  <a:lnTo>
                    <a:pt x="23378" y="60"/>
                  </a:lnTo>
                  <a:cubicBezTo>
                    <a:pt x="23364" y="60"/>
                    <a:pt x="23353" y="49"/>
                    <a:pt x="23352" y="35"/>
                  </a:cubicBezTo>
                  <a:cubicBezTo>
                    <a:pt x="23352" y="21"/>
                    <a:pt x="23363" y="10"/>
                    <a:pt x="23377" y="10"/>
                  </a:cubicBezTo>
                  <a:close/>
                  <a:moveTo>
                    <a:pt x="23577" y="9"/>
                  </a:moveTo>
                  <a:lnTo>
                    <a:pt x="23577" y="9"/>
                  </a:lnTo>
                  <a:cubicBezTo>
                    <a:pt x="23591" y="8"/>
                    <a:pt x="23602" y="19"/>
                    <a:pt x="23602" y="33"/>
                  </a:cubicBezTo>
                  <a:cubicBezTo>
                    <a:pt x="23603" y="47"/>
                    <a:pt x="23592" y="58"/>
                    <a:pt x="23578" y="59"/>
                  </a:cubicBezTo>
                  <a:lnTo>
                    <a:pt x="23578" y="59"/>
                  </a:lnTo>
                  <a:cubicBezTo>
                    <a:pt x="23564" y="59"/>
                    <a:pt x="23553" y="48"/>
                    <a:pt x="23552" y="34"/>
                  </a:cubicBezTo>
                  <a:cubicBezTo>
                    <a:pt x="23552" y="20"/>
                    <a:pt x="23563" y="9"/>
                    <a:pt x="23577" y="9"/>
                  </a:cubicBezTo>
                  <a:close/>
                  <a:moveTo>
                    <a:pt x="23777" y="8"/>
                  </a:moveTo>
                  <a:lnTo>
                    <a:pt x="24127" y="6"/>
                  </a:lnTo>
                  <a:cubicBezTo>
                    <a:pt x="24141" y="6"/>
                    <a:pt x="24152" y="17"/>
                    <a:pt x="24152" y="31"/>
                  </a:cubicBezTo>
                  <a:cubicBezTo>
                    <a:pt x="24152" y="45"/>
                    <a:pt x="24141" y="56"/>
                    <a:pt x="24127" y="56"/>
                  </a:cubicBezTo>
                  <a:lnTo>
                    <a:pt x="23777" y="58"/>
                  </a:lnTo>
                  <a:cubicBezTo>
                    <a:pt x="23764" y="58"/>
                    <a:pt x="23752" y="47"/>
                    <a:pt x="23752" y="33"/>
                  </a:cubicBezTo>
                  <a:cubicBezTo>
                    <a:pt x="23752" y="19"/>
                    <a:pt x="23763" y="8"/>
                    <a:pt x="23777" y="8"/>
                  </a:cubicBezTo>
                  <a:close/>
                  <a:moveTo>
                    <a:pt x="24327" y="5"/>
                  </a:moveTo>
                  <a:lnTo>
                    <a:pt x="24327" y="5"/>
                  </a:lnTo>
                  <a:cubicBezTo>
                    <a:pt x="24341" y="5"/>
                    <a:pt x="24352" y="16"/>
                    <a:pt x="24352" y="29"/>
                  </a:cubicBezTo>
                  <a:cubicBezTo>
                    <a:pt x="24353" y="43"/>
                    <a:pt x="24342" y="55"/>
                    <a:pt x="24328" y="55"/>
                  </a:cubicBezTo>
                  <a:lnTo>
                    <a:pt x="24328" y="55"/>
                  </a:lnTo>
                  <a:cubicBezTo>
                    <a:pt x="24314" y="55"/>
                    <a:pt x="24303" y="44"/>
                    <a:pt x="24302" y="30"/>
                  </a:cubicBezTo>
                  <a:cubicBezTo>
                    <a:pt x="24302" y="17"/>
                    <a:pt x="24313" y="5"/>
                    <a:pt x="24327" y="5"/>
                  </a:cubicBezTo>
                  <a:close/>
                  <a:moveTo>
                    <a:pt x="24527" y="4"/>
                  </a:moveTo>
                  <a:lnTo>
                    <a:pt x="24527" y="4"/>
                  </a:lnTo>
                  <a:cubicBezTo>
                    <a:pt x="24541" y="4"/>
                    <a:pt x="24552" y="15"/>
                    <a:pt x="24552" y="28"/>
                  </a:cubicBezTo>
                  <a:cubicBezTo>
                    <a:pt x="24553" y="42"/>
                    <a:pt x="24542" y="54"/>
                    <a:pt x="24528" y="54"/>
                  </a:cubicBezTo>
                  <a:lnTo>
                    <a:pt x="24528" y="54"/>
                  </a:lnTo>
                  <a:cubicBezTo>
                    <a:pt x="24514" y="54"/>
                    <a:pt x="24503" y="43"/>
                    <a:pt x="24502" y="29"/>
                  </a:cubicBezTo>
                  <a:cubicBezTo>
                    <a:pt x="24502" y="16"/>
                    <a:pt x="24513" y="4"/>
                    <a:pt x="24527" y="4"/>
                  </a:cubicBezTo>
                  <a:close/>
                  <a:moveTo>
                    <a:pt x="24727" y="3"/>
                  </a:moveTo>
                  <a:lnTo>
                    <a:pt x="25077" y="1"/>
                  </a:lnTo>
                  <a:cubicBezTo>
                    <a:pt x="25091" y="1"/>
                    <a:pt x="25102" y="12"/>
                    <a:pt x="25102" y="26"/>
                  </a:cubicBezTo>
                  <a:cubicBezTo>
                    <a:pt x="25103" y="40"/>
                    <a:pt x="25091" y="51"/>
                    <a:pt x="25078" y="51"/>
                  </a:cubicBezTo>
                  <a:lnTo>
                    <a:pt x="24728" y="53"/>
                  </a:lnTo>
                  <a:cubicBezTo>
                    <a:pt x="24714" y="53"/>
                    <a:pt x="24703" y="42"/>
                    <a:pt x="24702" y="28"/>
                  </a:cubicBezTo>
                  <a:cubicBezTo>
                    <a:pt x="24702" y="14"/>
                    <a:pt x="24714" y="3"/>
                    <a:pt x="24727" y="3"/>
                  </a:cubicBezTo>
                  <a:close/>
                  <a:moveTo>
                    <a:pt x="25277" y="0"/>
                  </a:moveTo>
                  <a:lnTo>
                    <a:pt x="25277" y="0"/>
                  </a:lnTo>
                  <a:cubicBezTo>
                    <a:pt x="25291" y="0"/>
                    <a:pt x="25302" y="11"/>
                    <a:pt x="25302" y="25"/>
                  </a:cubicBezTo>
                  <a:cubicBezTo>
                    <a:pt x="25303" y="39"/>
                    <a:pt x="25292" y="50"/>
                    <a:pt x="25278" y="50"/>
                  </a:cubicBezTo>
                  <a:lnTo>
                    <a:pt x="25278" y="50"/>
                  </a:lnTo>
                  <a:cubicBezTo>
                    <a:pt x="25264" y="50"/>
                    <a:pt x="25253" y="40"/>
                    <a:pt x="25252" y="26"/>
                  </a:cubicBezTo>
                  <a:cubicBezTo>
                    <a:pt x="25252" y="12"/>
                    <a:pt x="25263" y="1"/>
                    <a:pt x="2527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1"/>
            <p:cNvSpPr/>
            <p:nvPr/>
          </p:nvSpPr>
          <p:spPr>
            <a:xfrm>
              <a:off x="7701480" y="2795760"/>
              <a:ext cx="10800" cy="979920"/>
            </a:xfrm>
            <a:custGeom>
              <a:avLst/>
              <a:gdLst/>
              <a:ahLst/>
              <a:rect l="l" t="t" r="r" b="b"/>
              <a:pathLst>
                <a:path w="54" h="4400">
                  <a:moveTo>
                    <a:pt x="0" y="4375"/>
                  </a:moveTo>
                  <a:lnTo>
                    <a:pt x="1" y="4025"/>
                  </a:lnTo>
                  <a:cubicBezTo>
                    <a:pt x="1" y="4012"/>
                    <a:pt x="12" y="4000"/>
                    <a:pt x="26" y="4000"/>
                  </a:cubicBezTo>
                  <a:cubicBezTo>
                    <a:pt x="40" y="4000"/>
                    <a:pt x="51" y="4012"/>
                    <a:pt x="51" y="4025"/>
                  </a:cubicBezTo>
                  <a:lnTo>
                    <a:pt x="50" y="4375"/>
                  </a:lnTo>
                  <a:cubicBezTo>
                    <a:pt x="50" y="4389"/>
                    <a:pt x="39" y="4400"/>
                    <a:pt x="25" y="4400"/>
                  </a:cubicBezTo>
                  <a:cubicBezTo>
                    <a:pt x="12" y="4400"/>
                    <a:pt x="0" y="4389"/>
                    <a:pt x="0" y="4375"/>
                  </a:cubicBezTo>
                  <a:close/>
                  <a:moveTo>
                    <a:pt x="1" y="3825"/>
                  </a:moveTo>
                  <a:lnTo>
                    <a:pt x="1" y="3825"/>
                  </a:lnTo>
                  <a:cubicBezTo>
                    <a:pt x="1" y="3812"/>
                    <a:pt x="12" y="3800"/>
                    <a:pt x="26" y="3800"/>
                  </a:cubicBezTo>
                  <a:cubicBezTo>
                    <a:pt x="40" y="3800"/>
                    <a:pt x="51" y="3812"/>
                    <a:pt x="51" y="3825"/>
                  </a:cubicBezTo>
                  <a:lnTo>
                    <a:pt x="51" y="3825"/>
                  </a:lnTo>
                  <a:cubicBezTo>
                    <a:pt x="51" y="3839"/>
                    <a:pt x="40" y="3850"/>
                    <a:pt x="26" y="3850"/>
                  </a:cubicBezTo>
                  <a:cubicBezTo>
                    <a:pt x="12" y="3850"/>
                    <a:pt x="1" y="3839"/>
                    <a:pt x="1" y="3825"/>
                  </a:cubicBezTo>
                  <a:close/>
                  <a:moveTo>
                    <a:pt x="1" y="3625"/>
                  </a:moveTo>
                  <a:lnTo>
                    <a:pt x="1" y="3625"/>
                  </a:lnTo>
                  <a:cubicBezTo>
                    <a:pt x="1" y="3612"/>
                    <a:pt x="12" y="3600"/>
                    <a:pt x="26" y="3600"/>
                  </a:cubicBezTo>
                  <a:cubicBezTo>
                    <a:pt x="40" y="3600"/>
                    <a:pt x="51" y="3612"/>
                    <a:pt x="51" y="3625"/>
                  </a:cubicBezTo>
                  <a:lnTo>
                    <a:pt x="51" y="3625"/>
                  </a:lnTo>
                  <a:cubicBezTo>
                    <a:pt x="51" y="3639"/>
                    <a:pt x="40" y="3650"/>
                    <a:pt x="26" y="3650"/>
                  </a:cubicBezTo>
                  <a:cubicBezTo>
                    <a:pt x="12" y="3650"/>
                    <a:pt x="1" y="3639"/>
                    <a:pt x="1" y="3625"/>
                  </a:cubicBezTo>
                  <a:close/>
                  <a:moveTo>
                    <a:pt x="1" y="3425"/>
                  </a:moveTo>
                  <a:lnTo>
                    <a:pt x="1" y="3075"/>
                  </a:lnTo>
                  <a:cubicBezTo>
                    <a:pt x="1" y="3062"/>
                    <a:pt x="13" y="3050"/>
                    <a:pt x="26" y="3050"/>
                  </a:cubicBezTo>
                  <a:cubicBezTo>
                    <a:pt x="40" y="3050"/>
                    <a:pt x="51" y="3062"/>
                    <a:pt x="51" y="3075"/>
                  </a:cubicBezTo>
                  <a:lnTo>
                    <a:pt x="51" y="3425"/>
                  </a:lnTo>
                  <a:cubicBezTo>
                    <a:pt x="51" y="3439"/>
                    <a:pt x="40" y="3450"/>
                    <a:pt x="26" y="3450"/>
                  </a:cubicBezTo>
                  <a:cubicBezTo>
                    <a:pt x="12" y="3450"/>
                    <a:pt x="1" y="3439"/>
                    <a:pt x="1" y="3425"/>
                  </a:cubicBezTo>
                  <a:close/>
                  <a:moveTo>
                    <a:pt x="2" y="2875"/>
                  </a:moveTo>
                  <a:lnTo>
                    <a:pt x="2" y="2875"/>
                  </a:lnTo>
                  <a:cubicBezTo>
                    <a:pt x="2" y="2862"/>
                    <a:pt x="13" y="2850"/>
                    <a:pt x="27" y="2850"/>
                  </a:cubicBezTo>
                  <a:cubicBezTo>
                    <a:pt x="40" y="2850"/>
                    <a:pt x="52" y="2862"/>
                    <a:pt x="52" y="2875"/>
                  </a:cubicBezTo>
                  <a:lnTo>
                    <a:pt x="52" y="2875"/>
                  </a:lnTo>
                  <a:cubicBezTo>
                    <a:pt x="52" y="2889"/>
                    <a:pt x="40" y="2900"/>
                    <a:pt x="27" y="2900"/>
                  </a:cubicBezTo>
                  <a:cubicBezTo>
                    <a:pt x="13" y="2900"/>
                    <a:pt x="2" y="2889"/>
                    <a:pt x="2" y="2875"/>
                  </a:cubicBezTo>
                  <a:close/>
                  <a:moveTo>
                    <a:pt x="2" y="2675"/>
                  </a:moveTo>
                  <a:lnTo>
                    <a:pt x="2" y="2675"/>
                  </a:lnTo>
                  <a:cubicBezTo>
                    <a:pt x="2" y="2661"/>
                    <a:pt x="13" y="2650"/>
                    <a:pt x="27" y="2650"/>
                  </a:cubicBezTo>
                  <a:cubicBezTo>
                    <a:pt x="41" y="2650"/>
                    <a:pt x="52" y="2661"/>
                    <a:pt x="52" y="2675"/>
                  </a:cubicBezTo>
                  <a:lnTo>
                    <a:pt x="52" y="2675"/>
                  </a:lnTo>
                  <a:cubicBezTo>
                    <a:pt x="52" y="2689"/>
                    <a:pt x="41" y="2700"/>
                    <a:pt x="27" y="2700"/>
                  </a:cubicBezTo>
                  <a:cubicBezTo>
                    <a:pt x="13" y="2700"/>
                    <a:pt x="2" y="2689"/>
                    <a:pt x="2" y="2675"/>
                  </a:cubicBezTo>
                  <a:close/>
                  <a:moveTo>
                    <a:pt x="2" y="2475"/>
                  </a:moveTo>
                  <a:lnTo>
                    <a:pt x="2" y="2125"/>
                  </a:lnTo>
                  <a:cubicBezTo>
                    <a:pt x="2" y="2111"/>
                    <a:pt x="13" y="2100"/>
                    <a:pt x="27" y="2100"/>
                  </a:cubicBezTo>
                  <a:cubicBezTo>
                    <a:pt x="41" y="2100"/>
                    <a:pt x="52" y="2111"/>
                    <a:pt x="52" y="2125"/>
                  </a:cubicBezTo>
                  <a:lnTo>
                    <a:pt x="52" y="2475"/>
                  </a:lnTo>
                  <a:cubicBezTo>
                    <a:pt x="52" y="2489"/>
                    <a:pt x="41" y="2500"/>
                    <a:pt x="27" y="2500"/>
                  </a:cubicBezTo>
                  <a:cubicBezTo>
                    <a:pt x="13" y="2500"/>
                    <a:pt x="2" y="2489"/>
                    <a:pt x="2" y="2475"/>
                  </a:cubicBezTo>
                  <a:close/>
                  <a:moveTo>
                    <a:pt x="2" y="1925"/>
                  </a:moveTo>
                  <a:lnTo>
                    <a:pt x="2" y="1925"/>
                  </a:lnTo>
                  <a:cubicBezTo>
                    <a:pt x="2" y="1911"/>
                    <a:pt x="14" y="1900"/>
                    <a:pt x="27" y="1900"/>
                  </a:cubicBezTo>
                  <a:cubicBezTo>
                    <a:pt x="41" y="1900"/>
                    <a:pt x="52" y="1911"/>
                    <a:pt x="52" y="1925"/>
                  </a:cubicBezTo>
                  <a:lnTo>
                    <a:pt x="52" y="1925"/>
                  </a:lnTo>
                  <a:cubicBezTo>
                    <a:pt x="52" y="1939"/>
                    <a:pt x="41" y="1950"/>
                    <a:pt x="27" y="1950"/>
                  </a:cubicBezTo>
                  <a:cubicBezTo>
                    <a:pt x="14" y="1950"/>
                    <a:pt x="2" y="1939"/>
                    <a:pt x="2" y="1925"/>
                  </a:cubicBezTo>
                  <a:close/>
                  <a:moveTo>
                    <a:pt x="2" y="1725"/>
                  </a:moveTo>
                  <a:lnTo>
                    <a:pt x="2" y="1725"/>
                  </a:lnTo>
                  <a:cubicBezTo>
                    <a:pt x="2" y="1711"/>
                    <a:pt x="14" y="1700"/>
                    <a:pt x="27" y="1700"/>
                  </a:cubicBezTo>
                  <a:cubicBezTo>
                    <a:pt x="41" y="1700"/>
                    <a:pt x="52" y="1711"/>
                    <a:pt x="52" y="1725"/>
                  </a:cubicBezTo>
                  <a:lnTo>
                    <a:pt x="52" y="1725"/>
                  </a:lnTo>
                  <a:cubicBezTo>
                    <a:pt x="52" y="1739"/>
                    <a:pt x="41" y="1750"/>
                    <a:pt x="27" y="1750"/>
                  </a:cubicBezTo>
                  <a:cubicBezTo>
                    <a:pt x="14" y="1750"/>
                    <a:pt x="2" y="1739"/>
                    <a:pt x="2" y="1725"/>
                  </a:cubicBezTo>
                  <a:close/>
                  <a:moveTo>
                    <a:pt x="3" y="1525"/>
                  </a:moveTo>
                  <a:lnTo>
                    <a:pt x="3" y="1175"/>
                  </a:lnTo>
                  <a:cubicBezTo>
                    <a:pt x="3" y="1161"/>
                    <a:pt x="14" y="1150"/>
                    <a:pt x="28" y="1150"/>
                  </a:cubicBezTo>
                  <a:cubicBezTo>
                    <a:pt x="42" y="1150"/>
                    <a:pt x="53" y="1161"/>
                    <a:pt x="53" y="1175"/>
                  </a:cubicBezTo>
                  <a:lnTo>
                    <a:pt x="53" y="1525"/>
                  </a:lnTo>
                  <a:cubicBezTo>
                    <a:pt x="53" y="1539"/>
                    <a:pt x="41" y="1550"/>
                    <a:pt x="28" y="1550"/>
                  </a:cubicBezTo>
                  <a:cubicBezTo>
                    <a:pt x="14" y="1550"/>
                    <a:pt x="3" y="1539"/>
                    <a:pt x="3" y="1525"/>
                  </a:cubicBezTo>
                  <a:close/>
                  <a:moveTo>
                    <a:pt x="3" y="975"/>
                  </a:moveTo>
                  <a:lnTo>
                    <a:pt x="3" y="975"/>
                  </a:lnTo>
                  <a:cubicBezTo>
                    <a:pt x="3" y="961"/>
                    <a:pt x="14" y="950"/>
                    <a:pt x="28" y="950"/>
                  </a:cubicBezTo>
                  <a:cubicBezTo>
                    <a:pt x="42" y="950"/>
                    <a:pt x="53" y="961"/>
                    <a:pt x="53" y="975"/>
                  </a:cubicBezTo>
                  <a:lnTo>
                    <a:pt x="53" y="975"/>
                  </a:lnTo>
                  <a:cubicBezTo>
                    <a:pt x="53" y="989"/>
                    <a:pt x="42" y="1000"/>
                    <a:pt x="28" y="1000"/>
                  </a:cubicBezTo>
                  <a:cubicBezTo>
                    <a:pt x="14" y="1000"/>
                    <a:pt x="3" y="989"/>
                    <a:pt x="3" y="975"/>
                  </a:cubicBezTo>
                  <a:close/>
                  <a:moveTo>
                    <a:pt x="3" y="775"/>
                  </a:moveTo>
                  <a:lnTo>
                    <a:pt x="3" y="775"/>
                  </a:lnTo>
                  <a:cubicBezTo>
                    <a:pt x="3" y="761"/>
                    <a:pt x="14" y="750"/>
                    <a:pt x="28" y="750"/>
                  </a:cubicBezTo>
                  <a:cubicBezTo>
                    <a:pt x="42" y="750"/>
                    <a:pt x="53" y="761"/>
                    <a:pt x="53" y="775"/>
                  </a:cubicBezTo>
                  <a:lnTo>
                    <a:pt x="53" y="775"/>
                  </a:lnTo>
                  <a:cubicBezTo>
                    <a:pt x="53" y="789"/>
                    <a:pt x="42" y="800"/>
                    <a:pt x="28" y="800"/>
                  </a:cubicBezTo>
                  <a:cubicBezTo>
                    <a:pt x="14" y="800"/>
                    <a:pt x="3" y="789"/>
                    <a:pt x="3" y="775"/>
                  </a:cubicBezTo>
                  <a:close/>
                  <a:moveTo>
                    <a:pt x="3" y="575"/>
                  </a:moveTo>
                  <a:lnTo>
                    <a:pt x="4" y="225"/>
                  </a:lnTo>
                  <a:cubicBezTo>
                    <a:pt x="4" y="211"/>
                    <a:pt x="15" y="200"/>
                    <a:pt x="29" y="200"/>
                  </a:cubicBezTo>
                  <a:cubicBezTo>
                    <a:pt x="42" y="200"/>
                    <a:pt x="54" y="211"/>
                    <a:pt x="54" y="225"/>
                  </a:cubicBezTo>
                  <a:lnTo>
                    <a:pt x="53" y="575"/>
                  </a:lnTo>
                  <a:cubicBezTo>
                    <a:pt x="53" y="589"/>
                    <a:pt x="42" y="600"/>
                    <a:pt x="28" y="600"/>
                  </a:cubicBezTo>
                  <a:cubicBezTo>
                    <a:pt x="15" y="600"/>
                    <a:pt x="3" y="589"/>
                    <a:pt x="3" y="575"/>
                  </a:cubicBezTo>
                  <a:close/>
                  <a:moveTo>
                    <a:pt x="4" y="25"/>
                  </a:moveTo>
                  <a:lnTo>
                    <a:pt x="4" y="25"/>
                  </a:lnTo>
                  <a:cubicBezTo>
                    <a:pt x="4" y="11"/>
                    <a:pt x="15" y="0"/>
                    <a:pt x="29" y="0"/>
                  </a:cubicBezTo>
                  <a:cubicBezTo>
                    <a:pt x="43" y="0"/>
                    <a:pt x="54" y="11"/>
                    <a:pt x="54" y="25"/>
                  </a:cubicBezTo>
                  <a:lnTo>
                    <a:pt x="54" y="25"/>
                  </a:lnTo>
                  <a:cubicBezTo>
                    <a:pt x="54" y="39"/>
                    <a:pt x="43" y="50"/>
                    <a:pt x="29" y="50"/>
                  </a:cubicBezTo>
                  <a:cubicBezTo>
                    <a:pt x="15" y="50"/>
                    <a:pt x="4" y="39"/>
                    <a:pt x="4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2"/>
            <p:cNvSpPr/>
            <p:nvPr/>
          </p:nvSpPr>
          <p:spPr>
            <a:xfrm>
              <a:off x="7534440" y="3737520"/>
              <a:ext cx="177480" cy="16668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800" y="27"/>
                  </a:moveTo>
                  <a:lnTo>
                    <a:pt x="796" y="99"/>
                  </a:lnTo>
                  <a:lnTo>
                    <a:pt x="785" y="171"/>
                  </a:lnTo>
                  <a:lnTo>
                    <a:pt x="766" y="241"/>
                  </a:lnTo>
                  <a:lnTo>
                    <a:pt x="740" y="308"/>
                  </a:lnTo>
                  <a:lnTo>
                    <a:pt x="707" y="371"/>
                  </a:lnTo>
                  <a:lnTo>
                    <a:pt x="706" y="374"/>
                  </a:lnTo>
                  <a:cubicBezTo>
                    <a:pt x="698" y="385"/>
                    <a:pt x="683" y="388"/>
                    <a:pt x="671" y="381"/>
                  </a:cubicBezTo>
                  <a:cubicBezTo>
                    <a:pt x="659" y="373"/>
                    <a:pt x="656" y="358"/>
                    <a:pt x="664" y="346"/>
                  </a:cubicBezTo>
                  <a:lnTo>
                    <a:pt x="663" y="348"/>
                  </a:lnTo>
                  <a:lnTo>
                    <a:pt x="663" y="348"/>
                  </a:lnTo>
                  <a:lnTo>
                    <a:pt x="693" y="289"/>
                  </a:lnTo>
                  <a:lnTo>
                    <a:pt x="718" y="227"/>
                  </a:lnTo>
                  <a:lnTo>
                    <a:pt x="736" y="163"/>
                  </a:lnTo>
                  <a:lnTo>
                    <a:pt x="747" y="96"/>
                  </a:lnTo>
                  <a:lnTo>
                    <a:pt x="751" y="25"/>
                  </a:lnTo>
                  <a:cubicBezTo>
                    <a:pt x="751" y="11"/>
                    <a:pt x="763" y="0"/>
                    <a:pt x="777" y="1"/>
                  </a:cubicBezTo>
                  <a:cubicBezTo>
                    <a:pt x="791" y="2"/>
                    <a:pt x="801" y="14"/>
                    <a:pt x="800" y="27"/>
                  </a:cubicBezTo>
                  <a:close/>
                  <a:moveTo>
                    <a:pt x="578" y="534"/>
                  </a:moveTo>
                  <a:lnTo>
                    <a:pt x="578" y="534"/>
                  </a:lnTo>
                  <a:cubicBezTo>
                    <a:pt x="569" y="544"/>
                    <a:pt x="553" y="544"/>
                    <a:pt x="543" y="534"/>
                  </a:cubicBezTo>
                  <a:cubicBezTo>
                    <a:pt x="533" y="524"/>
                    <a:pt x="533" y="508"/>
                    <a:pt x="543" y="498"/>
                  </a:cubicBezTo>
                  <a:lnTo>
                    <a:pt x="543" y="498"/>
                  </a:lnTo>
                  <a:cubicBezTo>
                    <a:pt x="553" y="489"/>
                    <a:pt x="569" y="489"/>
                    <a:pt x="578" y="498"/>
                  </a:cubicBezTo>
                  <a:cubicBezTo>
                    <a:pt x="588" y="508"/>
                    <a:pt x="588" y="524"/>
                    <a:pt x="578" y="534"/>
                  </a:cubicBezTo>
                  <a:close/>
                  <a:moveTo>
                    <a:pt x="411" y="654"/>
                  </a:moveTo>
                  <a:lnTo>
                    <a:pt x="411" y="654"/>
                  </a:lnTo>
                  <a:cubicBezTo>
                    <a:pt x="399" y="661"/>
                    <a:pt x="383" y="657"/>
                    <a:pt x="377" y="644"/>
                  </a:cubicBezTo>
                  <a:cubicBezTo>
                    <a:pt x="370" y="632"/>
                    <a:pt x="375" y="617"/>
                    <a:pt x="387" y="611"/>
                  </a:cubicBezTo>
                  <a:lnTo>
                    <a:pt x="387" y="611"/>
                  </a:lnTo>
                  <a:cubicBezTo>
                    <a:pt x="399" y="604"/>
                    <a:pt x="414" y="608"/>
                    <a:pt x="421" y="621"/>
                  </a:cubicBezTo>
                  <a:cubicBezTo>
                    <a:pt x="427" y="633"/>
                    <a:pt x="423" y="648"/>
                    <a:pt x="411" y="654"/>
                  </a:cubicBezTo>
                  <a:close/>
                  <a:moveTo>
                    <a:pt x="218" y="728"/>
                  </a:moveTo>
                  <a:lnTo>
                    <a:pt x="182" y="736"/>
                  </a:lnTo>
                  <a:lnTo>
                    <a:pt x="105" y="747"/>
                  </a:lnTo>
                  <a:lnTo>
                    <a:pt x="27" y="751"/>
                  </a:lnTo>
                  <a:cubicBezTo>
                    <a:pt x="13" y="752"/>
                    <a:pt x="1" y="741"/>
                    <a:pt x="0" y="727"/>
                  </a:cubicBezTo>
                  <a:cubicBezTo>
                    <a:pt x="0" y="713"/>
                    <a:pt x="11" y="702"/>
                    <a:pt x="24" y="701"/>
                  </a:cubicBezTo>
                  <a:lnTo>
                    <a:pt x="98" y="698"/>
                  </a:lnTo>
                  <a:lnTo>
                    <a:pt x="171" y="688"/>
                  </a:lnTo>
                  <a:lnTo>
                    <a:pt x="207" y="679"/>
                  </a:lnTo>
                  <a:cubicBezTo>
                    <a:pt x="220" y="676"/>
                    <a:pt x="233" y="684"/>
                    <a:pt x="237" y="697"/>
                  </a:cubicBezTo>
                  <a:cubicBezTo>
                    <a:pt x="240" y="711"/>
                    <a:pt x="232" y="724"/>
                    <a:pt x="218" y="7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3"/>
            <p:cNvSpPr/>
            <p:nvPr/>
          </p:nvSpPr>
          <p:spPr>
            <a:xfrm>
              <a:off x="7528320" y="2619720"/>
              <a:ext cx="177480" cy="166680"/>
            </a:xfrm>
            <a:custGeom>
              <a:avLst/>
              <a:gdLst/>
              <a:ahLst/>
              <a:rect l="l" t="t" r="r" b="b"/>
              <a:pathLst>
                <a:path w="802" h="751">
                  <a:moveTo>
                    <a:pt x="751" y="727"/>
                  </a:moveTo>
                  <a:lnTo>
                    <a:pt x="747" y="655"/>
                  </a:lnTo>
                  <a:lnTo>
                    <a:pt x="736" y="588"/>
                  </a:lnTo>
                  <a:lnTo>
                    <a:pt x="718" y="524"/>
                  </a:lnTo>
                  <a:lnTo>
                    <a:pt x="694" y="462"/>
                  </a:lnTo>
                  <a:lnTo>
                    <a:pt x="663" y="403"/>
                  </a:lnTo>
                  <a:lnTo>
                    <a:pt x="663" y="403"/>
                  </a:lnTo>
                  <a:lnTo>
                    <a:pt x="664" y="405"/>
                  </a:lnTo>
                  <a:cubicBezTo>
                    <a:pt x="657" y="394"/>
                    <a:pt x="660" y="378"/>
                    <a:pt x="672" y="371"/>
                  </a:cubicBezTo>
                  <a:cubicBezTo>
                    <a:pt x="683" y="363"/>
                    <a:pt x="699" y="366"/>
                    <a:pt x="706" y="378"/>
                  </a:cubicBezTo>
                  <a:lnTo>
                    <a:pt x="708" y="380"/>
                  </a:lnTo>
                  <a:lnTo>
                    <a:pt x="740" y="444"/>
                  </a:lnTo>
                  <a:lnTo>
                    <a:pt x="767" y="511"/>
                  </a:lnTo>
                  <a:lnTo>
                    <a:pt x="786" y="581"/>
                  </a:lnTo>
                  <a:lnTo>
                    <a:pt x="797" y="653"/>
                  </a:lnTo>
                  <a:lnTo>
                    <a:pt x="801" y="724"/>
                  </a:lnTo>
                  <a:cubicBezTo>
                    <a:pt x="802" y="738"/>
                    <a:pt x="791" y="750"/>
                    <a:pt x="777" y="750"/>
                  </a:cubicBezTo>
                  <a:cubicBezTo>
                    <a:pt x="764" y="751"/>
                    <a:pt x="752" y="741"/>
                    <a:pt x="751" y="727"/>
                  </a:cubicBezTo>
                  <a:close/>
                  <a:moveTo>
                    <a:pt x="543" y="253"/>
                  </a:moveTo>
                  <a:lnTo>
                    <a:pt x="543" y="253"/>
                  </a:lnTo>
                  <a:cubicBezTo>
                    <a:pt x="534" y="243"/>
                    <a:pt x="534" y="227"/>
                    <a:pt x="544" y="217"/>
                  </a:cubicBezTo>
                  <a:cubicBezTo>
                    <a:pt x="554" y="208"/>
                    <a:pt x="569" y="208"/>
                    <a:pt x="579" y="218"/>
                  </a:cubicBezTo>
                  <a:lnTo>
                    <a:pt x="579" y="218"/>
                  </a:lnTo>
                  <a:cubicBezTo>
                    <a:pt x="589" y="228"/>
                    <a:pt x="589" y="244"/>
                    <a:pt x="579" y="253"/>
                  </a:cubicBezTo>
                  <a:cubicBezTo>
                    <a:pt x="569" y="263"/>
                    <a:pt x="553" y="263"/>
                    <a:pt x="543" y="253"/>
                  </a:cubicBezTo>
                  <a:close/>
                  <a:moveTo>
                    <a:pt x="387" y="141"/>
                  </a:moveTo>
                  <a:lnTo>
                    <a:pt x="387" y="141"/>
                  </a:lnTo>
                  <a:cubicBezTo>
                    <a:pt x="375" y="134"/>
                    <a:pt x="371" y="119"/>
                    <a:pt x="377" y="107"/>
                  </a:cubicBezTo>
                  <a:cubicBezTo>
                    <a:pt x="384" y="95"/>
                    <a:pt x="399" y="90"/>
                    <a:pt x="411" y="97"/>
                  </a:cubicBezTo>
                  <a:lnTo>
                    <a:pt x="411" y="97"/>
                  </a:lnTo>
                  <a:cubicBezTo>
                    <a:pt x="424" y="104"/>
                    <a:pt x="428" y="119"/>
                    <a:pt x="421" y="131"/>
                  </a:cubicBezTo>
                  <a:cubicBezTo>
                    <a:pt x="415" y="143"/>
                    <a:pt x="399" y="147"/>
                    <a:pt x="387" y="141"/>
                  </a:cubicBezTo>
                  <a:close/>
                  <a:moveTo>
                    <a:pt x="207" y="73"/>
                  </a:moveTo>
                  <a:lnTo>
                    <a:pt x="171" y="64"/>
                  </a:lnTo>
                  <a:lnTo>
                    <a:pt x="99" y="54"/>
                  </a:lnTo>
                  <a:lnTo>
                    <a:pt x="25" y="50"/>
                  </a:lnTo>
                  <a:cubicBezTo>
                    <a:pt x="11" y="50"/>
                    <a:pt x="0" y="38"/>
                    <a:pt x="1" y="24"/>
                  </a:cubicBezTo>
                  <a:cubicBezTo>
                    <a:pt x="2" y="11"/>
                    <a:pt x="13" y="0"/>
                    <a:pt x="27" y="0"/>
                  </a:cubicBezTo>
                  <a:lnTo>
                    <a:pt x="106" y="4"/>
                  </a:lnTo>
                  <a:lnTo>
                    <a:pt x="183" y="15"/>
                  </a:lnTo>
                  <a:lnTo>
                    <a:pt x="219" y="24"/>
                  </a:lnTo>
                  <a:cubicBezTo>
                    <a:pt x="232" y="27"/>
                    <a:pt x="240" y="41"/>
                    <a:pt x="237" y="54"/>
                  </a:cubicBezTo>
                  <a:cubicBezTo>
                    <a:pt x="234" y="68"/>
                    <a:pt x="220" y="76"/>
                    <a:pt x="207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4"/>
            <p:cNvSpPr/>
            <p:nvPr/>
          </p:nvSpPr>
          <p:spPr>
            <a:xfrm>
              <a:off x="6444720" y="2279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5"/>
            <p:cNvSpPr/>
            <p:nvPr/>
          </p:nvSpPr>
          <p:spPr>
            <a:xfrm>
              <a:off x="6530400" y="227952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ic bra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6"/>
            <p:cNvSpPr/>
            <p:nvPr/>
          </p:nvSpPr>
          <p:spPr>
            <a:xfrm>
              <a:off x="7328880" y="227952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17"/>
            <p:cNvSpPr/>
            <p:nvPr/>
          </p:nvSpPr>
          <p:spPr>
            <a:xfrm>
              <a:off x="7848720" y="2279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18"/>
            <p:cNvSpPr/>
            <p:nvPr/>
          </p:nvSpPr>
          <p:spPr>
            <a:xfrm>
              <a:off x="3271320" y="1161720"/>
              <a:ext cx="86400" cy="183960"/>
            </a:xfrm>
            <a:custGeom>
              <a:avLst/>
              <a:gdLst/>
              <a:ahLst/>
              <a:rect l="l" t="t" r="r" b="b"/>
              <a:pathLst>
                <a:path w="769" h="1654">
                  <a:moveTo>
                    <a:pt x="247" y="1123"/>
                  </a:moveTo>
                  <a:lnTo>
                    <a:pt x="553" y="56"/>
                  </a:lnTo>
                  <a:cubicBezTo>
                    <a:pt x="563" y="21"/>
                    <a:pt x="600" y="0"/>
                    <a:pt x="636" y="10"/>
                  </a:cubicBezTo>
                  <a:cubicBezTo>
                    <a:pt x="671" y="21"/>
                    <a:pt x="691" y="57"/>
                    <a:pt x="681" y="93"/>
                  </a:cubicBezTo>
                  <a:lnTo>
                    <a:pt x="375" y="1160"/>
                  </a:lnTo>
                  <a:cubicBezTo>
                    <a:pt x="365" y="1196"/>
                    <a:pt x="328" y="1216"/>
                    <a:pt x="293" y="1206"/>
                  </a:cubicBezTo>
                  <a:cubicBezTo>
                    <a:pt x="257" y="1196"/>
                    <a:pt x="237" y="1159"/>
                    <a:pt x="247" y="1123"/>
                  </a:cubicBezTo>
                  <a:close/>
                  <a:moveTo>
                    <a:pt x="311" y="1142"/>
                  </a:moveTo>
                  <a:lnTo>
                    <a:pt x="769" y="996"/>
                  </a:lnTo>
                  <a:lnTo>
                    <a:pt x="164" y="1654"/>
                  </a:lnTo>
                  <a:lnTo>
                    <a:pt x="0" y="775"/>
                  </a:lnTo>
                  <a:lnTo>
                    <a:pt x="311" y="11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19"/>
            <p:cNvSpPr/>
            <p:nvPr/>
          </p:nvSpPr>
          <p:spPr>
            <a:xfrm>
              <a:off x="6705720" y="2463480"/>
              <a:ext cx="88200" cy="162000"/>
            </a:xfrm>
            <a:custGeom>
              <a:avLst/>
              <a:gdLst/>
              <a:ahLst/>
              <a:rect l="l" t="t" r="r" b="b"/>
              <a:pathLst>
                <a:path w="394" h="729">
                  <a:moveTo>
                    <a:pt x="141" y="461"/>
                  </a:moveTo>
                  <a:lnTo>
                    <a:pt x="217" y="30"/>
                  </a:lnTo>
                  <a:cubicBezTo>
                    <a:pt x="221" y="12"/>
                    <a:pt x="238" y="0"/>
                    <a:pt x="256" y="3"/>
                  </a:cubicBezTo>
                  <a:cubicBezTo>
                    <a:pt x="274" y="6"/>
                    <a:pt x="286" y="24"/>
                    <a:pt x="283" y="42"/>
                  </a:cubicBezTo>
                  <a:lnTo>
                    <a:pt x="206" y="472"/>
                  </a:lnTo>
                  <a:cubicBezTo>
                    <a:pt x="203" y="491"/>
                    <a:pt x="186" y="503"/>
                    <a:pt x="168" y="499"/>
                  </a:cubicBezTo>
                  <a:cubicBezTo>
                    <a:pt x="150" y="496"/>
                    <a:pt x="137" y="479"/>
                    <a:pt x="141" y="461"/>
                  </a:cubicBezTo>
                  <a:close/>
                  <a:moveTo>
                    <a:pt x="174" y="467"/>
                  </a:moveTo>
                  <a:lnTo>
                    <a:pt x="394" y="370"/>
                  </a:lnTo>
                  <a:lnTo>
                    <a:pt x="127" y="729"/>
                  </a:lnTo>
                  <a:lnTo>
                    <a:pt x="0" y="300"/>
                  </a:lnTo>
                  <a:lnTo>
                    <a:pt x="174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0"/>
            <p:cNvSpPr/>
            <p:nvPr/>
          </p:nvSpPr>
          <p:spPr>
            <a:xfrm>
              <a:off x="2997720" y="2622600"/>
              <a:ext cx="177480" cy="16704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502" y="1454"/>
                  </a:moveTo>
                  <a:lnTo>
                    <a:pt x="1494" y="1311"/>
                  </a:lnTo>
                  <a:lnTo>
                    <a:pt x="1472" y="1177"/>
                  </a:lnTo>
                  <a:lnTo>
                    <a:pt x="1436" y="1049"/>
                  </a:lnTo>
                  <a:lnTo>
                    <a:pt x="1387" y="925"/>
                  </a:lnTo>
                  <a:lnTo>
                    <a:pt x="1326" y="807"/>
                  </a:lnTo>
                  <a:lnTo>
                    <a:pt x="1326" y="807"/>
                  </a:lnTo>
                  <a:lnTo>
                    <a:pt x="1328" y="811"/>
                  </a:lnTo>
                  <a:cubicBezTo>
                    <a:pt x="1313" y="788"/>
                    <a:pt x="1320" y="757"/>
                    <a:pt x="1343" y="742"/>
                  </a:cubicBezTo>
                  <a:cubicBezTo>
                    <a:pt x="1366" y="727"/>
                    <a:pt x="1397" y="733"/>
                    <a:pt x="1412" y="756"/>
                  </a:cubicBezTo>
                  <a:lnTo>
                    <a:pt x="1415" y="762"/>
                  </a:lnTo>
                  <a:lnTo>
                    <a:pt x="1480" y="888"/>
                  </a:lnTo>
                  <a:lnTo>
                    <a:pt x="1533" y="1022"/>
                  </a:lnTo>
                  <a:lnTo>
                    <a:pt x="1571" y="1162"/>
                  </a:lnTo>
                  <a:lnTo>
                    <a:pt x="1593" y="1306"/>
                  </a:lnTo>
                  <a:lnTo>
                    <a:pt x="1601" y="1449"/>
                  </a:lnTo>
                  <a:cubicBezTo>
                    <a:pt x="1603" y="1476"/>
                    <a:pt x="1582" y="1500"/>
                    <a:pt x="1554" y="1501"/>
                  </a:cubicBezTo>
                  <a:cubicBezTo>
                    <a:pt x="1527" y="1503"/>
                    <a:pt x="1503" y="1482"/>
                    <a:pt x="1502" y="1454"/>
                  </a:cubicBezTo>
                  <a:close/>
                  <a:moveTo>
                    <a:pt x="1086" y="506"/>
                  </a:moveTo>
                  <a:lnTo>
                    <a:pt x="1086" y="506"/>
                  </a:lnTo>
                  <a:cubicBezTo>
                    <a:pt x="1067" y="486"/>
                    <a:pt x="1067" y="455"/>
                    <a:pt x="1087" y="435"/>
                  </a:cubicBezTo>
                  <a:cubicBezTo>
                    <a:pt x="1107" y="416"/>
                    <a:pt x="1139" y="417"/>
                    <a:pt x="1158" y="436"/>
                  </a:cubicBezTo>
                  <a:lnTo>
                    <a:pt x="1158" y="436"/>
                  </a:lnTo>
                  <a:cubicBezTo>
                    <a:pt x="1177" y="456"/>
                    <a:pt x="1177" y="488"/>
                    <a:pt x="1157" y="507"/>
                  </a:cubicBezTo>
                  <a:cubicBezTo>
                    <a:pt x="1137" y="526"/>
                    <a:pt x="1105" y="526"/>
                    <a:pt x="1086" y="506"/>
                  </a:cubicBezTo>
                  <a:close/>
                  <a:moveTo>
                    <a:pt x="774" y="282"/>
                  </a:moveTo>
                  <a:lnTo>
                    <a:pt x="774" y="282"/>
                  </a:lnTo>
                  <a:cubicBezTo>
                    <a:pt x="749" y="268"/>
                    <a:pt x="741" y="238"/>
                    <a:pt x="755" y="214"/>
                  </a:cubicBezTo>
                  <a:cubicBezTo>
                    <a:pt x="768" y="190"/>
                    <a:pt x="799" y="181"/>
                    <a:pt x="823" y="195"/>
                  </a:cubicBezTo>
                  <a:lnTo>
                    <a:pt x="823" y="195"/>
                  </a:lnTo>
                  <a:cubicBezTo>
                    <a:pt x="847" y="209"/>
                    <a:pt x="855" y="239"/>
                    <a:pt x="842" y="263"/>
                  </a:cubicBezTo>
                  <a:cubicBezTo>
                    <a:pt x="828" y="287"/>
                    <a:pt x="798" y="296"/>
                    <a:pt x="774" y="282"/>
                  </a:cubicBezTo>
                  <a:close/>
                  <a:moveTo>
                    <a:pt x="414" y="146"/>
                  </a:moveTo>
                  <a:lnTo>
                    <a:pt x="342" y="128"/>
                  </a:lnTo>
                  <a:lnTo>
                    <a:pt x="197" y="108"/>
                  </a:lnTo>
                  <a:lnTo>
                    <a:pt x="49" y="101"/>
                  </a:lnTo>
                  <a:cubicBezTo>
                    <a:pt x="22" y="100"/>
                    <a:pt x="0" y="77"/>
                    <a:pt x="2" y="49"/>
                  </a:cubicBezTo>
                  <a:cubicBezTo>
                    <a:pt x="3" y="22"/>
                    <a:pt x="26" y="0"/>
                    <a:pt x="54" y="2"/>
                  </a:cubicBezTo>
                  <a:lnTo>
                    <a:pt x="211" y="9"/>
                  </a:lnTo>
                  <a:lnTo>
                    <a:pt x="365" y="31"/>
                  </a:lnTo>
                  <a:lnTo>
                    <a:pt x="437" y="48"/>
                  </a:lnTo>
                  <a:cubicBezTo>
                    <a:pt x="464" y="55"/>
                    <a:pt x="481" y="82"/>
                    <a:pt x="474" y="109"/>
                  </a:cubicBezTo>
                  <a:cubicBezTo>
                    <a:pt x="467" y="136"/>
                    <a:pt x="440" y="152"/>
                    <a:pt x="414" y="1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1"/>
            <p:cNvSpPr/>
            <p:nvPr/>
          </p:nvSpPr>
          <p:spPr>
            <a:xfrm>
              <a:off x="3164760" y="2778840"/>
              <a:ext cx="177480" cy="16812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4"/>
                  </a:lnTo>
                  <a:lnTo>
                    <a:pt x="216" y="578"/>
                  </a:lnTo>
                  <a:lnTo>
                    <a:pt x="277" y="696"/>
                  </a:lnTo>
                  <a:lnTo>
                    <a:pt x="277" y="696"/>
                  </a:lnTo>
                  <a:lnTo>
                    <a:pt x="275" y="692"/>
                  </a:lnTo>
                  <a:cubicBezTo>
                    <a:pt x="290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6"/>
                  </a:cubicBezTo>
                  <a:lnTo>
                    <a:pt x="188" y="741"/>
                  </a:lnTo>
                  <a:lnTo>
                    <a:pt x="123" y="615"/>
                  </a:lnTo>
                  <a:lnTo>
                    <a:pt x="70" y="481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7" y="996"/>
                  </a:moveTo>
                  <a:lnTo>
                    <a:pt x="517" y="996"/>
                  </a:lnTo>
                  <a:cubicBezTo>
                    <a:pt x="537" y="1016"/>
                    <a:pt x="536" y="1047"/>
                    <a:pt x="517" y="1067"/>
                  </a:cubicBezTo>
                  <a:cubicBezTo>
                    <a:pt x="497" y="1086"/>
                    <a:pt x="465" y="1086"/>
                    <a:pt x="446" y="1066"/>
                  </a:cubicBezTo>
                  <a:lnTo>
                    <a:pt x="446" y="1066"/>
                  </a:lnTo>
                  <a:cubicBezTo>
                    <a:pt x="426" y="1047"/>
                    <a:pt x="427" y="1015"/>
                    <a:pt x="446" y="996"/>
                  </a:cubicBezTo>
                  <a:cubicBezTo>
                    <a:pt x="466" y="976"/>
                    <a:pt x="498" y="976"/>
                    <a:pt x="517" y="996"/>
                  </a:cubicBezTo>
                  <a:close/>
                  <a:moveTo>
                    <a:pt x="830" y="1221"/>
                  </a:moveTo>
                  <a:lnTo>
                    <a:pt x="830" y="1221"/>
                  </a:lnTo>
                  <a:cubicBezTo>
                    <a:pt x="854" y="1235"/>
                    <a:pt x="862" y="1265"/>
                    <a:pt x="848" y="1289"/>
                  </a:cubicBezTo>
                  <a:cubicBezTo>
                    <a:pt x="835" y="1313"/>
                    <a:pt x="804" y="1322"/>
                    <a:pt x="780" y="1308"/>
                  </a:cubicBezTo>
                  <a:lnTo>
                    <a:pt x="780" y="1308"/>
                  </a:lnTo>
                  <a:cubicBezTo>
                    <a:pt x="756" y="1294"/>
                    <a:pt x="748" y="1264"/>
                    <a:pt x="761" y="1240"/>
                  </a:cubicBezTo>
                  <a:cubicBezTo>
                    <a:pt x="775" y="1216"/>
                    <a:pt x="806" y="1207"/>
                    <a:pt x="830" y="1221"/>
                  </a:cubicBezTo>
                  <a:close/>
                  <a:moveTo>
                    <a:pt x="1190" y="1357"/>
                  </a:moveTo>
                  <a:lnTo>
                    <a:pt x="1261" y="1375"/>
                  </a:lnTo>
                  <a:lnTo>
                    <a:pt x="1405" y="1395"/>
                  </a:lnTo>
                  <a:lnTo>
                    <a:pt x="1554" y="1402"/>
                  </a:lnTo>
                  <a:cubicBezTo>
                    <a:pt x="1581" y="1403"/>
                    <a:pt x="1603" y="1426"/>
                    <a:pt x="1601" y="1454"/>
                  </a:cubicBezTo>
                  <a:cubicBezTo>
                    <a:pt x="1600" y="1481"/>
                    <a:pt x="1577" y="1503"/>
                    <a:pt x="1549" y="1501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166" y="1455"/>
                  </a:lnTo>
                  <a:cubicBezTo>
                    <a:pt x="1139" y="1448"/>
                    <a:pt x="1123" y="1421"/>
                    <a:pt x="1129" y="1394"/>
                  </a:cubicBezTo>
                  <a:cubicBezTo>
                    <a:pt x="1136" y="1367"/>
                    <a:pt x="1163" y="1351"/>
                    <a:pt x="1190" y="13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2"/>
            <p:cNvSpPr/>
            <p:nvPr/>
          </p:nvSpPr>
          <p:spPr>
            <a:xfrm>
              <a:off x="3344040" y="2935080"/>
              <a:ext cx="2774520" cy="12240"/>
            </a:xfrm>
            <a:custGeom>
              <a:avLst/>
              <a:gdLst/>
              <a:ahLst/>
              <a:rect l="l" t="t" r="r" b="b"/>
              <a:pathLst>
                <a:path w="12460" h="50">
                  <a:moveTo>
                    <a:pt x="25" y="0"/>
                  </a:moveTo>
                  <a:lnTo>
                    <a:pt x="375" y="0"/>
                  </a:lnTo>
                  <a:cubicBezTo>
                    <a:pt x="389" y="0"/>
                    <a:pt x="400" y="11"/>
                    <a:pt x="400" y="25"/>
                  </a:cubicBezTo>
                  <a:cubicBezTo>
                    <a:pt x="400" y="39"/>
                    <a:pt x="389" y="50"/>
                    <a:pt x="375" y="50"/>
                  </a:cubicBezTo>
                  <a:lnTo>
                    <a:pt x="25" y="50"/>
                  </a:lnTo>
                  <a:cubicBezTo>
                    <a:pt x="11" y="50"/>
                    <a:pt x="0" y="39"/>
                    <a:pt x="0" y="25"/>
                  </a:cubicBezTo>
                  <a:cubicBezTo>
                    <a:pt x="0" y="11"/>
                    <a:pt x="11" y="0"/>
                    <a:pt x="25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9" y="0"/>
                    <a:pt x="600" y="11"/>
                    <a:pt x="600" y="25"/>
                  </a:cubicBezTo>
                  <a:cubicBezTo>
                    <a:pt x="600" y="39"/>
                    <a:pt x="589" y="50"/>
                    <a:pt x="575" y="50"/>
                  </a:cubicBezTo>
                  <a:lnTo>
                    <a:pt x="575" y="50"/>
                  </a:lnTo>
                  <a:cubicBezTo>
                    <a:pt x="561" y="50"/>
                    <a:pt x="550" y="39"/>
                    <a:pt x="550" y="25"/>
                  </a:cubicBezTo>
                  <a:cubicBezTo>
                    <a:pt x="550" y="11"/>
                    <a:pt x="561" y="0"/>
                    <a:pt x="575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9" y="0"/>
                    <a:pt x="800" y="11"/>
                    <a:pt x="800" y="25"/>
                  </a:cubicBezTo>
                  <a:cubicBezTo>
                    <a:pt x="800" y="39"/>
                    <a:pt x="789" y="50"/>
                    <a:pt x="775" y="50"/>
                  </a:cubicBezTo>
                  <a:lnTo>
                    <a:pt x="775" y="50"/>
                  </a:lnTo>
                  <a:cubicBezTo>
                    <a:pt x="761" y="50"/>
                    <a:pt x="750" y="39"/>
                    <a:pt x="750" y="25"/>
                  </a:cubicBezTo>
                  <a:cubicBezTo>
                    <a:pt x="750" y="11"/>
                    <a:pt x="761" y="0"/>
                    <a:pt x="775" y="0"/>
                  </a:cubicBezTo>
                  <a:close/>
                  <a:moveTo>
                    <a:pt x="975" y="0"/>
                  </a:moveTo>
                  <a:lnTo>
                    <a:pt x="1325" y="0"/>
                  </a:lnTo>
                  <a:cubicBezTo>
                    <a:pt x="1339" y="0"/>
                    <a:pt x="1350" y="11"/>
                    <a:pt x="1350" y="25"/>
                  </a:cubicBezTo>
                  <a:cubicBezTo>
                    <a:pt x="1350" y="39"/>
                    <a:pt x="1339" y="50"/>
                    <a:pt x="1325" y="50"/>
                  </a:cubicBezTo>
                  <a:lnTo>
                    <a:pt x="975" y="50"/>
                  </a:lnTo>
                  <a:cubicBezTo>
                    <a:pt x="961" y="50"/>
                    <a:pt x="950" y="39"/>
                    <a:pt x="950" y="25"/>
                  </a:cubicBezTo>
                  <a:cubicBezTo>
                    <a:pt x="950" y="11"/>
                    <a:pt x="961" y="0"/>
                    <a:pt x="975" y="0"/>
                  </a:cubicBezTo>
                  <a:close/>
                  <a:moveTo>
                    <a:pt x="1525" y="0"/>
                  </a:moveTo>
                  <a:lnTo>
                    <a:pt x="1525" y="0"/>
                  </a:lnTo>
                  <a:cubicBezTo>
                    <a:pt x="1539" y="0"/>
                    <a:pt x="1550" y="11"/>
                    <a:pt x="1550" y="25"/>
                  </a:cubicBezTo>
                  <a:cubicBezTo>
                    <a:pt x="1550" y="39"/>
                    <a:pt x="1539" y="50"/>
                    <a:pt x="1525" y="50"/>
                  </a:cubicBezTo>
                  <a:lnTo>
                    <a:pt x="1525" y="50"/>
                  </a:lnTo>
                  <a:cubicBezTo>
                    <a:pt x="1511" y="50"/>
                    <a:pt x="1500" y="39"/>
                    <a:pt x="1500" y="25"/>
                  </a:cubicBezTo>
                  <a:cubicBezTo>
                    <a:pt x="1500" y="11"/>
                    <a:pt x="1511" y="0"/>
                    <a:pt x="1525" y="0"/>
                  </a:cubicBezTo>
                  <a:close/>
                  <a:moveTo>
                    <a:pt x="1725" y="0"/>
                  </a:moveTo>
                  <a:lnTo>
                    <a:pt x="1725" y="0"/>
                  </a:lnTo>
                  <a:cubicBezTo>
                    <a:pt x="1739" y="0"/>
                    <a:pt x="1750" y="11"/>
                    <a:pt x="1750" y="25"/>
                  </a:cubicBezTo>
                  <a:cubicBezTo>
                    <a:pt x="1750" y="39"/>
                    <a:pt x="1739" y="50"/>
                    <a:pt x="1725" y="50"/>
                  </a:cubicBezTo>
                  <a:lnTo>
                    <a:pt x="1725" y="50"/>
                  </a:lnTo>
                  <a:cubicBezTo>
                    <a:pt x="1711" y="50"/>
                    <a:pt x="1700" y="39"/>
                    <a:pt x="1700" y="25"/>
                  </a:cubicBezTo>
                  <a:cubicBezTo>
                    <a:pt x="1700" y="11"/>
                    <a:pt x="1711" y="0"/>
                    <a:pt x="1725" y="0"/>
                  </a:cubicBezTo>
                  <a:close/>
                  <a:moveTo>
                    <a:pt x="1925" y="0"/>
                  </a:moveTo>
                  <a:lnTo>
                    <a:pt x="2275" y="0"/>
                  </a:lnTo>
                  <a:cubicBezTo>
                    <a:pt x="2289" y="0"/>
                    <a:pt x="2300" y="11"/>
                    <a:pt x="2300" y="25"/>
                  </a:cubicBezTo>
                  <a:cubicBezTo>
                    <a:pt x="2300" y="39"/>
                    <a:pt x="2289" y="50"/>
                    <a:pt x="2275" y="50"/>
                  </a:cubicBezTo>
                  <a:lnTo>
                    <a:pt x="1925" y="50"/>
                  </a:lnTo>
                  <a:cubicBezTo>
                    <a:pt x="1911" y="50"/>
                    <a:pt x="1900" y="39"/>
                    <a:pt x="1900" y="25"/>
                  </a:cubicBezTo>
                  <a:cubicBezTo>
                    <a:pt x="1900" y="11"/>
                    <a:pt x="1911" y="0"/>
                    <a:pt x="1925" y="0"/>
                  </a:cubicBezTo>
                  <a:close/>
                  <a:moveTo>
                    <a:pt x="2475" y="0"/>
                  </a:moveTo>
                  <a:lnTo>
                    <a:pt x="2475" y="0"/>
                  </a:lnTo>
                  <a:cubicBezTo>
                    <a:pt x="2489" y="0"/>
                    <a:pt x="2500" y="11"/>
                    <a:pt x="2500" y="25"/>
                  </a:cubicBezTo>
                  <a:cubicBezTo>
                    <a:pt x="2500" y="39"/>
                    <a:pt x="2489" y="50"/>
                    <a:pt x="2475" y="50"/>
                  </a:cubicBezTo>
                  <a:lnTo>
                    <a:pt x="2475" y="50"/>
                  </a:lnTo>
                  <a:cubicBezTo>
                    <a:pt x="2461" y="50"/>
                    <a:pt x="2450" y="39"/>
                    <a:pt x="2450" y="25"/>
                  </a:cubicBezTo>
                  <a:cubicBezTo>
                    <a:pt x="2450" y="11"/>
                    <a:pt x="2461" y="0"/>
                    <a:pt x="2475" y="0"/>
                  </a:cubicBezTo>
                  <a:close/>
                  <a:moveTo>
                    <a:pt x="2675" y="0"/>
                  </a:moveTo>
                  <a:lnTo>
                    <a:pt x="2675" y="0"/>
                  </a:lnTo>
                  <a:cubicBezTo>
                    <a:pt x="2689" y="0"/>
                    <a:pt x="2700" y="11"/>
                    <a:pt x="2700" y="25"/>
                  </a:cubicBezTo>
                  <a:cubicBezTo>
                    <a:pt x="2700" y="39"/>
                    <a:pt x="2689" y="50"/>
                    <a:pt x="2675" y="50"/>
                  </a:cubicBezTo>
                  <a:lnTo>
                    <a:pt x="2675" y="50"/>
                  </a:lnTo>
                  <a:cubicBezTo>
                    <a:pt x="2661" y="50"/>
                    <a:pt x="2650" y="39"/>
                    <a:pt x="2650" y="25"/>
                  </a:cubicBezTo>
                  <a:cubicBezTo>
                    <a:pt x="2650" y="11"/>
                    <a:pt x="2661" y="0"/>
                    <a:pt x="2675" y="0"/>
                  </a:cubicBezTo>
                  <a:close/>
                  <a:moveTo>
                    <a:pt x="2875" y="0"/>
                  </a:moveTo>
                  <a:lnTo>
                    <a:pt x="3225" y="0"/>
                  </a:lnTo>
                  <a:cubicBezTo>
                    <a:pt x="3239" y="0"/>
                    <a:pt x="3250" y="11"/>
                    <a:pt x="3250" y="25"/>
                  </a:cubicBezTo>
                  <a:cubicBezTo>
                    <a:pt x="3250" y="39"/>
                    <a:pt x="3239" y="50"/>
                    <a:pt x="3225" y="50"/>
                  </a:cubicBezTo>
                  <a:lnTo>
                    <a:pt x="2875" y="50"/>
                  </a:lnTo>
                  <a:cubicBezTo>
                    <a:pt x="2861" y="50"/>
                    <a:pt x="2850" y="39"/>
                    <a:pt x="2850" y="25"/>
                  </a:cubicBezTo>
                  <a:cubicBezTo>
                    <a:pt x="2850" y="11"/>
                    <a:pt x="2861" y="0"/>
                    <a:pt x="2875" y="0"/>
                  </a:cubicBezTo>
                  <a:close/>
                  <a:moveTo>
                    <a:pt x="3425" y="0"/>
                  </a:moveTo>
                  <a:lnTo>
                    <a:pt x="3425" y="0"/>
                  </a:lnTo>
                  <a:cubicBezTo>
                    <a:pt x="3439" y="0"/>
                    <a:pt x="3450" y="11"/>
                    <a:pt x="3450" y="25"/>
                  </a:cubicBezTo>
                  <a:cubicBezTo>
                    <a:pt x="3450" y="39"/>
                    <a:pt x="3439" y="50"/>
                    <a:pt x="3425" y="50"/>
                  </a:cubicBezTo>
                  <a:lnTo>
                    <a:pt x="3425" y="50"/>
                  </a:lnTo>
                  <a:cubicBezTo>
                    <a:pt x="3411" y="50"/>
                    <a:pt x="3400" y="39"/>
                    <a:pt x="3400" y="25"/>
                  </a:cubicBezTo>
                  <a:cubicBezTo>
                    <a:pt x="3400" y="11"/>
                    <a:pt x="3411" y="0"/>
                    <a:pt x="3425" y="0"/>
                  </a:cubicBezTo>
                  <a:close/>
                  <a:moveTo>
                    <a:pt x="3625" y="0"/>
                  </a:moveTo>
                  <a:lnTo>
                    <a:pt x="3625" y="0"/>
                  </a:lnTo>
                  <a:cubicBezTo>
                    <a:pt x="3639" y="0"/>
                    <a:pt x="3650" y="11"/>
                    <a:pt x="3650" y="25"/>
                  </a:cubicBezTo>
                  <a:cubicBezTo>
                    <a:pt x="3650" y="39"/>
                    <a:pt x="3639" y="50"/>
                    <a:pt x="3625" y="50"/>
                  </a:cubicBezTo>
                  <a:lnTo>
                    <a:pt x="3625" y="50"/>
                  </a:lnTo>
                  <a:cubicBezTo>
                    <a:pt x="3611" y="50"/>
                    <a:pt x="3600" y="39"/>
                    <a:pt x="3600" y="25"/>
                  </a:cubicBezTo>
                  <a:cubicBezTo>
                    <a:pt x="3600" y="11"/>
                    <a:pt x="3611" y="0"/>
                    <a:pt x="3625" y="0"/>
                  </a:cubicBezTo>
                  <a:close/>
                  <a:moveTo>
                    <a:pt x="3825" y="0"/>
                  </a:moveTo>
                  <a:lnTo>
                    <a:pt x="4175" y="0"/>
                  </a:lnTo>
                  <a:cubicBezTo>
                    <a:pt x="4189" y="0"/>
                    <a:pt x="4200" y="11"/>
                    <a:pt x="4200" y="25"/>
                  </a:cubicBezTo>
                  <a:cubicBezTo>
                    <a:pt x="4200" y="39"/>
                    <a:pt x="4189" y="50"/>
                    <a:pt x="4175" y="50"/>
                  </a:cubicBezTo>
                  <a:lnTo>
                    <a:pt x="3825" y="50"/>
                  </a:lnTo>
                  <a:cubicBezTo>
                    <a:pt x="3811" y="50"/>
                    <a:pt x="3800" y="39"/>
                    <a:pt x="3800" y="25"/>
                  </a:cubicBezTo>
                  <a:cubicBezTo>
                    <a:pt x="3800" y="11"/>
                    <a:pt x="3811" y="0"/>
                    <a:pt x="3825" y="0"/>
                  </a:cubicBezTo>
                  <a:close/>
                  <a:moveTo>
                    <a:pt x="4375" y="0"/>
                  </a:moveTo>
                  <a:lnTo>
                    <a:pt x="4375" y="0"/>
                  </a:lnTo>
                  <a:cubicBezTo>
                    <a:pt x="4389" y="0"/>
                    <a:pt x="4400" y="11"/>
                    <a:pt x="4400" y="25"/>
                  </a:cubicBezTo>
                  <a:cubicBezTo>
                    <a:pt x="4400" y="39"/>
                    <a:pt x="4389" y="50"/>
                    <a:pt x="4375" y="50"/>
                  </a:cubicBezTo>
                  <a:lnTo>
                    <a:pt x="4375" y="50"/>
                  </a:lnTo>
                  <a:cubicBezTo>
                    <a:pt x="4361" y="50"/>
                    <a:pt x="4350" y="39"/>
                    <a:pt x="4350" y="25"/>
                  </a:cubicBezTo>
                  <a:cubicBezTo>
                    <a:pt x="4350" y="11"/>
                    <a:pt x="4361" y="0"/>
                    <a:pt x="4375" y="0"/>
                  </a:cubicBezTo>
                  <a:close/>
                  <a:moveTo>
                    <a:pt x="4575" y="0"/>
                  </a:moveTo>
                  <a:lnTo>
                    <a:pt x="4575" y="0"/>
                  </a:lnTo>
                  <a:cubicBezTo>
                    <a:pt x="4589" y="0"/>
                    <a:pt x="4600" y="11"/>
                    <a:pt x="4600" y="25"/>
                  </a:cubicBezTo>
                  <a:cubicBezTo>
                    <a:pt x="4600" y="39"/>
                    <a:pt x="4589" y="50"/>
                    <a:pt x="4575" y="50"/>
                  </a:cubicBezTo>
                  <a:lnTo>
                    <a:pt x="4575" y="50"/>
                  </a:lnTo>
                  <a:cubicBezTo>
                    <a:pt x="4561" y="50"/>
                    <a:pt x="4550" y="39"/>
                    <a:pt x="4550" y="25"/>
                  </a:cubicBezTo>
                  <a:cubicBezTo>
                    <a:pt x="4550" y="11"/>
                    <a:pt x="4561" y="0"/>
                    <a:pt x="4575" y="0"/>
                  </a:cubicBezTo>
                  <a:close/>
                  <a:moveTo>
                    <a:pt x="4775" y="0"/>
                  </a:moveTo>
                  <a:lnTo>
                    <a:pt x="5125" y="0"/>
                  </a:lnTo>
                  <a:cubicBezTo>
                    <a:pt x="5139" y="0"/>
                    <a:pt x="5150" y="11"/>
                    <a:pt x="5150" y="25"/>
                  </a:cubicBezTo>
                  <a:cubicBezTo>
                    <a:pt x="5150" y="39"/>
                    <a:pt x="5139" y="50"/>
                    <a:pt x="5125" y="50"/>
                  </a:cubicBezTo>
                  <a:lnTo>
                    <a:pt x="4775" y="50"/>
                  </a:lnTo>
                  <a:cubicBezTo>
                    <a:pt x="4761" y="50"/>
                    <a:pt x="4750" y="39"/>
                    <a:pt x="4750" y="25"/>
                  </a:cubicBezTo>
                  <a:cubicBezTo>
                    <a:pt x="4750" y="11"/>
                    <a:pt x="4761" y="0"/>
                    <a:pt x="4775" y="0"/>
                  </a:cubicBezTo>
                  <a:close/>
                  <a:moveTo>
                    <a:pt x="5325" y="0"/>
                  </a:moveTo>
                  <a:lnTo>
                    <a:pt x="5325" y="0"/>
                  </a:lnTo>
                  <a:cubicBezTo>
                    <a:pt x="5339" y="0"/>
                    <a:pt x="5350" y="11"/>
                    <a:pt x="5350" y="25"/>
                  </a:cubicBezTo>
                  <a:cubicBezTo>
                    <a:pt x="5350" y="39"/>
                    <a:pt x="5339" y="50"/>
                    <a:pt x="5325" y="50"/>
                  </a:cubicBezTo>
                  <a:lnTo>
                    <a:pt x="5325" y="50"/>
                  </a:lnTo>
                  <a:cubicBezTo>
                    <a:pt x="5311" y="50"/>
                    <a:pt x="5300" y="39"/>
                    <a:pt x="5300" y="25"/>
                  </a:cubicBezTo>
                  <a:cubicBezTo>
                    <a:pt x="5300" y="11"/>
                    <a:pt x="5311" y="0"/>
                    <a:pt x="5325" y="0"/>
                  </a:cubicBezTo>
                  <a:close/>
                  <a:moveTo>
                    <a:pt x="5525" y="0"/>
                  </a:moveTo>
                  <a:lnTo>
                    <a:pt x="5525" y="0"/>
                  </a:lnTo>
                  <a:cubicBezTo>
                    <a:pt x="5539" y="0"/>
                    <a:pt x="5550" y="11"/>
                    <a:pt x="5550" y="25"/>
                  </a:cubicBezTo>
                  <a:cubicBezTo>
                    <a:pt x="5550" y="39"/>
                    <a:pt x="5539" y="50"/>
                    <a:pt x="5525" y="50"/>
                  </a:cubicBezTo>
                  <a:lnTo>
                    <a:pt x="5525" y="50"/>
                  </a:lnTo>
                  <a:cubicBezTo>
                    <a:pt x="5512" y="50"/>
                    <a:pt x="5500" y="39"/>
                    <a:pt x="5500" y="25"/>
                  </a:cubicBezTo>
                  <a:cubicBezTo>
                    <a:pt x="5500" y="11"/>
                    <a:pt x="5512" y="0"/>
                    <a:pt x="5525" y="0"/>
                  </a:cubicBezTo>
                  <a:close/>
                  <a:moveTo>
                    <a:pt x="5725" y="0"/>
                  </a:moveTo>
                  <a:lnTo>
                    <a:pt x="6075" y="0"/>
                  </a:lnTo>
                  <a:cubicBezTo>
                    <a:pt x="6089" y="0"/>
                    <a:pt x="6100" y="11"/>
                    <a:pt x="6100" y="25"/>
                  </a:cubicBezTo>
                  <a:cubicBezTo>
                    <a:pt x="6100" y="39"/>
                    <a:pt x="6089" y="50"/>
                    <a:pt x="6075" y="50"/>
                  </a:cubicBezTo>
                  <a:lnTo>
                    <a:pt x="5725" y="50"/>
                  </a:lnTo>
                  <a:cubicBezTo>
                    <a:pt x="5712" y="50"/>
                    <a:pt x="5700" y="39"/>
                    <a:pt x="5700" y="25"/>
                  </a:cubicBezTo>
                  <a:cubicBezTo>
                    <a:pt x="5700" y="11"/>
                    <a:pt x="5712" y="0"/>
                    <a:pt x="5725" y="0"/>
                  </a:cubicBezTo>
                  <a:close/>
                  <a:moveTo>
                    <a:pt x="6275" y="0"/>
                  </a:moveTo>
                  <a:lnTo>
                    <a:pt x="6275" y="0"/>
                  </a:lnTo>
                  <a:cubicBezTo>
                    <a:pt x="6289" y="0"/>
                    <a:pt x="6300" y="11"/>
                    <a:pt x="6300" y="25"/>
                  </a:cubicBezTo>
                  <a:cubicBezTo>
                    <a:pt x="6300" y="39"/>
                    <a:pt x="6289" y="50"/>
                    <a:pt x="6275" y="50"/>
                  </a:cubicBezTo>
                  <a:lnTo>
                    <a:pt x="6275" y="50"/>
                  </a:lnTo>
                  <a:cubicBezTo>
                    <a:pt x="6262" y="50"/>
                    <a:pt x="6250" y="39"/>
                    <a:pt x="6250" y="25"/>
                  </a:cubicBezTo>
                  <a:cubicBezTo>
                    <a:pt x="6250" y="11"/>
                    <a:pt x="6262" y="0"/>
                    <a:pt x="6275" y="0"/>
                  </a:cubicBezTo>
                  <a:close/>
                  <a:moveTo>
                    <a:pt x="6475" y="0"/>
                  </a:moveTo>
                  <a:lnTo>
                    <a:pt x="6475" y="0"/>
                  </a:lnTo>
                  <a:cubicBezTo>
                    <a:pt x="6489" y="0"/>
                    <a:pt x="6500" y="11"/>
                    <a:pt x="6500" y="25"/>
                  </a:cubicBezTo>
                  <a:cubicBezTo>
                    <a:pt x="6500" y="39"/>
                    <a:pt x="6489" y="50"/>
                    <a:pt x="6475" y="50"/>
                  </a:cubicBezTo>
                  <a:lnTo>
                    <a:pt x="6475" y="50"/>
                  </a:lnTo>
                  <a:cubicBezTo>
                    <a:pt x="6462" y="50"/>
                    <a:pt x="6450" y="39"/>
                    <a:pt x="6450" y="25"/>
                  </a:cubicBezTo>
                  <a:cubicBezTo>
                    <a:pt x="6450" y="11"/>
                    <a:pt x="6462" y="0"/>
                    <a:pt x="6475" y="0"/>
                  </a:cubicBezTo>
                  <a:close/>
                  <a:moveTo>
                    <a:pt x="6675" y="0"/>
                  </a:moveTo>
                  <a:lnTo>
                    <a:pt x="7025" y="0"/>
                  </a:lnTo>
                  <a:cubicBezTo>
                    <a:pt x="7039" y="0"/>
                    <a:pt x="7050" y="11"/>
                    <a:pt x="7050" y="25"/>
                  </a:cubicBezTo>
                  <a:cubicBezTo>
                    <a:pt x="7050" y="39"/>
                    <a:pt x="7039" y="50"/>
                    <a:pt x="7025" y="50"/>
                  </a:cubicBezTo>
                  <a:lnTo>
                    <a:pt x="6675" y="50"/>
                  </a:lnTo>
                  <a:cubicBezTo>
                    <a:pt x="6662" y="50"/>
                    <a:pt x="6650" y="39"/>
                    <a:pt x="6650" y="25"/>
                  </a:cubicBezTo>
                  <a:cubicBezTo>
                    <a:pt x="6650" y="11"/>
                    <a:pt x="6662" y="0"/>
                    <a:pt x="6675" y="0"/>
                  </a:cubicBezTo>
                  <a:close/>
                  <a:moveTo>
                    <a:pt x="7225" y="0"/>
                  </a:moveTo>
                  <a:lnTo>
                    <a:pt x="7226" y="0"/>
                  </a:lnTo>
                  <a:cubicBezTo>
                    <a:pt x="7239" y="0"/>
                    <a:pt x="7251" y="11"/>
                    <a:pt x="7251" y="25"/>
                  </a:cubicBezTo>
                  <a:cubicBezTo>
                    <a:pt x="7251" y="39"/>
                    <a:pt x="7239" y="50"/>
                    <a:pt x="7226" y="50"/>
                  </a:cubicBezTo>
                  <a:lnTo>
                    <a:pt x="7225" y="50"/>
                  </a:lnTo>
                  <a:cubicBezTo>
                    <a:pt x="7212" y="50"/>
                    <a:pt x="7200" y="39"/>
                    <a:pt x="7200" y="25"/>
                  </a:cubicBezTo>
                  <a:cubicBezTo>
                    <a:pt x="7200" y="11"/>
                    <a:pt x="7212" y="0"/>
                    <a:pt x="7225" y="0"/>
                  </a:cubicBezTo>
                  <a:close/>
                  <a:moveTo>
                    <a:pt x="7426" y="0"/>
                  </a:moveTo>
                  <a:lnTo>
                    <a:pt x="7426" y="0"/>
                  </a:lnTo>
                  <a:cubicBezTo>
                    <a:pt x="7439" y="0"/>
                    <a:pt x="7451" y="11"/>
                    <a:pt x="7451" y="25"/>
                  </a:cubicBezTo>
                  <a:cubicBezTo>
                    <a:pt x="7451" y="39"/>
                    <a:pt x="7439" y="50"/>
                    <a:pt x="7426" y="50"/>
                  </a:cubicBezTo>
                  <a:lnTo>
                    <a:pt x="7426" y="50"/>
                  </a:lnTo>
                  <a:cubicBezTo>
                    <a:pt x="7412" y="50"/>
                    <a:pt x="7401" y="39"/>
                    <a:pt x="7401" y="25"/>
                  </a:cubicBezTo>
                  <a:cubicBezTo>
                    <a:pt x="7401" y="11"/>
                    <a:pt x="7412" y="0"/>
                    <a:pt x="7426" y="0"/>
                  </a:cubicBezTo>
                  <a:close/>
                  <a:moveTo>
                    <a:pt x="7626" y="0"/>
                  </a:moveTo>
                  <a:lnTo>
                    <a:pt x="7976" y="0"/>
                  </a:lnTo>
                  <a:cubicBezTo>
                    <a:pt x="7989" y="0"/>
                    <a:pt x="8001" y="11"/>
                    <a:pt x="8001" y="25"/>
                  </a:cubicBezTo>
                  <a:cubicBezTo>
                    <a:pt x="8001" y="39"/>
                    <a:pt x="7989" y="50"/>
                    <a:pt x="7976" y="50"/>
                  </a:cubicBezTo>
                  <a:lnTo>
                    <a:pt x="7626" y="50"/>
                  </a:lnTo>
                  <a:cubicBezTo>
                    <a:pt x="7612" y="50"/>
                    <a:pt x="7601" y="39"/>
                    <a:pt x="7601" y="25"/>
                  </a:cubicBezTo>
                  <a:cubicBezTo>
                    <a:pt x="7601" y="11"/>
                    <a:pt x="7612" y="0"/>
                    <a:pt x="7626" y="0"/>
                  </a:cubicBezTo>
                  <a:close/>
                  <a:moveTo>
                    <a:pt x="8176" y="0"/>
                  </a:moveTo>
                  <a:lnTo>
                    <a:pt x="8176" y="0"/>
                  </a:lnTo>
                  <a:cubicBezTo>
                    <a:pt x="8189" y="0"/>
                    <a:pt x="8201" y="11"/>
                    <a:pt x="8201" y="25"/>
                  </a:cubicBezTo>
                  <a:cubicBezTo>
                    <a:pt x="8201" y="39"/>
                    <a:pt x="8189" y="50"/>
                    <a:pt x="8176" y="50"/>
                  </a:cubicBezTo>
                  <a:lnTo>
                    <a:pt x="8176" y="50"/>
                  </a:lnTo>
                  <a:cubicBezTo>
                    <a:pt x="8162" y="50"/>
                    <a:pt x="8151" y="39"/>
                    <a:pt x="8151" y="25"/>
                  </a:cubicBezTo>
                  <a:cubicBezTo>
                    <a:pt x="8151" y="11"/>
                    <a:pt x="8162" y="0"/>
                    <a:pt x="8176" y="0"/>
                  </a:cubicBezTo>
                  <a:close/>
                  <a:moveTo>
                    <a:pt x="8376" y="0"/>
                  </a:moveTo>
                  <a:lnTo>
                    <a:pt x="8376" y="0"/>
                  </a:lnTo>
                  <a:cubicBezTo>
                    <a:pt x="8390" y="0"/>
                    <a:pt x="8401" y="11"/>
                    <a:pt x="8401" y="25"/>
                  </a:cubicBezTo>
                  <a:cubicBezTo>
                    <a:pt x="8401" y="39"/>
                    <a:pt x="8390" y="50"/>
                    <a:pt x="8376" y="50"/>
                  </a:cubicBezTo>
                  <a:lnTo>
                    <a:pt x="8376" y="50"/>
                  </a:lnTo>
                  <a:cubicBezTo>
                    <a:pt x="8362" y="50"/>
                    <a:pt x="8351" y="39"/>
                    <a:pt x="8351" y="25"/>
                  </a:cubicBezTo>
                  <a:cubicBezTo>
                    <a:pt x="8351" y="11"/>
                    <a:pt x="8362" y="0"/>
                    <a:pt x="8376" y="0"/>
                  </a:cubicBezTo>
                  <a:close/>
                  <a:moveTo>
                    <a:pt x="8576" y="0"/>
                  </a:moveTo>
                  <a:lnTo>
                    <a:pt x="8926" y="0"/>
                  </a:lnTo>
                  <a:cubicBezTo>
                    <a:pt x="8940" y="0"/>
                    <a:pt x="8951" y="11"/>
                    <a:pt x="8951" y="25"/>
                  </a:cubicBezTo>
                  <a:cubicBezTo>
                    <a:pt x="8951" y="39"/>
                    <a:pt x="8940" y="50"/>
                    <a:pt x="8926" y="50"/>
                  </a:cubicBezTo>
                  <a:lnTo>
                    <a:pt x="8576" y="50"/>
                  </a:lnTo>
                  <a:cubicBezTo>
                    <a:pt x="8562" y="50"/>
                    <a:pt x="8551" y="39"/>
                    <a:pt x="8551" y="25"/>
                  </a:cubicBezTo>
                  <a:cubicBezTo>
                    <a:pt x="8551" y="11"/>
                    <a:pt x="8562" y="0"/>
                    <a:pt x="8576" y="0"/>
                  </a:cubicBezTo>
                  <a:close/>
                  <a:moveTo>
                    <a:pt x="9126" y="0"/>
                  </a:moveTo>
                  <a:lnTo>
                    <a:pt x="9126" y="0"/>
                  </a:lnTo>
                  <a:cubicBezTo>
                    <a:pt x="9140" y="0"/>
                    <a:pt x="9151" y="11"/>
                    <a:pt x="9151" y="25"/>
                  </a:cubicBezTo>
                  <a:cubicBezTo>
                    <a:pt x="9151" y="39"/>
                    <a:pt x="9140" y="50"/>
                    <a:pt x="9126" y="50"/>
                  </a:cubicBezTo>
                  <a:lnTo>
                    <a:pt x="9126" y="50"/>
                  </a:lnTo>
                  <a:cubicBezTo>
                    <a:pt x="9112" y="50"/>
                    <a:pt x="9101" y="39"/>
                    <a:pt x="9101" y="25"/>
                  </a:cubicBezTo>
                  <a:cubicBezTo>
                    <a:pt x="9101" y="11"/>
                    <a:pt x="9112" y="0"/>
                    <a:pt x="9126" y="0"/>
                  </a:cubicBezTo>
                  <a:close/>
                  <a:moveTo>
                    <a:pt x="9326" y="0"/>
                  </a:moveTo>
                  <a:lnTo>
                    <a:pt x="9326" y="0"/>
                  </a:lnTo>
                  <a:cubicBezTo>
                    <a:pt x="9340" y="0"/>
                    <a:pt x="9351" y="11"/>
                    <a:pt x="9351" y="25"/>
                  </a:cubicBezTo>
                  <a:cubicBezTo>
                    <a:pt x="9351" y="39"/>
                    <a:pt x="9340" y="50"/>
                    <a:pt x="9326" y="50"/>
                  </a:cubicBezTo>
                  <a:lnTo>
                    <a:pt x="9326" y="50"/>
                  </a:lnTo>
                  <a:cubicBezTo>
                    <a:pt x="9312" y="50"/>
                    <a:pt x="9301" y="39"/>
                    <a:pt x="9301" y="25"/>
                  </a:cubicBezTo>
                  <a:cubicBezTo>
                    <a:pt x="9301" y="11"/>
                    <a:pt x="9312" y="0"/>
                    <a:pt x="9326" y="0"/>
                  </a:cubicBezTo>
                  <a:close/>
                  <a:moveTo>
                    <a:pt x="9526" y="0"/>
                  </a:moveTo>
                  <a:lnTo>
                    <a:pt x="9876" y="0"/>
                  </a:lnTo>
                  <a:cubicBezTo>
                    <a:pt x="9890" y="0"/>
                    <a:pt x="9901" y="11"/>
                    <a:pt x="9901" y="25"/>
                  </a:cubicBezTo>
                  <a:cubicBezTo>
                    <a:pt x="9901" y="39"/>
                    <a:pt x="9890" y="50"/>
                    <a:pt x="9876" y="50"/>
                  </a:cubicBezTo>
                  <a:lnTo>
                    <a:pt x="9526" y="50"/>
                  </a:lnTo>
                  <a:cubicBezTo>
                    <a:pt x="9512" y="50"/>
                    <a:pt x="9501" y="39"/>
                    <a:pt x="9501" y="25"/>
                  </a:cubicBezTo>
                  <a:cubicBezTo>
                    <a:pt x="9501" y="11"/>
                    <a:pt x="9512" y="0"/>
                    <a:pt x="9526" y="0"/>
                  </a:cubicBezTo>
                  <a:close/>
                  <a:moveTo>
                    <a:pt x="10076" y="0"/>
                  </a:moveTo>
                  <a:lnTo>
                    <a:pt x="10076" y="0"/>
                  </a:lnTo>
                  <a:cubicBezTo>
                    <a:pt x="10090" y="0"/>
                    <a:pt x="10101" y="11"/>
                    <a:pt x="10101" y="25"/>
                  </a:cubicBezTo>
                  <a:cubicBezTo>
                    <a:pt x="10101" y="39"/>
                    <a:pt x="10090" y="50"/>
                    <a:pt x="10076" y="50"/>
                  </a:cubicBezTo>
                  <a:lnTo>
                    <a:pt x="10076" y="50"/>
                  </a:lnTo>
                  <a:cubicBezTo>
                    <a:pt x="10062" y="50"/>
                    <a:pt x="10051" y="39"/>
                    <a:pt x="10051" y="25"/>
                  </a:cubicBezTo>
                  <a:cubicBezTo>
                    <a:pt x="10051" y="11"/>
                    <a:pt x="10062" y="0"/>
                    <a:pt x="10076" y="0"/>
                  </a:cubicBezTo>
                  <a:close/>
                  <a:moveTo>
                    <a:pt x="10276" y="0"/>
                  </a:moveTo>
                  <a:lnTo>
                    <a:pt x="10276" y="0"/>
                  </a:lnTo>
                  <a:cubicBezTo>
                    <a:pt x="10290" y="0"/>
                    <a:pt x="10301" y="11"/>
                    <a:pt x="10301" y="25"/>
                  </a:cubicBezTo>
                  <a:cubicBezTo>
                    <a:pt x="10301" y="39"/>
                    <a:pt x="10290" y="50"/>
                    <a:pt x="10276" y="50"/>
                  </a:cubicBezTo>
                  <a:lnTo>
                    <a:pt x="10276" y="50"/>
                  </a:lnTo>
                  <a:cubicBezTo>
                    <a:pt x="10262" y="50"/>
                    <a:pt x="10251" y="39"/>
                    <a:pt x="10251" y="25"/>
                  </a:cubicBezTo>
                  <a:cubicBezTo>
                    <a:pt x="10251" y="11"/>
                    <a:pt x="10262" y="0"/>
                    <a:pt x="10276" y="0"/>
                  </a:cubicBezTo>
                  <a:close/>
                  <a:moveTo>
                    <a:pt x="10476" y="0"/>
                  </a:moveTo>
                  <a:lnTo>
                    <a:pt x="10826" y="0"/>
                  </a:lnTo>
                  <a:cubicBezTo>
                    <a:pt x="10840" y="0"/>
                    <a:pt x="10851" y="11"/>
                    <a:pt x="10851" y="25"/>
                  </a:cubicBezTo>
                  <a:cubicBezTo>
                    <a:pt x="10851" y="39"/>
                    <a:pt x="10840" y="50"/>
                    <a:pt x="10826" y="50"/>
                  </a:cubicBezTo>
                  <a:lnTo>
                    <a:pt x="10476" y="50"/>
                  </a:lnTo>
                  <a:cubicBezTo>
                    <a:pt x="10462" y="50"/>
                    <a:pt x="10451" y="39"/>
                    <a:pt x="10451" y="25"/>
                  </a:cubicBezTo>
                  <a:cubicBezTo>
                    <a:pt x="10451" y="11"/>
                    <a:pt x="10462" y="0"/>
                    <a:pt x="10476" y="0"/>
                  </a:cubicBezTo>
                  <a:close/>
                  <a:moveTo>
                    <a:pt x="11026" y="0"/>
                  </a:moveTo>
                  <a:lnTo>
                    <a:pt x="11026" y="0"/>
                  </a:lnTo>
                  <a:cubicBezTo>
                    <a:pt x="11040" y="0"/>
                    <a:pt x="11051" y="11"/>
                    <a:pt x="11051" y="25"/>
                  </a:cubicBezTo>
                  <a:cubicBezTo>
                    <a:pt x="11051" y="39"/>
                    <a:pt x="11040" y="50"/>
                    <a:pt x="11026" y="50"/>
                  </a:cubicBezTo>
                  <a:lnTo>
                    <a:pt x="11026" y="50"/>
                  </a:lnTo>
                  <a:cubicBezTo>
                    <a:pt x="11012" y="50"/>
                    <a:pt x="11001" y="39"/>
                    <a:pt x="11001" y="25"/>
                  </a:cubicBezTo>
                  <a:cubicBezTo>
                    <a:pt x="11001" y="11"/>
                    <a:pt x="11012" y="0"/>
                    <a:pt x="11026" y="0"/>
                  </a:cubicBezTo>
                  <a:close/>
                  <a:moveTo>
                    <a:pt x="11226" y="0"/>
                  </a:moveTo>
                  <a:lnTo>
                    <a:pt x="11226" y="0"/>
                  </a:lnTo>
                  <a:cubicBezTo>
                    <a:pt x="11240" y="0"/>
                    <a:pt x="11251" y="11"/>
                    <a:pt x="11251" y="25"/>
                  </a:cubicBezTo>
                  <a:cubicBezTo>
                    <a:pt x="11251" y="39"/>
                    <a:pt x="11240" y="50"/>
                    <a:pt x="11226" y="50"/>
                  </a:cubicBezTo>
                  <a:lnTo>
                    <a:pt x="11226" y="50"/>
                  </a:lnTo>
                  <a:cubicBezTo>
                    <a:pt x="11212" y="50"/>
                    <a:pt x="11201" y="39"/>
                    <a:pt x="11201" y="25"/>
                  </a:cubicBezTo>
                  <a:cubicBezTo>
                    <a:pt x="11201" y="11"/>
                    <a:pt x="11212" y="0"/>
                    <a:pt x="11226" y="0"/>
                  </a:cubicBezTo>
                  <a:close/>
                  <a:moveTo>
                    <a:pt x="11426" y="0"/>
                  </a:moveTo>
                  <a:lnTo>
                    <a:pt x="11776" y="0"/>
                  </a:lnTo>
                  <a:cubicBezTo>
                    <a:pt x="11790" y="0"/>
                    <a:pt x="11801" y="11"/>
                    <a:pt x="11801" y="25"/>
                  </a:cubicBezTo>
                  <a:cubicBezTo>
                    <a:pt x="11801" y="39"/>
                    <a:pt x="11790" y="50"/>
                    <a:pt x="11776" y="50"/>
                  </a:cubicBezTo>
                  <a:lnTo>
                    <a:pt x="11426" y="50"/>
                  </a:lnTo>
                  <a:cubicBezTo>
                    <a:pt x="11412" y="50"/>
                    <a:pt x="11401" y="39"/>
                    <a:pt x="11401" y="25"/>
                  </a:cubicBezTo>
                  <a:cubicBezTo>
                    <a:pt x="11401" y="11"/>
                    <a:pt x="11412" y="0"/>
                    <a:pt x="11426" y="0"/>
                  </a:cubicBezTo>
                  <a:close/>
                  <a:moveTo>
                    <a:pt x="11976" y="0"/>
                  </a:moveTo>
                  <a:lnTo>
                    <a:pt x="11976" y="0"/>
                  </a:lnTo>
                  <a:cubicBezTo>
                    <a:pt x="11990" y="0"/>
                    <a:pt x="12001" y="11"/>
                    <a:pt x="12001" y="25"/>
                  </a:cubicBezTo>
                  <a:cubicBezTo>
                    <a:pt x="12001" y="39"/>
                    <a:pt x="11990" y="50"/>
                    <a:pt x="11976" y="50"/>
                  </a:cubicBezTo>
                  <a:lnTo>
                    <a:pt x="11976" y="50"/>
                  </a:lnTo>
                  <a:cubicBezTo>
                    <a:pt x="11962" y="50"/>
                    <a:pt x="11951" y="39"/>
                    <a:pt x="11951" y="25"/>
                  </a:cubicBezTo>
                  <a:cubicBezTo>
                    <a:pt x="11951" y="11"/>
                    <a:pt x="11962" y="0"/>
                    <a:pt x="11976" y="0"/>
                  </a:cubicBezTo>
                  <a:close/>
                  <a:moveTo>
                    <a:pt x="12176" y="0"/>
                  </a:moveTo>
                  <a:lnTo>
                    <a:pt x="12176" y="0"/>
                  </a:lnTo>
                  <a:cubicBezTo>
                    <a:pt x="12190" y="0"/>
                    <a:pt x="12201" y="11"/>
                    <a:pt x="12201" y="25"/>
                  </a:cubicBezTo>
                  <a:cubicBezTo>
                    <a:pt x="12201" y="39"/>
                    <a:pt x="12190" y="50"/>
                    <a:pt x="12176" y="50"/>
                  </a:cubicBezTo>
                  <a:lnTo>
                    <a:pt x="12176" y="50"/>
                  </a:lnTo>
                  <a:cubicBezTo>
                    <a:pt x="12162" y="50"/>
                    <a:pt x="12151" y="39"/>
                    <a:pt x="12151" y="25"/>
                  </a:cubicBezTo>
                  <a:cubicBezTo>
                    <a:pt x="12151" y="11"/>
                    <a:pt x="12162" y="0"/>
                    <a:pt x="12176" y="0"/>
                  </a:cubicBezTo>
                  <a:close/>
                  <a:moveTo>
                    <a:pt x="12376" y="0"/>
                  </a:moveTo>
                  <a:lnTo>
                    <a:pt x="12435" y="0"/>
                  </a:lnTo>
                  <a:cubicBezTo>
                    <a:pt x="12449" y="0"/>
                    <a:pt x="12460" y="11"/>
                    <a:pt x="12460" y="25"/>
                  </a:cubicBezTo>
                  <a:cubicBezTo>
                    <a:pt x="12460" y="39"/>
                    <a:pt x="12449" y="50"/>
                    <a:pt x="12435" y="50"/>
                  </a:cubicBezTo>
                  <a:lnTo>
                    <a:pt x="12376" y="50"/>
                  </a:lnTo>
                  <a:cubicBezTo>
                    <a:pt x="12362" y="50"/>
                    <a:pt x="12351" y="39"/>
                    <a:pt x="12351" y="25"/>
                  </a:cubicBezTo>
                  <a:cubicBezTo>
                    <a:pt x="12351" y="11"/>
                    <a:pt x="12362" y="0"/>
                    <a:pt x="1237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3"/>
            <p:cNvSpPr/>
            <p:nvPr/>
          </p:nvSpPr>
          <p:spPr>
            <a:xfrm>
              <a:off x="6087600" y="2778840"/>
              <a:ext cx="179280" cy="16812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800" y="27"/>
                  </a:moveTo>
                  <a:lnTo>
                    <a:pt x="796" y="99"/>
                  </a:lnTo>
                  <a:lnTo>
                    <a:pt x="785" y="171"/>
                  </a:lnTo>
                  <a:lnTo>
                    <a:pt x="766" y="241"/>
                  </a:lnTo>
                  <a:lnTo>
                    <a:pt x="740" y="308"/>
                  </a:lnTo>
                  <a:lnTo>
                    <a:pt x="707" y="371"/>
                  </a:lnTo>
                  <a:lnTo>
                    <a:pt x="706" y="374"/>
                  </a:lnTo>
                  <a:cubicBezTo>
                    <a:pt x="698" y="385"/>
                    <a:pt x="683" y="388"/>
                    <a:pt x="671" y="381"/>
                  </a:cubicBezTo>
                  <a:cubicBezTo>
                    <a:pt x="659" y="373"/>
                    <a:pt x="656" y="358"/>
                    <a:pt x="664" y="346"/>
                  </a:cubicBezTo>
                  <a:lnTo>
                    <a:pt x="663" y="348"/>
                  </a:lnTo>
                  <a:lnTo>
                    <a:pt x="663" y="348"/>
                  </a:lnTo>
                  <a:lnTo>
                    <a:pt x="693" y="289"/>
                  </a:lnTo>
                  <a:lnTo>
                    <a:pt x="718" y="227"/>
                  </a:lnTo>
                  <a:lnTo>
                    <a:pt x="736" y="163"/>
                  </a:lnTo>
                  <a:lnTo>
                    <a:pt x="747" y="96"/>
                  </a:lnTo>
                  <a:lnTo>
                    <a:pt x="751" y="25"/>
                  </a:lnTo>
                  <a:cubicBezTo>
                    <a:pt x="751" y="11"/>
                    <a:pt x="763" y="0"/>
                    <a:pt x="777" y="1"/>
                  </a:cubicBezTo>
                  <a:cubicBezTo>
                    <a:pt x="791" y="2"/>
                    <a:pt x="801" y="14"/>
                    <a:pt x="800" y="27"/>
                  </a:cubicBezTo>
                  <a:close/>
                  <a:moveTo>
                    <a:pt x="578" y="534"/>
                  </a:moveTo>
                  <a:lnTo>
                    <a:pt x="578" y="534"/>
                  </a:lnTo>
                  <a:cubicBezTo>
                    <a:pt x="569" y="544"/>
                    <a:pt x="553" y="544"/>
                    <a:pt x="543" y="534"/>
                  </a:cubicBezTo>
                  <a:cubicBezTo>
                    <a:pt x="533" y="524"/>
                    <a:pt x="533" y="508"/>
                    <a:pt x="543" y="498"/>
                  </a:cubicBezTo>
                  <a:lnTo>
                    <a:pt x="543" y="498"/>
                  </a:lnTo>
                  <a:cubicBezTo>
                    <a:pt x="553" y="489"/>
                    <a:pt x="569" y="489"/>
                    <a:pt x="578" y="498"/>
                  </a:cubicBezTo>
                  <a:cubicBezTo>
                    <a:pt x="588" y="508"/>
                    <a:pt x="588" y="524"/>
                    <a:pt x="578" y="534"/>
                  </a:cubicBezTo>
                  <a:close/>
                  <a:moveTo>
                    <a:pt x="411" y="654"/>
                  </a:moveTo>
                  <a:lnTo>
                    <a:pt x="411" y="654"/>
                  </a:lnTo>
                  <a:cubicBezTo>
                    <a:pt x="399" y="661"/>
                    <a:pt x="383" y="657"/>
                    <a:pt x="377" y="644"/>
                  </a:cubicBezTo>
                  <a:cubicBezTo>
                    <a:pt x="370" y="632"/>
                    <a:pt x="375" y="617"/>
                    <a:pt x="387" y="611"/>
                  </a:cubicBezTo>
                  <a:lnTo>
                    <a:pt x="387" y="611"/>
                  </a:lnTo>
                  <a:cubicBezTo>
                    <a:pt x="399" y="604"/>
                    <a:pt x="414" y="608"/>
                    <a:pt x="421" y="621"/>
                  </a:cubicBezTo>
                  <a:cubicBezTo>
                    <a:pt x="427" y="633"/>
                    <a:pt x="423" y="648"/>
                    <a:pt x="411" y="654"/>
                  </a:cubicBezTo>
                  <a:close/>
                  <a:moveTo>
                    <a:pt x="218" y="728"/>
                  </a:moveTo>
                  <a:lnTo>
                    <a:pt x="182" y="736"/>
                  </a:lnTo>
                  <a:lnTo>
                    <a:pt x="105" y="747"/>
                  </a:lnTo>
                  <a:lnTo>
                    <a:pt x="27" y="751"/>
                  </a:lnTo>
                  <a:cubicBezTo>
                    <a:pt x="13" y="752"/>
                    <a:pt x="1" y="741"/>
                    <a:pt x="0" y="727"/>
                  </a:cubicBezTo>
                  <a:cubicBezTo>
                    <a:pt x="0" y="713"/>
                    <a:pt x="11" y="702"/>
                    <a:pt x="24" y="701"/>
                  </a:cubicBezTo>
                  <a:lnTo>
                    <a:pt x="98" y="698"/>
                  </a:lnTo>
                  <a:lnTo>
                    <a:pt x="171" y="688"/>
                  </a:lnTo>
                  <a:lnTo>
                    <a:pt x="206" y="679"/>
                  </a:lnTo>
                  <a:cubicBezTo>
                    <a:pt x="220" y="676"/>
                    <a:pt x="233" y="684"/>
                    <a:pt x="237" y="697"/>
                  </a:cubicBezTo>
                  <a:cubicBezTo>
                    <a:pt x="240" y="711"/>
                    <a:pt x="232" y="724"/>
                    <a:pt x="218" y="7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4"/>
            <p:cNvSpPr/>
            <p:nvPr/>
          </p:nvSpPr>
          <p:spPr>
            <a:xfrm>
              <a:off x="6254640" y="2627640"/>
              <a:ext cx="178920" cy="16812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1" y="725"/>
                  </a:moveTo>
                  <a:lnTo>
                    <a:pt x="5" y="653"/>
                  </a:lnTo>
                  <a:lnTo>
                    <a:pt x="16" y="581"/>
                  </a:lnTo>
                  <a:lnTo>
                    <a:pt x="35" y="511"/>
                  </a:lnTo>
                  <a:lnTo>
                    <a:pt x="61" y="444"/>
                  </a:lnTo>
                  <a:lnTo>
                    <a:pt x="94" y="381"/>
                  </a:lnTo>
                  <a:lnTo>
                    <a:pt x="95" y="379"/>
                  </a:lnTo>
                  <a:cubicBezTo>
                    <a:pt x="103" y="367"/>
                    <a:pt x="118" y="364"/>
                    <a:pt x="130" y="371"/>
                  </a:cubicBezTo>
                  <a:cubicBezTo>
                    <a:pt x="141" y="379"/>
                    <a:pt x="145" y="394"/>
                    <a:pt x="137" y="406"/>
                  </a:cubicBezTo>
                  <a:lnTo>
                    <a:pt x="138" y="404"/>
                  </a:lnTo>
                  <a:lnTo>
                    <a:pt x="138" y="404"/>
                  </a:lnTo>
                  <a:lnTo>
                    <a:pt x="108" y="463"/>
                  </a:lnTo>
                  <a:lnTo>
                    <a:pt x="83" y="525"/>
                  </a:lnTo>
                  <a:lnTo>
                    <a:pt x="65" y="589"/>
                  </a:lnTo>
                  <a:lnTo>
                    <a:pt x="54" y="656"/>
                  </a:lnTo>
                  <a:lnTo>
                    <a:pt x="50" y="727"/>
                  </a:lnTo>
                  <a:cubicBezTo>
                    <a:pt x="50" y="741"/>
                    <a:pt x="38" y="752"/>
                    <a:pt x="24" y="751"/>
                  </a:cubicBezTo>
                  <a:cubicBezTo>
                    <a:pt x="10" y="750"/>
                    <a:pt x="0" y="738"/>
                    <a:pt x="1" y="725"/>
                  </a:cubicBezTo>
                  <a:close/>
                  <a:moveTo>
                    <a:pt x="222" y="219"/>
                  </a:moveTo>
                  <a:lnTo>
                    <a:pt x="222" y="219"/>
                  </a:lnTo>
                  <a:cubicBezTo>
                    <a:pt x="231" y="209"/>
                    <a:pt x="247" y="208"/>
                    <a:pt x="257" y="217"/>
                  </a:cubicBezTo>
                  <a:cubicBezTo>
                    <a:pt x="267" y="227"/>
                    <a:pt x="268" y="243"/>
                    <a:pt x="259" y="253"/>
                  </a:cubicBezTo>
                  <a:lnTo>
                    <a:pt x="259" y="253"/>
                  </a:lnTo>
                  <a:cubicBezTo>
                    <a:pt x="249" y="263"/>
                    <a:pt x="233" y="264"/>
                    <a:pt x="223" y="254"/>
                  </a:cubicBezTo>
                  <a:cubicBezTo>
                    <a:pt x="213" y="245"/>
                    <a:pt x="212" y="229"/>
                    <a:pt x="222" y="219"/>
                  </a:cubicBezTo>
                  <a:close/>
                  <a:moveTo>
                    <a:pt x="390" y="98"/>
                  </a:moveTo>
                  <a:lnTo>
                    <a:pt x="390" y="98"/>
                  </a:lnTo>
                  <a:cubicBezTo>
                    <a:pt x="402" y="91"/>
                    <a:pt x="417" y="95"/>
                    <a:pt x="424" y="107"/>
                  </a:cubicBezTo>
                  <a:cubicBezTo>
                    <a:pt x="431" y="119"/>
                    <a:pt x="427" y="134"/>
                    <a:pt x="415" y="141"/>
                  </a:cubicBezTo>
                  <a:lnTo>
                    <a:pt x="415" y="141"/>
                  </a:lnTo>
                  <a:cubicBezTo>
                    <a:pt x="403" y="148"/>
                    <a:pt x="387" y="144"/>
                    <a:pt x="380" y="132"/>
                  </a:cubicBezTo>
                  <a:cubicBezTo>
                    <a:pt x="374" y="120"/>
                    <a:pt x="378" y="105"/>
                    <a:pt x="390" y="98"/>
                  </a:cubicBezTo>
                  <a:close/>
                  <a:moveTo>
                    <a:pt x="583" y="24"/>
                  </a:moveTo>
                  <a:lnTo>
                    <a:pt x="619" y="16"/>
                  </a:lnTo>
                  <a:lnTo>
                    <a:pt x="695" y="5"/>
                  </a:lnTo>
                  <a:lnTo>
                    <a:pt x="774" y="1"/>
                  </a:lnTo>
                  <a:cubicBezTo>
                    <a:pt x="788" y="0"/>
                    <a:pt x="800" y="11"/>
                    <a:pt x="800" y="25"/>
                  </a:cubicBezTo>
                  <a:cubicBezTo>
                    <a:pt x="801" y="39"/>
                    <a:pt x="790" y="50"/>
                    <a:pt x="777" y="51"/>
                  </a:cubicBezTo>
                  <a:lnTo>
                    <a:pt x="702" y="54"/>
                  </a:lnTo>
                  <a:lnTo>
                    <a:pt x="630" y="64"/>
                  </a:lnTo>
                  <a:lnTo>
                    <a:pt x="594" y="73"/>
                  </a:lnTo>
                  <a:cubicBezTo>
                    <a:pt x="581" y="76"/>
                    <a:pt x="567" y="68"/>
                    <a:pt x="564" y="55"/>
                  </a:cubicBezTo>
                  <a:cubicBezTo>
                    <a:pt x="561" y="41"/>
                    <a:pt x="569" y="28"/>
                    <a:pt x="583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5"/>
            <p:cNvSpPr/>
            <p:nvPr/>
          </p:nvSpPr>
          <p:spPr>
            <a:xfrm>
              <a:off x="6421680" y="2619720"/>
              <a:ext cx="1084680" cy="19800"/>
            </a:xfrm>
            <a:custGeom>
              <a:avLst/>
              <a:gdLst/>
              <a:ahLst/>
              <a:rect l="l" t="t" r="r" b="b"/>
              <a:pathLst>
                <a:path w="4874" h="87">
                  <a:moveTo>
                    <a:pt x="25" y="37"/>
                  </a:moveTo>
                  <a:lnTo>
                    <a:pt x="375" y="34"/>
                  </a:lnTo>
                  <a:cubicBezTo>
                    <a:pt x="389" y="34"/>
                    <a:pt x="400" y="45"/>
                    <a:pt x="400" y="59"/>
                  </a:cubicBezTo>
                  <a:cubicBezTo>
                    <a:pt x="400" y="73"/>
                    <a:pt x="389" y="84"/>
                    <a:pt x="375" y="84"/>
                  </a:cubicBezTo>
                  <a:lnTo>
                    <a:pt x="25" y="87"/>
                  </a:lnTo>
                  <a:cubicBezTo>
                    <a:pt x="12" y="87"/>
                    <a:pt x="0" y="76"/>
                    <a:pt x="0" y="62"/>
                  </a:cubicBezTo>
                  <a:cubicBezTo>
                    <a:pt x="0" y="48"/>
                    <a:pt x="11" y="37"/>
                    <a:pt x="25" y="37"/>
                  </a:cubicBezTo>
                  <a:close/>
                  <a:moveTo>
                    <a:pt x="575" y="33"/>
                  </a:moveTo>
                  <a:lnTo>
                    <a:pt x="575" y="33"/>
                  </a:lnTo>
                  <a:cubicBezTo>
                    <a:pt x="589" y="32"/>
                    <a:pt x="600" y="44"/>
                    <a:pt x="600" y="57"/>
                  </a:cubicBezTo>
                  <a:cubicBezTo>
                    <a:pt x="600" y="71"/>
                    <a:pt x="589" y="82"/>
                    <a:pt x="575" y="83"/>
                  </a:cubicBezTo>
                  <a:lnTo>
                    <a:pt x="575" y="83"/>
                  </a:lnTo>
                  <a:cubicBezTo>
                    <a:pt x="562" y="83"/>
                    <a:pt x="550" y="72"/>
                    <a:pt x="550" y="58"/>
                  </a:cubicBezTo>
                  <a:cubicBezTo>
                    <a:pt x="550" y="44"/>
                    <a:pt x="561" y="33"/>
                    <a:pt x="575" y="33"/>
                  </a:cubicBezTo>
                  <a:close/>
                  <a:moveTo>
                    <a:pt x="775" y="31"/>
                  </a:moveTo>
                  <a:lnTo>
                    <a:pt x="775" y="31"/>
                  </a:lnTo>
                  <a:cubicBezTo>
                    <a:pt x="789" y="31"/>
                    <a:pt x="800" y="42"/>
                    <a:pt x="800" y="56"/>
                  </a:cubicBezTo>
                  <a:cubicBezTo>
                    <a:pt x="800" y="70"/>
                    <a:pt x="789" y="81"/>
                    <a:pt x="775" y="81"/>
                  </a:cubicBezTo>
                  <a:lnTo>
                    <a:pt x="775" y="81"/>
                  </a:lnTo>
                  <a:cubicBezTo>
                    <a:pt x="762" y="81"/>
                    <a:pt x="750" y="70"/>
                    <a:pt x="750" y="56"/>
                  </a:cubicBezTo>
                  <a:cubicBezTo>
                    <a:pt x="750" y="43"/>
                    <a:pt x="761" y="31"/>
                    <a:pt x="775" y="31"/>
                  </a:cubicBezTo>
                  <a:close/>
                  <a:moveTo>
                    <a:pt x="975" y="30"/>
                  </a:moveTo>
                  <a:lnTo>
                    <a:pt x="1325" y="27"/>
                  </a:lnTo>
                  <a:cubicBezTo>
                    <a:pt x="1339" y="27"/>
                    <a:pt x="1350" y="38"/>
                    <a:pt x="1350" y="52"/>
                  </a:cubicBezTo>
                  <a:cubicBezTo>
                    <a:pt x="1350" y="66"/>
                    <a:pt x="1339" y="77"/>
                    <a:pt x="1325" y="77"/>
                  </a:cubicBezTo>
                  <a:lnTo>
                    <a:pt x="975" y="80"/>
                  </a:lnTo>
                  <a:cubicBezTo>
                    <a:pt x="962" y="80"/>
                    <a:pt x="950" y="69"/>
                    <a:pt x="950" y="55"/>
                  </a:cubicBezTo>
                  <a:cubicBezTo>
                    <a:pt x="950" y="41"/>
                    <a:pt x="961" y="30"/>
                    <a:pt x="975" y="30"/>
                  </a:cubicBezTo>
                  <a:close/>
                  <a:moveTo>
                    <a:pt x="1525" y="25"/>
                  </a:moveTo>
                  <a:lnTo>
                    <a:pt x="1525" y="25"/>
                  </a:lnTo>
                  <a:cubicBezTo>
                    <a:pt x="1539" y="25"/>
                    <a:pt x="1550" y="36"/>
                    <a:pt x="1550" y="50"/>
                  </a:cubicBezTo>
                  <a:cubicBezTo>
                    <a:pt x="1550" y="64"/>
                    <a:pt x="1539" y="75"/>
                    <a:pt x="1525" y="75"/>
                  </a:cubicBezTo>
                  <a:lnTo>
                    <a:pt x="1525" y="75"/>
                  </a:lnTo>
                  <a:cubicBezTo>
                    <a:pt x="1512" y="76"/>
                    <a:pt x="1500" y="64"/>
                    <a:pt x="1500" y="51"/>
                  </a:cubicBezTo>
                  <a:cubicBezTo>
                    <a:pt x="1500" y="37"/>
                    <a:pt x="1511" y="26"/>
                    <a:pt x="1525" y="25"/>
                  </a:cubicBezTo>
                  <a:close/>
                  <a:moveTo>
                    <a:pt x="1725" y="24"/>
                  </a:moveTo>
                  <a:lnTo>
                    <a:pt x="1725" y="24"/>
                  </a:lnTo>
                  <a:cubicBezTo>
                    <a:pt x="1739" y="24"/>
                    <a:pt x="1750" y="35"/>
                    <a:pt x="1750" y="49"/>
                  </a:cubicBezTo>
                  <a:cubicBezTo>
                    <a:pt x="1750" y="62"/>
                    <a:pt x="1739" y="74"/>
                    <a:pt x="1726" y="74"/>
                  </a:cubicBezTo>
                  <a:lnTo>
                    <a:pt x="1725" y="74"/>
                  </a:lnTo>
                  <a:cubicBezTo>
                    <a:pt x="1712" y="74"/>
                    <a:pt x="1700" y="63"/>
                    <a:pt x="1700" y="49"/>
                  </a:cubicBezTo>
                  <a:cubicBezTo>
                    <a:pt x="1700" y="35"/>
                    <a:pt x="1711" y="24"/>
                    <a:pt x="1725" y="24"/>
                  </a:cubicBezTo>
                  <a:close/>
                  <a:moveTo>
                    <a:pt x="1925" y="22"/>
                  </a:moveTo>
                  <a:lnTo>
                    <a:pt x="2275" y="20"/>
                  </a:lnTo>
                  <a:cubicBezTo>
                    <a:pt x="2289" y="20"/>
                    <a:pt x="2300" y="31"/>
                    <a:pt x="2300" y="45"/>
                  </a:cubicBezTo>
                  <a:cubicBezTo>
                    <a:pt x="2300" y="58"/>
                    <a:pt x="2289" y="70"/>
                    <a:pt x="2275" y="70"/>
                  </a:cubicBezTo>
                  <a:lnTo>
                    <a:pt x="1925" y="72"/>
                  </a:lnTo>
                  <a:cubicBezTo>
                    <a:pt x="1912" y="72"/>
                    <a:pt x="1900" y="61"/>
                    <a:pt x="1900" y="48"/>
                  </a:cubicBezTo>
                  <a:cubicBezTo>
                    <a:pt x="1900" y="34"/>
                    <a:pt x="1911" y="22"/>
                    <a:pt x="1925" y="22"/>
                  </a:cubicBezTo>
                  <a:close/>
                  <a:moveTo>
                    <a:pt x="2475" y="18"/>
                  </a:moveTo>
                  <a:lnTo>
                    <a:pt x="2475" y="18"/>
                  </a:lnTo>
                  <a:cubicBezTo>
                    <a:pt x="2489" y="18"/>
                    <a:pt x="2500" y="29"/>
                    <a:pt x="2500" y="43"/>
                  </a:cubicBezTo>
                  <a:cubicBezTo>
                    <a:pt x="2500" y="57"/>
                    <a:pt x="2489" y="68"/>
                    <a:pt x="2476" y="68"/>
                  </a:cubicBezTo>
                  <a:lnTo>
                    <a:pt x="2476" y="68"/>
                  </a:lnTo>
                  <a:cubicBezTo>
                    <a:pt x="2462" y="68"/>
                    <a:pt x="2450" y="57"/>
                    <a:pt x="2450" y="43"/>
                  </a:cubicBezTo>
                  <a:cubicBezTo>
                    <a:pt x="2450" y="30"/>
                    <a:pt x="2461" y="18"/>
                    <a:pt x="2475" y="18"/>
                  </a:cubicBezTo>
                  <a:close/>
                  <a:moveTo>
                    <a:pt x="2675" y="17"/>
                  </a:moveTo>
                  <a:lnTo>
                    <a:pt x="2675" y="17"/>
                  </a:lnTo>
                  <a:cubicBezTo>
                    <a:pt x="2689" y="17"/>
                    <a:pt x="2700" y="28"/>
                    <a:pt x="2700" y="41"/>
                  </a:cubicBezTo>
                  <a:cubicBezTo>
                    <a:pt x="2700" y="55"/>
                    <a:pt x="2689" y="67"/>
                    <a:pt x="2676" y="67"/>
                  </a:cubicBezTo>
                  <a:lnTo>
                    <a:pt x="2676" y="67"/>
                  </a:lnTo>
                  <a:cubicBezTo>
                    <a:pt x="2662" y="67"/>
                    <a:pt x="2650" y="56"/>
                    <a:pt x="2650" y="42"/>
                  </a:cubicBezTo>
                  <a:cubicBezTo>
                    <a:pt x="2650" y="28"/>
                    <a:pt x="2661" y="17"/>
                    <a:pt x="2675" y="17"/>
                  </a:cubicBezTo>
                  <a:close/>
                  <a:moveTo>
                    <a:pt x="2875" y="15"/>
                  </a:moveTo>
                  <a:lnTo>
                    <a:pt x="3225" y="12"/>
                  </a:lnTo>
                  <a:cubicBezTo>
                    <a:pt x="3239" y="12"/>
                    <a:pt x="3250" y="23"/>
                    <a:pt x="3250" y="37"/>
                  </a:cubicBezTo>
                  <a:cubicBezTo>
                    <a:pt x="3250" y="51"/>
                    <a:pt x="3239" y="62"/>
                    <a:pt x="3226" y="62"/>
                  </a:cubicBezTo>
                  <a:lnTo>
                    <a:pt x="2876" y="65"/>
                  </a:lnTo>
                  <a:cubicBezTo>
                    <a:pt x="2862" y="65"/>
                    <a:pt x="2850" y="54"/>
                    <a:pt x="2850" y="40"/>
                  </a:cubicBezTo>
                  <a:cubicBezTo>
                    <a:pt x="2850" y="27"/>
                    <a:pt x="2861" y="15"/>
                    <a:pt x="2875" y="15"/>
                  </a:cubicBezTo>
                  <a:close/>
                  <a:moveTo>
                    <a:pt x="3425" y="11"/>
                  </a:moveTo>
                  <a:lnTo>
                    <a:pt x="3425" y="11"/>
                  </a:lnTo>
                  <a:cubicBezTo>
                    <a:pt x="3439" y="11"/>
                    <a:pt x="3450" y="22"/>
                    <a:pt x="3450" y="36"/>
                  </a:cubicBezTo>
                  <a:cubicBezTo>
                    <a:pt x="3451" y="50"/>
                    <a:pt x="3439" y="61"/>
                    <a:pt x="3426" y="61"/>
                  </a:cubicBezTo>
                  <a:lnTo>
                    <a:pt x="3426" y="61"/>
                  </a:lnTo>
                  <a:cubicBezTo>
                    <a:pt x="3412" y="61"/>
                    <a:pt x="3400" y="50"/>
                    <a:pt x="3400" y="36"/>
                  </a:cubicBezTo>
                  <a:cubicBezTo>
                    <a:pt x="3400" y="22"/>
                    <a:pt x="3411" y="11"/>
                    <a:pt x="3425" y="11"/>
                  </a:cubicBezTo>
                  <a:close/>
                  <a:moveTo>
                    <a:pt x="3625" y="9"/>
                  </a:moveTo>
                  <a:lnTo>
                    <a:pt x="3625" y="9"/>
                  </a:lnTo>
                  <a:cubicBezTo>
                    <a:pt x="3639" y="9"/>
                    <a:pt x="3650" y="20"/>
                    <a:pt x="3650" y="34"/>
                  </a:cubicBezTo>
                  <a:cubicBezTo>
                    <a:pt x="3651" y="48"/>
                    <a:pt x="3639" y="59"/>
                    <a:pt x="3626" y="59"/>
                  </a:cubicBezTo>
                  <a:lnTo>
                    <a:pt x="3626" y="59"/>
                  </a:lnTo>
                  <a:cubicBezTo>
                    <a:pt x="3612" y="60"/>
                    <a:pt x="3601" y="48"/>
                    <a:pt x="3600" y="35"/>
                  </a:cubicBezTo>
                  <a:cubicBezTo>
                    <a:pt x="3600" y="21"/>
                    <a:pt x="3611" y="10"/>
                    <a:pt x="3625" y="9"/>
                  </a:cubicBezTo>
                  <a:close/>
                  <a:moveTo>
                    <a:pt x="3825" y="8"/>
                  </a:moveTo>
                  <a:lnTo>
                    <a:pt x="4175" y="5"/>
                  </a:lnTo>
                  <a:cubicBezTo>
                    <a:pt x="4189" y="5"/>
                    <a:pt x="4200" y="16"/>
                    <a:pt x="4200" y="30"/>
                  </a:cubicBezTo>
                  <a:cubicBezTo>
                    <a:pt x="4201" y="44"/>
                    <a:pt x="4189" y="55"/>
                    <a:pt x="4176" y="55"/>
                  </a:cubicBezTo>
                  <a:lnTo>
                    <a:pt x="3826" y="58"/>
                  </a:lnTo>
                  <a:cubicBezTo>
                    <a:pt x="3812" y="58"/>
                    <a:pt x="3801" y="47"/>
                    <a:pt x="3800" y="33"/>
                  </a:cubicBezTo>
                  <a:cubicBezTo>
                    <a:pt x="3800" y="19"/>
                    <a:pt x="3811" y="8"/>
                    <a:pt x="3825" y="8"/>
                  </a:cubicBezTo>
                  <a:close/>
                  <a:moveTo>
                    <a:pt x="4375" y="4"/>
                  </a:moveTo>
                  <a:lnTo>
                    <a:pt x="4375" y="4"/>
                  </a:lnTo>
                  <a:cubicBezTo>
                    <a:pt x="4389" y="4"/>
                    <a:pt x="4400" y="15"/>
                    <a:pt x="4400" y="28"/>
                  </a:cubicBezTo>
                  <a:cubicBezTo>
                    <a:pt x="4401" y="42"/>
                    <a:pt x="4390" y="54"/>
                    <a:pt x="4376" y="54"/>
                  </a:cubicBezTo>
                  <a:lnTo>
                    <a:pt x="4376" y="54"/>
                  </a:lnTo>
                  <a:cubicBezTo>
                    <a:pt x="4362" y="54"/>
                    <a:pt x="4351" y="43"/>
                    <a:pt x="4350" y="29"/>
                  </a:cubicBezTo>
                  <a:cubicBezTo>
                    <a:pt x="4350" y="15"/>
                    <a:pt x="4361" y="4"/>
                    <a:pt x="4375" y="4"/>
                  </a:cubicBezTo>
                  <a:close/>
                  <a:moveTo>
                    <a:pt x="4575" y="2"/>
                  </a:moveTo>
                  <a:lnTo>
                    <a:pt x="4575" y="2"/>
                  </a:lnTo>
                  <a:cubicBezTo>
                    <a:pt x="4589" y="2"/>
                    <a:pt x="4600" y="13"/>
                    <a:pt x="4600" y="27"/>
                  </a:cubicBezTo>
                  <a:cubicBezTo>
                    <a:pt x="4601" y="41"/>
                    <a:pt x="4590" y="52"/>
                    <a:pt x="4576" y="52"/>
                  </a:cubicBezTo>
                  <a:lnTo>
                    <a:pt x="4576" y="52"/>
                  </a:lnTo>
                  <a:cubicBezTo>
                    <a:pt x="4562" y="52"/>
                    <a:pt x="4551" y="41"/>
                    <a:pt x="4550" y="27"/>
                  </a:cubicBezTo>
                  <a:cubicBezTo>
                    <a:pt x="4550" y="14"/>
                    <a:pt x="4561" y="2"/>
                    <a:pt x="4575" y="2"/>
                  </a:cubicBezTo>
                  <a:close/>
                  <a:moveTo>
                    <a:pt x="4775" y="1"/>
                  </a:moveTo>
                  <a:lnTo>
                    <a:pt x="4848" y="0"/>
                  </a:lnTo>
                  <a:cubicBezTo>
                    <a:pt x="4862" y="0"/>
                    <a:pt x="4873" y="11"/>
                    <a:pt x="4873" y="25"/>
                  </a:cubicBezTo>
                  <a:cubicBezTo>
                    <a:pt x="4874" y="39"/>
                    <a:pt x="4862" y="50"/>
                    <a:pt x="4849" y="50"/>
                  </a:cubicBezTo>
                  <a:lnTo>
                    <a:pt x="4776" y="51"/>
                  </a:lnTo>
                  <a:cubicBezTo>
                    <a:pt x="4762" y="51"/>
                    <a:pt x="4751" y="40"/>
                    <a:pt x="4750" y="26"/>
                  </a:cubicBezTo>
                  <a:cubicBezTo>
                    <a:pt x="4750" y="12"/>
                    <a:pt x="4761" y="1"/>
                    <a:pt x="477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28"/>
            <p:cNvGrpSpPr/>
            <p:nvPr/>
          </p:nvGrpSpPr>
          <p:grpSpPr>
            <a:xfrm>
              <a:off x="3909600" y="2732400"/>
              <a:ext cx="1278360" cy="318600"/>
              <a:chOff x="3909600" y="2732400"/>
              <a:chExt cx="1278360" cy="318600"/>
            </a:xfrm>
          </p:grpSpPr>
          <p:sp>
            <p:nvSpPr>
              <p:cNvPr id="178" name="Freeform 126"/>
              <p:cNvSpPr/>
              <p:nvPr/>
            </p:nvSpPr>
            <p:spPr>
              <a:xfrm>
                <a:off x="3909600" y="2732400"/>
                <a:ext cx="1278360" cy="318600"/>
              </a:xfrm>
              <a:custGeom>
                <a:avLst/>
                <a:gdLst/>
                <a:ahLst/>
                <a:rect l="l" t="t" r="r" b="b"/>
                <a:pathLst>
                  <a:path w="827" h="206">
                    <a:moveTo>
                      <a:pt x="0" y="95"/>
                    </a:moveTo>
                    <a:lnTo>
                      <a:pt x="214" y="95"/>
                    </a:lnTo>
                    <a:lnTo>
                      <a:pt x="214" y="0"/>
                    </a:lnTo>
                    <a:lnTo>
                      <a:pt x="613" y="0"/>
                    </a:lnTo>
                    <a:lnTo>
                      <a:pt x="613" y="95"/>
                    </a:lnTo>
                    <a:lnTo>
                      <a:pt x="827" y="95"/>
                    </a:lnTo>
                    <a:lnTo>
                      <a:pt x="414" y="206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7"/>
              <p:cNvSpPr/>
              <p:nvPr/>
            </p:nvSpPr>
            <p:spPr>
              <a:xfrm>
                <a:off x="3909600" y="2732400"/>
                <a:ext cx="1278360" cy="318600"/>
              </a:xfrm>
              <a:custGeom>
                <a:avLst/>
                <a:gdLst/>
                <a:ahLst/>
                <a:rect l="l" t="t" r="r" b="b"/>
                <a:pathLst>
                  <a:path w="827" h="206">
                    <a:moveTo>
                      <a:pt x="0" y="95"/>
                    </a:moveTo>
                    <a:lnTo>
                      <a:pt x="214" y="95"/>
                    </a:lnTo>
                    <a:lnTo>
                      <a:pt x="214" y="0"/>
                    </a:lnTo>
                    <a:lnTo>
                      <a:pt x="613" y="0"/>
                    </a:lnTo>
                    <a:lnTo>
                      <a:pt x="613" y="95"/>
                    </a:lnTo>
                    <a:lnTo>
                      <a:pt x="827" y="95"/>
                    </a:lnTo>
                    <a:lnTo>
                      <a:pt x="414" y="206"/>
                    </a:lnTo>
                    <a:lnTo>
                      <a:pt x="0" y="95"/>
                    </a:lnTo>
                    <a:close/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129"/>
            <p:cNvSpPr/>
            <p:nvPr/>
          </p:nvSpPr>
          <p:spPr>
            <a:xfrm>
              <a:off x="4308120" y="279252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verrid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0"/>
            <p:cNvSpPr/>
            <p:nvPr/>
          </p:nvSpPr>
          <p:spPr>
            <a:xfrm>
              <a:off x="4828320" y="2792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32"/>
            <p:cNvSpPr/>
            <p:nvPr/>
          </p:nvSpPr>
          <p:spPr>
            <a:xfrm>
              <a:off x="4828320" y="2949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 Annex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95280" y="3933720"/>
            <a:ext cx="8353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 and BAS are currently covered by R13H CEL Annex: description of the function of “the system”; layout and schematics; safety concept; verification and tes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n splitting R13H, OICA intentions are to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tain the level of safety delivered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duplication and any additional workload to cover separate CEL approval’s for R13-H, ESC and B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conflicting interpretations of CEL by CPs / between each reg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design restrictive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ICA is seeking for guidance from GRRF, on whether and how referring to CEL requirements in the independent new ESC and BAS reg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719360" y="765000"/>
            <a:ext cx="6356160" cy="2951280"/>
            <a:chOff x="1719360" y="765000"/>
            <a:chExt cx="6356160" cy="2951280"/>
          </a:xfrm>
        </p:grpSpPr>
        <p:sp>
          <p:nvSpPr>
            <p:cNvPr id="186" name="AutoShape 3"/>
            <p:cNvSpPr/>
            <p:nvPr/>
          </p:nvSpPr>
          <p:spPr>
            <a:xfrm>
              <a:off x="1719360" y="765000"/>
              <a:ext cx="635616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1757160" y="8049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entury"/>
                  <a:ea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8"/>
            <p:cNvGrpSpPr/>
            <p:nvPr/>
          </p:nvGrpSpPr>
          <p:grpSpPr>
            <a:xfrm>
              <a:off x="3991680" y="2179440"/>
              <a:ext cx="1072440" cy="278280"/>
              <a:chOff x="3991680" y="2179440"/>
              <a:chExt cx="1072440" cy="278280"/>
            </a:xfrm>
          </p:grpSpPr>
          <p:sp>
            <p:nvSpPr>
              <p:cNvPr id="189" name="Rectangle 6"/>
              <p:cNvSpPr/>
              <p:nvPr/>
            </p:nvSpPr>
            <p:spPr>
              <a:xfrm>
                <a:off x="3991680" y="2179440"/>
                <a:ext cx="1072440" cy="27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7"/>
              <p:cNvSpPr/>
              <p:nvPr/>
            </p:nvSpPr>
            <p:spPr>
              <a:xfrm>
                <a:off x="3991680" y="2179440"/>
                <a:ext cx="1072440" cy="2782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4113000" y="2241000"/>
              <a:ext cx="40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4496400" y="2241000"/>
              <a:ext cx="50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to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5007960" y="224604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S ????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4"/>
            <p:cNvGrpSpPr/>
            <p:nvPr/>
          </p:nvGrpSpPr>
          <p:grpSpPr>
            <a:xfrm>
              <a:off x="3227760" y="1347840"/>
              <a:ext cx="2771640" cy="523800"/>
              <a:chOff x="3227760" y="1347840"/>
              <a:chExt cx="2771640" cy="523800"/>
            </a:xfrm>
          </p:grpSpPr>
          <p:sp>
            <p:nvSpPr>
              <p:cNvPr id="195" name="Rectangle 12"/>
              <p:cNvSpPr/>
              <p:nvPr/>
            </p:nvSpPr>
            <p:spPr>
              <a:xfrm>
                <a:off x="3233880" y="1353600"/>
                <a:ext cx="2758680" cy="511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"/>
              <p:cNvSpPr/>
              <p:nvPr/>
            </p:nvSpPr>
            <p:spPr>
              <a:xfrm>
                <a:off x="3227760" y="1347840"/>
                <a:ext cx="2771640" cy="523800"/>
              </a:xfrm>
              <a:custGeom>
                <a:avLst/>
                <a:gdLst/>
                <a:ahLst/>
                <a:rect l="l" t="t" r="r" b="b"/>
                <a:pathLst>
                  <a:path w="1793" h="339">
                    <a:moveTo>
                      <a:pt x="1789" y="7"/>
                    </a:moveTo>
                    <a:lnTo>
                      <a:pt x="1760" y="7"/>
                    </a:lnTo>
                    <a:lnTo>
                      <a:pt x="1760" y="0"/>
                    </a:lnTo>
                    <a:lnTo>
                      <a:pt x="1789" y="0"/>
                    </a:lnTo>
                    <a:lnTo>
                      <a:pt x="1789" y="7"/>
                    </a:lnTo>
                    <a:close/>
                    <a:moveTo>
                      <a:pt x="1739" y="7"/>
                    </a:moveTo>
                    <a:lnTo>
                      <a:pt x="1710" y="7"/>
                    </a:lnTo>
                    <a:lnTo>
                      <a:pt x="1710" y="0"/>
                    </a:lnTo>
                    <a:lnTo>
                      <a:pt x="1739" y="0"/>
                    </a:lnTo>
                    <a:lnTo>
                      <a:pt x="1739" y="7"/>
                    </a:lnTo>
                    <a:close/>
                    <a:moveTo>
                      <a:pt x="1688" y="7"/>
                    </a:moveTo>
                    <a:lnTo>
                      <a:pt x="1659" y="7"/>
                    </a:lnTo>
                    <a:lnTo>
                      <a:pt x="1659" y="0"/>
                    </a:lnTo>
                    <a:lnTo>
                      <a:pt x="1688" y="0"/>
                    </a:lnTo>
                    <a:lnTo>
                      <a:pt x="1688" y="7"/>
                    </a:lnTo>
                    <a:close/>
                    <a:moveTo>
                      <a:pt x="1638" y="7"/>
                    </a:moveTo>
                    <a:lnTo>
                      <a:pt x="1609" y="7"/>
                    </a:lnTo>
                    <a:lnTo>
                      <a:pt x="1609" y="0"/>
                    </a:lnTo>
                    <a:lnTo>
                      <a:pt x="1638" y="0"/>
                    </a:lnTo>
                    <a:lnTo>
                      <a:pt x="1638" y="7"/>
                    </a:lnTo>
                    <a:close/>
                    <a:moveTo>
                      <a:pt x="1587" y="7"/>
                    </a:moveTo>
                    <a:lnTo>
                      <a:pt x="1558" y="7"/>
                    </a:lnTo>
                    <a:lnTo>
                      <a:pt x="1558" y="0"/>
                    </a:lnTo>
                    <a:lnTo>
                      <a:pt x="1587" y="0"/>
                    </a:lnTo>
                    <a:lnTo>
                      <a:pt x="1587" y="7"/>
                    </a:lnTo>
                    <a:close/>
                    <a:moveTo>
                      <a:pt x="1537" y="7"/>
                    </a:moveTo>
                    <a:lnTo>
                      <a:pt x="1508" y="7"/>
                    </a:lnTo>
                    <a:lnTo>
                      <a:pt x="1508" y="0"/>
                    </a:lnTo>
                    <a:lnTo>
                      <a:pt x="1537" y="0"/>
                    </a:lnTo>
                    <a:lnTo>
                      <a:pt x="1537" y="7"/>
                    </a:lnTo>
                    <a:close/>
                    <a:moveTo>
                      <a:pt x="1486" y="7"/>
                    </a:moveTo>
                    <a:lnTo>
                      <a:pt x="1458" y="7"/>
                    </a:lnTo>
                    <a:lnTo>
                      <a:pt x="1458" y="0"/>
                    </a:lnTo>
                    <a:lnTo>
                      <a:pt x="1486" y="0"/>
                    </a:lnTo>
                    <a:lnTo>
                      <a:pt x="1486" y="7"/>
                    </a:lnTo>
                    <a:close/>
                    <a:moveTo>
                      <a:pt x="1436" y="7"/>
                    </a:moveTo>
                    <a:lnTo>
                      <a:pt x="1407" y="7"/>
                    </a:lnTo>
                    <a:lnTo>
                      <a:pt x="1407" y="0"/>
                    </a:lnTo>
                    <a:lnTo>
                      <a:pt x="1436" y="0"/>
                    </a:lnTo>
                    <a:lnTo>
                      <a:pt x="1436" y="7"/>
                    </a:lnTo>
                    <a:close/>
                    <a:moveTo>
                      <a:pt x="1386" y="7"/>
                    </a:moveTo>
                    <a:lnTo>
                      <a:pt x="1357" y="7"/>
                    </a:lnTo>
                    <a:lnTo>
                      <a:pt x="1357" y="0"/>
                    </a:lnTo>
                    <a:lnTo>
                      <a:pt x="1386" y="0"/>
                    </a:lnTo>
                    <a:lnTo>
                      <a:pt x="1386" y="7"/>
                    </a:lnTo>
                    <a:close/>
                    <a:moveTo>
                      <a:pt x="1335" y="7"/>
                    </a:moveTo>
                    <a:lnTo>
                      <a:pt x="1306" y="7"/>
                    </a:lnTo>
                    <a:lnTo>
                      <a:pt x="1306" y="0"/>
                    </a:lnTo>
                    <a:lnTo>
                      <a:pt x="1335" y="0"/>
                    </a:lnTo>
                    <a:lnTo>
                      <a:pt x="1335" y="7"/>
                    </a:lnTo>
                    <a:close/>
                    <a:moveTo>
                      <a:pt x="1285" y="7"/>
                    </a:moveTo>
                    <a:lnTo>
                      <a:pt x="1256" y="7"/>
                    </a:lnTo>
                    <a:lnTo>
                      <a:pt x="1256" y="0"/>
                    </a:lnTo>
                    <a:lnTo>
                      <a:pt x="1285" y="0"/>
                    </a:lnTo>
                    <a:lnTo>
                      <a:pt x="1285" y="7"/>
                    </a:lnTo>
                    <a:close/>
                    <a:moveTo>
                      <a:pt x="1234" y="7"/>
                    </a:moveTo>
                    <a:lnTo>
                      <a:pt x="1206" y="7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34" y="7"/>
                    </a:lnTo>
                    <a:close/>
                    <a:moveTo>
                      <a:pt x="1184" y="7"/>
                    </a:moveTo>
                    <a:lnTo>
                      <a:pt x="1155" y="7"/>
                    </a:lnTo>
                    <a:lnTo>
                      <a:pt x="1155" y="0"/>
                    </a:lnTo>
                    <a:lnTo>
                      <a:pt x="1184" y="0"/>
                    </a:lnTo>
                    <a:lnTo>
                      <a:pt x="1184" y="7"/>
                    </a:lnTo>
                    <a:close/>
                    <a:moveTo>
                      <a:pt x="1133" y="7"/>
                    </a:moveTo>
                    <a:lnTo>
                      <a:pt x="1105" y="7"/>
                    </a:lnTo>
                    <a:lnTo>
                      <a:pt x="1105" y="0"/>
                    </a:lnTo>
                    <a:lnTo>
                      <a:pt x="1133" y="0"/>
                    </a:lnTo>
                    <a:lnTo>
                      <a:pt x="1133" y="7"/>
                    </a:lnTo>
                    <a:close/>
                    <a:moveTo>
                      <a:pt x="1083" y="7"/>
                    </a:moveTo>
                    <a:lnTo>
                      <a:pt x="1054" y="7"/>
                    </a:lnTo>
                    <a:lnTo>
                      <a:pt x="1054" y="0"/>
                    </a:lnTo>
                    <a:lnTo>
                      <a:pt x="1083" y="0"/>
                    </a:lnTo>
                    <a:lnTo>
                      <a:pt x="1083" y="7"/>
                    </a:lnTo>
                    <a:close/>
                    <a:moveTo>
                      <a:pt x="1033" y="7"/>
                    </a:moveTo>
                    <a:lnTo>
                      <a:pt x="1004" y="7"/>
                    </a:lnTo>
                    <a:lnTo>
                      <a:pt x="1004" y="0"/>
                    </a:lnTo>
                    <a:lnTo>
                      <a:pt x="1033" y="0"/>
                    </a:lnTo>
                    <a:lnTo>
                      <a:pt x="1033" y="7"/>
                    </a:lnTo>
                    <a:close/>
                    <a:moveTo>
                      <a:pt x="982" y="7"/>
                    </a:moveTo>
                    <a:lnTo>
                      <a:pt x="953" y="7"/>
                    </a:lnTo>
                    <a:lnTo>
                      <a:pt x="953" y="0"/>
                    </a:lnTo>
                    <a:lnTo>
                      <a:pt x="982" y="0"/>
                    </a:lnTo>
                    <a:lnTo>
                      <a:pt x="982" y="7"/>
                    </a:lnTo>
                    <a:close/>
                    <a:moveTo>
                      <a:pt x="932" y="7"/>
                    </a:moveTo>
                    <a:lnTo>
                      <a:pt x="903" y="7"/>
                    </a:lnTo>
                    <a:lnTo>
                      <a:pt x="903" y="0"/>
                    </a:lnTo>
                    <a:lnTo>
                      <a:pt x="932" y="0"/>
                    </a:lnTo>
                    <a:lnTo>
                      <a:pt x="932" y="7"/>
                    </a:lnTo>
                    <a:close/>
                    <a:moveTo>
                      <a:pt x="881" y="7"/>
                    </a:moveTo>
                    <a:lnTo>
                      <a:pt x="853" y="7"/>
                    </a:lnTo>
                    <a:lnTo>
                      <a:pt x="853" y="0"/>
                    </a:lnTo>
                    <a:lnTo>
                      <a:pt x="881" y="0"/>
                    </a:lnTo>
                    <a:lnTo>
                      <a:pt x="881" y="7"/>
                    </a:lnTo>
                    <a:close/>
                    <a:moveTo>
                      <a:pt x="831" y="7"/>
                    </a:moveTo>
                    <a:lnTo>
                      <a:pt x="802" y="7"/>
                    </a:lnTo>
                    <a:lnTo>
                      <a:pt x="802" y="0"/>
                    </a:lnTo>
                    <a:lnTo>
                      <a:pt x="831" y="0"/>
                    </a:lnTo>
                    <a:lnTo>
                      <a:pt x="831" y="7"/>
                    </a:lnTo>
                    <a:close/>
                    <a:moveTo>
                      <a:pt x="781" y="7"/>
                    </a:moveTo>
                    <a:lnTo>
                      <a:pt x="752" y="7"/>
                    </a:lnTo>
                    <a:lnTo>
                      <a:pt x="752" y="0"/>
                    </a:lnTo>
                    <a:lnTo>
                      <a:pt x="781" y="0"/>
                    </a:lnTo>
                    <a:lnTo>
                      <a:pt x="781" y="7"/>
                    </a:lnTo>
                    <a:close/>
                    <a:moveTo>
                      <a:pt x="730" y="7"/>
                    </a:moveTo>
                    <a:lnTo>
                      <a:pt x="701" y="7"/>
                    </a:lnTo>
                    <a:lnTo>
                      <a:pt x="701" y="0"/>
                    </a:lnTo>
                    <a:lnTo>
                      <a:pt x="730" y="0"/>
                    </a:lnTo>
                    <a:lnTo>
                      <a:pt x="730" y="7"/>
                    </a:lnTo>
                    <a:close/>
                    <a:moveTo>
                      <a:pt x="680" y="7"/>
                    </a:moveTo>
                    <a:lnTo>
                      <a:pt x="651" y="7"/>
                    </a:lnTo>
                    <a:lnTo>
                      <a:pt x="651" y="0"/>
                    </a:lnTo>
                    <a:lnTo>
                      <a:pt x="680" y="0"/>
                    </a:lnTo>
                    <a:lnTo>
                      <a:pt x="680" y="7"/>
                    </a:lnTo>
                    <a:close/>
                    <a:moveTo>
                      <a:pt x="629" y="7"/>
                    </a:moveTo>
                    <a:lnTo>
                      <a:pt x="600" y="7"/>
                    </a:lnTo>
                    <a:lnTo>
                      <a:pt x="600" y="0"/>
                    </a:lnTo>
                    <a:lnTo>
                      <a:pt x="629" y="0"/>
                    </a:lnTo>
                    <a:lnTo>
                      <a:pt x="629" y="7"/>
                    </a:lnTo>
                    <a:close/>
                    <a:moveTo>
                      <a:pt x="579" y="7"/>
                    </a:moveTo>
                    <a:lnTo>
                      <a:pt x="550" y="7"/>
                    </a:lnTo>
                    <a:lnTo>
                      <a:pt x="550" y="0"/>
                    </a:lnTo>
                    <a:lnTo>
                      <a:pt x="579" y="0"/>
                    </a:lnTo>
                    <a:lnTo>
                      <a:pt x="579" y="7"/>
                    </a:lnTo>
                    <a:close/>
                    <a:moveTo>
                      <a:pt x="528" y="7"/>
                    </a:moveTo>
                    <a:lnTo>
                      <a:pt x="500" y="7"/>
                    </a:lnTo>
                    <a:lnTo>
                      <a:pt x="500" y="0"/>
                    </a:lnTo>
                    <a:lnTo>
                      <a:pt x="528" y="0"/>
                    </a:lnTo>
                    <a:lnTo>
                      <a:pt x="528" y="7"/>
                    </a:lnTo>
                    <a:close/>
                    <a:moveTo>
                      <a:pt x="478" y="7"/>
                    </a:moveTo>
                    <a:lnTo>
                      <a:pt x="449" y="7"/>
                    </a:lnTo>
                    <a:lnTo>
                      <a:pt x="449" y="0"/>
                    </a:lnTo>
                    <a:lnTo>
                      <a:pt x="478" y="0"/>
                    </a:lnTo>
                    <a:lnTo>
                      <a:pt x="478" y="7"/>
                    </a:lnTo>
                    <a:close/>
                    <a:moveTo>
                      <a:pt x="428" y="7"/>
                    </a:moveTo>
                    <a:lnTo>
                      <a:pt x="399" y="7"/>
                    </a:lnTo>
                    <a:lnTo>
                      <a:pt x="399" y="0"/>
                    </a:lnTo>
                    <a:lnTo>
                      <a:pt x="428" y="0"/>
                    </a:lnTo>
                    <a:lnTo>
                      <a:pt x="428" y="7"/>
                    </a:lnTo>
                    <a:close/>
                    <a:moveTo>
                      <a:pt x="377" y="7"/>
                    </a:moveTo>
                    <a:lnTo>
                      <a:pt x="348" y="7"/>
                    </a:lnTo>
                    <a:lnTo>
                      <a:pt x="348" y="0"/>
                    </a:lnTo>
                    <a:lnTo>
                      <a:pt x="377" y="0"/>
                    </a:lnTo>
                    <a:lnTo>
                      <a:pt x="377" y="7"/>
                    </a:lnTo>
                    <a:close/>
                    <a:moveTo>
                      <a:pt x="327" y="7"/>
                    </a:moveTo>
                    <a:lnTo>
                      <a:pt x="298" y="7"/>
                    </a:lnTo>
                    <a:lnTo>
                      <a:pt x="298" y="0"/>
                    </a:lnTo>
                    <a:lnTo>
                      <a:pt x="327" y="0"/>
                    </a:lnTo>
                    <a:lnTo>
                      <a:pt x="327" y="7"/>
                    </a:lnTo>
                    <a:close/>
                    <a:moveTo>
                      <a:pt x="276" y="7"/>
                    </a:moveTo>
                    <a:lnTo>
                      <a:pt x="248" y="7"/>
                    </a:lnTo>
                    <a:lnTo>
                      <a:pt x="248" y="0"/>
                    </a:lnTo>
                    <a:lnTo>
                      <a:pt x="276" y="0"/>
                    </a:lnTo>
                    <a:lnTo>
                      <a:pt x="276" y="7"/>
                    </a:lnTo>
                    <a:close/>
                    <a:moveTo>
                      <a:pt x="226" y="7"/>
                    </a:moveTo>
                    <a:lnTo>
                      <a:pt x="197" y="7"/>
                    </a:lnTo>
                    <a:lnTo>
                      <a:pt x="197" y="0"/>
                    </a:lnTo>
                    <a:lnTo>
                      <a:pt x="226" y="0"/>
                    </a:lnTo>
                    <a:lnTo>
                      <a:pt x="226" y="7"/>
                    </a:lnTo>
                    <a:close/>
                    <a:moveTo>
                      <a:pt x="175" y="7"/>
                    </a:moveTo>
                    <a:lnTo>
                      <a:pt x="147" y="7"/>
                    </a:lnTo>
                    <a:lnTo>
                      <a:pt x="147" y="0"/>
                    </a:lnTo>
                    <a:lnTo>
                      <a:pt x="175" y="0"/>
                    </a:lnTo>
                    <a:lnTo>
                      <a:pt x="175" y="7"/>
                    </a:lnTo>
                    <a:close/>
                    <a:moveTo>
                      <a:pt x="125" y="7"/>
                    </a:moveTo>
                    <a:lnTo>
                      <a:pt x="96" y="7"/>
                    </a:lnTo>
                    <a:lnTo>
                      <a:pt x="96" y="0"/>
                    </a:lnTo>
                    <a:lnTo>
                      <a:pt x="125" y="0"/>
                    </a:lnTo>
                    <a:lnTo>
                      <a:pt x="125" y="7"/>
                    </a:lnTo>
                    <a:close/>
                    <a:moveTo>
                      <a:pt x="75" y="7"/>
                    </a:moveTo>
                    <a:lnTo>
                      <a:pt x="46" y="7"/>
                    </a:lnTo>
                    <a:lnTo>
                      <a:pt x="46" y="0"/>
                    </a:lnTo>
                    <a:lnTo>
                      <a:pt x="75" y="0"/>
                    </a:lnTo>
                    <a:lnTo>
                      <a:pt x="75" y="7"/>
                    </a:lnTo>
                    <a:close/>
                    <a:moveTo>
                      <a:pt x="24" y="7"/>
                    </a:moveTo>
                    <a:lnTo>
                      <a:pt x="4" y="7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7"/>
                    </a:lnTo>
                    <a:close/>
                    <a:moveTo>
                      <a:pt x="7" y="34"/>
                    </a:moveTo>
                    <a:lnTo>
                      <a:pt x="7" y="62"/>
                    </a:lnTo>
                    <a:lnTo>
                      <a:pt x="0" y="62"/>
                    </a:lnTo>
                    <a:lnTo>
                      <a:pt x="0" y="34"/>
                    </a:lnTo>
                    <a:lnTo>
                      <a:pt x="7" y="34"/>
                    </a:lnTo>
                    <a:close/>
                    <a:moveTo>
                      <a:pt x="7" y="84"/>
                    </a:moveTo>
                    <a:lnTo>
                      <a:pt x="7" y="113"/>
                    </a:lnTo>
                    <a:lnTo>
                      <a:pt x="0" y="113"/>
                    </a:lnTo>
                    <a:lnTo>
                      <a:pt x="0" y="84"/>
                    </a:lnTo>
                    <a:lnTo>
                      <a:pt x="7" y="84"/>
                    </a:lnTo>
                    <a:close/>
                    <a:moveTo>
                      <a:pt x="7" y="134"/>
                    </a:moveTo>
                    <a:lnTo>
                      <a:pt x="7" y="163"/>
                    </a:lnTo>
                    <a:lnTo>
                      <a:pt x="0" y="163"/>
                    </a:lnTo>
                    <a:lnTo>
                      <a:pt x="0" y="134"/>
                    </a:lnTo>
                    <a:lnTo>
                      <a:pt x="7" y="134"/>
                    </a:lnTo>
                    <a:close/>
                    <a:moveTo>
                      <a:pt x="7" y="185"/>
                    </a:moveTo>
                    <a:lnTo>
                      <a:pt x="7" y="214"/>
                    </a:lnTo>
                    <a:lnTo>
                      <a:pt x="0" y="214"/>
                    </a:lnTo>
                    <a:lnTo>
                      <a:pt x="0" y="185"/>
                    </a:lnTo>
                    <a:lnTo>
                      <a:pt x="7" y="185"/>
                    </a:lnTo>
                    <a:close/>
                    <a:moveTo>
                      <a:pt x="7" y="235"/>
                    </a:moveTo>
                    <a:lnTo>
                      <a:pt x="7" y="264"/>
                    </a:lnTo>
                    <a:lnTo>
                      <a:pt x="0" y="264"/>
                    </a:lnTo>
                    <a:lnTo>
                      <a:pt x="0" y="235"/>
                    </a:lnTo>
                    <a:lnTo>
                      <a:pt x="7" y="235"/>
                    </a:lnTo>
                    <a:close/>
                    <a:moveTo>
                      <a:pt x="7" y="286"/>
                    </a:moveTo>
                    <a:lnTo>
                      <a:pt x="7" y="315"/>
                    </a:lnTo>
                    <a:lnTo>
                      <a:pt x="0" y="315"/>
                    </a:lnTo>
                    <a:lnTo>
                      <a:pt x="0" y="286"/>
                    </a:lnTo>
                    <a:lnTo>
                      <a:pt x="7" y="286"/>
                    </a:lnTo>
                    <a:close/>
                    <a:moveTo>
                      <a:pt x="4" y="332"/>
                    </a:moveTo>
                    <a:lnTo>
                      <a:pt x="33" y="332"/>
                    </a:lnTo>
                    <a:lnTo>
                      <a:pt x="33" y="339"/>
                    </a:lnTo>
                    <a:lnTo>
                      <a:pt x="4" y="339"/>
                    </a:lnTo>
                    <a:lnTo>
                      <a:pt x="4" y="332"/>
                    </a:lnTo>
                    <a:close/>
                    <a:moveTo>
                      <a:pt x="55" y="332"/>
                    </a:moveTo>
                    <a:lnTo>
                      <a:pt x="84" y="332"/>
                    </a:lnTo>
                    <a:lnTo>
                      <a:pt x="84" y="339"/>
                    </a:lnTo>
                    <a:lnTo>
                      <a:pt x="55" y="339"/>
                    </a:lnTo>
                    <a:lnTo>
                      <a:pt x="55" y="332"/>
                    </a:lnTo>
                    <a:close/>
                    <a:moveTo>
                      <a:pt x="105" y="332"/>
                    </a:moveTo>
                    <a:lnTo>
                      <a:pt x="134" y="332"/>
                    </a:lnTo>
                    <a:lnTo>
                      <a:pt x="134" y="339"/>
                    </a:lnTo>
                    <a:lnTo>
                      <a:pt x="105" y="339"/>
                    </a:lnTo>
                    <a:lnTo>
                      <a:pt x="105" y="332"/>
                    </a:lnTo>
                    <a:close/>
                    <a:moveTo>
                      <a:pt x="156" y="332"/>
                    </a:moveTo>
                    <a:lnTo>
                      <a:pt x="185" y="332"/>
                    </a:lnTo>
                    <a:lnTo>
                      <a:pt x="185" y="339"/>
                    </a:lnTo>
                    <a:lnTo>
                      <a:pt x="156" y="339"/>
                    </a:lnTo>
                    <a:lnTo>
                      <a:pt x="156" y="332"/>
                    </a:lnTo>
                    <a:close/>
                    <a:moveTo>
                      <a:pt x="206" y="332"/>
                    </a:moveTo>
                    <a:lnTo>
                      <a:pt x="235" y="332"/>
                    </a:lnTo>
                    <a:lnTo>
                      <a:pt x="235" y="339"/>
                    </a:lnTo>
                    <a:lnTo>
                      <a:pt x="206" y="339"/>
                    </a:lnTo>
                    <a:lnTo>
                      <a:pt x="206" y="332"/>
                    </a:lnTo>
                    <a:close/>
                    <a:moveTo>
                      <a:pt x="257" y="332"/>
                    </a:moveTo>
                    <a:lnTo>
                      <a:pt x="285" y="332"/>
                    </a:lnTo>
                    <a:lnTo>
                      <a:pt x="285" y="339"/>
                    </a:lnTo>
                    <a:lnTo>
                      <a:pt x="257" y="339"/>
                    </a:lnTo>
                    <a:lnTo>
                      <a:pt x="257" y="332"/>
                    </a:lnTo>
                    <a:close/>
                    <a:moveTo>
                      <a:pt x="307" y="332"/>
                    </a:moveTo>
                    <a:lnTo>
                      <a:pt x="336" y="332"/>
                    </a:lnTo>
                    <a:lnTo>
                      <a:pt x="336" y="339"/>
                    </a:lnTo>
                    <a:lnTo>
                      <a:pt x="307" y="339"/>
                    </a:lnTo>
                    <a:lnTo>
                      <a:pt x="307" y="332"/>
                    </a:lnTo>
                    <a:close/>
                    <a:moveTo>
                      <a:pt x="357" y="332"/>
                    </a:moveTo>
                    <a:lnTo>
                      <a:pt x="386" y="332"/>
                    </a:lnTo>
                    <a:lnTo>
                      <a:pt x="386" y="339"/>
                    </a:lnTo>
                    <a:lnTo>
                      <a:pt x="357" y="339"/>
                    </a:lnTo>
                    <a:lnTo>
                      <a:pt x="357" y="332"/>
                    </a:lnTo>
                    <a:close/>
                    <a:moveTo>
                      <a:pt x="408" y="332"/>
                    </a:moveTo>
                    <a:lnTo>
                      <a:pt x="437" y="332"/>
                    </a:lnTo>
                    <a:lnTo>
                      <a:pt x="437" y="339"/>
                    </a:lnTo>
                    <a:lnTo>
                      <a:pt x="408" y="339"/>
                    </a:lnTo>
                    <a:lnTo>
                      <a:pt x="408" y="332"/>
                    </a:lnTo>
                    <a:close/>
                    <a:moveTo>
                      <a:pt x="458" y="332"/>
                    </a:moveTo>
                    <a:lnTo>
                      <a:pt x="487" y="332"/>
                    </a:lnTo>
                    <a:lnTo>
                      <a:pt x="487" y="339"/>
                    </a:lnTo>
                    <a:lnTo>
                      <a:pt x="458" y="339"/>
                    </a:lnTo>
                    <a:lnTo>
                      <a:pt x="458" y="332"/>
                    </a:lnTo>
                    <a:close/>
                    <a:moveTo>
                      <a:pt x="509" y="332"/>
                    </a:moveTo>
                    <a:lnTo>
                      <a:pt x="538" y="332"/>
                    </a:lnTo>
                    <a:lnTo>
                      <a:pt x="538" y="339"/>
                    </a:lnTo>
                    <a:lnTo>
                      <a:pt x="509" y="339"/>
                    </a:lnTo>
                    <a:lnTo>
                      <a:pt x="509" y="332"/>
                    </a:lnTo>
                    <a:close/>
                    <a:moveTo>
                      <a:pt x="559" y="332"/>
                    </a:moveTo>
                    <a:lnTo>
                      <a:pt x="588" y="332"/>
                    </a:lnTo>
                    <a:lnTo>
                      <a:pt x="588" y="339"/>
                    </a:lnTo>
                    <a:lnTo>
                      <a:pt x="559" y="339"/>
                    </a:lnTo>
                    <a:lnTo>
                      <a:pt x="559" y="332"/>
                    </a:lnTo>
                    <a:close/>
                    <a:moveTo>
                      <a:pt x="610" y="332"/>
                    </a:moveTo>
                    <a:lnTo>
                      <a:pt x="638" y="332"/>
                    </a:lnTo>
                    <a:lnTo>
                      <a:pt x="638" y="339"/>
                    </a:lnTo>
                    <a:lnTo>
                      <a:pt x="610" y="339"/>
                    </a:lnTo>
                    <a:lnTo>
                      <a:pt x="610" y="332"/>
                    </a:lnTo>
                    <a:close/>
                    <a:moveTo>
                      <a:pt x="660" y="332"/>
                    </a:moveTo>
                    <a:lnTo>
                      <a:pt x="689" y="332"/>
                    </a:lnTo>
                    <a:lnTo>
                      <a:pt x="689" y="339"/>
                    </a:lnTo>
                    <a:lnTo>
                      <a:pt x="660" y="339"/>
                    </a:lnTo>
                    <a:lnTo>
                      <a:pt x="660" y="332"/>
                    </a:lnTo>
                    <a:close/>
                    <a:moveTo>
                      <a:pt x="710" y="332"/>
                    </a:moveTo>
                    <a:lnTo>
                      <a:pt x="739" y="332"/>
                    </a:lnTo>
                    <a:lnTo>
                      <a:pt x="739" y="339"/>
                    </a:lnTo>
                    <a:lnTo>
                      <a:pt x="710" y="339"/>
                    </a:lnTo>
                    <a:lnTo>
                      <a:pt x="710" y="332"/>
                    </a:lnTo>
                    <a:close/>
                    <a:moveTo>
                      <a:pt x="761" y="332"/>
                    </a:moveTo>
                    <a:lnTo>
                      <a:pt x="790" y="332"/>
                    </a:lnTo>
                    <a:lnTo>
                      <a:pt x="790" y="339"/>
                    </a:lnTo>
                    <a:lnTo>
                      <a:pt x="761" y="339"/>
                    </a:lnTo>
                    <a:lnTo>
                      <a:pt x="761" y="332"/>
                    </a:lnTo>
                    <a:close/>
                    <a:moveTo>
                      <a:pt x="811" y="332"/>
                    </a:moveTo>
                    <a:lnTo>
                      <a:pt x="840" y="332"/>
                    </a:lnTo>
                    <a:lnTo>
                      <a:pt x="840" y="339"/>
                    </a:lnTo>
                    <a:lnTo>
                      <a:pt x="811" y="339"/>
                    </a:lnTo>
                    <a:lnTo>
                      <a:pt x="811" y="332"/>
                    </a:lnTo>
                    <a:close/>
                    <a:moveTo>
                      <a:pt x="862" y="332"/>
                    </a:moveTo>
                    <a:lnTo>
                      <a:pt x="890" y="332"/>
                    </a:lnTo>
                    <a:lnTo>
                      <a:pt x="890" y="339"/>
                    </a:lnTo>
                    <a:lnTo>
                      <a:pt x="862" y="339"/>
                    </a:lnTo>
                    <a:lnTo>
                      <a:pt x="862" y="332"/>
                    </a:lnTo>
                    <a:close/>
                    <a:moveTo>
                      <a:pt x="912" y="332"/>
                    </a:moveTo>
                    <a:lnTo>
                      <a:pt x="941" y="332"/>
                    </a:lnTo>
                    <a:lnTo>
                      <a:pt x="941" y="339"/>
                    </a:lnTo>
                    <a:lnTo>
                      <a:pt x="912" y="339"/>
                    </a:lnTo>
                    <a:lnTo>
                      <a:pt x="912" y="332"/>
                    </a:lnTo>
                    <a:close/>
                    <a:moveTo>
                      <a:pt x="962" y="332"/>
                    </a:moveTo>
                    <a:lnTo>
                      <a:pt x="991" y="332"/>
                    </a:lnTo>
                    <a:lnTo>
                      <a:pt x="991" y="339"/>
                    </a:lnTo>
                    <a:lnTo>
                      <a:pt x="962" y="339"/>
                    </a:lnTo>
                    <a:lnTo>
                      <a:pt x="962" y="332"/>
                    </a:lnTo>
                    <a:close/>
                    <a:moveTo>
                      <a:pt x="1013" y="332"/>
                    </a:moveTo>
                    <a:lnTo>
                      <a:pt x="1042" y="332"/>
                    </a:lnTo>
                    <a:lnTo>
                      <a:pt x="1042" y="339"/>
                    </a:lnTo>
                    <a:lnTo>
                      <a:pt x="1013" y="339"/>
                    </a:lnTo>
                    <a:lnTo>
                      <a:pt x="1013" y="332"/>
                    </a:lnTo>
                    <a:close/>
                    <a:moveTo>
                      <a:pt x="1063" y="332"/>
                    </a:moveTo>
                    <a:lnTo>
                      <a:pt x="1092" y="332"/>
                    </a:lnTo>
                    <a:lnTo>
                      <a:pt x="1092" y="339"/>
                    </a:lnTo>
                    <a:lnTo>
                      <a:pt x="1063" y="339"/>
                    </a:lnTo>
                    <a:lnTo>
                      <a:pt x="1063" y="332"/>
                    </a:lnTo>
                    <a:close/>
                    <a:moveTo>
                      <a:pt x="1114" y="332"/>
                    </a:moveTo>
                    <a:lnTo>
                      <a:pt x="1143" y="332"/>
                    </a:lnTo>
                    <a:lnTo>
                      <a:pt x="1143" y="339"/>
                    </a:lnTo>
                    <a:lnTo>
                      <a:pt x="1114" y="339"/>
                    </a:lnTo>
                    <a:lnTo>
                      <a:pt x="1114" y="332"/>
                    </a:lnTo>
                    <a:close/>
                    <a:moveTo>
                      <a:pt x="1164" y="332"/>
                    </a:moveTo>
                    <a:lnTo>
                      <a:pt x="1193" y="332"/>
                    </a:lnTo>
                    <a:lnTo>
                      <a:pt x="1193" y="339"/>
                    </a:lnTo>
                    <a:lnTo>
                      <a:pt x="1164" y="339"/>
                    </a:lnTo>
                    <a:lnTo>
                      <a:pt x="1164" y="332"/>
                    </a:lnTo>
                    <a:close/>
                    <a:moveTo>
                      <a:pt x="1215" y="332"/>
                    </a:moveTo>
                    <a:lnTo>
                      <a:pt x="1243" y="332"/>
                    </a:lnTo>
                    <a:lnTo>
                      <a:pt x="1243" y="339"/>
                    </a:lnTo>
                    <a:lnTo>
                      <a:pt x="1215" y="339"/>
                    </a:lnTo>
                    <a:lnTo>
                      <a:pt x="1215" y="332"/>
                    </a:lnTo>
                    <a:close/>
                    <a:moveTo>
                      <a:pt x="1265" y="332"/>
                    </a:moveTo>
                    <a:lnTo>
                      <a:pt x="1294" y="332"/>
                    </a:lnTo>
                    <a:lnTo>
                      <a:pt x="1294" y="339"/>
                    </a:lnTo>
                    <a:lnTo>
                      <a:pt x="1265" y="339"/>
                    </a:lnTo>
                    <a:lnTo>
                      <a:pt x="1265" y="332"/>
                    </a:lnTo>
                    <a:close/>
                    <a:moveTo>
                      <a:pt x="1315" y="332"/>
                    </a:moveTo>
                    <a:lnTo>
                      <a:pt x="1344" y="332"/>
                    </a:lnTo>
                    <a:lnTo>
                      <a:pt x="1344" y="339"/>
                    </a:lnTo>
                    <a:lnTo>
                      <a:pt x="1315" y="339"/>
                    </a:lnTo>
                    <a:lnTo>
                      <a:pt x="1315" y="332"/>
                    </a:lnTo>
                    <a:close/>
                    <a:moveTo>
                      <a:pt x="1366" y="332"/>
                    </a:moveTo>
                    <a:lnTo>
                      <a:pt x="1395" y="332"/>
                    </a:lnTo>
                    <a:lnTo>
                      <a:pt x="1395" y="339"/>
                    </a:lnTo>
                    <a:lnTo>
                      <a:pt x="1366" y="339"/>
                    </a:lnTo>
                    <a:lnTo>
                      <a:pt x="1366" y="332"/>
                    </a:lnTo>
                    <a:close/>
                    <a:moveTo>
                      <a:pt x="1416" y="332"/>
                    </a:moveTo>
                    <a:lnTo>
                      <a:pt x="1445" y="332"/>
                    </a:lnTo>
                    <a:lnTo>
                      <a:pt x="1445" y="339"/>
                    </a:lnTo>
                    <a:lnTo>
                      <a:pt x="1416" y="339"/>
                    </a:lnTo>
                    <a:lnTo>
                      <a:pt x="1416" y="332"/>
                    </a:lnTo>
                    <a:close/>
                    <a:moveTo>
                      <a:pt x="1467" y="332"/>
                    </a:moveTo>
                    <a:lnTo>
                      <a:pt x="1496" y="332"/>
                    </a:lnTo>
                    <a:lnTo>
                      <a:pt x="1496" y="339"/>
                    </a:lnTo>
                    <a:lnTo>
                      <a:pt x="1467" y="339"/>
                    </a:lnTo>
                    <a:lnTo>
                      <a:pt x="1467" y="332"/>
                    </a:lnTo>
                    <a:close/>
                    <a:moveTo>
                      <a:pt x="1517" y="332"/>
                    </a:moveTo>
                    <a:lnTo>
                      <a:pt x="1546" y="332"/>
                    </a:lnTo>
                    <a:lnTo>
                      <a:pt x="1546" y="339"/>
                    </a:lnTo>
                    <a:lnTo>
                      <a:pt x="1517" y="339"/>
                    </a:lnTo>
                    <a:lnTo>
                      <a:pt x="1517" y="332"/>
                    </a:lnTo>
                    <a:close/>
                    <a:moveTo>
                      <a:pt x="1568" y="332"/>
                    </a:moveTo>
                    <a:lnTo>
                      <a:pt x="1596" y="332"/>
                    </a:lnTo>
                    <a:lnTo>
                      <a:pt x="1596" y="339"/>
                    </a:lnTo>
                    <a:lnTo>
                      <a:pt x="1568" y="339"/>
                    </a:lnTo>
                    <a:lnTo>
                      <a:pt x="1568" y="332"/>
                    </a:lnTo>
                    <a:close/>
                    <a:moveTo>
                      <a:pt x="1618" y="332"/>
                    </a:moveTo>
                    <a:lnTo>
                      <a:pt x="1647" y="332"/>
                    </a:lnTo>
                    <a:lnTo>
                      <a:pt x="1647" y="339"/>
                    </a:lnTo>
                    <a:lnTo>
                      <a:pt x="1618" y="339"/>
                    </a:lnTo>
                    <a:lnTo>
                      <a:pt x="1618" y="332"/>
                    </a:lnTo>
                    <a:close/>
                    <a:moveTo>
                      <a:pt x="1668" y="332"/>
                    </a:moveTo>
                    <a:lnTo>
                      <a:pt x="1697" y="332"/>
                    </a:lnTo>
                    <a:lnTo>
                      <a:pt x="1697" y="339"/>
                    </a:lnTo>
                    <a:lnTo>
                      <a:pt x="1668" y="339"/>
                    </a:lnTo>
                    <a:lnTo>
                      <a:pt x="1668" y="332"/>
                    </a:lnTo>
                    <a:close/>
                    <a:moveTo>
                      <a:pt x="1719" y="332"/>
                    </a:moveTo>
                    <a:lnTo>
                      <a:pt x="1748" y="332"/>
                    </a:lnTo>
                    <a:lnTo>
                      <a:pt x="1748" y="339"/>
                    </a:lnTo>
                    <a:lnTo>
                      <a:pt x="1719" y="339"/>
                    </a:lnTo>
                    <a:lnTo>
                      <a:pt x="1719" y="332"/>
                    </a:lnTo>
                    <a:close/>
                    <a:moveTo>
                      <a:pt x="1769" y="332"/>
                    </a:moveTo>
                    <a:lnTo>
                      <a:pt x="1789" y="332"/>
                    </a:lnTo>
                    <a:lnTo>
                      <a:pt x="1785" y="335"/>
                    </a:lnTo>
                    <a:lnTo>
                      <a:pt x="1785" y="326"/>
                    </a:lnTo>
                    <a:lnTo>
                      <a:pt x="1793" y="326"/>
                    </a:lnTo>
                    <a:lnTo>
                      <a:pt x="1793" y="339"/>
                    </a:lnTo>
                    <a:lnTo>
                      <a:pt x="1769" y="339"/>
                    </a:lnTo>
                    <a:lnTo>
                      <a:pt x="1769" y="332"/>
                    </a:lnTo>
                    <a:close/>
                    <a:moveTo>
                      <a:pt x="1785" y="305"/>
                    </a:moveTo>
                    <a:lnTo>
                      <a:pt x="1785" y="276"/>
                    </a:lnTo>
                    <a:lnTo>
                      <a:pt x="1793" y="276"/>
                    </a:lnTo>
                    <a:lnTo>
                      <a:pt x="1793" y="305"/>
                    </a:lnTo>
                    <a:lnTo>
                      <a:pt x="1785" y="305"/>
                    </a:lnTo>
                    <a:close/>
                    <a:moveTo>
                      <a:pt x="1785" y="254"/>
                    </a:moveTo>
                    <a:lnTo>
                      <a:pt x="1785" y="225"/>
                    </a:lnTo>
                    <a:lnTo>
                      <a:pt x="1793" y="225"/>
                    </a:lnTo>
                    <a:lnTo>
                      <a:pt x="1793" y="254"/>
                    </a:lnTo>
                    <a:lnTo>
                      <a:pt x="1785" y="254"/>
                    </a:lnTo>
                    <a:close/>
                    <a:moveTo>
                      <a:pt x="1785" y="204"/>
                    </a:moveTo>
                    <a:lnTo>
                      <a:pt x="1785" y="175"/>
                    </a:lnTo>
                    <a:lnTo>
                      <a:pt x="1793" y="175"/>
                    </a:lnTo>
                    <a:lnTo>
                      <a:pt x="1793" y="204"/>
                    </a:lnTo>
                    <a:lnTo>
                      <a:pt x="1785" y="204"/>
                    </a:lnTo>
                    <a:close/>
                    <a:moveTo>
                      <a:pt x="1785" y="153"/>
                    </a:moveTo>
                    <a:lnTo>
                      <a:pt x="1785" y="124"/>
                    </a:lnTo>
                    <a:lnTo>
                      <a:pt x="1793" y="124"/>
                    </a:lnTo>
                    <a:lnTo>
                      <a:pt x="1793" y="153"/>
                    </a:lnTo>
                    <a:lnTo>
                      <a:pt x="1785" y="153"/>
                    </a:lnTo>
                    <a:close/>
                    <a:moveTo>
                      <a:pt x="1785" y="103"/>
                    </a:moveTo>
                    <a:lnTo>
                      <a:pt x="1785" y="74"/>
                    </a:lnTo>
                    <a:lnTo>
                      <a:pt x="1793" y="74"/>
                    </a:lnTo>
                    <a:lnTo>
                      <a:pt x="1793" y="103"/>
                    </a:lnTo>
                    <a:lnTo>
                      <a:pt x="1785" y="103"/>
                    </a:lnTo>
                    <a:close/>
                    <a:moveTo>
                      <a:pt x="1785" y="52"/>
                    </a:moveTo>
                    <a:lnTo>
                      <a:pt x="1785" y="24"/>
                    </a:lnTo>
                    <a:lnTo>
                      <a:pt x="1793" y="24"/>
                    </a:lnTo>
                    <a:lnTo>
                      <a:pt x="1793" y="52"/>
                    </a:lnTo>
                    <a:lnTo>
                      <a:pt x="178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7"/>
            <p:cNvGrpSpPr/>
            <p:nvPr/>
          </p:nvGrpSpPr>
          <p:grpSpPr>
            <a:xfrm>
              <a:off x="3388680" y="1442160"/>
              <a:ext cx="523800" cy="322560"/>
              <a:chOff x="3388680" y="1442160"/>
              <a:chExt cx="523800" cy="322560"/>
            </a:xfrm>
          </p:grpSpPr>
          <p:sp>
            <p:nvSpPr>
              <p:cNvPr id="198" name="Rectangle 15"/>
              <p:cNvSpPr/>
              <p:nvPr/>
            </p:nvSpPr>
            <p:spPr>
              <a:xfrm>
                <a:off x="3388680" y="1442160"/>
                <a:ext cx="52380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6"/>
              <p:cNvSpPr/>
              <p:nvPr/>
            </p:nvSpPr>
            <p:spPr>
              <a:xfrm>
                <a:off x="3388680" y="1442160"/>
                <a:ext cx="52380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18"/>
            <p:cNvSpPr/>
            <p:nvPr/>
          </p:nvSpPr>
          <p:spPr>
            <a:xfrm>
              <a:off x="3515760" y="1513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3832560" y="151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795640" y="14558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1"/>
            <p:cNvSpPr/>
            <p:nvPr/>
          </p:nvSpPr>
          <p:spPr>
            <a:xfrm>
              <a:off x="5956560" y="14558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3"/>
            <p:cNvSpPr/>
            <p:nvPr/>
          </p:nvSpPr>
          <p:spPr>
            <a:xfrm>
              <a:off x="4271040" y="1183680"/>
              <a:ext cx="78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(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"/>
            <p:cNvSpPr/>
            <p:nvPr/>
          </p:nvSpPr>
          <p:spPr>
            <a:xfrm>
              <a:off x="4897800" y="118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7"/>
            <p:cNvGrpSpPr/>
            <p:nvPr/>
          </p:nvGrpSpPr>
          <p:grpSpPr>
            <a:xfrm>
              <a:off x="2263680" y="1452960"/>
              <a:ext cx="814320" cy="277920"/>
              <a:chOff x="2263680" y="1452960"/>
              <a:chExt cx="814320" cy="277920"/>
            </a:xfrm>
          </p:grpSpPr>
          <p:sp>
            <p:nvSpPr>
              <p:cNvPr id="207" name="Rectangle 25"/>
              <p:cNvSpPr/>
              <p:nvPr/>
            </p:nvSpPr>
            <p:spPr>
              <a:xfrm>
                <a:off x="2263680" y="1452960"/>
                <a:ext cx="81432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6"/>
              <p:cNvSpPr/>
              <p:nvPr/>
            </p:nvSpPr>
            <p:spPr>
              <a:xfrm>
                <a:off x="2263680" y="1452960"/>
                <a:ext cx="814320" cy="27792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28"/>
            <p:cNvSpPr/>
            <p:nvPr/>
          </p:nvSpPr>
          <p:spPr>
            <a:xfrm>
              <a:off x="2435400" y="153324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or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2934720" y="1533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0"/>
            <p:cNvSpPr/>
            <p:nvPr/>
          </p:nvSpPr>
          <p:spPr>
            <a:xfrm>
              <a:off x="3070440" y="1553400"/>
              <a:ext cx="163440" cy="89640"/>
            </a:xfrm>
            <a:custGeom>
              <a:avLst/>
              <a:gdLst/>
              <a:ahLst/>
              <a:rect l="l" t="t" r="r" b="b"/>
              <a:pathLst>
                <a:path w="1467" h="800">
                  <a:moveTo>
                    <a:pt x="67" y="333"/>
                  </a:moveTo>
                  <a:lnTo>
                    <a:pt x="800" y="333"/>
                  </a:lnTo>
                  <a:cubicBezTo>
                    <a:pt x="837" y="333"/>
                    <a:pt x="867" y="363"/>
                    <a:pt x="867" y="400"/>
                  </a:cubicBezTo>
                  <a:cubicBezTo>
                    <a:pt x="867" y="437"/>
                    <a:pt x="837" y="467"/>
                    <a:pt x="800" y="467"/>
                  </a:cubicBezTo>
                  <a:lnTo>
                    <a:pt x="67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7" y="333"/>
                  </a:cubicBezTo>
                  <a:close/>
                  <a:moveTo>
                    <a:pt x="667" y="0"/>
                  </a:moveTo>
                  <a:lnTo>
                    <a:pt x="1467" y="400"/>
                  </a:lnTo>
                  <a:lnTo>
                    <a:pt x="667" y="80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1"/>
            <p:cNvSpPr/>
            <p:nvPr/>
          </p:nvSpPr>
          <p:spPr>
            <a:xfrm>
              <a:off x="2258640" y="1123560"/>
              <a:ext cx="3731400" cy="10800"/>
            </a:xfrm>
            <a:custGeom>
              <a:avLst/>
              <a:gdLst/>
              <a:ahLst/>
              <a:rect l="l" t="t" r="r" b="b"/>
              <a:pathLst>
                <a:path w="16757" h="50">
                  <a:moveTo>
                    <a:pt x="25" y="0"/>
                  </a:moveTo>
                  <a:lnTo>
                    <a:pt x="375" y="0"/>
                  </a:lnTo>
                  <a:cubicBezTo>
                    <a:pt x="389" y="0"/>
                    <a:pt x="400" y="12"/>
                    <a:pt x="400" y="25"/>
                  </a:cubicBezTo>
                  <a:cubicBezTo>
                    <a:pt x="400" y="39"/>
                    <a:pt x="389" y="50"/>
                    <a:pt x="375" y="50"/>
                  </a:cubicBezTo>
                  <a:lnTo>
                    <a:pt x="25" y="50"/>
                  </a:lnTo>
                  <a:cubicBezTo>
                    <a:pt x="12" y="50"/>
                    <a:pt x="0" y="39"/>
                    <a:pt x="0" y="25"/>
                  </a:cubicBezTo>
                  <a:cubicBezTo>
                    <a:pt x="0" y="12"/>
                    <a:pt x="12" y="0"/>
                    <a:pt x="25" y="0"/>
                  </a:cubicBezTo>
                  <a:close/>
                  <a:moveTo>
                    <a:pt x="575" y="0"/>
                  </a:moveTo>
                  <a:lnTo>
                    <a:pt x="576" y="0"/>
                  </a:lnTo>
                  <a:cubicBezTo>
                    <a:pt x="589" y="0"/>
                    <a:pt x="601" y="12"/>
                    <a:pt x="601" y="25"/>
                  </a:cubicBezTo>
                  <a:cubicBezTo>
                    <a:pt x="601" y="39"/>
                    <a:pt x="589" y="50"/>
                    <a:pt x="576" y="50"/>
                  </a:cubicBezTo>
                  <a:lnTo>
                    <a:pt x="575" y="50"/>
                  </a:lnTo>
                  <a:cubicBezTo>
                    <a:pt x="562" y="50"/>
                    <a:pt x="550" y="39"/>
                    <a:pt x="550" y="25"/>
                  </a:cubicBezTo>
                  <a:cubicBezTo>
                    <a:pt x="550" y="12"/>
                    <a:pt x="562" y="0"/>
                    <a:pt x="575" y="0"/>
                  </a:cubicBezTo>
                  <a:close/>
                  <a:moveTo>
                    <a:pt x="776" y="0"/>
                  </a:moveTo>
                  <a:lnTo>
                    <a:pt x="1126" y="0"/>
                  </a:lnTo>
                  <a:cubicBezTo>
                    <a:pt x="1139" y="0"/>
                    <a:pt x="1151" y="12"/>
                    <a:pt x="1151" y="25"/>
                  </a:cubicBezTo>
                  <a:cubicBezTo>
                    <a:pt x="1151" y="39"/>
                    <a:pt x="1139" y="50"/>
                    <a:pt x="1126" y="50"/>
                  </a:cubicBezTo>
                  <a:lnTo>
                    <a:pt x="776" y="50"/>
                  </a:lnTo>
                  <a:cubicBezTo>
                    <a:pt x="762" y="50"/>
                    <a:pt x="751" y="39"/>
                    <a:pt x="751" y="25"/>
                  </a:cubicBezTo>
                  <a:cubicBezTo>
                    <a:pt x="751" y="12"/>
                    <a:pt x="762" y="0"/>
                    <a:pt x="776" y="0"/>
                  </a:cubicBezTo>
                  <a:close/>
                  <a:moveTo>
                    <a:pt x="1326" y="0"/>
                  </a:moveTo>
                  <a:lnTo>
                    <a:pt x="1326" y="0"/>
                  </a:lnTo>
                  <a:cubicBezTo>
                    <a:pt x="1339" y="0"/>
                    <a:pt x="1351" y="12"/>
                    <a:pt x="1351" y="25"/>
                  </a:cubicBezTo>
                  <a:cubicBezTo>
                    <a:pt x="1351" y="39"/>
                    <a:pt x="1339" y="50"/>
                    <a:pt x="1326" y="50"/>
                  </a:cubicBezTo>
                  <a:lnTo>
                    <a:pt x="1326" y="50"/>
                  </a:lnTo>
                  <a:cubicBezTo>
                    <a:pt x="1312" y="50"/>
                    <a:pt x="1301" y="39"/>
                    <a:pt x="1301" y="25"/>
                  </a:cubicBezTo>
                  <a:cubicBezTo>
                    <a:pt x="1301" y="12"/>
                    <a:pt x="1312" y="0"/>
                    <a:pt x="1326" y="0"/>
                  </a:cubicBezTo>
                  <a:close/>
                  <a:moveTo>
                    <a:pt x="1526" y="0"/>
                  </a:moveTo>
                  <a:lnTo>
                    <a:pt x="1876" y="0"/>
                  </a:lnTo>
                  <a:cubicBezTo>
                    <a:pt x="1889" y="0"/>
                    <a:pt x="1901" y="12"/>
                    <a:pt x="1901" y="25"/>
                  </a:cubicBezTo>
                  <a:cubicBezTo>
                    <a:pt x="1901" y="39"/>
                    <a:pt x="1889" y="50"/>
                    <a:pt x="1876" y="50"/>
                  </a:cubicBezTo>
                  <a:lnTo>
                    <a:pt x="1526" y="50"/>
                  </a:lnTo>
                  <a:cubicBezTo>
                    <a:pt x="1512" y="50"/>
                    <a:pt x="1501" y="39"/>
                    <a:pt x="1501" y="25"/>
                  </a:cubicBezTo>
                  <a:cubicBezTo>
                    <a:pt x="1501" y="12"/>
                    <a:pt x="1512" y="0"/>
                    <a:pt x="1526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9" y="0"/>
                    <a:pt x="2101" y="12"/>
                    <a:pt x="2101" y="25"/>
                  </a:cubicBezTo>
                  <a:cubicBezTo>
                    <a:pt x="2101" y="39"/>
                    <a:pt x="2089" y="50"/>
                    <a:pt x="2076" y="50"/>
                  </a:cubicBezTo>
                  <a:lnTo>
                    <a:pt x="2076" y="50"/>
                  </a:lnTo>
                  <a:cubicBezTo>
                    <a:pt x="2062" y="50"/>
                    <a:pt x="2051" y="39"/>
                    <a:pt x="2051" y="25"/>
                  </a:cubicBezTo>
                  <a:cubicBezTo>
                    <a:pt x="2051" y="12"/>
                    <a:pt x="2062" y="0"/>
                    <a:pt x="2076" y="0"/>
                  </a:cubicBezTo>
                  <a:close/>
                  <a:moveTo>
                    <a:pt x="2276" y="0"/>
                  </a:moveTo>
                  <a:lnTo>
                    <a:pt x="2626" y="0"/>
                  </a:lnTo>
                  <a:cubicBezTo>
                    <a:pt x="2639" y="0"/>
                    <a:pt x="2651" y="12"/>
                    <a:pt x="2651" y="25"/>
                  </a:cubicBezTo>
                  <a:cubicBezTo>
                    <a:pt x="2651" y="39"/>
                    <a:pt x="2639" y="50"/>
                    <a:pt x="2626" y="50"/>
                  </a:cubicBezTo>
                  <a:lnTo>
                    <a:pt x="2276" y="50"/>
                  </a:lnTo>
                  <a:cubicBezTo>
                    <a:pt x="2262" y="50"/>
                    <a:pt x="2251" y="39"/>
                    <a:pt x="2251" y="25"/>
                  </a:cubicBezTo>
                  <a:cubicBezTo>
                    <a:pt x="2251" y="12"/>
                    <a:pt x="2262" y="0"/>
                    <a:pt x="2276" y="0"/>
                  </a:cubicBezTo>
                  <a:close/>
                  <a:moveTo>
                    <a:pt x="2826" y="0"/>
                  </a:moveTo>
                  <a:lnTo>
                    <a:pt x="2826" y="0"/>
                  </a:lnTo>
                  <a:cubicBezTo>
                    <a:pt x="2839" y="0"/>
                    <a:pt x="2851" y="12"/>
                    <a:pt x="2851" y="25"/>
                  </a:cubicBezTo>
                  <a:cubicBezTo>
                    <a:pt x="2851" y="39"/>
                    <a:pt x="2839" y="50"/>
                    <a:pt x="2826" y="50"/>
                  </a:cubicBezTo>
                  <a:lnTo>
                    <a:pt x="2826" y="50"/>
                  </a:lnTo>
                  <a:cubicBezTo>
                    <a:pt x="2812" y="50"/>
                    <a:pt x="2801" y="39"/>
                    <a:pt x="2801" y="25"/>
                  </a:cubicBezTo>
                  <a:cubicBezTo>
                    <a:pt x="2801" y="12"/>
                    <a:pt x="2812" y="0"/>
                    <a:pt x="2826" y="0"/>
                  </a:cubicBezTo>
                  <a:close/>
                  <a:moveTo>
                    <a:pt x="3026" y="0"/>
                  </a:moveTo>
                  <a:lnTo>
                    <a:pt x="3376" y="0"/>
                  </a:lnTo>
                  <a:cubicBezTo>
                    <a:pt x="3389" y="0"/>
                    <a:pt x="3401" y="12"/>
                    <a:pt x="3401" y="25"/>
                  </a:cubicBezTo>
                  <a:cubicBezTo>
                    <a:pt x="3401" y="39"/>
                    <a:pt x="3389" y="50"/>
                    <a:pt x="3376" y="50"/>
                  </a:cubicBezTo>
                  <a:lnTo>
                    <a:pt x="3026" y="50"/>
                  </a:lnTo>
                  <a:cubicBezTo>
                    <a:pt x="3012" y="50"/>
                    <a:pt x="3001" y="39"/>
                    <a:pt x="3001" y="25"/>
                  </a:cubicBezTo>
                  <a:cubicBezTo>
                    <a:pt x="3001" y="12"/>
                    <a:pt x="3012" y="0"/>
                    <a:pt x="3026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90" y="0"/>
                    <a:pt x="3601" y="12"/>
                    <a:pt x="3601" y="25"/>
                  </a:cubicBezTo>
                  <a:cubicBezTo>
                    <a:pt x="3601" y="39"/>
                    <a:pt x="3590" y="50"/>
                    <a:pt x="3576" y="50"/>
                  </a:cubicBezTo>
                  <a:lnTo>
                    <a:pt x="3576" y="50"/>
                  </a:lnTo>
                  <a:cubicBezTo>
                    <a:pt x="3562" y="50"/>
                    <a:pt x="3551" y="39"/>
                    <a:pt x="3551" y="25"/>
                  </a:cubicBezTo>
                  <a:cubicBezTo>
                    <a:pt x="3551" y="12"/>
                    <a:pt x="3562" y="0"/>
                    <a:pt x="3576" y="0"/>
                  </a:cubicBezTo>
                  <a:close/>
                  <a:moveTo>
                    <a:pt x="3776" y="0"/>
                  </a:moveTo>
                  <a:lnTo>
                    <a:pt x="4126" y="0"/>
                  </a:lnTo>
                  <a:cubicBezTo>
                    <a:pt x="4140" y="0"/>
                    <a:pt x="4151" y="12"/>
                    <a:pt x="4151" y="25"/>
                  </a:cubicBezTo>
                  <a:cubicBezTo>
                    <a:pt x="4151" y="39"/>
                    <a:pt x="4140" y="50"/>
                    <a:pt x="4126" y="50"/>
                  </a:cubicBezTo>
                  <a:lnTo>
                    <a:pt x="3776" y="50"/>
                  </a:lnTo>
                  <a:cubicBezTo>
                    <a:pt x="3762" y="50"/>
                    <a:pt x="3751" y="39"/>
                    <a:pt x="3751" y="25"/>
                  </a:cubicBezTo>
                  <a:cubicBezTo>
                    <a:pt x="3751" y="12"/>
                    <a:pt x="3762" y="0"/>
                    <a:pt x="3776" y="0"/>
                  </a:cubicBezTo>
                  <a:close/>
                  <a:moveTo>
                    <a:pt x="4326" y="0"/>
                  </a:moveTo>
                  <a:lnTo>
                    <a:pt x="4326" y="0"/>
                  </a:lnTo>
                  <a:cubicBezTo>
                    <a:pt x="4340" y="0"/>
                    <a:pt x="4351" y="12"/>
                    <a:pt x="4351" y="25"/>
                  </a:cubicBezTo>
                  <a:cubicBezTo>
                    <a:pt x="4351" y="39"/>
                    <a:pt x="4340" y="50"/>
                    <a:pt x="4326" y="50"/>
                  </a:cubicBezTo>
                  <a:lnTo>
                    <a:pt x="4326" y="50"/>
                  </a:lnTo>
                  <a:cubicBezTo>
                    <a:pt x="4312" y="50"/>
                    <a:pt x="4301" y="39"/>
                    <a:pt x="4301" y="25"/>
                  </a:cubicBezTo>
                  <a:cubicBezTo>
                    <a:pt x="4301" y="12"/>
                    <a:pt x="4312" y="0"/>
                    <a:pt x="4326" y="0"/>
                  </a:cubicBezTo>
                  <a:close/>
                  <a:moveTo>
                    <a:pt x="4526" y="0"/>
                  </a:moveTo>
                  <a:lnTo>
                    <a:pt x="4876" y="0"/>
                  </a:lnTo>
                  <a:cubicBezTo>
                    <a:pt x="4890" y="0"/>
                    <a:pt x="4901" y="12"/>
                    <a:pt x="4901" y="25"/>
                  </a:cubicBezTo>
                  <a:cubicBezTo>
                    <a:pt x="4901" y="39"/>
                    <a:pt x="4890" y="50"/>
                    <a:pt x="4876" y="50"/>
                  </a:cubicBezTo>
                  <a:lnTo>
                    <a:pt x="4526" y="50"/>
                  </a:lnTo>
                  <a:cubicBezTo>
                    <a:pt x="4512" y="50"/>
                    <a:pt x="4501" y="39"/>
                    <a:pt x="4501" y="25"/>
                  </a:cubicBezTo>
                  <a:cubicBezTo>
                    <a:pt x="4501" y="12"/>
                    <a:pt x="4512" y="0"/>
                    <a:pt x="4526" y="0"/>
                  </a:cubicBezTo>
                  <a:close/>
                  <a:moveTo>
                    <a:pt x="5076" y="0"/>
                  </a:moveTo>
                  <a:lnTo>
                    <a:pt x="5076" y="0"/>
                  </a:lnTo>
                  <a:cubicBezTo>
                    <a:pt x="5090" y="0"/>
                    <a:pt x="5101" y="12"/>
                    <a:pt x="5101" y="25"/>
                  </a:cubicBezTo>
                  <a:cubicBezTo>
                    <a:pt x="5101" y="39"/>
                    <a:pt x="5090" y="50"/>
                    <a:pt x="5076" y="50"/>
                  </a:cubicBezTo>
                  <a:lnTo>
                    <a:pt x="5076" y="50"/>
                  </a:lnTo>
                  <a:cubicBezTo>
                    <a:pt x="5062" y="50"/>
                    <a:pt x="5051" y="39"/>
                    <a:pt x="5051" y="25"/>
                  </a:cubicBezTo>
                  <a:cubicBezTo>
                    <a:pt x="5051" y="12"/>
                    <a:pt x="5062" y="0"/>
                    <a:pt x="5076" y="0"/>
                  </a:cubicBezTo>
                  <a:close/>
                  <a:moveTo>
                    <a:pt x="5276" y="0"/>
                  </a:moveTo>
                  <a:lnTo>
                    <a:pt x="5626" y="0"/>
                  </a:lnTo>
                  <a:cubicBezTo>
                    <a:pt x="5640" y="0"/>
                    <a:pt x="5651" y="12"/>
                    <a:pt x="5651" y="25"/>
                  </a:cubicBezTo>
                  <a:cubicBezTo>
                    <a:pt x="5651" y="39"/>
                    <a:pt x="5640" y="50"/>
                    <a:pt x="5626" y="50"/>
                  </a:cubicBezTo>
                  <a:lnTo>
                    <a:pt x="5276" y="50"/>
                  </a:lnTo>
                  <a:cubicBezTo>
                    <a:pt x="5262" y="50"/>
                    <a:pt x="5251" y="39"/>
                    <a:pt x="5251" y="25"/>
                  </a:cubicBezTo>
                  <a:cubicBezTo>
                    <a:pt x="5251" y="12"/>
                    <a:pt x="5262" y="0"/>
                    <a:pt x="5276" y="0"/>
                  </a:cubicBezTo>
                  <a:close/>
                  <a:moveTo>
                    <a:pt x="5826" y="0"/>
                  </a:moveTo>
                  <a:lnTo>
                    <a:pt x="5826" y="0"/>
                  </a:lnTo>
                  <a:cubicBezTo>
                    <a:pt x="5840" y="0"/>
                    <a:pt x="5851" y="12"/>
                    <a:pt x="5851" y="25"/>
                  </a:cubicBezTo>
                  <a:cubicBezTo>
                    <a:pt x="5851" y="39"/>
                    <a:pt x="5840" y="50"/>
                    <a:pt x="5826" y="50"/>
                  </a:cubicBezTo>
                  <a:lnTo>
                    <a:pt x="5826" y="50"/>
                  </a:lnTo>
                  <a:cubicBezTo>
                    <a:pt x="5812" y="50"/>
                    <a:pt x="5801" y="39"/>
                    <a:pt x="5801" y="25"/>
                  </a:cubicBezTo>
                  <a:cubicBezTo>
                    <a:pt x="5801" y="12"/>
                    <a:pt x="5812" y="0"/>
                    <a:pt x="5826" y="0"/>
                  </a:cubicBezTo>
                  <a:close/>
                  <a:moveTo>
                    <a:pt x="6026" y="0"/>
                  </a:moveTo>
                  <a:lnTo>
                    <a:pt x="6376" y="0"/>
                  </a:lnTo>
                  <a:cubicBezTo>
                    <a:pt x="6390" y="0"/>
                    <a:pt x="6401" y="12"/>
                    <a:pt x="6401" y="25"/>
                  </a:cubicBezTo>
                  <a:cubicBezTo>
                    <a:pt x="6401" y="39"/>
                    <a:pt x="6390" y="50"/>
                    <a:pt x="6376" y="50"/>
                  </a:cubicBezTo>
                  <a:lnTo>
                    <a:pt x="6026" y="50"/>
                  </a:lnTo>
                  <a:cubicBezTo>
                    <a:pt x="6012" y="50"/>
                    <a:pt x="6001" y="39"/>
                    <a:pt x="6001" y="25"/>
                  </a:cubicBezTo>
                  <a:cubicBezTo>
                    <a:pt x="6001" y="12"/>
                    <a:pt x="6012" y="0"/>
                    <a:pt x="6026" y="0"/>
                  </a:cubicBezTo>
                  <a:close/>
                  <a:moveTo>
                    <a:pt x="6576" y="0"/>
                  </a:moveTo>
                  <a:lnTo>
                    <a:pt x="6576" y="0"/>
                  </a:lnTo>
                  <a:cubicBezTo>
                    <a:pt x="6590" y="0"/>
                    <a:pt x="6601" y="12"/>
                    <a:pt x="6601" y="25"/>
                  </a:cubicBezTo>
                  <a:cubicBezTo>
                    <a:pt x="6601" y="39"/>
                    <a:pt x="6590" y="50"/>
                    <a:pt x="6576" y="50"/>
                  </a:cubicBezTo>
                  <a:lnTo>
                    <a:pt x="6576" y="50"/>
                  </a:lnTo>
                  <a:cubicBezTo>
                    <a:pt x="6562" y="50"/>
                    <a:pt x="6551" y="39"/>
                    <a:pt x="6551" y="25"/>
                  </a:cubicBezTo>
                  <a:cubicBezTo>
                    <a:pt x="6551" y="12"/>
                    <a:pt x="6562" y="0"/>
                    <a:pt x="6576" y="0"/>
                  </a:cubicBezTo>
                  <a:close/>
                  <a:moveTo>
                    <a:pt x="6776" y="0"/>
                  </a:moveTo>
                  <a:lnTo>
                    <a:pt x="7126" y="0"/>
                  </a:lnTo>
                  <a:cubicBezTo>
                    <a:pt x="7140" y="0"/>
                    <a:pt x="7151" y="12"/>
                    <a:pt x="7151" y="25"/>
                  </a:cubicBezTo>
                  <a:cubicBezTo>
                    <a:pt x="7151" y="39"/>
                    <a:pt x="7140" y="50"/>
                    <a:pt x="7126" y="50"/>
                  </a:cubicBezTo>
                  <a:lnTo>
                    <a:pt x="6776" y="50"/>
                  </a:lnTo>
                  <a:cubicBezTo>
                    <a:pt x="6762" y="50"/>
                    <a:pt x="6751" y="39"/>
                    <a:pt x="6751" y="25"/>
                  </a:cubicBezTo>
                  <a:cubicBezTo>
                    <a:pt x="6751" y="12"/>
                    <a:pt x="6762" y="0"/>
                    <a:pt x="6776" y="0"/>
                  </a:cubicBezTo>
                  <a:close/>
                  <a:moveTo>
                    <a:pt x="7326" y="0"/>
                  </a:moveTo>
                  <a:lnTo>
                    <a:pt x="7326" y="0"/>
                  </a:lnTo>
                  <a:cubicBezTo>
                    <a:pt x="7340" y="0"/>
                    <a:pt x="7351" y="12"/>
                    <a:pt x="7351" y="25"/>
                  </a:cubicBezTo>
                  <a:cubicBezTo>
                    <a:pt x="7351" y="39"/>
                    <a:pt x="7340" y="50"/>
                    <a:pt x="7326" y="50"/>
                  </a:cubicBezTo>
                  <a:lnTo>
                    <a:pt x="7326" y="50"/>
                  </a:lnTo>
                  <a:cubicBezTo>
                    <a:pt x="7312" y="50"/>
                    <a:pt x="7301" y="39"/>
                    <a:pt x="7301" y="25"/>
                  </a:cubicBezTo>
                  <a:cubicBezTo>
                    <a:pt x="7301" y="12"/>
                    <a:pt x="7312" y="0"/>
                    <a:pt x="7326" y="0"/>
                  </a:cubicBezTo>
                  <a:close/>
                  <a:moveTo>
                    <a:pt x="7526" y="0"/>
                  </a:moveTo>
                  <a:lnTo>
                    <a:pt x="7876" y="0"/>
                  </a:lnTo>
                  <a:cubicBezTo>
                    <a:pt x="7890" y="0"/>
                    <a:pt x="7901" y="12"/>
                    <a:pt x="7901" y="25"/>
                  </a:cubicBezTo>
                  <a:cubicBezTo>
                    <a:pt x="7901" y="39"/>
                    <a:pt x="7890" y="50"/>
                    <a:pt x="7876" y="50"/>
                  </a:cubicBezTo>
                  <a:lnTo>
                    <a:pt x="7526" y="50"/>
                  </a:lnTo>
                  <a:cubicBezTo>
                    <a:pt x="7512" y="50"/>
                    <a:pt x="7501" y="39"/>
                    <a:pt x="7501" y="25"/>
                  </a:cubicBezTo>
                  <a:cubicBezTo>
                    <a:pt x="7501" y="12"/>
                    <a:pt x="7512" y="0"/>
                    <a:pt x="7526" y="0"/>
                  </a:cubicBezTo>
                  <a:close/>
                  <a:moveTo>
                    <a:pt x="8076" y="0"/>
                  </a:moveTo>
                  <a:lnTo>
                    <a:pt x="8076" y="0"/>
                  </a:lnTo>
                  <a:cubicBezTo>
                    <a:pt x="8090" y="0"/>
                    <a:pt x="8101" y="12"/>
                    <a:pt x="8101" y="25"/>
                  </a:cubicBezTo>
                  <a:cubicBezTo>
                    <a:pt x="8101" y="39"/>
                    <a:pt x="8090" y="50"/>
                    <a:pt x="8076" y="50"/>
                  </a:cubicBezTo>
                  <a:lnTo>
                    <a:pt x="8076" y="50"/>
                  </a:lnTo>
                  <a:cubicBezTo>
                    <a:pt x="8062" y="50"/>
                    <a:pt x="8051" y="39"/>
                    <a:pt x="8051" y="25"/>
                  </a:cubicBezTo>
                  <a:cubicBezTo>
                    <a:pt x="8051" y="12"/>
                    <a:pt x="8062" y="0"/>
                    <a:pt x="8076" y="0"/>
                  </a:cubicBezTo>
                  <a:close/>
                  <a:moveTo>
                    <a:pt x="8276" y="0"/>
                  </a:moveTo>
                  <a:lnTo>
                    <a:pt x="8626" y="0"/>
                  </a:lnTo>
                  <a:cubicBezTo>
                    <a:pt x="8640" y="0"/>
                    <a:pt x="8651" y="12"/>
                    <a:pt x="8651" y="25"/>
                  </a:cubicBezTo>
                  <a:cubicBezTo>
                    <a:pt x="8651" y="39"/>
                    <a:pt x="8640" y="50"/>
                    <a:pt x="8626" y="50"/>
                  </a:cubicBezTo>
                  <a:lnTo>
                    <a:pt x="8276" y="50"/>
                  </a:lnTo>
                  <a:cubicBezTo>
                    <a:pt x="8262" y="50"/>
                    <a:pt x="8251" y="39"/>
                    <a:pt x="8251" y="25"/>
                  </a:cubicBezTo>
                  <a:cubicBezTo>
                    <a:pt x="8251" y="12"/>
                    <a:pt x="8262" y="0"/>
                    <a:pt x="8276" y="0"/>
                  </a:cubicBezTo>
                  <a:close/>
                  <a:moveTo>
                    <a:pt x="8826" y="0"/>
                  </a:moveTo>
                  <a:lnTo>
                    <a:pt x="8826" y="0"/>
                  </a:lnTo>
                  <a:cubicBezTo>
                    <a:pt x="8840" y="0"/>
                    <a:pt x="8851" y="12"/>
                    <a:pt x="8851" y="25"/>
                  </a:cubicBezTo>
                  <a:cubicBezTo>
                    <a:pt x="8851" y="39"/>
                    <a:pt x="8840" y="50"/>
                    <a:pt x="8826" y="50"/>
                  </a:cubicBezTo>
                  <a:lnTo>
                    <a:pt x="8826" y="50"/>
                  </a:lnTo>
                  <a:cubicBezTo>
                    <a:pt x="8812" y="50"/>
                    <a:pt x="8801" y="39"/>
                    <a:pt x="8801" y="25"/>
                  </a:cubicBezTo>
                  <a:cubicBezTo>
                    <a:pt x="8801" y="12"/>
                    <a:pt x="8812" y="0"/>
                    <a:pt x="8826" y="0"/>
                  </a:cubicBezTo>
                  <a:close/>
                  <a:moveTo>
                    <a:pt x="9026" y="0"/>
                  </a:moveTo>
                  <a:lnTo>
                    <a:pt x="9376" y="0"/>
                  </a:lnTo>
                  <a:cubicBezTo>
                    <a:pt x="9390" y="0"/>
                    <a:pt x="9401" y="12"/>
                    <a:pt x="9401" y="25"/>
                  </a:cubicBezTo>
                  <a:cubicBezTo>
                    <a:pt x="9401" y="39"/>
                    <a:pt x="9390" y="50"/>
                    <a:pt x="9376" y="50"/>
                  </a:cubicBezTo>
                  <a:lnTo>
                    <a:pt x="9026" y="50"/>
                  </a:lnTo>
                  <a:cubicBezTo>
                    <a:pt x="9012" y="50"/>
                    <a:pt x="9001" y="39"/>
                    <a:pt x="9001" y="25"/>
                  </a:cubicBezTo>
                  <a:cubicBezTo>
                    <a:pt x="9001" y="12"/>
                    <a:pt x="9012" y="0"/>
                    <a:pt x="9026" y="0"/>
                  </a:cubicBezTo>
                  <a:close/>
                  <a:moveTo>
                    <a:pt x="9576" y="0"/>
                  </a:moveTo>
                  <a:lnTo>
                    <a:pt x="9576" y="0"/>
                  </a:lnTo>
                  <a:cubicBezTo>
                    <a:pt x="9590" y="0"/>
                    <a:pt x="9601" y="12"/>
                    <a:pt x="9601" y="25"/>
                  </a:cubicBezTo>
                  <a:cubicBezTo>
                    <a:pt x="9601" y="39"/>
                    <a:pt x="9590" y="50"/>
                    <a:pt x="9576" y="50"/>
                  </a:cubicBezTo>
                  <a:lnTo>
                    <a:pt x="9576" y="50"/>
                  </a:lnTo>
                  <a:cubicBezTo>
                    <a:pt x="9562" y="50"/>
                    <a:pt x="9551" y="39"/>
                    <a:pt x="9551" y="25"/>
                  </a:cubicBezTo>
                  <a:cubicBezTo>
                    <a:pt x="9551" y="12"/>
                    <a:pt x="9562" y="0"/>
                    <a:pt x="9576" y="0"/>
                  </a:cubicBezTo>
                  <a:close/>
                  <a:moveTo>
                    <a:pt x="9776" y="0"/>
                  </a:moveTo>
                  <a:lnTo>
                    <a:pt x="10126" y="0"/>
                  </a:lnTo>
                  <a:cubicBezTo>
                    <a:pt x="10140" y="0"/>
                    <a:pt x="10151" y="12"/>
                    <a:pt x="10151" y="25"/>
                  </a:cubicBezTo>
                  <a:cubicBezTo>
                    <a:pt x="10151" y="39"/>
                    <a:pt x="10140" y="50"/>
                    <a:pt x="10126" y="50"/>
                  </a:cubicBezTo>
                  <a:lnTo>
                    <a:pt x="9776" y="50"/>
                  </a:lnTo>
                  <a:cubicBezTo>
                    <a:pt x="9762" y="50"/>
                    <a:pt x="9751" y="39"/>
                    <a:pt x="9751" y="25"/>
                  </a:cubicBezTo>
                  <a:cubicBezTo>
                    <a:pt x="9751" y="12"/>
                    <a:pt x="9762" y="0"/>
                    <a:pt x="9776" y="0"/>
                  </a:cubicBezTo>
                  <a:close/>
                  <a:moveTo>
                    <a:pt x="10326" y="0"/>
                  </a:moveTo>
                  <a:lnTo>
                    <a:pt x="10326" y="0"/>
                  </a:lnTo>
                  <a:cubicBezTo>
                    <a:pt x="10340" y="0"/>
                    <a:pt x="10351" y="12"/>
                    <a:pt x="10351" y="25"/>
                  </a:cubicBezTo>
                  <a:cubicBezTo>
                    <a:pt x="10351" y="39"/>
                    <a:pt x="10340" y="50"/>
                    <a:pt x="10326" y="50"/>
                  </a:cubicBezTo>
                  <a:lnTo>
                    <a:pt x="10326" y="50"/>
                  </a:lnTo>
                  <a:cubicBezTo>
                    <a:pt x="10312" y="50"/>
                    <a:pt x="10301" y="39"/>
                    <a:pt x="10301" y="25"/>
                  </a:cubicBezTo>
                  <a:cubicBezTo>
                    <a:pt x="10301" y="12"/>
                    <a:pt x="10312" y="0"/>
                    <a:pt x="10326" y="0"/>
                  </a:cubicBezTo>
                  <a:close/>
                  <a:moveTo>
                    <a:pt x="10526" y="0"/>
                  </a:moveTo>
                  <a:lnTo>
                    <a:pt x="10876" y="0"/>
                  </a:lnTo>
                  <a:cubicBezTo>
                    <a:pt x="10890" y="0"/>
                    <a:pt x="10901" y="12"/>
                    <a:pt x="10901" y="25"/>
                  </a:cubicBezTo>
                  <a:cubicBezTo>
                    <a:pt x="10901" y="39"/>
                    <a:pt x="10890" y="50"/>
                    <a:pt x="10876" y="50"/>
                  </a:cubicBezTo>
                  <a:lnTo>
                    <a:pt x="10526" y="50"/>
                  </a:lnTo>
                  <a:cubicBezTo>
                    <a:pt x="10512" y="50"/>
                    <a:pt x="10501" y="39"/>
                    <a:pt x="10501" y="25"/>
                  </a:cubicBezTo>
                  <a:cubicBezTo>
                    <a:pt x="10501" y="12"/>
                    <a:pt x="10512" y="0"/>
                    <a:pt x="10526" y="0"/>
                  </a:cubicBezTo>
                  <a:close/>
                  <a:moveTo>
                    <a:pt x="11076" y="0"/>
                  </a:moveTo>
                  <a:lnTo>
                    <a:pt x="11076" y="0"/>
                  </a:lnTo>
                  <a:cubicBezTo>
                    <a:pt x="11090" y="0"/>
                    <a:pt x="11101" y="12"/>
                    <a:pt x="11101" y="25"/>
                  </a:cubicBezTo>
                  <a:cubicBezTo>
                    <a:pt x="11101" y="39"/>
                    <a:pt x="11090" y="50"/>
                    <a:pt x="11076" y="50"/>
                  </a:cubicBezTo>
                  <a:lnTo>
                    <a:pt x="11076" y="50"/>
                  </a:lnTo>
                  <a:cubicBezTo>
                    <a:pt x="11062" y="50"/>
                    <a:pt x="11051" y="39"/>
                    <a:pt x="11051" y="25"/>
                  </a:cubicBezTo>
                  <a:cubicBezTo>
                    <a:pt x="11051" y="12"/>
                    <a:pt x="11062" y="0"/>
                    <a:pt x="11076" y="0"/>
                  </a:cubicBezTo>
                  <a:close/>
                  <a:moveTo>
                    <a:pt x="11276" y="0"/>
                  </a:moveTo>
                  <a:lnTo>
                    <a:pt x="11626" y="0"/>
                  </a:lnTo>
                  <a:cubicBezTo>
                    <a:pt x="11640" y="0"/>
                    <a:pt x="11651" y="12"/>
                    <a:pt x="11651" y="25"/>
                  </a:cubicBezTo>
                  <a:cubicBezTo>
                    <a:pt x="11651" y="39"/>
                    <a:pt x="11640" y="50"/>
                    <a:pt x="11626" y="50"/>
                  </a:cubicBezTo>
                  <a:lnTo>
                    <a:pt x="11276" y="50"/>
                  </a:lnTo>
                  <a:cubicBezTo>
                    <a:pt x="11262" y="50"/>
                    <a:pt x="11251" y="39"/>
                    <a:pt x="11251" y="25"/>
                  </a:cubicBezTo>
                  <a:cubicBezTo>
                    <a:pt x="11251" y="12"/>
                    <a:pt x="11262" y="0"/>
                    <a:pt x="11276" y="0"/>
                  </a:cubicBezTo>
                  <a:close/>
                  <a:moveTo>
                    <a:pt x="11826" y="0"/>
                  </a:moveTo>
                  <a:lnTo>
                    <a:pt x="11826" y="0"/>
                  </a:lnTo>
                  <a:cubicBezTo>
                    <a:pt x="11840" y="0"/>
                    <a:pt x="11851" y="12"/>
                    <a:pt x="11851" y="25"/>
                  </a:cubicBezTo>
                  <a:cubicBezTo>
                    <a:pt x="11851" y="39"/>
                    <a:pt x="11840" y="50"/>
                    <a:pt x="11826" y="50"/>
                  </a:cubicBezTo>
                  <a:lnTo>
                    <a:pt x="11826" y="50"/>
                  </a:lnTo>
                  <a:cubicBezTo>
                    <a:pt x="11812" y="50"/>
                    <a:pt x="11801" y="39"/>
                    <a:pt x="11801" y="25"/>
                  </a:cubicBezTo>
                  <a:cubicBezTo>
                    <a:pt x="11801" y="12"/>
                    <a:pt x="11812" y="0"/>
                    <a:pt x="11826" y="0"/>
                  </a:cubicBezTo>
                  <a:close/>
                  <a:moveTo>
                    <a:pt x="12026" y="0"/>
                  </a:moveTo>
                  <a:lnTo>
                    <a:pt x="12376" y="0"/>
                  </a:lnTo>
                  <a:cubicBezTo>
                    <a:pt x="12390" y="0"/>
                    <a:pt x="12401" y="12"/>
                    <a:pt x="12401" y="25"/>
                  </a:cubicBezTo>
                  <a:cubicBezTo>
                    <a:pt x="12401" y="39"/>
                    <a:pt x="12390" y="50"/>
                    <a:pt x="12376" y="50"/>
                  </a:cubicBezTo>
                  <a:lnTo>
                    <a:pt x="12026" y="50"/>
                  </a:lnTo>
                  <a:cubicBezTo>
                    <a:pt x="12012" y="50"/>
                    <a:pt x="12001" y="39"/>
                    <a:pt x="12001" y="25"/>
                  </a:cubicBezTo>
                  <a:cubicBezTo>
                    <a:pt x="12001" y="12"/>
                    <a:pt x="12012" y="0"/>
                    <a:pt x="12026" y="0"/>
                  </a:cubicBezTo>
                  <a:close/>
                  <a:moveTo>
                    <a:pt x="12576" y="0"/>
                  </a:moveTo>
                  <a:lnTo>
                    <a:pt x="12576" y="0"/>
                  </a:lnTo>
                  <a:cubicBezTo>
                    <a:pt x="12590" y="0"/>
                    <a:pt x="12601" y="12"/>
                    <a:pt x="12601" y="25"/>
                  </a:cubicBezTo>
                  <a:cubicBezTo>
                    <a:pt x="12601" y="39"/>
                    <a:pt x="12590" y="50"/>
                    <a:pt x="12576" y="50"/>
                  </a:cubicBezTo>
                  <a:lnTo>
                    <a:pt x="12576" y="50"/>
                  </a:lnTo>
                  <a:cubicBezTo>
                    <a:pt x="12562" y="50"/>
                    <a:pt x="12551" y="39"/>
                    <a:pt x="12551" y="25"/>
                  </a:cubicBezTo>
                  <a:cubicBezTo>
                    <a:pt x="12551" y="12"/>
                    <a:pt x="12562" y="0"/>
                    <a:pt x="12576" y="0"/>
                  </a:cubicBezTo>
                  <a:close/>
                  <a:moveTo>
                    <a:pt x="12776" y="0"/>
                  </a:moveTo>
                  <a:lnTo>
                    <a:pt x="13126" y="0"/>
                  </a:lnTo>
                  <a:cubicBezTo>
                    <a:pt x="13140" y="0"/>
                    <a:pt x="13151" y="12"/>
                    <a:pt x="13151" y="25"/>
                  </a:cubicBezTo>
                  <a:cubicBezTo>
                    <a:pt x="13151" y="39"/>
                    <a:pt x="13140" y="50"/>
                    <a:pt x="13126" y="50"/>
                  </a:cubicBezTo>
                  <a:lnTo>
                    <a:pt x="12776" y="50"/>
                  </a:lnTo>
                  <a:cubicBezTo>
                    <a:pt x="12763" y="50"/>
                    <a:pt x="12751" y="39"/>
                    <a:pt x="12751" y="25"/>
                  </a:cubicBezTo>
                  <a:cubicBezTo>
                    <a:pt x="12751" y="12"/>
                    <a:pt x="12763" y="0"/>
                    <a:pt x="12776" y="0"/>
                  </a:cubicBezTo>
                  <a:close/>
                  <a:moveTo>
                    <a:pt x="13326" y="0"/>
                  </a:moveTo>
                  <a:lnTo>
                    <a:pt x="13326" y="0"/>
                  </a:lnTo>
                  <a:cubicBezTo>
                    <a:pt x="13340" y="0"/>
                    <a:pt x="13351" y="12"/>
                    <a:pt x="13351" y="25"/>
                  </a:cubicBezTo>
                  <a:cubicBezTo>
                    <a:pt x="13351" y="39"/>
                    <a:pt x="13340" y="50"/>
                    <a:pt x="13326" y="50"/>
                  </a:cubicBezTo>
                  <a:lnTo>
                    <a:pt x="13326" y="50"/>
                  </a:lnTo>
                  <a:cubicBezTo>
                    <a:pt x="13313" y="50"/>
                    <a:pt x="13301" y="39"/>
                    <a:pt x="13301" y="25"/>
                  </a:cubicBezTo>
                  <a:cubicBezTo>
                    <a:pt x="13301" y="12"/>
                    <a:pt x="13313" y="0"/>
                    <a:pt x="13326" y="0"/>
                  </a:cubicBezTo>
                  <a:close/>
                  <a:moveTo>
                    <a:pt x="13526" y="0"/>
                  </a:moveTo>
                  <a:lnTo>
                    <a:pt x="13876" y="0"/>
                  </a:lnTo>
                  <a:cubicBezTo>
                    <a:pt x="13890" y="0"/>
                    <a:pt x="13901" y="12"/>
                    <a:pt x="13901" y="25"/>
                  </a:cubicBezTo>
                  <a:cubicBezTo>
                    <a:pt x="13901" y="39"/>
                    <a:pt x="13890" y="50"/>
                    <a:pt x="13876" y="50"/>
                  </a:cubicBezTo>
                  <a:lnTo>
                    <a:pt x="13526" y="50"/>
                  </a:lnTo>
                  <a:cubicBezTo>
                    <a:pt x="13513" y="50"/>
                    <a:pt x="13501" y="39"/>
                    <a:pt x="13501" y="25"/>
                  </a:cubicBezTo>
                  <a:cubicBezTo>
                    <a:pt x="13501" y="12"/>
                    <a:pt x="13513" y="0"/>
                    <a:pt x="13526" y="0"/>
                  </a:cubicBezTo>
                  <a:close/>
                  <a:moveTo>
                    <a:pt x="14076" y="0"/>
                  </a:moveTo>
                  <a:lnTo>
                    <a:pt x="14076" y="0"/>
                  </a:lnTo>
                  <a:cubicBezTo>
                    <a:pt x="14090" y="0"/>
                    <a:pt x="14101" y="12"/>
                    <a:pt x="14101" y="25"/>
                  </a:cubicBezTo>
                  <a:cubicBezTo>
                    <a:pt x="14101" y="39"/>
                    <a:pt x="14090" y="50"/>
                    <a:pt x="14076" y="50"/>
                  </a:cubicBezTo>
                  <a:lnTo>
                    <a:pt x="14076" y="50"/>
                  </a:lnTo>
                  <a:cubicBezTo>
                    <a:pt x="14063" y="50"/>
                    <a:pt x="14051" y="39"/>
                    <a:pt x="14051" y="25"/>
                  </a:cubicBezTo>
                  <a:cubicBezTo>
                    <a:pt x="14051" y="12"/>
                    <a:pt x="14063" y="0"/>
                    <a:pt x="14076" y="0"/>
                  </a:cubicBezTo>
                  <a:close/>
                  <a:moveTo>
                    <a:pt x="14276" y="0"/>
                  </a:moveTo>
                  <a:lnTo>
                    <a:pt x="14626" y="0"/>
                  </a:lnTo>
                  <a:cubicBezTo>
                    <a:pt x="14640" y="0"/>
                    <a:pt x="14651" y="12"/>
                    <a:pt x="14651" y="25"/>
                  </a:cubicBezTo>
                  <a:cubicBezTo>
                    <a:pt x="14651" y="39"/>
                    <a:pt x="14640" y="50"/>
                    <a:pt x="14626" y="50"/>
                  </a:cubicBezTo>
                  <a:lnTo>
                    <a:pt x="14276" y="50"/>
                  </a:lnTo>
                  <a:cubicBezTo>
                    <a:pt x="14263" y="50"/>
                    <a:pt x="14251" y="39"/>
                    <a:pt x="14251" y="25"/>
                  </a:cubicBezTo>
                  <a:cubicBezTo>
                    <a:pt x="14251" y="12"/>
                    <a:pt x="14263" y="0"/>
                    <a:pt x="14276" y="0"/>
                  </a:cubicBezTo>
                  <a:close/>
                  <a:moveTo>
                    <a:pt x="14826" y="0"/>
                  </a:moveTo>
                  <a:lnTo>
                    <a:pt x="14826" y="0"/>
                  </a:lnTo>
                  <a:cubicBezTo>
                    <a:pt x="14840" y="0"/>
                    <a:pt x="14851" y="12"/>
                    <a:pt x="14851" y="25"/>
                  </a:cubicBezTo>
                  <a:cubicBezTo>
                    <a:pt x="14851" y="39"/>
                    <a:pt x="14840" y="50"/>
                    <a:pt x="14826" y="50"/>
                  </a:cubicBezTo>
                  <a:lnTo>
                    <a:pt x="14826" y="50"/>
                  </a:lnTo>
                  <a:cubicBezTo>
                    <a:pt x="14813" y="50"/>
                    <a:pt x="14801" y="39"/>
                    <a:pt x="14801" y="25"/>
                  </a:cubicBezTo>
                  <a:cubicBezTo>
                    <a:pt x="14801" y="12"/>
                    <a:pt x="14813" y="0"/>
                    <a:pt x="14826" y="0"/>
                  </a:cubicBezTo>
                  <a:close/>
                  <a:moveTo>
                    <a:pt x="15026" y="0"/>
                  </a:moveTo>
                  <a:lnTo>
                    <a:pt x="15376" y="0"/>
                  </a:lnTo>
                  <a:cubicBezTo>
                    <a:pt x="15390" y="0"/>
                    <a:pt x="15401" y="12"/>
                    <a:pt x="15401" y="25"/>
                  </a:cubicBezTo>
                  <a:cubicBezTo>
                    <a:pt x="15401" y="39"/>
                    <a:pt x="15390" y="50"/>
                    <a:pt x="15376" y="50"/>
                  </a:cubicBezTo>
                  <a:lnTo>
                    <a:pt x="15026" y="50"/>
                  </a:lnTo>
                  <a:cubicBezTo>
                    <a:pt x="15013" y="50"/>
                    <a:pt x="15001" y="39"/>
                    <a:pt x="15001" y="25"/>
                  </a:cubicBezTo>
                  <a:cubicBezTo>
                    <a:pt x="15001" y="12"/>
                    <a:pt x="15013" y="0"/>
                    <a:pt x="15026" y="0"/>
                  </a:cubicBezTo>
                  <a:close/>
                  <a:moveTo>
                    <a:pt x="15576" y="0"/>
                  </a:moveTo>
                  <a:lnTo>
                    <a:pt x="15577" y="0"/>
                  </a:lnTo>
                  <a:cubicBezTo>
                    <a:pt x="15590" y="0"/>
                    <a:pt x="15602" y="12"/>
                    <a:pt x="15602" y="25"/>
                  </a:cubicBezTo>
                  <a:cubicBezTo>
                    <a:pt x="15602" y="39"/>
                    <a:pt x="15590" y="50"/>
                    <a:pt x="15577" y="50"/>
                  </a:cubicBezTo>
                  <a:lnTo>
                    <a:pt x="15576" y="50"/>
                  </a:lnTo>
                  <a:cubicBezTo>
                    <a:pt x="15563" y="50"/>
                    <a:pt x="15551" y="39"/>
                    <a:pt x="15551" y="25"/>
                  </a:cubicBezTo>
                  <a:cubicBezTo>
                    <a:pt x="15551" y="12"/>
                    <a:pt x="15563" y="0"/>
                    <a:pt x="15576" y="0"/>
                  </a:cubicBezTo>
                  <a:close/>
                  <a:moveTo>
                    <a:pt x="15777" y="0"/>
                  </a:moveTo>
                  <a:lnTo>
                    <a:pt x="16127" y="0"/>
                  </a:lnTo>
                  <a:cubicBezTo>
                    <a:pt x="16140" y="0"/>
                    <a:pt x="16152" y="12"/>
                    <a:pt x="16152" y="25"/>
                  </a:cubicBezTo>
                  <a:cubicBezTo>
                    <a:pt x="16152" y="39"/>
                    <a:pt x="16140" y="50"/>
                    <a:pt x="16127" y="50"/>
                  </a:cubicBezTo>
                  <a:lnTo>
                    <a:pt x="15777" y="50"/>
                  </a:lnTo>
                  <a:cubicBezTo>
                    <a:pt x="15763" y="50"/>
                    <a:pt x="15752" y="39"/>
                    <a:pt x="15752" y="25"/>
                  </a:cubicBezTo>
                  <a:cubicBezTo>
                    <a:pt x="15752" y="12"/>
                    <a:pt x="15763" y="0"/>
                    <a:pt x="15777" y="0"/>
                  </a:cubicBezTo>
                  <a:close/>
                  <a:moveTo>
                    <a:pt x="16327" y="0"/>
                  </a:moveTo>
                  <a:lnTo>
                    <a:pt x="16327" y="0"/>
                  </a:lnTo>
                  <a:cubicBezTo>
                    <a:pt x="16340" y="0"/>
                    <a:pt x="16352" y="12"/>
                    <a:pt x="16352" y="25"/>
                  </a:cubicBezTo>
                  <a:cubicBezTo>
                    <a:pt x="16352" y="39"/>
                    <a:pt x="16340" y="50"/>
                    <a:pt x="16327" y="50"/>
                  </a:cubicBezTo>
                  <a:lnTo>
                    <a:pt x="16327" y="50"/>
                  </a:lnTo>
                  <a:cubicBezTo>
                    <a:pt x="16313" y="50"/>
                    <a:pt x="16302" y="39"/>
                    <a:pt x="16302" y="25"/>
                  </a:cubicBezTo>
                  <a:cubicBezTo>
                    <a:pt x="16302" y="12"/>
                    <a:pt x="16313" y="0"/>
                    <a:pt x="16327" y="0"/>
                  </a:cubicBezTo>
                  <a:close/>
                  <a:moveTo>
                    <a:pt x="16527" y="0"/>
                  </a:moveTo>
                  <a:lnTo>
                    <a:pt x="16732" y="0"/>
                  </a:lnTo>
                  <a:cubicBezTo>
                    <a:pt x="16746" y="0"/>
                    <a:pt x="16757" y="12"/>
                    <a:pt x="16757" y="25"/>
                  </a:cubicBezTo>
                  <a:cubicBezTo>
                    <a:pt x="16757" y="39"/>
                    <a:pt x="16746" y="50"/>
                    <a:pt x="16732" y="50"/>
                  </a:cubicBezTo>
                  <a:lnTo>
                    <a:pt x="16527" y="50"/>
                  </a:lnTo>
                  <a:cubicBezTo>
                    <a:pt x="16513" y="50"/>
                    <a:pt x="16502" y="39"/>
                    <a:pt x="16502" y="25"/>
                  </a:cubicBezTo>
                  <a:cubicBezTo>
                    <a:pt x="16502" y="12"/>
                    <a:pt x="16513" y="0"/>
                    <a:pt x="1652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4920" bIns="-34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2"/>
            <p:cNvSpPr/>
            <p:nvPr/>
          </p:nvSpPr>
          <p:spPr>
            <a:xfrm>
              <a:off x="5983920" y="1123560"/>
              <a:ext cx="166680" cy="169920"/>
            </a:xfrm>
            <a:custGeom>
              <a:avLst/>
              <a:gdLst/>
              <a:ahLst/>
              <a:rect l="l" t="t" r="r" b="b"/>
              <a:pathLst>
                <a:path w="750" h="762">
                  <a:moveTo>
                    <a:pt x="27" y="1"/>
                  </a:moveTo>
                  <a:lnTo>
                    <a:pt x="99" y="5"/>
                  </a:lnTo>
                  <a:lnTo>
                    <a:pt x="171" y="16"/>
                  </a:lnTo>
                  <a:lnTo>
                    <a:pt x="241" y="35"/>
                  </a:lnTo>
                  <a:lnTo>
                    <a:pt x="308" y="61"/>
                  </a:lnTo>
                  <a:lnTo>
                    <a:pt x="371" y="94"/>
                  </a:lnTo>
                  <a:lnTo>
                    <a:pt x="373" y="95"/>
                  </a:lnTo>
                  <a:cubicBezTo>
                    <a:pt x="385" y="103"/>
                    <a:pt x="388" y="118"/>
                    <a:pt x="381" y="130"/>
                  </a:cubicBezTo>
                  <a:cubicBezTo>
                    <a:pt x="373" y="141"/>
                    <a:pt x="358" y="145"/>
                    <a:pt x="346" y="137"/>
                  </a:cubicBezTo>
                  <a:lnTo>
                    <a:pt x="348" y="138"/>
                  </a:lnTo>
                  <a:lnTo>
                    <a:pt x="348" y="138"/>
                  </a:lnTo>
                  <a:lnTo>
                    <a:pt x="289" y="108"/>
                  </a:lnTo>
                  <a:lnTo>
                    <a:pt x="227" y="83"/>
                  </a:lnTo>
                  <a:lnTo>
                    <a:pt x="163" y="65"/>
                  </a:lnTo>
                  <a:lnTo>
                    <a:pt x="96" y="54"/>
                  </a:lnTo>
                  <a:lnTo>
                    <a:pt x="25" y="50"/>
                  </a:lnTo>
                  <a:cubicBezTo>
                    <a:pt x="11" y="50"/>
                    <a:pt x="0" y="38"/>
                    <a:pt x="1" y="24"/>
                  </a:cubicBezTo>
                  <a:cubicBezTo>
                    <a:pt x="2" y="10"/>
                    <a:pt x="14" y="0"/>
                    <a:pt x="27" y="1"/>
                  </a:cubicBezTo>
                  <a:close/>
                  <a:moveTo>
                    <a:pt x="533" y="223"/>
                  </a:moveTo>
                  <a:lnTo>
                    <a:pt x="533" y="223"/>
                  </a:lnTo>
                  <a:cubicBezTo>
                    <a:pt x="543" y="232"/>
                    <a:pt x="543" y="248"/>
                    <a:pt x="534" y="258"/>
                  </a:cubicBezTo>
                  <a:cubicBezTo>
                    <a:pt x="524" y="268"/>
                    <a:pt x="508" y="268"/>
                    <a:pt x="498" y="258"/>
                  </a:cubicBezTo>
                  <a:lnTo>
                    <a:pt x="498" y="258"/>
                  </a:lnTo>
                  <a:cubicBezTo>
                    <a:pt x="488" y="249"/>
                    <a:pt x="488" y="233"/>
                    <a:pt x="498" y="223"/>
                  </a:cubicBezTo>
                  <a:cubicBezTo>
                    <a:pt x="508" y="213"/>
                    <a:pt x="524" y="213"/>
                    <a:pt x="533" y="223"/>
                  </a:cubicBezTo>
                  <a:close/>
                  <a:moveTo>
                    <a:pt x="654" y="390"/>
                  </a:moveTo>
                  <a:lnTo>
                    <a:pt x="663" y="406"/>
                  </a:lnTo>
                  <a:lnTo>
                    <a:pt x="694" y="473"/>
                  </a:lnTo>
                  <a:lnTo>
                    <a:pt x="718" y="544"/>
                  </a:lnTo>
                  <a:lnTo>
                    <a:pt x="736" y="619"/>
                  </a:lnTo>
                  <a:lnTo>
                    <a:pt x="747" y="695"/>
                  </a:lnTo>
                  <a:lnTo>
                    <a:pt x="749" y="736"/>
                  </a:lnTo>
                  <a:cubicBezTo>
                    <a:pt x="750" y="749"/>
                    <a:pt x="739" y="761"/>
                    <a:pt x="725" y="762"/>
                  </a:cubicBezTo>
                  <a:cubicBezTo>
                    <a:pt x="712" y="762"/>
                    <a:pt x="700" y="752"/>
                    <a:pt x="699" y="738"/>
                  </a:cubicBezTo>
                  <a:lnTo>
                    <a:pt x="698" y="702"/>
                  </a:lnTo>
                  <a:lnTo>
                    <a:pt x="688" y="630"/>
                  </a:lnTo>
                  <a:lnTo>
                    <a:pt x="671" y="561"/>
                  </a:lnTo>
                  <a:lnTo>
                    <a:pt x="648" y="494"/>
                  </a:lnTo>
                  <a:lnTo>
                    <a:pt x="620" y="430"/>
                  </a:lnTo>
                  <a:lnTo>
                    <a:pt x="611" y="415"/>
                  </a:lnTo>
                  <a:cubicBezTo>
                    <a:pt x="604" y="403"/>
                    <a:pt x="608" y="387"/>
                    <a:pt x="620" y="380"/>
                  </a:cubicBezTo>
                  <a:cubicBezTo>
                    <a:pt x="632" y="374"/>
                    <a:pt x="647" y="378"/>
                    <a:pt x="654" y="3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3"/>
            <p:cNvSpPr/>
            <p:nvPr/>
          </p:nvSpPr>
          <p:spPr>
            <a:xfrm>
              <a:off x="3447720" y="2607840"/>
              <a:ext cx="2551680" cy="12240"/>
            </a:xfrm>
            <a:custGeom>
              <a:avLst/>
              <a:gdLst/>
              <a:ahLst/>
              <a:rect l="l" t="t" r="r" b="b"/>
              <a:pathLst>
                <a:path w="11457" h="60">
                  <a:moveTo>
                    <a:pt x="25" y="0"/>
                  </a:moveTo>
                  <a:lnTo>
                    <a:pt x="375" y="1"/>
                  </a:lnTo>
                  <a:cubicBezTo>
                    <a:pt x="389" y="1"/>
                    <a:pt x="400" y="12"/>
                    <a:pt x="400" y="26"/>
                  </a:cubicBezTo>
                  <a:cubicBezTo>
                    <a:pt x="400" y="40"/>
                    <a:pt x="389" y="51"/>
                    <a:pt x="375" y="51"/>
                  </a:cubicBezTo>
                  <a:lnTo>
                    <a:pt x="25" y="50"/>
                  </a:lnTo>
                  <a:cubicBezTo>
                    <a:pt x="12" y="50"/>
                    <a:pt x="0" y="39"/>
                    <a:pt x="0" y="25"/>
                  </a:cubicBezTo>
                  <a:cubicBezTo>
                    <a:pt x="0" y="12"/>
                    <a:pt x="12" y="0"/>
                    <a:pt x="25" y="0"/>
                  </a:cubicBezTo>
                  <a:close/>
                  <a:moveTo>
                    <a:pt x="575" y="1"/>
                  </a:moveTo>
                  <a:lnTo>
                    <a:pt x="576" y="1"/>
                  </a:lnTo>
                  <a:cubicBezTo>
                    <a:pt x="589" y="1"/>
                    <a:pt x="601" y="12"/>
                    <a:pt x="601" y="26"/>
                  </a:cubicBezTo>
                  <a:cubicBezTo>
                    <a:pt x="601" y="40"/>
                    <a:pt x="589" y="51"/>
                    <a:pt x="576" y="51"/>
                  </a:cubicBezTo>
                  <a:lnTo>
                    <a:pt x="575" y="51"/>
                  </a:lnTo>
                  <a:cubicBezTo>
                    <a:pt x="562" y="51"/>
                    <a:pt x="550" y="40"/>
                    <a:pt x="550" y="26"/>
                  </a:cubicBezTo>
                  <a:cubicBezTo>
                    <a:pt x="550" y="12"/>
                    <a:pt x="562" y="1"/>
                    <a:pt x="575" y="1"/>
                  </a:cubicBezTo>
                  <a:close/>
                  <a:moveTo>
                    <a:pt x="776" y="1"/>
                  </a:moveTo>
                  <a:lnTo>
                    <a:pt x="1126" y="1"/>
                  </a:lnTo>
                  <a:cubicBezTo>
                    <a:pt x="1139" y="1"/>
                    <a:pt x="1151" y="13"/>
                    <a:pt x="1151" y="26"/>
                  </a:cubicBezTo>
                  <a:cubicBezTo>
                    <a:pt x="1151" y="40"/>
                    <a:pt x="1139" y="51"/>
                    <a:pt x="1125" y="51"/>
                  </a:cubicBezTo>
                  <a:lnTo>
                    <a:pt x="775" y="51"/>
                  </a:lnTo>
                  <a:cubicBezTo>
                    <a:pt x="762" y="51"/>
                    <a:pt x="751" y="40"/>
                    <a:pt x="751" y="26"/>
                  </a:cubicBezTo>
                  <a:cubicBezTo>
                    <a:pt x="751" y="12"/>
                    <a:pt x="762" y="1"/>
                    <a:pt x="776" y="1"/>
                  </a:cubicBezTo>
                  <a:close/>
                  <a:moveTo>
                    <a:pt x="1326" y="2"/>
                  </a:moveTo>
                  <a:lnTo>
                    <a:pt x="1326" y="2"/>
                  </a:lnTo>
                  <a:cubicBezTo>
                    <a:pt x="1339" y="2"/>
                    <a:pt x="1351" y="13"/>
                    <a:pt x="1351" y="27"/>
                  </a:cubicBezTo>
                  <a:cubicBezTo>
                    <a:pt x="1351" y="40"/>
                    <a:pt x="1339" y="52"/>
                    <a:pt x="1326" y="52"/>
                  </a:cubicBezTo>
                  <a:lnTo>
                    <a:pt x="1326" y="52"/>
                  </a:lnTo>
                  <a:cubicBezTo>
                    <a:pt x="1312" y="52"/>
                    <a:pt x="1301" y="40"/>
                    <a:pt x="1301" y="27"/>
                  </a:cubicBezTo>
                  <a:cubicBezTo>
                    <a:pt x="1301" y="13"/>
                    <a:pt x="1312" y="2"/>
                    <a:pt x="1326" y="2"/>
                  </a:cubicBezTo>
                  <a:close/>
                  <a:moveTo>
                    <a:pt x="1526" y="2"/>
                  </a:moveTo>
                  <a:lnTo>
                    <a:pt x="1876" y="2"/>
                  </a:lnTo>
                  <a:cubicBezTo>
                    <a:pt x="1889" y="2"/>
                    <a:pt x="1901" y="13"/>
                    <a:pt x="1901" y="27"/>
                  </a:cubicBezTo>
                  <a:cubicBezTo>
                    <a:pt x="1901" y="41"/>
                    <a:pt x="1889" y="52"/>
                    <a:pt x="1876" y="52"/>
                  </a:cubicBezTo>
                  <a:lnTo>
                    <a:pt x="1526" y="52"/>
                  </a:lnTo>
                  <a:cubicBezTo>
                    <a:pt x="1512" y="52"/>
                    <a:pt x="1501" y="41"/>
                    <a:pt x="1501" y="27"/>
                  </a:cubicBezTo>
                  <a:cubicBezTo>
                    <a:pt x="1501" y="13"/>
                    <a:pt x="1512" y="2"/>
                    <a:pt x="1526" y="2"/>
                  </a:cubicBezTo>
                  <a:close/>
                  <a:moveTo>
                    <a:pt x="2076" y="2"/>
                  </a:moveTo>
                  <a:lnTo>
                    <a:pt x="2076" y="2"/>
                  </a:lnTo>
                  <a:cubicBezTo>
                    <a:pt x="2089" y="2"/>
                    <a:pt x="2101" y="13"/>
                    <a:pt x="2101" y="27"/>
                  </a:cubicBezTo>
                  <a:cubicBezTo>
                    <a:pt x="2101" y="41"/>
                    <a:pt x="2089" y="52"/>
                    <a:pt x="2076" y="52"/>
                  </a:cubicBezTo>
                  <a:lnTo>
                    <a:pt x="2076" y="52"/>
                  </a:lnTo>
                  <a:cubicBezTo>
                    <a:pt x="2062" y="52"/>
                    <a:pt x="2051" y="41"/>
                    <a:pt x="2051" y="27"/>
                  </a:cubicBezTo>
                  <a:cubicBezTo>
                    <a:pt x="2051" y="13"/>
                    <a:pt x="2062" y="2"/>
                    <a:pt x="2076" y="2"/>
                  </a:cubicBezTo>
                  <a:close/>
                  <a:moveTo>
                    <a:pt x="2276" y="2"/>
                  </a:moveTo>
                  <a:lnTo>
                    <a:pt x="2626" y="3"/>
                  </a:lnTo>
                  <a:cubicBezTo>
                    <a:pt x="2639" y="3"/>
                    <a:pt x="2651" y="14"/>
                    <a:pt x="2651" y="28"/>
                  </a:cubicBezTo>
                  <a:cubicBezTo>
                    <a:pt x="2651" y="42"/>
                    <a:pt x="2639" y="53"/>
                    <a:pt x="2626" y="53"/>
                  </a:cubicBezTo>
                  <a:lnTo>
                    <a:pt x="2276" y="52"/>
                  </a:lnTo>
                  <a:cubicBezTo>
                    <a:pt x="2262" y="52"/>
                    <a:pt x="2251" y="41"/>
                    <a:pt x="2251" y="27"/>
                  </a:cubicBezTo>
                  <a:cubicBezTo>
                    <a:pt x="2251" y="14"/>
                    <a:pt x="2262" y="2"/>
                    <a:pt x="2276" y="2"/>
                  </a:cubicBezTo>
                  <a:close/>
                  <a:moveTo>
                    <a:pt x="2826" y="3"/>
                  </a:moveTo>
                  <a:lnTo>
                    <a:pt x="2826" y="3"/>
                  </a:lnTo>
                  <a:cubicBezTo>
                    <a:pt x="2839" y="3"/>
                    <a:pt x="2851" y="14"/>
                    <a:pt x="2851" y="28"/>
                  </a:cubicBezTo>
                  <a:cubicBezTo>
                    <a:pt x="2851" y="42"/>
                    <a:pt x="2839" y="53"/>
                    <a:pt x="2826" y="53"/>
                  </a:cubicBezTo>
                  <a:lnTo>
                    <a:pt x="2826" y="53"/>
                  </a:lnTo>
                  <a:cubicBezTo>
                    <a:pt x="2812" y="53"/>
                    <a:pt x="2801" y="42"/>
                    <a:pt x="2801" y="28"/>
                  </a:cubicBezTo>
                  <a:cubicBezTo>
                    <a:pt x="2801" y="14"/>
                    <a:pt x="2812" y="3"/>
                    <a:pt x="2826" y="3"/>
                  </a:cubicBezTo>
                  <a:close/>
                  <a:moveTo>
                    <a:pt x="3026" y="3"/>
                  </a:moveTo>
                  <a:lnTo>
                    <a:pt x="3376" y="3"/>
                  </a:lnTo>
                  <a:cubicBezTo>
                    <a:pt x="3389" y="3"/>
                    <a:pt x="3401" y="15"/>
                    <a:pt x="3401" y="28"/>
                  </a:cubicBezTo>
                  <a:cubicBezTo>
                    <a:pt x="3401" y="42"/>
                    <a:pt x="3389" y="53"/>
                    <a:pt x="3376" y="53"/>
                  </a:cubicBezTo>
                  <a:lnTo>
                    <a:pt x="3026" y="53"/>
                  </a:lnTo>
                  <a:cubicBezTo>
                    <a:pt x="3012" y="53"/>
                    <a:pt x="3001" y="42"/>
                    <a:pt x="3001" y="28"/>
                  </a:cubicBezTo>
                  <a:cubicBezTo>
                    <a:pt x="3001" y="14"/>
                    <a:pt x="3012" y="3"/>
                    <a:pt x="3026" y="3"/>
                  </a:cubicBezTo>
                  <a:close/>
                  <a:moveTo>
                    <a:pt x="3576" y="4"/>
                  </a:moveTo>
                  <a:lnTo>
                    <a:pt x="3576" y="4"/>
                  </a:lnTo>
                  <a:cubicBezTo>
                    <a:pt x="3590" y="4"/>
                    <a:pt x="3601" y="15"/>
                    <a:pt x="3601" y="29"/>
                  </a:cubicBezTo>
                  <a:cubicBezTo>
                    <a:pt x="3601" y="42"/>
                    <a:pt x="3590" y="54"/>
                    <a:pt x="3576" y="54"/>
                  </a:cubicBezTo>
                  <a:lnTo>
                    <a:pt x="3576" y="54"/>
                  </a:lnTo>
                  <a:cubicBezTo>
                    <a:pt x="3562" y="54"/>
                    <a:pt x="3551" y="42"/>
                    <a:pt x="3551" y="29"/>
                  </a:cubicBezTo>
                  <a:cubicBezTo>
                    <a:pt x="3551" y="15"/>
                    <a:pt x="3562" y="4"/>
                    <a:pt x="3576" y="4"/>
                  </a:cubicBezTo>
                  <a:close/>
                  <a:moveTo>
                    <a:pt x="3776" y="4"/>
                  </a:moveTo>
                  <a:lnTo>
                    <a:pt x="4126" y="4"/>
                  </a:lnTo>
                  <a:cubicBezTo>
                    <a:pt x="4140" y="4"/>
                    <a:pt x="4151" y="15"/>
                    <a:pt x="4151" y="29"/>
                  </a:cubicBezTo>
                  <a:cubicBezTo>
                    <a:pt x="4151" y="43"/>
                    <a:pt x="4139" y="54"/>
                    <a:pt x="4126" y="54"/>
                  </a:cubicBezTo>
                  <a:lnTo>
                    <a:pt x="3776" y="54"/>
                  </a:lnTo>
                  <a:cubicBezTo>
                    <a:pt x="3762" y="54"/>
                    <a:pt x="3751" y="43"/>
                    <a:pt x="3751" y="29"/>
                  </a:cubicBezTo>
                  <a:cubicBezTo>
                    <a:pt x="3751" y="15"/>
                    <a:pt x="3762" y="4"/>
                    <a:pt x="3776" y="4"/>
                  </a:cubicBezTo>
                  <a:close/>
                  <a:moveTo>
                    <a:pt x="4326" y="4"/>
                  </a:moveTo>
                  <a:lnTo>
                    <a:pt x="4326" y="4"/>
                  </a:lnTo>
                  <a:cubicBezTo>
                    <a:pt x="4340" y="4"/>
                    <a:pt x="4351" y="15"/>
                    <a:pt x="4351" y="29"/>
                  </a:cubicBezTo>
                  <a:cubicBezTo>
                    <a:pt x="4351" y="43"/>
                    <a:pt x="4340" y="54"/>
                    <a:pt x="4326" y="54"/>
                  </a:cubicBezTo>
                  <a:lnTo>
                    <a:pt x="4326" y="54"/>
                  </a:lnTo>
                  <a:cubicBezTo>
                    <a:pt x="4312" y="54"/>
                    <a:pt x="4301" y="43"/>
                    <a:pt x="4301" y="29"/>
                  </a:cubicBezTo>
                  <a:cubicBezTo>
                    <a:pt x="4301" y="15"/>
                    <a:pt x="4312" y="4"/>
                    <a:pt x="4326" y="4"/>
                  </a:cubicBezTo>
                  <a:close/>
                  <a:moveTo>
                    <a:pt x="4526" y="4"/>
                  </a:moveTo>
                  <a:lnTo>
                    <a:pt x="4876" y="5"/>
                  </a:lnTo>
                  <a:cubicBezTo>
                    <a:pt x="4890" y="5"/>
                    <a:pt x="4901" y="16"/>
                    <a:pt x="4901" y="30"/>
                  </a:cubicBezTo>
                  <a:cubicBezTo>
                    <a:pt x="4901" y="44"/>
                    <a:pt x="4890" y="55"/>
                    <a:pt x="4876" y="55"/>
                  </a:cubicBezTo>
                  <a:lnTo>
                    <a:pt x="4526" y="54"/>
                  </a:lnTo>
                  <a:cubicBezTo>
                    <a:pt x="4512" y="54"/>
                    <a:pt x="4501" y="43"/>
                    <a:pt x="4501" y="29"/>
                  </a:cubicBezTo>
                  <a:cubicBezTo>
                    <a:pt x="4501" y="16"/>
                    <a:pt x="4512" y="4"/>
                    <a:pt x="4526" y="4"/>
                  </a:cubicBezTo>
                  <a:close/>
                  <a:moveTo>
                    <a:pt x="5076" y="5"/>
                  </a:moveTo>
                  <a:lnTo>
                    <a:pt x="5076" y="5"/>
                  </a:lnTo>
                  <a:cubicBezTo>
                    <a:pt x="5090" y="5"/>
                    <a:pt x="5101" y="16"/>
                    <a:pt x="5101" y="30"/>
                  </a:cubicBezTo>
                  <a:cubicBezTo>
                    <a:pt x="5101" y="44"/>
                    <a:pt x="5090" y="55"/>
                    <a:pt x="5076" y="55"/>
                  </a:cubicBezTo>
                  <a:lnTo>
                    <a:pt x="5076" y="55"/>
                  </a:lnTo>
                  <a:cubicBezTo>
                    <a:pt x="5062" y="55"/>
                    <a:pt x="5051" y="44"/>
                    <a:pt x="5051" y="30"/>
                  </a:cubicBezTo>
                  <a:cubicBezTo>
                    <a:pt x="5051" y="16"/>
                    <a:pt x="5062" y="5"/>
                    <a:pt x="5076" y="5"/>
                  </a:cubicBezTo>
                  <a:close/>
                  <a:moveTo>
                    <a:pt x="5276" y="5"/>
                  </a:moveTo>
                  <a:lnTo>
                    <a:pt x="5626" y="5"/>
                  </a:lnTo>
                  <a:cubicBezTo>
                    <a:pt x="5640" y="5"/>
                    <a:pt x="5651" y="17"/>
                    <a:pt x="5651" y="30"/>
                  </a:cubicBezTo>
                  <a:cubicBezTo>
                    <a:pt x="5651" y="44"/>
                    <a:pt x="5640" y="55"/>
                    <a:pt x="5626" y="55"/>
                  </a:cubicBezTo>
                  <a:lnTo>
                    <a:pt x="5276" y="55"/>
                  </a:lnTo>
                  <a:cubicBezTo>
                    <a:pt x="5262" y="55"/>
                    <a:pt x="5251" y="44"/>
                    <a:pt x="5251" y="30"/>
                  </a:cubicBezTo>
                  <a:cubicBezTo>
                    <a:pt x="5251" y="16"/>
                    <a:pt x="5262" y="5"/>
                    <a:pt x="5276" y="5"/>
                  </a:cubicBezTo>
                  <a:close/>
                  <a:moveTo>
                    <a:pt x="5826" y="6"/>
                  </a:moveTo>
                  <a:lnTo>
                    <a:pt x="5826" y="6"/>
                  </a:lnTo>
                  <a:cubicBezTo>
                    <a:pt x="5840" y="6"/>
                    <a:pt x="5851" y="17"/>
                    <a:pt x="5851" y="31"/>
                  </a:cubicBezTo>
                  <a:cubicBezTo>
                    <a:pt x="5851" y="44"/>
                    <a:pt x="5840" y="56"/>
                    <a:pt x="5826" y="56"/>
                  </a:cubicBezTo>
                  <a:lnTo>
                    <a:pt x="5826" y="56"/>
                  </a:lnTo>
                  <a:cubicBezTo>
                    <a:pt x="5812" y="56"/>
                    <a:pt x="5801" y="44"/>
                    <a:pt x="5801" y="31"/>
                  </a:cubicBezTo>
                  <a:cubicBezTo>
                    <a:pt x="5801" y="17"/>
                    <a:pt x="5812" y="6"/>
                    <a:pt x="5826" y="6"/>
                  </a:cubicBezTo>
                  <a:close/>
                  <a:moveTo>
                    <a:pt x="6026" y="6"/>
                  </a:moveTo>
                  <a:lnTo>
                    <a:pt x="6376" y="6"/>
                  </a:lnTo>
                  <a:cubicBezTo>
                    <a:pt x="6390" y="6"/>
                    <a:pt x="6401" y="17"/>
                    <a:pt x="6401" y="31"/>
                  </a:cubicBezTo>
                  <a:cubicBezTo>
                    <a:pt x="6401" y="45"/>
                    <a:pt x="6390" y="56"/>
                    <a:pt x="6376" y="56"/>
                  </a:cubicBezTo>
                  <a:lnTo>
                    <a:pt x="6026" y="56"/>
                  </a:lnTo>
                  <a:cubicBezTo>
                    <a:pt x="6012" y="56"/>
                    <a:pt x="6001" y="45"/>
                    <a:pt x="6001" y="31"/>
                  </a:cubicBezTo>
                  <a:cubicBezTo>
                    <a:pt x="6001" y="17"/>
                    <a:pt x="6012" y="6"/>
                    <a:pt x="6026" y="6"/>
                  </a:cubicBezTo>
                  <a:close/>
                  <a:moveTo>
                    <a:pt x="6576" y="6"/>
                  </a:moveTo>
                  <a:lnTo>
                    <a:pt x="6576" y="6"/>
                  </a:lnTo>
                  <a:cubicBezTo>
                    <a:pt x="6590" y="6"/>
                    <a:pt x="6601" y="17"/>
                    <a:pt x="6601" y="31"/>
                  </a:cubicBezTo>
                  <a:cubicBezTo>
                    <a:pt x="6601" y="45"/>
                    <a:pt x="6590" y="56"/>
                    <a:pt x="6576" y="56"/>
                  </a:cubicBezTo>
                  <a:lnTo>
                    <a:pt x="6576" y="56"/>
                  </a:lnTo>
                  <a:cubicBezTo>
                    <a:pt x="6562" y="56"/>
                    <a:pt x="6551" y="45"/>
                    <a:pt x="6551" y="31"/>
                  </a:cubicBezTo>
                  <a:cubicBezTo>
                    <a:pt x="6551" y="17"/>
                    <a:pt x="6562" y="6"/>
                    <a:pt x="6576" y="6"/>
                  </a:cubicBezTo>
                  <a:close/>
                  <a:moveTo>
                    <a:pt x="6776" y="6"/>
                  </a:moveTo>
                  <a:lnTo>
                    <a:pt x="7126" y="7"/>
                  </a:lnTo>
                  <a:cubicBezTo>
                    <a:pt x="7140" y="7"/>
                    <a:pt x="7151" y="18"/>
                    <a:pt x="7151" y="32"/>
                  </a:cubicBezTo>
                  <a:cubicBezTo>
                    <a:pt x="7151" y="46"/>
                    <a:pt x="7140" y="57"/>
                    <a:pt x="7126" y="57"/>
                  </a:cubicBezTo>
                  <a:lnTo>
                    <a:pt x="6776" y="56"/>
                  </a:lnTo>
                  <a:cubicBezTo>
                    <a:pt x="6762" y="56"/>
                    <a:pt x="6751" y="45"/>
                    <a:pt x="6751" y="31"/>
                  </a:cubicBezTo>
                  <a:cubicBezTo>
                    <a:pt x="6751" y="18"/>
                    <a:pt x="6762" y="6"/>
                    <a:pt x="6776" y="6"/>
                  </a:cubicBezTo>
                  <a:close/>
                  <a:moveTo>
                    <a:pt x="7326" y="7"/>
                  </a:moveTo>
                  <a:lnTo>
                    <a:pt x="7326" y="7"/>
                  </a:lnTo>
                  <a:cubicBezTo>
                    <a:pt x="7340" y="7"/>
                    <a:pt x="7351" y="18"/>
                    <a:pt x="7351" y="32"/>
                  </a:cubicBezTo>
                  <a:cubicBezTo>
                    <a:pt x="7351" y="46"/>
                    <a:pt x="7340" y="57"/>
                    <a:pt x="7326" y="57"/>
                  </a:cubicBezTo>
                  <a:lnTo>
                    <a:pt x="7326" y="57"/>
                  </a:lnTo>
                  <a:cubicBezTo>
                    <a:pt x="7312" y="57"/>
                    <a:pt x="7301" y="46"/>
                    <a:pt x="7301" y="32"/>
                  </a:cubicBezTo>
                  <a:cubicBezTo>
                    <a:pt x="7301" y="18"/>
                    <a:pt x="7312" y="7"/>
                    <a:pt x="7326" y="7"/>
                  </a:cubicBezTo>
                  <a:close/>
                  <a:moveTo>
                    <a:pt x="7526" y="7"/>
                  </a:moveTo>
                  <a:lnTo>
                    <a:pt x="7876" y="7"/>
                  </a:lnTo>
                  <a:cubicBezTo>
                    <a:pt x="7890" y="7"/>
                    <a:pt x="7901" y="19"/>
                    <a:pt x="7901" y="32"/>
                  </a:cubicBezTo>
                  <a:cubicBezTo>
                    <a:pt x="7901" y="46"/>
                    <a:pt x="7890" y="57"/>
                    <a:pt x="7876" y="57"/>
                  </a:cubicBezTo>
                  <a:lnTo>
                    <a:pt x="7526" y="57"/>
                  </a:lnTo>
                  <a:cubicBezTo>
                    <a:pt x="7512" y="57"/>
                    <a:pt x="7501" y="46"/>
                    <a:pt x="7501" y="32"/>
                  </a:cubicBezTo>
                  <a:cubicBezTo>
                    <a:pt x="7501" y="18"/>
                    <a:pt x="7512" y="7"/>
                    <a:pt x="7526" y="7"/>
                  </a:cubicBezTo>
                  <a:close/>
                  <a:moveTo>
                    <a:pt x="8076" y="8"/>
                  </a:moveTo>
                  <a:lnTo>
                    <a:pt x="8076" y="8"/>
                  </a:lnTo>
                  <a:cubicBezTo>
                    <a:pt x="8090" y="8"/>
                    <a:pt x="8101" y="19"/>
                    <a:pt x="8101" y="33"/>
                  </a:cubicBezTo>
                  <a:cubicBezTo>
                    <a:pt x="8101" y="46"/>
                    <a:pt x="8090" y="58"/>
                    <a:pt x="8076" y="58"/>
                  </a:cubicBezTo>
                  <a:lnTo>
                    <a:pt x="8076" y="58"/>
                  </a:lnTo>
                  <a:cubicBezTo>
                    <a:pt x="8062" y="58"/>
                    <a:pt x="8051" y="46"/>
                    <a:pt x="8051" y="33"/>
                  </a:cubicBezTo>
                  <a:cubicBezTo>
                    <a:pt x="8051" y="19"/>
                    <a:pt x="8062" y="8"/>
                    <a:pt x="8076" y="8"/>
                  </a:cubicBezTo>
                  <a:close/>
                  <a:moveTo>
                    <a:pt x="8276" y="8"/>
                  </a:moveTo>
                  <a:lnTo>
                    <a:pt x="8626" y="8"/>
                  </a:lnTo>
                  <a:cubicBezTo>
                    <a:pt x="8640" y="8"/>
                    <a:pt x="8651" y="19"/>
                    <a:pt x="8651" y="33"/>
                  </a:cubicBezTo>
                  <a:cubicBezTo>
                    <a:pt x="8651" y="47"/>
                    <a:pt x="8640" y="58"/>
                    <a:pt x="8626" y="58"/>
                  </a:cubicBezTo>
                  <a:lnTo>
                    <a:pt x="8276" y="58"/>
                  </a:lnTo>
                  <a:cubicBezTo>
                    <a:pt x="8262" y="58"/>
                    <a:pt x="8251" y="46"/>
                    <a:pt x="8251" y="33"/>
                  </a:cubicBezTo>
                  <a:cubicBezTo>
                    <a:pt x="8251" y="19"/>
                    <a:pt x="8262" y="8"/>
                    <a:pt x="8276" y="8"/>
                  </a:cubicBezTo>
                  <a:close/>
                  <a:moveTo>
                    <a:pt x="8826" y="8"/>
                  </a:moveTo>
                  <a:lnTo>
                    <a:pt x="8826" y="8"/>
                  </a:lnTo>
                  <a:cubicBezTo>
                    <a:pt x="8840" y="8"/>
                    <a:pt x="8851" y="19"/>
                    <a:pt x="8851" y="33"/>
                  </a:cubicBezTo>
                  <a:cubicBezTo>
                    <a:pt x="8851" y="47"/>
                    <a:pt x="8840" y="58"/>
                    <a:pt x="8826" y="58"/>
                  </a:cubicBezTo>
                  <a:lnTo>
                    <a:pt x="8826" y="58"/>
                  </a:lnTo>
                  <a:cubicBezTo>
                    <a:pt x="8812" y="58"/>
                    <a:pt x="8801" y="47"/>
                    <a:pt x="8801" y="33"/>
                  </a:cubicBezTo>
                  <a:cubicBezTo>
                    <a:pt x="8801" y="19"/>
                    <a:pt x="8812" y="8"/>
                    <a:pt x="8826" y="8"/>
                  </a:cubicBezTo>
                  <a:close/>
                  <a:moveTo>
                    <a:pt x="9026" y="8"/>
                  </a:moveTo>
                  <a:lnTo>
                    <a:pt x="9376" y="9"/>
                  </a:lnTo>
                  <a:cubicBezTo>
                    <a:pt x="9390" y="9"/>
                    <a:pt x="9401" y="20"/>
                    <a:pt x="9401" y="34"/>
                  </a:cubicBezTo>
                  <a:cubicBezTo>
                    <a:pt x="9401" y="47"/>
                    <a:pt x="9390" y="59"/>
                    <a:pt x="9376" y="59"/>
                  </a:cubicBezTo>
                  <a:lnTo>
                    <a:pt x="9026" y="58"/>
                  </a:lnTo>
                  <a:cubicBezTo>
                    <a:pt x="9012" y="58"/>
                    <a:pt x="9001" y="47"/>
                    <a:pt x="9001" y="33"/>
                  </a:cubicBezTo>
                  <a:cubicBezTo>
                    <a:pt x="9001" y="20"/>
                    <a:pt x="9012" y="8"/>
                    <a:pt x="9026" y="8"/>
                  </a:cubicBezTo>
                  <a:close/>
                  <a:moveTo>
                    <a:pt x="9576" y="9"/>
                  </a:moveTo>
                  <a:lnTo>
                    <a:pt x="9576" y="9"/>
                  </a:lnTo>
                  <a:cubicBezTo>
                    <a:pt x="9590" y="9"/>
                    <a:pt x="9601" y="20"/>
                    <a:pt x="9601" y="34"/>
                  </a:cubicBezTo>
                  <a:cubicBezTo>
                    <a:pt x="9601" y="48"/>
                    <a:pt x="9590" y="59"/>
                    <a:pt x="9576" y="59"/>
                  </a:cubicBezTo>
                  <a:lnTo>
                    <a:pt x="9576" y="59"/>
                  </a:lnTo>
                  <a:cubicBezTo>
                    <a:pt x="9562" y="59"/>
                    <a:pt x="9551" y="48"/>
                    <a:pt x="9551" y="34"/>
                  </a:cubicBezTo>
                  <a:cubicBezTo>
                    <a:pt x="9551" y="20"/>
                    <a:pt x="9562" y="9"/>
                    <a:pt x="9576" y="9"/>
                  </a:cubicBezTo>
                  <a:close/>
                  <a:moveTo>
                    <a:pt x="9776" y="9"/>
                  </a:moveTo>
                  <a:lnTo>
                    <a:pt x="10126" y="9"/>
                  </a:lnTo>
                  <a:cubicBezTo>
                    <a:pt x="10140" y="9"/>
                    <a:pt x="10151" y="21"/>
                    <a:pt x="10151" y="34"/>
                  </a:cubicBezTo>
                  <a:cubicBezTo>
                    <a:pt x="10151" y="48"/>
                    <a:pt x="10140" y="59"/>
                    <a:pt x="10126" y="59"/>
                  </a:cubicBezTo>
                  <a:lnTo>
                    <a:pt x="9776" y="59"/>
                  </a:lnTo>
                  <a:cubicBezTo>
                    <a:pt x="9762" y="59"/>
                    <a:pt x="9751" y="48"/>
                    <a:pt x="9751" y="34"/>
                  </a:cubicBezTo>
                  <a:cubicBezTo>
                    <a:pt x="9751" y="20"/>
                    <a:pt x="9762" y="9"/>
                    <a:pt x="9776" y="9"/>
                  </a:cubicBezTo>
                  <a:close/>
                  <a:moveTo>
                    <a:pt x="10326" y="9"/>
                  </a:moveTo>
                  <a:lnTo>
                    <a:pt x="10326" y="9"/>
                  </a:lnTo>
                  <a:cubicBezTo>
                    <a:pt x="10340" y="9"/>
                    <a:pt x="10351" y="21"/>
                    <a:pt x="10351" y="34"/>
                  </a:cubicBezTo>
                  <a:cubicBezTo>
                    <a:pt x="10351" y="48"/>
                    <a:pt x="10340" y="59"/>
                    <a:pt x="10326" y="59"/>
                  </a:cubicBezTo>
                  <a:lnTo>
                    <a:pt x="10326" y="59"/>
                  </a:lnTo>
                  <a:cubicBezTo>
                    <a:pt x="10312" y="59"/>
                    <a:pt x="10301" y="48"/>
                    <a:pt x="10301" y="34"/>
                  </a:cubicBezTo>
                  <a:cubicBezTo>
                    <a:pt x="10301" y="21"/>
                    <a:pt x="10312" y="9"/>
                    <a:pt x="10326" y="9"/>
                  </a:cubicBezTo>
                  <a:close/>
                  <a:moveTo>
                    <a:pt x="10526" y="10"/>
                  </a:moveTo>
                  <a:lnTo>
                    <a:pt x="10876" y="10"/>
                  </a:lnTo>
                  <a:cubicBezTo>
                    <a:pt x="10890" y="10"/>
                    <a:pt x="10901" y="21"/>
                    <a:pt x="10901" y="35"/>
                  </a:cubicBezTo>
                  <a:cubicBezTo>
                    <a:pt x="10901" y="49"/>
                    <a:pt x="10890" y="60"/>
                    <a:pt x="10876" y="60"/>
                  </a:cubicBezTo>
                  <a:lnTo>
                    <a:pt x="10526" y="60"/>
                  </a:lnTo>
                  <a:cubicBezTo>
                    <a:pt x="10512" y="60"/>
                    <a:pt x="10501" y="48"/>
                    <a:pt x="10501" y="35"/>
                  </a:cubicBezTo>
                  <a:cubicBezTo>
                    <a:pt x="10501" y="21"/>
                    <a:pt x="10512" y="10"/>
                    <a:pt x="10526" y="10"/>
                  </a:cubicBezTo>
                  <a:close/>
                  <a:moveTo>
                    <a:pt x="11076" y="10"/>
                  </a:moveTo>
                  <a:lnTo>
                    <a:pt x="11076" y="10"/>
                  </a:lnTo>
                  <a:cubicBezTo>
                    <a:pt x="11090" y="10"/>
                    <a:pt x="11101" y="21"/>
                    <a:pt x="11101" y="35"/>
                  </a:cubicBezTo>
                  <a:cubicBezTo>
                    <a:pt x="11101" y="49"/>
                    <a:pt x="11090" y="60"/>
                    <a:pt x="11076" y="60"/>
                  </a:cubicBezTo>
                  <a:lnTo>
                    <a:pt x="11076" y="60"/>
                  </a:lnTo>
                  <a:cubicBezTo>
                    <a:pt x="11062" y="60"/>
                    <a:pt x="11051" y="49"/>
                    <a:pt x="11051" y="35"/>
                  </a:cubicBezTo>
                  <a:cubicBezTo>
                    <a:pt x="11051" y="21"/>
                    <a:pt x="11062" y="10"/>
                    <a:pt x="11076" y="10"/>
                  </a:cubicBezTo>
                  <a:close/>
                  <a:moveTo>
                    <a:pt x="11276" y="10"/>
                  </a:moveTo>
                  <a:lnTo>
                    <a:pt x="11432" y="10"/>
                  </a:lnTo>
                  <a:cubicBezTo>
                    <a:pt x="11446" y="10"/>
                    <a:pt x="11457" y="22"/>
                    <a:pt x="11457" y="35"/>
                  </a:cubicBezTo>
                  <a:cubicBezTo>
                    <a:pt x="11457" y="49"/>
                    <a:pt x="11446" y="60"/>
                    <a:pt x="11432" y="60"/>
                  </a:cubicBezTo>
                  <a:lnTo>
                    <a:pt x="11276" y="60"/>
                  </a:lnTo>
                  <a:cubicBezTo>
                    <a:pt x="11262" y="60"/>
                    <a:pt x="11251" y="49"/>
                    <a:pt x="11251" y="35"/>
                  </a:cubicBezTo>
                  <a:cubicBezTo>
                    <a:pt x="11251" y="22"/>
                    <a:pt x="11262" y="10"/>
                    <a:pt x="11276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4"/>
            <p:cNvSpPr/>
            <p:nvPr/>
          </p:nvSpPr>
          <p:spPr>
            <a:xfrm>
              <a:off x="5982480" y="2450160"/>
              <a:ext cx="170280" cy="166680"/>
            </a:xfrm>
            <a:custGeom>
              <a:avLst/>
              <a:gdLst/>
              <a:ahLst/>
              <a:rect l="l" t="t" r="r" b="b"/>
              <a:pathLst>
                <a:path w="763" h="750">
                  <a:moveTo>
                    <a:pt x="762" y="27"/>
                  </a:moveTo>
                  <a:lnTo>
                    <a:pt x="758" y="99"/>
                  </a:lnTo>
                  <a:lnTo>
                    <a:pt x="747" y="171"/>
                  </a:lnTo>
                  <a:lnTo>
                    <a:pt x="728" y="241"/>
                  </a:lnTo>
                  <a:lnTo>
                    <a:pt x="701" y="308"/>
                  </a:lnTo>
                  <a:lnTo>
                    <a:pt x="669" y="371"/>
                  </a:lnTo>
                  <a:lnTo>
                    <a:pt x="667" y="374"/>
                  </a:lnTo>
                  <a:cubicBezTo>
                    <a:pt x="660" y="385"/>
                    <a:pt x="644" y="388"/>
                    <a:pt x="633" y="381"/>
                  </a:cubicBezTo>
                  <a:cubicBezTo>
                    <a:pt x="621" y="373"/>
                    <a:pt x="618" y="358"/>
                    <a:pt x="625" y="346"/>
                  </a:cubicBezTo>
                  <a:lnTo>
                    <a:pt x="624" y="348"/>
                  </a:lnTo>
                  <a:lnTo>
                    <a:pt x="624" y="348"/>
                  </a:lnTo>
                  <a:lnTo>
                    <a:pt x="655" y="289"/>
                  </a:lnTo>
                  <a:lnTo>
                    <a:pt x="679" y="227"/>
                  </a:lnTo>
                  <a:lnTo>
                    <a:pt x="697" y="163"/>
                  </a:lnTo>
                  <a:lnTo>
                    <a:pt x="708" y="96"/>
                  </a:lnTo>
                  <a:lnTo>
                    <a:pt x="712" y="25"/>
                  </a:lnTo>
                  <a:cubicBezTo>
                    <a:pt x="713" y="11"/>
                    <a:pt x="725" y="0"/>
                    <a:pt x="738" y="1"/>
                  </a:cubicBezTo>
                  <a:cubicBezTo>
                    <a:pt x="752" y="2"/>
                    <a:pt x="763" y="14"/>
                    <a:pt x="762" y="27"/>
                  </a:cubicBezTo>
                  <a:close/>
                  <a:moveTo>
                    <a:pt x="540" y="534"/>
                  </a:moveTo>
                  <a:lnTo>
                    <a:pt x="540" y="534"/>
                  </a:lnTo>
                  <a:cubicBezTo>
                    <a:pt x="530" y="543"/>
                    <a:pt x="514" y="544"/>
                    <a:pt x="505" y="534"/>
                  </a:cubicBezTo>
                  <a:cubicBezTo>
                    <a:pt x="495" y="524"/>
                    <a:pt x="495" y="508"/>
                    <a:pt x="504" y="499"/>
                  </a:cubicBezTo>
                  <a:lnTo>
                    <a:pt x="504" y="498"/>
                  </a:lnTo>
                  <a:cubicBezTo>
                    <a:pt x="514" y="489"/>
                    <a:pt x="530" y="489"/>
                    <a:pt x="540" y="498"/>
                  </a:cubicBezTo>
                  <a:cubicBezTo>
                    <a:pt x="550" y="508"/>
                    <a:pt x="550" y="524"/>
                    <a:pt x="540" y="534"/>
                  </a:cubicBezTo>
                  <a:close/>
                  <a:moveTo>
                    <a:pt x="373" y="654"/>
                  </a:moveTo>
                  <a:lnTo>
                    <a:pt x="357" y="663"/>
                  </a:lnTo>
                  <a:lnTo>
                    <a:pt x="289" y="694"/>
                  </a:lnTo>
                  <a:lnTo>
                    <a:pt x="218" y="718"/>
                  </a:lnTo>
                  <a:lnTo>
                    <a:pt x="144" y="736"/>
                  </a:lnTo>
                  <a:lnTo>
                    <a:pt x="67" y="747"/>
                  </a:lnTo>
                  <a:lnTo>
                    <a:pt x="27" y="749"/>
                  </a:lnTo>
                  <a:cubicBezTo>
                    <a:pt x="13" y="750"/>
                    <a:pt x="1" y="739"/>
                    <a:pt x="1" y="725"/>
                  </a:cubicBezTo>
                  <a:cubicBezTo>
                    <a:pt x="0" y="712"/>
                    <a:pt x="11" y="700"/>
                    <a:pt x="25" y="699"/>
                  </a:cubicBezTo>
                  <a:lnTo>
                    <a:pt x="60" y="698"/>
                  </a:lnTo>
                  <a:lnTo>
                    <a:pt x="132" y="688"/>
                  </a:lnTo>
                  <a:lnTo>
                    <a:pt x="202" y="671"/>
                  </a:lnTo>
                  <a:lnTo>
                    <a:pt x="269" y="648"/>
                  </a:lnTo>
                  <a:lnTo>
                    <a:pt x="332" y="620"/>
                  </a:lnTo>
                  <a:lnTo>
                    <a:pt x="348" y="611"/>
                  </a:lnTo>
                  <a:cubicBezTo>
                    <a:pt x="360" y="604"/>
                    <a:pt x="375" y="608"/>
                    <a:pt x="382" y="620"/>
                  </a:cubicBezTo>
                  <a:cubicBezTo>
                    <a:pt x="389" y="632"/>
                    <a:pt x="385" y="647"/>
                    <a:pt x="373" y="65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5"/>
            <p:cNvSpPr/>
            <p:nvPr/>
          </p:nvSpPr>
          <p:spPr>
            <a:xfrm>
              <a:off x="6140160" y="1329120"/>
              <a:ext cx="12600" cy="1134360"/>
            </a:xfrm>
            <a:custGeom>
              <a:avLst/>
              <a:gdLst/>
              <a:ahLst/>
              <a:rect l="l" t="t" r="r" b="b"/>
              <a:pathLst>
                <a:path w="50" h="5100">
                  <a:moveTo>
                    <a:pt x="0" y="5075"/>
                  </a:moveTo>
                  <a:lnTo>
                    <a:pt x="0" y="4725"/>
                  </a:lnTo>
                  <a:cubicBezTo>
                    <a:pt x="0" y="4712"/>
                    <a:pt x="11" y="4700"/>
                    <a:pt x="25" y="4700"/>
                  </a:cubicBezTo>
                  <a:cubicBezTo>
                    <a:pt x="39" y="4700"/>
                    <a:pt x="50" y="4712"/>
                    <a:pt x="50" y="4725"/>
                  </a:cubicBezTo>
                  <a:lnTo>
                    <a:pt x="50" y="5075"/>
                  </a:lnTo>
                  <a:cubicBezTo>
                    <a:pt x="50" y="5089"/>
                    <a:pt x="39" y="5100"/>
                    <a:pt x="25" y="5100"/>
                  </a:cubicBezTo>
                  <a:cubicBezTo>
                    <a:pt x="11" y="5100"/>
                    <a:pt x="0" y="5089"/>
                    <a:pt x="0" y="5075"/>
                  </a:cubicBezTo>
                  <a:close/>
                  <a:moveTo>
                    <a:pt x="0" y="4525"/>
                  </a:moveTo>
                  <a:lnTo>
                    <a:pt x="0" y="4525"/>
                  </a:lnTo>
                  <a:cubicBezTo>
                    <a:pt x="0" y="4512"/>
                    <a:pt x="11" y="4500"/>
                    <a:pt x="25" y="4500"/>
                  </a:cubicBezTo>
                  <a:cubicBezTo>
                    <a:pt x="39" y="4500"/>
                    <a:pt x="50" y="4512"/>
                    <a:pt x="50" y="4525"/>
                  </a:cubicBezTo>
                  <a:lnTo>
                    <a:pt x="50" y="4525"/>
                  </a:lnTo>
                  <a:cubicBezTo>
                    <a:pt x="50" y="4539"/>
                    <a:pt x="39" y="4550"/>
                    <a:pt x="25" y="4550"/>
                  </a:cubicBezTo>
                  <a:cubicBezTo>
                    <a:pt x="11" y="4550"/>
                    <a:pt x="0" y="4539"/>
                    <a:pt x="0" y="4525"/>
                  </a:cubicBezTo>
                  <a:close/>
                  <a:moveTo>
                    <a:pt x="0" y="4325"/>
                  </a:moveTo>
                  <a:lnTo>
                    <a:pt x="0" y="3975"/>
                  </a:lnTo>
                  <a:cubicBezTo>
                    <a:pt x="0" y="3962"/>
                    <a:pt x="11" y="3950"/>
                    <a:pt x="25" y="3950"/>
                  </a:cubicBezTo>
                  <a:cubicBezTo>
                    <a:pt x="39" y="3950"/>
                    <a:pt x="50" y="3962"/>
                    <a:pt x="50" y="3975"/>
                  </a:cubicBezTo>
                  <a:lnTo>
                    <a:pt x="50" y="4325"/>
                  </a:lnTo>
                  <a:cubicBezTo>
                    <a:pt x="50" y="4339"/>
                    <a:pt x="39" y="4350"/>
                    <a:pt x="25" y="4350"/>
                  </a:cubicBezTo>
                  <a:cubicBezTo>
                    <a:pt x="11" y="4350"/>
                    <a:pt x="0" y="4339"/>
                    <a:pt x="0" y="4325"/>
                  </a:cubicBezTo>
                  <a:close/>
                  <a:moveTo>
                    <a:pt x="0" y="3775"/>
                  </a:moveTo>
                  <a:lnTo>
                    <a:pt x="0" y="3775"/>
                  </a:lnTo>
                  <a:cubicBezTo>
                    <a:pt x="0" y="3762"/>
                    <a:pt x="11" y="3750"/>
                    <a:pt x="25" y="3750"/>
                  </a:cubicBezTo>
                  <a:cubicBezTo>
                    <a:pt x="39" y="3750"/>
                    <a:pt x="50" y="3762"/>
                    <a:pt x="50" y="3775"/>
                  </a:cubicBezTo>
                  <a:lnTo>
                    <a:pt x="50" y="3775"/>
                  </a:lnTo>
                  <a:cubicBezTo>
                    <a:pt x="50" y="3789"/>
                    <a:pt x="39" y="3800"/>
                    <a:pt x="25" y="3800"/>
                  </a:cubicBezTo>
                  <a:cubicBezTo>
                    <a:pt x="11" y="3800"/>
                    <a:pt x="0" y="3789"/>
                    <a:pt x="0" y="3775"/>
                  </a:cubicBezTo>
                  <a:close/>
                  <a:moveTo>
                    <a:pt x="0" y="3575"/>
                  </a:moveTo>
                  <a:lnTo>
                    <a:pt x="0" y="3225"/>
                  </a:lnTo>
                  <a:cubicBezTo>
                    <a:pt x="0" y="3212"/>
                    <a:pt x="11" y="3200"/>
                    <a:pt x="25" y="3200"/>
                  </a:cubicBezTo>
                  <a:cubicBezTo>
                    <a:pt x="39" y="3200"/>
                    <a:pt x="50" y="3212"/>
                    <a:pt x="50" y="3225"/>
                  </a:cubicBezTo>
                  <a:lnTo>
                    <a:pt x="50" y="3575"/>
                  </a:lnTo>
                  <a:cubicBezTo>
                    <a:pt x="50" y="3589"/>
                    <a:pt x="39" y="3600"/>
                    <a:pt x="25" y="3600"/>
                  </a:cubicBezTo>
                  <a:cubicBezTo>
                    <a:pt x="11" y="3600"/>
                    <a:pt x="0" y="3589"/>
                    <a:pt x="0" y="3575"/>
                  </a:cubicBezTo>
                  <a:close/>
                  <a:moveTo>
                    <a:pt x="0" y="3025"/>
                  </a:moveTo>
                  <a:lnTo>
                    <a:pt x="0" y="3025"/>
                  </a:lnTo>
                  <a:cubicBezTo>
                    <a:pt x="0" y="3012"/>
                    <a:pt x="11" y="3000"/>
                    <a:pt x="25" y="3000"/>
                  </a:cubicBezTo>
                  <a:cubicBezTo>
                    <a:pt x="39" y="3000"/>
                    <a:pt x="50" y="3012"/>
                    <a:pt x="50" y="3025"/>
                  </a:cubicBezTo>
                  <a:lnTo>
                    <a:pt x="50" y="3025"/>
                  </a:lnTo>
                  <a:cubicBezTo>
                    <a:pt x="50" y="3039"/>
                    <a:pt x="39" y="3050"/>
                    <a:pt x="25" y="3050"/>
                  </a:cubicBezTo>
                  <a:cubicBezTo>
                    <a:pt x="11" y="3050"/>
                    <a:pt x="0" y="3039"/>
                    <a:pt x="0" y="3025"/>
                  </a:cubicBezTo>
                  <a:close/>
                  <a:moveTo>
                    <a:pt x="0" y="2825"/>
                  </a:moveTo>
                  <a:lnTo>
                    <a:pt x="0" y="2475"/>
                  </a:lnTo>
                  <a:cubicBezTo>
                    <a:pt x="0" y="2462"/>
                    <a:pt x="11" y="2450"/>
                    <a:pt x="25" y="2450"/>
                  </a:cubicBezTo>
                  <a:cubicBezTo>
                    <a:pt x="39" y="2450"/>
                    <a:pt x="50" y="2462"/>
                    <a:pt x="50" y="2475"/>
                  </a:cubicBezTo>
                  <a:lnTo>
                    <a:pt x="50" y="2825"/>
                  </a:lnTo>
                  <a:cubicBezTo>
                    <a:pt x="50" y="2839"/>
                    <a:pt x="39" y="2850"/>
                    <a:pt x="25" y="2850"/>
                  </a:cubicBezTo>
                  <a:cubicBezTo>
                    <a:pt x="11" y="2850"/>
                    <a:pt x="0" y="2839"/>
                    <a:pt x="0" y="2825"/>
                  </a:cubicBezTo>
                  <a:close/>
                  <a:moveTo>
                    <a:pt x="0" y="2275"/>
                  </a:moveTo>
                  <a:lnTo>
                    <a:pt x="0" y="2275"/>
                  </a:lnTo>
                  <a:cubicBezTo>
                    <a:pt x="0" y="2261"/>
                    <a:pt x="11" y="2250"/>
                    <a:pt x="25" y="2250"/>
                  </a:cubicBezTo>
                  <a:cubicBezTo>
                    <a:pt x="39" y="2250"/>
                    <a:pt x="50" y="2261"/>
                    <a:pt x="50" y="2275"/>
                  </a:cubicBezTo>
                  <a:lnTo>
                    <a:pt x="50" y="2275"/>
                  </a:lnTo>
                  <a:cubicBezTo>
                    <a:pt x="50" y="2289"/>
                    <a:pt x="39" y="2300"/>
                    <a:pt x="25" y="2300"/>
                  </a:cubicBezTo>
                  <a:cubicBezTo>
                    <a:pt x="11" y="2300"/>
                    <a:pt x="0" y="2289"/>
                    <a:pt x="0" y="2275"/>
                  </a:cubicBezTo>
                  <a:close/>
                  <a:moveTo>
                    <a:pt x="0" y="2075"/>
                  </a:moveTo>
                  <a:lnTo>
                    <a:pt x="0" y="1725"/>
                  </a:lnTo>
                  <a:cubicBezTo>
                    <a:pt x="0" y="1711"/>
                    <a:pt x="11" y="1700"/>
                    <a:pt x="25" y="1700"/>
                  </a:cubicBezTo>
                  <a:cubicBezTo>
                    <a:pt x="39" y="1700"/>
                    <a:pt x="50" y="1711"/>
                    <a:pt x="50" y="1725"/>
                  </a:cubicBezTo>
                  <a:lnTo>
                    <a:pt x="50" y="2075"/>
                  </a:lnTo>
                  <a:cubicBezTo>
                    <a:pt x="50" y="2089"/>
                    <a:pt x="39" y="2100"/>
                    <a:pt x="25" y="2100"/>
                  </a:cubicBezTo>
                  <a:cubicBezTo>
                    <a:pt x="11" y="2100"/>
                    <a:pt x="0" y="2089"/>
                    <a:pt x="0" y="2075"/>
                  </a:cubicBezTo>
                  <a:close/>
                  <a:moveTo>
                    <a:pt x="0" y="1525"/>
                  </a:moveTo>
                  <a:lnTo>
                    <a:pt x="0" y="1525"/>
                  </a:lnTo>
                  <a:cubicBezTo>
                    <a:pt x="0" y="1511"/>
                    <a:pt x="11" y="1500"/>
                    <a:pt x="25" y="1500"/>
                  </a:cubicBezTo>
                  <a:cubicBezTo>
                    <a:pt x="39" y="1500"/>
                    <a:pt x="50" y="1511"/>
                    <a:pt x="50" y="1525"/>
                  </a:cubicBezTo>
                  <a:lnTo>
                    <a:pt x="50" y="1525"/>
                  </a:lnTo>
                  <a:cubicBezTo>
                    <a:pt x="50" y="1539"/>
                    <a:pt x="39" y="1550"/>
                    <a:pt x="25" y="1550"/>
                  </a:cubicBezTo>
                  <a:cubicBezTo>
                    <a:pt x="11" y="1550"/>
                    <a:pt x="0" y="1539"/>
                    <a:pt x="0" y="1525"/>
                  </a:cubicBezTo>
                  <a:close/>
                  <a:moveTo>
                    <a:pt x="0" y="1325"/>
                  </a:moveTo>
                  <a:lnTo>
                    <a:pt x="0" y="975"/>
                  </a:lnTo>
                  <a:cubicBezTo>
                    <a:pt x="0" y="961"/>
                    <a:pt x="11" y="950"/>
                    <a:pt x="25" y="950"/>
                  </a:cubicBezTo>
                  <a:cubicBezTo>
                    <a:pt x="39" y="950"/>
                    <a:pt x="50" y="961"/>
                    <a:pt x="50" y="975"/>
                  </a:cubicBezTo>
                  <a:lnTo>
                    <a:pt x="50" y="1325"/>
                  </a:lnTo>
                  <a:cubicBezTo>
                    <a:pt x="50" y="1339"/>
                    <a:pt x="39" y="1350"/>
                    <a:pt x="25" y="1350"/>
                  </a:cubicBezTo>
                  <a:cubicBezTo>
                    <a:pt x="11" y="1350"/>
                    <a:pt x="0" y="1339"/>
                    <a:pt x="0" y="1325"/>
                  </a:cubicBezTo>
                  <a:close/>
                  <a:moveTo>
                    <a:pt x="0" y="775"/>
                  </a:moveTo>
                  <a:lnTo>
                    <a:pt x="0" y="775"/>
                  </a:lnTo>
                  <a:cubicBezTo>
                    <a:pt x="0" y="761"/>
                    <a:pt x="11" y="750"/>
                    <a:pt x="25" y="750"/>
                  </a:cubicBezTo>
                  <a:cubicBezTo>
                    <a:pt x="39" y="750"/>
                    <a:pt x="50" y="761"/>
                    <a:pt x="50" y="775"/>
                  </a:cubicBezTo>
                  <a:lnTo>
                    <a:pt x="50" y="775"/>
                  </a:lnTo>
                  <a:cubicBezTo>
                    <a:pt x="50" y="789"/>
                    <a:pt x="39" y="800"/>
                    <a:pt x="25" y="800"/>
                  </a:cubicBezTo>
                  <a:cubicBezTo>
                    <a:pt x="11" y="800"/>
                    <a:pt x="0" y="789"/>
                    <a:pt x="0" y="775"/>
                  </a:cubicBezTo>
                  <a:close/>
                  <a:moveTo>
                    <a:pt x="0" y="575"/>
                  </a:moveTo>
                  <a:lnTo>
                    <a:pt x="0" y="225"/>
                  </a:lnTo>
                  <a:cubicBezTo>
                    <a:pt x="0" y="211"/>
                    <a:pt x="11" y="200"/>
                    <a:pt x="25" y="200"/>
                  </a:cubicBezTo>
                  <a:cubicBezTo>
                    <a:pt x="39" y="200"/>
                    <a:pt x="50" y="211"/>
                    <a:pt x="50" y="225"/>
                  </a:cubicBezTo>
                  <a:lnTo>
                    <a:pt x="50" y="575"/>
                  </a:lnTo>
                  <a:cubicBezTo>
                    <a:pt x="50" y="589"/>
                    <a:pt x="39" y="600"/>
                    <a:pt x="25" y="600"/>
                  </a:cubicBezTo>
                  <a:cubicBezTo>
                    <a:pt x="11" y="600"/>
                    <a:pt x="0" y="589"/>
                    <a:pt x="0" y="575"/>
                  </a:cubicBezTo>
                  <a:close/>
                  <a:moveTo>
                    <a:pt x="0" y="25"/>
                  </a:moveTo>
                  <a:lnTo>
                    <a:pt x="0" y="25"/>
                  </a:lnTo>
                  <a:cubicBezTo>
                    <a:pt x="0" y="11"/>
                    <a:pt x="11" y="0"/>
                    <a:pt x="25" y="0"/>
                  </a:cubicBezTo>
                  <a:cubicBezTo>
                    <a:pt x="39" y="0"/>
                    <a:pt x="50" y="11"/>
                    <a:pt x="50" y="25"/>
                  </a:cubicBezTo>
                  <a:lnTo>
                    <a:pt x="50" y="25"/>
                  </a:lnTo>
                  <a:cubicBezTo>
                    <a:pt x="50" y="39"/>
                    <a:pt x="39" y="50"/>
                    <a:pt x="25" y="50"/>
                  </a:cubicBezTo>
                  <a:cubicBezTo>
                    <a:pt x="11" y="50"/>
                    <a:pt x="0" y="39"/>
                    <a:pt x="0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6"/>
            <p:cNvSpPr/>
            <p:nvPr/>
          </p:nvSpPr>
          <p:spPr>
            <a:xfrm>
              <a:off x="2102760" y="1123560"/>
              <a:ext cx="166680" cy="169920"/>
            </a:xfrm>
            <a:custGeom>
              <a:avLst/>
              <a:gdLst/>
              <a:ahLst/>
              <a:rect l="l" t="t" r="r" b="b"/>
              <a:pathLst>
                <a:path w="1500" h="1524">
                  <a:moveTo>
                    <a:pt x="1451" y="101"/>
                  </a:moveTo>
                  <a:lnTo>
                    <a:pt x="1308" y="109"/>
                  </a:lnTo>
                  <a:lnTo>
                    <a:pt x="1174" y="131"/>
                  </a:lnTo>
                  <a:lnTo>
                    <a:pt x="1045" y="167"/>
                  </a:lnTo>
                  <a:lnTo>
                    <a:pt x="922" y="216"/>
                  </a:lnTo>
                  <a:lnTo>
                    <a:pt x="803" y="277"/>
                  </a:lnTo>
                  <a:lnTo>
                    <a:pt x="803" y="277"/>
                  </a:lnTo>
                  <a:lnTo>
                    <a:pt x="808" y="274"/>
                  </a:lnTo>
                  <a:cubicBezTo>
                    <a:pt x="784" y="289"/>
                    <a:pt x="753" y="283"/>
                    <a:pt x="738" y="260"/>
                  </a:cubicBezTo>
                  <a:cubicBezTo>
                    <a:pt x="723" y="237"/>
                    <a:pt x="730" y="206"/>
                    <a:pt x="753" y="191"/>
                  </a:cubicBezTo>
                  <a:lnTo>
                    <a:pt x="758" y="188"/>
                  </a:lnTo>
                  <a:lnTo>
                    <a:pt x="885" y="123"/>
                  </a:lnTo>
                  <a:lnTo>
                    <a:pt x="1018" y="70"/>
                  </a:lnTo>
                  <a:lnTo>
                    <a:pt x="1159" y="32"/>
                  </a:lnTo>
                  <a:lnTo>
                    <a:pt x="1303" y="10"/>
                  </a:lnTo>
                  <a:lnTo>
                    <a:pt x="1446" y="2"/>
                  </a:lnTo>
                  <a:cubicBezTo>
                    <a:pt x="1473" y="0"/>
                    <a:pt x="1497" y="21"/>
                    <a:pt x="1498" y="49"/>
                  </a:cubicBezTo>
                  <a:cubicBezTo>
                    <a:pt x="1500" y="76"/>
                    <a:pt x="1479" y="100"/>
                    <a:pt x="1451" y="101"/>
                  </a:cubicBezTo>
                  <a:close/>
                  <a:moveTo>
                    <a:pt x="503" y="517"/>
                  </a:moveTo>
                  <a:lnTo>
                    <a:pt x="503" y="517"/>
                  </a:lnTo>
                  <a:cubicBezTo>
                    <a:pt x="483" y="536"/>
                    <a:pt x="452" y="536"/>
                    <a:pt x="432" y="516"/>
                  </a:cubicBezTo>
                  <a:cubicBezTo>
                    <a:pt x="413" y="496"/>
                    <a:pt x="414" y="464"/>
                    <a:pt x="434" y="445"/>
                  </a:cubicBezTo>
                  <a:lnTo>
                    <a:pt x="434" y="445"/>
                  </a:lnTo>
                  <a:cubicBezTo>
                    <a:pt x="454" y="426"/>
                    <a:pt x="485" y="426"/>
                    <a:pt x="504" y="446"/>
                  </a:cubicBezTo>
                  <a:cubicBezTo>
                    <a:pt x="524" y="466"/>
                    <a:pt x="523" y="498"/>
                    <a:pt x="503" y="517"/>
                  </a:cubicBezTo>
                  <a:close/>
                  <a:moveTo>
                    <a:pt x="278" y="829"/>
                  </a:moveTo>
                  <a:lnTo>
                    <a:pt x="260" y="861"/>
                  </a:lnTo>
                  <a:lnTo>
                    <a:pt x="203" y="988"/>
                  </a:lnTo>
                  <a:lnTo>
                    <a:pt x="158" y="1122"/>
                  </a:lnTo>
                  <a:lnTo>
                    <a:pt x="124" y="1261"/>
                  </a:lnTo>
                  <a:lnTo>
                    <a:pt x="104" y="1405"/>
                  </a:lnTo>
                  <a:lnTo>
                    <a:pt x="101" y="1475"/>
                  </a:lnTo>
                  <a:cubicBezTo>
                    <a:pt x="100" y="1503"/>
                    <a:pt x="76" y="1524"/>
                    <a:pt x="49" y="1523"/>
                  </a:cubicBezTo>
                  <a:cubicBezTo>
                    <a:pt x="21" y="1522"/>
                    <a:pt x="0" y="1498"/>
                    <a:pt x="1" y="1471"/>
                  </a:cubicBezTo>
                  <a:lnTo>
                    <a:pt x="5" y="1391"/>
                  </a:lnTo>
                  <a:lnTo>
                    <a:pt x="27" y="1238"/>
                  </a:lnTo>
                  <a:lnTo>
                    <a:pt x="63" y="1089"/>
                  </a:lnTo>
                  <a:lnTo>
                    <a:pt x="112" y="947"/>
                  </a:lnTo>
                  <a:lnTo>
                    <a:pt x="173" y="812"/>
                  </a:lnTo>
                  <a:lnTo>
                    <a:pt x="191" y="779"/>
                  </a:lnTo>
                  <a:cubicBezTo>
                    <a:pt x="205" y="755"/>
                    <a:pt x="236" y="747"/>
                    <a:pt x="260" y="761"/>
                  </a:cubicBezTo>
                  <a:cubicBezTo>
                    <a:pt x="284" y="774"/>
                    <a:pt x="292" y="805"/>
                    <a:pt x="278" y="82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7"/>
            <p:cNvSpPr/>
            <p:nvPr/>
          </p:nvSpPr>
          <p:spPr>
            <a:xfrm>
              <a:off x="2102760" y="1290600"/>
              <a:ext cx="10800" cy="563760"/>
            </a:xfrm>
            <a:custGeom>
              <a:avLst/>
              <a:gdLst/>
              <a:ahLst/>
              <a:rect l="l" t="t" r="r" b="b"/>
              <a:pathLst>
                <a:path w="100" h="5060">
                  <a:moveTo>
                    <a:pt x="0" y="5010"/>
                  </a:moveTo>
                  <a:lnTo>
                    <a:pt x="0" y="4310"/>
                  </a:lnTo>
                  <a:cubicBezTo>
                    <a:pt x="0" y="4283"/>
                    <a:pt x="23" y="4260"/>
                    <a:pt x="50" y="4260"/>
                  </a:cubicBezTo>
                  <a:cubicBezTo>
                    <a:pt x="78" y="4260"/>
                    <a:pt x="100" y="4283"/>
                    <a:pt x="100" y="4310"/>
                  </a:cubicBezTo>
                  <a:lnTo>
                    <a:pt x="100" y="5010"/>
                  </a:lnTo>
                  <a:cubicBezTo>
                    <a:pt x="100" y="5038"/>
                    <a:pt x="78" y="5060"/>
                    <a:pt x="50" y="5060"/>
                  </a:cubicBezTo>
                  <a:cubicBezTo>
                    <a:pt x="23" y="5060"/>
                    <a:pt x="0" y="5038"/>
                    <a:pt x="0" y="5010"/>
                  </a:cubicBezTo>
                  <a:close/>
                  <a:moveTo>
                    <a:pt x="0" y="3910"/>
                  </a:moveTo>
                  <a:lnTo>
                    <a:pt x="0" y="3910"/>
                  </a:lnTo>
                  <a:cubicBezTo>
                    <a:pt x="0" y="3883"/>
                    <a:pt x="23" y="3860"/>
                    <a:pt x="50" y="3860"/>
                  </a:cubicBezTo>
                  <a:cubicBezTo>
                    <a:pt x="78" y="3860"/>
                    <a:pt x="100" y="3883"/>
                    <a:pt x="100" y="3910"/>
                  </a:cubicBezTo>
                  <a:lnTo>
                    <a:pt x="100" y="3910"/>
                  </a:lnTo>
                  <a:cubicBezTo>
                    <a:pt x="100" y="3938"/>
                    <a:pt x="78" y="3960"/>
                    <a:pt x="50" y="3960"/>
                  </a:cubicBezTo>
                  <a:cubicBezTo>
                    <a:pt x="23" y="3960"/>
                    <a:pt x="0" y="3938"/>
                    <a:pt x="0" y="3910"/>
                  </a:cubicBezTo>
                  <a:close/>
                  <a:moveTo>
                    <a:pt x="0" y="3510"/>
                  </a:moveTo>
                  <a:lnTo>
                    <a:pt x="0" y="2810"/>
                  </a:lnTo>
                  <a:cubicBezTo>
                    <a:pt x="0" y="2783"/>
                    <a:pt x="23" y="2760"/>
                    <a:pt x="50" y="2760"/>
                  </a:cubicBezTo>
                  <a:cubicBezTo>
                    <a:pt x="78" y="2760"/>
                    <a:pt x="100" y="2783"/>
                    <a:pt x="100" y="2810"/>
                  </a:cubicBezTo>
                  <a:lnTo>
                    <a:pt x="100" y="3510"/>
                  </a:lnTo>
                  <a:cubicBezTo>
                    <a:pt x="100" y="3538"/>
                    <a:pt x="78" y="3560"/>
                    <a:pt x="50" y="3560"/>
                  </a:cubicBezTo>
                  <a:cubicBezTo>
                    <a:pt x="23" y="3560"/>
                    <a:pt x="0" y="3538"/>
                    <a:pt x="0" y="3510"/>
                  </a:cubicBezTo>
                  <a:close/>
                  <a:moveTo>
                    <a:pt x="0" y="2410"/>
                  </a:moveTo>
                  <a:lnTo>
                    <a:pt x="0" y="2410"/>
                  </a:lnTo>
                  <a:cubicBezTo>
                    <a:pt x="0" y="2383"/>
                    <a:pt x="23" y="2360"/>
                    <a:pt x="50" y="2360"/>
                  </a:cubicBezTo>
                  <a:cubicBezTo>
                    <a:pt x="78" y="2360"/>
                    <a:pt x="100" y="2383"/>
                    <a:pt x="100" y="2410"/>
                  </a:cubicBezTo>
                  <a:lnTo>
                    <a:pt x="100" y="2410"/>
                  </a:lnTo>
                  <a:cubicBezTo>
                    <a:pt x="100" y="2438"/>
                    <a:pt x="78" y="2460"/>
                    <a:pt x="50" y="2460"/>
                  </a:cubicBezTo>
                  <a:cubicBezTo>
                    <a:pt x="23" y="2460"/>
                    <a:pt x="0" y="2438"/>
                    <a:pt x="0" y="2410"/>
                  </a:cubicBezTo>
                  <a:close/>
                  <a:moveTo>
                    <a:pt x="0" y="2010"/>
                  </a:moveTo>
                  <a:lnTo>
                    <a:pt x="0" y="1310"/>
                  </a:lnTo>
                  <a:cubicBezTo>
                    <a:pt x="0" y="1283"/>
                    <a:pt x="23" y="1260"/>
                    <a:pt x="50" y="1260"/>
                  </a:cubicBezTo>
                  <a:cubicBezTo>
                    <a:pt x="78" y="1260"/>
                    <a:pt x="100" y="1283"/>
                    <a:pt x="100" y="1310"/>
                  </a:cubicBezTo>
                  <a:lnTo>
                    <a:pt x="100" y="2010"/>
                  </a:lnTo>
                  <a:cubicBezTo>
                    <a:pt x="100" y="2038"/>
                    <a:pt x="78" y="2060"/>
                    <a:pt x="50" y="2060"/>
                  </a:cubicBezTo>
                  <a:cubicBezTo>
                    <a:pt x="23" y="2060"/>
                    <a:pt x="0" y="2038"/>
                    <a:pt x="0" y="2010"/>
                  </a:cubicBezTo>
                  <a:close/>
                  <a:moveTo>
                    <a:pt x="0" y="910"/>
                  </a:moveTo>
                  <a:lnTo>
                    <a:pt x="0" y="910"/>
                  </a:lnTo>
                  <a:cubicBezTo>
                    <a:pt x="0" y="883"/>
                    <a:pt x="23" y="860"/>
                    <a:pt x="50" y="860"/>
                  </a:cubicBezTo>
                  <a:cubicBezTo>
                    <a:pt x="78" y="860"/>
                    <a:pt x="100" y="883"/>
                    <a:pt x="100" y="910"/>
                  </a:cubicBezTo>
                  <a:lnTo>
                    <a:pt x="100" y="910"/>
                  </a:lnTo>
                  <a:cubicBezTo>
                    <a:pt x="100" y="938"/>
                    <a:pt x="78" y="960"/>
                    <a:pt x="50" y="960"/>
                  </a:cubicBezTo>
                  <a:cubicBezTo>
                    <a:pt x="23" y="960"/>
                    <a:pt x="0" y="938"/>
                    <a:pt x="0" y="910"/>
                  </a:cubicBezTo>
                  <a:close/>
                  <a:moveTo>
                    <a:pt x="0" y="510"/>
                  </a:moveTo>
                  <a:lnTo>
                    <a:pt x="0" y="50"/>
                  </a:lnTo>
                  <a:cubicBezTo>
                    <a:pt x="0" y="23"/>
                    <a:pt x="23" y="0"/>
                    <a:pt x="50" y="0"/>
                  </a:cubicBezTo>
                  <a:cubicBezTo>
                    <a:pt x="78" y="0"/>
                    <a:pt x="100" y="23"/>
                    <a:pt x="100" y="50"/>
                  </a:cubicBezTo>
                  <a:lnTo>
                    <a:pt x="100" y="510"/>
                  </a:lnTo>
                  <a:cubicBezTo>
                    <a:pt x="100" y="538"/>
                    <a:pt x="78" y="560"/>
                    <a:pt x="50" y="560"/>
                  </a:cubicBezTo>
                  <a:cubicBezTo>
                    <a:pt x="23" y="560"/>
                    <a:pt x="0" y="538"/>
                    <a:pt x="0" y="5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8"/>
            <p:cNvSpPr/>
            <p:nvPr/>
          </p:nvSpPr>
          <p:spPr>
            <a:xfrm>
              <a:off x="2135160" y="1921320"/>
              <a:ext cx="169920" cy="166680"/>
            </a:xfrm>
            <a:custGeom>
              <a:avLst/>
              <a:gdLst/>
              <a:ahLst/>
              <a:rect l="l" t="t" r="r" b="b"/>
              <a:pathLst>
                <a:path w="1525" h="1499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5"/>
                  </a:lnTo>
                  <a:lnTo>
                    <a:pt x="216" y="578"/>
                  </a:lnTo>
                  <a:lnTo>
                    <a:pt x="277" y="697"/>
                  </a:lnTo>
                  <a:lnTo>
                    <a:pt x="277" y="697"/>
                  </a:lnTo>
                  <a:lnTo>
                    <a:pt x="274" y="692"/>
                  </a:lnTo>
                  <a:cubicBezTo>
                    <a:pt x="289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7"/>
                  </a:cubicBezTo>
                  <a:lnTo>
                    <a:pt x="188" y="742"/>
                  </a:lnTo>
                  <a:lnTo>
                    <a:pt x="123" y="615"/>
                  </a:lnTo>
                  <a:lnTo>
                    <a:pt x="70" y="482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6" y="997"/>
                  </a:moveTo>
                  <a:lnTo>
                    <a:pt x="517" y="997"/>
                  </a:lnTo>
                  <a:cubicBezTo>
                    <a:pt x="536" y="1016"/>
                    <a:pt x="536" y="1048"/>
                    <a:pt x="516" y="1067"/>
                  </a:cubicBezTo>
                  <a:cubicBezTo>
                    <a:pt x="496" y="1087"/>
                    <a:pt x="464" y="1086"/>
                    <a:pt x="445" y="1067"/>
                  </a:cubicBezTo>
                  <a:lnTo>
                    <a:pt x="445" y="1067"/>
                  </a:lnTo>
                  <a:cubicBezTo>
                    <a:pt x="426" y="1047"/>
                    <a:pt x="426" y="1015"/>
                    <a:pt x="446" y="996"/>
                  </a:cubicBezTo>
                  <a:cubicBezTo>
                    <a:pt x="466" y="977"/>
                    <a:pt x="497" y="977"/>
                    <a:pt x="516" y="997"/>
                  </a:cubicBezTo>
                  <a:close/>
                  <a:moveTo>
                    <a:pt x="829" y="1221"/>
                  </a:moveTo>
                  <a:lnTo>
                    <a:pt x="861" y="1239"/>
                  </a:lnTo>
                  <a:lnTo>
                    <a:pt x="988" y="1296"/>
                  </a:lnTo>
                  <a:lnTo>
                    <a:pt x="1122" y="1341"/>
                  </a:lnTo>
                  <a:lnTo>
                    <a:pt x="1261" y="1375"/>
                  </a:lnTo>
                  <a:lnTo>
                    <a:pt x="1405" y="1395"/>
                  </a:lnTo>
                  <a:lnTo>
                    <a:pt x="1476" y="1398"/>
                  </a:lnTo>
                  <a:cubicBezTo>
                    <a:pt x="1503" y="1399"/>
                    <a:pt x="1525" y="1423"/>
                    <a:pt x="1524" y="1450"/>
                  </a:cubicBezTo>
                  <a:cubicBezTo>
                    <a:pt x="1522" y="1478"/>
                    <a:pt x="1499" y="1499"/>
                    <a:pt x="1471" y="1498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089" y="1436"/>
                  </a:lnTo>
                  <a:lnTo>
                    <a:pt x="947" y="1387"/>
                  </a:lnTo>
                  <a:lnTo>
                    <a:pt x="812" y="1326"/>
                  </a:lnTo>
                  <a:lnTo>
                    <a:pt x="780" y="1308"/>
                  </a:lnTo>
                  <a:cubicBezTo>
                    <a:pt x="756" y="1294"/>
                    <a:pt x="747" y="1264"/>
                    <a:pt x="761" y="1240"/>
                  </a:cubicBezTo>
                  <a:cubicBezTo>
                    <a:pt x="775" y="1216"/>
                    <a:pt x="805" y="1207"/>
                    <a:pt x="829" y="12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9"/>
            <p:cNvSpPr/>
            <p:nvPr/>
          </p:nvSpPr>
          <p:spPr>
            <a:xfrm>
              <a:off x="3288240" y="2445480"/>
              <a:ext cx="169920" cy="166680"/>
            </a:xfrm>
            <a:custGeom>
              <a:avLst/>
              <a:gdLst/>
              <a:ahLst/>
              <a:rect l="l" t="t" r="r" b="b"/>
              <a:pathLst>
                <a:path w="1525" h="1499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4"/>
                  </a:lnTo>
                  <a:lnTo>
                    <a:pt x="216" y="578"/>
                  </a:lnTo>
                  <a:lnTo>
                    <a:pt x="277" y="696"/>
                  </a:lnTo>
                  <a:lnTo>
                    <a:pt x="277" y="696"/>
                  </a:lnTo>
                  <a:lnTo>
                    <a:pt x="275" y="692"/>
                  </a:lnTo>
                  <a:cubicBezTo>
                    <a:pt x="290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6"/>
                  </a:cubicBezTo>
                  <a:lnTo>
                    <a:pt x="188" y="741"/>
                  </a:lnTo>
                  <a:lnTo>
                    <a:pt x="123" y="615"/>
                  </a:lnTo>
                  <a:lnTo>
                    <a:pt x="70" y="481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7" y="996"/>
                  </a:moveTo>
                  <a:lnTo>
                    <a:pt x="517" y="996"/>
                  </a:lnTo>
                  <a:cubicBezTo>
                    <a:pt x="537" y="1016"/>
                    <a:pt x="536" y="1048"/>
                    <a:pt x="516" y="1067"/>
                  </a:cubicBezTo>
                  <a:cubicBezTo>
                    <a:pt x="497" y="1086"/>
                    <a:pt x="465" y="1086"/>
                    <a:pt x="446" y="1066"/>
                  </a:cubicBezTo>
                  <a:lnTo>
                    <a:pt x="446" y="1066"/>
                  </a:lnTo>
                  <a:cubicBezTo>
                    <a:pt x="426" y="1046"/>
                    <a:pt x="427" y="1015"/>
                    <a:pt x="447" y="995"/>
                  </a:cubicBezTo>
                  <a:cubicBezTo>
                    <a:pt x="466" y="976"/>
                    <a:pt x="498" y="977"/>
                    <a:pt x="517" y="996"/>
                  </a:cubicBezTo>
                  <a:close/>
                  <a:moveTo>
                    <a:pt x="830" y="1221"/>
                  </a:moveTo>
                  <a:lnTo>
                    <a:pt x="861" y="1239"/>
                  </a:lnTo>
                  <a:lnTo>
                    <a:pt x="988" y="1296"/>
                  </a:lnTo>
                  <a:lnTo>
                    <a:pt x="1122" y="1341"/>
                  </a:lnTo>
                  <a:lnTo>
                    <a:pt x="1261" y="1375"/>
                  </a:lnTo>
                  <a:lnTo>
                    <a:pt x="1405" y="1395"/>
                  </a:lnTo>
                  <a:lnTo>
                    <a:pt x="1476" y="1398"/>
                  </a:lnTo>
                  <a:cubicBezTo>
                    <a:pt x="1504" y="1399"/>
                    <a:pt x="1525" y="1423"/>
                    <a:pt x="1524" y="1450"/>
                  </a:cubicBezTo>
                  <a:cubicBezTo>
                    <a:pt x="1523" y="1478"/>
                    <a:pt x="1499" y="1499"/>
                    <a:pt x="1472" y="1498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089" y="1436"/>
                  </a:lnTo>
                  <a:lnTo>
                    <a:pt x="947" y="1387"/>
                  </a:lnTo>
                  <a:lnTo>
                    <a:pt x="812" y="1326"/>
                  </a:lnTo>
                  <a:lnTo>
                    <a:pt x="780" y="1308"/>
                  </a:lnTo>
                  <a:cubicBezTo>
                    <a:pt x="756" y="1294"/>
                    <a:pt x="748" y="1264"/>
                    <a:pt x="761" y="1240"/>
                  </a:cubicBezTo>
                  <a:cubicBezTo>
                    <a:pt x="775" y="1216"/>
                    <a:pt x="806" y="1207"/>
                    <a:pt x="830" y="12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0"/>
            <p:cNvSpPr/>
            <p:nvPr/>
          </p:nvSpPr>
          <p:spPr>
            <a:xfrm>
              <a:off x="2302200" y="2077560"/>
              <a:ext cx="757440" cy="15120"/>
            </a:xfrm>
            <a:custGeom>
              <a:avLst/>
              <a:gdLst/>
              <a:ahLst/>
              <a:rect l="l" t="t" r="r" b="b"/>
              <a:pathLst>
                <a:path w="6800" h="145">
                  <a:moveTo>
                    <a:pt x="50" y="0"/>
                  </a:moveTo>
                  <a:lnTo>
                    <a:pt x="750" y="5"/>
                  </a:lnTo>
                  <a:cubicBezTo>
                    <a:pt x="778" y="5"/>
                    <a:pt x="800" y="28"/>
                    <a:pt x="800" y="55"/>
                  </a:cubicBezTo>
                  <a:cubicBezTo>
                    <a:pt x="800" y="83"/>
                    <a:pt x="777" y="105"/>
                    <a:pt x="749" y="105"/>
                  </a:cubicBezTo>
                  <a:lnTo>
                    <a:pt x="49" y="100"/>
                  </a:lnTo>
                  <a:cubicBezTo>
                    <a:pt x="22" y="100"/>
                    <a:pt x="0" y="78"/>
                    <a:pt x="0" y="50"/>
                  </a:cubicBezTo>
                  <a:cubicBezTo>
                    <a:pt x="0" y="23"/>
                    <a:pt x="23" y="0"/>
                    <a:pt x="50" y="0"/>
                  </a:cubicBezTo>
                  <a:close/>
                  <a:moveTo>
                    <a:pt x="1150" y="8"/>
                  </a:moveTo>
                  <a:lnTo>
                    <a:pt x="1150" y="8"/>
                  </a:lnTo>
                  <a:cubicBezTo>
                    <a:pt x="1177" y="8"/>
                    <a:pt x="1200" y="30"/>
                    <a:pt x="1200" y="58"/>
                  </a:cubicBezTo>
                  <a:cubicBezTo>
                    <a:pt x="1200" y="85"/>
                    <a:pt x="1177" y="108"/>
                    <a:pt x="1150" y="108"/>
                  </a:cubicBezTo>
                  <a:lnTo>
                    <a:pt x="1150" y="108"/>
                  </a:lnTo>
                  <a:cubicBezTo>
                    <a:pt x="1122" y="108"/>
                    <a:pt x="1100" y="85"/>
                    <a:pt x="1100" y="58"/>
                  </a:cubicBezTo>
                  <a:cubicBezTo>
                    <a:pt x="1100" y="30"/>
                    <a:pt x="1122" y="8"/>
                    <a:pt x="1150" y="8"/>
                  </a:cubicBezTo>
                  <a:close/>
                  <a:moveTo>
                    <a:pt x="1550" y="10"/>
                  </a:moveTo>
                  <a:lnTo>
                    <a:pt x="2250" y="15"/>
                  </a:lnTo>
                  <a:cubicBezTo>
                    <a:pt x="2278" y="15"/>
                    <a:pt x="2300" y="38"/>
                    <a:pt x="2300" y="65"/>
                  </a:cubicBezTo>
                  <a:cubicBezTo>
                    <a:pt x="2300" y="93"/>
                    <a:pt x="2277" y="115"/>
                    <a:pt x="2250" y="115"/>
                  </a:cubicBezTo>
                  <a:lnTo>
                    <a:pt x="1550" y="110"/>
                  </a:lnTo>
                  <a:cubicBezTo>
                    <a:pt x="1522" y="110"/>
                    <a:pt x="1500" y="88"/>
                    <a:pt x="1500" y="60"/>
                  </a:cubicBezTo>
                  <a:cubicBezTo>
                    <a:pt x="1500" y="33"/>
                    <a:pt x="1523" y="10"/>
                    <a:pt x="1550" y="10"/>
                  </a:cubicBezTo>
                  <a:close/>
                  <a:moveTo>
                    <a:pt x="2650" y="18"/>
                  </a:moveTo>
                  <a:lnTo>
                    <a:pt x="2650" y="18"/>
                  </a:lnTo>
                  <a:cubicBezTo>
                    <a:pt x="2678" y="18"/>
                    <a:pt x="2700" y="40"/>
                    <a:pt x="2700" y="68"/>
                  </a:cubicBezTo>
                  <a:cubicBezTo>
                    <a:pt x="2700" y="95"/>
                    <a:pt x="2678" y="118"/>
                    <a:pt x="2650" y="118"/>
                  </a:cubicBezTo>
                  <a:lnTo>
                    <a:pt x="2650" y="118"/>
                  </a:lnTo>
                  <a:cubicBezTo>
                    <a:pt x="2622" y="118"/>
                    <a:pt x="2600" y="95"/>
                    <a:pt x="2600" y="68"/>
                  </a:cubicBezTo>
                  <a:cubicBezTo>
                    <a:pt x="2600" y="40"/>
                    <a:pt x="2622" y="18"/>
                    <a:pt x="2650" y="18"/>
                  </a:cubicBezTo>
                  <a:close/>
                  <a:moveTo>
                    <a:pt x="3050" y="20"/>
                  </a:moveTo>
                  <a:lnTo>
                    <a:pt x="3750" y="25"/>
                  </a:lnTo>
                  <a:cubicBezTo>
                    <a:pt x="3778" y="25"/>
                    <a:pt x="3800" y="48"/>
                    <a:pt x="3800" y="75"/>
                  </a:cubicBezTo>
                  <a:cubicBezTo>
                    <a:pt x="3800" y="103"/>
                    <a:pt x="3777" y="125"/>
                    <a:pt x="3750" y="125"/>
                  </a:cubicBezTo>
                  <a:lnTo>
                    <a:pt x="3050" y="120"/>
                  </a:lnTo>
                  <a:cubicBezTo>
                    <a:pt x="3022" y="120"/>
                    <a:pt x="3000" y="98"/>
                    <a:pt x="3000" y="70"/>
                  </a:cubicBezTo>
                  <a:cubicBezTo>
                    <a:pt x="3000" y="43"/>
                    <a:pt x="3023" y="20"/>
                    <a:pt x="3050" y="20"/>
                  </a:cubicBezTo>
                  <a:close/>
                  <a:moveTo>
                    <a:pt x="4150" y="28"/>
                  </a:moveTo>
                  <a:lnTo>
                    <a:pt x="4150" y="28"/>
                  </a:lnTo>
                  <a:cubicBezTo>
                    <a:pt x="4178" y="28"/>
                    <a:pt x="4200" y="50"/>
                    <a:pt x="4200" y="78"/>
                  </a:cubicBezTo>
                  <a:cubicBezTo>
                    <a:pt x="4200" y="105"/>
                    <a:pt x="4178" y="128"/>
                    <a:pt x="4150" y="128"/>
                  </a:cubicBezTo>
                  <a:lnTo>
                    <a:pt x="4150" y="128"/>
                  </a:lnTo>
                  <a:cubicBezTo>
                    <a:pt x="4122" y="128"/>
                    <a:pt x="4100" y="105"/>
                    <a:pt x="4100" y="78"/>
                  </a:cubicBezTo>
                  <a:cubicBezTo>
                    <a:pt x="4100" y="50"/>
                    <a:pt x="4122" y="28"/>
                    <a:pt x="4150" y="28"/>
                  </a:cubicBezTo>
                  <a:close/>
                  <a:moveTo>
                    <a:pt x="4550" y="30"/>
                  </a:moveTo>
                  <a:lnTo>
                    <a:pt x="5250" y="35"/>
                  </a:lnTo>
                  <a:cubicBezTo>
                    <a:pt x="5278" y="35"/>
                    <a:pt x="5300" y="58"/>
                    <a:pt x="5300" y="85"/>
                  </a:cubicBezTo>
                  <a:cubicBezTo>
                    <a:pt x="5300" y="113"/>
                    <a:pt x="5277" y="135"/>
                    <a:pt x="5250" y="135"/>
                  </a:cubicBezTo>
                  <a:lnTo>
                    <a:pt x="4550" y="130"/>
                  </a:lnTo>
                  <a:cubicBezTo>
                    <a:pt x="4522" y="130"/>
                    <a:pt x="4500" y="108"/>
                    <a:pt x="4500" y="80"/>
                  </a:cubicBezTo>
                  <a:cubicBezTo>
                    <a:pt x="4500" y="52"/>
                    <a:pt x="4523" y="30"/>
                    <a:pt x="4550" y="30"/>
                  </a:cubicBezTo>
                  <a:close/>
                  <a:moveTo>
                    <a:pt x="5650" y="38"/>
                  </a:moveTo>
                  <a:lnTo>
                    <a:pt x="5650" y="38"/>
                  </a:lnTo>
                  <a:cubicBezTo>
                    <a:pt x="5678" y="38"/>
                    <a:pt x="5700" y="60"/>
                    <a:pt x="5700" y="88"/>
                  </a:cubicBezTo>
                  <a:cubicBezTo>
                    <a:pt x="5700" y="115"/>
                    <a:pt x="5678" y="138"/>
                    <a:pt x="5650" y="138"/>
                  </a:cubicBezTo>
                  <a:lnTo>
                    <a:pt x="5650" y="138"/>
                  </a:lnTo>
                  <a:cubicBezTo>
                    <a:pt x="5622" y="138"/>
                    <a:pt x="5600" y="115"/>
                    <a:pt x="5600" y="88"/>
                  </a:cubicBezTo>
                  <a:cubicBezTo>
                    <a:pt x="5600" y="60"/>
                    <a:pt x="5622" y="38"/>
                    <a:pt x="5650" y="38"/>
                  </a:cubicBezTo>
                  <a:close/>
                  <a:moveTo>
                    <a:pt x="6050" y="40"/>
                  </a:moveTo>
                  <a:lnTo>
                    <a:pt x="6750" y="45"/>
                  </a:lnTo>
                  <a:cubicBezTo>
                    <a:pt x="6778" y="45"/>
                    <a:pt x="6800" y="68"/>
                    <a:pt x="6800" y="95"/>
                  </a:cubicBezTo>
                  <a:cubicBezTo>
                    <a:pt x="6800" y="123"/>
                    <a:pt x="6777" y="145"/>
                    <a:pt x="6750" y="145"/>
                  </a:cubicBezTo>
                  <a:lnTo>
                    <a:pt x="6050" y="140"/>
                  </a:lnTo>
                  <a:cubicBezTo>
                    <a:pt x="6022" y="140"/>
                    <a:pt x="6000" y="118"/>
                    <a:pt x="6000" y="90"/>
                  </a:cubicBezTo>
                  <a:cubicBezTo>
                    <a:pt x="6000" y="62"/>
                    <a:pt x="6023" y="40"/>
                    <a:pt x="6050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1"/>
            <p:cNvSpPr/>
            <p:nvPr/>
          </p:nvSpPr>
          <p:spPr>
            <a:xfrm>
              <a:off x="3280320" y="2221200"/>
              <a:ext cx="13680" cy="227160"/>
            </a:xfrm>
            <a:custGeom>
              <a:avLst/>
              <a:gdLst/>
              <a:ahLst/>
              <a:rect l="l" t="t" r="r" b="b"/>
              <a:pathLst>
                <a:path w="128" h="2041">
                  <a:moveTo>
                    <a:pt x="27" y="1991"/>
                  </a:moveTo>
                  <a:lnTo>
                    <a:pt x="18" y="1291"/>
                  </a:lnTo>
                  <a:cubicBezTo>
                    <a:pt x="17" y="1264"/>
                    <a:pt x="40" y="1241"/>
                    <a:pt x="67" y="1241"/>
                  </a:cubicBezTo>
                  <a:cubicBezTo>
                    <a:pt x="95" y="1240"/>
                    <a:pt x="117" y="1262"/>
                    <a:pt x="118" y="1290"/>
                  </a:cubicBezTo>
                  <a:lnTo>
                    <a:pt x="127" y="1990"/>
                  </a:lnTo>
                  <a:cubicBezTo>
                    <a:pt x="128" y="2017"/>
                    <a:pt x="106" y="2040"/>
                    <a:pt x="78" y="2040"/>
                  </a:cubicBezTo>
                  <a:cubicBezTo>
                    <a:pt x="51" y="2041"/>
                    <a:pt x="28" y="2019"/>
                    <a:pt x="27" y="1991"/>
                  </a:cubicBezTo>
                  <a:close/>
                  <a:moveTo>
                    <a:pt x="12" y="892"/>
                  </a:moveTo>
                  <a:lnTo>
                    <a:pt x="12" y="891"/>
                  </a:lnTo>
                  <a:cubicBezTo>
                    <a:pt x="12" y="864"/>
                    <a:pt x="34" y="841"/>
                    <a:pt x="61" y="840"/>
                  </a:cubicBezTo>
                  <a:cubicBezTo>
                    <a:pt x="89" y="840"/>
                    <a:pt x="112" y="862"/>
                    <a:pt x="112" y="890"/>
                  </a:cubicBezTo>
                  <a:lnTo>
                    <a:pt x="112" y="890"/>
                  </a:lnTo>
                  <a:cubicBezTo>
                    <a:pt x="113" y="917"/>
                    <a:pt x="91" y="940"/>
                    <a:pt x="63" y="941"/>
                  </a:cubicBezTo>
                  <a:cubicBezTo>
                    <a:pt x="36" y="941"/>
                    <a:pt x="13" y="919"/>
                    <a:pt x="12" y="892"/>
                  </a:cubicBezTo>
                  <a:close/>
                  <a:moveTo>
                    <a:pt x="7" y="491"/>
                  </a:moveTo>
                  <a:lnTo>
                    <a:pt x="1" y="51"/>
                  </a:lnTo>
                  <a:cubicBezTo>
                    <a:pt x="0" y="24"/>
                    <a:pt x="23" y="1"/>
                    <a:pt x="50" y="0"/>
                  </a:cubicBezTo>
                  <a:cubicBezTo>
                    <a:pt x="78" y="0"/>
                    <a:pt x="100" y="22"/>
                    <a:pt x="101" y="50"/>
                  </a:cubicBezTo>
                  <a:lnTo>
                    <a:pt x="107" y="490"/>
                  </a:lnTo>
                  <a:cubicBezTo>
                    <a:pt x="107" y="517"/>
                    <a:pt x="85" y="540"/>
                    <a:pt x="58" y="541"/>
                  </a:cubicBezTo>
                  <a:cubicBezTo>
                    <a:pt x="30" y="541"/>
                    <a:pt x="7" y="519"/>
                    <a:pt x="7" y="4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2"/>
            <p:cNvSpPr/>
            <p:nvPr/>
          </p:nvSpPr>
          <p:spPr>
            <a:xfrm>
              <a:off x="3127680" y="2081880"/>
              <a:ext cx="166680" cy="169920"/>
            </a:xfrm>
            <a:custGeom>
              <a:avLst/>
              <a:gdLst/>
              <a:ahLst/>
              <a:rect l="l" t="t" r="r" b="b"/>
              <a:pathLst>
                <a:path w="1499" h="1525">
                  <a:moveTo>
                    <a:pt x="54" y="2"/>
                  </a:moveTo>
                  <a:lnTo>
                    <a:pt x="197" y="10"/>
                  </a:lnTo>
                  <a:lnTo>
                    <a:pt x="341" y="32"/>
                  </a:lnTo>
                  <a:lnTo>
                    <a:pt x="482" y="70"/>
                  </a:lnTo>
                  <a:lnTo>
                    <a:pt x="615" y="123"/>
                  </a:lnTo>
                  <a:lnTo>
                    <a:pt x="742" y="188"/>
                  </a:lnTo>
                  <a:lnTo>
                    <a:pt x="747" y="191"/>
                  </a:lnTo>
                  <a:cubicBezTo>
                    <a:pt x="770" y="206"/>
                    <a:pt x="776" y="237"/>
                    <a:pt x="761" y="260"/>
                  </a:cubicBezTo>
                  <a:cubicBezTo>
                    <a:pt x="746" y="283"/>
                    <a:pt x="715" y="289"/>
                    <a:pt x="692" y="274"/>
                  </a:cubicBezTo>
                  <a:lnTo>
                    <a:pt x="697" y="277"/>
                  </a:lnTo>
                  <a:lnTo>
                    <a:pt x="697" y="277"/>
                  </a:lnTo>
                  <a:lnTo>
                    <a:pt x="578" y="216"/>
                  </a:lnTo>
                  <a:lnTo>
                    <a:pt x="455" y="167"/>
                  </a:lnTo>
                  <a:lnTo>
                    <a:pt x="326" y="131"/>
                  </a:lnTo>
                  <a:lnTo>
                    <a:pt x="192" y="109"/>
                  </a:lnTo>
                  <a:lnTo>
                    <a:pt x="49" y="101"/>
                  </a:lnTo>
                  <a:cubicBezTo>
                    <a:pt x="21" y="100"/>
                    <a:pt x="0" y="76"/>
                    <a:pt x="2" y="49"/>
                  </a:cubicBezTo>
                  <a:cubicBezTo>
                    <a:pt x="3" y="21"/>
                    <a:pt x="27" y="0"/>
                    <a:pt x="54" y="2"/>
                  </a:cubicBezTo>
                  <a:close/>
                  <a:moveTo>
                    <a:pt x="1066" y="445"/>
                  </a:moveTo>
                  <a:lnTo>
                    <a:pt x="1066" y="446"/>
                  </a:lnTo>
                  <a:cubicBezTo>
                    <a:pt x="1086" y="465"/>
                    <a:pt x="1086" y="496"/>
                    <a:pt x="1067" y="516"/>
                  </a:cubicBezTo>
                  <a:cubicBezTo>
                    <a:pt x="1048" y="536"/>
                    <a:pt x="1016" y="536"/>
                    <a:pt x="996" y="517"/>
                  </a:cubicBezTo>
                  <a:lnTo>
                    <a:pt x="996" y="517"/>
                  </a:lnTo>
                  <a:cubicBezTo>
                    <a:pt x="976" y="498"/>
                    <a:pt x="976" y="466"/>
                    <a:pt x="995" y="446"/>
                  </a:cubicBezTo>
                  <a:cubicBezTo>
                    <a:pt x="1015" y="427"/>
                    <a:pt x="1046" y="426"/>
                    <a:pt x="1066" y="445"/>
                  </a:cubicBezTo>
                  <a:close/>
                  <a:moveTo>
                    <a:pt x="1308" y="780"/>
                  </a:moveTo>
                  <a:lnTo>
                    <a:pt x="1326" y="812"/>
                  </a:lnTo>
                  <a:lnTo>
                    <a:pt x="1387" y="947"/>
                  </a:lnTo>
                  <a:lnTo>
                    <a:pt x="1436" y="1089"/>
                  </a:lnTo>
                  <a:lnTo>
                    <a:pt x="1472" y="1238"/>
                  </a:lnTo>
                  <a:lnTo>
                    <a:pt x="1494" y="1391"/>
                  </a:lnTo>
                  <a:lnTo>
                    <a:pt x="1498" y="1471"/>
                  </a:lnTo>
                  <a:cubicBezTo>
                    <a:pt x="1499" y="1499"/>
                    <a:pt x="1478" y="1522"/>
                    <a:pt x="1450" y="1524"/>
                  </a:cubicBezTo>
                  <a:cubicBezTo>
                    <a:pt x="1423" y="1525"/>
                    <a:pt x="1399" y="1504"/>
                    <a:pt x="1398" y="1476"/>
                  </a:cubicBezTo>
                  <a:lnTo>
                    <a:pt x="1395" y="1405"/>
                  </a:lnTo>
                  <a:lnTo>
                    <a:pt x="1375" y="1261"/>
                  </a:lnTo>
                  <a:lnTo>
                    <a:pt x="1341" y="1122"/>
                  </a:lnTo>
                  <a:lnTo>
                    <a:pt x="1296" y="988"/>
                  </a:lnTo>
                  <a:lnTo>
                    <a:pt x="1239" y="861"/>
                  </a:lnTo>
                  <a:lnTo>
                    <a:pt x="1221" y="829"/>
                  </a:lnTo>
                  <a:cubicBezTo>
                    <a:pt x="1207" y="805"/>
                    <a:pt x="1216" y="775"/>
                    <a:pt x="1240" y="761"/>
                  </a:cubicBezTo>
                  <a:cubicBezTo>
                    <a:pt x="1264" y="748"/>
                    <a:pt x="1294" y="756"/>
                    <a:pt x="1308" y="7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45"/>
            <p:cNvGrpSpPr/>
            <p:nvPr/>
          </p:nvGrpSpPr>
          <p:grpSpPr>
            <a:xfrm>
              <a:off x="3991680" y="1442160"/>
              <a:ext cx="523800" cy="322560"/>
              <a:chOff x="3991680" y="1442160"/>
              <a:chExt cx="523800" cy="322560"/>
            </a:xfrm>
          </p:grpSpPr>
          <p:sp>
            <p:nvSpPr>
              <p:cNvPr id="225" name="Rectangle 43"/>
              <p:cNvSpPr/>
              <p:nvPr/>
            </p:nvSpPr>
            <p:spPr>
              <a:xfrm>
                <a:off x="3991680" y="1442160"/>
                <a:ext cx="52380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44"/>
              <p:cNvSpPr/>
              <p:nvPr/>
            </p:nvSpPr>
            <p:spPr>
              <a:xfrm>
                <a:off x="3991680" y="1442160"/>
                <a:ext cx="52380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46"/>
            <p:cNvSpPr/>
            <p:nvPr/>
          </p:nvSpPr>
          <p:spPr>
            <a:xfrm>
              <a:off x="4119480" y="15134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4426560" y="151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50"/>
            <p:cNvGrpSpPr/>
            <p:nvPr/>
          </p:nvGrpSpPr>
          <p:grpSpPr>
            <a:xfrm>
              <a:off x="4594680" y="1442160"/>
              <a:ext cx="523440" cy="322560"/>
              <a:chOff x="4594680" y="1442160"/>
              <a:chExt cx="523440" cy="322560"/>
            </a:xfrm>
          </p:grpSpPr>
          <p:sp>
            <p:nvSpPr>
              <p:cNvPr id="230" name="Rectangle 48"/>
              <p:cNvSpPr/>
              <p:nvPr/>
            </p:nvSpPr>
            <p:spPr>
              <a:xfrm>
                <a:off x="4594680" y="1442160"/>
                <a:ext cx="523440" cy="32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9"/>
              <p:cNvSpPr/>
              <p:nvPr/>
            </p:nvSpPr>
            <p:spPr>
              <a:xfrm>
                <a:off x="4594680" y="1442160"/>
                <a:ext cx="523440" cy="3225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ectangle 51"/>
            <p:cNvSpPr/>
            <p:nvPr/>
          </p:nvSpPr>
          <p:spPr>
            <a:xfrm>
              <a:off x="4723920" y="1513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4831560" y="1513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4936320" y="1513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5037120" y="151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57"/>
            <p:cNvGrpSpPr/>
            <p:nvPr/>
          </p:nvGrpSpPr>
          <p:grpSpPr>
            <a:xfrm>
              <a:off x="5186160" y="1435680"/>
              <a:ext cx="520920" cy="322920"/>
              <a:chOff x="5186160" y="1435680"/>
              <a:chExt cx="520920" cy="322920"/>
            </a:xfrm>
          </p:grpSpPr>
          <p:sp>
            <p:nvSpPr>
              <p:cNvPr id="237" name="Rectangle 55"/>
              <p:cNvSpPr/>
              <p:nvPr/>
            </p:nvSpPr>
            <p:spPr>
              <a:xfrm>
                <a:off x="5186160" y="1435680"/>
                <a:ext cx="520920" cy="32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56"/>
              <p:cNvSpPr/>
              <p:nvPr/>
            </p:nvSpPr>
            <p:spPr>
              <a:xfrm>
                <a:off x="5186160" y="1435680"/>
                <a:ext cx="520920" cy="32292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Rectangle 58"/>
            <p:cNvSpPr/>
            <p:nvPr/>
          </p:nvSpPr>
          <p:spPr>
            <a:xfrm>
              <a:off x="5321880" y="15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9"/>
            <p:cNvSpPr/>
            <p:nvPr/>
          </p:nvSpPr>
          <p:spPr>
            <a:xfrm>
              <a:off x="5425560" y="15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0"/>
            <p:cNvSpPr/>
            <p:nvPr/>
          </p:nvSpPr>
          <p:spPr>
            <a:xfrm>
              <a:off x="5535360" y="15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1"/>
            <p:cNvSpPr/>
            <p:nvPr/>
          </p:nvSpPr>
          <p:spPr>
            <a:xfrm>
              <a:off x="5644800" y="150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2"/>
            <p:cNvSpPr/>
            <p:nvPr/>
          </p:nvSpPr>
          <p:spPr>
            <a:xfrm>
              <a:off x="4453560" y="1854720"/>
              <a:ext cx="105120" cy="318240"/>
            </a:xfrm>
            <a:custGeom>
              <a:avLst/>
              <a:gdLst/>
              <a:ahLst/>
              <a:rect l="l" t="t" r="r" b="b"/>
              <a:pathLst>
                <a:path w="800" h="2334">
                  <a:moveTo>
                    <a:pt x="454" y="67"/>
                  </a:moveTo>
                  <a:lnTo>
                    <a:pt x="468" y="1667"/>
                  </a:lnTo>
                  <a:cubicBezTo>
                    <a:pt x="469" y="1703"/>
                    <a:pt x="439" y="1734"/>
                    <a:pt x="402" y="1734"/>
                  </a:cubicBezTo>
                  <a:cubicBezTo>
                    <a:pt x="365" y="1734"/>
                    <a:pt x="335" y="1705"/>
                    <a:pt x="335" y="1668"/>
                  </a:cubicBezTo>
                  <a:lnTo>
                    <a:pt x="321" y="68"/>
                  </a:lnTo>
                  <a:cubicBezTo>
                    <a:pt x="320" y="31"/>
                    <a:pt x="350" y="1"/>
                    <a:pt x="387" y="0"/>
                  </a:cubicBezTo>
                  <a:cubicBezTo>
                    <a:pt x="424" y="0"/>
                    <a:pt x="454" y="30"/>
                    <a:pt x="454" y="67"/>
                  </a:cubicBezTo>
                  <a:close/>
                  <a:moveTo>
                    <a:pt x="800" y="1530"/>
                  </a:moveTo>
                  <a:lnTo>
                    <a:pt x="407" y="2334"/>
                  </a:lnTo>
                  <a:lnTo>
                    <a:pt x="0" y="1537"/>
                  </a:lnTo>
                  <a:lnTo>
                    <a:pt x="800" y="15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4"/>
            <p:cNvSpPr/>
            <p:nvPr/>
          </p:nvSpPr>
          <p:spPr>
            <a:xfrm>
              <a:off x="2701080" y="2901240"/>
              <a:ext cx="4094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77"/>
            <p:cNvGrpSpPr/>
            <p:nvPr/>
          </p:nvGrpSpPr>
          <p:grpSpPr>
            <a:xfrm>
              <a:off x="2343960" y="2779200"/>
              <a:ext cx="389160" cy="244080"/>
              <a:chOff x="2343960" y="2779200"/>
              <a:chExt cx="389160" cy="244080"/>
            </a:xfrm>
          </p:grpSpPr>
          <p:sp>
            <p:nvSpPr>
              <p:cNvPr id="246" name="Rectangle 75"/>
              <p:cNvSpPr/>
              <p:nvPr/>
            </p:nvSpPr>
            <p:spPr>
              <a:xfrm>
                <a:off x="2343960" y="2779200"/>
                <a:ext cx="38916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76"/>
              <p:cNvSpPr/>
              <p:nvPr/>
            </p:nvSpPr>
            <p:spPr>
              <a:xfrm>
                <a:off x="2343960" y="2779200"/>
                <a:ext cx="389160" cy="2440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0"/>
            <p:cNvGrpSpPr/>
            <p:nvPr/>
          </p:nvGrpSpPr>
          <p:grpSpPr>
            <a:xfrm>
              <a:off x="6828120" y="2567520"/>
              <a:ext cx="656640" cy="635040"/>
              <a:chOff x="6828120" y="2567520"/>
              <a:chExt cx="656640" cy="635040"/>
            </a:xfrm>
          </p:grpSpPr>
          <p:sp>
            <p:nvSpPr>
              <p:cNvPr id="249" name="Oval 78"/>
              <p:cNvSpPr/>
              <p:nvPr/>
            </p:nvSpPr>
            <p:spPr>
              <a:xfrm>
                <a:off x="6828120" y="2567520"/>
                <a:ext cx="656640" cy="6350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79"/>
              <p:cNvSpPr/>
              <p:nvPr/>
            </p:nvSpPr>
            <p:spPr>
              <a:xfrm>
                <a:off x="6828120" y="2567520"/>
                <a:ext cx="656640" cy="63504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83"/>
            <p:cNvGrpSpPr/>
            <p:nvPr/>
          </p:nvGrpSpPr>
          <p:grpSpPr>
            <a:xfrm>
              <a:off x="6795720" y="2723760"/>
              <a:ext cx="166680" cy="344880"/>
              <a:chOff x="6795720" y="2723760"/>
              <a:chExt cx="166680" cy="344880"/>
            </a:xfrm>
          </p:grpSpPr>
          <p:sp>
            <p:nvSpPr>
              <p:cNvPr id="252" name="Rectangle 81"/>
              <p:cNvSpPr/>
              <p:nvPr/>
            </p:nvSpPr>
            <p:spPr>
              <a:xfrm>
                <a:off x="6795720" y="2723760"/>
                <a:ext cx="166680" cy="34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82"/>
              <p:cNvSpPr/>
              <p:nvPr/>
            </p:nvSpPr>
            <p:spPr>
              <a:xfrm>
                <a:off x="6795720" y="2723760"/>
                <a:ext cx="166680" cy="3448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Line 84"/>
            <p:cNvSpPr/>
            <p:nvPr/>
          </p:nvSpPr>
          <p:spPr>
            <a:xfrm flipH="1">
              <a:off x="2176560" y="2901240"/>
              <a:ext cx="166680" cy="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5"/>
            <p:cNvSpPr/>
            <p:nvPr/>
          </p:nvSpPr>
          <p:spPr>
            <a:xfrm>
              <a:off x="1943640" y="2589480"/>
              <a:ext cx="267120" cy="891720"/>
            </a:xfrm>
            <a:custGeom>
              <a:avLst/>
              <a:gdLst/>
              <a:ahLst/>
              <a:rect l="l" t="t" r="r" b="b"/>
              <a:pathLst>
                <a:path w="173" h="577">
                  <a:moveTo>
                    <a:pt x="0" y="577"/>
                  </a:moveTo>
                  <a:cubicBezTo>
                    <a:pt x="95" y="577"/>
                    <a:pt x="173" y="319"/>
                    <a:pt x="173" y="0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8"/>
            <p:cNvGrpSpPr/>
            <p:nvPr/>
          </p:nvGrpSpPr>
          <p:grpSpPr>
            <a:xfrm>
              <a:off x="2166120" y="2880000"/>
              <a:ext cx="52560" cy="52560"/>
              <a:chOff x="2166120" y="2880000"/>
              <a:chExt cx="52560" cy="52560"/>
            </a:xfrm>
          </p:grpSpPr>
          <p:sp>
            <p:nvSpPr>
              <p:cNvPr id="257" name="Oval 86"/>
              <p:cNvSpPr/>
              <p:nvPr/>
            </p:nvSpPr>
            <p:spPr>
              <a:xfrm>
                <a:off x="2166120" y="2880000"/>
                <a:ext cx="52560" cy="52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7"/>
              <p:cNvSpPr/>
              <p:nvPr/>
            </p:nvSpPr>
            <p:spPr>
              <a:xfrm>
                <a:off x="2166120" y="2880000"/>
                <a:ext cx="52560" cy="525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1"/>
            <p:cNvGrpSpPr/>
            <p:nvPr/>
          </p:nvGrpSpPr>
          <p:grpSpPr>
            <a:xfrm>
              <a:off x="2176920" y="2545920"/>
              <a:ext cx="52560" cy="52560"/>
              <a:chOff x="2176920" y="2545920"/>
              <a:chExt cx="52560" cy="52560"/>
            </a:xfrm>
          </p:grpSpPr>
          <p:sp>
            <p:nvSpPr>
              <p:cNvPr id="260" name="Oval 89"/>
              <p:cNvSpPr/>
              <p:nvPr/>
            </p:nvSpPr>
            <p:spPr>
              <a:xfrm>
                <a:off x="2176920" y="2545920"/>
                <a:ext cx="52560" cy="52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90"/>
              <p:cNvSpPr/>
              <p:nvPr/>
            </p:nvSpPr>
            <p:spPr>
              <a:xfrm>
                <a:off x="2176920" y="2545920"/>
                <a:ext cx="52560" cy="525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Line 92"/>
            <p:cNvSpPr/>
            <p:nvPr/>
          </p:nvSpPr>
          <p:spPr>
            <a:xfrm flipH="1">
              <a:off x="1909440" y="3369960"/>
              <a:ext cx="33840" cy="2224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3"/>
            <p:cNvSpPr/>
            <p:nvPr/>
          </p:nvSpPr>
          <p:spPr>
            <a:xfrm>
              <a:off x="7017120" y="32738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4"/>
            <p:cNvSpPr/>
            <p:nvPr/>
          </p:nvSpPr>
          <p:spPr>
            <a:xfrm>
              <a:off x="7371360" y="3273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5"/>
            <p:cNvSpPr/>
            <p:nvPr/>
          </p:nvSpPr>
          <p:spPr>
            <a:xfrm>
              <a:off x="2188800" y="340560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ke pedal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6"/>
            <p:cNvSpPr/>
            <p:nvPr/>
          </p:nvSpPr>
          <p:spPr>
            <a:xfrm>
              <a:off x="2928960" y="340992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S ????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7"/>
            <p:cNvSpPr/>
            <p:nvPr/>
          </p:nvSpPr>
          <p:spPr>
            <a:xfrm>
              <a:off x="3018600" y="3405600"/>
              <a:ext cx="172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rimary control of braking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8"/>
            <p:cNvSpPr/>
            <p:nvPr/>
          </p:nvSpPr>
          <p:spPr>
            <a:xfrm>
              <a:off x="4682880" y="3405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9"/>
            <p:cNvSpPr/>
            <p:nvPr/>
          </p:nvSpPr>
          <p:spPr>
            <a:xfrm>
              <a:off x="1958760" y="778680"/>
              <a:ext cx="145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x electronic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0"/>
            <p:cNvSpPr/>
            <p:nvPr/>
          </p:nvSpPr>
          <p:spPr>
            <a:xfrm>
              <a:off x="3383280" y="7786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1"/>
            <p:cNvSpPr/>
            <p:nvPr/>
          </p:nvSpPr>
          <p:spPr>
            <a:xfrm>
              <a:off x="3880440" y="778680"/>
              <a:ext cx="65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2"/>
            <p:cNvSpPr/>
            <p:nvPr/>
          </p:nvSpPr>
          <p:spPr>
            <a:xfrm>
              <a:off x="4526640" y="778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3"/>
            <p:cNvSpPr/>
            <p:nvPr/>
          </p:nvSpPr>
          <p:spPr>
            <a:xfrm>
              <a:off x="4566960" y="783360"/>
              <a:ext cx="13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4"/>
            <p:cNvSpPr/>
            <p:nvPr/>
          </p:nvSpPr>
          <p:spPr>
            <a:xfrm>
              <a:off x="4666320" y="783360"/>
              <a:ext cx="18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x controls of bra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5"/>
            <p:cNvSpPr/>
            <p:nvPr/>
          </p:nvSpPr>
          <p:spPr>
            <a:xfrm>
              <a:off x="6536520" y="778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6"/>
            <p:cNvSpPr/>
            <p:nvPr/>
          </p:nvSpPr>
          <p:spPr>
            <a:xfrm>
              <a:off x="1719360" y="2411640"/>
              <a:ext cx="177840" cy="16812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2" y="1449"/>
                  </a:moveTo>
                  <a:lnTo>
                    <a:pt x="10" y="1306"/>
                  </a:lnTo>
                  <a:lnTo>
                    <a:pt x="32" y="1162"/>
                  </a:lnTo>
                  <a:lnTo>
                    <a:pt x="70" y="1022"/>
                  </a:lnTo>
                  <a:lnTo>
                    <a:pt x="123" y="888"/>
                  </a:lnTo>
                  <a:lnTo>
                    <a:pt x="188" y="762"/>
                  </a:lnTo>
                  <a:lnTo>
                    <a:pt x="191" y="756"/>
                  </a:lnTo>
                  <a:cubicBezTo>
                    <a:pt x="206" y="733"/>
                    <a:pt x="237" y="727"/>
                    <a:pt x="260" y="742"/>
                  </a:cubicBezTo>
                  <a:cubicBezTo>
                    <a:pt x="283" y="757"/>
                    <a:pt x="290" y="788"/>
                    <a:pt x="275" y="811"/>
                  </a:cubicBezTo>
                  <a:lnTo>
                    <a:pt x="277" y="807"/>
                  </a:lnTo>
                  <a:lnTo>
                    <a:pt x="277" y="807"/>
                  </a:lnTo>
                  <a:lnTo>
                    <a:pt x="216" y="925"/>
                  </a:lnTo>
                  <a:lnTo>
                    <a:pt x="167" y="1049"/>
                  </a:lnTo>
                  <a:lnTo>
                    <a:pt x="131" y="1177"/>
                  </a:lnTo>
                  <a:lnTo>
                    <a:pt x="109" y="1311"/>
                  </a:lnTo>
                  <a:lnTo>
                    <a:pt x="101" y="1454"/>
                  </a:lnTo>
                  <a:cubicBezTo>
                    <a:pt x="100" y="1482"/>
                    <a:pt x="76" y="1503"/>
                    <a:pt x="49" y="1501"/>
                  </a:cubicBezTo>
                  <a:cubicBezTo>
                    <a:pt x="21" y="1500"/>
                    <a:pt x="0" y="1476"/>
                    <a:pt x="2" y="1449"/>
                  </a:cubicBezTo>
                  <a:close/>
                  <a:moveTo>
                    <a:pt x="445" y="437"/>
                  </a:moveTo>
                  <a:lnTo>
                    <a:pt x="445" y="437"/>
                  </a:lnTo>
                  <a:cubicBezTo>
                    <a:pt x="464" y="417"/>
                    <a:pt x="496" y="416"/>
                    <a:pt x="516" y="435"/>
                  </a:cubicBezTo>
                  <a:cubicBezTo>
                    <a:pt x="536" y="454"/>
                    <a:pt x="536" y="486"/>
                    <a:pt x="517" y="506"/>
                  </a:cubicBezTo>
                  <a:lnTo>
                    <a:pt x="517" y="506"/>
                  </a:lnTo>
                  <a:cubicBezTo>
                    <a:pt x="498" y="526"/>
                    <a:pt x="466" y="526"/>
                    <a:pt x="446" y="507"/>
                  </a:cubicBezTo>
                  <a:cubicBezTo>
                    <a:pt x="426" y="488"/>
                    <a:pt x="426" y="457"/>
                    <a:pt x="445" y="437"/>
                  </a:cubicBezTo>
                  <a:close/>
                  <a:moveTo>
                    <a:pt x="780" y="195"/>
                  </a:moveTo>
                  <a:lnTo>
                    <a:pt x="780" y="195"/>
                  </a:lnTo>
                  <a:cubicBezTo>
                    <a:pt x="804" y="181"/>
                    <a:pt x="834" y="190"/>
                    <a:pt x="848" y="214"/>
                  </a:cubicBezTo>
                  <a:cubicBezTo>
                    <a:pt x="862" y="237"/>
                    <a:pt x="854" y="268"/>
                    <a:pt x="830" y="282"/>
                  </a:cubicBezTo>
                  <a:lnTo>
                    <a:pt x="830" y="282"/>
                  </a:lnTo>
                  <a:cubicBezTo>
                    <a:pt x="806" y="296"/>
                    <a:pt x="775" y="287"/>
                    <a:pt x="761" y="263"/>
                  </a:cubicBezTo>
                  <a:cubicBezTo>
                    <a:pt x="748" y="239"/>
                    <a:pt x="756" y="209"/>
                    <a:pt x="780" y="195"/>
                  </a:cubicBezTo>
                  <a:close/>
                  <a:moveTo>
                    <a:pt x="1166" y="48"/>
                  </a:moveTo>
                  <a:lnTo>
                    <a:pt x="1238" y="31"/>
                  </a:lnTo>
                  <a:lnTo>
                    <a:pt x="1391" y="9"/>
                  </a:lnTo>
                  <a:lnTo>
                    <a:pt x="1549" y="2"/>
                  </a:lnTo>
                  <a:cubicBezTo>
                    <a:pt x="1577" y="0"/>
                    <a:pt x="1600" y="22"/>
                    <a:pt x="1601" y="49"/>
                  </a:cubicBezTo>
                  <a:cubicBezTo>
                    <a:pt x="1603" y="77"/>
                    <a:pt x="1581" y="100"/>
                    <a:pt x="1554" y="101"/>
                  </a:cubicBezTo>
                  <a:lnTo>
                    <a:pt x="1405" y="108"/>
                  </a:lnTo>
                  <a:lnTo>
                    <a:pt x="1261" y="128"/>
                  </a:lnTo>
                  <a:lnTo>
                    <a:pt x="1189" y="146"/>
                  </a:lnTo>
                  <a:cubicBezTo>
                    <a:pt x="1162" y="152"/>
                    <a:pt x="1135" y="136"/>
                    <a:pt x="1129" y="109"/>
                  </a:cubicBezTo>
                  <a:cubicBezTo>
                    <a:pt x="1122" y="82"/>
                    <a:pt x="1139" y="55"/>
                    <a:pt x="1166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7"/>
            <p:cNvSpPr/>
            <p:nvPr/>
          </p:nvSpPr>
          <p:spPr>
            <a:xfrm>
              <a:off x="1886400" y="2403720"/>
              <a:ext cx="1121760" cy="19800"/>
            </a:xfrm>
            <a:custGeom>
              <a:avLst/>
              <a:gdLst/>
              <a:ahLst/>
              <a:rect l="l" t="t" r="r" b="b"/>
              <a:pathLst>
                <a:path w="10087" h="173">
                  <a:moveTo>
                    <a:pt x="49" y="73"/>
                  </a:moveTo>
                  <a:lnTo>
                    <a:pt x="749" y="68"/>
                  </a:lnTo>
                  <a:cubicBezTo>
                    <a:pt x="777" y="68"/>
                    <a:pt x="800" y="90"/>
                    <a:pt x="800" y="118"/>
                  </a:cubicBezTo>
                  <a:cubicBezTo>
                    <a:pt x="800" y="145"/>
                    <a:pt x="778" y="168"/>
                    <a:pt x="750" y="168"/>
                  </a:cubicBezTo>
                  <a:lnTo>
                    <a:pt x="50" y="173"/>
                  </a:lnTo>
                  <a:cubicBezTo>
                    <a:pt x="23" y="173"/>
                    <a:pt x="0" y="151"/>
                    <a:pt x="0" y="124"/>
                  </a:cubicBezTo>
                  <a:cubicBezTo>
                    <a:pt x="0" y="96"/>
                    <a:pt x="22" y="73"/>
                    <a:pt x="49" y="73"/>
                  </a:cubicBezTo>
                  <a:close/>
                  <a:moveTo>
                    <a:pt x="1149" y="65"/>
                  </a:moveTo>
                  <a:lnTo>
                    <a:pt x="1149" y="65"/>
                  </a:lnTo>
                  <a:cubicBezTo>
                    <a:pt x="1177" y="65"/>
                    <a:pt x="1200" y="87"/>
                    <a:pt x="1200" y="115"/>
                  </a:cubicBezTo>
                  <a:cubicBezTo>
                    <a:pt x="1200" y="142"/>
                    <a:pt x="1178" y="165"/>
                    <a:pt x="1150" y="165"/>
                  </a:cubicBezTo>
                  <a:lnTo>
                    <a:pt x="1150" y="165"/>
                  </a:lnTo>
                  <a:cubicBezTo>
                    <a:pt x="1123" y="165"/>
                    <a:pt x="1100" y="143"/>
                    <a:pt x="1100" y="116"/>
                  </a:cubicBezTo>
                  <a:cubicBezTo>
                    <a:pt x="1100" y="88"/>
                    <a:pt x="1122" y="65"/>
                    <a:pt x="1149" y="65"/>
                  </a:cubicBezTo>
                  <a:close/>
                  <a:moveTo>
                    <a:pt x="1549" y="62"/>
                  </a:moveTo>
                  <a:lnTo>
                    <a:pt x="1549" y="62"/>
                  </a:lnTo>
                  <a:cubicBezTo>
                    <a:pt x="1577" y="62"/>
                    <a:pt x="1600" y="84"/>
                    <a:pt x="1600" y="112"/>
                  </a:cubicBezTo>
                  <a:cubicBezTo>
                    <a:pt x="1600" y="139"/>
                    <a:pt x="1578" y="162"/>
                    <a:pt x="1550" y="162"/>
                  </a:cubicBezTo>
                  <a:lnTo>
                    <a:pt x="1550" y="162"/>
                  </a:lnTo>
                  <a:cubicBezTo>
                    <a:pt x="1523" y="162"/>
                    <a:pt x="1500" y="140"/>
                    <a:pt x="1500" y="113"/>
                  </a:cubicBezTo>
                  <a:cubicBezTo>
                    <a:pt x="1500" y="85"/>
                    <a:pt x="1522" y="62"/>
                    <a:pt x="1549" y="62"/>
                  </a:cubicBezTo>
                  <a:close/>
                  <a:moveTo>
                    <a:pt x="1950" y="59"/>
                  </a:moveTo>
                  <a:lnTo>
                    <a:pt x="2650" y="54"/>
                  </a:lnTo>
                  <a:cubicBezTo>
                    <a:pt x="2677" y="54"/>
                    <a:pt x="2700" y="76"/>
                    <a:pt x="2700" y="104"/>
                  </a:cubicBezTo>
                  <a:cubicBezTo>
                    <a:pt x="2700" y="131"/>
                    <a:pt x="2678" y="154"/>
                    <a:pt x="2650" y="154"/>
                  </a:cubicBezTo>
                  <a:lnTo>
                    <a:pt x="1950" y="159"/>
                  </a:lnTo>
                  <a:cubicBezTo>
                    <a:pt x="1923" y="159"/>
                    <a:pt x="1900" y="137"/>
                    <a:pt x="1900" y="110"/>
                  </a:cubicBezTo>
                  <a:cubicBezTo>
                    <a:pt x="1900" y="82"/>
                    <a:pt x="1922" y="59"/>
                    <a:pt x="1950" y="59"/>
                  </a:cubicBezTo>
                  <a:close/>
                  <a:moveTo>
                    <a:pt x="3049" y="51"/>
                  </a:moveTo>
                  <a:lnTo>
                    <a:pt x="3050" y="51"/>
                  </a:lnTo>
                  <a:cubicBezTo>
                    <a:pt x="3077" y="51"/>
                    <a:pt x="3100" y="73"/>
                    <a:pt x="3100" y="101"/>
                  </a:cubicBezTo>
                  <a:cubicBezTo>
                    <a:pt x="3100" y="128"/>
                    <a:pt x="3078" y="151"/>
                    <a:pt x="3051" y="151"/>
                  </a:cubicBezTo>
                  <a:lnTo>
                    <a:pt x="3050" y="151"/>
                  </a:lnTo>
                  <a:cubicBezTo>
                    <a:pt x="3023" y="151"/>
                    <a:pt x="3000" y="129"/>
                    <a:pt x="3000" y="102"/>
                  </a:cubicBezTo>
                  <a:cubicBezTo>
                    <a:pt x="3000" y="74"/>
                    <a:pt x="3022" y="51"/>
                    <a:pt x="3049" y="51"/>
                  </a:cubicBezTo>
                  <a:close/>
                  <a:moveTo>
                    <a:pt x="3450" y="48"/>
                  </a:moveTo>
                  <a:lnTo>
                    <a:pt x="3450" y="48"/>
                  </a:lnTo>
                  <a:cubicBezTo>
                    <a:pt x="3477" y="48"/>
                    <a:pt x="3500" y="70"/>
                    <a:pt x="3500" y="98"/>
                  </a:cubicBezTo>
                  <a:cubicBezTo>
                    <a:pt x="3500" y="125"/>
                    <a:pt x="3478" y="148"/>
                    <a:pt x="3451" y="148"/>
                  </a:cubicBezTo>
                  <a:lnTo>
                    <a:pt x="3450" y="148"/>
                  </a:lnTo>
                  <a:cubicBezTo>
                    <a:pt x="3423" y="148"/>
                    <a:pt x="3400" y="126"/>
                    <a:pt x="3400" y="99"/>
                  </a:cubicBezTo>
                  <a:cubicBezTo>
                    <a:pt x="3400" y="71"/>
                    <a:pt x="3422" y="48"/>
                    <a:pt x="3450" y="48"/>
                  </a:cubicBezTo>
                  <a:close/>
                  <a:moveTo>
                    <a:pt x="3850" y="45"/>
                  </a:moveTo>
                  <a:lnTo>
                    <a:pt x="4550" y="40"/>
                  </a:lnTo>
                  <a:cubicBezTo>
                    <a:pt x="4577" y="40"/>
                    <a:pt x="4600" y="62"/>
                    <a:pt x="4600" y="90"/>
                  </a:cubicBezTo>
                  <a:cubicBezTo>
                    <a:pt x="4600" y="117"/>
                    <a:pt x="4578" y="140"/>
                    <a:pt x="4550" y="140"/>
                  </a:cubicBezTo>
                  <a:lnTo>
                    <a:pt x="3850" y="145"/>
                  </a:lnTo>
                  <a:cubicBezTo>
                    <a:pt x="3823" y="145"/>
                    <a:pt x="3800" y="123"/>
                    <a:pt x="3800" y="96"/>
                  </a:cubicBezTo>
                  <a:cubicBezTo>
                    <a:pt x="3800" y="68"/>
                    <a:pt x="3822" y="45"/>
                    <a:pt x="3850" y="45"/>
                  </a:cubicBezTo>
                  <a:close/>
                  <a:moveTo>
                    <a:pt x="4950" y="37"/>
                  </a:moveTo>
                  <a:lnTo>
                    <a:pt x="4950" y="37"/>
                  </a:lnTo>
                  <a:cubicBezTo>
                    <a:pt x="4977" y="37"/>
                    <a:pt x="5000" y="59"/>
                    <a:pt x="5000" y="87"/>
                  </a:cubicBezTo>
                  <a:cubicBezTo>
                    <a:pt x="5000" y="114"/>
                    <a:pt x="4978" y="137"/>
                    <a:pt x="4951" y="137"/>
                  </a:cubicBezTo>
                  <a:lnTo>
                    <a:pt x="4951" y="137"/>
                  </a:lnTo>
                  <a:cubicBezTo>
                    <a:pt x="4923" y="137"/>
                    <a:pt x="4900" y="115"/>
                    <a:pt x="4900" y="88"/>
                  </a:cubicBezTo>
                  <a:cubicBezTo>
                    <a:pt x="4900" y="60"/>
                    <a:pt x="4922" y="37"/>
                    <a:pt x="4950" y="37"/>
                  </a:cubicBezTo>
                  <a:close/>
                  <a:moveTo>
                    <a:pt x="5350" y="34"/>
                  </a:moveTo>
                  <a:lnTo>
                    <a:pt x="5350" y="34"/>
                  </a:lnTo>
                  <a:cubicBezTo>
                    <a:pt x="5377" y="34"/>
                    <a:pt x="5400" y="56"/>
                    <a:pt x="5400" y="84"/>
                  </a:cubicBezTo>
                  <a:cubicBezTo>
                    <a:pt x="5401" y="111"/>
                    <a:pt x="5378" y="134"/>
                    <a:pt x="5351" y="134"/>
                  </a:cubicBezTo>
                  <a:lnTo>
                    <a:pt x="5351" y="134"/>
                  </a:lnTo>
                  <a:cubicBezTo>
                    <a:pt x="5323" y="134"/>
                    <a:pt x="5300" y="112"/>
                    <a:pt x="5300" y="85"/>
                  </a:cubicBezTo>
                  <a:cubicBezTo>
                    <a:pt x="5300" y="57"/>
                    <a:pt x="5322" y="34"/>
                    <a:pt x="5350" y="34"/>
                  </a:cubicBezTo>
                  <a:close/>
                  <a:moveTo>
                    <a:pt x="5750" y="31"/>
                  </a:moveTo>
                  <a:lnTo>
                    <a:pt x="6450" y="26"/>
                  </a:lnTo>
                  <a:cubicBezTo>
                    <a:pt x="6477" y="26"/>
                    <a:pt x="6500" y="48"/>
                    <a:pt x="6500" y="76"/>
                  </a:cubicBezTo>
                  <a:cubicBezTo>
                    <a:pt x="6500" y="103"/>
                    <a:pt x="6478" y="126"/>
                    <a:pt x="6451" y="126"/>
                  </a:cubicBezTo>
                  <a:lnTo>
                    <a:pt x="5751" y="131"/>
                  </a:lnTo>
                  <a:cubicBezTo>
                    <a:pt x="5723" y="131"/>
                    <a:pt x="5700" y="109"/>
                    <a:pt x="5700" y="82"/>
                  </a:cubicBezTo>
                  <a:cubicBezTo>
                    <a:pt x="5700" y="54"/>
                    <a:pt x="5722" y="31"/>
                    <a:pt x="5750" y="31"/>
                  </a:cubicBezTo>
                  <a:close/>
                  <a:moveTo>
                    <a:pt x="6850" y="23"/>
                  </a:moveTo>
                  <a:lnTo>
                    <a:pt x="6850" y="23"/>
                  </a:lnTo>
                  <a:cubicBezTo>
                    <a:pt x="6877" y="23"/>
                    <a:pt x="6900" y="45"/>
                    <a:pt x="6900" y="73"/>
                  </a:cubicBezTo>
                  <a:cubicBezTo>
                    <a:pt x="6901" y="100"/>
                    <a:pt x="6878" y="123"/>
                    <a:pt x="6851" y="123"/>
                  </a:cubicBezTo>
                  <a:lnTo>
                    <a:pt x="6851" y="123"/>
                  </a:lnTo>
                  <a:cubicBezTo>
                    <a:pt x="6823" y="123"/>
                    <a:pt x="6800" y="101"/>
                    <a:pt x="6800" y="74"/>
                  </a:cubicBezTo>
                  <a:cubicBezTo>
                    <a:pt x="6800" y="46"/>
                    <a:pt x="6822" y="23"/>
                    <a:pt x="6850" y="23"/>
                  </a:cubicBezTo>
                  <a:close/>
                  <a:moveTo>
                    <a:pt x="7250" y="20"/>
                  </a:moveTo>
                  <a:lnTo>
                    <a:pt x="7250" y="20"/>
                  </a:lnTo>
                  <a:cubicBezTo>
                    <a:pt x="7278" y="20"/>
                    <a:pt x="7300" y="42"/>
                    <a:pt x="7300" y="70"/>
                  </a:cubicBezTo>
                  <a:cubicBezTo>
                    <a:pt x="7301" y="97"/>
                    <a:pt x="7279" y="120"/>
                    <a:pt x="7251" y="120"/>
                  </a:cubicBezTo>
                  <a:lnTo>
                    <a:pt x="7251" y="120"/>
                  </a:lnTo>
                  <a:cubicBezTo>
                    <a:pt x="7223" y="121"/>
                    <a:pt x="7201" y="98"/>
                    <a:pt x="7200" y="71"/>
                  </a:cubicBezTo>
                  <a:cubicBezTo>
                    <a:pt x="7200" y="43"/>
                    <a:pt x="7222" y="21"/>
                    <a:pt x="7250" y="20"/>
                  </a:cubicBezTo>
                  <a:close/>
                  <a:moveTo>
                    <a:pt x="7650" y="17"/>
                  </a:moveTo>
                  <a:lnTo>
                    <a:pt x="8350" y="12"/>
                  </a:lnTo>
                  <a:cubicBezTo>
                    <a:pt x="8378" y="12"/>
                    <a:pt x="8400" y="34"/>
                    <a:pt x="8400" y="62"/>
                  </a:cubicBezTo>
                  <a:cubicBezTo>
                    <a:pt x="8401" y="89"/>
                    <a:pt x="8378" y="112"/>
                    <a:pt x="8351" y="112"/>
                  </a:cubicBezTo>
                  <a:lnTo>
                    <a:pt x="7651" y="117"/>
                  </a:lnTo>
                  <a:cubicBezTo>
                    <a:pt x="7623" y="118"/>
                    <a:pt x="7601" y="95"/>
                    <a:pt x="7600" y="68"/>
                  </a:cubicBezTo>
                  <a:cubicBezTo>
                    <a:pt x="7600" y="40"/>
                    <a:pt x="7622" y="18"/>
                    <a:pt x="7650" y="17"/>
                  </a:cubicBezTo>
                  <a:close/>
                  <a:moveTo>
                    <a:pt x="8750" y="9"/>
                  </a:moveTo>
                  <a:lnTo>
                    <a:pt x="8750" y="9"/>
                  </a:lnTo>
                  <a:cubicBezTo>
                    <a:pt x="8778" y="9"/>
                    <a:pt x="8800" y="31"/>
                    <a:pt x="8800" y="59"/>
                  </a:cubicBezTo>
                  <a:cubicBezTo>
                    <a:pt x="8801" y="86"/>
                    <a:pt x="8779" y="109"/>
                    <a:pt x="8751" y="109"/>
                  </a:cubicBezTo>
                  <a:lnTo>
                    <a:pt x="8751" y="109"/>
                  </a:lnTo>
                  <a:cubicBezTo>
                    <a:pt x="8723" y="110"/>
                    <a:pt x="8701" y="87"/>
                    <a:pt x="8700" y="60"/>
                  </a:cubicBezTo>
                  <a:cubicBezTo>
                    <a:pt x="8700" y="32"/>
                    <a:pt x="8722" y="10"/>
                    <a:pt x="8750" y="9"/>
                  </a:cubicBezTo>
                  <a:close/>
                  <a:moveTo>
                    <a:pt x="9150" y="6"/>
                  </a:moveTo>
                  <a:lnTo>
                    <a:pt x="9150" y="6"/>
                  </a:lnTo>
                  <a:cubicBezTo>
                    <a:pt x="9178" y="6"/>
                    <a:pt x="9200" y="28"/>
                    <a:pt x="9201" y="56"/>
                  </a:cubicBezTo>
                  <a:cubicBezTo>
                    <a:pt x="9201" y="83"/>
                    <a:pt x="9179" y="106"/>
                    <a:pt x="9151" y="106"/>
                  </a:cubicBezTo>
                  <a:lnTo>
                    <a:pt x="9151" y="106"/>
                  </a:lnTo>
                  <a:cubicBezTo>
                    <a:pt x="9123" y="107"/>
                    <a:pt x="9101" y="84"/>
                    <a:pt x="9100" y="57"/>
                  </a:cubicBezTo>
                  <a:cubicBezTo>
                    <a:pt x="9100" y="29"/>
                    <a:pt x="9122" y="7"/>
                    <a:pt x="9150" y="6"/>
                  </a:cubicBezTo>
                  <a:close/>
                  <a:moveTo>
                    <a:pt x="9550" y="3"/>
                  </a:moveTo>
                  <a:lnTo>
                    <a:pt x="10036" y="0"/>
                  </a:lnTo>
                  <a:cubicBezTo>
                    <a:pt x="10064" y="0"/>
                    <a:pt x="10086" y="22"/>
                    <a:pt x="10086" y="49"/>
                  </a:cubicBezTo>
                  <a:cubicBezTo>
                    <a:pt x="10087" y="77"/>
                    <a:pt x="10064" y="100"/>
                    <a:pt x="10037" y="100"/>
                  </a:cubicBezTo>
                  <a:lnTo>
                    <a:pt x="9551" y="103"/>
                  </a:lnTo>
                  <a:cubicBezTo>
                    <a:pt x="9523" y="104"/>
                    <a:pt x="9501" y="81"/>
                    <a:pt x="9501" y="54"/>
                  </a:cubicBezTo>
                  <a:cubicBezTo>
                    <a:pt x="9500" y="26"/>
                    <a:pt x="9523" y="4"/>
                    <a:pt x="955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8"/>
            <p:cNvSpPr/>
            <p:nvPr/>
          </p:nvSpPr>
          <p:spPr>
            <a:xfrm>
              <a:off x="1719360" y="2624760"/>
              <a:ext cx="10800" cy="935280"/>
            </a:xfrm>
            <a:custGeom>
              <a:avLst/>
              <a:gdLst/>
              <a:ahLst/>
              <a:rect l="l" t="t" r="r" b="b"/>
              <a:pathLst>
                <a:path w="100" h="8400">
                  <a:moveTo>
                    <a:pt x="0" y="8350"/>
                  </a:moveTo>
                  <a:lnTo>
                    <a:pt x="0" y="7650"/>
                  </a:lnTo>
                  <a:cubicBezTo>
                    <a:pt x="0" y="7623"/>
                    <a:pt x="22" y="7600"/>
                    <a:pt x="50" y="7600"/>
                  </a:cubicBezTo>
                  <a:cubicBezTo>
                    <a:pt x="77" y="7600"/>
                    <a:pt x="100" y="7623"/>
                    <a:pt x="100" y="7650"/>
                  </a:cubicBezTo>
                  <a:lnTo>
                    <a:pt x="100" y="8350"/>
                  </a:lnTo>
                  <a:cubicBezTo>
                    <a:pt x="100" y="8378"/>
                    <a:pt x="77" y="8400"/>
                    <a:pt x="50" y="8400"/>
                  </a:cubicBezTo>
                  <a:cubicBezTo>
                    <a:pt x="22" y="8400"/>
                    <a:pt x="0" y="8378"/>
                    <a:pt x="0" y="8350"/>
                  </a:cubicBezTo>
                  <a:close/>
                  <a:moveTo>
                    <a:pt x="0" y="7250"/>
                  </a:moveTo>
                  <a:lnTo>
                    <a:pt x="0" y="7250"/>
                  </a:lnTo>
                  <a:cubicBezTo>
                    <a:pt x="0" y="7223"/>
                    <a:pt x="22" y="7200"/>
                    <a:pt x="50" y="7200"/>
                  </a:cubicBezTo>
                  <a:cubicBezTo>
                    <a:pt x="77" y="7200"/>
                    <a:pt x="100" y="7223"/>
                    <a:pt x="100" y="7250"/>
                  </a:cubicBezTo>
                  <a:lnTo>
                    <a:pt x="100" y="7250"/>
                  </a:lnTo>
                  <a:cubicBezTo>
                    <a:pt x="100" y="7278"/>
                    <a:pt x="77" y="7300"/>
                    <a:pt x="50" y="7300"/>
                  </a:cubicBezTo>
                  <a:cubicBezTo>
                    <a:pt x="22" y="7300"/>
                    <a:pt x="0" y="7278"/>
                    <a:pt x="0" y="7250"/>
                  </a:cubicBezTo>
                  <a:close/>
                  <a:moveTo>
                    <a:pt x="0" y="6850"/>
                  </a:moveTo>
                  <a:lnTo>
                    <a:pt x="0" y="6850"/>
                  </a:lnTo>
                  <a:cubicBezTo>
                    <a:pt x="0" y="6823"/>
                    <a:pt x="22" y="6800"/>
                    <a:pt x="50" y="6800"/>
                  </a:cubicBezTo>
                  <a:cubicBezTo>
                    <a:pt x="77" y="6800"/>
                    <a:pt x="100" y="6823"/>
                    <a:pt x="100" y="6850"/>
                  </a:cubicBezTo>
                  <a:lnTo>
                    <a:pt x="100" y="6850"/>
                  </a:lnTo>
                  <a:cubicBezTo>
                    <a:pt x="100" y="6878"/>
                    <a:pt x="77" y="6900"/>
                    <a:pt x="50" y="6900"/>
                  </a:cubicBezTo>
                  <a:cubicBezTo>
                    <a:pt x="22" y="6900"/>
                    <a:pt x="0" y="6878"/>
                    <a:pt x="0" y="6850"/>
                  </a:cubicBezTo>
                  <a:close/>
                  <a:moveTo>
                    <a:pt x="0" y="6450"/>
                  </a:moveTo>
                  <a:lnTo>
                    <a:pt x="0" y="5750"/>
                  </a:lnTo>
                  <a:cubicBezTo>
                    <a:pt x="0" y="5723"/>
                    <a:pt x="22" y="5700"/>
                    <a:pt x="50" y="5700"/>
                  </a:cubicBezTo>
                  <a:cubicBezTo>
                    <a:pt x="77" y="5700"/>
                    <a:pt x="100" y="5723"/>
                    <a:pt x="100" y="5750"/>
                  </a:cubicBezTo>
                  <a:lnTo>
                    <a:pt x="100" y="6450"/>
                  </a:lnTo>
                  <a:cubicBezTo>
                    <a:pt x="100" y="6478"/>
                    <a:pt x="77" y="6500"/>
                    <a:pt x="50" y="6500"/>
                  </a:cubicBezTo>
                  <a:cubicBezTo>
                    <a:pt x="22" y="6500"/>
                    <a:pt x="0" y="6478"/>
                    <a:pt x="0" y="6450"/>
                  </a:cubicBezTo>
                  <a:close/>
                  <a:moveTo>
                    <a:pt x="0" y="5350"/>
                  </a:moveTo>
                  <a:lnTo>
                    <a:pt x="0" y="5350"/>
                  </a:lnTo>
                  <a:cubicBezTo>
                    <a:pt x="0" y="5323"/>
                    <a:pt x="22" y="5300"/>
                    <a:pt x="50" y="5300"/>
                  </a:cubicBezTo>
                  <a:cubicBezTo>
                    <a:pt x="77" y="5300"/>
                    <a:pt x="100" y="5323"/>
                    <a:pt x="100" y="5350"/>
                  </a:cubicBezTo>
                  <a:lnTo>
                    <a:pt x="100" y="5350"/>
                  </a:lnTo>
                  <a:cubicBezTo>
                    <a:pt x="100" y="5378"/>
                    <a:pt x="77" y="5400"/>
                    <a:pt x="50" y="5400"/>
                  </a:cubicBezTo>
                  <a:cubicBezTo>
                    <a:pt x="22" y="5400"/>
                    <a:pt x="0" y="5378"/>
                    <a:pt x="0" y="5350"/>
                  </a:cubicBezTo>
                  <a:close/>
                  <a:moveTo>
                    <a:pt x="0" y="4950"/>
                  </a:moveTo>
                  <a:lnTo>
                    <a:pt x="0" y="4950"/>
                  </a:lnTo>
                  <a:cubicBezTo>
                    <a:pt x="0" y="4922"/>
                    <a:pt x="22" y="4900"/>
                    <a:pt x="50" y="4900"/>
                  </a:cubicBezTo>
                  <a:cubicBezTo>
                    <a:pt x="77" y="4900"/>
                    <a:pt x="100" y="4922"/>
                    <a:pt x="100" y="4950"/>
                  </a:cubicBezTo>
                  <a:lnTo>
                    <a:pt x="100" y="4950"/>
                  </a:lnTo>
                  <a:cubicBezTo>
                    <a:pt x="100" y="4978"/>
                    <a:pt x="77" y="5000"/>
                    <a:pt x="50" y="5000"/>
                  </a:cubicBezTo>
                  <a:cubicBezTo>
                    <a:pt x="22" y="5000"/>
                    <a:pt x="0" y="4978"/>
                    <a:pt x="0" y="4950"/>
                  </a:cubicBezTo>
                  <a:close/>
                  <a:moveTo>
                    <a:pt x="0" y="4550"/>
                  </a:moveTo>
                  <a:lnTo>
                    <a:pt x="0" y="3850"/>
                  </a:lnTo>
                  <a:cubicBezTo>
                    <a:pt x="0" y="3822"/>
                    <a:pt x="22" y="3800"/>
                    <a:pt x="50" y="3800"/>
                  </a:cubicBezTo>
                  <a:cubicBezTo>
                    <a:pt x="77" y="3800"/>
                    <a:pt x="100" y="3822"/>
                    <a:pt x="100" y="3850"/>
                  </a:cubicBezTo>
                  <a:lnTo>
                    <a:pt x="100" y="4550"/>
                  </a:lnTo>
                  <a:cubicBezTo>
                    <a:pt x="100" y="4578"/>
                    <a:pt x="77" y="4600"/>
                    <a:pt x="50" y="4600"/>
                  </a:cubicBezTo>
                  <a:cubicBezTo>
                    <a:pt x="22" y="4600"/>
                    <a:pt x="0" y="4578"/>
                    <a:pt x="0" y="4550"/>
                  </a:cubicBezTo>
                  <a:close/>
                  <a:moveTo>
                    <a:pt x="0" y="3450"/>
                  </a:moveTo>
                  <a:lnTo>
                    <a:pt x="0" y="3450"/>
                  </a:lnTo>
                  <a:cubicBezTo>
                    <a:pt x="0" y="3422"/>
                    <a:pt x="22" y="3400"/>
                    <a:pt x="50" y="3400"/>
                  </a:cubicBezTo>
                  <a:cubicBezTo>
                    <a:pt x="77" y="3400"/>
                    <a:pt x="100" y="3422"/>
                    <a:pt x="100" y="3450"/>
                  </a:cubicBezTo>
                  <a:lnTo>
                    <a:pt x="100" y="3450"/>
                  </a:lnTo>
                  <a:cubicBezTo>
                    <a:pt x="100" y="3478"/>
                    <a:pt x="77" y="3500"/>
                    <a:pt x="50" y="3500"/>
                  </a:cubicBezTo>
                  <a:cubicBezTo>
                    <a:pt x="22" y="3500"/>
                    <a:pt x="0" y="3478"/>
                    <a:pt x="0" y="3450"/>
                  </a:cubicBezTo>
                  <a:close/>
                  <a:moveTo>
                    <a:pt x="0" y="3050"/>
                  </a:moveTo>
                  <a:lnTo>
                    <a:pt x="0" y="3050"/>
                  </a:lnTo>
                  <a:cubicBezTo>
                    <a:pt x="0" y="3022"/>
                    <a:pt x="22" y="3000"/>
                    <a:pt x="50" y="3000"/>
                  </a:cubicBezTo>
                  <a:cubicBezTo>
                    <a:pt x="77" y="3000"/>
                    <a:pt x="100" y="3022"/>
                    <a:pt x="100" y="3050"/>
                  </a:cubicBezTo>
                  <a:lnTo>
                    <a:pt x="100" y="3050"/>
                  </a:lnTo>
                  <a:cubicBezTo>
                    <a:pt x="100" y="3078"/>
                    <a:pt x="77" y="3100"/>
                    <a:pt x="50" y="3100"/>
                  </a:cubicBezTo>
                  <a:cubicBezTo>
                    <a:pt x="22" y="3100"/>
                    <a:pt x="0" y="3078"/>
                    <a:pt x="0" y="3050"/>
                  </a:cubicBezTo>
                  <a:close/>
                  <a:moveTo>
                    <a:pt x="0" y="2650"/>
                  </a:moveTo>
                  <a:lnTo>
                    <a:pt x="0" y="1950"/>
                  </a:lnTo>
                  <a:cubicBezTo>
                    <a:pt x="0" y="1922"/>
                    <a:pt x="22" y="1900"/>
                    <a:pt x="50" y="1900"/>
                  </a:cubicBezTo>
                  <a:cubicBezTo>
                    <a:pt x="77" y="1900"/>
                    <a:pt x="100" y="1922"/>
                    <a:pt x="100" y="1950"/>
                  </a:cubicBezTo>
                  <a:lnTo>
                    <a:pt x="100" y="2650"/>
                  </a:lnTo>
                  <a:cubicBezTo>
                    <a:pt x="100" y="2677"/>
                    <a:pt x="77" y="2700"/>
                    <a:pt x="50" y="2700"/>
                  </a:cubicBezTo>
                  <a:cubicBezTo>
                    <a:pt x="22" y="2700"/>
                    <a:pt x="0" y="2677"/>
                    <a:pt x="0" y="2650"/>
                  </a:cubicBezTo>
                  <a:close/>
                  <a:moveTo>
                    <a:pt x="0" y="1550"/>
                  </a:moveTo>
                  <a:lnTo>
                    <a:pt x="0" y="1550"/>
                  </a:lnTo>
                  <a:cubicBezTo>
                    <a:pt x="0" y="1522"/>
                    <a:pt x="22" y="1500"/>
                    <a:pt x="50" y="1500"/>
                  </a:cubicBezTo>
                  <a:cubicBezTo>
                    <a:pt x="77" y="1500"/>
                    <a:pt x="100" y="1522"/>
                    <a:pt x="100" y="1550"/>
                  </a:cubicBezTo>
                  <a:lnTo>
                    <a:pt x="100" y="1550"/>
                  </a:lnTo>
                  <a:cubicBezTo>
                    <a:pt x="100" y="1577"/>
                    <a:pt x="77" y="1600"/>
                    <a:pt x="50" y="1600"/>
                  </a:cubicBezTo>
                  <a:cubicBezTo>
                    <a:pt x="22" y="1600"/>
                    <a:pt x="0" y="1577"/>
                    <a:pt x="0" y="1550"/>
                  </a:cubicBezTo>
                  <a:close/>
                  <a:moveTo>
                    <a:pt x="0" y="1150"/>
                  </a:moveTo>
                  <a:lnTo>
                    <a:pt x="0" y="1150"/>
                  </a:lnTo>
                  <a:cubicBezTo>
                    <a:pt x="0" y="1122"/>
                    <a:pt x="22" y="1100"/>
                    <a:pt x="50" y="1100"/>
                  </a:cubicBezTo>
                  <a:cubicBezTo>
                    <a:pt x="77" y="1100"/>
                    <a:pt x="100" y="1122"/>
                    <a:pt x="100" y="1150"/>
                  </a:cubicBezTo>
                  <a:lnTo>
                    <a:pt x="100" y="1150"/>
                  </a:lnTo>
                  <a:cubicBezTo>
                    <a:pt x="100" y="1177"/>
                    <a:pt x="77" y="1200"/>
                    <a:pt x="50" y="1200"/>
                  </a:cubicBezTo>
                  <a:cubicBezTo>
                    <a:pt x="22" y="1200"/>
                    <a:pt x="0" y="1177"/>
                    <a:pt x="0" y="1150"/>
                  </a:cubicBezTo>
                  <a:close/>
                  <a:moveTo>
                    <a:pt x="0" y="750"/>
                  </a:moveTo>
                  <a:lnTo>
                    <a:pt x="0" y="50"/>
                  </a:lnTo>
                  <a:cubicBezTo>
                    <a:pt x="0" y="22"/>
                    <a:pt x="22" y="0"/>
                    <a:pt x="50" y="0"/>
                  </a:cubicBezTo>
                  <a:cubicBezTo>
                    <a:pt x="77" y="0"/>
                    <a:pt x="100" y="22"/>
                    <a:pt x="100" y="50"/>
                  </a:cubicBezTo>
                  <a:lnTo>
                    <a:pt x="100" y="750"/>
                  </a:lnTo>
                  <a:cubicBezTo>
                    <a:pt x="100" y="777"/>
                    <a:pt x="77" y="800"/>
                    <a:pt x="50" y="800"/>
                  </a:cubicBezTo>
                  <a:cubicBezTo>
                    <a:pt x="22" y="800"/>
                    <a:pt x="0" y="777"/>
                    <a:pt x="0" y="7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9"/>
            <p:cNvSpPr/>
            <p:nvPr/>
          </p:nvSpPr>
          <p:spPr>
            <a:xfrm>
              <a:off x="1719360" y="3549240"/>
              <a:ext cx="177840" cy="16668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5"/>
                  </a:lnTo>
                  <a:lnTo>
                    <a:pt x="216" y="578"/>
                  </a:lnTo>
                  <a:lnTo>
                    <a:pt x="277" y="697"/>
                  </a:lnTo>
                  <a:lnTo>
                    <a:pt x="277" y="697"/>
                  </a:lnTo>
                  <a:lnTo>
                    <a:pt x="274" y="692"/>
                  </a:lnTo>
                  <a:cubicBezTo>
                    <a:pt x="289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7"/>
                  </a:cubicBezTo>
                  <a:lnTo>
                    <a:pt x="188" y="742"/>
                  </a:lnTo>
                  <a:lnTo>
                    <a:pt x="123" y="615"/>
                  </a:lnTo>
                  <a:lnTo>
                    <a:pt x="70" y="482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6" y="996"/>
                  </a:moveTo>
                  <a:lnTo>
                    <a:pt x="516" y="996"/>
                  </a:lnTo>
                  <a:cubicBezTo>
                    <a:pt x="536" y="1016"/>
                    <a:pt x="536" y="1048"/>
                    <a:pt x="516" y="1067"/>
                  </a:cubicBezTo>
                  <a:cubicBezTo>
                    <a:pt x="497" y="1087"/>
                    <a:pt x="465" y="1086"/>
                    <a:pt x="445" y="1067"/>
                  </a:cubicBezTo>
                  <a:lnTo>
                    <a:pt x="445" y="1067"/>
                  </a:lnTo>
                  <a:cubicBezTo>
                    <a:pt x="426" y="1047"/>
                    <a:pt x="426" y="1016"/>
                    <a:pt x="445" y="996"/>
                  </a:cubicBezTo>
                  <a:cubicBezTo>
                    <a:pt x="465" y="977"/>
                    <a:pt x="497" y="977"/>
                    <a:pt x="516" y="996"/>
                  </a:cubicBezTo>
                  <a:close/>
                  <a:moveTo>
                    <a:pt x="829" y="1221"/>
                  </a:moveTo>
                  <a:lnTo>
                    <a:pt x="829" y="1221"/>
                  </a:lnTo>
                  <a:cubicBezTo>
                    <a:pt x="853" y="1234"/>
                    <a:pt x="862" y="1265"/>
                    <a:pt x="848" y="1289"/>
                  </a:cubicBezTo>
                  <a:cubicBezTo>
                    <a:pt x="835" y="1313"/>
                    <a:pt x="804" y="1322"/>
                    <a:pt x="780" y="1308"/>
                  </a:cubicBezTo>
                  <a:lnTo>
                    <a:pt x="780" y="1308"/>
                  </a:lnTo>
                  <a:cubicBezTo>
                    <a:pt x="756" y="1295"/>
                    <a:pt x="747" y="1264"/>
                    <a:pt x="761" y="1240"/>
                  </a:cubicBezTo>
                  <a:cubicBezTo>
                    <a:pt x="774" y="1216"/>
                    <a:pt x="805" y="1207"/>
                    <a:pt x="829" y="1221"/>
                  </a:cubicBezTo>
                  <a:close/>
                  <a:moveTo>
                    <a:pt x="1189" y="1357"/>
                  </a:moveTo>
                  <a:lnTo>
                    <a:pt x="1261" y="1375"/>
                  </a:lnTo>
                  <a:lnTo>
                    <a:pt x="1405" y="1395"/>
                  </a:lnTo>
                  <a:lnTo>
                    <a:pt x="1554" y="1402"/>
                  </a:lnTo>
                  <a:cubicBezTo>
                    <a:pt x="1581" y="1403"/>
                    <a:pt x="1603" y="1426"/>
                    <a:pt x="1601" y="1454"/>
                  </a:cubicBezTo>
                  <a:cubicBezTo>
                    <a:pt x="1600" y="1481"/>
                    <a:pt x="1577" y="1503"/>
                    <a:pt x="1549" y="1501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165" y="1455"/>
                  </a:lnTo>
                  <a:cubicBezTo>
                    <a:pt x="1139" y="1448"/>
                    <a:pt x="1122" y="1421"/>
                    <a:pt x="1129" y="1394"/>
                  </a:cubicBezTo>
                  <a:cubicBezTo>
                    <a:pt x="1135" y="1367"/>
                    <a:pt x="1162" y="1351"/>
                    <a:pt x="1189" y="13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0"/>
            <p:cNvSpPr/>
            <p:nvPr/>
          </p:nvSpPr>
          <p:spPr>
            <a:xfrm>
              <a:off x="1886400" y="3677400"/>
              <a:ext cx="5634000" cy="38520"/>
            </a:xfrm>
            <a:custGeom>
              <a:avLst/>
              <a:gdLst/>
              <a:ahLst/>
              <a:rect l="l" t="t" r="r" b="b"/>
              <a:pathLst>
                <a:path w="25303" h="177">
                  <a:moveTo>
                    <a:pt x="25" y="126"/>
                  </a:moveTo>
                  <a:lnTo>
                    <a:pt x="375" y="125"/>
                  </a:lnTo>
                  <a:cubicBezTo>
                    <a:pt x="389" y="125"/>
                    <a:pt x="400" y="136"/>
                    <a:pt x="400" y="150"/>
                  </a:cubicBezTo>
                  <a:cubicBezTo>
                    <a:pt x="400" y="163"/>
                    <a:pt x="389" y="175"/>
                    <a:pt x="375" y="175"/>
                  </a:cubicBezTo>
                  <a:lnTo>
                    <a:pt x="25" y="176"/>
                  </a:lnTo>
                  <a:cubicBezTo>
                    <a:pt x="11" y="177"/>
                    <a:pt x="0" y="165"/>
                    <a:pt x="0" y="152"/>
                  </a:cubicBezTo>
                  <a:cubicBezTo>
                    <a:pt x="0" y="138"/>
                    <a:pt x="11" y="127"/>
                    <a:pt x="25" y="126"/>
                  </a:cubicBezTo>
                  <a:close/>
                  <a:moveTo>
                    <a:pt x="575" y="124"/>
                  </a:moveTo>
                  <a:lnTo>
                    <a:pt x="575" y="124"/>
                  </a:lnTo>
                  <a:cubicBezTo>
                    <a:pt x="588" y="123"/>
                    <a:pt x="600" y="134"/>
                    <a:pt x="600" y="148"/>
                  </a:cubicBezTo>
                  <a:cubicBezTo>
                    <a:pt x="600" y="162"/>
                    <a:pt x="589" y="173"/>
                    <a:pt x="576" y="174"/>
                  </a:cubicBezTo>
                  <a:lnTo>
                    <a:pt x="576" y="174"/>
                  </a:lnTo>
                  <a:cubicBezTo>
                    <a:pt x="562" y="174"/>
                    <a:pt x="550" y="163"/>
                    <a:pt x="550" y="149"/>
                  </a:cubicBezTo>
                  <a:cubicBezTo>
                    <a:pt x="550" y="135"/>
                    <a:pt x="561" y="124"/>
                    <a:pt x="575" y="124"/>
                  </a:cubicBezTo>
                  <a:close/>
                  <a:moveTo>
                    <a:pt x="775" y="123"/>
                  </a:moveTo>
                  <a:lnTo>
                    <a:pt x="775" y="123"/>
                  </a:lnTo>
                  <a:cubicBezTo>
                    <a:pt x="789" y="122"/>
                    <a:pt x="800" y="133"/>
                    <a:pt x="800" y="147"/>
                  </a:cubicBezTo>
                  <a:cubicBezTo>
                    <a:pt x="800" y="161"/>
                    <a:pt x="790" y="172"/>
                    <a:pt x="776" y="173"/>
                  </a:cubicBezTo>
                  <a:lnTo>
                    <a:pt x="776" y="173"/>
                  </a:lnTo>
                  <a:cubicBezTo>
                    <a:pt x="762" y="173"/>
                    <a:pt x="750" y="162"/>
                    <a:pt x="750" y="148"/>
                  </a:cubicBezTo>
                  <a:cubicBezTo>
                    <a:pt x="750" y="134"/>
                    <a:pt x="761" y="123"/>
                    <a:pt x="775" y="123"/>
                  </a:cubicBezTo>
                  <a:close/>
                  <a:moveTo>
                    <a:pt x="975" y="122"/>
                  </a:moveTo>
                  <a:lnTo>
                    <a:pt x="1325" y="120"/>
                  </a:lnTo>
                  <a:cubicBezTo>
                    <a:pt x="1339" y="120"/>
                    <a:pt x="1350" y="131"/>
                    <a:pt x="1350" y="145"/>
                  </a:cubicBezTo>
                  <a:cubicBezTo>
                    <a:pt x="1350" y="159"/>
                    <a:pt x="1339" y="170"/>
                    <a:pt x="1325" y="170"/>
                  </a:cubicBezTo>
                  <a:lnTo>
                    <a:pt x="975" y="172"/>
                  </a:lnTo>
                  <a:cubicBezTo>
                    <a:pt x="962" y="172"/>
                    <a:pt x="950" y="161"/>
                    <a:pt x="950" y="147"/>
                  </a:cubicBezTo>
                  <a:cubicBezTo>
                    <a:pt x="950" y="133"/>
                    <a:pt x="961" y="122"/>
                    <a:pt x="975" y="122"/>
                  </a:cubicBezTo>
                  <a:close/>
                  <a:moveTo>
                    <a:pt x="1525" y="119"/>
                  </a:moveTo>
                  <a:lnTo>
                    <a:pt x="1525" y="119"/>
                  </a:lnTo>
                  <a:cubicBezTo>
                    <a:pt x="1539" y="119"/>
                    <a:pt x="1550" y="130"/>
                    <a:pt x="1550" y="143"/>
                  </a:cubicBezTo>
                  <a:cubicBezTo>
                    <a:pt x="1551" y="157"/>
                    <a:pt x="1540" y="169"/>
                    <a:pt x="1526" y="169"/>
                  </a:cubicBezTo>
                  <a:lnTo>
                    <a:pt x="1526" y="169"/>
                  </a:lnTo>
                  <a:cubicBezTo>
                    <a:pt x="1512" y="169"/>
                    <a:pt x="1500" y="158"/>
                    <a:pt x="1500" y="144"/>
                  </a:cubicBezTo>
                  <a:cubicBezTo>
                    <a:pt x="1500" y="131"/>
                    <a:pt x="1511" y="119"/>
                    <a:pt x="1525" y="119"/>
                  </a:cubicBezTo>
                  <a:close/>
                  <a:moveTo>
                    <a:pt x="1725" y="118"/>
                  </a:moveTo>
                  <a:lnTo>
                    <a:pt x="1725" y="118"/>
                  </a:lnTo>
                  <a:cubicBezTo>
                    <a:pt x="1739" y="118"/>
                    <a:pt x="1750" y="129"/>
                    <a:pt x="1750" y="142"/>
                  </a:cubicBezTo>
                  <a:cubicBezTo>
                    <a:pt x="1751" y="156"/>
                    <a:pt x="1740" y="168"/>
                    <a:pt x="1726" y="168"/>
                  </a:cubicBezTo>
                  <a:lnTo>
                    <a:pt x="1726" y="168"/>
                  </a:lnTo>
                  <a:cubicBezTo>
                    <a:pt x="1712" y="168"/>
                    <a:pt x="1701" y="157"/>
                    <a:pt x="1700" y="143"/>
                  </a:cubicBezTo>
                  <a:cubicBezTo>
                    <a:pt x="1700" y="130"/>
                    <a:pt x="1711" y="118"/>
                    <a:pt x="1725" y="118"/>
                  </a:cubicBezTo>
                  <a:close/>
                  <a:moveTo>
                    <a:pt x="1925" y="117"/>
                  </a:moveTo>
                  <a:lnTo>
                    <a:pt x="2275" y="115"/>
                  </a:lnTo>
                  <a:cubicBezTo>
                    <a:pt x="2289" y="115"/>
                    <a:pt x="2300" y="126"/>
                    <a:pt x="2300" y="140"/>
                  </a:cubicBezTo>
                  <a:cubicBezTo>
                    <a:pt x="2300" y="154"/>
                    <a:pt x="2289" y="165"/>
                    <a:pt x="2275" y="165"/>
                  </a:cubicBezTo>
                  <a:lnTo>
                    <a:pt x="1925" y="167"/>
                  </a:lnTo>
                  <a:cubicBezTo>
                    <a:pt x="1912" y="167"/>
                    <a:pt x="1900" y="156"/>
                    <a:pt x="1900" y="142"/>
                  </a:cubicBezTo>
                  <a:cubicBezTo>
                    <a:pt x="1900" y="128"/>
                    <a:pt x="1911" y="117"/>
                    <a:pt x="1925" y="117"/>
                  </a:cubicBezTo>
                  <a:close/>
                  <a:moveTo>
                    <a:pt x="2475" y="114"/>
                  </a:moveTo>
                  <a:lnTo>
                    <a:pt x="2475" y="114"/>
                  </a:lnTo>
                  <a:cubicBezTo>
                    <a:pt x="2489" y="114"/>
                    <a:pt x="2500" y="125"/>
                    <a:pt x="2500" y="139"/>
                  </a:cubicBezTo>
                  <a:cubicBezTo>
                    <a:pt x="2501" y="153"/>
                    <a:pt x="2490" y="164"/>
                    <a:pt x="2476" y="164"/>
                  </a:cubicBezTo>
                  <a:lnTo>
                    <a:pt x="2476" y="164"/>
                  </a:lnTo>
                  <a:cubicBezTo>
                    <a:pt x="2462" y="164"/>
                    <a:pt x="2451" y="154"/>
                    <a:pt x="2450" y="140"/>
                  </a:cubicBezTo>
                  <a:cubicBezTo>
                    <a:pt x="2450" y="126"/>
                    <a:pt x="2461" y="114"/>
                    <a:pt x="2475" y="114"/>
                  </a:cubicBezTo>
                  <a:close/>
                  <a:moveTo>
                    <a:pt x="2675" y="113"/>
                  </a:moveTo>
                  <a:lnTo>
                    <a:pt x="2675" y="113"/>
                  </a:lnTo>
                  <a:cubicBezTo>
                    <a:pt x="2689" y="113"/>
                    <a:pt x="2700" y="124"/>
                    <a:pt x="2700" y="138"/>
                  </a:cubicBezTo>
                  <a:cubicBezTo>
                    <a:pt x="2701" y="152"/>
                    <a:pt x="2690" y="163"/>
                    <a:pt x="2676" y="163"/>
                  </a:cubicBezTo>
                  <a:lnTo>
                    <a:pt x="2676" y="163"/>
                  </a:lnTo>
                  <a:cubicBezTo>
                    <a:pt x="2662" y="163"/>
                    <a:pt x="2651" y="153"/>
                    <a:pt x="2650" y="139"/>
                  </a:cubicBezTo>
                  <a:cubicBezTo>
                    <a:pt x="2650" y="125"/>
                    <a:pt x="2661" y="113"/>
                    <a:pt x="2675" y="113"/>
                  </a:cubicBezTo>
                  <a:close/>
                  <a:moveTo>
                    <a:pt x="2875" y="112"/>
                  </a:moveTo>
                  <a:lnTo>
                    <a:pt x="3225" y="110"/>
                  </a:lnTo>
                  <a:cubicBezTo>
                    <a:pt x="3239" y="110"/>
                    <a:pt x="3250" y="122"/>
                    <a:pt x="3250" y="135"/>
                  </a:cubicBezTo>
                  <a:cubicBezTo>
                    <a:pt x="3250" y="149"/>
                    <a:pt x="3239" y="160"/>
                    <a:pt x="3226" y="160"/>
                  </a:cubicBezTo>
                  <a:lnTo>
                    <a:pt x="2876" y="162"/>
                  </a:lnTo>
                  <a:cubicBezTo>
                    <a:pt x="2862" y="162"/>
                    <a:pt x="2850" y="151"/>
                    <a:pt x="2850" y="137"/>
                  </a:cubicBezTo>
                  <a:cubicBezTo>
                    <a:pt x="2850" y="124"/>
                    <a:pt x="2861" y="112"/>
                    <a:pt x="2875" y="112"/>
                  </a:cubicBezTo>
                  <a:close/>
                  <a:moveTo>
                    <a:pt x="3425" y="109"/>
                  </a:moveTo>
                  <a:lnTo>
                    <a:pt x="3425" y="109"/>
                  </a:lnTo>
                  <a:cubicBezTo>
                    <a:pt x="3439" y="109"/>
                    <a:pt x="3450" y="120"/>
                    <a:pt x="3450" y="134"/>
                  </a:cubicBezTo>
                  <a:cubicBezTo>
                    <a:pt x="3451" y="148"/>
                    <a:pt x="3440" y="159"/>
                    <a:pt x="3426" y="159"/>
                  </a:cubicBezTo>
                  <a:lnTo>
                    <a:pt x="3426" y="159"/>
                  </a:lnTo>
                  <a:cubicBezTo>
                    <a:pt x="3412" y="160"/>
                    <a:pt x="3401" y="149"/>
                    <a:pt x="3400" y="135"/>
                  </a:cubicBezTo>
                  <a:cubicBezTo>
                    <a:pt x="3400" y="121"/>
                    <a:pt x="3411" y="110"/>
                    <a:pt x="3425" y="109"/>
                  </a:cubicBezTo>
                  <a:close/>
                  <a:moveTo>
                    <a:pt x="3625" y="108"/>
                  </a:moveTo>
                  <a:lnTo>
                    <a:pt x="3625" y="108"/>
                  </a:lnTo>
                  <a:cubicBezTo>
                    <a:pt x="3639" y="108"/>
                    <a:pt x="3650" y="119"/>
                    <a:pt x="3650" y="133"/>
                  </a:cubicBezTo>
                  <a:cubicBezTo>
                    <a:pt x="3651" y="147"/>
                    <a:pt x="3640" y="158"/>
                    <a:pt x="3626" y="158"/>
                  </a:cubicBezTo>
                  <a:lnTo>
                    <a:pt x="3626" y="158"/>
                  </a:lnTo>
                  <a:cubicBezTo>
                    <a:pt x="3612" y="159"/>
                    <a:pt x="3601" y="148"/>
                    <a:pt x="3600" y="134"/>
                  </a:cubicBezTo>
                  <a:cubicBezTo>
                    <a:pt x="3600" y="120"/>
                    <a:pt x="3611" y="109"/>
                    <a:pt x="3625" y="108"/>
                  </a:cubicBezTo>
                  <a:close/>
                  <a:moveTo>
                    <a:pt x="3825" y="107"/>
                  </a:moveTo>
                  <a:lnTo>
                    <a:pt x="4175" y="106"/>
                  </a:lnTo>
                  <a:cubicBezTo>
                    <a:pt x="4189" y="106"/>
                    <a:pt x="4200" y="117"/>
                    <a:pt x="4200" y="131"/>
                  </a:cubicBezTo>
                  <a:cubicBezTo>
                    <a:pt x="4201" y="144"/>
                    <a:pt x="4189" y="156"/>
                    <a:pt x="4176" y="156"/>
                  </a:cubicBezTo>
                  <a:lnTo>
                    <a:pt x="3826" y="157"/>
                  </a:lnTo>
                  <a:cubicBezTo>
                    <a:pt x="3812" y="158"/>
                    <a:pt x="3801" y="146"/>
                    <a:pt x="3800" y="133"/>
                  </a:cubicBezTo>
                  <a:cubicBezTo>
                    <a:pt x="3800" y="119"/>
                    <a:pt x="3812" y="108"/>
                    <a:pt x="3825" y="107"/>
                  </a:cubicBezTo>
                  <a:close/>
                  <a:moveTo>
                    <a:pt x="4375" y="105"/>
                  </a:moveTo>
                  <a:lnTo>
                    <a:pt x="4375" y="105"/>
                  </a:lnTo>
                  <a:cubicBezTo>
                    <a:pt x="4389" y="104"/>
                    <a:pt x="4400" y="115"/>
                    <a:pt x="4401" y="129"/>
                  </a:cubicBezTo>
                  <a:cubicBezTo>
                    <a:pt x="4401" y="143"/>
                    <a:pt x="4390" y="154"/>
                    <a:pt x="4376" y="155"/>
                  </a:cubicBezTo>
                  <a:lnTo>
                    <a:pt x="4376" y="155"/>
                  </a:lnTo>
                  <a:cubicBezTo>
                    <a:pt x="4362" y="155"/>
                    <a:pt x="4351" y="144"/>
                    <a:pt x="4350" y="130"/>
                  </a:cubicBezTo>
                  <a:cubicBezTo>
                    <a:pt x="4350" y="116"/>
                    <a:pt x="4361" y="105"/>
                    <a:pt x="4375" y="105"/>
                  </a:cubicBezTo>
                  <a:close/>
                  <a:moveTo>
                    <a:pt x="4575" y="104"/>
                  </a:moveTo>
                  <a:lnTo>
                    <a:pt x="4575" y="104"/>
                  </a:lnTo>
                  <a:cubicBezTo>
                    <a:pt x="4589" y="103"/>
                    <a:pt x="4600" y="114"/>
                    <a:pt x="4601" y="128"/>
                  </a:cubicBezTo>
                  <a:cubicBezTo>
                    <a:pt x="4601" y="142"/>
                    <a:pt x="4590" y="153"/>
                    <a:pt x="4576" y="154"/>
                  </a:cubicBezTo>
                  <a:lnTo>
                    <a:pt x="4576" y="154"/>
                  </a:lnTo>
                  <a:cubicBezTo>
                    <a:pt x="4562" y="154"/>
                    <a:pt x="4551" y="143"/>
                    <a:pt x="4551" y="129"/>
                  </a:cubicBezTo>
                  <a:cubicBezTo>
                    <a:pt x="4550" y="115"/>
                    <a:pt x="4561" y="104"/>
                    <a:pt x="4575" y="104"/>
                  </a:cubicBezTo>
                  <a:close/>
                  <a:moveTo>
                    <a:pt x="4775" y="103"/>
                  </a:moveTo>
                  <a:lnTo>
                    <a:pt x="5125" y="101"/>
                  </a:lnTo>
                  <a:cubicBezTo>
                    <a:pt x="5139" y="101"/>
                    <a:pt x="5150" y="112"/>
                    <a:pt x="5151" y="126"/>
                  </a:cubicBezTo>
                  <a:cubicBezTo>
                    <a:pt x="5151" y="140"/>
                    <a:pt x="5140" y="151"/>
                    <a:pt x="5126" y="151"/>
                  </a:cubicBezTo>
                  <a:lnTo>
                    <a:pt x="4776" y="153"/>
                  </a:lnTo>
                  <a:cubicBezTo>
                    <a:pt x="4762" y="153"/>
                    <a:pt x="4751" y="142"/>
                    <a:pt x="4751" y="128"/>
                  </a:cubicBezTo>
                  <a:cubicBezTo>
                    <a:pt x="4751" y="114"/>
                    <a:pt x="4762" y="103"/>
                    <a:pt x="4775" y="103"/>
                  </a:cubicBezTo>
                  <a:close/>
                  <a:moveTo>
                    <a:pt x="5325" y="100"/>
                  </a:moveTo>
                  <a:lnTo>
                    <a:pt x="5325" y="100"/>
                  </a:lnTo>
                  <a:cubicBezTo>
                    <a:pt x="5339" y="100"/>
                    <a:pt x="5350" y="111"/>
                    <a:pt x="5351" y="124"/>
                  </a:cubicBezTo>
                  <a:cubicBezTo>
                    <a:pt x="5351" y="138"/>
                    <a:pt x="5340" y="150"/>
                    <a:pt x="5326" y="150"/>
                  </a:cubicBezTo>
                  <a:lnTo>
                    <a:pt x="5326" y="150"/>
                  </a:lnTo>
                  <a:cubicBezTo>
                    <a:pt x="5312" y="150"/>
                    <a:pt x="5301" y="139"/>
                    <a:pt x="5301" y="125"/>
                  </a:cubicBezTo>
                  <a:cubicBezTo>
                    <a:pt x="5300" y="112"/>
                    <a:pt x="5311" y="100"/>
                    <a:pt x="5325" y="100"/>
                  </a:cubicBezTo>
                  <a:close/>
                  <a:moveTo>
                    <a:pt x="5525" y="99"/>
                  </a:moveTo>
                  <a:lnTo>
                    <a:pt x="5525" y="99"/>
                  </a:lnTo>
                  <a:cubicBezTo>
                    <a:pt x="5539" y="99"/>
                    <a:pt x="5550" y="110"/>
                    <a:pt x="5551" y="123"/>
                  </a:cubicBezTo>
                  <a:cubicBezTo>
                    <a:pt x="5551" y="137"/>
                    <a:pt x="5540" y="149"/>
                    <a:pt x="5526" y="149"/>
                  </a:cubicBezTo>
                  <a:lnTo>
                    <a:pt x="5526" y="149"/>
                  </a:lnTo>
                  <a:cubicBezTo>
                    <a:pt x="5512" y="149"/>
                    <a:pt x="5501" y="138"/>
                    <a:pt x="5501" y="124"/>
                  </a:cubicBezTo>
                  <a:cubicBezTo>
                    <a:pt x="5500" y="111"/>
                    <a:pt x="5511" y="99"/>
                    <a:pt x="5525" y="99"/>
                  </a:cubicBezTo>
                  <a:close/>
                  <a:moveTo>
                    <a:pt x="5726" y="98"/>
                  </a:moveTo>
                  <a:lnTo>
                    <a:pt x="6076" y="96"/>
                  </a:lnTo>
                  <a:cubicBezTo>
                    <a:pt x="6089" y="96"/>
                    <a:pt x="6101" y="107"/>
                    <a:pt x="6101" y="121"/>
                  </a:cubicBezTo>
                  <a:cubicBezTo>
                    <a:pt x="6101" y="135"/>
                    <a:pt x="6090" y="146"/>
                    <a:pt x="6076" y="146"/>
                  </a:cubicBezTo>
                  <a:lnTo>
                    <a:pt x="5726" y="148"/>
                  </a:lnTo>
                  <a:cubicBezTo>
                    <a:pt x="5712" y="148"/>
                    <a:pt x="5701" y="137"/>
                    <a:pt x="5701" y="123"/>
                  </a:cubicBezTo>
                  <a:cubicBezTo>
                    <a:pt x="5701" y="109"/>
                    <a:pt x="5712" y="98"/>
                    <a:pt x="5726" y="98"/>
                  </a:cubicBezTo>
                  <a:close/>
                  <a:moveTo>
                    <a:pt x="6275" y="95"/>
                  </a:moveTo>
                  <a:lnTo>
                    <a:pt x="6275" y="95"/>
                  </a:lnTo>
                  <a:cubicBezTo>
                    <a:pt x="6289" y="95"/>
                    <a:pt x="6300" y="106"/>
                    <a:pt x="6301" y="120"/>
                  </a:cubicBezTo>
                  <a:cubicBezTo>
                    <a:pt x="6301" y="134"/>
                    <a:pt x="6290" y="145"/>
                    <a:pt x="6276" y="145"/>
                  </a:cubicBezTo>
                  <a:lnTo>
                    <a:pt x="6276" y="145"/>
                  </a:lnTo>
                  <a:cubicBezTo>
                    <a:pt x="6262" y="145"/>
                    <a:pt x="6251" y="135"/>
                    <a:pt x="6251" y="121"/>
                  </a:cubicBezTo>
                  <a:cubicBezTo>
                    <a:pt x="6250" y="107"/>
                    <a:pt x="6261" y="95"/>
                    <a:pt x="6275" y="95"/>
                  </a:cubicBezTo>
                  <a:close/>
                  <a:moveTo>
                    <a:pt x="6475" y="94"/>
                  </a:moveTo>
                  <a:lnTo>
                    <a:pt x="6475" y="94"/>
                  </a:lnTo>
                  <a:cubicBezTo>
                    <a:pt x="6489" y="94"/>
                    <a:pt x="6500" y="105"/>
                    <a:pt x="6501" y="119"/>
                  </a:cubicBezTo>
                  <a:cubicBezTo>
                    <a:pt x="6501" y="133"/>
                    <a:pt x="6490" y="144"/>
                    <a:pt x="6476" y="144"/>
                  </a:cubicBezTo>
                  <a:lnTo>
                    <a:pt x="6476" y="144"/>
                  </a:lnTo>
                  <a:cubicBezTo>
                    <a:pt x="6462" y="144"/>
                    <a:pt x="6451" y="134"/>
                    <a:pt x="6451" y="120"/>
                  </a:cubicBezTo>
                  <a:cubicBezTo>
                    <a:pt x="6450" y="106"/>
                    <a:pt x="6461" y="94"/>
                    <a:pt x="6475" y="94"/>
                  </a:cubicBezTo>
                  <a:close/>
                  <a:moveTo>
                    <a:pt x="6676" y="93"/>
                  </a:moveTo>
                  <a:lnTo>
                    <a:pt x="7026" y="91"/>
                  </a:lnTo>
                  <a:cubicBezTo>
                    <a:pt x="7039" y="91"/>
                    <a:pt x="7051" y="103"/>
                    <a:pt x="7051" y="116"/>
                  </a:cubicBezTo>
                  <a:cubicBezTo>
                    <a:pt x="7051" y="130"/>
                    <a:pt x="7040" y="141"/>
                    <a:pt x="7026" y="141"/>
                  </a:cubicBezTo>
                  <a:lnTo>
                    <a:pt x="6676" y="143"/>
                  </a:lnTo>
                  <a:cubicBezTo>
                    <a:pt x="6662" y="143"/>
                    <a:pt x="6651" y="132"/>
                    <a:pt x="6651" y="118"/>
                  </a:cubicBezTo>
                  <a:cubicBezTo>
                    <a:pt x="6651" y="105"/>
                    <a:pt x="6662" y="93"/>
                    <a:pt x="6676" y="93"/>
                  </a:cubicBezTo>
                  <a:close/>
                  <a:moveTo>
                    <a:pt x="7225" y="90"/>
                  </a:moveTo>
                  <a:lnTo>
                    <a:pt x="7225" y="90"/>
                  </a:lnTo>
                  <a:cubicBezTo>
                    <a:pt x="7239" y="90"/>
                    <a:pt x="7251" y="101"/>
                    <a:pt x="7251" y="115"/>
                  </a:cubicBezTo>
                  <a:cubicBezTo>
                    <a:pt x="7251" y="129"/>
                    <a:pt x="7240" y="140"/>
                    <a:pt x="7226" y="140"/>
                  </a:cubicBezTo>
                  <a:lnTo>
                    <a:pt x="7226" y="140"/>
                  </a:lnTo>
                  <a:cubicBezTo>
                    <a:pt x="7212" y="141"/>
                    <a:pt x="7201" y="130"/>
                    <a:pt x="7201" y="116"/>
                  </a:cubicBezTo>
                  <a:cubicBezTo>
                    <a:pt x="7200" y="102"/>
                    <a:pt x="7211" y="91"/>
                    <a:pt x="7225" y="90"/>
                  </a:cubicBezTo>
                  <a:close/>
                  <a:moveTo>
                    <a:pt x="7425" y="89"/>
                  </a:moveTo>
                  <a:lnTo>
                    <a:pt x="7425" y="89"/>
                  </a:lnTo>
                  <a:cubicBezTo>
                    <a:pt x="7439" y="89"/>
                    <a:pt x="7451" y="100"/>
                    <a:pt x="7451" y="114"/>
                  </a:cubicBezTo>
                  <a:cubicBezTo>
                    <a:pt x="7451" y="128"/>
                    <a:pt x="7440" y="139"/>
                    <a:pt x="7426" y="139"/>
                  </a:cubicBezTo>
                  <a:lnTo>
                    <a:pt x="7426" y="139"/>
                  </a:lnTo>
                  <a:cubicBezTo>
                    <a:pt x="7412" y="140"/>
                    <a:pt x="7401" y="129"/>
                    <a:pt x="7401" y="115"/>
                  </a:cubicBezTo>
                  <a:cubicBezTo>
                    <a:pt x="7401" y="101"/>
                    <a:pt x="7411" y="90"/>
                    <a:pt x="7425" y="89"/>
                  </a:cubicBezTo>
                  <a:close/>
                  <a:moveTo>
                    <a:pt x="7626" y="88"/>
                  </a:moveTo>
                  <a:lnTo>
                    <a:pt x="7976" y="87"/>
                  </a:lnTo>
                  <a:cubicBezTo>
                    <a:pt x="7990" y="87"/>
                    <a:pt x="8001" y="98"/>
                    <a:pt x="8001" y="112"/>
                  </a:cubicBezTo>
                  <a:cubicBezTo>
                    <a:pt x="8001" y="125"/>
                    <a:pt x="7990" y="137"/>
                    <a:pt x="7976" y="137"/>
                  </a:cubicBezTo>
                  <a:lnTo>
                    <a:pt x="7626" y="138"/>
                  </a:lnTo>
                  <a:cubicBezTo>
                    <a:pt x="7612" y="139"/>
                    <a:pt x="7601" y="127"/>
                    <a:pt x="7601" y="114"/>
                  </a:cubicBezTo>
                  <a:cubicBezTo>
                    <a:pt x="7601" y="100"/>
                    <a:pt x="7612" y="89"/>
                    <a:pt x="7626" y="88"/>
                  </a:cubicBezTo>
                  <a:close/>
                  <a:moveTo>
                    <a:pt x="8175" y="86"/>
                  </a:moveTo>
                  <a:lnTo>
                    <a:pt x="8175" y="86"/>
                  </a:lnTo>
                  <a:cubicBezTo>
                    <a:pt x="8189" y="85"/>
                    <a:pt x="8201" y="96"/>
                    <a:pt x="8201" y="110"/>
                  </a:cubicBezTo>
                  <a:cubicBezTo>
                    <a:pt x="8201" y="124"/>
                    <a:pt x="8190" y="135"/>
                    <a:pt x="8176" y="136"/>
                  </a:cubicBezTo>
                  <a:lnTo>
                    <a:pt x="8176" y="136"/>
                  </a:lnTo>
                  <a:cubicBezTo>
                    <a:pt x="8163" y="136"/>
                    <a:pt x="8151" y="125"/>
                    <a:pt x="8151" y="111"/>
                  </a:cubicBezTo>
                  <a:cubicBezTo>
                    <a:pt x="8151" y="97"/>
                    <a:pt x="8162" y="86"/>
                    <a:pt x="8175" y="86"/>
                  </a:cubicBezTo>
                  <a:close/>
                  <a:moveTo>
                    <a:pt x="8375" y="85"/>
                  </a:moveTo>
                  <a:lnTo>
                    <a:pt x="8375" y="85"/>
                  </a:lnTo>
                  <a:cubicBezTo>
                    <a:pt x="8389" y="84"/>
                    <a:pt x="8401" y="95"/>
                    <a:pt x="8401" y="109"/>
                  </a:cubicBezTo>
                  <a:cubicBezTo>
                    <a:pt x="8401" y="123"/>
                    <a:pt x="8390" y="134"/>
                    <a:pt x="8376" y="135"/>
                  </a:cubicBezTo>
                  <a:lnTo>
                    <a:pt x="8376" y="135"/>
                  </a:lnTo>
                  <a:cubicBezTo>
                    <a:pt x="8363" y="135"/>
                    <a:pt x="8351" y="124"/>
                    <a:pt x="8351" y="110"/>
                  </a:cubicBezTo>
                  <a:cubicBezTo>
                    <a:pt x="8351" y="96"/>
                    <a:pt x="8362" y="85"/>
                    <a:pt x="8375" y="85"/>
                  </a:cubicBezTo>
                  <a:close/>
                  <a:moveTo>
                    <a:pt x="8576" y="84"/>
                  </a:moveTo>
                  <a:lnTo>
                    <a:pt x="8926" y="82"/>
                  </a:lnTo>
                  <a:cubicBezTo>
                    <a:pt x="8940" y="82"/>
                    <a:pt x="8951" y="93"/>
                    <a:pt x="8951" y="107"/>
                  </a:cubicBezTo>
                  <a:cubicBezTo>
                    <a:pt x="8951" y="121"/>
                    <a:pt x="8940" y="132"/>
                    <a:pt x="8926" y="132"/>
                  </a:cubicBezTo>
                  <a:lnTo>
                    <a:pt x="8576" y="134"/>
                  </a:lnTo>
                  <a:cubicBezTo>
                    <a:pt x="8562" y="134"/>
                    <a:pt x="8551" y="123"/>
                    <a:pt x="8551" y="109"/>
                  </a:cubicBezTo>
                  <a:cubicBezTo>
                    <a:pt x="8551" y="95"/>
                    <a:pt x="8562" y="84"/>
                    <a:pt x="8576" y="84"/>
                  </a:cubicBezTo>
                  <a:close/>
                  <a:moveTo>
                    <a:pt x="9125" y="81"/>
                  </a:moveTo>
                  <a:lnTo>
                    <a:pt x="9125" y="81"/>
                  </a:lnTo>
                  <a:cubicBezTo>
                    <a:pt x="9139" y="81"/>
                    <a:pt x="9151" y="92"/>
                    <a:pt x="9151" y="105"/>
                  </a:cubicBezTo>
                  <a:cubicBezTo>
                    <a:pt x="9151" y="119"/>
                    <a:pt x="9140" y="131"/>
                    <a:pt x="9126" y="131"/>
                  </a:cubicBezTo>
                  <a:lnTo>
                    <a:pt x="9126" y="131"/>
                  </a:lnTo>
                  <a:cubicBezTo>
                    <a:pt x="9113" y="131"/>
                    <a:pt x="9101" y="120"/>
                    <a:pt x="9101" y="106"/>
                  </a:cubicBezTo>
                  <a:cubicBezTo>
                    <a:pt x="9101" y="93"/>
                    <a:pt x="9112" y="81"/>
                    <a:pt x="9125" y="81"/>
                  </a:cubicBezTo>
                  <a:close/>
                  <a:moveTo>
                    <a:pt x="9325" y="80"/>
                  </a:moveTo>
                  <a:lnTo>
                    <a:pt x="9326" y="80"/>
                  </a:lnTo>
                  <a:cubicBezTo>
                    <a:pt x="9339" y="80"/>
                    <a:pt x="9351" y="91"/>
                    <a:pt x="9351" y="104"/>
                  </a:cubicBezTo>
                  <a:cubicBezTo>
                    <a:pt x="9351" y="118"/>
                    <a:pt x="9340" y="130"/>
                    <a:pt x="9327" y="130"/>
                  </a:cubicBezTo>
                  <a:lnTo>
                    <a:pt x="9326" y="130"/>
                  </a:lnTo>
                  <a:cubicBezTo>
                    <a:pt x="9313" y="130"/>
                    <a:pt x="9301" y="119"/>
                    <a:pt x="9301" y="105"/>
                  </a:cubicBezTo>
                  <a:cubicBezTo>
                    <a:pt x="9301" y="92"/>
                    <a:pt x="9312" y="80"/>
                    <a:pt x="9325" y="80"/>
                  </a:cubicBezTo>
                  <a:close/>
                  <a:moveTo>
                    <a:pt x="9526" y="79"/>
                  </a:moveTo>
                  <a:lnTo>
                    <a:pt x="9876" y="77"/>
                  </a:lnTo>
                  <a:cubicBezTo>
                    <a:pt x="9890" y="77"/>
                    <a:pt x="9901" y="88"/>
                    <a:pt x="9901" y="102"/>
                  </a:cubicBezTo>
                  <a:cubicBezTo>
                    <a:pt x="9901" y="116"/>
                    <a:pt x="9890" y="127"/>
                    <a:pt x="9876" y="127"/>
                  </a:cubicBezTo>
                  <a:lnTo>
                    <a:pt x="9526" y="129"/>
                  </a:lnTo>
                  <a:cubicBezTo>
                    <a:pt x="9512" y="129"/>
                    <a:pt x="9501" y="118"/>
                    <a:pt x="9501" y="104"/>
                  </a:cubicBezTo>
                  <a:cubicBezTo>
                    <a:pt x="9501" y="90"/>
                    <a:pt x="9512" y="79"/>
                    <a:pt x="9526" y="79"/>
                  </a:cubicBezTo>
                  <a:close/>
                  <a:moveTo>
                    <a:pt x="10076" y="76"/>
                  </a:moveTo>
                  <a:lnTo>
                    <a:pt x="10076" y="76"/>
                  </a:lnTo>
                  <a:cubicBezTo>
                    <a:pt x="10089" y="76"/>
                    <a:pt x="10101" y="87"/>
                    <a:pt x="10101" y="101"/>
                  </a:cubicBezTo>
                  <a:cubicBezTo>
                    <a:pt x="10101" y="115"/>
                    <a:pt x="10090" y="126"/>
                    <a:pt x="10077" y="126"/>
                  </a:cubicBezTo>
                  <a:lnTo>
                    <a:pt x="10076" y="126"/>
                  </a:lnTo>
                  <a:cubicBezTo>
                    <a:pt x="10063" y="126"/>
                    <a:pt x="10051" y="115"/>
                    <a:pt x="10051" y="102"/>
                  </a:cubicBezTo>
                  <a:cubicBezTo>
                    <a:pt x="10051" y="88"/>
                    <a:pt x="10062" y="76"/>
                    <a:pt x="10076" y="76"/>
                  </a:cubicBezTo>
                  <a:close/>
                  <a:moveTo>
                    <a:pt x="10276" y="75"/>
                  </a:moveTo>
                  <a:lnTo>
                    <a:pt x="10276" y="75"/>
                  </a:lnTo>
                  <a:cubicBezTo>
                    <a:pt x="10289" y="75"/>
                    <a:pt x="10301" y="86"/>
                    <a:pt x="10301" y="100"/>
                  </a:cubicBezTo>
                  <a:cubicBezTo>
                    <a:pt x="10301" y="114"/>
                    <a:pt x="10290" y="125"/>
                    <a:pt x="10277" y="125"/>
                  </a:cubicBezTo>
                  <a:lnTo>
                    <a:pt x="10277" y="125"/>
                  </a:lnTo>
                  <a:cubicBezTo>
                    <a:pt x="10263" y="125"/>
                    <a:pt x="10251" y="114"/>
                    <a:pt x="10251" y="101"/>
                  </a:cubicBezTo>
                  <a:cubicBezTo>
                    <a:pt x="10251" y="87"/>
                    <a:pt x="10262" y="75"/>
                    <a:pt x="10276" y="75"/>
                  </a:cubicBezTo>
                  <a:close/>
                  <a:moveTo>
                    <a:pt x="10476" y="74"/>
                  </a:moveTo>
                  <a:lnTo>
                    <a:pt x="10826" y="72"/>
                  </a:lnTo>
                  <a:cubicBezTo>
                    <a:pt x="10840" y="72"/>
                    <a:pt x="10851" y="84"/>
                    <a:pt x="10851" y="97"/>
                  </a:cubicBezTo>
                  <a:cubicBezTo>
                    <a:pt x="10851" y="111"/>
                    <a:pt x="10840" y="122"/>
                    <a:pt x="10826" y="122"/>
                  </a:cubicBezTo>
                  <a:lnTo>
                    <a:pt x="10476" y="124"/>
                  </a:lnTo>
                  <a:cubicBezTo>
                    <a:pt x="10462" y="124"/>
                    <a:pt x="10451" y="113"/>
                    <a:pt x="10451" y="99"/>
                  </a:cubicBezTo>
                  <a:cubicBezTo>
                    <a:pt x="10451" y="86"/>
                    <a:pt x="10462" y="74"/>
                    <a:pt x="10476" y="74"/>
                  </a:cubicBezTo>
                  <a:close/>
                  <a:moveTo>
                    <a:pt x="11026" y="71"/>
                  </a:moveTo>
                  <a:lnTo>
                    <a:pt x="11026" y="71"/>
                  </a:lnTo>
                  <a:cubicBezTo>
                    <a:pt x="11039" y="71"/>
                    <a:pt x="11051" y="82"/>
                    <a:pt x="11051" y="96"/>
                  </a:cubicBezTo>
                  <a:cubicBezTo>
                    <a:pt x="11051" y="110"/>
                    <a:pt x="11040" y="121"/>
                    <a:pt x="11027" y="121"/>
                  </a:cubicBezTo>
                  <a:lnTo>
                    <a:pt x="11027" y="121"/>
                  </a:lnTo>
                  <a:cubicBezTo>
                    <a:pt x="11013" y="122"/>
                    <a:pt x="11001" y="111"/>
                    <a:pt x="11001" y="97"/>
                  </a:cubicBezTo>
                  <a:cubicBezTo>
                    <a:pt x="11001" y="83"/>
                    <a:pt x="11012" y="72"/>
                    <a:pt x="11026" y="71"/>
                  </a:cubicBezTo>
                  <a:close/>
                  <a:moveTo>
                    <a:pt x="11226" y="70"/>
                  </a:moveTo>
                  <a:lnTo>
                    <a:pt x="11226" y="70"/>
                  </a:lnTo>
                  <a:cubicBezTo>
                    <a:pt x="11239" y="70"/>
                    <a:pt x="11251" y="81"/>
                    <a:pt x="11251" y="95"/>
                  </a:cubicBezTo>
                  <a:cubicBezTo>
                    <a:pt x="11251" y="109"/>
                    <a:pt x="11240" y="120"/>
                    <a:pt x="11227" y="120"/>
                  </a:cubicBezTo>
                  <a:lnTo>
                    <a:pt x="11227" y="120"/>
                  </a:lnTo>
                  <a:cubicBezTo>
                    <a:pt x="11213" y="121"/>
                    <a:pt x="11201" y="110"/>
                    <a:pt x="11201" y="96"/>
                  </a:cubicBezTo>
                  <a:cubicBezTo>
                    <a:pt x="11201" y="82"/>
                    <a:pt x="11212" y="71"/>
                    <a:pt x="11226" y="70"/>
                  </a:cubicBezTo>
                  <a:close/>
                  <a:moveTo>
                    <a:pt x="11426" y="69"/>
                  </a:moveTo>
                  <a:lnTo>
                    <a:pt x="11776" y="68"/>
                  </a:lnTo>
                  <a:cubicBezTo>
                    <a:pt x="11790" y="68"/>
                    <a:pt x="11801" y="79"/>
                    <a:pt x="11801" y="93"/>
                  </a:cubicBezTo>
                  <a:cubicBezTo>
                    <a:pt x="11801" y="106"/>
                    <a:pt x="11790" y="118"/>
                    <a:pt x="11776" y="118"/>
                  </a:cubicBezTo>
                  <a:lnTo>
                    <a:pt x="11426" y="119"/>
                  </a:lnTo>
                  <a:cubicBezTo>
                    <a:pt x="11413" y="120"/>
                    <a:pt x="11401" y="108"/>
                    <a:pt x="11401" y="95"/>
                  </a:cubicBezTo>
                  <a:cubicBezTo>
                    <a:pt x="11401" y="81"/>
                    <a:pt x="11412" y="70"/>
                    <a:pt x="11426" y="69"/>
                  </a:cubicBezTo>
                  <a:close/>
                  <a:moveTo>
                    <a:pt x="11976" y="67"/>
                  </a:moveTo>
                  <a:lnTo>
                    <a:pt x="11976" y="67"/>
                  </a:lnTo>
                  <a:cubicBezTo>
                    <a:pt x="11990" y="66"/>
                    <a:pt x="12001" y="77"/>
                    <a:pt x="12001" y="91"/>
                  </a:cubicBezTo>
                  <a:cubicBezTo>
                    <a:pt x="12001" y="105"/>
                    <a:pt x="11991" y="116"/>
                    <a:pt x="11977" y="117"/>
                  </a:cubicBezTo>
                  <a:lnTo>
                    <a:pt x="11977" y="117"/>
                  </a:lnTo>
                  <a:cubicBezTo>
                    <a:pt x="11963" y="117"/>
                    <a:pt x="11951" y="106"/>
                    <a:pt x="11951" y="92"/>
                  </a:cubicBezTo>
                  <a:cubicBezTo>
                    <a:pt x="11951" y="78"/>
                    <a:pt x="11962" y="67"/>
                    <a:pt x="11976" y="67"/>
                  </a:cubicBezTo>
                  <a:close/>
                  <a:moveTo>
                    <a:pt x="12176" y="66"/>
                  </a:moveTo>
                  <a:lnTo>
                    <a:pt x="12176" y="66"/>
                  </a:lnTo>
                  <a:cubicBezTo>
                    <a:pt x="12190" y="65"/>
                    <a:pt x="12201" y="76"/>
                    <a:pt x="12201" y="90"/>
                  </a:cubicBezTo>
                  <a:cubicBezTo>
                    <a:pt x="12202" y="104"/>
                    <a:pt x="12191" y="115"/>
                    <a:pt x="12177" y="116"/>
                  </a:cubicBezTo>
                  <a:lnTo>
                    <a:pt x="12177" y="116"/>
                  </a:lnTo>
                  <a:cubicBezTo>
                    <a:pt x="12163" y="116"/>
                    <a:pt x="12151" y="105"/>
                    <a:pt x="12151" y="91"/>
                  </a:cubicBezTo>
                  <a:cubicBezTo>
                    <a:pt x="12151" y="77"/>
                    <a:pt x="12162" y="66"/>
                    <a:pt x="12176" y="66"/>
                  </a:cubicBezTo>
                  <a:close/>
                  <a:moveTo>
                    <a:pt x="12376" y="65"/>
                  </a:moveTo>
                  <a:lnTo>
                    <a:pt x="12726" y="63"/>
                  </a:lnTo>
                  <a:cubicBezTo>
                    <a:pt x="12740" y="63"/>
                    <a:pt x="12751" y="74"/>
                    <a:pt x="12751" y="88"/>
                  </a:cubicBezTo>
                  <a:cubicBezTo>
                    <a:pt x="12751" y="102"/>
                    <a:pt x="12740" y="113"/>
                    <a:pt x="12726" y="113"/>
                  </a:cubicBezTo>
                  <a:lnTo>
                    <a:pt x="12376" y="115"/>
                  </a:lnTo>
                  <a:cubicBezTo>
                    <a:pt x="12363" y="115"/>
                    <a:pt x="12351" y="104"/>
                    <a:pt x="12351" y="90"/>
                  </a:cubicBezTo>
                  <a:cubicBezTo>
                    <a:pt x="12351" y="76"/>
                    <a:pt x="12362" y="65"/>
                    <a:pt x="12376" y="65"/>
                  </a:cubicBezTo>
                  <a:close/>
                  <a:moveTo>
                    <a:pt x="12926" y="62"/>
                  </a:moveTo>
                  <a:lnTo>
                    <a:pt x="12926" y="62"/>
                  </a:lnTo>
                  <a:cubicBezTo>
                    <a:pt x="12940" y="62"/>
                    <a:pt x="12951" y="73"/>
                    <a:pt x="12951" y="86"/>
                  </a:cubicBezTo>
                  <a:cubicBezTo>
                    <a:pt x="12952" y="100"/>
                    <a:pt x="12941" y="112"/>
                    <a:pt x="12927" y="112"/>
                  </a:cubicBezTo>
                  <a:lnTo>
                    <a:pt x="12927" y="112"/>
                  </a:lnTo>
                  <a:cubicBezTo>
                    <a:pt x="12913" y="112"/>
                    <a:pt x="12902" y="101"/>
                    <a:pt x="12901" y="87"/>
                  </a:cubicBezTo>
                  <a:cubicBezTo>
                    <a:pt x="12901" y="74"/>
                    <a:pt x="12912" y="62"/>
                    <a:pt x="12926" y="62"/>
                  </a:cubicBezTo>
                  <a:close/>
                  <a:moveTo>
                    <a:pt x="13126" y="61"/>
                  </a:moveTo>
                  <a:lnTo>
                    <a:pt x="13126" y="61"/>
                  </a:lnTo>
                  <a:cubicBezTo>
                    <a:pt x="13140" y="61"/>
                    <a:pt x="13151" y="72"/>
                    <a:pt x="13151" y="85"/>
                  </a:cubicBezTo>
                  <a:cubicBezTo>
                    <a:pt x="13152" y="99"/>
                    <a:pt x="13141" y="111"/>
                    <a:pt x="13127" y="111"/>
                  </a:cubicBezTo>
                  <a:lnTo>
                    <a:pt x="13127" y="111"/>
                  </a:lnTo>
                  <a:cubicBezTo>
                    <a:pt x="13113" y="111"/>
                    <a:pt x="13102" y="100"/>
                    <a:pt x="13101" y="86"/>
                  </a:cubicBezTo>
                  <a:cubicBezTo>
                    <a:pt x="13101" y="73"/>
                    <a:pt x="13112" y="61"/>
                    <a:pt x="13126" y="61"/>
                  </a:cubicBezTo>
                  <a:close/>
                  <a:moveTo>
                    <a:pt x="13326" y="60"/>
                  </a:moveTo>
                  <a:lnTo>
                    <a:pt x="13676" y="58"/>
                  </a:lnTo>
                  <a:cubicBezTo>
                    <a:pt x="13690" y="58"/>
                    <a:pt x="13701" y="69"/>
                    <a:pt x="13701" y="83"/>
                  </a:cubicBezTo>
                  <a:cubicBezTo>
                    <a:pt x="13701" y="97"/>
                    <a:pt x="13690" y="108"/>
                    <a:pt x="13676" y="108"/>
                  </a:cubicBezTo>
                  <a:lnTo>
                    <a:pt x="13326" y="110"/>
                  </a:lnTo>
                  <a:cubicBezTo>
                    <a:pt x="13313" y="110"/>
                    <a:pt x="13301" y="99"/>
                    <a:pt x="13301" y="85"/>
                  </a:cubicBezTo>
                  <a:cubicBezTo>
                    <a:pt x="13301" y="71"/>
                    <a:pt x="13312" y="60"/>
                    <a:pt x="13326" y="60"/>
                  </a:cubicBezTo>
                  <a:close/>
                  <a:moveTo>
                    <a:pt x="13876" y="57"/>
                  </a:moveTo>
                  <a:lnTo>
                    <a:pt x="13876" y="57"/>
                  </a:lnTo>
                  <a:cubicBezTo>
                    <a:pt x="13890" y="57"/>
                    <a:pt x="13901" y="68"/>
                    <a:pt x="13901" y="82"/>
                  </a:cubicBezTo>
                  <a:cubicBezTo>
                    <a:pt x="13902" y="96"/>
                    <a:pt x="13891" y="107"/>
                    <a:pt x="13877" y="107"/>
                  </a:cubicBezTo>
                  <a:lnTo>
                    <a:pt x="13877" y="107"/>
                  </a:lnTo>
                  <a:cubicBezTo>
                    <a:pt x="13863" y="107"/>
                    <a:pt x="13852" y="96"/>
                    <a:pt x="13851" y="83"/>
                  </a:cubicBezTo>
                  <a:cubicBezTo>
                    <a:pt x="13851" y="69"/>
                    <a:pt x="13862" y="57"/>
                    <a:pt x="13876" y="57"/>
                  </a:cubicBezTo>
                  <a:close/>
                  <a:moveTo>
                    <a:pt x="14076" y="56"/>
                  </a:moveTo>
                  <a:lnTo>
                    <a:pt x="14076" y="56"/>
                  </a:lnTo>
                  <a:cubicBezTo>
                    <a:pt x="14090" y="56"/>
                    <a:pt x="14101" y="67"/>
                    <a:pt x="14101" y="81"/>
                  </a:cubicBezTo>
                  <a:cubicBezTo>
                    <a:pt x="14102" y="95"/>
                    <a:pt x="14091" y="106"/>
                    <a:pt x="14077" y="106"/>
                  </a:cubicBezTo>
                  <a:lnTo>
                    <a:pt x="14077" y="106"/>
                  </a:lnTo>
                  <a:cubicBezTo>
                    <a:pt x="14063" y="106"/>
                    <a:pt x="14052" y="95"/>
                    <a:pt x="14051" y="82"/>
                  </a:cubicBezTo>
                  <a:cubicBezTo>
                    <a:pt x="14051" y="68"/>
                    <a:pt x="14062" y="56"/>
                    <a:pt x="14076" y="56"/>
                  </a:cubicBezTo>
                  <a:close/>
                  <a:moveTo>
                    <a:pt x="14276" y="55"/>
                  </a:moveTo>
                  <a:lnTo>
                    <a:pt x="14626" y="53"/>
                  </a:lnTo>
                  <a:cubicBezTo>
                    <a:pt x="14640" y="53"/>
                    <a:pt x="14651" y="65"/>
                    <a:pt x="14651" y="78"/>
                  </a:cubicBezTo>
                  <a:cubicBezTo>
                    <a:pt x="14652" y="92"/>
                    <a:pt x="14640" y="103"/>
                    <a:pt x="14627" y="103"/>
                  </a:cubicBezTo>
                  <a:lnTo>
                    <a:pt x="14277" y="105"/>
                  </a:lnTo>
                  <a:cubicBezTo>
                    <a:pt x="14263" y="105"/>
                    <a:pt x="14252" y="94"/>
                    <a:pt x="14251" y="80"/>
                  </a:cubicBezTo>
                  <a:cubicBezTo>
                    <a:pt x="14251" y="67"/>
                    <a:pt x="14263" y="55"/>
                    <a:pt x="14276" y="55"/>
                  </a:cubicBezTo>
                  <a:close/>
                  <a:moveTo>
                    <a:pt x="14826" y="52"/>
                  </a:moveTo>
                  <a:lnTo>
                    <a:pt x="14826" y="52"/>
                  </a:lnTo>
                  <a:cubicBezTo>
                    <a:pt x="14840" y="52"/>
                    <a:pt x="14851" y="63"/>
                    <a:pt x="14851" y="77"/>
                  </a:cubicBezTo>
                  <a:cubicBezTo>
                    <a:pt x="14852" y="91"/>
                    <a:pt x="14841" y="102"/>
                    <a:pt x="14827" y="102"/>
                  </a:cubicBezTo>
                  <a:lnTo>
                    <a:pt x="14827" y="102"/>
                  </a:lnTo>
                  <a:cubicBezTo>
                    <a:pt x="14813" y="103"/>
                    <a:pt x="14802" y="92"/>
                    <a:pt x="14801" y="78"/>
                  </a:cubicBezTo>
                  <a:cubicBezTo>
                    <a:pt x="14801" y="64"/>
                    <a:pt x="14812" y="53"/>
                    <a:pt x="14826" y="52"/>
                  </a:cubicBezTo>
                  <a:close/>
                  <a:moveTo>
                    <a:pt x="15026" y="51"/>
                  </a:moveTo>
                  <a:lnTo>
                    <a:pt x="15026" y="51"/>
                  </a:lnTo>
                  <a:cubicBezTo>
                    <a:pt x="15040" y="51"/>
                    <a:pt x="15051" y="62"/>
                    <a:pt x="15052" y="76"/>
                  </a:cubicBezTo>
                  <a:cubicBezTo>
                    <a:pt x="15052" y="90"/>
                    <a:pt x="15041" y="101"/>
                    <a:pt x="15027" y="101"/>
                  </a:cubicBezTo>
                  <a:lnTo>
                    <a:pt x="15027" y="101"/>
                  </a:lnTo>
                  <a:cubicBezTo>
                    <a:pt x="15013" y="102"/>
                    <a:pt x="15002" y="91"/>
                    <a:pt x="15001" y="77"/>
                  </a:cubicBezTo>
                  <a:cubicBezTo>
                    <a:pt x="15001" y="63"/>
                    <a:pt x="15012" y="52"/>
                    <a:pt x="15026" y="51"/>
                  </a:cubicBezTo>
                  <a:close/>
                  <a:moveTo>
                    <a:pt x="15226" y="50"/>
                  </a:moveTo>
                  <a:lnTo>
                    <a:pt x="15576" y="49"/>
                  </a:lnTo>
                  <a:cubicBezTo>
                    <a:pt x="15590" y="49"/>
                    <a:pt x="15601" y="60"/>
                    <a:pt x="15602" y="74"/>
                  </a:cubicBezTo>
                  <a:cubicBezTo>
                    <a:pt x="15602" y="87"/>
                    <a:pt x="15590" y="99"/>
                    <a:pt x="15577" y="99"/>
                  </a:cubicBezTo>
                  <a:lnTo>
                    <a:pt x="15227" y="100"/>
                  </a:lnTo>
                  <a:cubicBezTo>
                    <a:pt x="15213" y="101"/>
                    <a:pt x="15202" y="89"/>
                    <a:pt x="15202" y="76"/>
                  </a:cubicBezTo>
                  <a:cubicBezTo>
                    <a:pt x="15201" y="62"/>
                    <a:pt x="15213" y="51"/>
                    <a:pt x="15226" y="50"/>
                  </a:cubicBezTo>
                  <a:close/>
                  <a:moveTo>
                    <a:pt x="15776" y="48"/>
                  </a:moveTo>
                  <a:lnTo>
                    <a:pt x="15776" y="48"/>
                  </a:lnTo>
                  <a:cubicBezTo>
                    <a:pt x="15790" y="47"/>
                    <a:pt x="15801" y="58"/>
                    <a:pt x="15802" y="72"/>
                  </a:cubicBezTo>
                  <a:cubicBezTo>
                    <a:pt x="15802" y="86"/>
                    <a:pt x="15791" y="97"/>
                    <a:pt x="15777" y="98"/>
                  </a:cubicBezTo>
                  <a:lnTo>
                    <a:pt x="15777" y="98"/>
                  </a:lnTo>
                  <a:cubicBezTo>
                    <a:pt x="15763" y="98"/>
                    <a:pt x="15752" y="87"/>
                    <a:pt x="15752" y="73"/>
                  </a:cubicBezTo>
                  <a:cubicBezTo>
                    <a:pt x="15751" y="59"/>
                    <a:pt x="15762" y="48"/>
                    <a:pt x="15776" y="48"/>
                  </a:cubicBezTo>
                  <a:close/>
                  <a:moveTo>
                    <a:pt x="15976" y="47"/>
                  </a:moveTo>
                  <a:lnTo>
                    <a:pt x="15976" y="47"/>
                  </a:lnTo>
                  <a:cubicBezTo>
                    <a:pt x="15990" y="46"/>
                    <a:pt x="16001" y="57"/>
                    <a:pt x="16002" y="71"/>
                  </a:cubicBezTo>
                  <a:cubicBezTo>
                    <a:pt x="16002" y="85"/>
                    <a:pt x="15991" y="96"/>
                    <a:pt x="15977" y="97"/>
                  </a:cubicBezTo>
                  <a:lnTo>
                    <a:pt x="15977" y="97"/>
                  </a:lnTo>
                  <a:cubicBezTo>
                    <a:pt x="15963" y="97"/>
                    <a:pt x="15952" y="86"/>
                    <a:pt x="15952" y="72"/>
                  </a:cubicBezTo>
                  <a:cubicBezTo>
                    <a:pt x="15951" y="58"/>
                    <a:pt x="15962" y="47"/>
                    <a:pt x="15976" y="47"/>
                  </a:cubicBezTo>
                  <a:close/>
                  <a:moveTo>
                    <a:pt x="16177" y="46"/>
                  </a:moveTo>
                  <a:lnTo>
                    <a:pt x="16526" y="44"/>
                  </a:lnTo>
                  <a:cubicBezTo>
                    <a:pt x="16540" y="44"/>
                    <a:pt x="16552" y="55"/>
                    <a:pt x="16552" y="69"/>
                  </a:cubicBezTo>
                  <a:cubicBezTo>
                    <a:pt x="16552" y="83"/>
                    <a:pt x="16541" y="94"/>
                    <a:pt x="16527" y="94"/>
                  </a:cubicBezTo>
                  <a:lnTo>
                    <a:pt x="16177" y="96"/>
                  </a:lnTo>
                  <a:cubicBezTo>
                    <a:pt x="16163" y="96"/>
                    <a:pt x="16152" y="85"/>
                    <a:pt x="16152" y="71"/>
                  </a:cubicBezTo>
                  <a:cubicBezTo>
                    <a:pt x="16152" y="57"/>
                    <a:pt x="16163" y="46"/>
                    <a:pt x="16177" y="46"/>
                  </a:cubicBezTo>
                  <a:close/>
                  <a:moveTo>
                    <a:pt x="16726" y="43"/>
                  </a:moveTo>
                  <a:lnTo>
                    <a:pt x="16726" y="43"/>
                  </a:lnTo>
                  <a:cubicBezTo>
                    <a:pt x="16740" y="43"/>
                    <a:pt x="16751" y="54"/>
                    <a:pt x="16752" y="67"/>
                  </a:cubicBezTo>
                  <a:cubicBezTo>
                    <a:pt x="16752" y="81"/>
                    <a:pt x="16741" y="93"/>
                    <a:pt x="16727" y="93"/>
                  </a:cubicBezTo>
                  <a:lnTo>
                    <a:pt x="16727" y="93"/>
                  </a:lnTo>
                  <a:cubicBezTo>
                    <a:pt x="16713" y="93"/>
                    <a:pt x="16702" y="82"/>
                    <a:pt x="16702" y="68"/>
                  </a:cubicBezTo>
                  <a:cubicBezTo>
                    <a:pt x="16701" y="55"/>
                    <a:pt x="16712" y="43"/>
                    <a:pt x="16726" y="43"/>
                  </a:cubicBezTo>
                  <a:close/>
                  <a:moveTo>
                    <a:pt x="16926" y="42"/>
                  </a:moveTo>
                  <a:lnTo>
                    <a:pt x="16926" y="42"/>
                  </a:lnTo>
                  <a:cubicBezTo>
                    <a:pt x="16940" y="42"/>
                    <a:pt x="16951" y="53"/>
                    <a:pt x="16952" y="66"/>
                  </a:cubicBezTo>
                  <a:cubicBezTo>
                    <a:pt x="16952" y="80"/>
                    <a:pt x="16941" y="92"/>
                    <a:pt x="16927" y="92"/>
                  </a:cubicBezTo>
                  <a:lnTo>
                    <a:pt x="16927" y="92"/>
                  </a:lnTo>
                  <a:cubicBezTo>
                    <a:pt x="16913" y="92"/>
                    <a:pt x="16902" y="81"/>
                    <a:pt x="16902" y="67"/>
                  </a:cubicBezTo>
                  <a:cubicBezTo>
                    <a:pt x="16901" y="54"/>
                    <a:pt x="16912" y="42"/>
                    <a:pt x="16926" y="42"/>
                  </a:cubicBezTo>
                  <a:close/>
                  <a:moveTo>
                    <a:pt x="17127" y="41"/>
                  </a:moveTo>
                  <a:lnTo>
                    <a:pt x="17477" y="39"/>
                  </a:lnTo>
                  <a:cubicBezTo>
                    <a:pt x="17490" y="39"/>
                    <a:pt x="17502" y="50"/>
                    <a:pt x="17502" y="64"/>
                  </a:cubicBezTo>
                  <a:cubicBezTo>
                    <a:pt x="17502" y="78"/>
                    <a:pt x="17491" y="89"/>
                    <a:pt x="17477" y="89"/>
                  </a:cubicBezTo>
                  <a:lnTo>
                    <a:pt x="17127" y="91"/>
                  </a:lnTo>
                  <a:cubicBezTo>
                    <a:pt x="17113" y="91"/>
                    <a:pt x="17102" y="80"/>
                    <a:pt x="17102" y="66"/>
                  </a:cubicBezTo>
                  <a:cubicBezTo>
                    <a:pt x="17102" y="52"/>
                    <a:pt x="17113" y="41"/>
                    <a:pt x="17127" y="41"/>
                  </a:cubicBezTo>
                  <a:close/>
                  <a:moveTo>
                    <a:pt x="17676" y="38"/>
                  </a:moveTo>
                  <a:lnTo>
                    <a:pt x="17676" y="38"/>
                  </a:lnTo>
                  <a:cubicBezTo>
                    <a:pt x="17690" y="38"/>
                    <a:pt x="17701" y="49"/>
                    <a:pt x="17702" y="63"/>
                  </a:cubicBezTo>
                  <a:cubicBezTo>
                    <a:pt x="17702" y="76"/>
                    <a:pt x="17691" y="88"/>
                    <a:pt x="17677" y="88"/>
                  </a:cubicBezTo>
                  <a:lnTo>
                    <a:pt x="17677" y="88"/>
                  </a:lnTo>
                  <a:cubicBezTo>
                    <a:pt x="17663" y="88"/>
                    <a:pt x="17652" y="77"/>
                    <a:pt x="17652" y="64"/>
                  </a:cubicBezTo>
                  <a:cubicBezTo>
                    <a:pt x="17651" y="50"/>
                    <a:pt x="17662" y="38"/>
                    <a:pt x="17676" y="38"/>
                  </a:cubicBezTo>
                  <a:close/>
                  <a:moveTo>
                    <a:pt x="17876" y="37"/>
                  </a:moveTo>
                  <a:lnTo>
                    <a:pt x="17876" y="37"/>
                  </a:lnTo>
                  <a:cubicBezTo>
                    <a:pt x="17890" y="37"/>
                    <a:pt x="17902" y="48"/>
                    <a:pt x="17902" y="62"/>
                  </a:cubicBezTo>
                  <a:cubicBezTo>
                    <a:pt x="17902" y="75"/>
                    <a:pt x="17891" y="87"/>
                    <a:pt x="17877" y="87"/>
                  </a:cubicBezTo>
                  <a:lnTo>
                    <a:pt x="17877" y="87"/>
                  </a:lnTo>
                  <a:cubicBezTo>
                    <a:pt x="17863" y="87"/>
                    <a:pt x="17852" y="76"/>
                    <a:pt x="17852" y="63"/>
                  </a:cubicBezTo>
                  <a:cubicBezTo>
                    <a:pt x="17851" y="49"/>
                    <a:pt x="17862" y="37"/>
                    <a:pt x="17876" y="37"/>
                  </a:cubicBezTo>
                  <a:close/>
                  <a:moveTo>
                    <a:pt x="18077" y="36"/>
                  </a:moveTo>
                  <a:lnTo>
                    <a:pt x="18427" y="34"/>
                  </a:lnTo>
                  <a:cubicBezTo>
                    <a:pt x="18440" y="34"/>
                    <a:pt x="18452" y="46"/>
                    <a:pt x="18452" y="59"/>
                  </a:cubicBezTo>
                  <a:cubicBezTo>
                    <a:pt x="18452" y="73"/>
                    <a:pt x="18441" y="84"/>
                    <a:pt x="18427" y="84"/>
                  </a:cubicBezTo>
                  <a:lnTo>
                    <a:pt x="18077" y="86"/>
                  </a:lnTo>
                  <a:cubicBezTo>
                    <a:pt x="18063" y="86"/>
                    <a:pt x="18052" y="75"/>
                    <a:pt x="18052" y="61"/>
                  </a:cubicBezTo>
                  <a:cubicBezTo>
                    <a:pt x="18052" y="48"/>
                    <a:pt x="18063" y="36"/>
                    <a:pt x="18077" y="36"/>
                  </a:cubicBezTo>
                  <a:close/>
                  <a:moveTo>
                    <a:pt x="18626" y="33"/>
                  </a:moveTo>
                  <a:lnTo>
                    <a:pt x="18626" y="33"/>
                  </a:lnTo>
                  <a:cubicBezTo>
                    <a:pt x="18640" y="33"/>
                    <a:pt x="18652" y="44"/>
                    <a:pt x="18652" y="58"/>
                  </a:cubicBezTo>
                  <a:cubicBezTo>
                    <a:pt x="18652" y="72"/>
                    <a:pt x="18641" y="83"/>
                    <a:pt x="18627" y="83"/>
                  </a:cubicBezTo>
                  <a:lnTo>
                    <a:pt x="18627" y="83"/>
                  </a:lnTo>
                  <a:cubicBezTo>
                    <a:pt x="18613" y="84"/>
                    <a:pt x="18602" y="73"/>
                    <a:pt x="18602" y="59"/>
                  </a:cubicBezTo>
                  <a:cubicBezTo>
                    <a:pt x="18602" y="45"/>
                    <a:pt x="18612" y="34"/>
                    <a:pt x="18626" y="33"/>
                  </a:cubicBezTo>
                  <a:close/>
                  <a:moveTo>
                    <a:pt x="18826" y="32"/>
                  </a:moveTo>
                  <a:lnTo>
                    <a:pt x="18826" y="32"/>
                  </a:lnTo>
                  <a:cubicBezTo>
                    <a:pt x="18840" y="32"/>
                    <a:pt x="18852" y="43"/>
                    <a:pt x="18852" y="57"/>
                  </a:cubicBezTo>
                  <a:cubicBezTo>
                    <a:pt x="18852" y="71"/>
                    <a:pt x="18841" y="82"/>
                    <a:pt x="18827" y="82"/>
                  </a:cubicBezTo>
                  <a:lnTo>
                    <a:pt x="18827" y="82"/>
                  </a:lnTo>
                  <a:cubicBezTo>
                    <a:pt x="18814" y="83"/>
                    <a:pt x="18802" y="72"/>
                    <a:pt x="18802" y="58"/>
                  </a:cubicBezTo>
                  <a:cubicBezTo>
                    <a:pt x="18802" y="44"/>
                    <a:pt x="18813" y="33"/>
                    <a:pt x="18826" y="32"/>
                  </a:cubicBezTo>
                  <a:close/>
                  <a:moveTo>
                    <a:pt x="19027" y="31"/>
                  </a:moveTo>
                  <a:lnTo>
                    <a:pt x="19377" y="30"/>
                  </a:lnTo>
                  <a:cubicBezTo>
                    <a:pt x="19391" y="30"/>
                    <a:pt x="19402" y="41"/>
                    <a:pt x="19402" y="55"/>
                  </a:cubicBezTo>
                  <a:cubicBezTo>
                    <a:pt x="19402" y="68"/>
                    <a:pt x="19391" y="80"/>
                    <a:pt x="19377" y="80"/>
                  </a:cubicBezTo>
                  <a:lnTo>
                    <a:pt x="19027" y="81"/>
                  </a:lnTo>
                  <a:cubicBezTo>
                    <a:pt x="19013" y="82"/>
                    <a:pt x="19002" y="70"/>
                    <a:pt x="19002" y="57"/>
                  </a:cubicBezTo>
                  <a:cubicBezTo>
                    <a:pt x="19002" y="43"/>
                    <a:pt x="19013" y="32"/>
                    <a:pt x="19027" y="31"/>
                  </a:cubicBezTo>
                  <a:close/>
                  <a:moveTo>
                    <a:pt x="19576" y="29"/>
                  </a:moveTo>
                  <a:lnTo>
                    <a:pt x="19576" y="29"/>
                  </a:lnTo>
                  <a:cubicBezTo>
                    <a:pt x="19590" y="28"/>
                    <a:pt x="19602" y="39"/>
                    <a:pt x="19602" y="53"/>
                  </a:cubicBezTo>
                  <a:cubicBezTo>
                    <a:pt x="19602" y="67"/>
                    <a:pt x="19591" y="78"/>
                    <a:pt x="19577" y="79"/>
                  </a:cubicBezTo>
                  <a:lnTo>
                    <a:pt x="19577" y="79"/>
                  </a:lnTo>
                  <a:cubicBezTo>
                    <a:pt x="19564" y="79"/>
                    <a:pt x="19552" y="68"/>
                    <a:pt x="19552" y="54"/>
                  </a:cubicBezTo>
                  <a:cubicBezTo>
                    <a:pt x="19552" y="40"/>
                    <a:pt x="19563" y="29"/>
                    <a:pt x="19576" y="29"/>
                  </a:cubicBezTo>
                  <a:close/>
                  <a:moveTo>
                    <a:pt x="19776" y="28"/>
                  </a:moveTo>
                  <a:lnTo>
                    <a:pt x="19776" y="28"/>
                  </a:lnTo>
                  <a:cubicBezTo>
                    <a:pt x="19790" y="27"/>
                    <a:pt x="19802" y="38"/>
                    <a:pt x="19802" y="52"/>
                  </a:cubicBezTo>
                  <a:cubicBezTo>
                    <a:pt x="19802" y="66"/>
                    <a:pt x="19791" y="77"/>
                    <a:pt x="19777" y="78"/>
                  </a:cubicBezTo>
                  <a:lnTo>
                    <a:pt x="19777" y="78"/>
                  </a:lnTo>
                  <a:cubicBezTo>
                    <a:pt x="19764" y="78"/>
                    <a:pt x="19752" y="67"/>
                    <a:pt x="19752" y="53"/>
                  </a:cubicBezTo>
                  <a:cubicBezTo>
                    <a:pt x="19752" y="39"/>
                    <a:pt x="19763" y="28"/>
                    <a:pt x="19776" y="28"/>
                  </a:cubicBezTo>
                  <a:close/>
                  <a:moveTo>
                    <a:pt x="19977" y="27"/>
                  </a:moveTo>
                  <a:lnTo>
                    <a:pt x="20327" y="25"/>
                  </a:lnTo>
                  <a:cubicBezTo>
                    <a:pt x="20341" y="25"/>
                    <a:pt x="20352" y="36"/>
                    <a:pt x="20352" y="50"/>
                  </a:cubicBezTo>
                  <a:cubicBezTo>
                    <a:pt x="20352" y="64"/>
                    <a:pt x="20341" y="75"/>
                    <a:pt x="20327" y="75"/>
                  </a:cubicBezTo>
                  <a:lnTo>
                    <a:pt x="19977" y="77"/>
                  </a:lnTo>
                  <a:cubicBezTo>
                    <a:pt x="19963" y="77"/>
                    <a:pt x="19952" y="66"/>
                    <a:pt x="19952" y="52"/>
                  </a:cubicBezTo>
                  <a:cubicBezTo>
                    <a:pt x="19952" y="38"/>
                    <a:pt x="19963" y="27"/>
                    <a:pt x="19977" y="27"/>
                  </a:cubicBezTo>
                  <a:close/>
                  <a:moveTo>
                    <a:pt x="20526" y="24"/>
                  </a:moveTo>
                  <a:lnTo>
                    <a:pt x="20527" y="24"/>
                  </a:lnTo>
                  <a:cubicBezTo>
                    <a:pt x="20540" y="24"/>
                    <a:pt x="20552" y="35"/>
                    <a:pt x="20552" y="48"/>
                  </a:cubicBezTo>
                  <a:cubicBezTo>
                    <a:pt x="20552" y="62"/>
                    <a:pt x="20541" y="74"/>
                    <a:pt x="20528" y="74"/>
                  </a:cubicBezTo>
                  <a:lnTo>
                    <a:pt x="20527" y="74"/>
                  </a:lnTo>
                  <a:cubicBezTo>
                    <a:pt x="20514" y="74"/>
                    <a:pt x="20502" y="63"/>
                    <a:pt x="20502" y="49"/>
                  </a:cubicBezTo>
                  <a:cubicBezTo>
                    <a:pt x="20502" y="36"/>
                    <a:pt x="20513" y="24"/>
                    <a:pt x="20526" y="24"/>
                  </a:cubicBezTo>
                  <a:close/>
                  <a:moveTo>
                    <a:pt x="20727" y="23"/>
                  </a:moveTo>
                  <a:lnTo>
                    <a:pt x="20727" y="23"/>
                  </a:lnTo>
                  <a:cubicBezTo>
                    <a:pt x="20740" y="23"/>
                    <a:pt x="20752" y="34"/>
                    <a:pt x="20752" y="47"/>
                  </a:cubicBezTo>
                  <a:cubicBezTo>
                    <a:pt x="20752" y="61"/>
                    <a:pt x="20741" y="73"/>
                    <a:pt x="20728" y="73"/>
                  </a:cubicBezTo>
                  <a:lnTo>
                    <a:pt x="20728" y="73"/>
                  </a:lnTo>
                  <a:cubicBezTo>
                    <a:pt x="20714" y="73"/>
                    <a:pt x="20702" y="62"/>
                    <a:pt x="20702" y="48"/>
                  </a:cubicBezTo>
                  <a:cubicBezTo>
                    <a:pt x="20702" y="35"/>
                    <a:pt x="20713" y="23"/>
                    <a:pt x="20727" y="23"/>
                  </a:cubicBezTo>
                  <a:close/>
                  <a:moveTo>
                    <a:pt x="20927" y="22"/>
                  </a:moveTo>
                  <a:lnTo>
                    <a:pt x="21277" y="20"/>
                  </a:lnTo>
                  <a:cubicBezTo>
                    <a:pt x="21291" y="20"/>
                    <a:pt x="21302" y="31"/>
                    <a:pt x="21302" y="45"/>
                  </a:cubicBezTo>
                  <a:cubicBezTo>
                    <a:pt x="21302" y="59"/>
                    <a:pt x="21291" y="70"/>
                    <a:pt x="21277" y="70"/>
                  </a:cubicBezTo>
                  <a:lnTo>
                    <a:pt x="20927" y="72"/>
                  </a:lnTo>
                  <a:cubicBezTo>
                    <a:pt x="20913" y="72"/>
                    <a:pt x="20902" y="61"/>
                    <a:pt x="20902" y="47"/>
                  </a:cubicBezTo>
                  <a:cubicBezTo>
                    <a:pt x="20902" y="33"/>
                    <a:pt x="20913" y="22"/>
                    <a:pt x="20927" y="22"/>
                  </a:cubicBezTo>
                  <a:close/>
                  <a:moveTo>
                    <a:pt x="21477" y="19"/>
                  </a:moveTo>
                  <a:lnTo>
                    <a:pt x="21477" y="19"/>
                  </a:lnTo>
                  <a:cubicBezTo>
                    <a:pt x="21490" y="19"/>
                    <a:pt x="21502" y="30"/>
                    <a:pt x="21502" y="44"/>
                  </a:cubicBezTo>
                  <a:cubicBezTo>
                    <a:pt x="21502" y="58"/>
                    <a:pt x="21491" y="69"/>
                    <a:pt x="21478" y="69"/>
                  </a:cubicBezTo>
                  <a:lnTo>
                    <a:pt x="21478" y="69"/>
                  </a:lnTo>
                  <a:cubicBezTo>
                    <a:pt x="21464" y="69"/>
                    <a:pt x="21452" y="59"/>
                    <a:pt x="21452" y="45"/>
                  </a:cubicBezTo>
                  <a:cubicBezTo>
                    <a:pt x="21452" y="31"/>
                    <a:pt x="21463" y="19"/>
                    <a:pt x="21477" y="19"/>
                  </a:cubicBezTo>
                  <a:close/>
                  <a:moveTo>
                    <a:pt x="21677" y="18"/>
                  </a:moveTo>
                  <a:lnTo>
                    <a:pt x="21677" y="18"/>
                  </a:lnTo>
                  <a:cubicBezTo>
                    <a:pt x="21690" y="18"/>
                    <a:pt x="21702" y="29"/>
                    <a:pt x="21702" y="43"/>
                  </a:cubicBezTo>
                  <a:cubicBezTo>
                    <a:pt x="21702" y="57"/>
                    <a:pt x="21691" y="68"/>
                    <a:pt x="21678" y="68"/>
                  </a:cubicBezTo>
                  <a:lnTo>
                    <a:pt x="21678" y="68"/>
                  </a:lnTo>
                  <a:cubicBezTo>
                    <a:pt x="21664" y="68"/>
                    <a:pt x="21652" y="58"/>
                    <a:pt x="21652" y="44"/>
                  </a:cubicBezTo>
                  <a:cubicBezTo>
                    <a:pt x="21652" y="30"/>
                    <a:pt x="21663" y="18"/>
                    <a:pt x="21677" y="18"/>
                  </a:cubicBezTo>
                  <a:close/>
                  <a:moveTo>
                    <a:pt x="21877" y="17"/>
                  </a:moveTo>
                  <a:lnTo>
                    <a:pt x="22227" y="15"/>
                  </a:lnTo>
                  <a:cubicBezTo>
                    <a:pt x="22241" y="15"/>
                    <a:pt x="22252" y="27"/>
                    <a:pt x="22252" y="40"/>
                  </a:cubicBezTo>
                  <a:cubicBezTo>
                    <a:pt x="22252" y="54"/>
                    <a:pt x="22241" y="65"/>
                    <a:pt x="22227" y="65"/>
                  </a:cubicBezTo>
                  <a:lnTo>
                    <a:pt x="21877" y="67"/>
                  </a:lnTo>
                  <a:cubicBezTo>
                    <a:pt x="21863" y="67"/>
                    <a:pt x="21852" y="56"/>
                    <a:pt x="21852" y="42"/>
                  </a:cubicBezTo>
                  <a:cubicBezTo>
                    <a:pt x="21852" y="29"/>
                    <a:pt x="21863" y="17"/>
                    <a:pt x="21877" y="17"/>
                  </a:cubicBezTo>
                  <a:close/>
                  <a:moveTo>
                    <a:pt x="22427" y="14"/>
                  </a:moveTo>
                  <a:lnTo>
                    <a:pt x="22427" y="14"/>
                  </a:lnTo>
                  <a:cubicBezTo>
                    <a:pt x="22441" y="14"/>
                    <a:pt x="22452" y="25"/>
                    <a:pt x="22452" y="39"/>
                  </a:cubicBezTo>
                  <a:cubicBezTo>
                    <a:pt x="22452" y="53"/>
                    <a:pt x="22442" y="64"/>
                    <a:pt x="22428" y="64"/>
                  </a:cubicBezTo>
                  <a:lnTo>
                    <a:pt x="22428" y="64"/>
                  </a:lnTo>
                  <a:cubicBezTo>
                    <a:pt x="22414" y="65"/>
                    <a:pt x="22402" y="54"/>
                    <a:pt x="22402" y="40"/>
                  </a:cubicBezTo>
                  <a:cubicBezTo>
                    <a:pt x="22402" y="26"/>
                    <a:pt x="22413" y="15"/>
                    <a:pt x="22427" y="14"/>
                  </a:cubicBezTo>
                  <a:close/>
                  <a:moveTo>
                    <a:pt x="22627" y="13"/>
                  </a:moveTo>
                  <a:lnTo>
                    <a:pt x="22627" y="13"/>
                  </a:lnTo>
                  <a:cubicBezTo>
                    <a:pt x="22641" y="13"/>
                    <a:pt x="22652" y="24"/>
                    <a:pt x="22652" y="38"/>
                  </a:cubicBezTo>
                  <a:cubicBezTo>
                    <a:pt x="22653" y="52"/>
                    <a:pt x="22642" y="63"/>
                    <a:pt x="22628" y="63"/>
                  </a:cubicBezTo>
                  <a:lnTo>
                    <a:pt x="22628" y="63"/>
                  </a:lnTo>
                  <a:cubicBezTo>
                    <a:pt x="22614" y="64"/>
                    <a:pt x="22602" y="53"/>
                    <a:pt x="22602" y="39"/>
                  </a:cubicBezTo>
                  <a:cubicBezTo>
                    <a:pt x="22602" y="25"/>
                    <a:pt x="22613" y="14"/>
                    <a:pt x="22627" y="13"/>
                  </a:cubicBezTo>
                  <a:close/>
                  <a:moveTo>
                    <a:pt x="22827" y="12"/>
                  </a:moveTo>
                  <a:lnTo>
                    <a:pt x="23177" y="11"/>
                  </a:lnTo>
                  <a:cubicBezTo>
                    <a:pt x="23191" y="11"/>
                    <a:pt x="23202" y="22"/>
                    <a:pt x="23202" y="36"/>
                  </a:cubicBezTo>
                  <a:cubicBezTo>
                    <a:pt x="23202" y="49"/>
                    <a:pt x="23191" y="61"/>
                    <a:pt x="23177" y="61"/>
                  </a:cubicBezTo>
                  <a:lnTo>
                    <a:pt x="22827" y="62"/>
                  </a:lnTo>
                  <a:cubicBezTo>
                    <a:pt x="22814" y="63"/>
                    <a:pt x="22802" y="51"/>
                    <a:pt x="22802" y="38"/>
                  </a:cubicBezTo>
                  <a:cubicBezTo>
                    <a:pt x="22802" y="24"/>
                    <a:pt x="22813" y="13"/>
                    <a:pt x="22827" y="12"/>
                  </a:cubicBezTo>
                  <a:close/>
                  <a:moveTo>
                    <a:pt x="23377" y="10"/>
                  </a:moveTo>
                  <a:lnTo>
                    <a:pt x="23377" y="10"/>
                  </a:lnTo>
                  <a:cubicBezTo>
                    <a:pt x="23391" y="9"/>
                    <a:pt x="23402" y="20"/>
                    <a:pt x="23402" y="34"/>
                  </a:cubicBezTo>
                  <a:cubicBezTo>
                    <a:pt x="23403" y="48"/>
                    <a:pt x="23392" y="59"/>
                    <a:pt x="23378" y="60"/>
                  </a:cubicBezTo>
                  <a:lnTo>
                    <a:pt x="23378" y="60"/>
                  </a:lnTo>
                  <a:cubicBezTo>
                    <a:pt x="23364" y="60"/>
                    <a:pt x="23353" y="49"/>
                    <a:pt x="23352" y="35"/>
                  </a:cubicBezTo>
                  <a:cubicBezTo>
                    <a:pt x="23352" y="21"/>
                    <a:pt x="23363" y="10"/>
                    <a:pt x="23377" y="10"/>
                  </a:cubicBezTo>
                  <a:close/>
                  <a:moveTo>
                    <a:pt x="23577" y="9"/>
                  </a:moveTo>
                  <a:lnTo>
                    <a:pt x="23577" y="9"/>
                  </a:lnTo>
                  <a:cubicBezTo>
                    <a:pt x="23591" y="8"/>
                    <a:pt x="23602" y="19"/>
                    <a:pt x="23602" y="33"/>
                  </a:cubicBezTo>
                  <a:cubicBezTo>
                    <a:pt x="23603" y="47"/>
                    <a:pt x="23592" y="58"/>
                    <a:pt x="23578" y="59"/>
                  </a:cubicBezTo>
                  <a:lnTo>
                    <a:pt x="23578" y="59"/>
                  </a:lnTo>
                  <a:cubicBezTo>
                    <a:pt x="23564" y="59"/>
                    <a:pt x="23553" y="48"/>
                    <a:pt x="23552" y="34"/>
                  </a:cubicBezTo>
                  <a:cubicBezTo>
                    <a:pt x="23552" y="20"/>
                    <a:pt x="23563" y="9"/>
                    <a:pt x="23577" y="9"/>
                  </a:cubicBezTo>
                  <a:close/>
                  <a:moveTo>
                    <a:pt x="23777" y="8"/>
                  </a:moveTo>
                  <a:lnTo>
                    <a:pt x="24127" y="6"/>
                  </a:lnTo>
                  <a:cubicBezTo>
                    <a:pt x="24141" y="6"/>
                    <a:pt x="24152" y="17"/>
                    <a:pt x="24152" y="31"/>
                  </a:cubicBezTo>
                  <a:cubicBezTo>
                    <a:pt x="24152" y="45"/>
                    <a:pt x="24141" y="56"/>
                    <a:pt x="24127" y="56"/>
                  </a:cubicBezTo>
                  <a:lnTo>
                    <a:pt x="23777" y="58"/>
                  </a:lnTo>
                  <a:cubicBezTo>
                    <a:pt x="23764" y="58"/>
                    <a:pt x="23752" y="47"/>
                    <a:pt x="23752" y="33"/>
                  </a:cubicBezTo>
                  <a:cubicBezTo>
                    <a:pt x="23752" y="19"/>
                    <a:pt x="23763" y="8"/>
                    <a:pt x="23777" y="8"/>
                  </a:cubicBezTo>
                  <a:close/>
                  <a:moveTo>
                    <a:pt x="24327" y="5"/>
                  </a:moveTo>
                  <a:lnTo>
                    <a:pt x="24327" y="5"/>
                  </a:lnTo>
                  <a:cubicBezTo>
                    <a:pt x="24341" y="5"/>
                    <a:pt x="24352" y="16"/>
                    <a:pt x="24352" y="29"/>
                  </a:cubicBezTo>
                  <a:cubicBezTo>
                    <a:pt x="24353" y="43"/>
                    <a:pt x="24342" y="55"/>
                    <a:pt x="24328" y="55"/>
                  </a:cubicBezTo>
                  <a:lnTo>
                    <a:pt x="24328" y="55"/>
                  </a:lnTo>
                  <a:cubicBezTo>
                    <a:pt x="24314" y="55"/>
                    <a:pt x="24303" y="44"/>
                    <a:pt x="24302" y="30"/>
                  </a:cubicBezTo>
                  <a:cubicBezTo>
                    <a:pt x="24302" y="17"/>
                    <a:pt x="24313" y="5"/>
                    <a:pt x="24327" y="5"/>
                  </a:cubicBezTo>
                  <a:close/>
                  <a:moveTo>
                    <a:pt x="24527" y="4"/>
                  </a:moveTo>
                  <a:lnTo>
                    <a:pt x="24527" y="4"/>
                  </a:lnTo>
                  <a:cubicBezTo>
                    <a:pt x="24541" y="4"/>
                    <a:pt x="24552" y="15"/>
                    <a:pt x="24552" y="28"/>
                  </a:cubicBezTo>
                  <a:cubicBezTo>
                    <a:pt x="24553" y="42"/>
                    <a:pt x="24542" y="54"/>
                    <a:pt x="24528" y="54"/>
                  </a:cubicBezTo>
                  <a:lnTo>
                    <a:pt x="24528" y="54"/>
                  </a:lnTo>
                  <a:cubicBezTo>
                    <a:pt x="24514" y="54"/>
                    <a:pt x="24503" y="43"/>
                    <a:pt x="24502" y="29"/>
                  </a:cubicBezTo>
                  <a:cubicBezTo>
                    <a:pt x="24502" y="16"/>
                    <a:pt x="24513" y="4"/>
                    <a:pt x="24527" y="4"/>
                  </a:cubicBezTo>
                  <a:close/>
                  <a:moveTo>
                    <a:pt x="24727" y="3"/>
                  </a:moveTo>
                  <a:lnTo>
                    <a:pt x="25077" y="1"/>
                  </a:lnTo>
                  <a:cubicBezTo>
                    <a:pt x="25091" y="1"/>
                    <a:pt x="25102" y="12"/>
                    <a:pt x="25102" y="26"/>
                  </a:cubicBezTo>
                  <a:cubicBezTo>
                    <a:pt x="25103" y="40"/>
                    <a:pt x="25091" y="51"/>
                    <a:pt x="25078" y="51"/>
                  </a:cubicBezTo>
                  <a:lnTo>
                    <a:pt x="24728" y="53"/>
                  </a:lnTo>
                  <a:cubicBezTo>
                    <a:pt x="24714" y="53"/>
                    <a:pt x="24703" y="42"/>
                    <a:pt x="24702" y="28"/>
                  </a:cubicBezTo>
                  <a:cubicBezTo>
                    <a:pt x="24702" y="14"/>
                    <a:pt x="24714" y="3"/>
                    <a:pt x="24727" y="3"/>
                  </a:cubicBezTo>
                  <a:close/>
                  <a:moveTo>
                    <a:pt x="25277" y="0"/>
                  </a:moveTo>
                  <a:lnTo>
                    <a:pt x="25277" y="0"/>
                  </a:lnTo>
                  <a:cubicBezTo>
                    <a:pt x="25291" y="0"/>
                    <a:pt x="25302" y="11"/>
                    <a:pt x="25302" y="25"/>
                  </a:cubicBezTo>
                  <a:cubicBezTo>
                    <a:pt x="25303" y="39"/>
                    <a:pt x="25292" y="50"/>
                    <a:pt x="25278" y="50"/>
                  </a:cubicBezTo>
                  <a:lnTo>
                    <a:pt x="25278" y="50"/>
                  </a:lnTo>
                  <a:cubicBezTo>
                    <a:pt x="25264" y="50"/>
                    <a:pt x="25253" y="40"/>
                    <a:pt x="25252" y="26"/>
                  </a:cubicBezTo>
                  <a:cubicBezTo>
                    <a:pt x="25252" y="12"/>
                    <a:pt x="25263" y="1"/>
                    <a:pt x="2527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1"/>
            <p:cNvSpPr/>
            <p:nvPr/>
          </p:nvSpPr>
          <p:spPr>
            <a:xfrm>
              <a:off x="7701480" y="2579760"/>
              <a:ext cx="10800" cy="979920"/>
            </a:xfrm>
            <a:custGeom>
              <a:avLst/>
              <a:gdLst/>
              <a:ahLst/>
              <a:rect l="l" t="t" r="r" b="b"/>
              <a:pathLst>
                <a:path w="54" h="4400">
                  <a:moveTo>
                    <a:pt x="0" y="4375"/>
                  </a:moveTo>
                  <a:lnTo>
                    <a:pt x="1" y="4025"/>
                  </a:lnTo>
                  <a:cubicBezTo>
                    <a:pt x="1" y="4012"/>
                    <a:pt x="12" y="4000"/>
                    <a:pt x="26" y="4000"/>
                  </a:cubicBezTo>
                  <a:cubicBezTo>
                    <a:pt x="40" y="4000"/>
                    <a:pt x="51" y="4012"/>
                    <a:pt x="51" y="4025"/>
                  </a:cubicBezTo>
                  <a:lnTo>
                    <a:pt x="50" y="4375"/>
                  </a:lnTo>
                  <a:cubicBezTo>
                    <a:pt x="50" y="4389"/>
                    <a:pt x="39" y="4400"/>
                    <a:pt x="25" y="4400"/>
                  </a:cubicBezTo>
                  <a:cubicBezTo>
                    <a:pt x="12" y="4400"/>
                    <a:pt x="0" y="4389"/>
                    <a:pt x="0" y="4375"/>
                  </a:cubicBezTo>
                  <a:close/>
                  <a:moveTo>
                    <a:pt x="1" y="3825"/>
                  </a:moveTo>
                  <a:lnTo>
                    <a:pt x="1" y="3825"/>
                  </a:lnTo>
                  <a:cubicBezTo>
                    <a:pt x="1" y="3812"/>
                    <a:pt x="12" y="3800"/>
                    <a:pt x="26" y="3800"/>
                  </a:cubicBezTo>
                  <a:cubicBezTo>
                    <a:pt x="40" y="3800"/>
                    <a:pt x="51" y="3812"/>
                    <a:pt x="51" y="3825"/>
                  </a:cubicBezTo>
                  <a:lnTo>
                    <a:pt x="51" y="3825"/>
                  </a:lnTo>
                  <a:cubicBezTo>
                    <a:pt x="51" y="3839"/>
                    <a:pt x="40" y="3850"/>
                    <a:pt x="26" y="3850"/>
                  </a:cubicBezTo>
                  <a:cubicBezTo>
                    <a:pt x="12" y="3850"/>
                    <a:pt x="1" y="3839"/>
                    <a:pt x="1" y="3825"/>
                  </a:cubicBezTo>
                  <a:close/>
                  <a:moveTo>
                    <a:pt x="1" y="3625"/>
                  </a:moveTo>
                  <a:lnTo>
                    <a:pt x="1" y="3625"/>
                  </a:lnTo>
                  <a:cubicBezTo>
                    <a:pt x="1" y="3612"/>
                    <a:pt x="12" y="3600"/>
                    <a:pt x="26" y="3600"/>
                  </a:cubicBezTo>
                  <a:cubicBezTo>
                    <a:pt x="40" y="3600"/>
                    <a:pt x="51" y="3612"/>
                    <a:pt x="51" y="3625"/>
                  </a:cubicBezTo>
                  <a:lnTo>
                    <a:pt x="51" y="3625"/>
                  </a:lnTo>
                  <a:cubicBezTo>
                    <a:pt x="51" y="3639"/>
                    <a:pt x="40" y="3650"/>
                    <a:pt x="26" y="3650"/>
                  </a:cubicBezTo>
                  <a:cubicBezTo>
                    <a:pt x="12" y="3650"/>
                    <a:pt x="1" y="3639"/>
                    <a:pt x="1" y="3625"/>
                  </a:cubicBezTo>
                  <a:close/>
                  <a:moveTo>
                    <a:pt x="1" y="3425"/>
                  </a:moveTo>
                  <a:lnTo>
                    <a:pt x="1" y="3075"/>
                  </a:lnTo>
                  <a:cubicBezTo>
                    <a:pt x="1" y="3062"/>
                    <a:pt x="13" y="3050"/>
                    <a:pt x="26" y="3050"/>
                  </a:cubicBezTo>
                  <a:cubicBezTo>
                    <a:pt x="40" y="3050"/>
                    <a:pt x="51" y="3062"/>
                    <a:pt x="51" y="3075"/>
                  </a:cubicBezTo>
                  <a:lnTo>
                    <a:pt x="51" y="3425"/>
                  </a:lnTo>
                  <a:cubicBezTo>
                    <a:pt x="51" y="3439"/>
                    <a:pt x="40" y="3450"/>
                    <a:pt x="26" y="3450"/>
                  </a:cubicBezTo>
                  <a:cubicBezTo>
                    <a:pt x="12" y="3450"/>
                    <a:pt x="1" y="3439"/>
                    <a:pt x="1" y="3425"/>
                  </a:cubicBezTo>
                  <a:close/>
                  <a:moveTo>
                    <a:pt x="2" y="2875"/>
                  </a:moveTo>
                  <a:lnTo>
                    <a:pt x="2" y="2875"/>
                  </a:lnTo>
                  <a:cubicBezTo>
                    <a:pt x="2" y="2862"/>
                    <a:pt x="13" y="2850"/>
                    <a:pt x="27" y="2850"/>
                  </a:cubicBezTo>
                  <a:cubicBezTo>
                    <a:pt x="40" y="2850"/>
                    <a:pt x="52" y="2862"/>
                    <a:pt x="52" y="2875"/>
                  </a:cubicBezTo>
                  <a:lnTo>
                    <a:pt x="52" y="2875"/>
                  </a:lnTo>
                  <a:cubicBezTo>
                    <a:pt x="52" y="2889"/>
                    <a:pt x="40" y="2900"/>
                    <a:pt x="27" y="2900"/>
                  </a:cubicBezTo>
                  <a:cubicBezTo>
                    <a:pt x="13" y="2900"/>
                    <a:pt x="2" y="2889"/>
                    <a:pt x="2" y="2875"/>
                  </a:cubicBezTo>
                  <a:close/>
                  <a:moveTo>
                    <a:pt x="2" y="2675"/>
                  </a:moveTo>
                  <a:lnTo>
                    <a:pt x="2" y="2675"/>
                  </a:lnTo>
                  <a:cubicBezTo>
                    <a:pt x="2" y="2661"/>
                    <a:pt x="13" y="2650"/>
                    <a:pt x="27" y="2650"/>
                  </a:cubicBezTo>
                  <a:cubicBezTo>
                    <a:pt x="41" y="2650"/>
                    <a:pt x="52" y="2661"/>
                    <a:pt x="52" y="2675"/>
                  </a:cubicBezTo>
                  <a:lnTo>
                    <a:pt x="52" y="2675"/>
                  </a:lnTo>
                  <a:cubicBezTo>
                    <a:pt x="52" y="2689"/>
                    <a:pt x="41" y="2700"/>
                    <a:pt x="27" y="2700"/>
                  </a:cubicBezTo>
                  <a:cubicBezTo>
                    <a:pt x="13" y="2700"/>
                    <a:pt x="2" y="2689"/>
                    <a:pt x="2" y="2675"/>
                  </a:cubicBezTo>
                  <a:close/>
                  <a:moveTo>
                    <a:pt x="2" y="2475"/>
                  </a:moveTo>
                  <a:lnTo>
                    <a:pt x="2" y="2125"/>
                  </a:lnTo>
                  <a:cubicBezTo>
                    <a:pt x="2" y="2111"/>
                    <a:pt x="13" y="2100"/>
                    <a:pt x="27" y="2100"/>
                  </a:cubicBezTo>
                  <a:cubicBezTo>
                    <a:pt x="41" y="2100"/>
                    <a:pt x="52" y="2111"/>
                    <a:pt x="52" y="2125"/>
                  </a:cubicBezTo>
                  <a:lnTo>
                    <a:pt x="52" y="2475"/>
                  </a:lnTo>
                  <a:cubicBezTo>
                    <a:pt x="52" y="2489"/>
                    <a:pt x="41" y="2500"/>
                    <a:pt x="27" y="2500"/>
                  </a:cubicBezTo>
                  <a:cubicBezTo>
                    <a:pt x="13" y="2500"/>
                    <a:pt x="2" y="2489"/>
                    <a:pt x="2" y="2475"/>
                  </a:cubicBezTo>
                  <a:close/>
                  <a:moveTo>
                    <a:pt x="2" y="1925"/>
                  </a:moveTo>
                  <a:lnTo>
                    <a:pt x="2" y="1925"/>
                  </a:lnTo>
                  <a:cubicBezTo>
                    <a:pt x="2" y="1911"/>
                    <a:pt x="14" y="1900"/>
                    <a:pt x="27" y="1900"/>
                  </a:cubicBezTo>
                  <a:cubicBezTo>
                    <a:pt x="41" y="1900"/>
                    <a:pt x="52" y="1911"/>
                    <a:pt x="52" y="1925"/>
                  </a:cubicBezTo>
                  <a:lnTo>
                    <a:pt x="52" y="1925"/>
                  </a:lnTo>
                  <a:cubicBezTo>
                    <a:pt x="52" y="1939"/>
                    <a:pt x="41" y="1950"/>
                    <a:pt x="27" y="1950"/>
                  </a:cubicBezTo>
                  <a:cubicBezTo>
                    <a:pt x="14" y="1950"/>
                    <a:pt x="2" y="1939"/>
                    <a:pt x="2" y="1925"/>
                  </a:cubicBezTo>
                  <a:close/>
                  <a:moveTo>
                    <a:pt x="2" y="1725"/>
                  </a:moveTo>
                  <a:lnTo>
                    <a:pt x="2" y="1725"/>
                  </a:lnTo>
                  <a:cubicBezTo>
                    <a:pt x="2" y="1711"/>
                    <a:pt x="14" y="1700"/>
                    <a:pt x="27" y="1700"/>
                  </a:cubicBezTo>
                  <a:cubicBezTo>
                    <a:pt x="41" y="1700"/>
                    <a:pt x="52" y="1711"/>
                    <a:pt x="52" y="1725"/>
                  </a:cubicBezTo>
                  <a:lnTo>
                    <a:pt x="52" y="1725"/>
                  </a:lnTo>
                  <a:cubicBezTo>
                    <a:pt x="52" y="1739"/>
                    <a:pt x="41" y="1750"/>
                    <a:pt x="27" y="1750"/>
                  </a:cubicBezTo>
                  <a:cubicBezTo>
                    <a:pt x="14" y="1750"/>
                    <a:pt x="2" y="1739"/>
                    <a:pt x="2" y="1725"/>
                  </a:cubicBezTo>
                  <a:close/>
                  <a:moveTo>
                    <a:pt x="3" y="1525"/>
                  </a:moveTo>
                  <a:lnTo>
                    <a:pt x="3" y="1175"/>
                  </a:lnTo>
                  <a:cubicBezTo>
                    <a:pt x="3" y="1161"/>
                    <a:pt x="14" y="1150"/>
                    <a:pt x="28" y="1150"/>
                  </a:cubicBezTo>
                  <a:cubicBezTo>
                    <a:pt x="42" y="1150"/>
                    <a:pt x="53" y="1161"/>
                    <a:pt x="53" y="1175"/>
                  </a:cubicBezTo>
                  <a:lnTo>
                    <a:pt x="53" y="1525"/>
                  </a:lnTo>
                  <a:cubicBezTo>
                    <a:pt x="53" y="1539"/>
                    <a:pt x="41" y="1550"/>
                    <a:pt x="28" y="1550"/>
                  </a:cubicBezTo>
                  <a:cubicBezTo>
                    <a:pt x="14" y="1550"/>
                    <a:pt x="3" y="1539"/>
                    <a:pt x="3" y="1525"/>
                  </a:cubicBezTo>
                  <a:close/>
                  <a:moveTo>
                    <a:pt x="3" y="975"/>
                  </a:moveTo>
                  <a:lnTo>
                    <a:pt x="3" y="975"/>
                  </a:lnTo>
                  <a:cubicBezTo>
                    <a:pt x="3" y="961"/>
                    <a:pt x="14" y="950"/>
                    <a:pt x="28" y="950"/>
                  </a:cubicBezTo>
                  <a:cubicBezTo>
                    <a:pt x="42" y="950"/>
                    <a:pt x="53" y="961"/>
                    <a:pt x="53" y="975"/>
                  </a:cubicBezTo>
                  <a:lnTo>
                    <a:pt x="53" y="975"/>
                  </a:lnTo>
                  <a:cubicBezTo>
                    <a:pt x="53" y="989"/>
                    <a:pt x="42" y="1000"/>
                    <a:pt x="28" y="1000"/>
                  </a:cubicBezTo>
                  <a:cubicBezTo>
                    <a:pt x="14" y="1000"/>
                    <a:pt x="3" y="989"/>
                    <a:pt x="3" y="975"/>
                  </a:cubicBezTo>
                  <a:close/>
                  <a:moveTo>
                    <a:pt x="3" y="775"/>
                  </a:moveTo>
                  <a:lnTo>
                    <a:pt x="3" y="775"/>
                  </a:lnTo>
                  <a:cubicBezTo>
                    <a:pt x="3" y="761"/>
                    <a:pt x="14" y="750"/>
                    <a:pt x="28" y="750"/>
                  </a:cubicBezTo>
                  <a:cubicBezTo>
                    <a:pt x="42" y="750"/>
                    <a:pt x="53" y="761"/>
                    <a:pt x="53" y="775"/>
                  </a:cubicBezTo>
                  <a:lnTo>
                    <a:pt x="53" y="775"/>
                  </a:lnTo>
                  <a:cubicBezTo>
                    <a:pt x="53" y="789"/>
                    <a:pt x="42" y="800"/>
                    <a:pt x="28" y="800"/>
                  </a:cubicBezTo>
                  <a:cubicBezTo>
                    <a:pt x="14" y="800"/>
                    <a:pt x="3" y="789"/>
                    <a:pt x="3" y="775"/>
                  </a:cubicBezTo>
                  <a:close/>
                  <a:moveTo>
                    <a:pt x="3" y="575"/>
                  </a:moveTo>
                  <a:lnTo>
                    <a:pt x="4" y="225"/>
                  </a:lnTo>
                  <a:cubicBezTo>
                    <a:pt x="4" y="211"/>
                    <a:pt x="15" y="200"/>
                    <a:pt x="29" y="200"/>
                  </a:cubicBezTo>
                  <a:cubicBezTo>
                    <a:pt x="42" y="200"/>
                    <a:pt x="54" y="211"/>
                    <a:pt x="54" y="225"/>
                  </a:cubicBezTo>
                  <a:lnTo>
                    <a:pt x="53" y="575"/>
                  </a:lnTo>
                  <a:cubicBezTo>
                    <a:pt x="53" y="589"/>
                    <a:pt x="42" y="600"/>
                    <a:pt x="28" y="600"/>
                  </a:cubicBezTo>
                  <a:cubicBezTo>
                    <a:pt x="15" y="600"/>
                    <a:pt x="3" y="589"/>
                    <a:pt x="3" y="575"/>
                  </a:cubicBezTo>
                  <a:close/>
                  <a:moveTo>
                    <a:pt x="4" y="25"/>
                  </a:moveTo>
                  <a:lnTo>
                    <a:pt x="4" y="25"/>
                  </a:lnTo>
                  <a:cubicBezTo>
                    <a:pt x="4" y="11"/>
                    <a:pt x="15" y="0"/>
                    <a:pt x="29" y="0"/>
                  </a:cubicBezTo>
                  <a:cubicBezTo>
                    <a:pt x="43" y="0"/>
                    <a:pt x="54" y="11"/>
                    <a:pt x="54" y="25"/>
                  </a:cubicBezTo>
                  <a:lnTo>
                    <a:pt x="54" y="25"/>
                  </a:lnTo>
                  <a:cubicBezTo>
                    <a:pt x="54" y="39"/>
                    <a:pt x="43" y="50"/>
                    <a:pt x="29" y="50"/>
                  </a:cubicBezTo>
                  <a:cubicBezTo>
                    <a:pt x="15" y="50"/>
                    <a:pt x="4" y="39"/>
                    <a:pt x="4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2"/>
            <p:cNvSpPr/>
            <p:nvPr/>
          </p:nvSpPr>
          <p:spPr>
            <a:xfrm>
              <a:off x="7534440" y="3521520"/>
              <a:ext cx="177480" cy="16668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800" y="27"/>
                  </a:moveTo>
                  <a:lnTo>
                    <a:pt x="796" y="99"/>
                  </a:lnTo>
                  <a:lnTo>
                    <a:pt x="785" y="171"/>
                  </a:lnTo>
                  <a:lnTo>
                    <a:pt x="766" y="241"/>
                  </a:lnTo>
                  <a:lnTo>
                    <a:pt x="740" y="308"/>
                  </a:lnTo>
                  <a:lnTo>
                    <a:pt x="707" y="371"/>
                  </a:lnTo>
                  <a:lnTo>
                    <a:pt x="706" y="374"/>
                  </a:lnTo>
                  <a:cubicBezTo>
                    <a:pt x="698" y="385"/>
                    <a:pt x="683" y="388"/>
                    <a:pt x="671" y="381"/>
                  </a:cubicBezTo>
                  <a:cubicBezTo>
                    <a:pt x="659" y="373"/>
                    <a:pt x="656" y="358"/>
                    <a:pt x="664" y="346"/>
                  </a:cubicBezTo>
                  <a:lnTo>
                    <a:pt x="663" y="348"/>
                  </a:lnTo>
                  <a:lnTo>
                    <a:pt x="663" y="348"/>
                  </a:lnTo>
                  <a:lnTo>
                    <a:pt x="693" y="289"/>
                  </a:lnTo>
                  <a:lnTo>
                    <a:pt x="718" y="227"/>
                  </a:lnTo>
                  <a:lnTo>
                    <a:pt x="736" y="163"/>
                  </a:lnTo>
                  <a:lnTo>
                    <a:pt x="747" y="96"/>
                  </a:lnTo>
                  <a:lnTo>
                    <a:pt x="751" y="25"/>
                  </a:lnTo>
                  <a:cubicBezTo>
                    <a:pt x="751" y="11"/>
                    <a:pt x="763" y="0"/>
                    <a:pt x="777" y="1"/>
                  </a:cubicBezTo>
                  <a:cubicBezTo>
                    <a:pt x="791" y="2"/>
                    <a:pt x="801" y="14"/>
                    <a:pt x="800" y="27"/>
                  </a:cubicBezTo>
                  <a:close/>
                  <a:moveTo>
                    <a:pt x="578" y="534"/>
                  </a:moveTo>
                  <a:lnTo>
                    <a:pt x="578" y="534"/>
                  </a:lnTo>
                  <a:cubicBezTo>
                    <a:pt x="569" y="544"/>
                    <a:pt x="553" y="544"/>
                    <a:pt x="543" y="534"/>
                  </a:cubicBezTo>
                  <a:cubicBezTo>
                    <a:pt x="533" y="524"/>
                    <a:pt x="533" y="508"/>
                    <a:pt x="543" y="498"/>
                  </a:cubicBezTo>
                  <a:lnTo>
                    <a:pt x="543" y="498"/>
                  </a:lnTo>
                  <a:cubicBezTo>
                    <a:pt x="553" y="489"/>
                    <a:pt x="569" y="489"/>
                    <a:pt x="578" y="498"/>
                  </a:cubicBezTo>
                  <a:cubicBezTo>
                    <a:pt x="588" y="508"/>
                    <a:pt x="588" y="524"/>
                    <a:pt x="578" y="534"/>
                  </a:cubicBezTo>
                  <a:close/>
                  <a:moveTo>
                    <a:pt x="411" y="654"/>
                  </a:moveTo>
                  <a:lnTo>
                    <a:pt x="411" y="654"/>
                  </a:lnTo>
                  <a:cubicBezTo>
                    <a:pt x="399" y="661"/>
                    <a:pt x="383" y="657"/>
                    <a:pt x="377" y="644"/>
                  </a:cubicBezTo>
                  <a:cubicBezTo>
                    <a:pt x="370" y="632"/>
                    <a:pt x="375" y="617"/>
                    <a:pt x="387" y="611"/>
                  </a:cubicBezTo>
                  <a:lnTo>
                    <a:pt x="387" y="611"/>
                  </a:lnTo>
                  <a:cubicBezTo>
                    <a:pt x="399" y="604"/>
                    <a:pt x="414" y="608"/>
                    <a:pt x="421" y="621"/>
                  </a:cubicBezTo>
                  <a:cubicBezTo>
                    <a:pt x="427" y="633"/>
                    <a:pt x="423" y="648"/>
                    <a:pt x="411" y="654"/>
                  </a:cubicBezTo>
                  <a:close/>
                  <a:moveTo>
                    <a:pt x="218" y="728"/>
                  </a:moveTo>
                  <a:lnTo>
                    <a:pt x="182" y="736"/>
                  </a:lnTo>
                  <a:lnTo>
                    <a:pt x="105" y="747"/>
                  </a:lnTo>
                  <a:lnTo>
                    <a:pt x="27" y="751"/>
                  </a:lnTo>
                  <a:cubicBezTo>
                    <a:pt x="13" y="752"/>
                    <a:pt x="1" y="741"/>
                    <a:pt x="0" y="727"/>
                  </a:cubicBezTo>
                  <a:cubicBezTo>
                    <a:pt x="0" y="713"/>
                    <a:pt x="11" y="702"/>
                    <a:pt x="24" y="701"/>
                  </a:cubicBezTo>
                  <a:lnTo>
                    <a:pt x="98" y="698"/>
                  </a:lnTo>
                  <a:lnTo>
                    <a:pt x="171" y="688"/>
                  </a:lnTo>
                  <a:lnTo>
                    <a:pt x="207" y="679"/>
                  </a:lnTo>
                  <a:cubicBezTo>
                    <a:pt x="220" y="676"/>
                    <a:pt x="233" y="684"/>
                    <a:pt x="237" y="697"/>
                  </a:cubicBezTo>
                  <a:cubicBezTo>
                    <a:pt x="240" y="711"/>
                    <a:pt x="232" y="724"/>
                    <a:pt x="218" y="7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3"/>
            <p:cNvSpPr/>
            <p:nvPr/>
          </p:nvSpPr>
          <p:spPr>
            <a:xfrm>
              <a:off x="7528320" y="2403720"/>
              <a:ext cx="177480" cy="166680"/>
            </a:xfrm>
            <a:custGeom>
              <a:avLst/>
              <a:gdLst/>
              <a:ahLst/>
              <a:rect l="l" t="t" r="r" b="b"/>
              <a:pathLst>
                <a:path w="802" h="751">
                  <a:moveTo>
                    <a:pt x="751" y="727"/>
                  </a:moveTo>
                  <a:lnTo>
                    <a:pt x="747" y="655"/>
                  </a:lnTo>
                  <a:lnTo>
                    <a:pt x="736" y="588"/>
                  </a:lnTo>
                  <a:lnTo>
                    <a:pt x="718" y="524"/>
                  </a:lnTo>
                  <a:lnTo>
                    <a:pt x="694" y="462"/>
                  </a:lnTo>
                  <a:lnTo>
                    <a:pt x="663" y="403"/>
                  </a:lnTo>
                  <a:lnTo>
                    <a:pt x="663" y="403"/>
                  </a:lnTo>
                  <a:lnTo>
                    <a:pt x="664" y="405"/>
                  </a:lnTo>
                  <a:cubicBezTo>
                    <a:pt x="657" y="394"/>
                    <a:pt x="660" y="378"/>
                    <a:pt x="672" y="371"/>
                  </a:cubicBezTo>
                  <a:cubicBezTo>
                    <a:pt x="683" y="363"/>
                    <a:pt x="699" y="366"/>
                    <a:pt x="706" y="378"/>
                  </a:cubicBezTo>
                  <a:lnTo>
                    <a:pt x="708" y="380"/>
                  </a:lnTo>
                  <a:lnTo>
                    <a:pt x="740" y="444"/>
                  </a:lnTo>
                  <a:lnTo>
                    <a:pt x="767" y="511"/>
                  </a:lnTo>
                  <a:lnTo>
                    <a:pt x="786" y="581"/>
                  </a:lnTo>
                  <a:lnTo>
                    <a:pt x="797" y="653"/>
                  </a:lnTo>
                  <a:lnTo>
                    <a:pt x="801" y="724"/>
                  </a:lnTo>
                  <a:cubicBezTo>
                    <a:pt x="802" y="738"/>
                    <a:pt x="791" y="750"/>
                    <a:pt x="777" y="750"/>
                  </a:cubicBezTo>
                  <a:cubicBezTo>
                    <a:pt x="764" y="751"/>
                    <a:pt x="752" y="741"/>
                    <a:pt x="751" y="727"/>
                  </a:cubicBezTo>
                  <a:close/>
                  <a:moveTo>
                    <a:pt x="543" y="253"/>
                  </a:moveTo>
                  <a:lnTo>
                    <a:pt x="543" y="253"/>
                  </a:lnTo>
                  <a:cubicBezTo>
                    <a:pt x="534" y="243"/>
                    <a:pt x="534" y="227"/>
                    <a:pt x="544" y="217"/>
                  </a:cubicBezTo>
                  <a:cubicBezTo>
                    <a:pt x="554" y="208"/>
                    <a:pt x="569" y="208"/>
                    <a:pt x="579" y="218"/>
                  </a:cubicBezTo>
                  <a:lnTo>
                    <a:pt x="579" y="218"/>
                  </a:lnTo>
                  <a:cubicBezTo>
                    <a:pt x="589" y="228"/>
                    <a:pt x="589" y="244"/>
                    <a:pt x="579" y="253"/>
                  </a:cubicBezTo>
                  <a:cubicBezTo>
                    <a:pt x="569" y="263"/>
                    <a:pt x="553" y="263"/>
                    <a:pt x="543" y="253"/>
                  </a:cubicBezTo>
                  <a:close/>
                  <a:moveTo>
                    <a:pt x="387" y="141"/>
                  </a:moveTo>
                  <a:lnTo>
                    <a:pt x="387" y="141"/>
                  </a:lnTo>
                  <a:cubicBezTo>
                    <a:pt x="375" y="134"/>
                    <a:pt x="371" y="119"/>
                    <a:pt x="377" y="107"/>
                  </a:cubicBezTo>
                  <a:cubicBezTo>
                    <a:pt x="384" y="95"/>
                    <a:pt x="399" y="90"/>
                    <a:pt x="411" y="97"/>
                  </a:cubicBezTo>
                  <a:lnTo>
                    <a:pt x="411" y="97"/>
                  </a:lnTo>
                  <a:cubicBezTo>
                    <a:pt x="424" y="104"/>
                    <a:pt x="428" y="119"/>
                    <a:pt x="421" y="131"/>
                  </a:cubicBezTo>
                  <a:cubicBezTo>
                    <a:pt x="415" y="143"/>
                    <a:pt x="399" y="147"/>
                    <a:pt x="387" y="141"/>
                  </a:cubicBezTo>
                  <a:close/>
                  <a:moveTo>
                    <a:pt x="207" y="73"/>
                  </a:moveTo>
                  <a:lnTo>
                    <a:pt x="171" y="64"/>
                  </a:lnTo>
                  <a:lnTo>
                    <a:pt x="99" y="54"/>
                  </a:lnTo>
                  <a:lnTo>
                    <a:pt x="25" y="50"/>
                  </a:lnTo>
                  <a:cubicBezTo>
                    <a:pt x="11" y="50"/>
                    <a:pt x="0" y="38"/>
                    <a:pt x="1" y="24"/>
                  </a:cubicBezTo>
                  <a:cubicBezTo>
                    <a:pt x="2" y="11"/>
                    <a:pt x="13" y="0"/>
                    <a:pt x="27" y="0"/>
                  </a:cubicBezTo>
                  <a:lnTo>
                    <a:pt x="106" y="4"/>
                  </a:lnTo>
                  <a:lnTo>
                    <a:pt x="183" y="15"/>
                  </a:lnTo>
                  <a:lnTo>
                    <a:pt x="219" y="24"/>
                  </a:lnTo>
                  <a:cubicBezTo>
                    <a:pt x="232" y="27"/>
                    <a:pt x="240" y="41"/>
                    <a:pt x="237" y="54"/>
                  </a:cubicBezTo>
                  <a:cubicBezTo>
                    <a:pt x="234" y="68"/>
                    <a:pt x="220" y="76"/>
                    <a:pt x="207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4"/>
            <p:cNvSpPr/>
            <p:nvPr/>
          </p:nvSpPr>
          <p:spPr>
            <a:xfrm>
              <a:off x="6444720" y="2063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5"/>
            <p:cNvSpPr/>
            <p:nvPr/>
          </p:nvSpPr>
          <p:spPr>
            <a:xfrm>
              <a:off x="6530400" y="206352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ic bra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6"/>
            <p:cNvSpPr/>
            <p:nvPr/>
          </p:nvSpPr>
          <p:spPr>
            <a:xfrm>
              <a:off x="7328880" y="206352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7"/>
            <p:cNvSpPr/>
            <p:nvPr/>
          </p:nvSpPr>
          <p:spPr>
            <a:xfrm>
              <a:off x="7848720" y="2063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8"/>
            <p:cNvSpPr/>
            <p:nvPr/>
          </p:nvSpPr>
          <p:spPr>
            <a:xfrm>
              <a:off x="3271320" y="945720"/>
              <a:ext cx="86400" cy="183960"/>
            </a:xfrm>
            <a:custGeom>
              <a:avLst/>
              <a:gdLst/>
              <a:ahLst/>
              <a:rect l="l" t="t" r="r" b="b"/>
              <a:pathLst>
                <a:path w="769" h="1654">
                  <a:moveTo>
                    <a:pt x="247" y="1123"/>
                  </a:moveTo>
                  <a:lnTo>
                    <a:pt x="553" y="56"/>
                  </a:lnTo>
                  <a:cubicBezTo>
                    <a:pt x="563" y="21"/>
                    <a:pt x="600" y="0"/>
                    <a:pt x="636" y="10"/>
                  </a:cubicBezTo>
                  <a:cubicBezTo>
                    <a:pt x="671" y="21"/>
                    <a:pt x="691" y="57"/>
                    <a:pt x="681" y="93"/>
                  </a:cubicBezTo>
                  <a:lnTo>
                    <a:pt x="375" y="1160"/>
                  </a:lnTo>
                  <a:cubicBezTo>
                    <a:pt x="365" y="1196"/>
                    <a:pt x="328" y="1216"/>
                    <a:pt x="293" y="1206"/>
                  </a:cubicBezTo>
                  <a:cubicBezTo>
                    <a:pt x="257" y="1196"/>
                    <a:pt x="237" y="1159"/>
                    <a:pt x="247" y="1123"/>
                  </a:cubicBezTo>
                  <a:close/>
                  <a:moveTo>
                    <a:pt x="311" y="1142"/>
                  </a:moveTo>
                  <a:lnTo>
                    <a:pt x="769" y="996"/>
                  </a:lnTo>
                  <a:lnTo>
                    <a:pt x="164" y="1654"/>
                  </a:lnTo>
                  <a:lnTo>
                    <a:pt x="0" y="775"/>
                  </a:lnTo>
                  <a:lnTo>
                    <a:pt x="311" y="11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9"/>
            <p:cNvSpPr/>
            <p:nvPr/>
          </p:nvSpPr>
          <p:spPr>
            <a:xfrm>
              <a:off x="6705720" y="2247480"/>
              <a:ext cx="88200" cy="162000"/>
            </a:xfrm>
            <a:custGeom>
              <a:avLst/>
              <a:gdLst/>
              <a:ahLst/>
              <a:rect l="l" t="t" r="r" b="b"/>
              <a:pathLst>
                <a:path w="394" h="729">
                  <a:moveTo>
                    <a:pt x="141" y="461"/>
                  </a:moveTo>
                  <a:lnTo>
                    <a:pt x="217" y="30"/>
                  </a:lnTo>
                  <a:cubicBezTo>
                    <a:pt x="221" y="12"/>
                    <a:pt x="238" y="0"/>
                    <a:pt x="256" y="3"/>
                  </a:cubicBezTo>
                  <a:cubicBezTo>
                    <a:pt x="274" y="6"/>
                    <a:pt x="286" y="24"/>
                    <a:pt x="283" y="42"/>
                  </a:cubicBezTo>
                  <a:lnTo>
                    <a:pt x="206" y="472"/>
                  </a:lnTo>
                  <a:cubicBezTo>
                    <a:pt x="203" y="491"/>
                    <a:pt x="186" y="503"/>
                    <a:pt x="168" y="499"/>
                  </a:cubicBezTo>
                  <a:cubicBezTo>
                    <a:pt x="150" y="496"/>
                    <a:pt x="137" y="479"/>
                    <a:pt x="141" y="461"/>
                  </a:cubicBezTo>
                  <a:close/>
                  <a:moveTo>
                    <a:pt x="174" y="467"/>
                  </a:moveTo>
                  <a:lnTo>
                    <a:pt x="394" y="370"/>
                  </a:lnTo>
                  <a:lnTo>
                    <a:pt x="127" y="729"/>
                  </a:lnTo>
                  <a:lnTo>
                    <a:pt x="0" y="300"/>
                  </a:lnTo>
                  <a:lnTo>
                    <a:pt x="174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0"/>
            <p:cNvSpPr/>
            <p:nvPr/>
          </p:nvSpPr>
          <p:spPr>
            <a:xfrm>
              <a:off x="2997720" y="2406600"/>
              <a:ext cx="177480" cy="16704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502" y="1454"/>
                  </a:moveTo>
                  <a:lnTo>
                    <a:pt x="1494" y="1311"/>
                  </a:lnTo>
                  <a:lnTo>
                    <a:pt x="1472" y="1177"/>
                  </a:lnTo>
                  <a:lnTo>
                    <a:pt x="1436" y="1049"/>
                  </a:lnTo>
                  <a:lnTo>
                    <a:pt x="1387" y="925"/>
                  </a:lnTo>
                  <a:lnTo>
                    <a:pt x="1326" y="807"/>
                  </a:lnTo>
                  <a:lnTo>
                    <a:pt x="1326" y="807"/>
                  </a:lnTo>
                  <a:lnTo>
                    <a:pt x="1328" y="811"/>
                  </a:lnTo>
                  <a:cubicBezTo>
                    <a:pt x="1313" y="788"/>
                    <a:pt x="1320" y="757"/>
                    <a:pt x="1343" y="742"/>
                  </a:cubicBezTo>
                  <a:cubicBezTo>
                    <a:pt x="1366" y="727"/>
                    <a:pt x="1397" y="733"/>
                    <a:pt x="1412" y="756"/>
                  </a:cubicBezTo>
                  <a:lnTo>
                    <a:pt x="1415" y="762"/>
                  </a:lnTo>
                  <a:lnTo>
                    <a:pt x="1480" y="888"/>
                  </a:lnTo>
                  <a:lnTo>
                    <a:pt x="1533" y="1022"/>
                  </a:lnTo>
                  <a:lnTo>
                    <a:pt x="1571" y="1162"/>
                  </a:lnTo>
                  <a:lnTo>
                    <a:pt x="1593" y="1306"/>
                  </a:lnTo>
                  <a:lnTo>
                    <a:pt x="1601" y="1449"/>
                  </a:lnTo>
                  <a:cubicBezTo>
                    <a:pt x="1603" y="1476"/>
                    <a:pt x="1582" y="1500"/>
                    <a:pt x="1554" y="1501"/>
                  </a:cubicBezTo>
                  <a:cubicBezTo>
                    <a:pt x="1527" y="1503"/>
                    <a:pt x="1503" y="1482"/>
                    <a:pt x="1502" y="1454"/>
                  </a:cubicBezTo>
                  <a:close/>
                  <a:moveTo>
                    <a:pt x="1086" y="506"/>
                  </a:moveTo>
                  <a:lnTo>
                    <a:pt x="1086" y="506"/>
                  </a:lnTo>
                  <a:cubicBezTo>
                    <a:pt x="1067" y="486"/>
                    <a:pt x="1067" y="455"/>
                    <a:pt x="1087" y="435"/>
                  </a:cubicBezTo>
                  <a:cubicBezTo>
                    <a:pt x="1107" y="416"/>
                    <a:pt x="1139" y="417"/>
                    <a:pt x="1158" y="436"/>
                  </a:cubicBezTo>
                  <a:lnTo>
                    <a:pt x="1158" y="436"/>
                  </a:lnTo>
                  <a:cubicBezTo>
                    <a:pt x="1177" y="456"/>
                    <a:pt x="1177" y="488"/>
                    <a:pt x="1157" y="507"/>
                  </a:cubicBezTo>
                  <a:cubicBezTo>
                    <a:pt x="1137" y="526"/>
                    <a:pt x="1105" y="526"/>
                    <a:pt x="1086" y="506"/>
                  </a:cubicBezTo>
                  <a:close/>
                  <a:moveTo>
                    <a:pt x="774" y="282"/>
                  </a:moveTo>
                  <a:lnTo>
                    <a:pt x="774" y="282"/>
                  </a:lnTo>
                  <a:cubicBezTo>
                    <a:pt x="749" y="268"/>
                    <a:pt x="741" y="238"/>
                    <a:pt x="755" y="214"/>
                  </a:cubicBezTo>
                  <a:cubicBezTo>
                    <a:pt x="768" y="190"/>
                    <a:pt x="799" y="181"/>
                    <a:pt x="823" y="195"/>
                  </a:cubicBezTo>
                  <a:lnTo>
                    <a:pt x="823" y="195"/>
                  </a:lnTo>
                  <a:cubicBezTo>
                    <a:pt x="847" y="209"/>
                    <a:pt x="855" y="239"/>
                    <a:pt x="842" y="263"/>
                  </a:cubicBezTo>
                  <a:cubicBezTo>
                    <a:pt x="828" y="287"/>
                    <a:pt x="798" y="296"/>
                    <a:pt x="774" y="282"/>
                  </a:cubicBezTo>
                  <a:close/>
                  <a:moveTo>
                    <a:pt x="414" y="146"/>
                  </a:moveTo>
                  <a:lnTo>
                    <a:pt x="342" y="128"/>
                  </a:lnTo>
                  <a:lnTo>
                    <a:pt x="197" y="108"/>
                  </a:lnTo>
                  <a:lnTo>
                    <a:pt x="49" y="101"/>
                  </a:lnTo>
                  <a:cubicBezTo>
                    <a:pt x="22" y="100"/>
                    <a:pt x="0" y="77"/>
                    <a:pt x="2" y="49"/>
                  </a:cubicBezTo>
                  <a:cubicBezTo>
                    <a:pt x="3" y="22"/>
                    <a:pt x="26" y="0"/>
                    <a:pt x="54" y="2"/>
                  </a:cubicBezTo>
                  <a:lnTo>
                    <a:pt x="211" y="9"/>
                  </a:lnTo>
                  <a:lnTo>
                    <a:pt x="365" y="31"/>
                  </a:lnTo>
                  <a:lnTo>
                    <a:pt x="437" y="48"/>
                  </a:lnTo>
                  <a:cubicBezTo>
                    <a:pt x="464" y="55"/>
                    <a:pt x="481" y="82"/>
                    <a:pt x="474" y="109"/>
                  </a:cubicBezTo>
                  <a:cubicBezTo>
                    <a:pt x="467" y="136"/>
                    <a:pt x="440" y="152"/>
                    <a:pt x="414" y="1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21"/>
            <p:cNvSpPr/>
            <p:nvPr/>
          </p:nvSpPr>
          <p:spPr>
            <a:xfrm>
              <a:off x="3164760" y="2562840"/>
              <a:ext cx="177480" cy="168120"/>
            </a:xfrm>
            <a:custGeom>
              <a:avLst/>
              <a:gdLst/>
              <a:ahLst/>
              <a:rect l="l" t="t" r="r" b="b"/>
              <a:pathLst>
                <a:path w="1603" h="1503">
                  <a:moveTo>
                    <a:pt x="101" y="49"/>
                  </a:moveTo>
                  <a:lnTo>
                    <a:pt x="109" y="192"/>
                  </a:lnTo>
                  <a:lnTo>
                    <a:pt x="131" y="326"/>
                  </a:lnTo>
                  <a:lnTo>
                    <a:pt x="167" y="454"/>
                  </a:lnTo>
                  <a:lnTo>
                    <a:pt x="216" y="578"/>
                  </a:lnTo>
                  <a:lnTo>
                    <a:pt x="277" y="696"/>
                  </a:lnTo>
                  <a:lnTo>
                    <a:pt x="277" y="696"/>
                  </a:lnTo>
                  <a:lnTo>
                    <a:pt x="275" y="692"/>
                  </a:lnTo>
                  <a:cubicBezTo>
                    <a:pt x="290" y="715"/>
                    <a:pt x="283" y="746"/>
                    <a:pt x="260" y="761"/>
                  </a:cubicBezTo>
                  <a:cubicBezTo>
                    <a:pt x="237" y="776"/>
                    <a:pt x="206" y="770"/>
                    <a:pt x="191" y="746"/>
                  </a:cubicBezTo>
                  <a:lnTo>
                    <a:pt x="188" y="741"/>
                  </a:lnTo>
                  <a:lnTo>
                    <a:pt x="123" y="615"/>
                  </a:lnTo>
                  <a:lnTo>
                    <a:pt x="70" y="481"/>
                  </a:lnTo>
                  <a:lnTo>
                    <a:pt x="32" y="341"/>
                  </a:lnTo>
                  <a:lnTo>
                    <a:pt x="10" y="197"/>
                  </a:lnTo>
                  <a:lnTo>
                    <a:pt x="2" y="54"/>
                  </a:lnTo>
                  <a:cubicBezTo>
                    <a:pt x="0" y="27"/>
                    <a:pt x="21" y="3"/>
                    <a:pt x="49" y="2"/>
                  </a:cubicBezTo>
                  <a:cubicBezTo>
                    <a:pt x="76" y="0"/>
                    <a:pt x="100" y="21"/>
                    <a:pt x="101" y="49"/>
                  </a:cubicBezTo>
                  <a:close/>
                  <a:moveTo>
                    <a:pt x="517" y="996"/>
                  </a:moveTo>
                  <a:lnTo>
                    <a:pt x="517" y="996"/>
                  </a:lnTo>
                  <a:cubicBezTo>
                    <a:pt x="537" y="1016"/>
                    <a:pt x="536" y="1047"/>
                    <a:pt x="517" y="1067"/>
                  </a:cubicBezTo>
                  <a:cubicBezTo>
                    <a:pt x="497" y="1086"/>
                    <a:pt x="465" y="1086"/>
                    <a:pt x="446" y="1066"/>
                  </a:cubicBezTo>
                  <a:lnTo>
                    <a:pt x="446" y="1066"/>
                  </a:lnTo>
                  <a:cubicBezTo>
                    <a:pt x="426" y="1047"/>
                    <a:pt x="427" y="1015"/>
                    <a:pt x="446" y="996"/>
                  </a:cubicBezTo>
                  <a:cubicBezTo>
                    <a:pt x="466" y="976"/>
                    <a:pt x="498" y="976"/>
                    <a:pt x="517" y="996"/>
                  </a:cubicBezTo>
                  <a:close/>
                  <a:moveTo>
                    <a:pt x="830" y="1221"/>
                  </a:moveTo>
                  <a:lnTo>
                    <a:pt x="830" y="1221"/>
                  </a:lnTo>
                  <a:cubicBezTo>
                    <a:pt x="854" y="1235"/>
                    <a:pt x="862" y="1265"/>
                    <a:pt x="848" y="1289"/>
                  </a:cubicBezTo>
                  <a:cubicBezTo>
                    <a:pt x="835" y="1313"/>
                    <a:pt x="804" y="1322"/>
                    <a:pt x="780" y="1308"/>
                  </a:cubicBezTo>
                  <a:lnTo>
                    <a:pt x="780" y="1308"/>
                  </a:lnTo>
                  <a:cubicBezTo>
                    <a:pt x="756" y="1294"/>
                    <a:pt x="748" y="1264"/>
                    <a:pt x="761" y="1240"/>
                  </a:cubicBezTo>
                  <a:cubicBezTo>
                    <a:pt x="775" y="1216"/>
                    <a:pt x="806" y="1207"/>
                    <a:pt x="830" y="1221"/>
                  </a:cubicBezTo>
                  <a:close/>
                  <a:moveTo>
                    <a:pt x="1190" y="1357"/>
                  </a:moveTo>
                  <a:lnTo>
                    <a:pt x="1261" y="1375"/>
                  </a:lnTo>
                  <a:lnTo>
                    <a:pt x="1405" y="1395"/>
                  </a:lnTo>
                  <a:lnTo>
                    <a:pt x="1554" y="1402"/>
                  </a:lnTo>
                  <a:cubicBezTo>
                    <a:pt x="1581" y="1403"/>
                    <a:pt x="1603" y="1426"/>
                    <a:pt x="1601" y="1454"/>
                  </a:cubicBezTo>
                  <a:cubicBezTo>
                    <a:pt x="1600" y="1481"/>
                    <a:pt x="1577" y="1503"/>
                    <a:pt x="1549" y="1501"/>
                  </a:cubicBezTo>
                  <a:lnTo>
                    <a:pt x="1391" y="1494"/>
                  </a:lnTo>
                  <a:lnTo>
                    <a:pt x="1238" y="1472"/>
                  </a:lnTo>
                  <a:lnTo>
                    <a:pt x="1166" y="1455"/>
                  </a:lnTo>
                  <a:cubicBezTo>
                    <a:pt x="1139" y="1448"/>
                    <a:pt x="1123" y="1421"/>
                    <a:pt x="1129" y="1394"/>
                  </a:cubicBezTo>
                  <a:cubicBezTo>
                    <a:pt x="1136" y="1367"/>
                    <a:pt x="1163" y="1351"/>
                    <a:pt x="1190" y="13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2"/>
            <p:cNvSpPr/>
            <p:nvPr/>
          </p:nvSpPr>
          <p:spPr>
            <a:xfrm>
              <a:off x="3344040" y="2719080"/>
              <a:ext cx="2774520" cy="12240"/>
            </a:xfrm>
            <a:custGeom>
              <a:avLst/>
              <a:gdLst/>
              <a:ahLst/>
              <a:rect l="l" t="t" r="r" b="b"/>
              <a:pathLst>
                <a:path w="12460" h="50">
                  <a:moveTo>
                    <a:pt x="25" y="0"/>
                  </a:moveTo>
                  <a:lnTo>
                    <a:pt x="375" y="0"/>
                  </a:lnTo>
                  <a:cubicBezTo>
                    <a:pt x="389" y="0"/>
                    <a:pt x="400" y="11"/>
                    <a:pt x="400" y="25"/>
                  </a:cubicBezTo>
                  <a:cubicBezTo>
                    <a:pt x="400" y="39"/>
                    <a:pt x="389" y="50"/>
                    <a:pt x="375" y="50"/>
                  </a:cubicBezTo>
                  <a:lnTo>
                    <a:pt x="25" y="50"/>
                  </a:lnTo>
                  <a:cubicBezTo>
                    <a:pt x="11" y="50"/>
                    <a:pt x="0" y="39"/>
                    <a:pt x="0" y="25"/>
                  </a:cubicBezTo>
                  <a:cubicBezTo>
                    <a:pt x="0" y="11"/>
                    <a:pt x="11" y="0"/>
                    <a:pt x="25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9" y="0"/>
                    <a:pt x="600" y="11"/>
                    <a:pt x="600" y="25"/>
                  </a:cubicBezTo>
                  <a:cubicBezTo>
                    <a:pt x="600" y="39"/>
                    <a:pt x="589" y="50"/>
                    <a:pt x="575" y="50"/>
                  </a:cubicBezTo>
                  <a:lnTo>
                    <a:pt x="575" y="50"/>
                  </a:lnTo>
                  <a:cubicBezTo>
                    <a:pt x="561" y="50"/>
                    <a:pt x="550" y="39"/>
                    <a:pt x="550" y="25"/>
                  </a:cubicBezTo>
                  <a:cubicBezTo>
                    <a:pt x="550" y="11"/>
                    <a:pt x="561" y="0"/>
                    <a:pt x="575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9" y="0"/>
                    <a:pt x="800" y="11"/>
                    <a:pt x="800" y="25"/>
                  </a:cubicBezTo>
                  <a:cubicBezTo>
                    <a:pt x="800" y="39"/>
                    <a:pt x="789" y="50"/>
                    <a:pt x="775" y="50"/>
                  </a:cubicBezTo>
                  <a:lnTo>
                    <a:pt x="775" y="50"/>
                  </a:lnTo>
                  <a:cubicBezTo>
                    <a:pt x="761" y="50"/>
                    <a:pt x="750" y="39"/>
                    <a:pt x="750" y="25"/>
                  </a:cubicBezTo>
                  <a:cubicBezTo>
                    <a:pt x="750" y="11"/>
                    <a:pt x="761" y="0"/>
                    <a:pt x="775" y="0"/>
                  </a:cubicBezTo>
                  <a:close/>
                  <a:moveTo>
                    <a:pt x="975" y="0"/>
                  </a:moveTo>
                  <a:lnTo>
                    <a:pt x="1325" y="0"/>
                  </a:lnTo>
                  <a:cubicBezTo>
                    <a:pt x="1339" y="0"/>
                    <a:pt x="1350" y="11"/>
                    <a:pt x="1350" y="25"/>
                  </a:cubicBezTo>
                  <a:cubicBezTo>
                    <a:pt x="1350" y="39"/>
                    <a:pt x="1339" y="50"/>
                    <a:pt x="1325" y="50"/>
                  </a:cubicBezTo>
                  <a:lnTo>
                    <a:pt x="975" y="50"/>
                  </a:lnTo>
                  <a:cubicBezTo>
                    <a:pt x="961" y="50"/>
                    <a:pt x="950" y="39"/>
                    <a:pt x="950" y="25"/>
                  </a:cubicBezTo>
                  <a:cubicBezTo>
                    <a:pt x="950" y="11"/>
                    <a:pt x="961" y="0"/>
                    <a:pt x="975" y="0"/>
                  </a:cubicBezTo>
                  <a:close/>
                  <a:moveTo>
                    <a:pt x="1525" y="0"/>
                  </a:moveTo>
                  <a:lnTo>
                    <a:pt x="1525" y="0"/>
                  </a:lnTo>
                  <a:cubicBezTo>
                    <a:pt x="1539" y="0"/>
                    <a:pt x="1550" y="11"/>
                    <a:pt x="1550" y="25"/>
                  </a:cubicBezTo>
                  <a:cubicBezTo>
                    <a:pt x="1550" y="39"/>
                    <a:pt x="1539" y="50"/>
                    <a:pt x="1525" y="50"/>
                  </a:cubicBezTo>
                  <a:lnTo>
                    <a:pt x="1525" y="50"/>
                  </a:lnTo>
                  <a:cubicBezTo>
                    <a:pt x="1511" y="50"/>
                    <a:pt x="1500" y="39"/>
                    <a:pt x="1500" y="25"/>
                  </a:cubicBezTo>
                  <a:cubicBezTo>
                    <a:pt x="1500" y="11"/>
                    <a:pt x="1511" y="0"/>
                    <a:pt x="1525" y="0"/>
                  </a:cubicBezTo>
                  <a:close/>
                  <a:moveTo>
                    <a:pt x="1725" y="0"/>
                  </a:moveTo>
                  <a:lnTo>
                    <a:pt x="1725" y="0"/>
                  </a:lnTo>
                  <a:cubicBezTo>
                    <a:pt x="1739" y="0"/>
                    <a:pt x="1750" y="11"/>
                    <a:pt x="1750" y="25"/>
                  </a:cubicBezTo>
                  <a:cubicBezTo>
                    <a:pt x="1750" y="39"/>
                    <a:pt x="1739" y="50"/>
                    <a:pt x="1725" y="50"/>
                  </a:cubicBezTo>
                  <a:lnTo>
                    <a:pt x="1725" y="50"/>
                  </a:lnTo>
                  <a:cubicBezTo>
                    <a:pt x="1711" y="50"/>
                    <a:pt x="1700" y="39"/>
                    <a:pt x="1700" y="25"/>
                  </a:cubicBezTo>
                  <a:cubicBezTo>
                    <a:pt x="1700" y="11"/>
                    <a:pt x="1711" y="0"/>
                    <a:pt x="1725" y="0"/>
                  </a:cubicBezTo>
                  <a:close/>
                  <a:moveTo>
                    <a:pt x="1925" y="0"/>
                  </a:moveTo>
                  <a:lnTo>
                    <a:pt x="2275" y="0"/>
                  </a:lnTo>
                  <a:cubicBezTo>
                    <a:pt x="2289" y="0"/>
                    <a:pt x="2300" y="11"/>
                    <a:pt x="2300" y="25"/>
                  </a:cubicBezTo>
                  <a:cubicBezTo>
                    <a:pt x="2300" y="39"/>
                    <a:pt x="2289" y="50"/>
                    <a:pt x="2275" y="50"/>
                  </a:cubicBezTo>
                  <a:lnTo>
                    <a:pt x="1925" y="50"/>
                  </a:lnTo>
                  <a:cubicBezTo>
                    <a:pt x="1911" y="50"/>
                    <a:pt x="1900" y="39"/>
                    <a:pt x="1900" y="25"/>
                  </a:cubicBezTo>
                  <a:cubicBezTo>
                    <a:pt x="1900" y="11"/>
                    <a:pt x="1911" y="0"/>
                    <a:pt x="1925" y="0"/>
                  </a:cubicBezTo>
                  <a:close/>
                  <a:moveTo>
                    <a:pt x="2475" y="0"/>
                  </a:moveTo>
                  <a:lnTo>
                    <a:pt x="2475" y="0"/>
                  </a:lnTo>
                  <a:cubicBezTo>
                    <a:pt x="2489" y="0"/>
                    <a:pt x="2500" y="11"/>
                    <a:pt x="2500" y="25"/>
                  </a:cubicBezTo>
                  <a:cubicBezTo>
                    <a:pt x="2500" y="39"/>
                    <a:pt x="2489" y="50"/>
                    <a:pt x="2475" y="50"/>
                  </a:cubicBezTo>
                  <a:lnTo>
                    <a:pt x="2475" y="50"/>
                  </a:lnTo>
                  <a:cubicBezTo>
                    <a:pt x="2461" y="50"/>
                    <a:pt x="2450" y="39"/>
                    <a:pt x="2450" y="25"/>
                  </a:cubicBezTo>
                  <a:cubicBezTo>
                    <a:pt x="2450" y="11"/>
                    <a:pt x="2461" y="0"/>
                    <a:pt x="2475" y="0"/>
                  </a:cubicBezTo>
                  <a:close/>
                  <a:moveTo>
                    <a:pt x="2675" y="0"/>
                  </a:moveTo>
                  <a:lnTo>
                    <a:pt x="2675" y="0"/>
                  </a:lnTo>
                  <a:cubicBezTo>
                    <a:pt x="2689" y="0"/>
                    <a:pt x="2700" y="11"/>
                    <a:pt x="2700" y="25"/>
                  </a:cubicBezTo>
                  <a:cubicBezTo>
                    <a:pt x="2700" y="39"/>
                    <a:pt x="2689" y="50"/>
                    <a:pt x="2675" y="50"/>
                  </a:cubicBezTo>
                  <a:lnTo>
                    <a:pt x="2675" y="50"/>
                  </a:lnTo>
                  <a:cubicBezTo>
                    <a:pt x="2661" y="50"/>
                    <a:pt x="2650" y="39"/>
                    <a:pt x="2650" y="25"/>
                  </a:cubicBezTo>
                  <a:cubicBezTo>
                    <a:pt x="2650" y="11"/>
                    <a:pt x="2661" y="0"/>
                    <a:pt x="2675" y="0"/>
                  </a:cubicBezTo>
                  <a:close/>
                  <a:moveTo>
                    <a:pt x="2875" y="0"/>
                  </a:moveTo>
                  <a:lnTo>
                    <a:pt x="3225" y="0"/>
                  </a:lnTo>
                  <a:cubicBezTo>
                    <a:pt x="3239" y="0"/>
                    <a:pt x="3250" y="11"/>
                    <a:pt x="3250" y="25"/>
                  </a:cubicBezTo>
                  <a:cubicBezTo>
                    <a:pt x="3250" y="39"/>
                    <a:pt x="3239" y="50"/>
                    <a:pt x="3225" y="50"/>
                  </a:cubicBezTo>
                  <a:lnTo>
                    <a:pt x="2875" y="50"/>
                  </a:lnTo>
                  <a:cubicBezTo>
                    <a:pt x="2861" y="50"/>
                    <a:pt x="2850" y="39"/>
                    <a:pt x="2850" y="25"/>
                  </a:cubicBezTo>
                  <a:cubicBezTo>
                    <a:pt x="2850" y="11"/>
                    <a:pt x="2861" y="0"/>
                    <a:pt x="2875" y="0"/>
                  </a:cubicBezTo>
                  <a:close/>
                  <a:moveTo>
                    <a:pt x="3425" y="0"/>
                  </a:moveTo>
                  <a:lnTo>
                    <a:pt x="3425" y="0"/>
                  </a:lnTo>
                  <a:cubicBezTo>
                    <a:pt x="3439" y="0"/>
                    <a:pt x="3450" y="11"/>
                    <a:pt x="3450" y="25"/>
                  </a:cubicBezTo>
                  <a:cubicBezTo>
                    <a:pt x="3450" y="39"/>
                    <a:pt x="3439" y="50"/>
                    <a:pt x="3425" y="50"/>
                  </a:cubicBezTo>
                  <a:lnTo>
                    <a:pt x="3425" y="50"/>
                  </a:lnTo>
                  <a:cubicBezTo>
                    <a:pt x="3411" y="50"/>
                    <a:pt x="3400" y="39"/>
                    <a:pt x="3400" y="25"/>
                  </a:cubicBezTo>
                  <a:cubicBezTo>
                    <a:pt x="3400" y="11"/>
                    <a:pt x="3411" y="0"/>
                    <a:pt x="3425" y="0"/>
                  </a:cubicBezTo>
                  <a:close/>
                  <a:moveTo>
                    <a:pt x="3625" y="0"/>
                  </a:moveTo>
                  <a:lnTo>
                    <a:pt x="3625" y="0"/>
                  </a:lnTo>
                  <a:cubicBezTo>
                    <a:pt x="3639" y="0"/>
                    <a:pt x="3650" y="11"/>
                    <a:pt x="3650" y="25"/>
                  </a:cubicBezTo>
                  <a:cubicBezTo>
                    <a:pt x="3650" y="39"/>
                    <a:pt x="3639" y="50"/>
                    <a:pt x="3625" y="50"/>
                  </a:cubicBezTo>
                  <a:lnTo>
                    <a:pt x="3625" y="50"/>
                  </a:lnTo>
                  <a:cubicBezTo>
                    <a:pt x="3611" y="50"/>
                    <a:pt x="3600" y="39"/>
                    <a:pt x="3600" y="25"/>
                  </a:cubicBezTo>
                  <a:cubicBezTo>
                    <a:pt x="3600" y="11"/>
                    <a:pt x="3611" y="0"/>
                    <a:pt x="3625" y="0"/>
                  </a:cubicBezTo>
                  <a:close/>
                  <a:moveTo>
                    <a:pt x="3825" y="0"/>
                  </a:moveTo>
                  <a:lnTo>
                    <a:pt x="4175" y="0"/>
                  </a:lnTo>
                  <a:cubicBezTo>
                    <a:pt x="4189" y="0"/>
                    <a:pt x="4200" y="11"/>
                    <a:pt x="4200" y="25"/>
                  </a:cubicBezTo>
                  <a:cubicBezTo>
                    <a:pt x="4200" y="39"/>
                    <a:pt x="4189" y="50"/>
                    <a:pt x="4175" y="50"/>
                  </a:cubicBezTo>
                  <a:lnTo>
                    <a:pt x="3825" y="50"/>
                  </a:lnTo>
                  <a:cubicBezTo>
                    <a:pt x="3811" y="50"/>
                    <a:pt x="3800" y="39"/>
                    <a:pt x="3800" y="25"/>
                  </a:cubicBezTo>
                  <a:cubicBezTo>
                    <a:pt x="3800" y="11"/>
                    <a:pt x="3811" y="0"/>
                    <a:pt x="3825" y="0"/>
                  </a:cubicBezTo>
                  <a:close/>
                  <a:moveTo>
                    <a:pt x="4375" y="0"/>
                  </a:moveTo>
                  <a:lnTo>
                    <a:pt x="4375" y="0"/>
                  </a:lnTo>
                  <a:cubicBezTo>
                    <a:pt x="4389" y="0"/>
                    <a:pt x="4400" y="11"/>
                    <a:pt x="4400" y="25"/>
                  </a:cubicBezTo>
                  <a:cubicBezTo>
                    <a:pt x="4400" y="39"/>
                    <a:pt x="4389" y="50"/>
                    <a:pt x="4375" y="50"/>
                  </a:cubicBezTo>
                  <a:lnTo>
                    <a:pt x="4375" y="50"/>
                  </a:lnTo>
                  <a:cubicBezTo>
                    <a:pt x="4361" y="50"/>
                    <a:pt x="4350" y="39"/>
                    <a:pt x="4350" y="25"/>
                  </a:cubicBezTo>
                  <a:cubicBezTo>
                    <a:pt x="4350" y="11"/>
                    <a:pt x="4361" y="0"/>
                    <a:pt x="4375" y="0"/>
                  </a:cubicBezTo>
                  <a:close/>
                  <a:moveTo>
                    <a:pt x="4575" y="0"/>
                  </a:moveTo>
                  <a:lnTo>
                    <a:pt x="4575" y="0"/>
                  </a:lnTo>
                  <a:cubicBezTo>
                    <a:pt x="4589" y="0"/>
                    <a:pt x="4600" y="11"/>
                    <a:pt x="4600" y="25"/>
                  </a:cubicBezTo>
                  <a:cubicBezTo>
                    <a:pt x="4600" y="39"/>
                    <a:pt x="4589" y="50"/>
                    <a:pt x="4575" y="50"/>
                  </a:cubicBezTo>
                  <a:lnTo>
                    <a:pt x="4575" y="50"/>
                  </a:lnTo>
                  <a:cubicBezTo>
                    <a:pt x="4561" y="50"/>
                    <a:pt x="4550" y="39"/>
                    <a:pt x="4550" y="25"/>
                  </a:cubicBezTo>
                  <a:cubicBezTo>
                    <a:pt x="4550" y="11"/>
                    <a:pt x="4561" y="0"/>
                    <a:pt x="4575" y="0"/>
                  </a:cubicBezTo>
                  <a:close/>
                  <a:moveTo>
                    <a:pt x="4775" y="0"/>
                  </a:moveTo>
                  <a:lnTo>
                    <a:pt x="5125" y="0"/>
                  </a:lnTo>
                  <a:cubicBezTo>
                    <a:pt x="5139" y="0"/>
                    <a:pt x="5150" y="11"/>
                    <a:pt x="5150" y="25"/>
                  </a:cubicBezTo>
                  <a:cubicBezTo>
                    <a:pt x="5150" y="39"/>
                    <a:pt x="5139" y="50"/>
                    <a:pt x="5125" y="50"/>
                  </a:cubicBezTo>
                  <a:lnTo>
                    <a:pt x="4775" y="50"/>
                  </a:lnTo>
                  <a:cubicBezTo>
                    <a:pt x="4761" y="50"/>
                    <a:pt x="4750" y="39"/>
                    <a:pt x="4750" y="25"/>
                  </a:cubicBezTo>
                  <a:cubicBezTo>
                    <a:pt x="4750" y="11"/>
                    <a:pt x="4761" y="0"/>
                    <a:pt x="4775" y="0"/>
                  </a:cubicBezTo>
                  <a:close/>
                  <a:moveTo>
                    <a:pt x="5325" y="0"/>
                  </a:moveTo>
                  <a:lnTo>
                    <a:pt x="5325" y="0"/>
                  </a:lnTo>
                  <a:cubicBezTo>
                    <a:pt x="5339" y="0"/>
                    <a:pt x="5350" y="11"/>
                    <a:pt x="5350" y="25"/>
                  </a:cubicBezTo>
                  <a:cubicBezTo>
                    <a:pt x="5350" y="39"/>
                    <a:pt x="5339" y="50"/>
                    <a:pt x="5325" y="50"/>
                  </a:cubicBezTo>
                  <a:lnTo>
                    <a:pt x="5325" y="50"/>
                  </a:lnTo>
                  <a:cubicBezTo>
                    <a:pt x="5311" y="50"/>
                    <a:pt x="5300" y="39"/>
                    <a:pt x="5300" y="25"/>
                  </a:cubicBezTo>
                  <a:cubicBezTo>
                    <a:pt x="5300" y="11"/>
                    <a:pt x="5311" y="0"/>
                    <a:pt x="5325" y="0"/>
                  </a:cubicBezTo>
                  <a:close/>
                  <a:moveTo>
                    <a:pt x="5525" y="0"/>
                  </a:moveTo>
                  <a:lnTo>
                    <a:pt x="5525" y="0"/>
                  </a:lnTo>
                  <a:cubicBezTo>
                    <a:pt x="5539" y="0"/>
                    <a:pt x="5550" y="11"/>
                    <a:pt x="5550" y="25"/>
                  </a:cubicBezTo>
                  <a:cubicBezTo>
                    <a:pt x="5550" y="39"/>
                    <a:pt x="5539" y="50"/>
                    <a:pt x="5525" y="50"/>
                  </a:cubicBezTo>
                  <a:lnTo>
                    <a:pt x="5525" y="50"/>
                  </a:lnTo>
                  <a:cubicBezTo>
                    <a:pt x="5512" y="50"/>
                    <a:pt x="5500" y="39"/>
                    <a:pt x="5500" y="25"/>
                  </a:cubicBezTo>
                  <a:cubicBezTo>
                    <a:pt x="5500" y="11"/>
                    <a:pt x="5512" y="0"/>
                    <a:pt x="5525" y="0"/>
                  </a:cubicBezTo>
                  <a:close/>
                  <a:moveTo>
                    <a:pt x="5725" y="0"/>
                  </a:moveTo>
                  <a:lnTo>
                    <a:pt x="6075" y="0"/>
                  </a:lnTo>
                  <a:cubicBezTo>
                    <a:pt x="6089" y="0"/>
                    <a:pt x="6100" y="11"/>
                    <a:pt x="6100" y="25"/>
                  </a:cubicBezTo>
                  <a:cubicBezTo>
                    <a:pt x="6100" y="39"/>
                    <a:pt x="6089" y="50"/>
                    <a:pt x="6075" y="50"/>
                  </a:cubicBezTo>
                  <a:lnTo>
                    <a:pt x="5725" y="50"/>
                  </a:lnTo>
                  <a:cubicBezTo>
                    <a:pt x="5712" y="50"/>
                    <a:pt x="5700" y="39"/>
                    <a:pt x="5700" y="25"/>
                  </a:cubicBezTo>
                  <a:cubicBezTo>
                    <a:pt x="5700" y="11"/>
                    <a:pt x="5712" y="0"/>
                    <a:pt x="5725" y="0"/>
                  </a:cubicBezTo>
                  <a:close/>
                  <a:moveTo>
                    <a:pt x="6275" y="0"/>
                  </a:moveTo>
                  <a:lnTo>
                    <a:pt x="6275" y="0"/>
                  </a:lnTo>
                  <a:cubicBezTo>
                    <a:pt x="6289" y="0"/>
                    <a:pt x="6300" y="11"/>
                    <a:pt x="6300" y="25"/>
                  </a:cubicBezTo>
                  <a:cubicBezTo>
                    <a:pt x="6300" y="39"/>
                    <a:pt x="6289" y="50"/>
                    <a:pt x="6275" y="50"/>
                  </a:cubicBezTo>
                  <a:lnTo>
                    <a:pt x="6275" y="50"/>
                  </a:lnTo>
                  <a:cubicBezTo>
                    <a:pt x="6262" y="50"/>
                    <a:pt x="6250" y="39"/>
                    <a:pt x="6250" y="25"/>
                  </a:cubicBezTo>
                  <a:cubicBezTo>
                    <a:pt x="6250" y="11"/>
                    <a:pt x="6262" y="0"/>
                    <a:pt x="6275" y="0"/>
                  </a:cubicBezTo>
                  <a:close/>
                  <a:moveTo>
                    <a:pt x="6475" y="0"/>
                  </a:moveTo>
                  <a:lnTo>
                    <a:pt x="6475" y="0"/>
                  </a:lnTo>
                  <a:cubicBezTo>
                    <a:pt x="6489" y="0"/>
                    <a:pt x="6500" y="11"/>
                    <a:pt x="6500" y="25"/>
                  </a:cubicBezTo>
                  <a:cubicBezTo>
                    <a:pt x="6500" y="39"/>
                    <a:pt x="6489" y="50"/>
                    <a:pt x="6475" y="50"/>
                  </a:cubicBezTo>
                  <a:lnTo>
                    <a:pt x="6475" y="50"/>
                  </a:lnTo>
                  <a:cubicBezTo>
                    <a:pt x="6462" y="50"/>
                    <a:pt x="6450" y="39"/>
                    <a:pt x="6450" y="25"/>
                  </a:cubicBezTo>
                  <a:cubicBezTo>
                    <a:pt x="6450" y="11"/>
                    <a:pt x="6462" y="0"/>
                    <a:pt x="6475" y="0"/>
                  </a:cubicBezTo>
                  <a:close/>
                  <a:moveTo>
                    <a:pt x="6675" y="0"/>
                  </a:moveTo>
                  <a:lnTo>
                    <a:pt x="7025" y="0"/>
                  </a:lnTo>
                  <a:cubicBezTo>
                    <a:pt x="7039" y="0"/>
                    <a:pt x="7050" y="11"/>
                    <a:pt x="7050" y="25"/>
                  </a:cubicBezTo>
                  <a:cubicBezTo>
                    <a:pt x="7050" y="39"/>
                    <a:pt x="7039" y="50"/>
                    <a:pt x="7025" y="50"/>
                  </a:cubicBezTo>
                  <a:lnTo>
                    <a:pt x="6675" y="50"/>
                  </a:lnTo>
                  <a:cubicBezTo>
                    <a:pt x="6662" y="50"/>
                    <a:pt x="6650" y="39"/>
                    <a:pt x="6650" y="25"/>
                  </a:cubicBezTo>
                  <a:cubicBezTo>
                    <a:pt x="6650" y="11"/>
                    <a:pt x="6662" y="0"/>
                    <a:pt x="6675" y="0"/>
                  </a:cubicBezTo>
                  <a:close/>
                  <a:moveTo>
                    <a:pt x="7225" y="0"/>
                  </a:moveTo>
                  <a:lnTo>
                    <a:pt x="7226" y="0"/>
                  </a:lnTo>
                  <a:cubicBezTo>
                    <a:pt x="7239" y="0"/>
                    <a:pt x="7251" y="11"/>
                    <a:pt x="7251" y="25"/>
                  </a:cubicBezTo>
                  <a:cubicBezTo>
                    <a:pt x="7251" y="39"/>
                    <a:pt x="7239" y="50"/>
                    <a:pt x="7226" y="50"/>
                  </a:cubicBezTo>
                  <a:lnTo>
                    <a:pt x="7225" y="50"/>
                  </a:lnTo>
                  <a:cubicBezTo>
                    <a:pt x="7212" y="50"/>
                    <a:pt x="7200" y="39"/>
                    <a:pt x="7200" y="25"/>
                  </a:cubicBezTo>
                  <a:cubicBezTo>
                    <a:pt x="7200" y="11"/>
                    <a:pt x="7212" y="0"/>
                    <a:pt x="7225" y="0"/>
                  </a:cubicBezTo>
                  <a:close/>
                  <a:moveTo>
                    <a:pt x="7426" y="0"/>
                  </a:moveTo>
                  <a:lnTo>
                    <a:pt x="7426" y="0"/>
                  </a:lnTo>
                  <a:cubicBezTo>
                    <a:pt x="7439" y="0"/>
                    <a:pt x="7451" y="11"/>
                    <a:pt x="7451" y="25"/>
                  </a:cubicBezTo>
                  <a:cubicBezTo>
                    <a:pt x="7451" y="39"/>
                    <a:pt x="7439" y="50"/>
                    <a:pt x="7426" y="50"/>
                  </a:cubicBezTo>
                  <a:lnTo>
                    <a:pt x="7426" y="50"/>
                  </a:lnTo>
                  <a:cubicBezTo>
                    <a:pt x="7412" y="50"/>
                    <a:pt x="7401" y="39"/>
                    <a:pt x="7401" y="25"/>
                  </a:cubicBezTo>
                  <a:cubicBezTo>
                    <a:pt x="7401" y="11"/>
                    <a:pt x="7412" y="0"/>
                    <a:pt x="7426" y="0"/>
                  </a:cubicBezTo>
                  <a:close/>
                  <a:moveTo>
                    <a:pt x="7626" y="0"/>
                  </a:moveTo>
                  <a:lnTo>
                    <a:pt x="7976" y="0"/>
                  </a:lnTo>
                  <a:cubicBezTo>
                    <a:pt x="7989" y="0"/>
                    <a:pt x="8001" y="11"/>
                    <a:pt x="8001" y="25"/>
                  </a:cubicBezTo>
                  <a:cubicBezTo>
                    <a:pt x="8001" y="39"/>
                    <a:pt x="7989" y="50"/>
                    <a:pt x="7976" y="50"/>
                  </a:cubicBezTo>
                  <a:lnTo>
                    <a:pt x="7626" y="50"/>
                  </a:lnTo>
                  <a:cubicBezTo>
                    <a:pt x="7612" y="50"/>
                    <a:pt x="7601" y="39"/>
                    <a:pt x="7601" y="25"/>
                  </a:cubicBezTo>
                  <a:cubicBezTo>
                    <a:pt x="7601" y="11"/>
                    <a:pt x="7612" y="0"/>
                    <a:pt x="7626" y="0"/>
                  </a:cubicBezTo>
                  <a:close/>
                  <a:moveTo>
                    <a:pt x="8176" y="0"/>
                  </a:moveTo>
                  <a:lnTo>
                    <a:pt x="8176" y="0"/>
                  </a:lnTo>
                  <a:cubicBezTo>
                    <a:pt x="8189" y="0"/>
                    <a:pt x="8201" y="11"/>
                    <a:pt x="8201" y="25"/>
                  </a:cubicBezTo>
                  <a:cubicBezTo>
                    <a:pt x="8201" y="39"/>
                    <a:pt x="8189" y="50"/>
                    <a:pt x="8176" y="50"/>
                  </a:cubicBezTo>
                  <a:lnTo>
                    <a:pt x="8176" y="50"/>
                  </a:lnTo>
                  <a:cubicBezTo>
                    <a:pt x="8162" y="50"/>
                    <a:pt x="8151" y="39"/>
                    <a:pt x="8151" y="25"/>
                  </a:cubicBezTo>
                  <a:cubicBezTo>
                    <a:pt x="8151" y="11"/>
                    <a:pt x="8162" y="0"/>
                    <a:pt x="8176" y="0"/>
                  </a:cubicBezTo>
                  <a:close/>
                  <a:moveTo>
                    <a:pt x="8376" y="0"/>
                  </a:moveTo>
                  <a:lnTo>
                    <a:pt x="8376" y="0"/>
                  </a:lnTo>
                  <a:cubicBezTo>
                    <a:pt x="8390" y="0"/>
                    <a:pt x="8401" y="11"/>
                    <a:pt x="8401" y="25"/>
                  </a:cubicBezTo>
                  <a:cubicBezTo>
                    <a:pt x="8401" y="39"/>
                    <a:pt x="8390" y="50"/>
                    <a:pt x="8376" y="50"/>
                  </a:cubicBezTo>
                  <a:lnTo>
                    <a:pt x="8376" y="50"/>
                  </a:lnTo>
                  <a:cubicBezTo>
                    <a:pt x="8362" y="50"/>
                    <a:pt x="8351" y="39"/>
                    <a:pt x="8351" y="25"/>
                  </a:cubicBezTo>
                  <a:cubicBezTo>
                    <a:pt x="8351" y="11"/>
                    <a:pt x="8362" y="0"/>
                    <a:pt x="8376" y="0"/>
                  </a:cubicBezTo>
                  <a:close/>
                  <a:moveTo>
                    <a:pt x="8576" y="0"/>
                  </a:moveTo>
                  <a:lnTo>
                    <a:pt x="8926" y="0"/>
                  </a:lnTo>
                  <a:cubicBezTo>
                    <a:pt x="8940" y="0"/>
                    <a:pt x="8951" y="11"/>
                    <a:pt x="8951" y="25"/>
                  </a:cubicBezTo>
                  <a:cubicBezTo>
                    <a:pt x="8951" y="39"/>
                    <a:pt x="8940" y="50"/>
                    <a:pt x="8926" y="50"/>
                  </a:cubicBezTo>
                  <a:lnTo>
                    <a:pt x="8576" y="50"/>
                  </a:lnTo>
                  <a:cubicBezTo>
                    <a:pt x="8562" y="50"/>
                    <a:pt x="8551" y="39"/>
                    <a:pt x="8551" y="25"/>
                  </a:cubicBezTo>
                  <a:cubicBezTo>
                    <a:pt x="8551" y="11"/>
                    <a:pt x="8562" y="0"/>
                    <a:pt x="8576" y="0"/>
                  </a:cubicBezTo>
                  <a:close/>
                  <a:moveTo>
                    <a:pt x="9126" y="0"/>
                  </a:moveTo>
                  <a:lnTo>
                    <a:pt x="9126" y="0"/>
                  </a:lnTo>
                  <a:cubicBezTo>
                    <a:pt x="9140" y="0"/>
                    <a:pt x="9151" y="11"/>
                    <a:pt x="9151" y="25"/>
                  </a:cubicBezTo>
                  <a:cubicBezTo>
                    <a:pt x="9151" y="39"/>
                    <a:pt x="9140" y="50"/>
                    <a:pt x="9126" y="50"/>
                  </a:cubicBezTo>
                  <a:lnTo>
                    <a:pt x="9126" y="50"/>
                  </a:lnTo>
                  <a:cubicBezTo>
                    <a:pt x="9112" y="50"/>
                    <a:pt x="9101" y="39"/>
                    <a:pt x="9101" y="25"/>
                  </a:cubicBezTo>
                  <a:cubicBezTo>
                    <a:pt x="9101" y="11"/>
                    <a:pt x="9112" y="0"/>
                    <a:pt x="9126" y="0"/>
                  </a:cubicBezTo>
                  <a:close/>
                  <a:moveTo>
                    <a:pt x="9326" y="0"/>
                  </a:moveTo>
                  <a:lnTo>
                    <a:pt x="9326" y="0"/>
                  </a:lnTo>
                  <a:cubicBezTo>
                    <a:pt x="9340" y="0"/>
                    <a:pt x="9351" y="11"/>
                    <a:pt x="9351" y="25"/>
                  </a:cubicBezTo>
                  <a:cubicBezTo>
                    <a:pt x="9351" y="39"/>
                    <a:pt x="9340" y="50"/>
                    <a:pt x="9326" y="50"/>
                  </a:cubicBezTo>
                  <a:lnTo>
                    <a:pt x="9326" y="50"/>
                  </a:lnTo>
                  <a:cubicBezTo>
                    <a:pt x="9312" y="50"/>
                    <a:pt x="9301" y="39"/>
                    <a:pt x="9301" y="25"/>
                  </a:cubicBezTo>
                  <a:cubicBezTo>
                    <a:pt x="9301" y="11"/>
                    <a:pt x="9312" y="0"/>
                    <a:pt x="9326" y="0"/>
                  </a:cubicBezTo>
                  <a:close/>
                  <a:moveTo>
                    <a:pt x="9526" y="0"/>
                  </a:moveTo>
                  <a:lnTo>
                    <a:pt x="9876" y="0"/>
                  </a:lnTo>
                  <a:cubicBezTo>
                    <a:pt x="9890" y="0"/>
                    <a:pt x="9901" y="11"/>
                    <a:pt x="9901" y="25"/>
                  </a:cubicBezTo>
                  <a:cubicBezTo>
                    <a:pt x="9901" y="39"/>
                    <a:pt x="9890" y="50"/>
                    <a:pt x="9876" y="50"/>
                  </a:cubicBezTo>
                  <a:lnTo>
                    <a:pt x="9526" y="50"/>
                  </a:lnTo>
                  <a:cubicBezTo>
                    <a:pt x="9512" y="50"/>
                    <a:pt x="9501" y="39"/>
                    <a:pt x="9501" y="25"/>
                  </a:cubicBezTo>
                  <a:cubicBezTo>
                    <a:pt x="9501" y="11"/>
                    <a:pt x="9512" y="0"/>
                    <a:pt x="9526" y="0"/>
                  </a:cubicBezTo>
                  <a:close/>
                  <a:moveTo>
                    <a:pt x="10076" y="0"/>
                  </a:moveTo>
                  <a:lnTo>
                    <a:pt x="10076" y="0"/>
                  </a:lnTo>
                  <a:cubicBezTo>
                    <a:pt x="10090" y="0"/>
                    <a:pt x="10101" y="11"/>
                    <a:pt x="10101" y="25"/>
                  </a:cubicBezTo>
                  <a:cubicBezTo>
                    <a:pt x="10101" y="39"/>
                    <a:pt x="10090" y="50"/>
                    <a:pt x="10076" y="50"/>
                  </a:cubicBezTo>
                  <a:lnTo>
                    <a:pt x="10076" y="50"/>
                  </a:lnTo>
                  <a:cubicBezTo>
                    <a:pt x="10062" y="50"/>
                    <a:pt x="10051" y="39"/>
                    <a:pt x="10051" y="25"/>
                  </a:cubicBezTo>
                  <a:cubicBezTo>
                    <a:pt x="10051" y="11"/>
                    <a:pt x="10062" y="0"/>
                    <a:pt x="10076" y="0"/>
                  </a:cubicBezTo>
                  <a:close/>
                  <a:moveTo>
                    <a:pt x="10276" y="0"/>
                  </a:moveTo>
                  <a:lnTo>
                    <a:pt x="10276" y="0"/>
                  </a:lnTo>
                  <a:cubicBezTo>
                    <a:pt x="10290" y="0"/>
                    <a:pt x="10301" y="11"/>
                    <a:pt x="10301" y="25"/>
                  </a:cubicBezTo>
                  <a:cubicBezTo>
                    <a:pt x="10301" y="39"/>
                    <a:pt x="10290" y="50"/>
                    <a:pt x="10276" y="50"/>
                  </a:cubicBezTo>
                  <a:lnTo>
                    <a:pt x="10276" y="50"/>
                  </a:lnTo>
                  <a:cubicBezTo>
                    <a:pt x="10262" y="50"/>
                    <a:pt x="10251" y="39"/>
                    <a:pt x="10251" y="25"/>
                  </a:cubicBezTo>
                  <a:cubicBezTo>
                    <a:pt x="10251" y="11"/>
                    <a:pt x="10262" y="0"/>
                    <a:pt x="10276" y="0"/>
                  </a:cubicBezTo>
                  <a:close/>
                  <a:moveTo>
                    <a:pt x="10476" y="0"/>
                  </a:moveTo>
                  <a:lnTo>
                    <a:pt x="10826" y="0"/>
                  </a:lnTo>
                  <a:cubicBezTo>
                    <a:pt x="10840" y="0"/>
                    <a:pt x="10851" y="11"/>
                    <a:pt x="10851" y="25"/>
                  </a:cubicBezTo>
                  <a:cubicBezTo>
                    <a:pt x="10851" y="39"/>
                    <a:pt x="10840" y="50"/>
                    <a:pt x="10826" y="50"/>
                  </a:cubicBezTo>
                  <a:lnTo>
                    <a:pt x="10476" y="50"/>
                  </a:lnTo>
                  <a:cubicBezTo>
                    <a:pt x="10462" y="50"/>
                    <a:pt x="10451" y="39"/>
                    <a:pt x="10451" y="25"/>
                  </a:cubicBezTo>
                  <a:cubicBezTo>
                    <a:pt x="10451" y="11"/>
                    <a:pt x="10462" y="0"/>
                    <a:pt x="10476" y="0"/>
                  </a:cubicBezTo>
                  <a:close/>
                  <a:moveTo>
                    <a:pt x="11026" y="0"/>
                  </a:moveTo>
                  <a:lnTo>
                    <a:pt x="11026" y="0"/>
                  </a:lnTo>
                  <a:cubicBezTo>
                    <a:pt x="11040" y="0"/>
                    <a:pt x="11051" y="11"/>
                    <a:pt x="11051" y="25"/>
                  </a:cubicBezTo>
                  <a:cubicBezTo>
                    <a:pt x="11051" y="39"/>
                    <a:pt x="11040" y="50"/>
                    <a:pt x="11026" y="50"/>
                  </a:cubicBezTo>
                  <a:lnTo>
                    <a:pt x="11026" y="50"/>
                  </a:lnTo>
                  <a:cubicBezTo>
                    <a:pt x="11012" y="50"/>
                    <a:pt x="11001" y="39"/>
                    <a:pt x="11001" y="25"/>
                  </a:cubicBezTo>
                  <a:cubicBezTo>
                    <a:pt x="11001" y="11"/>
                    <a:pt x="11012" y="0"/>
                    <a:pt x="11026" y="0"/>
                  </a:cubicBezTo>
                  <a:close/>
                  <a:moveTo>
                    <a:pt x="11226" y="0"/>
                  </a:moveTo>
                  <a:lnTo>
                    <a:pt x="11226" y="0"/>
                  </a:lnTo>
                  <a:cubicBezTo>
                    <a:pt x="11240" y="0"/>
                    <a:pt x="11251" y="11"/>
                    <a:pt x="11251" y="25"/>
                  </a:cubicBezTo>
                  <a:cubicBezTo>
                    <a:pt x="11251" y="39"/>
                    <a:pt x="11240" y="50"/>
                    <a:pt x="11226" y="50"/>
                  </a:cubicBezTo>
                  <a:lnTo>
                    <a:pt x="11226" y="50"/>
                  </a:lnTo>
                  <a:cubicBezTo>
                    <a:pt x="11212" y="50"/>
                    <a:pt x="11201" y="39"/>
                    <a:pt x="11201" y="25"/>
                  </a:cubicBezTo>
                  <a:cubicBezTo>
                    <a:pt x="11201" y="11"/>
                    <a:pt x="11212" y="0"/>
                    <a:pt x="11226" y="0"/>
                  </a:cubicBezTo>
                  <a:close/>
                  <a:moveTo>
                    <a:pt x="11426" y="0"/>
                  </a:moveTo>
                  <a:lnTo>
                    <a:pt x="11776" y="0"/>
                  </a:lnTo>
                  <a:cubicBezTo>
                    <a:pt x="11790" y="0"/>
                    <a:pt x="11801" y="11"/>
                    <a:pt x="11801" y="25"/>
                  </a:cubicBezTo>
                  <a:cubicBezTo>
                    <a:pt x="11801" y="39"/>
                    <a:pt x="11790" y="50"/>
                    <a:pt x="11776" y="50"/>
                  </a:cubicBezTo>
                  <a:lnTo>
                    <a:pt x="11426" y="50"/>
                  </a:lnTo>
                  <a:cubicBezTo>
                    <a:pt x="11412" y="50"/>
                    <a:pt x="11401" y="39"/>
                    <a:pt x="11401" y="25"/>
                  </a:cubicBezTo>
                  <a:cubicBezTo>
                    <a:pt x="11401" y="11"/>
                    <a:pt x="11412" y="0"/>
                    <a:pt x="11426" y="0"/>
                  </a:cubicBezTo>
                  <a:close/>
                  <a:moveTo>
                    <a:pt x="11976" y="0"/>
                  </a:moveTo>
                  <a:lnTo>
                    <a:pt x="11976" y="0"/>
                  </a:lnTo>
                  <a:cubicBezTo>
                    <a:pt x="11990" y="0"/>
                    <a:pt x="12001" y="11"/>
                    <a:pt x="12001" y="25"/>
                  </a:cubicBezTo>
                  <a:cubicBezTo>
                    <a:pt x="12001" y="39"/>
                    <a:pt x="11990" y="50"/>
                    <a:pt x="11976" y="50"/>
                  </a:cubicBezTo>
                  <a:lnTo>
                    <a:pt x="11976" y="50"/>
                  </a:lnTo>
                  <a:cubicBezTo>
                    <a:pt x="11962" y="50"/>
                    <a:pt x="11951" y="39"/>
                    <a:pt x="11951" y="25"/>
                  </a:cubicBezTo>
                  <a:cubicBezTo>
                    <a:pt x="11951" y="11"/>
                    <a:pt x="11962" y="0"/>
                    <a:pt x="11976" y="0"/>
                  </a:cubicBezTo>
                  <a:close/>
                  <a:moveTo>
                    <a:pt x="12176" y="0"/>
                  </a:moveTo>
                  <a:lnTo>
                    <a:pt x="12176" y="0"/>
                  </a:lnTo>
                  <a:cubicBezTo>
                    <a:pt x="12190" y="0"/>
                    <a:pt x="12201" y="11"/>
                    <a:pt x="12201" y="25"/>
                  </a:cubicBezTo>
                  <a:cubicBezTo>
                    <a:pt x="12201" y="39"/>
                    <a:pt x="12190" y="50"/>
                    <a:pt x="12176" y="50"/>
                  </a:cubicBezTo>
                  <a:lnTo>
                    <a:pt x="12176" y="50"/>
                  </a:lnTo>
                  <a:cubicBezTo>
                    <a:pt x="12162" y="50"/>
                    <a:pt x="12151" y="39"/>
                    <a:pt x="12151" y="25"/>
                  </a:cubicBezTo>
                  <a:cubicBezTo>
                    <a:pt x="12151" y="11"/>
                    <a:pt x="12162" y="0"/>
                    <a:pt x="12176" y="0"/>
                  </a:cubicBezTo>
                  <a:close/>
                  <a:moveTo>
                    <a:pt x="12376" y="0"/>
                  </a:moveTo>
                  <a:lnTo>
                    <a:pt x="12435" y="0"/>
                  </a:lnTo>
                  <a:cubicBezTo>
                    <a:pt x="12449" y="0"/>
                    <a:pt x="12460" y="11"/>
                    <a:pt x="12460" y="25"/>
                  </a:cubicBezTo>
                  <a:cubicBezTo>
                    <a:pt x="12460" y="39"/>
                    <a:pt x="12449" y="50"/>
                    <a:pt x="12435" y="50"/>
                  </a:cubicBezTo>
                  <a:lnTo>
                    <a:pt x="12376" y="50"/>
                  </a:lnTo>
                  <a:cubicBezTo>
                    <a:pt x="12362" y="50"/>
                    <a:pt x="12351" y="39"/>
                    <a:pt x="12351" y="25"/>
                  </a:cubicBezTo>
                  <a:cubicBezTo>
                    <a:pt x="12351" y="11"/>
                    <a:pt x="12362" y="0"/>
                    <a:pt x="1237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3"/>
            <p:cNvSpPr/>
            <p:nvPr/>
          </p:nvSpPr>
          <p:spPr>
            <a:xfrm>
              <a:off x="6087600" y="2562840"/>
              <a:ext cx="179280" cy="16812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800" y="27"/>
                  </a:moveTo>
                  <a:lnTo>
                    <a:pt x="796" y="99"/>
                  </a:lnTo>
                  <a:lnTo>
                    <a:pt x="785" y="171"/>
                  </a:lnTo>
                  <a:lnTo>
                    <a:pt x="766" y="241"/>
                  </a:lnTo>
                  <a:lnTo>
                    <a:pt x="740" y="308"/>
                  </a:lnTo>
                  <a:lnTo>
                    <a:pt x="707" y="371"/>
                  </a:lnTo>
                  <a:lnTo>
                    <a:pt x="706" y="374"/>
                  </a:lnTo>
                  <a:cubicBezTo>
                    <a:pt x="698" y="385"/>
                    <a:pt x="683" y="388"/>
                    <a:pt x="671" y="381"/>
                  </a:cubicBezTo>
                  <a:cubicBezTo>
                    <a:pt x="659" y="373"/>
                    <a:pt x="656" y="358"/>
                    <a:pt x="664" y="346"/>
                  </a:cubicBezTo>
                  <a:lnTo>
                    <a:pt x="663" y="348"/>
                  </a:lnTo>
                  <a:lnTo>
                    <a:pt x="663" y="348"/>
                  </a:lnTo>
                  <a:lnTo>
                    <a:pt x="693" y="289"/>
                  </a:lnTo>
                  <a:lnTo>
                    <a:pt x="718" y="227"/>
                  </a:lnTo>
                  <a:lnTo>
                    <a:pt x="736" y="163"/>
                  </a:lnTo>
                  <a:lnTo>
                    <a:pt x="747" y="96"/>
                  </a:lnTo>
                  <a:lnTo>
                    <a:pt x="751" y="25"/>
                  </a:lnTo>
                  <a:cubicBezTo>
                    <a:pt x="751" y="11"/>
                    <a:pt x="763" y="0"/>
                    <a:pt x="777" y="1"/>
                  </a:cubicBezTo>
                  <a:cubicBezTo>
                    <a:pt x="791" y="2"/>
                    <a:pt x="801" y="14"/>
                    <a:pt x="800" y="27"/>
                  </a:cubicBezTo>
                  <a:close/>
                  <a:moveTo>
                    <a:pt x="578" y="534"/>
                  </a:moveTo>
                  <a:lnTo>
                    <a:pt x="578" y="534"/>
                  </a:lnTo>
                  <a:cubicBezTo>
                    <a:pt x="569" y="544"/>
                    <a:pt x="553" y="544"/>
                    <a:pt x="543" y="534"/>
                  </a:cubicBezTo>
                  <a:cubicBezTo>
                    <a:pt x="533" y="524"/>
                    <a:pt x="533" y="508"/>
                    <a:pt x="543" y="498"/>
                  </a:cubicBezTo>
                  <a:lnTo>
                    <a:pt x="543" y="498"/>
                  </a:lnTo>
                  <a:cubicBezTo>
                    <a:pt x="553" y="489"/>
                    <a:pt x="569" y="489"/>
                    <a:pt x="578" y="498"/>
                  </a:cubicBezTo>
                  <a:cubicBezTo>
                    <a:pt x="588" y="508"/>
                    <a:pt x="588" y="524"/>
                    <a:pt x="578" y="534"/>
                  </a:cubicBezTo>
                  <a:close/>
                  <a:moveTo>
                    <a:pt x="411" y="654"/>
                  </a:moveTo>
                  <a:lnTo>
                    <a:pt x="411" y="654"/>
                  </a:lnTo>
                  <a:cubicBezTo>
                    <a:pt x="399" y="661"/>
                    <a:pt x="383" y="657"/>
                    <a:pt x="377" y="644"/>
                  </a:cubicBezTo>
                  <a:cubicBezTo>
                    <a:pt x="370" y="632"/>
                    <a:pt x="375" y="617"/>
                    <a:pt x="387" y="611"/>
                  </a:cubicBezTo>
                  <a:lnTo>
                    <a:pt x="387" y="611"/>
                  </a:lnTo>
                  <a:cubicBezTo>
                    <a:pt x="399" y="604"/>
                    <a:pt x="414" y="608"/>
                    <a:pt x="421" y="621"/>
                  </a:cubicBezTo>
                  <a:cubicBezTo>
                    <a:pt x="427" y="633"/>
                    <a:pt x="423" y="648"/>
                    <a:pt x="411" y="654"/>
                  </a:cubicBezTo>
                  <a:close/>
                  <a:moveTo>
                    <a:pt x="218" y="728"/>
                  </a:moveTo>
                  <a:lnTo>
                    <a:pt x="182" y="736"/>
                  </a:lnTo>
                  <a:lnTo>
                    <a:pt x="105" y="747"/>
                  </a:lnTo>
                  <a:lnTo>
                    <a:pt x="27" y="751"/>
                  </a:lnTo>
                  <a:cubicBezTo>
                    <a:pt x="13" y="752"/>
                    <a:pt x="1" y="741"/>
                    <a:pt x="0" y="727"/>
                  </a:cubicBezTo>
                  <a:cubicBezTo>
                    <a:pt x="0" y="713"/>
                    <a:pt x="11" y="702"/>
                    <a:pt x="24" y="701"/>
                  </a:cubicBezTo>
                  <a:lnTo>
                    <a:pt x="98" y="698"/>
                  </a:lnTo>
                  <a:lnTo>
                    <a:pt x="171" y="688"/>
                  </a:lnTo>
                  <a:lnTo>
                    <a:pt x="206" y="679"/>
                  </a:lnTo>
                  <a:cubicBezTo>
                    <a:pt x="220" y="676"/>
                    <a:pt x="233" y="684"/>
                    <a:pt x="237" y="697"/>
                  </a:cubicBezTo>
                  <a:cubicBezTo>
                    <a:pt x="240" y="711"/>
                    <a:pt x="232" y="724"/>
                    <a:pt x="218" y="7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4"/>
            <p:cNvSpPr/>
            <p:nvPr/>
          </p:nvSpPr>
          <p:spPr>
            <a:xfrm>
              <a:off x="6254640" y="2411640"/>
              <a:ext cx="178920" cy="168120"/>
            </a:xfrm>
            <a:custGeom>
              <a:avLst/>
              <a:gdLst/>
              <a:ahLst/>
              <a:rect l="l" t="t" r="r" b="b"/>
              <a:pathLst>
                <a:path w="801" h="752">
                  <a:moveTo>
                    <a:pt x="1" y="725"/>
                  </a:moveTo>
                  <a:lnTo>
                    <a:pt x="5" y="653"/>
                  </a:lnTo>
                  <a:lnTo>
                    <a:pt x="16" y="581"/>
                  </a:lnTo>
                  <a:lnTo>
                    <a:pt x="35" y="511"/>
                  </a:lnTo>
                  <a:lnTo>
                    <a:pt x="61" y="444"/>
                  </a:lnTo>
                  <a:lnTo>
                    <a:pt x="94" y="381"/>
                  </a:lnTo>
                  <a:lnTo>
                    <a:pt x="95" y="379"/>
                  </a:lnTo>
                  <a:cubicBezTo>
                    <a:pt x="103" y="367"/>
                    <a:pt x="118" y="364"/>
                    <a:pt x="130" y="371"/>
                  </a:cubicBezTo>
                  <a:cubicBezTo>
                    <a:pt x="141" y="379"/>
                    <a:pt x="145" y="394"/>
                    <a:pt x="137" y="406"/>
                  </a:cubicBezTo>
                  <a:lnTo>
                    <a:pt x="138" y="404"/>
                  </a:lnTo>
                  <a:lnTo>
                    <a:pt x="138" y="404"/>
                  </a:lnTo>
                  <a:lnTo>
                    <a:pt x="108" y="463"/>
                  </a:lnTo>
                  <a:lnTo>
                    <a:pt x="83" y="525"/>
                  </a:lnTo>
                  <a:lnTo>
                    <a:pt x="65" y="589"/>
                  </a:lnTo>
                  <a:lnTo>
                    <a:pt x="54" y="656"/>
                  </a:lnTo>
                  <a:lnTo>
                    <a:pt x="50" y="727"/>
                  </a:lnTo>
                  <a:cubicBezTo>
                    <a:pt x="50" y="741"/>
                    <a:pt x="38" y="752"/>
                    <a:pt x="24" y="751"/>
                  </a:cubicBezTo>
                  <a:cubicBezTo>
                    <a:pt x="10" y="750"/>
                    <a:pt x="0" y="738"/>
                    <a:pt x="1" y="725"/>
                  </a:cubicBezTo>
                  <a:close/>
                  <a:moveTo>
                    <a:pt x="222" y="219"/>
                  </a:moveTo>
                  <a:lnTo>
                    <a:pt x="222" y="219"/>
                  </a:lnTo>
                  <a:cubicBezTo>
                    <a:pt x="231" y="209"/>
                    <a:pt x="247" y="208"/>
                    <a:pt x="257" y="217"/>
                  </a:cubicBezTo>
                  <a:cubicBezTo>
                    <a:pt x="267" y="227"/>
                    <a:pt x="268" y="243"/>
                    <a:pt x="259" y="253"/>
                  </a:cubicBezTo>
                  <a:lnTo>
                    <a:pt x="259" y="253"/>
                  </a:lnTo>
                  <a:cubicBezTo>
                    <a:pt x="249" y="263"/>
                    <a:pt x="233" y="264"/>
                    <a:pt x="223" y="254"/>
                  </a:cubicBezTo>
                  <a:cubicBezTo>
                    <a:pt x="213" y="245"/>
                    <a:pt x="212" y="229"/>
                    <a:pt x="222" y="219"/>
                  </a:cubicBezTo>
                  <a:close/>
                  <a:moveTo>
                    <a:pt x="390" y="98"/>
                  </a:moveTo>
                  <a:lnTo>
                    <a:pt x="390" y="98"/>
                  </a:lnTo>
                  <a:cubicBezTo>
                    <a:pt x="402" y="91"/>
                    <a:pt x="417" y="95"/>
                    <a:pt x="424" y="107"/>
                  </a:cubicBezTo>
                  <a:cubicBezTo>
                    <a:pt x="431" y="119"/>
                    <a:pt x="427" y="134"/>
                    <a:pt x="415" y="141"/>
                  </a:cubicBezTo>
                  <a:lnTo>
                    <a:pt x="415" y="141"/>
                  </a:lnTo>
                  <a:cubicBezTo>
                    <a:pt x="403" y="148"/>
                    <a:pt x="387" y="144"/>
                    <a:pt x="380" y="132"/>
                  </a:cubicBezTo>
                  <a:cubicBezTo>
                    <a:pt x="374" y="120"/>
                    <a:pt x="378" y="105"/>
                    <a:pt x="390" y="98"/>
                  </a:cubicBezTo>
                  <a:close/>
                  <a:moveTo>
                    <a:pt x="583" y="24"/>
                  </a:moveTo>
                  <a:lnTo>
                    <a:pt x="619" y="16"/>
                  </a:lnTo>
                  <a:lnTo>
                    <a:pt x="695" y="5"/>
                  </a:lnTo>
                  <a:lnTo>
                    <a:pt x="774" y="1"/>
                  </a:lnTo>
                  <a:cubicBezTo>
                    <a:pt x="788" y="0"/>
                    <a:pt x="800" y="11"/>
                    <a:pt x="800" y="25"/>
                  </a:cubicBezTo>
                  <a:cubicBezTo>
                    <a:pt x="801" y="39"/>
                    <a:pt x="790" y="50"/>
                    <a:pt x="777" y="51"/>
                  </a:cubicBezTo>
                  <a:lnTo>
                    <a:pt x="702" y="54"/>
                  </a:lnTo>
                  <a:lnTo>
                    <a:pt x="630" y="64"/>
                  </a:lnTo>
                  <a:lnTo>
                    <a:pt x="594" y="73"/>
                  </a:lnTo>
                  <a:cubicBezTo>
                    <a:pt x="581" y="76"/>
                    <a:pt x="567" y="68"/>
                    <a:pt x="564" y="55"/>
                  </a:cubicBezTo>
                  <a:cubicBezTo>
                    <a:pt x="561" y="41"/>
                    <a:pt x="569" y="28"/>
                    <a:pt x="583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5"/>
            <p:cNvSpPr/>
            <p:nvPr/>
          </p:nvSpPr>
          <p:spPr>
            <a:xfrm>
              <a:off x="6421680" y="2403720"/>
              <a:ext cx="1084680" cy="19800"/>
            </a:xfrm>
            <a:custGeom>
              <a:avLst/>
              <a:gdLst/>
              <a:ahLst/>
              <a:rect l="l" t="t" r="r" b="b"/>
              <a:pathLst>
                <a:path w="4874" h="87">
                  <a:moveTo>
                    <a:pt x="25" y="37"/>
                  </a:moveTo>
                  <a:lnTo>
                    <a:pt x="375" y="34"/>
                  </a:lnTo>
                  <a:cubicBezTo>
                    <a:pt x="389" y="34"/>
                    <a:pt x="400" y="45"/>
                    <a:pt x="400" y="59"/>
                  </a:cubicBezTo>
                  <a:cubicBezTo>
                    <a:pt x="400" y="73"/>
                    <a:pt x="389" y="84"/>
                    <a:pt x="375" y="84"/>
                  </a:cubicBezTo>
                  <a:lnTo>
                    <a:pt x="25" y="87"/>
                  </a:lnTo>
                  <a:cubicBezTo>
                    <a:pt x="12" y="87"/>
                    <a:pt x="0" y="76"/>
                    <a:pt x="0" y="62"/>
                  </a:cubicBezTo>
                  <a:cubicBezTo>
                    <a:pt x="0" y="48"/>
                    <a:pt x="11" y="37"/>
                    <a:pt x="25" y="37"/>
                  </a:cubicBezTo>
                  <a:close/>
                  <a:moveTo>
                    <a:pt x="575" y="33"/>
                  </a:moveTo>
                  <a:lnTo>
                    <a:pt x="575" y="33"/>
                  </a:lnTo>
                  <a:cubicBezTo>
                    <a:pt x="589" y="32"/>
                    <a:pt x="600" y="44"/>
                    <a:pt x="600" y="57"/>
                  </a:cubicBezTo>
                  <a:cubicBezTo>
                    <a:pt x="600" y="71"/>
                    <a:pt x="589" y="82"/>
                    <a:pt x="575" y="83"/>
                  </a:cubicBezTo>
                  <a:lnTo>
                    <a:pt x="575" y="83"/>
                  </a:lnTo>
                  <a:cubicBezTo>
                    <a:pt x="562" y="83"/>
                    <a:pt x="550" y="72"/>
                    <a:pt x="550" y="58"/>
                  </a:cubicBezTo>
                  <a:cubicBezTo>
                    <a:pt x="550" y="44"/>
                    <a:pt x="561" y="33"/>
                    <a:pt x="575" y="33"/>
                  </a:cubicBezTo>
                  <a:close/>
                  <a:moveTo>
                    <a:pt x="775" y="31"/>
                  </a:moveTo>
                  <a:lnTo>
                    <a:pt x="775" y="31"/>
                  </a:lnTo>
                  <a:cubicBezTo>
                    <a:pt x="789" y="31"/>
                    <a:pt x="800" y="42"/>
                    <a:pt x="800" y="56"/>
                  </a:cubicBezTo>
                  <a:cubicBezTo>
                    <a:pt x="800" y="70"/>
                    <a:pt x="789" y="81"/>
                    <a:pt x="775" y="81"/>
                  </a:cubicBezTo>
                  <a:lnTo>
                    <a:pt x="775" y="81"/>
                  </a:lnTo>
                  <a:cubicBezTo>
                    <a:pt x="762" y="81"/>
                    <a:pt x="750" y="70"/>
                    <a:pt x="750" y="56"/>
                  </a:cubicBezTo>
                  <a:cubicBezTo>
                    <a:pt x="750" y="43"/>
                    <a:pt x="761" y="31"/>
                    <a:pt x="775" y="31"/>
                  </a:cubicBezTo>
                  <a:close/>
                  <a:moveTo>
                    <a:pt x="975" y="30"/>
                  </a:moveTo>
                  <a:lnTo>
                    <a:pt x="1325" y="27"/>
                  </a:lnTo>
                  <a:cubicBezTo>
                    <a:pt x="1339" y="27"/>
                    <a:pt x="1350" y="38"/>
                    <a:pt x="1350" y="52"/>
                  </a:cubicBezTo>
                  <a:cubicBezTo>
                    <a:pt x="1350" y="66"/>
                    <a:pt x="1339" y="77"/>
                    <a:pt x="1325" y="77"/>
                  </a:cubicBezTo>
                  <a:lnTo>
                    <a:pt x="975" y="80"/>
                  </a:lnTo>
                  <a:cubicBezTo>
                    <a:pt x="962" y="80"/>
                    <a:pt x="950" y="69"/>
                    <a:pt x="950" y="55"/>
                  </a:cubicBezTo>
                  <a:cubicBezTo>
                    <a:pt x="950" y="41"/>
                    <a:pt x="961" y="30"/>
                    <a:pt x="975" y="30"/>
                  </a:cubicBezTo>
                  <a:close/>
                  <a:moveTo>
                    <a:pt x="1525" y="25"/>
                  </a:moveTo>
                  <a:lnTo>
                    <a:pt x="1525" y="25"/>
                  </a:lnTo>
                  <a:cubicBezTo>
                    <a:pt x="1539" y="25"/>
                    <a:pt x="1550" y="36"/>
                    <a:pt x="1550" y="50"/>
                  </a:cubicBezTo>
                  <a:cubicBezTo>
                    <a:pt x="1550" y="64"/>
                    <a:pt x="1539" y="75"/>
                    <a:pt x="1525" y="75"/>
                  </a:cubicBezTo>
                  <a:lnTo>
                    <a:pt x="1525" y="75"/>
                  </a:lnTo>
                  <a:cubicBezTo>
                    <a:pt x="1512" y="76"/>
                    <a:pt x="1500" y="64"/>
                    <a:pt x="1500" y="51"/>
                  </a:cubicBezTo>
                  <a:cubicBezTo>
                    <a:pt x="1500" y="37"/>
                    <a:pt x="1511" y="26"/>
                    <a:pt x="1525" y="25"/>
                  </a:cubicBezTo>
                  <a:close/>
                  <a:moveTo>
                    <a:pt x="1725" y="24"/>
                  </a:moveTo>
                  <a:lnTo>
                    <a:pt x="1725" y="24"/>
                  </a:lnTo>
                  <a:cubicBezTo>
                    <a:pt x="1739" y="24"/>
                    <a:pt x="1750" y="35"/>
                    <a:pt x="1750" y="49"/>
                  </a:cubicBezTo>
                  <a:cubicBezTo>
                    <a:pt x="1750" y="62"/>
                    <a:pt x="1739" y="74"/>
                    <a:pt x="1726" y="74"/>
                  </a:cubicBezTo>
                  <a:lnTo>
                    <a:pt x="1725" y="74"/>
                  </a:lnTo>
                  <a:cubicBezTo>
                    <a:pt x="1712" y="74"/>
                    <a:pt x="1700" y="63"/>
                    <a:pt x="1700" y="49"/>
                  </a:cubicBezTo>
                  <a:cubicBezTo>
                    <a:pt x="1700" y="35"/>
                    <a:pt x="1711" y="24"/>
                    <a:pt x="1725" y="24"/>
                  </a:cubicBezTo>
                  <a:close/>
                  <a:moveTo>
                    <a:pt x="1925" y="22"/>
                  </a:moveTo>
                  <a:lnTo>
                    <a:pt x="2275" y="20"/>
                  </a:lnTo>
                  <a:cubicBezTo>
                    <a:pt x="2289" y="20"/>
                    <a:pt x="2300" y="31"/>
                    <a:pt x="2300" y="45"/>
                  </a:cubicBezTo>
                  <a:cubicBezTo>
                    <a:pt x="2300" y="58"/>
                    <a:pt x="2289" y="70"/>
                    <a:pt x="2275" y="70"/>
                  </a:cubicBezTo>
                  <a:lnTo>
                    <a:pt x="1925" y="72"/>
                  </a:lnTo>
                  <a:cubicBezTo>
                    <a:pt x="1912" y="72"/>
                    <a:pt x="1900" y="61"/>
                    <a:pt x="1900" y="48"/>
                  </a:cubicBezTo>
                  <a:cubicBezTo>
                    <a:pt x="1900" y="34"/>
                    <a:pt x="1911" y="22"/>
                    <a:pt x="1925" y="22"/>
                  </a:cubicBezTo>
                  <a:close/>
                  <a:moveTo>
                    <a:pt x="2475" y="18"/>
                  </a:moveTo>
                  <a:lnTo>
                    <a:pt x="2475" y="18"/>
                  </a:lnTo>
                  <a:cubicBezTo>
                    <a:pt x="2489" y="18"/>
                    <a:pt x="2500" y="29"/>
                    <a:pt x="2500" y="43"/>
                  </a:cubicBezTo>
                  <a:cubicBezTo>
                    <a:pt x="2500" y="57"/>
                    <a:pt x="2489" y="68"/>
                    <a:pt x="2476" y="68"/>
                  </a:cubicBezTo>
                  <a:lnTo>
                    <a:pt x="2476" y="68"/>
                  </a:lnTo>
                  <a:cubicBezTo>
                    <a:pt x="2462" y="68"/>
                    <a:pt x="2450" y="57"/>
                    <a:pt x="2450" y="43"/>
                  </a:cubicBezTo>
                  <a:cubicBezTo>
                    <a:pt x="2450" y="30"/>
                    <a:pt x="2461" y="18"/>
                    <a:pt x="2475" y="18"/>
                  </a:cubicBezTo>
                  <a:close/>
                  <a:moveTo>
                    <a:pt x="2675" y="17"/>
                  </a:moveTo>
                  <a:lnTo>
                    <a:pt x="2675" y="17"/>
                  </a:lnTo>
                  <a:cubicBezTo>
                    <a:pt x="2689" y="17"/>
                    <a:pt x="2700" y="28"/>
                    <a:pt x="2700" y="41"/>
                  </a:cubicBezTo>
                  <a:cubicBezTo>
                    <a:pt x="2700" y="55"/>
                    <a:pt x="2689" y="67"/>
                    <a:pt x="2676" y="67"/>
                  </a:cubicBezTo>
                  <a:lnTo>
                    <a:pt x="2676" y="67"/>
                  </a:lnTo>
                  <a:cubicBezTo>
                    <a:pt x="2662" y="67"/>
                    <a:pt x="2650" y="56"/>
                    <a:pt x="2650" y="42"/>
                  </a:cubicBezTo>
                  <a:cubicBezTo>
                    <a:pt x="2650" y="28"/>
                    <a:pt x="2661" y="17"/>
                    <a:pt x="2675" y="17"/>
                  </a:cubicBezTo>
                  <a:close/>
                  <a:moveTo>
                    <a:pt x="2875" y="15"/>
                  </a:moveTo>
                  <a:lnTo>
                    <a:pt x="3225" y="12"/>
                  </a:lnTo>
                  <a:cubicBezTo>
                    <a:pt x="3239" y="12"/>
                    <a:pt x="3250" y="23"/>
                    <a:pt x="3250" y="37"/>
                  </a:cubicBezTo>
                  <a:cubicBezTo>
                    <a:pt x="3250" y="51"/>
                    <a:pt x="3239" y="62"/>
                    <a:pt x="3226" y="62"/>
                  </a:cubicBezTo>
                  <a:lnTo>
                    <a:pt x="2876" y="65"/>
                  </a:lnTo>
                  <a:cubicBezTo>
                    <a:pt x="2862" y="65"/>
                    <a:pt x="2850" y="54"/>
                    <a:pt x="2850" y="40"/>
                  </a:cubicBezTo>
                  <a:cubicBezTo>
                    <a:pt x="2850" y="27"/>
                    <a:pt x="2861" y="15"/>
                    <a:pt x="2875" y="15"/>
                  </a:cubicBezTo>
                  <a:close/>
                  <a:moveTo>
                    <a:pt x="3425" y="11"/>
                  </a:moveTo>
                  <a:lnTo>
                    <a:pt x="3425" y="11"/>
                  </a:lnTo>
                  <a:cubicBezTo>
                    <a:pt x="3439" y="11"/>
                    <a:pt x="3450" y="22"/>
                    <a:pt x="3450" y="36"/>
                  </a:cubicBezTo>
                  <a:cubicBezTo>
                    <a:pt x="3451" y="50"/>
                    <a:pt x="3439" y="61"/>
                    <a:pt x="3426" y="61"/>
                  </a:cubicBezTo>
                  <a:lnTo>
                    <a:pt x="3426" y="61"/>
                  </a:lnTo>
                  <a:cubicBezTo>
                    <a:pt x="3412" y="61"/>
                    <a:pt x="3400" y="50"/>
                    <a:pt x="3400" y="36"/>
                  </a:cubicBezTo>
                  <a:cubicBezTo>
                    <a:pt x="3400" y="22"/>
                    <a:pt x="3411" y="11"/>
                    <a:pt x="3425" y="11"/>
                  </a:cubicBezTo>
                  <a:close/>
                  <a:moveTo>
                    <a:pt x="3625" y="9"/>
                  </a:moveTo>
                  <a:lnTo>
                    <a:pt x="3625" y="9"/>
                  </a:lnTo>
                  <a:cubicBezTo>
                    <a:pt x="3639" y="9"/>
                    <a:pt x="3650" y="20"/>
                    <a:pt x="3650" y="34"/>
                  </a:cubicBezTo>
                  <a:cubicBezTo>
                    <a:pt x="3651" y="48"/>
                    <a:pt x="3639" y="59"/>
                    <a:pt x="3626" y="59"/>
                  </a:cubicBezTo>
                  <a:lnTo>
                    <a:pt x="3626" y="59"/>
                  </a:lnTo>
                  <a:cubicBezTo>
                    <a:pt x="3612" y="60"/>
                    <a:pt x="3601" y="48"/>
                    <a:pt x="3600" y="35"/>
                  </a:cubicBezTo>
                  <a:cubicBezTo>
                    <a:pt x="3600" y="21"/>
                    <a:pt x="3611" y="10"/>
                    <a:pt x="3625" y="9"/>
                  </a:cubicBezTo>
                  <a:close/>
                  <a:moveTo>
                    <a:pt x="3825" y="8"/>
                  </a:moveTo>
                  <a:lnTo>
                    <a:pt x="4175" y="5"/>
                  </a:lnTo>
                  <a:cubicBezTo>
                    <a:pt x="4189" y="5"/>
                    <a:pt x="4200" y="16"/>
                    <a:pt x="4200" y="30"/>
                  </a:cubicBezTo>
                  <a:cubicBezTo>
                    <a:pt x="4201" y="44"/>
                    <a:pt x="4189" y="55"/>
                    <a:pt x="4176" y="55"/>
                  </a:cubicBezTo>
                  <a:lnTo>
                    <a:pt x="3826" y="58"/>
                  </a:lnTo>
                  <a:cubicBezTo>
                    <a:pt x="3812" y="58"/>
                    <a:pt x="3801" y="47"/>
                    <a:pt x="3800" y="33"/>
                  </a:cubicBezTo>
                  <a:cubicBezTo>
                    <a:pt x="3800" y="19"/>
                    <a:pt x="3811" y="8"/>
                    <a:pt x="3825" y="8"/>
                  </a:cubicBezTo>
                  <a:close/>
                  <a:moveTo>
                    <a:pt x="4375" y="4"/>
                  </a:moveTo>
                  <a:lnTo>
                    <a:pt x="4375" y="4"/>
                  </a:lnTo>
                  <a:cubicBezTo>
                    <a:pt x="4389" y="4"/>
                    <a:pt x="4400" y="15"/>
                    <a:pt x="4400" y="28"/>
                  </a:cubicBezTo>
                  <a:cubicBezTo>
                    <a:pt x="4401" y="42"/>
                    <a:pt x="4390" y="54"/>
                    <a:pt x="4376" y="54"/>
                  </a:cubicBezTo>
                  <a:lnTo>
                    <a:pt x="4376" y="54"/>
                  </a:lnTo>
                  <a:cubicBezTo>
                    <a:pt x="4362" y="54"/>
                    <a:pt x="4351" y="43"/>
                    <a:pt x="4350" y="29"/>
                  </a:cubicBezTo>
                  <a:cubicBezTo>
                    <a:pt x="4350" y="15"/>
                    <a:pt x="4361" y="4"/>
                    <a:pt x="4375" y="4"/>
                  </a:cubicBezTo>
                  <a:close/>
                  <a:moveTo>
                    <a:pt x="4575" y="2"/>
                  </a:moveTo>
                  <a:lnTo>
                    <a:pt x="4575" y="2"/>
                  </a:lnTo>
                  <a:cubicBezTo>
                    <a:pt x="4589" y="2"/>
                    <a:pt x="4600" y="13"/>
                    <a:pt x="4600" y="27"/>
                  </a:cubicBezTo>
                  <a:cubicBezTo>
                    <a:pt x="4601" y="41"/>
                    <a:pt x="4590" y="52"/>
                    <a:pt x="4576" y="52"/>
                  </a:cubicBezTo>
                  <a:lnTo>
                    <a:pt x="4576" y="52"/>
                  </a:lnTo>
                  <a:cubicBezTo>
                    <a:pt x="4562" y="52"/>
                    <a:pt x="4551" y="41"/>
                    <a:pt x="4550" y="27"/>
                  </a:cubicBezTo>
                  <a:cubicBezTo>
                    <a:pt x="4550" y="14"/>
                    <a:pt x="4561" y="2"/>
                    <a:pt x="4575" y="2"/>
                  </a:cubicBezTo>
                  <a:close/>
                  <a:moveTo>
                    <a:pt x="4775" y="1"/>
                  </a:moveTo>
                  <a:lnTo>
                    <a:pt x="4848" y="0"/>
                  </a:lnTo>
                  <a:cubicBezTo>
                    <a:pt x="4862" y="0"/>
                    <a:pt x="4873" y="11"/>
                    <a:pt x="4873" y="25"/>
                  </a:cubicBezTo>
                  <a:cubicBezTo>
                    <a:pt x="4874" y="39"/>
                    <a:pt x="4862" y="50"/>
                    <a:pt x="4849" y="50"/>
                  </a:cubicBezTo>
                  <a:lnTo>
                    <a:pt x="4776" y="51"/>
                  </a:lnTo>
                  <a:cubicBezTo>
                    <a:pt x="4762" y="51"/>
                    <a:pt x="4751" y="40"/>
                    <a:pt x="4750" y="26"/>
                  </a:cubicBezTo>
                  <a:cubicBezTo>
                    <a:pt x="4750" y="12"/>
                    <a:pt x="4761" y="1"/>
                    <a:pt x="477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28"/>
            <p:cNvGrpSpPr/>
            <p:nvPr/>
          </p:nvGrpSpPr>
          <p:grpSpPr>
            <a:xfrm>
              <a:off x="3909600" y="2516400"/>
              <a:ext cx="1278360" cy="318600"/>
              <a:chOff x="3909600" y="2516400"/>
              <a:chExt cx="1278360" cy="318600"/>
            </a:xfrm>
          </p:grpSpPr>
          <p:sp>
            <p:nvSpPr>
              <p:cNvPr id="297" name="Freeform 126"/>
              <p:cNvSpPr/>
              <p:nvPr/>
            </p:nvSpPr>
            <p:spPr>
              <a:xfrm>
                <a:off x="3909600" y="2516400"/>
                <a:ext cx="1278360" cy="318600"/>
              </a:xfrm>
              <a:custGeom>
                <a:avLst/>
                <a:gdLst/>
                <a:ahLst/>
                <a:rect l="l" t="t" r="r" b="b"/>
                <a:pathLst>
                  <a:path w="827" h="206">
                    <a:moveTo>
                      <a:pt x="0" y="95"/>
                    </a:moveTo>
                    <a:lnTo>
                      <a:pt x="214" y="95"/>
                    </a:lnTo>
                    <a:lnTo>
                      <a:pt x="214" y="0"/>
                    </a:lnTo>
                    <a:lnTo>
                      <a:pt x="613" y="0"/>
                    </a:lnTo>
                    <a:lnTo>
                      <a:pt x="613" y="95"/>
                    </a:lnTo>
                    <a:lnTo>
                      <a:pt x="827" y="95"/>
                    </a:lnTo>
                    <a:lnTo>
                      <a:pt x="414" y="206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7"/>
              <p:cNvSpPr/>
              <p:nvPr/>
            </p:nvSpPr>
            <p:spPr>
              <a:xfrm>
                <a:off x="3909600" y="2516400"/>
                <a:ext cx="1278360" cy="318600"/>
              </a:xfrm>
              <a:custGeom>
                <a:avLst/>
                <a:gdLst/>
                <a:ahLst/>
                <a:rect l="l" t="t" r="r" b="b"/>
                <a:pathLst>
                  <a:path w="827" h="206">
                    <a:moveTo>
                      <a:pt x="0" y="95"/>
                    </a:moveTo>
                    <a:lnTo>
                      <a:pt x="214" y="95"/>
                    </a:lnTo>
                    <a:lnTo>
                      <a:pt x="214" y="0"/>
                    </a:lnTo>
                    <a:lnTo>
                      <a:pt x="613" y="0"/>
                    </a:lnTo>
                    <a:lnTo>
                      <a:pt x="613" y="95"/>
                    </a:lnTo>
                    <a:lnTo>
                      <a:pt x="827" y="95"/>
                    </a:lnTo>
                    <a:lnTo>
                      <a:pt x="414" y="206"/>
                    </a:lnTo>
                    <a:lnTo>
                      <a:pt x="0" y="95"/>
                    </a:lnTo>
                    <a:close/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Rectangle 129"/>
            <p:cNvSpPr/>
            <p:nvPr/>
          </p:nvSpPr>
          <p:spPr>
            <a:xfrm>
              <a:off x="4308120" y="257652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verrid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0"/>
            <p:cNvSpPr/>
            <p:nvPr/>
          </p:nvSpPr>
          <p:spPr>
            <a:xfrm>
              <a:off x="4828320" y="257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32"/>
            <p:cNvSpPr/>
            <p:nvPr/>
          </p:nvSpPr>
          <p:spPr>
            <a:xfrm>
              <a:off x="4828320" y="273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9040" y="166680"/>
            <a:ext cx="72104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L Annex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468360" y="2716200"/>
            <a:ext cx="2263680" cy="2562840"/>
          </a:xfrm>
          <a:prstGeom prst="rect">
            <a:avLst/>
          </a:prstGeom>
          <a:solidFill>
            <a:srgbClr val="bbe0e3"/>
          </a:solidFill>
          <a:ln w="2844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 Annex included in the Regulation Associated with the Basic Fun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ion 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ion 13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ion 7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6732720" y="2593800"/>
            <a:ext cx="1576080" cy="642600"/>
          </a:xfrm>
          <a:prstGeom prst="rect">
            <a:avLst/>
          </a:prstGeom>
          <a:solidFill>
            <a:srgbClr val="3c8c93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ependent Regulation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6735600" y="4735440"/>
            <a:ext cx="1578240" cy="642600"/>
          </a:xfrm>
          <a:prstGeom prst="rect">
            <a:avLst/>
          </a:prstGeom>
          <a:solidFill>
            <a:srgbClr val="a3a3e0"/>
          </a:soli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ependent Regulation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rved Down Arrow 5"/>
          <p:cNvSpPr/>
          <p:nvPr/>
        </p:nvSpPr>
        <p:spPr>
          <a:xfrm>
            <a:off x="1622520" y="1714680"/>
            <a:ext cx="6070680" cy="753840"/>
          </a:xfrm>
          <a:custGeom>
            <a:avLst/>
            <a:gdLst>
              <a:gd name="textAreaLeft" fmla="*/ 1439640 w 6070680"/>
              <a:gd name="textAreaRight" fmla="*/ 4566240 w 6070680"/>
              <a:gd name="textAreaTop" fmla="*/ 100800 h 753840"/>
              <a:gd name="textAreaBottom" fmla="*/ 6530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45" hR="21600" stAng="10800000" swAng="5400000"/>
                <a:lnTo>
                  <a:pt x="11125" y="0"/>
                </a:lnTo>
                <a:arcTo wR="10245" hR="21600" stAng="-5400000" swAng="3686170"/>
                <a:lnTo>
                  <a:pt x="21275" y="16200"/>
                </a:lnTo>
                <a:lnTo>
                  <a:pt x="20929" y="21600"/>
                </a:lnTo>
                <a:lnTo>
                  <a:pt x="19933" y="16200"/>
                </a:lnTo>
                <a:lnTo>
                  <a:pt x="20164" y="16200"/>
                </a:lnTo>
                <a:arcTo wR="10245" hR="21600" stAng="-1713830" swAng="-3616087"/>
                <a:lnTo>
                  <a:pt x="10685" y="20"/>
                </a:lnTo>
                <a:arcTo wR="10245" hR="21600" stAng="-5470083" swAng="-5329917"/>
                <a:close/>
              </a:path>
              <a:path fill="darkenLess" w="21600" h="21600">
                <a:moveTo>
                  <a:pt x="0" y="21600"/>
                </a:moveTo>
                <a:arcTo wR="10245" hR="21600" stAng="10800000" swAng="5400000"/>
                <a:lnTo>
                  <a:pt x="10245" y="0"/>
                </a:lnTo>
                <a:arcTo wR="10245" hR="21600" stAng="-5400000" swAng="70083"/>
                <a:lnTo>
                  <a:pt x="10685" y="20"/>
                </a:lnTo>
                <a:arcTo wR="10245" hR="21600" stAng="-5470083" swAng="-5329917"/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rved Down Arrow 7"/>
          <p:cNvSpPr/>
          <p:nvPr/>
        </p:nvSpPr>
        <p:spPr>
          <a:xfrm flipV="1">
            <a:off x="1581120" y="5559120"/>
            <a:ext cx="6068880" cy="753840"/>
          </a:xfrm>
          <a:custGeom>
            <a:avLst/>
            <a:gdLst>
              <a:gd name="textAreaLeft" fmla="*/ 1438920 w 6068880"/>
              <a:gd name="textAreaRight" fmla="*/ 4564800 w 6068880"/>
              <a:gd name="textAreaTop" fmla="*/ 100800 h 753840"/>
              <a:gd name="textAreaBottom" fmla="*/ 6530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45" hR="21600" stAng="10800000" swAng="5400000"/>
                <a:lnTo>
                  <a:pt x="11125" y="0"/>
                </a:lnTo>
                <a:arcTo wR="10245" hR="21600" stAng="-5400000" swAng="3686170"/>
                <a:lnTo>
                  <a:pt x="21275" y="16200"/>
                </a:lnTo>
                <a:lnTo>
                  <a:pt x="20929" y="21600"/>
                </a:lnTo>
                <a:lnTo>
                  <a:pt x="19933" y="16200"/>
                </a:lnTo>
                <a:lnTo>
                  <a:pt x="20164" y="16200"/>
                </a:lnTo>
                <a:arcTo wR="10245" hR="21600" stAng="-1713830" swAng="-3616087"/>
                <a:lnTo>
                  <a:pt x="10685" y="20"/>
                </a:lnTo>
                <a:arcTo wR="10245" hR="21600" stAng="-5470083" swAng="-5329917"/>
                <a:close/>
              </a:path>
              <a:path fill="darkenLess" w="21600" h="21600">
                <a:moveTo>
                  <a:pt x="0" y="21600"/>
                </a:moveTo>
                <a:arcTo wR="10245" hR="21600" stAng="10800000" swAng="5400000"/>
                <a:lnTo>
                  <a:pt x="10245" y="0"/>
                </a:lnTo>
                <a:arcTo wR="10245" hR="21600" stAng="-5400000" swAng="70083"/>
                <a:lnTo>
                  <a:pt x="10685" y="20"/>
                </a:lnTo>
                <a:arcTo wR="10245" hR="21600" stAng="-5470083" swAng="-5329917"/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3"/>
          <p:cNvGrpSpPr/>
          <p:nvPr/>
        </p:nvGrpSpPr>
        <p:grpSpPr>
          <a:xfrm>
            <a:off x="2838600" y="3330720"/>
            <a:ext cx="4740120" cy="1344600"/>
            <a:chOff x="2838600" y="3330720"/>
            <a:chExt cx="4740120" cy="1344600"/>
          </a:xfrm>
        </p:grpSpPr>
        <p:sp>
          <p:nvSpPr>
            <p:cNvPr id="309" name="Bent Arrow 8"/>
            <p:cNvSpPr/>
            <p:nvPr/>
          </p:nvSpPr>
          <p:spPr>
            <a:xfrm flipH="1">
              <a:off x="2846160" y="4420080"/>
              <a:ext cx="4732560" cy="255240"/>
            </a:xfrm>
            <a:custGeom>
              <a:avLst/>
              <a:gdLst/>
              <a:ahLst/>
              <a:rect l="l" t="t" r="r" b="b"/>
              <a:pathLst>
                <a:path w="4732020" h="255270">
                  <a:moveTo>
                    <a:pt x="0" y="255270"/>
                  </a:moveTo>
                  <a:lnTo>
                    <a:pt x="0" y="143589"/>
                  </a:lnTo>
                  <a:cubicBezTo>
                    <a:pt x="0" y="81909"/>
                    <a:pt x="50001" y="31908"/>
                    <a:pt x="111681" y="31908"/>
                  </a:cubicBezTo>
                  <a:lnTo>
                    <a:pt x="4604385" y="31909"/>
                  </a:lnTo>
                  <a:lnTo>
                    <a:pt x="4604385" y="0"/>
                  </a:lnTo>
                  <a:lnTo>
                    <a:pt x="4732020" y="63818"/>
                  </a:lnTo>
                  <a:lnTo>
                    <a:pt x="4604385" y="127635"/>
                  </a:lnTo>
                  <a:lnTo>
                    <a:pt x="4604385" y="95726"/>
                  </a:lnTo>
                  <a:lnTo>
                    <a:pt x="111681" y="95726"/>
                  </a:lnTo>
                  <a:cubicBezTo>
                    <a:pt x="85247" y="95726"/>
                    <a:pt x="63818" y="117155"/>
                    <a:pt x="63818" y="143589"/>
                  </a:cubicBezTo>
                  <a:lnTo>
                    <a:pt x="63818" y="255270"/>
                  </a:lnTo>
                  <a:lnTo>
                    <a:pt x="0" y="25527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Bent Arrow 9"/>
            <p:cNvSpPr/>
            <p:nvPr/>
          </p:nvSpPr>
          <p:spPr>
            <a:xfrm flipH="1" flipV="1">
              <a:off x="2838600" y="3330720"/>
              <a:ext cx="4732560" cy="292320"/>
            </a:xfrm>
            <a:custGeom>
              <a:avLst/>
              <a:gdLst/>
              <a:ahLst/>
              <a:rect l="l" t="t" r="r" b="b"/>
              <a:pathLst>
                <a:path w="4732020" h="292491">
                  <a:moveTo>
                    <a:pt x="0" y="292491"/>
                  </a:moveTo>
                  <a:lnTo>
                    <a:pt x="0" y="164526"/>
                  </a:lnTo>
                  <a:cubicBezTo>
                    <a:pt x="0" y="93853"/>
                    <a:pt x="57292" y="36561"/>
                    <a:pt x="127965" y="36561"/>
                  </a:cubicBezTo>
                  <a:lnTo>
                    <a:pt x="4585775" y="36561"/>
                  </a:lnTo>
                  <a:lnTo>
                    <a:pt x="4585775" y="0"/>
                  </a:lnTo>
                  <a:lnTo>
                    <a:pt x="4732020" y="73123"/>
                  </a:lnTo>
                  <a:lnTo>
                    <a:pt x="4585775" y="146246"/>
                  </a:lnTo>
                  <a:lnTo>
                    <a:pt x="4585775" y="109684"/>
                  </a:lnTo>
                  <a:lnTo>
                    <a:pt x="127965" y="109684"/>
                  </a:lnTo>
                  <a:cubicBezTo>
                    <a:pt x="97677" y="109684"/>
                    <a:pt x="73123" y="134238"/>
                    <a:pt x="73123" y="164526"/>
                  </a:cubicBezTo>
                  <a:lnTo>
                    <a:pt x="73123" y="292491"/>
                  </a:lnTo>
                  <a:lnTo>
                    <a:pt x="0" y="292491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Box 10"/>
          <p:cNvSpPr/>
          <p:nvPr/>
        </p:nvSpPr>
        <p:spPr>
          <a:xfrm>
            <a:off x="3284640" y="1432080"/>
            <a:ext cx="2752560" cy="946440"/>
          </a:xfrm>
          <a:prstGeom prst="rect">
            <a:avLst/>
          </a:prstGeom>
          <a:solidFill>
            <a:srgbClr val="b3b3b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quirement linking the new Regulation to the parent Regulation for the base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271680" y="5827680"/>
            <a:ext cx="2754360" cy="946440"/>
          </a:xfrm>
          <a:prstGeom prst="rect">
            <a:avLst/>
          </a:prstGeom>
          <a:solidFill>
            <a:srgbClr val="b3b3b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quirement linking the new Regulation to the parent Regulation for the base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3621240" y="3648240"/>
            <a:ext cx="3900240" cy="733320"/>
          </a:xfrm>
          <a:prstGeom prst="rect">
            <a:avLst/>
          </a:prstGeom>
          <a:solidFill>
            <a:srgbClr val="b3b3b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quirement in the new Regulation linking the CEL requirements to the parent  Regulation for the basic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 Annex - Differ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3640" y="1625400"/>
            <a:ext cx="4276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 1: CEL present in each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13H, ESC and BAS regulations include and call CEL Annex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tion 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 and BAS regulations propose two alterna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Fulfilling CEL Annex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the applicant  demonstrates the Systems are already covered by R13H-CEL 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tion 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aking system, ESC and BAS regulations propose two alterna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Fulfilling CEL Annex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ctions or sub-systems being subject to CEL requirements may be demonstrated by CEL annex of another regula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 2: CEL present in R13H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R13H includes and calls CEL Annex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13H CEL Annex covers all complex electronic control systems including ESC and BA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3:53:22Z</dcterms:created>
  <dc:creator>Olivier FONTAINE</dc:creator>
  <dc:description/>
  <dc:language>en-US</dc:language>
  <cp:lastModifiedBy>Guichard</cp:lastModifiedBy>
  <cp:lastPrinted>2012-12-06T13:18:59Z</cp:lastPrinted>
  <dcterms:modified xsi:type="dcterms:W3CDTF">2013-09-17T15:50:51Z</dcterms:modified>
  <cp:revision>291</cp:revision>
  <dc:subject/>
  <dc:title>Présentation PowerPoint</dc:title>
</cp:coreProperties>
</file>