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BB25-BF09-4D50-9E0C-BC86D36A52AC}"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85" name="PlaceHolder 3"/>
          <p:cNvSpPr>
            <a:spLocks noGrp="1"/>
          </p:cNvSpPr>
          <p:nvPr>
            <p:ph type="sldImg"/>
          </p:nvPr>
        </p:nvSpPr>
        <p:spPr>
          <a:xfrm>
            <a:off x="695160" y="739440"/>
            <a:ext cx="5345280" cy="37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Notes Placeholder 4"/>
          <p:cNvSpPr/>
          <p:nvPr/>
        </p:nvSpPr>
        <p:spPr>
          <a:xfrm>
            <a:off x="673200" y="4686480"/>
            <a:ext cx="5389560" cy="4439880"/>
          </a:xfrm>
          <a:prstGeom prst="rect">
            <a:avLst/>
          </a:prstGeom>
          <a:noFill/>
          <a:ln w="0">
            <a:noFill/>
          </a:ln>
        </p:spPr>
        <p:style>
          <a:lnRef idx="0"/>
          <a:fillRef idx="0"/>
          <a:effectRef idx="0"/>
          <a:fontRef idx="minor"/>
        </p:style>
        <p:txBody>
          <a:bodyPr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Master text styles</a:t>
            </a:r>
            <a:endParaRPr b="1"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level</a:t>
            </a:r>
            <a:endParaRPr b="1"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level</a:t>
            </a:r>
            <a:endParaRPr b="1"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level</a:t>
            </a:r>
            <a:endParaRPr b="1"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level</a:t>
            </a:r>
            <a:endParaRPr b="1" lang="en-US" sz="1200" spc="-1" strike="noStrike">
              <a:solidFill>
                <a:srgbClr val="000000"/>
              </a:solidFill>
              <a:latin typeface="Arial"/>
            </a:endParaRPr>
          </a:p>
        </p:txBody>
      </p:sp>
      <p:sp>
        <p:nvSpPr>
          <p:cNvPr id="87" name="PlaceHolder 4"/>
          <p:cNvSpPr>
            <a:spLocks noGrp="1"/>
          </p:cNvSpPr>
          <p:nvPr>
            <p:ph type="ftr" idx="8"/>
          </p:nvPr>
        </p:nvSpPr>
        <p:spPr>
          <a:xfrm>
            <a:off x="-360" y="9370800"/>
            <a:ext cx="2919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5"/>
          <p:cNvSpPr>
            <a:spLocks noGrp="1"/>
          </p:cNvSpPr>
          <p:nvPr>
            <p:ph type="sldNum" idx="9"/>
          </p:nvPr>
        </p:nvSpPr>
        <p:spPr>
          <a:xfrm>
            <a:off x="3814560" y="9370800"/>
            <a:ext cx="2919240" cy="4935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587A-8960-4067-B891-3C7EB06E64B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89" name="PlaceHolder 6"/>
          <p:cNvSpPr>
            <a:spLocks noGrp="1"/>
          </p:cNvSpPr>
          <p:nvPr>
            <p:ph type="body"/>
          </p:nvPr>
        </p:nvSpPr>
        <p:spPr>
          <a:xfrm>
            <a:off x="673560" y="4686840"/>
            <a:ext cx="5388120" cy="443988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693720" y="738360"/>
            <a:ext cx="5345280" cy="3700440"/>
          </a:xfrm>
          <a:prstGeom prst="rect">
            <a:avLst/>
          </a:prstGeom>
          <a:ln w="0">
            <a:noFill/>
          </a:ln>
        </p:spPr>
      </p:sp>
      <p:sp>
        <p:nvSpPr>
          <p:cNvPr id="375" name="PlaceHolder 2"/>
          <p:cNvSpPr>
            <a:spLocks noGrp="1"/>
          </p:cNvSpPr>
          <p:nvPr>
            <p:ph type="body"/>
          </p:nvPr>
        </p:nvSpPr>
        <p:spPr>
          <a:xfrm>
            <a:off x="-598320" y="8858160"/>
            <a:ext cx="6906960" cy="9632880"/>
          </a:xfrm>
          <a:prstGeom prst="rect">
            <a:avLst/>
          </a:prstGeom>
          <a:noFill/>
          <a:ln w="0">
            <a:solidFill>
              <a:srgbClr val="000000"/>
            </a:solidFill>
          </a:ln>
        </p:spPr>
        <p:txBody>
          <a:bodyPr lIns="90000" rIns="90000" tIns="46800" bIns="46800" anchor="t">
            <a:noAutofit/>
          </a:bodyPr>
          <a:p>
            <a:pPr indent="0">
              <a:spcBef>
                <a:spcPts val="451"/>
              </a:spcBef>
              <a:buNone/>
              <a:tabLst>
                <a:tab algn="l" pos="0"/>
              </a:tabLst>
            </a:pP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5E6C8-BC77-4F8C-8B22-4E8EF943A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33DAF-8CCE-4EE4-8EC0-FF0731DFA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8438E-013A-4121-8D80-BB14BB2C5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07F23-CE8D-49E7-85CA-4531AB84A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00DAD-6CCF-4CD7-9C98-34FEA1117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2728C-A5E1-4255-8B69-9D4F6D09C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3EE49-032E-410C-9CBE-246B8C914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33B4D-4939-4E6A-98F1-B1BDC65A5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D7EBF-CD8B-4168-B785-8976D71FB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FC631-A742-4964-A5B6-676FB3A6A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F441F-4169-4EAC-92B8-D1307D790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C3EFE-F596-4B3F-A899-B61B318CA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5D297-681C-41DD-926A-63985B993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E22B2-CFBF-457C-9CA8-AF693D940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8F327-0591-4F48-A4D6-CA365925E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F70CD-C8ED-444C-AA45-FE4DA990C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DF96A-A508-4EFC-8711-5649F7D3E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B712A-0854-4696-9A0A-1DD9B598F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948A2-901E-4036-8FEC-855090945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BEAB9-D805-4CF7-85DA-86EE5CA19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F358A-0CF8-4573-A309-5D6E64D03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73FBE-D126-4A10-9883-71E99C7E5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45A2A-8DDE-4159-99D4-D71DF291B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075A1-E5C3-4112-A69B-99BC2EC6C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BE7E-DFF9-4717-BB15-E297CA10C5E7}" type="datetime">
              <a:rPr b="0" lang="ja-JP" sz="1200" spc="-1" strike="noStrike">
                <a:solidFill>
                  <a:srgbClr val="898989"/>
                </a:solidFill>
                <a:latin typeface="Calibri"/>
              </a:rPr>
              <a:t>26/0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B284-9F2C-495B-AA1D-6CEA5355AD73}"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95360" y="6356520"/>
            <a:ext cx="2311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F6AF-CC89-41D2-A8EC-65EE1A929A50}" type="datetime">
              <a:rPr b="0" lang="ja-JP" sz="1200" spc="-1" strike="noStrike">
                <a:solidFill>
                  <a:srgbClr val="898989"/>
                </a:solidFill>
                <a:latin typeface="Calibri"/>
              </a:rPr>
              <a:t>26/0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384360" y="6356520"/>
            <a:ext cx="31366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5" name="PlaceHolder 5"/>
          <p:cNvSpPr>
            <a:spLocks noGrp="1"/>
          </p:cNvSpPr>
          <p:nvPr>
            <p:ph type="sldNum" idx="6"/>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CFAE-E179-4BBB-8B76-B32048D76524}"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www2.unece.org/wiki/download/attachments/14320328/SGR0-08-13.docx"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2680" y="21301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gress Towards an</a:t>
            </a:r>
            <a:br>
              <a:rPr sz="3600"/>
            </a:br>
            <a:r>
              <a:rPr b="0" lang="en-US" sz="3600" spc="-1" strike="noStrike">
                <a:solidFill>
                  <a:srgbClr val="000000"/>
                </a:solidFill>
                <a:latin typeface="Calibri"/>
              </a:rPr>
              <a:t>International Whole Vehicle Type Approval Scheme  </a:t>
            </a:r>
            <a:endParaRPr b="0" lang="en-US" sz="3600" spc="-1" strike="noStrike">
              <a:solidFill>
                <a:srgbClr val="000000"/>
              </a:solidFill>
              <a:latin typeface="Calibri"/>
            </a:endParaRPr>
          </a:p>
        </p:txBody>
      </p:sp>
      <p:sp>
        <p:nvSpPr>
          <p:cNvPr id="91" name="PlaceHolder 2"/>
          <p:cNvSpPr>
            <a:spLocks noGrp="1"/>
          </p:cNvSpPr>
          <p:nvPr>
            <p:ph type="subTitle"/>
          </p:nvPr>
        </p:nvSpPr>
        <p:spPr>
          <a:xfrm>
            <a:off x="1496880" y="3897000"/>
            <a:ext cx="6934320" cy="971640"/>
          </a:xfrm>
          <a:prstGeom prst="rect">
            <a:avLst/>
          </a:prstGeom>
          <a:noFill/>
          <a:ln w="0">
            <a:noFill/>
          </a:ln>
        </p:spPr>
        <p:txBody>
          <a:bodyPr anchor="t">
            <a:noAutofit/>
          </a:bodyPr>
          <a:p>
            <a:pPr indent="0" algn="ctr">
              <a:spcBef>
                <a:spcPts val="700"/>
              </a:spcBef>
              <a:buNone/>
              <a:tabLst>
                <a:tab algn="l" pos="0"/>
              </a:tabLst>
            </a:pPr>
            <a:r>
              <a:rPr b="0" lang="en-US" sz="2800" spc="-1" strike="noStrike">
                <a:solidFill>
                  <a:srgbClr val="ff0000"/>
                </a:solidFill>
                <a:latin typeface="Calibri"/>
              </a:rPr>
              <a:t>Sub-group “UN R0” of  the IWVTA Informal Group</a:t>
            </a:r>
            <a:endParaRPr b="0" lang="en-US" sz="2800" spc="-1" strike="noStrike">
              <a:solidFill>
                <a:srgbClr val="000000"/>
              </a:solidFill>
              <a:latin typeface="Calibri"/>
            </a:endParaRPr>
          </a:p>
        </p:txBody>
      </p:sp>
      <p:sp>
        <p:nvSpPr>
          <p:cNvPr id="92" name="Text Box 4"/>
          <p:cNvSpPr/>
          <p:nvPr/>
        </p:nvSpPr>
        <p:spPr>
          <a:xfrm>
            <a:off x="236520" y="260280"/>
            <a:ext cx="572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ted by the Chairman of IWVTA Sub-group “UN R0”</a:t>
            </a:r>
            <a:endParaRPr b="1" lang="en-US" sz="1600" spc="-1" strike="noStrike">
              <a:solidFill>
                <a:srgbClr val="000000"/>
              </a:solidFill>
              <a:latin typeface="Arial"/>
            </a:endParaRPr>
          </a:p>
        </p:txBody>
      </p:sp>
      <p:sp>
        <p:nvSpPr>
          <p:cNvPr id="93" name="Text Box 4"/>
          <p:cNvSpPr/>
          <p:nvPr/>
        </p:nvSpPr>
        <p:spPr>
          <a:xfrm>
            <a:off x="6284880" y="297000"/>
            <a:ext cx="331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l document WP.29-161-17</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907C-2ADC-48C4-A472-B44150B53660}"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6"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7" name="テキスト ボックス 3"/>
          <p:cNvSpPr/>
          <p:nvPr/>
        </p:nvSpPr>
        <p:spPr>
          <a:xfrm>
            <a:off x="668160" y="873000"/>
            <a:ext cx="8569440" cy="6291360"/>
          </a:xfrm>
          <a:prstGeom prst="rect">
            <a:avLst/>
          </a:prstGeom>
          <a:noFill/>
          <a:ln w="0">
            <a:noFill/>
          </a:ln>
        </p:spPr>
        <p:style>
          <a:lnRef idx="0"/>
          <a:fillRef idx="0"/>
          <a:effectRef idx="0"/>
          <a:fontRef idx="minor"/>
        </p:style>
        <p:txBody>
          <a:bodyPr lIns="90000" rIns="90000" tIns="46800" bIns="46800" anchor="t">
            <a:spAutoFit/>
          </a:bodyPr>
          <a:p>
            <a:pPr marL="93600" indent="-9360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l group has working assumptions for developing the UNR0;</a:t>
            </a:r>
            <a:br>
              <a:rPr sz="2400"/>
            </a:br>
            <a:endParaRPr b="1" lang="en-US" sz="2400" spc="-1" strike="noStrike">
              <a:solidFill>
                <a:srgbClr val="000000"/>
              </a:solidFill>
              <a:latin typeface="Arial"/>
            </a:endParaRPr>
          </a:p>
          <a:p>
            <a:pPr marL="93600" indent="-93600">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 Obligation of CPs.</a:t>
            </a:r>
            <a:endParaRPr b="1" lang="en-US" sz="2200" spc="-1" strike="noStrike">
              <a:solidFill>
                <a:srgbClr val="000000"/>
              </a:solidFill>
              <a:latin typeface="Arial"/>
            </a:endParaRPr>
          </a:p>
          <a:p>
            <a:pPr lvl="1" marL="900000" indent="-35712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hall accept U-IWVTA even where they do not apply all the UN Regulations included.</a:t>
            </a:r>
            <a:endParaRPr b="1" lang="en-US" sz="2200" spc="-1" strike="noStrike">
              <a:solidFill>
                <a:srgbClr val="000000"/>
              </a:solidFill>
              <a:latin typeface="Arial"/>
            </a:endParaRPr>
          </a:p>
          <a:p>
            <a:pPr lvl="1" marL="900000" indent="-35712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hall accept, for the purpose of issuing an IWVTA, type approvals correctly issued by other CPs (according to the UN Regulations listed in Annex 4, Section 1), including instances where they do not apply those UN Regulations.</a:t>
            </a:r>
            <a:endParaRPr b="1" lang="en-US" sz="2200" spc="-1" strike="noStrike">
              <a:solidFill>
                <a:srgbClr val="000000"/>
              </a:solidFill>
              <a:latin typeface="Arial"/>
            </a:endParaRPr>
          </a:p>
          <a:p>
            <a:pPr lvl="1" marL="900000" indent="-35712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hall notify the UN secretariat those UN Regulations where they accept a lower level and/or no approval as part of an IWVTA of limited recognition.</a:t>
            </a:r>
            <a:endParaRPr b="1" lang="en-US" sz="2200" spc="-1" strike="noStrike">
              <a:solidFill>
                <a:srgbClr val="000000"/>
              </a:solidFill>
              <a:latin typeface="Arial"/>
            </a:endParaRPr>
          </a:p>
          <a:p>
            <a:pPr lvl="1" marL="900000" indent="-35712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900000" indent="-35712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900000" indent="-35712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8" name="テキスト ボックス 24"/>
          <p:cNvSpPr/>
          <p:nvPr/>
        </p:nvSpPr>
        <p:spPr>
          <a:xfrm>
            <a:off x="0" y="30240"/>
            <a:ext cx="920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for WP.29 to not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5D1C-0422-4C03-9C88-E8D438E824F8}"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20"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1" name="テキスト ボックス 3"/>
          <p:cNvSpPr/>
          <p:nvPr/>
        </p:nvSpPr>
        <p:spPr>
          <a:xfrm>
            <a:off x="349200" y="684360"/>
            <a:ext cx="9325080" cy="57344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assumptions for UNR0;</a:t>
            </a:r>
            <a:endParaRPr b="1" lang="en-US" sz="2000" spc="-1" strike="noStrike">
              <a:solidFill>
                <a:srgbClr val="000000"/>
              </a:solidFill>
              <a:latin typeface="Arial"/>
            </a:endParaRPr>
          </a:p>
          <a:p>
            <a:pPr marL="343080" indent="-343080">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Right of CPs.</a:t>
            </a:r>
            <a:endParaRPr b="1" lang="en-US" sz="2200" spc="-1" strike="noStrike">
              <a:solidFill>
                <a:srgbClr val="000000"/>
              </a:solidFill>
              <a:latin typeface="Arial"/>
            </a:endParaRPr>
          </a:p>
          <a:p>
            <a:pPr lvl="1" marL="800280" indent="-34308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Ps applying UNR0 will be permitted to issue U-IWVTA and/or IWVTA of limited recognition provided that they h</a:t>
            </a:r>
            <a:r>
              <a:rPr b="0" lang="nl-BE" sz="2200" spc="-1" strike="noStrike">
                <a:solidFill>
                  <a:srgbClr val="000000"/>
                </a:solidFill>
                <a:latin typeface="Arial"/>
                <a:ea typeface="ＭＳ Ｐゴシック"/>
              </a:rPr>
              <a:t>ave </a:t>
            </a:r>
            <a:r>
              <a:rPr b="0" lang="en-US" sz="2200" spc="-1" strike="noStrike">
                <a:solidFill>
                  <a:srgbClr val="000000"/>
                </a:solidFill>
                <a:latin typeface="Arial"/>
                <a:ea typeface="ＭＳ Ｐゴシック"/>
              </a:rPr>
              <a:t>‘technical competence’</a:t>
            </a:r>
            <a:endParaRPr b="1" lang="en-US" sz="2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	</a:t>
            </a:r>
            <a:r>
              <a:rPr b="0" i="1" lang="en-GB" sz="1600" spc="-1" strike="noStrike">
                <a:solidFill>
                  <a:srgbClr val="000000"/>
                </a:solidFill>
                <a:latin typeface="Calibri"/>
                <a:ea typeface="ＭＳ Ｐゴシック"/>
              </a:rPr>
              <a:t>“</a:t>
            </a:r>
            <a:r>
              <a:rPr b="0" i="1" lang="en-GB" sz="1600" spc="-1" strike="noStrike">
                <a:solidFill>
                  <a:srgbClr val="000000"/>
                </a:solidFill>
                <a:latin typeface="Calibri"/>
                <a:ea typeface="ＭＳ Ｐゴシック"/>
              </a:rPr>
              <a:t>Having regard to Article 2 of the 1958 Agreement </a:t>
            </a:r>
            <a:r>
              <a:rPr b="1" i="1" lang="en-GB" sz="1600" spc="-1" strike="noStrike">
                <a:solidFill>
                  <a:srgbClr val="000000"/>
                </a:solidFill>
                <a:latin typeface="Calibri"/>
                <a:ea typeface="ＭＳ Ｐゴシック"/>
              </a:rPr>
              <a:t>‘technical competence’ </a:t>
            </a:r>
            <a:r>
              <a:rPr b="0" i="1" lang="en-GB" sz="1600" spc="-1" strike="noStrike">
                <a:solidFill>
                  <a:srgbClr val="000000"/>
                </a:solidFill>
                <a:latin typeface="Calibri"/>
                <a:ea typeface="ＭＳ Ｐゴシック"/>
              </a:rPr>
              <a:t>means that a Contracting Party has the capability to verify the compliance of a whole vehicle type with UN Regulation No. 0 based on the component type approvals submitted by the manufacturer in the application, and the ability to confirm that the systems and components are installed pursuant to the individual UN Regulations listed in Annex 4 of UN Regulation No. 0.”</a:t>
            </a:r>
            <a:endParaRPr b="1"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Routine updating of UNR0.</a:t>
            </a:r>
            <a:endParaRPr b="1" lang="en-US" sz="2200" spc="-1" strike="noStrike">
              <a:solidFill>
                <a:srgbClr val="000000"/>
              </a:solidFill>
              <a:latin typeface="Arial"/>
            </a:endParaRPr>
          </a:p>
          <a:p>
            <a:pPr lvl="1" marL="800280" indent="-343080">
              <a:lnSpc>
                <a:spcPct val="10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pdating UNR0 will be on an annual basis.</a:t>
            </a:r>
            <a:endParaRPr b="1" lang="en-US" sz="2200" spc="-1" strike="noStrike">
              <a:solidFill>
                <a:srgbClr val="000000"/>
              </a:solidFill>
              <a:latin typeface="Arial"/>
            </a:endParaRPr>
          </a:p>
          <a:p>
            <a:pPr lvl="1" marL="800280" indent="-343080">
              <a:lnSpc>
                <a:spcPct val="10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eries of Amendments will be used to provide adequate (legal) visibility of the requirements of the different </a:t>
            </a:r>
            <a:r>
              <a:rPr b="0" lang="en-US" sz="2200" spc="-1" strike="noStrike">
                <a:solidFill>
                  <a:srgbClr val="000000"/>
                </a:solidFill>
                <a:latin typeface="Calibri"/>
                <a:ea typeface="ＭＳ Ｐゴシック"/>
              </a:rPr>
              <a:t>updates</a:t>
            </a:r>
            <a:r>
              <a:rPr b="0" lang="en-US" sz="2200" spc="-1" strike="noStrike">
                <a:solidFill>
                  <a:srgbClr val="000000"/>
                </a:solidFill>
                <a:latin typeface="Arial"/>
                <a:ea typeface="ＭＳ Ｐゴシック"/>
              </a:rPr>
              <a:t> of UNR0.</a:t>
            </a:r>
            <a:endParaRPr b="1" lang="en-US" sz="2200" spc="-1" strike="noStrike">
              <a:solidFill>
                <a:srgbClr val="000000"/>
              </a:solidFill>
              <a:latin typeface="Arial"/>
            </a:endParaRPr>
          </a:p>
          <a:p>
            <a:pPr lvl="1" marL="800280" indent="-343080">
              <a:lnSpc>
                <a:spcPct val="10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eveloping our thinking on the possibility of a permanent working group to oversee UNR0.</a:t>
            </a:r>
            <a:endParaRPr b="1" lang="en-US" sz="2200" spc="-1" strike="noStrike">
              <a:solidFill>
                <a:srgbClr val="000000"/>
              </a:solidFill>
              <a:latin typeface="Arial"/>
            </a:endParaRPr>
          </a:p>
        </p:txBody>
      </p:sp>
      <p:sp>
        <p:nvSpPr>
          <p:cNvPr id="222" name="テキスト ボックス 24"/>
          <p:cNvSpPr/>
          <p:nvPr/>
        </p:nvSpPr>
        <p:spPr>
          <a:xfrm>
            <a:off x="0" y="30240"/>
            <a:ext cx="920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for WP.29 to not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48B1-538C-4C67-B6FB-8E5B83A28E8C}"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24"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5" name="テキスト ボックス 24"/>
          <p:cNvSpPr/>
          <p:nvPr/>
        </p:nvSpPr>
        <p:spPr>
          <a:xfrm>
            <a:off x="0" y="44280"/>
            <a:ext cx="8337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s of draft UNR0</a:t>
            </a:r>
            <a:endParaRPr b="1" lang="en-US" sz="2800" spc="-1" strike="noStrike">
              <a:solidFill>
                <a:srgbClr val="000000"/>
              </a:solidFill>
              <a:latin typeface="Arial"/>
            </a:endParaRPr>
          </a:p>
        </p:txBody>
      </p:sp>
      <p:sp>
        <p:nvSpPr>
          <p:cNvPr id="226" name="Text Box 6"/>
          <p:cNvSpPr/>
          <p:nvPr/>
        </p:nvSpPr>
        <p:spPr>
          <a:xfrm>
            <a:off x="236520" y="765000"/>
            <a:ext cx="8893080" cy="600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1. Scope</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2. Definition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 Application for approval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 Approval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5. Specifications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6. Tests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7. Modification of vehicle type and extension of approval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8. Conformity of production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9. Penalties for non-conformity of production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 Production definitely discontinued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1. Names and addresses of Technical Services responsible for conducting approval tests and of Administrative Departments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2. Introductory and transitional provisions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13. Special provisions for Contracting Parties applying this Regulation </a:t>
            </a:r>
            <a:r>
              <a:rPr b="1" lang="en-GB" sz="2000" spc="-1" strike="noStrike" u="sng">
                <a:solidFill>
                  <a:srgbClr val="000000"/>
                </a:solidFill>
                <a:uFillTx/>
                <a:latin typeface="Arial"/>
              </a:rPr>
              <a:t> </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nex 1: Communication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nex 2: Arrangement of the approval mark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nex 3: Procedures to be followed during I-WVTA of vehicles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nnex 4: List of requirements for the purpose of I-WVTA: List of regulatory acts </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nex 5: Information document for the purpose of I-WVTA of vehicles</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nex 6: Definition of the vehicle type</a:t>
            </a:r>
            <a:r>
              <a:rPr b="0" lang="de-DE" sz="1800" spc="-1" strike="noStrike">
                <a:solidFill>
                  <a:srgbClr val="7030a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7A73-6743-4AD9-AA6A-819A104BC3E4}"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28"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9" name="テキスト ボックス 24"/>
          <p:cNvSpPr/>
          <p:nvPr/>
        </p:nvSpPr>
        <p:spPr>
          <a:xfrm>
            <a:off x="0" y="44280"/>
            <a:ext cx="8337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chnical requirements – The “A” list</a:t>
            </a:r>
            <a:endParaRPr b="1" lang="en-US" sz="2800" spc="-1" strike="noStrike">
              <a:solidFill>
                <a:srgbClr val="000000"/>
              </a:solidFill>
              <a:latin typeface="Arial"/>
            </a:endParaRPr>
          </a:p>
        </p:txBody>
      </p:sp>
      <p:graphicFrame>
        <p:nvGraphicFramePr>
          <p:cNvPr id="230" name=""/>
          <p:cNvGraphicFramePr/>
          <p:nvPr/>
        </p:nvGraphicFramePr>
        <p:xfrm>
          <a:off x="523800" y="765000"/>
          <a:ext cx="4176720" cy="6240600"/>
        </p:xfrm>
        <a:graphic>
          <a:graphicData uri="http://schemas.openxmlformats.org/drawingml/2006/table">
            <a:tbl>
              <a:tblPr/>
              <a:tblGrid>
                <a:gridCol w="744480"/>
                <a:gridCol w="2568600"/>
                <a:gridCol w="863640"/>
              </a:tblGrid>
              <a:tr h="436680">
                <a:tc>
                  <a:txBody>
                    <a:bodyPr lIns="9000" rIns="9000" tIns="9000" bIns="0" anchor="ctr">
                      <a:noAutofit/>
                    </a:bodyPr>
                    <a:p>
                      <a:pPr algn="ctr">
                        <a:lnSpc>
                          <a:spcPct val="100000"/>
                        </a:lnSpc>
                        <a:tabLst>
                          <a:tab algn="l" pos="0"/>
                        </a:tabLst>
                      </a:pPr>
                      <a:r>
                        <a:rPr b="1" lang="en-US" sz="1400" spc="-1" strike="noStrike">
                          <a:solidFill>
                            <a:srgbClr val="ffffff"/>
                          </a:solidFill>
                          <a:latin typeface="Calibri"/>
                        </a:rPr>
                        <a:t>Number</a:t>
                      </a:r>
                      <a:endParaRPr b="1" lang="en-US" sz="14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c>
                  <a:txBody>
                    <a:bodyPr lIns="9000" rIns="9000" tIns="9000" bIns="0" anchor="ctr">
                      <a:noAutofit/>
                    </a:bodyPr>
                    <a:p>
                      <a:pPr algn="ctr">
                        <a:lnSpc>
                          <a:spcPct val="100000"/>
                        </a:lnSpc>
                        <a:tabLst>
                          <a:tab algn="l" pos="0"/>
                        </a:tabLst>
                      </a:pPr>
                      <a:r>
                        <a:rPr b="1" lang="en-US" sz="1400" spc="-1" strike="noStrike">
                          <a:solidFill>
                            <a:srgbClr val="ffffff"/>
                          </a:solidFill>
                          <a:latin typeface="Calibri"/>
                        </a:rPr>
                        <a:t>Topic</a:t>
                      </a:r>
                      <a:endParaRPr b="1" lang="en-US" sz="14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c>
                  <a:txBody>
                    <a:bodyPr lIns="9000" rIns="9000" tIns="9000" bIns="0" anchor="ctr">
                      <a:noAutofit/>
                    </a:bodyPr>
                    <a:p>
                      <a:pPr algn="ctr">
                        <a:lnSpc>
                          <a:spcPct val="100000"/>
                        </a:lnSpc>
                        <a:tabLst>
                          <a:tab algn="l" pos="0"/>
                        </a:tabLst>
                      </a:pPr>
                      <a:r>
                        <a:rPr b="1" lang="en-US" sz="1400" spc="-1" strike="noStrike">
                          <a:solidFill>
                            <a:srgbClr val="ffffff"/>
                          </a:solidFill>
                          <a:latin typeface="Calibri"/>
                        </a:rPr>
                        <a:t>UN-Regulation</a:t>
                      </a:r>
                      <a:endParaRPr b="1" lang="en-US" sz="14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r>
              <a:tr h="25272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Retro reflector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3</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2</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Direction indicator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6</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741240">
                <a:tc>
                  <a:txBody>
                    <a:bodyPr lIns="9000" rIns="9000" tIns="9000" bIns="0" anchor="ctr">
                      <a:noAutofit/>
                    </a:bodyPr>
                    <a:p>
                      <a:pPr algn="ctr">
                        <a:lnSpc>
                          <a:spcPct val="100000"/>
                        </a:lnSpc>
                        <a:tabLst>
                          <a:tab algn="l" pos="0"/>
                        </a:tabLst>
                      </a:pPr>
                      <a:r>
                        <a:rPr b="1" lang="de-DE" sz="1600" spc="-1" strike="noStrike">
                          <a:solidFill>
                            <a:srgbClr val="000000"/>
                          </a:solidFill>
                          <a:latin typeface="Calibri"/>
                        </a:rPr>
                        <a:t>3</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US" sz="1600" spc="-1" strike="noStrike">
                          <a:solidFill>
                            <a:srgbClr val="000000"/>
                          </a:solidFill>
                          <a:latin typeface="Calibri"/>
                        </a:rPr>
                        <a:t>End-outline, stop, side marker, front/rear position (side)</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7</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4</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Radio interference</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0</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380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5</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Door latches + hinge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1</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6</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Steering impact</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2</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380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7</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Belt anchorage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4</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8</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Seats +  head restraint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7</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272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9</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Front fog lamp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9</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272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0</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Interior fitting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21</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1</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Reversing lamp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23</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380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2</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External projection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26</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3</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Audible warning signal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28</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380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4</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Tyre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30</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5</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Light source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37</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6</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Rear fog lamp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38</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272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7</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Speedometer</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39</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380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8</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Safety glazing</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43</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9</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Headlamp cleaner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45</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49608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20</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Installation of Lighting equipment</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48</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bl>
          </a:graphicData>
        </a:graphic>
      </p:graphicFrame>
      <p:graphicFrame>
        <p:nvGraphicFramePr>
          <p:cNvPr id="231" name=""/>
          <p:cNvGraphicFramePr/>
          <p:nvPr/>
        </p:nvGraphicFramePr>
        <p:xfrm>
          <a:off x="5132520" y="762120"/>
          <a:ext cx="4176720" cy="5867280"/>
        </p:xfrm>
        <a:graphic>
          <a:graphicData uri="http://schemas.openxmlformats.org/drawingml/2006/table">
            <a:tbl>
              <a:tblPr/>
              <a:tblGrid>
                <a:gridCol w="744480"/>
                <a:gridCol w="2568600"/>
                <a:gridCol w="863640"/>
              </a:tblGrid>
              <a:tr h="436320">
                <a:tc>
                  <a:txBody>
                    <a:bodyPr lIns="9360" rIns="9360" tIns="9360" bIns="0" anchor="ctr">
                      <a:noAutofit/>
                    </a:bodyPr>
                    <a:p>
                      <a:pPr algn="ctr">
                        <a:lnSpc>
                          <a:spcPct val="100000"/>
                        </a:lnSpc>
                        <a:tabLst>
                          <a:tab algn="l" pos="0"/>
                        </a:tabLst>
                      </a:pPr>
                      <a:r>
                        <a:rPr b="1" lang="en-US" sz="1400" spc="-1" strike="noStrike">
                          <a:solidFill>
                            <a:srgbClr val="ffffff"/>
                          </a:solidFill>
                          <a:latin typeface="Calibri"/>
                        </a:rPr>
                        <a:t>Number</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c>
                  <a:txBody>
                    <a:bodyPr lIns="9360" rIns="9360" tIns="9360" bIns="0" anchor="ctr">
                      <a:noAutofit/>
                    </a:bodyPr>
                    <a:p>
                      <a:pPr algn="ctr">
                        <a:lnSpc>
                          <a:spcPct val="100000"/>
                        </a:lnSpc>
                        <a:tabLst>
                          <a:tab algn="l" pos="0"/>
                        </a:tabLst>
                      </a:pPr>
                      <a:r>
                        <a:rPr b="1" lang="en-US" sz="1400" spc="-1" strike="noStrike">
                          <a:solidFill>
                            <a:srgbClr val="ffffff"/>
                          </a:solidFill>
                          <a:latin typeface="Calibri"/>
                        </a:rPr>
                        <a:t>Topic</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c>
                  <a:txBody>
                    <a:bodyPr lIns="9360" rIns="9360" tIns="9360" bIns="0" anchor="ctr">
                      <a:noAutofit/>
                    </a:bodyPr>
                    <a:p>
                      <a:pPr algn="ctr">
                        <a:lnSpc>
                          <a:spcPct val="100000"/>
                        </a:lnSpc>
                        <a:tabLst>
                          <a:tab algn="l" pos="0"/>
                        </a:tabLst>
                      </a:pPr>
                      <a:r>
                        <a:rPr b="1" lang="en-US" sz="1400" spc="-1" strike="noStrike">
                          <a:solidFill>
                            <a:srgbClr val="ffffff"/>
                          </a:solidFill>
                          <a:latin typeface="Calibri"/>
                        </a:rPr>
                        <a:t>UN-Regulation</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1</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Tyre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54</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2</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Rear protective device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58</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37152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3</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Parking lamp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77</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4</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Steering effort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79</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5</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Engine power</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85</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7416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6</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US" sz="1600" spc="-1" strike="noStrike">
                          <a:solidFill>
                            <a:srgbClr val="000000"/>
                          </a:solidFill>
                          <a:latin typeface="Calibri"/>
                        </a:rPr>
                        <a:t>End-outline, stop, side marker, front/rear position (side)</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91</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7</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Frontal impact</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94</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8</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Side impact</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95</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9</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Headlamp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98</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0</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Light source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99</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1</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High voltage</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00</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2</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Headlamp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12</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3</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Tyre wet grip/Noise/RR</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17</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4</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Cornering lamp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19</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5</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Controls and tell tale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21</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6</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Headlamp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23</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7</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Field of vision</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25</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8</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Pedestrian protection</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27</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9</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Light source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28</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4D29-E16B-4A81-8A6A-E5774EA95C37}"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33"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4" name="テキスト ボックス 24"/>
          <p:cNvSpPr/>
          <p:nvPr/>
        </p:nvSpPr>
        <p:spPr>
          <a:xfrm>
            <a:off x="0" y="44280"/>
            <a:ext cx="8337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chnical requirements – The “B” list</a:t>
            </a:r>
            <a:endParaRPr b="1" lang="en-US" sz="2800" spc="-1" strike="noStrike">
              <a:solidFill>
                <a:srgbClr val="000000"/>
              </a:solidFill>
              <a:latin typeface="Arial"/>
            </a:endParaRPr>
          </a:p>
        </p:txBody>
      </p:sp>
      <p:graphicFrame>
        <p:nvGraphicFramePr>
          <p:cNvPr id="235" name=""/>
          <p:cNvGraphicFramePr/>
          <p:nvPr/>
        </p:nvGraphicFramePr>
        <p:xfrm>
          <a:off x="2378160" y="1503360"/>
          <a:ext cx="5149800" cy="3645000"/>
        </p:xfrm>
        <a:graphic>
          <a:graphicData uri="http://schemas.openxmlformats.org/drawingml/2006/table">
            <a:tbl>
              <a:tblPr/>
              <a:tblGrid>
                <a:gridCol w="744480"/>
                <a:gridCol w="3252600"/>
                <a:gridCol w="1152720"/>
              </a:tblGrid>
              <a:tr h="222120">
                <a:tc>
                  <a:txBody>
                    <a:bodyPr lIns="9000" rIns="9000" tIns="9000" bIns="0" anchor="ctr">
                      <a:noAutofit/>
                    </a:bodyPr>
                    <a:p>
                      <a:pPr algn="ctr">
                        <a:lnSpc>
                          <a:spcPct val="100000"/>
                        </a:lnSpc>
                        <a:tabLst>
                          <a:tab algn="l" pos="0"/>
                        </a:tabLst>
                      </a:pPr>
                      <a:r>
                        <a:rPr b="1" lang="en-US" sz="1400" spc="-1" strike="noStrike">
                          <a:solidFill>
                            <a:srgbClr val="ffffff"/>
                          </a:solidFill>
                          <a:latin typeface="Calibri"/>
                        </a:rPr>
                        <a:t>Number</a:t>
                      </a:r>
                      <a:endParaRPr b="1" lang="en-US" sz="14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c>
                  <a:txBody>
                    <a:bodyPr lIns="9000" rIns="9000" tIns="9000" bIns="0" anchor="ctr">
                      <a:noAutofit/>
                    </a:bodyPr>
                    <a:p>
                      <a:pPr algn="ctr">
                        <a:lnSpc>
                          <a:spcPct val="100000"/>
                        </a:lnSpc>
                        <a:tabLst>
                          <a:tab algn="l" pos="0"/>
                        </a:tabLst>
                      </a:pPr>
                      <a:r>
                        <a:rPr b="1" lang="en-US" sz="1400" spc="-1" strike="noStrike">
                          <a:solidFill>
                            <a:srgbClr val="ffffff"/>
                          </a:solidFill>
                          <a:latin typeface="Calibri"/>
                        </a:rPr>
                        <a:t>Topic</a:t>
                      </a:r>
                      <a:endParaRPr b="1" lang="en-US" sz="14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c>
                  <a:txBody>
                    <a:bodyPr lIns="9000" rIns="9000" tIns="9000" bIns="0" anchor="ctr">
                      <a:noAutofit/>
                    </a:bodyPr>
                    <a:p>
                      <a:pPr algn="ctr">
                        <a:lnSpc>
                          <a:spcPct val="100000"/>
                        </a:lnSpc>
                        <a:tabLst>
                          <a:tab algn="l" pos="0"/>
                        </a:tabLst>
                      </a:pPr>
                      <a:r>
                        <a:rPr b="1" lang="en-US" sz="1400" spc="-1" strike="noStrike">
                          <a:solidFill>
                            <a:srgbClr val="ffffff"/>
                          </a:solidFill>
                          <a:latin typeface="Calibri"/>
                        </a:rPr>
                        <a:t>UN-Regulation</a:t>
                      </a:r>
                      <a:endParaRPr b="1" lang="en-US" sz="14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Rear registration plate lamp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4</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r>
              <a:tr h="24480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2</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Braking</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3H</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3</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ESC</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3H</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4</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BA</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3H</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5</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Safety belt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6</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6</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Fuel tank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34</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7</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Integrated child restraint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44</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8</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Indirect vision device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46</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9</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Permissible sound level</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51</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0</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Temporary tires/ TPM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64</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1</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CO2 emissions and fuel consumption</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01</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4480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2</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Anti-theft/ immobilizer</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16</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3</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Tyre installation</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 </a:t>
                      </a:r>
                      <a:r>
                        <a:rPr b="1" lang="en-GB" sz="1600" spc="-1" strike="noStrike">
                          <a:solidFill>
                            <a:srgbClr val="000000"/>
                          </a:solidFill>
                          <a:latin typeface="Calibri"/>
                          <a:ea typeface="MS Mincho"/>
                        </a:rPr>
                        <a:t>-</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4</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WLTP</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 </a:t>
                      </a:r>
                      <a:r>
                        <a:rPr b="1" lang="en-GB" sz="1600" spc="-1" strike="noStrike">
                          <a:solidFill>
                            <a:srgbClr val="000000"/>
                          </a:solidFill>
                          <a:latin typeface="Calibri"/>
                          <a:ea typeface="MS Mincho"/>
                        </a:rPr>
                        <a:t>-</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bl>
          </a:graphicData>
        </a:graphic>
      </p:graphicFrame>
      <p:sp>
        <p:nvSpPr>
          <p:cNvPr id="236" name="Rectangle 1"/>
          <p:cNvSpPr/>
          <p:nvPr/>
        </p:nvSpPr>
        <p:spPr>
          <a:xfrm>
            <a:off x="1460520" y="5500800"/>
            <a:ext cx="6877080" cy="703800"/>
          </a:xfrm>
          <a:prstGeom prst="rect">
            <a:avLst/>
          </a:prstGeom>
          <a:noFill/>
          <a:ln w="0">
            <a:noFill/>
          </a:ln>
        </p:spPr>
        <p:style>
          <a:lnRef idx="0"/>
          <a:fillRef idx="0"/>
          <a:effectRef idx="0"/>
          <a:fontRef idx="minor"/>
        </p:style>
        <p:txBody>
          <a:bodyPr lIns="90000" rIns="90000" tIns="46800" bIns="4680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b-Group hopes </a:t>
            </a:r>
            <a:r>
              <a:rPr b="0" lang="ja-JP" sz="2000" spc="-1" strike="noStrike">
                <a:solidFill>
                  <a:srgbClr val="000000"/>
                </a:solidFill>
                <a:latin typeface="Arial"/>
              </a:rPr>
              <a:t>that more </a:t>
            </a:r>
            <a:r>
              <a:rPr b="0" lang="en-US" sz="2000" spc="-1" strike="noStrike">
                <a:solidFill>
                  <a:srgbClr val="000000"/>
                </a:solidFill>
                <a:latin typeface="Arial"/>
                <a:ea typeface="Arial"/>
              </a:rPr>
              <a:t>UN Regulations in the “B” list </a:t>
            </a:r>
            <a:r>
              <a:rPr b="0" lang="ja-JP" sz="2000" spc="-1" strike="noStrike">
                <a:solidFill>
                  <a:srgbClr val="000000"/>
                </a:solidFill>
                <a:latin typeface="Arial"/>
              </a:rPr>
              <a:t>be included in the "A" list </a:t>
            </a:r>
            <a:r>
              <a:rPr b="0" lang="en-US" sz="2000" spc="-1" strike="noStrike">
                <a:solidFill>
                  <a:srgbClr val="000000"/>
                </a:solidFill>
                <a:latin typeface="Arial"/>
                <a:ea typeface="Arial"/>
              </a:rPr>
              <a:t>after proper revis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スライド番号プレースホルダー 5"/>
          <p:cNvSpPr/>
          <p:nvPr/>
        </p:nvSpPr>
        <p:spPr>
          <a:xfrm>
            <a:off x="7113600" y="649296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E736-F22A-48C4-A921-B28F77E872C2}"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38"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9" name="テキスト ボックス 3"/>
          <p:cNvSpPr/>
          <p:nvPr/>
        </p:nvSpPr>
        <p:spPr>
          <a:xfrm>
            <a:off x="272880" y="836640"/>
            <a:ext cx="9290160" cy="5752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formal group continues to discus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Which</a:t>
            </a:r>
            <a:r>
              <a:rPr b="0" lang="en-GB" sz="2000" spc="-1" strike="noStrike">
                <a:solidFill>
                  <a:srgbClr val="000000"/>
                </a:solidFill>
                <a:latin typeface="Arial"/>
                <a:ea typeface="Arial"/>
              </a:rPr>
              <a:t> UN Regulations to include within IWVTA</a:t>
            </a:r>
            <a:endParaRPr b="1"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ased on the Ambassadors/GR reviews, and</a:t>
            </a:r>
            <a:endParaRPr b="1"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the first step will be “A” items</a:t>
            </a:r>
            <a:endParaRPr b="1"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mbition list comprising “B” item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Routine updating of UNR0.</a:t>
            </a:r>
            <a:endParaRPr b="1" lang="en-US" sz="2000" spc="-1" strike="noStrike">
              <a:solidFill>
                <a:srgbClr val="000000"/>
              </a:solidFill>
              <a:latin typeface="Arial"/>
            </a:endParaRPr>
          </a:p>
          <a:p>
            <a:pPr lvl="1" marL="8002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ole of a permanent working group to oversee UNR0 </a:t>
            </a:r>
            <a:endParaRPr b="1" lang="en-US" sz="2000" spc="-1" strike="noStrike">
              <a:solidFill>
                <a:srgbClr val="000000"/>
              </a:solidFill>
              <a:latin typeface="Arial"/>
            </a:endParaRPr>
          </a:p>
          <a:p>
            <a:pPr lvl="1" marL="8002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w to synchronize introduction dates for series of amendments to individual UN Regulations with updates to UNR0 (due to the range of topics included in IWVTA).</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Exchange of information between CPs</a:t>
            </a:r>
            <a:endParaRPr b="1" lang="en-US" sz="2000" spc="-1" strike="noStrike">
              <a:solidFill>
                <a:srgbClr val="000000"/>
              </a:solidFill>
              <a:latin typeface="Arial"/>
            </a:endParaRPr>
          </a:p>
          <a:p>
            <a:pPr lvl="1" marL="8002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ther to create and maintain a status document on UN Regulations for those CPs accepting IWVTA of limited recognition.</a:t>
            </a:r>
            <a:br>
              <a:rPr sz="2000"/>
            </a:b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How to include the concept of a Certificate of Conformity (CoC)</a:t>
            </a:r>
            <a:endParaRPr b="1" lang="en-US" sz="2000" spc="-1" strike="noStrike">
              <a:solidFill>
                <a:srgbClr val="000000"/>
              </a:solidFill>
              <a:latin typeface="Arial"/>
            </a:endParaRPr>
          </a:p>
        </p:txBody>
      </p:sp>
      <p:sp>
        <p:nvSpPr>
          <p:cNvPr id="240" name="テキスト ボックス 24"/>
          <p:cNvSpPr/>
          <p:nvPr/>
        </p:nvSpPr>
        <p:spPr>
          <a:xfrm>
            <a:off x="0" y="30240"/>
            <a:ext cx="920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for WP.29 to not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DC2CF-4505-4B2F-8166-341D4814AE12}"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42"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3" name="テキスト ボックス 24"/>
          <p:cNvSpPr/>
          <p:nvPr/>
        </p:nvSpPr>
        <p:spPr>
          <a:xfrm>
            <a:off x="0" y="44280"/>
            <a:ext cx="596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tents of this presentation</a:t>
            </a:r>
            <a:endParaRPr b="1" lang="en-US" sz="2800" spc="-1" strike="noStrike">
              <a:solidFill>
                <a:srgbClr val="000000"/>
              </a:solidFill>
              <a:latin typeface="Arial"/>
            </a:endParaRPr>
          </a:p>
        </p:txBody>
      </p:sp>
      <p:sp>
        <p:nvSpPr>
          <p:cNvPr id="244" name="テキスト ボックス 3"/>
          <p:cNvSpPr/>
          <p:nvPr/>
        </p:nvSpPr>
        <p:spPr>
          <a:xfrm>
            <a:off x="415800" y="1046160"/>
            <a:ext cx="9204480" cy="7485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b2b2b2"/>
                </a:solidFill>
                <a:latin typeface="Arial"/>
              </a:rPr>
              <a:t>Overview of IWVTA</a:t>
            </a:r>
            <a:endParaRPr b="1" lang="en-US" sz="24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UN Regulation No. 0 (UN R0)</a:t>
            </a:r>
            <a:endParaRPr b="1" lang="en-US" sz="20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Objective of IWVTA</a:t>
            </a:r>
            <a:r>
              <a:rPr b="0" lang="ja-JP" sz="2000" spc="-1" strike="noStrike">
                <a:solidFill>
                  <a:srgbClr val="b2b2b2"/>
                </a:solidFill>
                <a:latin typeface="Arial"/>
                <a:ea typeface="ＭＳ Ｐゴシック"/>
              </a:rPr>
              <a:t> - Who benefits from IWVTA?</a:t>
            </a:r>
            <a:endParaRPr b="1" lang="en-US" sz="20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Delivering the Vision</a:t>
            </a:r>
            <a:r>
              <a:rPr b="0" lang="ja-JP" sz="2000" spc="-1" strike="noStrike">
                <a:solidFill>
                  <a:srgbClr val="b2b2b2"/>
                </a:solidFill>
                <a:latin typeface="Arial"/>
                <a:ea typeface="ＭＳ Ｐゴシック"/>
              </a:rPr>
              <a:t> and Visualising our Approach</a:t>
            </a:r>
            <a:endParaRPr b="1" lang="en-US" sz="20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What IWVTA comprise</a:t>
            </a:r>
            <a:r>
              <a:rPr b="0" lang="ja-JP" sz="2000" spc="-1" strike="noStrike">
                <a:solidFill>
                  <a:srgbClr val="b2b2b2"/>
                </a:solidFill>
                <a:latin typeface="Arial"/>
                <a:ea typeface="ＭＳ Ｐゴシック"/>
              </a:rPr>
              <a:t>s</a:t>
            </a:r>
            <a:endParaRPr b="1" lang="en-US" sz="2000" spc="-1" strike="noStrike">
              <a:solidFill>
                <a:srgbClr val="000000"/>
              </a:solidFill>
              <a:latin typeface="Arial"/>
            </a:endParaRPr>
          </a:p>
          <a:p>
            <a:pPr marL="343080" indent="-343080">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Issues for WP.29 to not</a:t>
            </a:r>
            <a:r>
              <a:rPr b="0" lang="ja-JP" sz="2400" spc="-1" strike="noStrike">
                <a:solidFill>
                  <a:srgbClr val="b2b2b2"/>
                </a:solidFill>
                <a:latin typeface="Arial"/>
              </a:rPr>
              <a:t>e</a:t>
            </a:r>
            <a:endParaRPr b="1" lang="en-US" sz="24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b2b2b2"/>
                </a:solidFill>
                <a:latin typeface="Arial"/>
                <a:ea typeface="ＭＳ Ｐゴシック"/>
              </a:rPr>
              <a:t> </a:t>
            </a:r>
            <a:r>
              <a:rPr b="0" lang="ja-JP" sz="2100" spc="-1" strike="noStrike">
                <a:solidFill>
                  <a:srgbClr val="b2b2b2"/>
                </a:solidFill>
                <a:latin typeface="Arial"/>
                <a:ea typeface="ＭＳ Ｐゴシック"/>
              </a:rPr>
              <a:t>Working Assumptions</a:t>
            </a:r>
            <a:endParaRPr b="1" lang="en-US" sz="21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2b2b2"/>
                </a:solidFill>
                <a:latin typeface="Arial"/>
                <a:ea typeface="ＭＳ Ｐゴシック"/>
              </a:rPr>
              <a:t>Contents of draft UNR0</a:t>
            </a:r>
            <a:r>
              <a:rPr b="0" lang="ja-JP" sz="2100" spc="-1" strike="noStrike">
                <a:solidFill>
                  <a:srgbClr val="b2b2b2"/>
                </a:solidFill>
                <a:latin typeface="Arial"/>
                <a:ea typeface="ＭＳ Ｐゴシック"/>
              </a:rPr>
              <a:t> and its Technical Requirements</a:t>
            </a:r>
            <a:endParaRPr b="1" lang="en-US" sz="21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b2b2b2"/>
                </a:solidFill>
                <a:latin typeface="Arial"/>
                <a:ea typeface="ＭＳ Ｐゴシック"/>
              </a:rPr>
              <a:t>Items for Further Discussion</a:t>
            </a:r>
            <a:endParaRPr b="1"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evolution of UN R0</a:t>
            </a: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スライド番号プレースホルダー 5"/>
          <p:cNvSpPr/>
          <p:nvPr/>
        </p:nvSpPr>
        <p:spPr>
          <a:xfrm>
            <a:off x="7594560" y="649296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C444-E045-444A-84FA-1640900FE5BD}"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46"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7" name="テキスト ボックス 24"/>
          <p:cNvSpPr/>
          <p:nvPr/>
        </p:nvSpPr>
        <p:spPr>
          <a:xfrm>
            <a:off x="2468520" y="0"/>
            <a:ext cx="441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evolution of UN R0</a:t>
            </a:r>
            <a:endParaRPr b="1" lang="en-US" sz="2800" spc="-1" strike="noStrike">
              <a:solidFill>
                <a:srgbClr val="000000"/>
              </a:solidFill>
              <a:latin typeface="Arial"/>
            </a:endParaRPr>
          </a:p>
        </p:txBody>
      </p:sp>
      <p:sp>
        <p:nvSpPr>
          <p:cNvPr id="248" name="テキスト ボックス 3"/>
          <p:cNvSpPr/>
          <p:nvPr/>
        </p:nvSpPr>
        <p:spPr>
          <a:xfrm>
            <a:off x="272880" y="692280"/>
            <a:ext cx="9204480" cy="3380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 objective of IWVTA is the complete mutual recognition of vehicle type approvals - without any additional national requirements or additional approval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ve forward the followings should be addressed after UN R0 is established at March 2016.</a:t>
            </a:r>
            <a:endParaRPr b="1" lang="en-US" sz="2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ow to increase the number of applicable UN Regulations in Annex 4</a:t>
            </a:r>
            <a:endParaRPr b="1" lang="en-US" sz="2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ow to reduce national requirements </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ow to extend the scope to include vehicles other than M1</a:t>
            </a:r>
            <a:endParaRPr b="1" lang="en-US" sz="2000" spc="-1" strike="noStrike">
              <a:solidFill>
                <a:srgbClr val="000000"/>
              </a:solidFill>
              <a:latin typeface="Arial"/>
            </a:endParaRPr>
          </a:p>
        </p:txBody>
      </p:sp>
      <p:sp>
        <p:nvSpPr>
          <p:cNvPr id="249" name="AutoShape 7"/>
          <p:cNvSpPr/>
          <p:nvPr/>
        </p:nvSpPr>
        <p:spPr>
          <a:xfrm>
            <a:off x="6969240" y="4329000"/>
            <a:ext cx="2520720" cy="900360"/>
          </a:xfrm>
          <a:prstGeom prst="bevel">
            <a:avLst>
              <a:gd name="adj" fmla="val 12500"/>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0" name="Text Box 6"/>
          <p:cNvSpPr/>
          <p:nvPr/>
        </p:nvSpPr>
        <p:spPr>
          <a:xfrm>
            <a:off x="7077240" y="4437000"/>
            <a:ext cx="2339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ltimate goal</a:t>
            </a:r>
            <a:br>
              <a:rPr sz="2000"/>
            </a:br>
            <a:endParaRPr b="1" lang="en-US" sz="2000" spc="-1" strike="noStrike">
              <a:solidFill>
                <a:srgbClr val="000000"/>
              </a:solidFill>
              <a:latin typeface="Arial"/>
            </a:endParaRPr>
          </a:p>
        </p:txBody>
      </p:sp>
      <p:grpSp>
        <p:nvGrpSpPr>
          <p:cNvPr id="251" name="Group 8"/>
          <p:cNvGrpSpPr/>
          <p:nvPr/>
        </p:nvGrpSpPr>
        <p:grpSpPr>
          <a:xfrm>
            <a:off x="2792520" y="5576760"/>
            <a:ext cx="541080" cy="528840"/>
            <a:chOff x="2792520" y="5576760"/>
            <a:chExt cx="541080" cy="528840"/>
          </a:xfrm>
        </p:grpSpPr>
        <p:sp>
          <p:nvSpPr>
            <p:cNvPr id="252" name="Puzzle3"/>
            <p:cNvSpPr/>
            <p:nvPr/>
          </p:nvSpPr>
          <p:spPr>
            <a:xfrm>
              <a:off x="3056040" y="5576760"/>
              <a:ext cx="212760" cy="281160"/>
            </a:xfrm>
            <a:custGeom>
              <a:avLst/>
              <a:gdLst>
                <a:gd name="textAreaLeft" fmla="*/ 22320 w 212760"/>
                <a:gd name="textAreaRight" fmla="*/ 189000 w 212760"/>
                <a:gd name="textAreaTop" fmla="*/ 100440 h 281160"/>
                <a:gd name="textAreaBottom" fmla="*/ 263520 h 28116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3" name="Puzzle2"/>
            <p:cNvSpPr/>
            <p:nvPr/>
          </p:nvSpPr>
          <p:spPr>
            <a:xfrm>
              <a:off x="2994120" y="5781600"/>
              <a:ext cx="339480" cy="255960"/>
            </a:xfrm>
            <a:custGeom>
              <a:avLst/>
              <a:gdLst>
                <a:gd name="textAreaLeft" fmla="*/ 84600 w 339480"/>
                <a:gd name="textAreaRight" fmla="*/ 254520 w 339480"/>
                <a:gd name="textAreaTop" fmla="*/ 79920 h 255960"/>
                <a:gd name="textAreaBottom" fmla="*/ 242280 h 2559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4" name="Puzzle4"/>
            <p:cNvSpPr/>
            <p:nvPr/>
          </p:nvSpPr>
          <p:spPr>
            <a:xfrm>
              <a:off x="2862720" y="5778360"/>
              <a:ext cx="204480" cy="327240"/>
            </a:xfrm>
            <a:custGeom>
              <a:avLst/>
              <a:gdLst>
                <a:gd name="textAreaLeft" fmla="*/ 19440 w 204480"/>
                <a:gd name="textAreaRight" fmla="*/ 191520 w 204480"/>
                <a:gd name="textAreaTop" fmla="*/ 85680 h 327240"/>
                <a:gd name="textAreaBottom" fmla="*/ 242280 h 32724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5" name="Puzzle1"/>
            <p:cNvSpPr/>
            <p:nvPr/>
          </p:nvSpPr>
          <p:spPr>
            <a:xfrm>
              <a:off x="2792520" y="5661720"/>
              <a:ext cx="343800" cy="195120"/>
            </a:xfrm>
            <a:custGeom>
              <a:avLst/>
              <a:gdLst>
                <a:gd name="textAreaLeft" fmla="*/ 96840 w 343800"/>
                <a:gd name="textAreaRight" fmla="*/ 256680 w 343800"/>
                <a:gd name="textAreaTop" fmla="*/ 23040 h 195120"/>
                <a:gd name="textAreaBottom" fmla="*/ 176760 h 19512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256" name="Rectangle 18"/>
          <p:cNvSpPr/>
          <p:nvPr/>
        </p:nvSpPr>
        <p:spPr>
          <a:xfrm>
            <a:off x="668160" y="5877000"/>
            <a:ext cx="1944720" cy="72072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57" name="Group 14"/>
          <p:cNvGrpSpPr/>
          <p:nvPr/>
        </p:nvGrpSpPr>
        <p:grpSpPr>
          <a:xfrm>
            <a:off x="2108160" y="5805360"/>
            <a:ext cx="541440" cy="503280"/>
            <a:chOff x="2108160" y="5805360"/>
            <a:chExt cx="541440" cy="503280"/>
          </a:xfrm>
        </p:grpSpPr>
        <p:sp>
          <p:nvSpPr>
            <p:cNvPr id="258" name="Puzzle3"/>
            <p:cNvSpPr/>
            <p:nvPr/>
          </p:nvSpPr>
          <p:spPr>
            <a:xfrm>
              <a:off x="2371680" y="5805360"/>
              <a:ext cx="212760" cy="267480"/>
            </a:xfrm>
            <a:custGeom>
              <a:avLst/>
              <a:gdLst>
                <a:gd name="textAreaLeft" fmla="*/ 22320 w 212760"/>
                <a:gd name="textAreaRight" fmla="*/ 189000 w 212760"/>
                <a:gd name="textAreaTop" fmla="*/ 95400 h 267480"/>
                <a:gd name="textAreaBottom" fmla="*/ 250560 h 2674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9" name="Puzzle2"/>
            <p:cNvSpPr/>
            <p:nvPr/>
          </p:nvSpPr>
          <p:spPr>
            <a:xfrm>
              <a:off x="2309760" y="6000120"/>
              <a:ext cx="339840" cy="243720"/>
            </a:xfrm>
            <a:custGeom>
              <a:avLst/>
              <a:gdLst>
                <a:gd name="textAreaLeft" fmla="*/ 84600 w 339840"/>
                <a:gd name="textAreaRight" fmla="*/ 254520 w 339840"/>
                <a:gd name="textAreaTop" fmla="*/ 75960 h 243720"/>
                <a:gd name="textAreaBottom" fmla="*/ 230760 h 24372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0" name="Puzzle4"/>
            <p:cNvSpPr/>
            <p:nvPr/>
          </p:nvSpPr>
          <p:spPr>
            <a:xfrm>
              <a:off x="2178360" y="5997240"/>
              <a:ext cx="204840" cy="311400"/>
            </a:xfrm>
            <a:custGeom>
              <a:avLst/>
              <a:gdLst>
                <a:gd name="textAreaLeft" fmla="*/ 19440 w 204840"/>
                <a:gd name="textAreaRight" fmla="*/ 191880 w 204840"/>
                <a:gd name="textAreaTop" fmla="*/ 81360 h 311400"/>
                <a:gd name="textAreaBottom" fmla="*/ 230400 h 311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1" name="Puzzle1"/>
            <p:cNvSpPr/>
            <p:nvPr/>
          </p:nvSpPr>
          <p:spPr>
            <a:xfrm>
              <a:off x="2108160" y="5886000"/>
              <a:ext cx="343800" cy="185400"/>
            </a:xfrm>
            <a:custGeom>
              <a:avLst/>
              <a:gdLst>
                <a:gd name="textAreaLeft" fmla="*/ 96840 w 343800"/>
                <a:gd name="textAreaRight" fmla="*/ 256680 w 343800"/>
                <a:gd name="textAreaTop" fmla="*/ 21960 h 185400"/>
                <a:gd name="textAreaBottom" fmla="*/ 167760 h 1854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262" name="Group 19"/>
          <p:cNvGrpSpPr/>
          <p:nvPr/>
        </p:nvGrpSpPr>
        <p:grpSpPr>
          <a:xfrm>
            <a:off x="631800" y="5842080"/>
            <a:ext cx="541440" cy="503280"/>
            <a:chOff x="631800" y="5842080"/>
            <a:chExt cx="541440" cy="503280"/>
          </a:xfrm>
        </p:grpSpPr>
        <p:sp>
          <p:nvSpPr>
            <p:cNvPr id="263" name="Puzzle3"/>
            <p:cNvSpPr/>
            <p:nvPr/>
          </p:nvSpPr>
          <p:spPr>
            <a:xfrm>
              <a:off x="895320" y="5842080"/>
              <a:ext cx="212760" cy="267480"/>
            </a:xfrm>
            <a:custGeom>
              <a:avLst/>
              <a:gdLst>
                <a:gd name="textAreaLeft" fmla="*/ 22320 w 212760"/>
                <a:gd name="textAreaRight" fmla="*/ 189000 w 212760"/>
                <a:gd name="textAreaTop" fmla="*/ 95400 h 267480"/>
                <a:gd name="textAreaBottom" fmla="*/ 250560 h 2674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4" name="Puzzle2"/>
            <p:cNvSpPr/>
            <p:nvPr/>
          </p:nvSpPr>
          <p:spPr>
            <a:xfrm>
              <a:off x="833400" y="6036840"/>
              <a:ext cx="339840" cy="243720"/>
            </a:xfrm>
            <a:custGeom>
              <a:avLst/>
              <a:gdLst>
                <a:gd name="textAreaLeft" fmla="*/ 84600 w 339840"/>
                <a:gd name="textAreaRight" fmla="*/ 254520 w 339840"/>
                <a:gd name="textAreaTop" fmla="*/ 75960 h 243720"/>
                <a:gd name="textAreaBottom" fmla="*/ 230760 h 24372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5" name="Puzzle4"/>
            <p:cNvSpPr/>
            <p:nvPr/>
          </p:nvSpPr>
          <p:spPr>
            <a:xfrm>
              <a:off x="702000" y="6033960"/>
              <a:ext cx="204840" cy="311400"/>
            </a:xfrm>
            <a:custGeom>
              <a:avLst/>
              <a:gdLst>
                <a:gd name="textAreaLeft" fmla="*/ 19440 w 204840"/>
                <a:gd name="textAreaRight" fmla="*/ 191880 w 204840"/>
                <a:gd name="textAreaTop" fmla="*/ 81360 h 311400"/>
                <a:gd name="textAreaBottom" fmla="*/ 230400 h 311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6" name="Puzzle1"/>
            <p:cNvSpPr/>
            <p:nvPr/>
          </p:nvSpPr>
          <p:spPr>
            <a:xfrm>
              <a:off x="631800" y="5922720"/>
              <a:ext cx="343800" cy="185400"/>
            </a:xfrm>
            <a:custGeom>
              <a:avLst/>
              <a:gdLst>
                <a:gd name="textAreaLeft" fmla="*/ 96840 w 343800"/>
                <a:gd name="textAreaRight" fmla="*/ 256680 w 343800"/>
                <a:gd name="textAreaTop" fmla="*/ 21960 h 185400"/>
                <a:gd name="textAreaBottom" fmla="*/ 167760 h 1854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267" name="Group 24"/>
          <p:cNvGrpSpPr/>
          <p:nvPr/>
        </p:nvGrpSpPr>
        <p:grpSpPr>
          <a:xfrm>
            <a:off x="596880" y="6129360"/>
            <a:ext cx="541440" cy="503280"/>
            <a:chOff x="596880" y="6129360"/>
            <a:chExt cx="541440" cy="503280"/>
          </a:xfrm>
        </p:grpSpPr>
        <p:sp>
          <p:nvSpPr>
            <p:cNvPr id="268" name="Puzzle3"/>
            <p:cNvSpPr/>
            <p:nvPr/>
          </p:nvSpPr>
          <p:spPr>
            <a:xfrm>
              <a:off x="860400" y="6129360"/>
              <a:ext cx="212760" cy="267480"/>
            </a:xfrm>
            <a:custGeom>
              <a:avLst/>
              <a:gdLst>
                <a:gd name="textAreaLeft" fmla="*/ 22320 w 212760"/>
                <a:gd name="textAreaRight" fmla="*/ 189000 w 212760"/>
                <a:gd name="textAreaTop" fmla="*/ 95400 h 267480"/>
                <a:gd name="textAreaBottom" fmla="*/ 250560 h 2674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9" name="Puzzle2"/>
            <p:cNvSpPr/>
            <p:nvPr/>
          </p:nvSpPr>
          <p:spPr>
            <a:xfrm>
              <a:off x="798480" y="6324120"/>
              <a:ext cx="339840" cy="243720"/>
            </a:xfrm>
            <a:custGeom>
              <a:avLst/>
              <a:gdLst>
                <a:gd name="textAreaLeft" fmla="*/ 84600 w 339840"/>
                <a:gd name="textAreaRight" fmla="*/ 254520 w 339840"/>
                <a:gd name="textAreaTop" fmla="*/ 75960 h 243720"/>
                <a:gd name="textAreaBottom" fmla="*/ 230760 h 24372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0" name="Puzzle4"/>
            <p:cNvSpPr/>
            <p:nvPr/>
          </p:nvSpPr>
          <p:spPr>
            <a:xfrm>
              <a:off x="667080" y="6321240"/>
              <a:ext cx="204840" cy="311400"/>
            </a:xfrm>
            <a:custGeom>
              <a:avLst/>
              <a:gdLst>
                <a:gd name="textAreaLeft" fmla="*/ 19440 w 204840"/>
                <a:gd name="textAreaRight" fmla="*/ 191880 w 204840"/>
                <a:gd name="textAreaTop" fmla="*/ 81360 h 311400"/>
                <a:gd name="textAreaBottom" fmla="*/ 230400 h 311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1" name="Puzzle1"/>
            <p:cNvSpPr/>
            <p:nvPr/>
          </p:nvSpPr>
          <p:spPr>
            <a:xfrm>
              <a:off x="596880" y="6210000"/>
              <a:ext cx="343800" cy="185400"/>
            </a:xfrm>
            <a:custGeom>
              <a:avLst/>
              <a:gdLst>
                <a:gd name="textAreaLeft" fmla="*/ 96840 w 343800"/>
                <a:gd name="textAreaRight" fmla="*/ 256680 w 343800"/>
                <a:gd name="textAreaTop" fmla="*/ 21960 h 185400"/>
                <a:gd name="textAreaBottom" fmla="*/ 167760 h 1854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272" name="Group 29"/>
          <p:cNvGrpSpPr/>
          <p:nvPr/>
        </p:nvGrpSpPr>
        <p:grpSpPr>
          <a:xfrm>
            <a:off x="1028880" y="5842080"/>
            <a:ext cx="541080" cy="503280"/>
            <a:chOff x="1028880" y="5842080"/>
            <a:chExt cx="541080" cy="503280"/>
          </a:xfrm>
        </p:grpSpPr>
        <p:sp>
          <p:nvSpPr>
            <p:cNvPr id="273" name="Puzzle3"/>
            <p:cNvSpPr/>
            <p:nvPr/>
          </p:nvSpPr>
          <p:spPr>
            <a:xfrm>
              <a:off x="1292400" y="5842080"/>
              <a:ext cx="212760" cy="267480"/>
            </a:xfrm>
            <a:custGeom>
              <a:avLst/>
              <a:gdLst>
                <a:gd name="textAreaLeft" fmla="*/ 22320 w 212760"/>
                <a:gd name="textAreaRight" fmla="*/ 189000 w 212760"/>
                <a:gd name="textAreaTop" fmla="*/ 95400 h 267480"/>
                <a:gd name="textAreaBottom" fmla="*/ 250560 h 2674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4" name="Puzzle2"/>
            <p:cNvSpPr/>
            <p:nvPr/>
          </p:nvSpPr>
          <p:spPr>
            <a:xfrm>
              <a:off x="1230480" y="6036840"/>
              <a:ext cx="339480" cy="243720"/>
            </a:xfrm>
            <a:custGeom>
              <a:avLst/>
              <a:gdLst>
                <a:gd name="textAreaLeft" fmla="*/ 84600 w 339480"/>
                <a:gd name="textAreaRight" fmla="*/ 254520 w 339480"/>
                <a:gd name="textAreaTop" fmla="*/ 75960 h 243720"/>
                <a:gd name="textAreaBottom" fmla="*/ 230760 h 24372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5" name="Puzzle4"/>
            <p:cNvSpPr/>
            <p:nvPr/>
          </p:nvSpPr>
          <p:spPr>
            <a:xfrm>
              <a:off x="1099080" y="6033960"/>
              <a:ext cx="204480" cy="311400"/>
            </a:xfrm>
            <a:custGeom>
              <a:avLst/>
              <a:gdLst>
                <a:gd name="textAreaLeft" fmla="*/ 19440 w 204480"/>
                <a:gd name="textAreaRight" fmla="*/ 191520 w 204480"/>
                <a:gd name="textAreaTop" fmla="*/ 81360 h 311400"/>
                <a:gd name="textAreaBottom" fmla="*/ 230400 h 311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6" name="Puzzle1"/>
            <p:cNvSpPr/>
            <p:nvPr/>
          </p:nvSpPr>
          <p:spPr>
            <a:xfrm>
              <a:off x="1028880" y="5922720"/>
              <a:ext cx="343800" cy="185400"/>
            </a:xfrm>
            <a:custGeom>
              <a:avLst/>
              <a:gdLst>
                <a:gd name="textAreaLeft" fmla="*/ 96840 w 343800"/>
                <a:gd name="textAreaRight" fmla="*/ 256680 w 343800"/>
                <a:gd name="textAreaTop" fmla="*/ 21960 h 185400"/>
                <a:gd name="textAreaBottom" fmla="*/ 167760 h 1854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277" name="Group 34"/>
          <p:cNvGrpSpPr/>
          <p:nvPr/>
        </p:nvGrpSpPr>
        <p:grpSpPr>
          <a:xfrm>
            <a:off x="1460520" y="6165720"/>
            <a:ext cx="541440" cy="503280"/>
            <a:chOff x="1460520" y="6165720"/>
            <a:chExt cx="541440" cy="503280"/>
          </a:xfrm>
        </p:grpSpPr>
        <p:sp>
          <p:nvSpPr>
            <p:cNvPr id="278" name="Puzzle3"/>
            <p:cNvSpPr/>
            <p:nvPr/>
          </p:nvSpPr>
          <p:spPr>
            <a:xfrm>
              <a:off x="1724040" y="6165720"/>
              <a:ext cx="212760" cy="267480"/>
            </a:xfrm>
            <a:custGeom>
              <a:avLst/>
              <a:gdLst>
                <a:gd name="textAreaLeft" fmla="*/ 22320 w 212760"/>
                <a:gd name="textAreaRight" fmla="*/ 189000 w 212760"/>
                <a:gd name="textAreaTop" fmla="*/ 95400 h 267480"/>
                <a:gd name="textAreaBottom" fmla="*/ 250560 h 2674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9" name="Puzzle2"/>
            <p:cNvSpPr/>
            <p:nvPr/>
          </p:nvSpPr>
          <p:spPr>
            <a:xfrm>
              <a:off x="1662120" y="6360480"/>
              <a:ext cx="339840" cy="243720"/>
            </a:xfrm>
            <a:custGeom>
              <a:avLst/>
              <a:gdLst>
                <a:gd name="textAreaLeft" fmla="*/ 84600 w 339840"/>
                <a:gd name="textAreaRight" fmla="*/ 254520 w 339840"/>
                <a:gd name="textAreaTop" fmla="*/ 75960 h 243720"/>
                <a:gd name="textAreaBottom" fmla="*/ 230760 h 24372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0" name="Puzzle4"/>
            <p:cNvSpPr/>
            <p:nvPr/>
          </p:nvSpPr>
          <p:spPr>
            <a:xfrm>
              <a:off x="1530720" y="6357600"/>
              <a:ext cx="204840" cy="311400"/>
            </a:xfrm>
            <a:custGeom>
              <a:avLst/>
              <a:gdLst>
                <a:gd name="textAreaLeft" fmla="*/ 19440 w 204840"/>
                <a:gd name="textAreaRight" fmla="*/ 191880 w 204840"/>
                <a:gd name="textAreaTop" fmla="*/ 81360 h 311400"/>
                <a:gd name="textAreaBottom" fmla="*/ 230400 h 311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1" name="Puzzle1"/>
            <p:cNvSpPr/>
            <p:nvPr/>
          </p:nvSpPr>
          <p:spPr>
            <a:xfrm>
              <a:off x="1460520" y="6246360"/>
              <a:ext cx="343800" cy="185400"/>
            </a:xfrm>
            <a:custGeom>
              <a:avLst/>
              <a:gdLst>
                <a:gd name="textAreaLeft" fmla="*/ 96840 w 343800"/>
                <a:gd name="textAreaRight" fmla="*/ 256680 w 343800"/>
                <a:gd name="textAreaTop" fmla="*/ 21960 h 185400"/>
                <a:gd name="textAreaBottom" fmla="*/ 167760 h 1854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282" name="Text Box 39"/>
          <p:cNvSpPr/>
          <p:nvPr/>
        </p:nvSpPr>
        <p:spPr>
          <a:xfrm>
            <a:off x="776160" y="5445000"/>
            <a:ext cx="23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 2016</a:t>
            </a:r>
            <a:endParaRPr b="1" lang="en-US" sz="2000" spc="-1" strike="noStrike">
              <a:solidFill>
                <a:srgbClr val="000000"/>
              </a:solidFill>
              <a:latin typeface="Arial"/>
            </a:endParaRPr>
          </a:p>
        </p:txBody>
      </p:sp>
      <p:sp>
        <p:nvSpPr>
          <p:cNvPr id="283" name="Arc 41"/>
          <p:cNvSpPr/>
          <p:nvPr/>
        </p:nvSpPr>
        <p:spPr>
          <a:xfrm flipV="1">
            <a:off x="2684520" y="5265000"/>
            <a:ext cx="4753080" cy="1081080"/>
          </a:xfrm>
          <a:custGeom>
            <a:avLst/>
            <a:gdLst>
              <a:gd name="textAreaLeft" fmla="*/ 0 w 4753080"/>
              <a:gd name="textAreaRight" fmla="*/ 4753440 w 4753080"/>
              <a:gd name="textAreaTop" fmla="*/ -360 h 1081080"/>
              <a:gd name="textAreaBottom" fmla="*/ 1081080 h 1081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84" name="Group 41"/>
          <p:cNvGrpSpPr/>
          <p:nvPr/>
        </p:nvGrpSpPr>
        <p:grpSpPr>
          <a:xfrm>
            <a:off x="4411800" y="6329520"/>
            <a:ext cx="541080" cy="528120"/>
            <a:chOff x="4411800" y="6329520"/>
            <a:chExt cx="541080" cy="528120"/>
          </a:xfrm>
        </p:grpSpPr>
        <p:sp>
          <p:nvSpPr>
            <p:cNvPr id="285" name="Puzzle3"/>
            <p:cNvSpPr/>
            <p:nvPr/>
          </p:nvSpPr>
          <p:spPr>
            <a:xfrm>
              <a:off x="4675320" y="6329520"/>
              <a:ext cx="212760" cy="280800"/>
            </a:xfrm>
            <a:custGeom>
              <a:avLst/>
              <a:gdLst>
                <a:gd name="textAreaLeft" fmla="*/ 22320 w 212760"/>
                <a:gd name="textAreaRight" fmla="*/ 189000 w 212760"/>
                <a:gd name="textAreaTop" fmla="*/ 100440 h 280800"/>
                <a:gd name="textAreaBottom" fmla="*/ 263160 h 2808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6" name="Puzzle2"/>
            <p:cNvSpPr/>
            <p:nvPr/>
          </p:nvSpPr>
          <p:spPr>
            <a:xfrm>
              <a:off x="4613400" y="6534000"/>
              <a:ext cx="339480" cy="255600"/>
            </a:xfrm>
            <a:custGeom>
              <a:avLst/>
              <a:gdLst>
                <a:gd name="textAreaLeft" fmla="*/ 84600 w 339480"/>
                <a:gd name="textAreaRight" fmla="*/ 254520 w 339480"/>
                <a:gd name="textAreaTop" fmla="*/ 79560 h 255600"/>
                <a:gd name="textAreaBottom" fmla="*/ 241920 h 255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7" name="Puzzle4"/>
            <p:cNvSpPr/>
            <p:nvPr/>
          </p:nvSpPr>
          <p:spPr>
            <a:xfrm>
              <a:off x="4482000" y="6530760"/>
              <a:ext cx="204480" cy="326880"/>
            </a:xfrm>
            <a:custGeom>
              <a:avLst/>
              <a:gdLst>
                <a:gd name="textAreaLeft" fmla="*/ 19440 w 204480"/>
                <a:gd name="textAreaRight" fmla="*/ 191520 w 204480"/>
                <a:gd name="textAreaTop" fmla="*/ 85680 h 326880"/>
                <a:gd name="textAreaBottom" fmla="*/ 241920 h 326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8" name="Puzzle1"/>
            <p:cNvSpPr/>
            <p:nvPr/>
          </p:nvSpPr>
          <p:spPr>
            <a:xfrm>
              <a:off x="4411800" y="6414480"/>
              <a:ext cx="343800" cy="194760"/>
            </a:xfrm>
            <a:custGeom>
              <a:avLst/>
              <a:gdLst>
                <a:gd name="textAreaLeft" fmla="*/ 96840 w 343800"/>
                <a:gd name="textAreaRight" fmla="*/ 256680 w 343800"/>
                <a:gd name="textAreaTop" fmla="*/ 23040 h 194760"/>
                <a:gd name="textAreaBottom" fmla="*/ 176400 h 1947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289" name="Group 46"/>
          <p:cNvGrpSpPr/>
          <p:nvPr/>
        </p:nvGrpSpPr>
        <p:grpSpPr>
          <a:xfrm>
            <a:off x="6572160" y="6058080"/>
            <a:ext cx="541440" cy="528120"/>
            <a:chOff x="6572160" y="6058080"/>
            <a:chExt cx="541440" cy="528120"/>
          </a:xfrm>
        </p:grpSpPr>
        <p:sp>
          <p:nvSpPr>
            <p:cNvPr id="290" name="Puzzle3"/>
            <p:cNvSpPr/>
            <p:nvPr/>
          </p:nvSpPr>
          <p:spPr>
            <a:xfrm>
              <a:off x="6835680" y="6058080"/>
              <a:ext cx="212760" cy="280800"/>
            </a:xfrm>
            <a:custGeom>
              <a:avLst/>
              <a:gdLst>
                <a:gd name="textAreaLeft" fmla="*/ 22320 w 212760"/>
                <a:gd name="textAreaRight" fmla="*/ 189000 w 212760"/>
                <a:gd name="textAreaTop" fmla="*/ 100440 h 280800"/>
                <a:gd name="textAreaBottom" fmla="*/ 263160 h 2808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1" name="Puzzle2"/>
            <p:cNvSpPr/>
            <p:nvPr/>
          </p:nvSpPr>
          <p:spPr>
            <a:xfrm>
              <a:off x="6773760" y="6262560"/>
              <a:ext cx="339840" cy="255600"/>
            </a:xfrm>
            <a:custGeom>
              <a:avLst/>
              <a:gdLst>
                <a:gd name="textAreaLeft" fmla="*/ 84600 w 339840"/>
                <a:gd name="textAreaRight" fmla="*/ 254520 w 339840"/>
                <a:gd name="textAreaTop" fmla="*/ 79560 h 255600"/>
                <a:gd name="textAreaBottom" fmla="*/ 241920 h 255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2" name="Puzzle4"/>
            <p:cNvSpPr/>
            <p:nvPr/>
          </p:nvSpPr>
          <p:spPr>
            <a:xfrm>
              <a:off x="6642360" y="6259320"/>
              <a:ext cx="204840" cy="326880"/>
            </a:xfrm>
            <a:custGeom>
              <a:avLst/>
              <a:gdLst>
                <a:gd name="textAreaLeft" fmla="*/ 19440 w 204840"/>
                <a:gd name="textAreaRight" fmla="*/ 191880 w 204840"/>
                <a:gd name="textAreaTop" fmla="*/ 85680 h 326880"/>
                <a:gd name="textAreaBottom" fmla="*/ 241920 h 326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3" name="Puzzle1"/>
            <p:cNvSpPr/>
            <p:nvPr/>
          </p:nvSpPr>
          <p:spPr>
            <a:xfrm>
              <a:off x="6572160" y="6143040"/>
              <a:ext cx="343800" cy="194760"/>
            </a:xfrm>
            <a:custGeom>
              <a:avLst/>
              <a:gdLst>
                <a:gd name="textAreaLeft" fmla="*/ 96840 w 343800"/>
                <a:gd name="textAreaRight" fmla="*/ 256680 w 343800"/>
                <a:gd name="textAreaTop" fmla="*/ 23040 h 194760"/>
                <a:gd name="textAreaBottom" fmla="*/ 176400 h 1947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294" name="Text Box 56"/>
          <p:cNvSpPr/>
          <p:nvPr/>
        </p:nvSpPr>
        <p:spPr>
          <a:xfrm>
            <a:off x="7400880" y="3933720"/>
            <a:ext cx="165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XX. 20XX</a:t>
            </a:r>
            <a:endParaRPr b="1" lang="en-US" sz="2000" spc="-1" strike="noStrike">
              <a:solidFill>
                <a:srgbClr val="000000"/>
              </a:solidFill>
              <a:latin typeface="Arial"/>
            </a:endParaRPr>
          </a:p>
        </p:txBody>
      </p:sp>
      <p:sp>
        <p:nvSpPr>
          <p:cNvPr id="295" name="Line 57"/>
          <p:cNvSpPr/>
          <p:nvPr/>
        </p:nvSpPr>
        <p:spPr>
          <a:xfrm>
            <a:off x="3332160" y="6058080"/>
            <a:ext cx="216000" cy="25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6" name="Line 58"/>
          <p:cNvSpPr/>
          <p:nvPr/>
        </p:nvSpPr>
        <p:spPr>
          <a:xfrm>
            <a:off x="4087800" y="6365880"/>
            <a:ext cx="216000" cy="2509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7" name="Line 59"/>
          <p:cNvSpPr/>
          <p:nvPr/>
        </p:nvSpPr>
        <p:spPr>
          <a:xfrm>
            <a:off x="6248520" y="6130800"/>
            <a:ext cx="215640" cy="2509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8" name="AutoShape 60"/>
          <p:cNvSpPr/>
          <p:nvPr/>
        </p:nvSpPr>
        <p:spPr>
          <a:xfrm>
            <a:off x="3836880" y="5192640"/>
            <a:ext cx="1908360" cy="855720"/>
          </a:xfrm>
          <a:prstGeom prst="bevel">
            <a:avLst>
              <a:gd name="adj" fmla="val 12500"/>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9" name="Text Box 61"/>
          <p:cNvSpPr/>
          <p:nvPr/>
        </p:nvSpPr>
        <p:spPr>
          <a:xfrm>
            <a:off x="3728880" y="5229360"/>
            <a:ext cx="2124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essive steps</a:t>
            </a:r>
            <a:endParaRPr b="1" lang="en-US" sz="2000" spc="-1" strike="noStrike">
              <a:solidFill>
                <a:srgbClr val="000000"/>
              </a:solidFill>
              <a:latin typeface="Arial"/>
            </a:endParaRPr>
          </a:p>
        </p:txBody>
      </p:sp>
      <p:sp>
        <p:nvSpPr>
          <p:cNvPr id="300" name="Text Box 62"/>
          <p:cNvSpPr/>
          <p:nvPr/>
        </p:nvSpPr>
        <p:spPr>
          <a:xfrm>
            <a:off x="4052880" y="4797360"/>
            <a:ext cx="14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XX. 20XX</a:t>
            </a:r>
            <a:endParaRPr b="1" lang="en-US" sz="2000" spc="-1" strike="noStrike">
              <a:solidFill>
                <a:srgbClr val="000000"/>
              </a:solidFill>
              <a:latin typeface="Arial"/>
            </a:endParaRPr>
          </a:p>
        </p:txBody>
      </p:sp>
      <p:grpSp>
        <p:nvGrpSpPr>
          <p:cNvPr id="301" name="Group 58"/>
          <p:cNvGrpSpPr/>
          <p:nvPr/>
        </p:nvGrpSpPr>
        <p:grpSpPr>
          <a:xfrm>
            <a:off x="7365960" y="5805360"/>
            <a:ext cx="541440" cy="528840"/>
            <a:chOff x="7365960" y="5805360"/>
            <a:chExt cx="541440" cy="528840"/>
          </a:xfrm>
        </p:grpSpPr>
        <p:sp>
          <p:nvSpPr>
            <p:cNvPr id="302" name="Puzzle3"/>
            <p:cNvSpPr/>
            <p:nvPr/>
          </p:nvSpPr>
          <p:spPr>
            <a:xfrm>
              <a:off x="7629480" y="5805360"/>
              <a:ext cx="212760" cy="281160"/>
            </a:xfrm>
            <a:custGeom>
              <a:avLst/>
              <a:gdLst>
                <a:gd name="textAreaLeft" fmla="*/ 22320 w 212760"/>
                <a:gd name="textAreaRight" fmla="*/ 189000 w 212760"/>
                <a:gd name="textAreaTop" fmla="*/ 100440 h 281160"/>
                <a:gd name="textAreaBottom" fmla="*/ 263520 h 28116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3" name="Puzzle2"/>
            <p:cNvSpPr/>
            <p:nvPr/>
          </p:nvSpPr>
          <p:spPr>
            <a:xfrm>
              <a:off x="7567560" y="6010200"/>
              <a:ext cx="339840" cy="255960"/>
            </a:xfrm>
            <a:custGeom>
              <a:avLst/>
              <a:gdLst>
                <a:gd name="textAreaLeft" fmla="*/ 84600 w 339840"/>
                <a:gd name="textAreaRight" fmla="*/ 254520 w 339840"/>
                <a:gd name="textAreaTop" fmla="*/ 79920 h 255960"/>
                <a:gd name="textAreaBottom" fmla="*/ 242280 h 2559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4" name="Puzzle4"/>
            <p:cNvSpPr/>
            <p:nvPr/>
          </p:nvSpPr>
          <p:spPr>
            <a:xfrm>
              <a:off x="7436160" y="6006960"/>
              <a:ext cx="204840" cy="327240"/>
            </a:xfrm>
            <a:custGeom>
              <a:avLst/>
              <a:gdLst>
                <a:gd name="textAreaLeft" fmla="*/ 19440 w 204840"/>
                <a:gd name="textAreaRight" fmla="*/ 191880 w 204840"/>
                <a:gd name="textAreaTop" fmla="*/ 85680 h 327240"/>
                <a:gd name="textAreaBottom" fmla="*/ 242280 h 32724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5" name="Puzzle1"/>
            <p:cNvSpPr/>
            <p:nvPr/>
          </p:nvSpPr>
          <p:spPr>
            <a:xfrm>
              <a:off x="7365960" y="5890320"/>
              <a:ext cx="343800" cy="195120"/>
            </a:xfrm>
            <a:custGeom>
              <a:avLst/>
              <a:gdLst>
                <a:gd name="textAreaLeft" fmla="*/ 96840 w 343800"/>
                <a:gd name="textAreaRight" fmla="*/ 256680 w 343800"/>
                <a:gd name="textAreaTop" fmla="*/ 23040 h 195120"/>
                <a:gd name="textAreaBottom" fmla="*/ 176760 h 19512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06" name="Line 68"/>
          <p:cNvSpPr/>
          <p:nvPr/>
        </p:nvSpPr>
        <p:spPr>
          <a:xfrm>
            <a:off x="7042320" y="5867280"/>
            <a:ext cx="215640" cy="2509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直線コネクタ 23"/>
          <p:cNvSpPr/>
          <p:nvPr/>
        </p:nvSpPr>
        <p:spPr>
          <a:xfrm>
            <a:off x="0" y="576360"/>
            <a:ext cx="990612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8" name="テキスト ボックス 24"/>
          <p:cNvSpPr/>
          <p:nvPr/>
        </p:nvSpPr>
        <p:spPr>
          <a:xfrm>
            <a:off x="3046320" y="0"/>
            <a:ext cx="3851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WVTA Vision</a:t>
            </a:r>
            <a:endParaRPr b="1" lang="en-US" sz="2800" spc="-1" strike="noStrike">
              <a:solidFill>
                <a:srgbClr val="000000"/>
              </a:solidFill>
              <a:latin typeface="Arial"/>
            </a:endParaRPr>
          </a:p>
        </p:txBody>
      </p:sp>
      <p:sp>
        <p:nvSpPr>
          <p:cNvPr id="309" name="テキスト ボックス 11"/>
          <p:cNvSpPr/>
          <p:nvPr/>
        </p:nvSpPr>
        <p:spPr>
          <a:xfrm>
            <a:off x="631800" y="800280"/>
            <a:ext cx="9037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WVTA sits over a limited subset of component/system UN approvals, as agreed by the CPs adopting IWVTA through R0</a:t>
            </a:r>
            <a:endParaRPr b="1" lang="en-US" sz="1200" spc="-1" strike="noStrike">
              <a:solidFill>
                <a:srgbClr val="000000"/>
              </a:solidFill>
              <a:latin typeface="Arial"/>
            </a:endParaRPr>
          </a:p>
        </p:txBody>
      </p:sp>
      <p:sp>
        <p:nvSpPr>
          <p:cNvPr id="310" name="下矢印 242"/>
          <p:cNvSpPr/>
          <p:nvPr/>
        </p:nvSpPr>
        <p:spPr>
          <a:xfrm>
            <a:off x="3692520" y="2565360"/>
            <a:ext cx="2808360" cy="214200"/>
          </a:xfrm>
          <a:prstGeom prst="downArrow">
            <a:avLst>
              <a:gd name="adj1" fmla="val 50000"/>
              <a:gd name="adj2" fmla="val 50000"/>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1" name="下矢印 242"/>
          <p:cNvSpPr/>
          <p:nvPr/>
        </p:nvSpPr>
        <p:spPr>
          <a:xfrm>
            <a:off x="3836880" y="4616280"/>
            <a:ext cx="2808360" cy="214560"/>
          </a:xfrm>
          <a:prstGeom prst="downArrow">
            <a:avLst>
              <a:gd name="adj1" fmla="val 50000"/>
              <a:gd name="adj2" fmla="val 50000"/>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312" name="Group 7"/>
          <p:cNvGrpSpPr/>
          <p:nvPr/>
        </p:nvGrpSpPr>
        <p:grpSpPr>
          <a:xfrm>
            <a:off x="560520" y="2816280"/>
            <a:ext cx="9037440" cy="1765080"/>
            <a:chOff x="560520" y="2816280"/>
            <a:chExt cx="9037440" cy="1765080"/>
          </a:xfrm>
        </p:grpSpPr>
        <p:sp>
          <p:nvSpPr>
            <p:cNvPr id="313" name="正方形/長方形 210"/>
            <p:cNvSpPr/>
            <p:nvPr/>
          </p:nvSpPr>
          <p:spPr>
            <a:xfrm>
              <a:off x="560520" y="2816280"/>
              <a:ext cx="8991360" cy="17650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4" name="テキスト ボックス 11"/>
            <p:cNvSpPr/>
            <p:nvPr/>
          </p:nvSpPr>
          <p:spPr>
            <a:xfrm>
              <a:off x="776160" y="3500280"/>
              <a:ext cx="136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66"/>
                  </a:solidFill>
                  <a:uFillTx/>
                  <a:latin typeface="Arial"/>
                </a:rPr>
                <a:t>After March 2016</a:t>
              </a:r>
              <a:endParaRPr b="1" lang="en-US" sz="1400" spc="-1" strike="noStrike">
                <a:solidFill>
                  <a:srgbClr val="000000"/>
                </a:solidFill>
                <a:latin typeface="Arial"/>
              </a:endParaRPr>
            </a:p>
          </p:txBody>
        </p:sp>
        <p:sp>
          <p:nvSpPr>
            <p:cNvPr id="315" name="テキスト ボックス 11"/>
            <p:cNvSpPr/>
            <p:nvPr/>
          </p:nvSpPr>
          <p:spPr>
            <a:xfrm>
              <a:off x="560520" y="2852280"/>
              <a:ext cx="903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reased scope of IWVTA, more UN approvals brought into R0, reduced need for national requirements</a:t>
              </a:r>
              <a:endParaRPr b="1" lang="en-US" sz="1400" spc="-1" strike="noStrike">
                <a:solidFill>
                  <a:srgbClr val="000000"/>
                </a:solidFill>
                <a:latin typeface="Arial"/>
              </a:endParaRPr>
            </a:p>
          </p:txBody>
        </p:sp>
        <p:sp>
          <p:nvSpPr>
            <p:cNvPr id="316" name="角丸四角形 211"/>
            <p:cNvSpPr/>
            <p:nvPr/>
          </p:nvSpPr>
          <p:spPr>
            <a:xfrm>
              <a:off x="2036520" y="3285720"/>
              <a:ext cx="3338280" cy="12236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7" name="角丸四角形 211"/>
            <p:cNvSpPr/>
            <p:nvPr/>
          </p:nvSpPr>
          <p:spPr>
            <a:xfrm>
              <a:off x="5817960" y="3284280"/>
              <a:ext cx="1680840" cy="12250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8" name="等号 207"/>
            <p:cNvSpPr/>
            <p:nvPr/>
          </p:nvSpPr>
          <p:spPr>
            <a:xfrm>
              <a:off x="7589520" y="3752640"/>
              <a:ext cx="288720" cy="215280"/>
            </a:xfrm>
            <a:custGeom>
              <a:avLst/>
              <a:gdLst/>
              <a:ahLst/>
              <a:rect l="l" t="t" r="r" b="b"/>
              <a:pathLst>
                <a:path w="10000" h="10000">
                  <a:moveTo>
                    <a:pt x="1319" y="2059"/>
                  </a:moveTo>
                  <a:lnTo>
                    <a:pt x="8681" y="2059"/>
                  </a:lnTo>
                  <a:lnTo>
                    <a:pt x="8681" y="4412"/>
                  </a:lnTo>
                  <a:lnTo>
                    <a:pt x="1319" y="4412"/>
                  </a:lnTo>
                  <a:lnTo>
                    <a:pt x="1319" y="2059"/>
                  </a:lnTo>
                  <a:close/>
                  <a:moveTo>
                    <a:pt x="1319" y="5588"/>
                  </a:moveTo>
                  <a:lnTo>
                    <a:pt x="8681" y="5588"/>
                  </a:lnTo>
                  <a:lnTo>
                    <a:pt x="8681" y="7941"/>
                  </a:lnTo>
                  <a:lnTo>
                    <a:pt x="1319" y="7941"/>
                  </a:lnTo>
                  <a:lnTo>
                    <a:pt x="1319" y="5588"/>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9" name="加算記号 208"/>
            <p:cNvSpPr/>
            <p:nvPr/>
          </p:nvSpPr>
          <p:spPr>
            <a:xfrm>
              <a:off x="5429160" y="3681000"/>
              <a:ext cx="361440" cy="360000"/>
            </a:xfrm>
            <a:custGeom>
              <a:avLst/>
              <a:gdLst/>
              <a:ahLst/>
              <a:rect l="l" t="t" r="r" b="b"/>
              <a:pathLst>
                <a:path w="10000" h="10000">
                  <a:moveTo>
                    <a:pt x="1316" y="3833"/>
                  </a:moveTo>
                  <a:lnTo>
                    <a:pt x="3816" y="3833"/>
                  </a:lnTo>
                  <a:lnTo>
                    <a:pt x="3816" y="1322"/>
                  </a:lnTo>
                  <a:lnTo>
                    <a:pt x="6184" y="1322"/>
                  </a:lnTo>
                  <a:lnTo>
                    <a:pt x="6184" y="3833"/>
                  </a:lnTo>
                  <a:lnTo>
                    <a:pt x="8684" y="3833"/>
                  </a:lnTo>
                  <a:lnTo>
                    <a:pt x="8684" y="6167"/>
                  </a:lnTo>
                  <a:lnTo>
                    <a:pt x="6184" y="6167"/>
                  </a:lnTo>
                  <a:lnTo>
                    <a:pt x="6184" y="8678"/>
                  </a:lnTo>
                  <a:lnTo>
                    <a:pt x="3816" y="8678"/>
                  </a:lnTo>
                  <a:lnTo>
                    <a:pt x="3816" y="6167"/>
                  </a:lnTo>
                  <a:lnTo>
                    <a:pt x="1316" y="6167"/>
                  </a:lnTo>
                  <a:lnTo>
                    <a:pt x="1316" y="3833"/>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0" name="加算記号 209"/>
            <p:cNvSpPr/>
            <p:nvPr/>
          </p:nvSpPr>
          <p:spPr>
            <a:xfrm>
              <a:off x="3163680" y="3789000"/>
              <a:ext cx="178920" cy="172800"/>
            </a:xfrm>
            <a:custGeom>
              <a:avLst/>
              <a:gdLst/>
              <a:ahLst/>
              <a:rect l="l" t="t" r="r" b="b"/>
              <a:pathLst>
                <a:path w="10000" h="10000">
                  <a:moveTo>
                    <a:pt x="1327" y="3853"/>
                  </a:moveTo>
                  <a:lnTo>
                    <a:pt x="3894" y="3853"/>
                  </a:lnTo>
                  <a:lnTo>
                    <a:pt x="3894" y="1284"/>
                  </a:lnTo>
                  <a:lnTo>
                    <a:pt x="6106" y="1284"/>
                  </a:lnTo>
                  <a:lnTo>
                    <a:pt x="6106" y="3853"/>
                  </a:lnTo>
                  <a:lnTo>
                    <a:pt x="8673" y="3853"/>
                  </a:lnTo>
                  <a:lnTo>
                    <a:pt x="8673" y="6147"/>
                  </a:lnTo>
                  <a:lnTo>
                    <a:pt x="6106" y="6147"/>
                  </a:lnTo>
                  <a:lnTo>
                    <a:pt x="6106" y="8716"/>
                  </a:lnTo>
                  <a:lnTo>
                    <a:pt x="3894" y="8716"/>
                  </a:lnTo>
                  <a:lnTo>
                    <a:pt x="3894" y="6147"/>
                  </a:lnTo>
                  <a:lnTo>
                    <a:pt x="1327" y="6147"/>
                  </a:lnTo>
                  <a:lnTo>
                    <a:pt x="1327" y="3853"/>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1" name="テキスト ボックス 12"/>
            <p:cNvSpPr/>
            <p:nvPr/>
          </p:nvSpPr>
          <p:spPr>
            <a:xfrm>
              <a:off x="7911720" y="3644640"/>
              <a:ext cx="939600" cy="396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VTA</a:t>
              </a:r>
              <a:endParaRPr b="1" lang="en-US" sz="1200" spc="-1" strike="noStrike">
                <a:solidFill>
                  <a:srgbClr val="000000"/>
                </a:solidFill>
                <a:latin typeface="Arial"/>
              </a:endParaRPr>
            </a:p>
          </p:txBody>
        </p:sp>
        <p:sp>
          <p:nvSpPr>
            <p:cNvPr id="322" name="テキスト ボックス 14"/>
            <p:cNvSpPr/>
            <p:nvPr/>
          </p:nvSpPr>
          <p:spPr>
            <a:xfrm>
              <a:off x="2118960" y="3501720"/>
              <a:ext cx="3132000" cy="252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system UN approvals</a:t>
              </a:r>
              <a:endParaRPr b="1" lang="en-US" sz="1000" spc="-1" strike="noStrike">
                <a:solidFill>
                  <a:srgbClr val="000000"/>
                </a:solidFill>
                <a:latin typeface="Arial"/>
              </a:endParaRPr>
            </a:p>
          </p:txBody>
        </p:sp>
        <p:sp>
          <p:nvSpPr>
            <p:cNvPr id="323" name="テキスト ボックス 18"/>
            <p:cNvSpPr/>
            <p:nvPr/>
          </p:nvSpPr>
          <p:spPr>
            <a:xfrm>
              <a:off x="2109600" y="4005000"/>
              <a:ext cx="3141360" cy="375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for a complete vehicle against UN approvals and for COP</a:t>
              </a:r>
              <a:endParaRPr b="1" lang="en-US" sz="1000" spc="-1" strike="noStrike">
                <a:solidFill>
                  <a:srgbClr val="000000"/>
                </a:solidFill>
                <a:latin typeface="Arial"/>
              </a:endParaRPr>
            </a:p>
          </p:txBody>
        </p:sp>
        <p:sp>
          <p:nvSpPr>
            <p:cNvPr id="324" name="加算記号 209"/>
            <p:cNvSpPr/>
            <p:nvPr/>
          </p:nvSpPr>
          <p:spPr>
            <a:xfrm>
              <a:off x="6114960" y="3789000"/>
              <a:ext cx="180360" cy="172800"/>
            </a:xfrm>
            <a:custGeom>
              <a:avLst/>
              <a:gdLst/>
              <a:ahLst/>
              <a:rect l="l" t="t" r="r" b="b"/>
              <a:pathLst>
                <a:path w="10000" h="10000">
                  <a:moveTo>
                    <a:pt x="1316" y="3853"/>
                  </a:moveTo>
                  <a:lnTo>
                    <a:pt x="3860" y="3853"/>
                  </a:lnTo>
                  <a:lnTo>
                    <a:pt x="3860" y="1284"/>
                  </a:lnTo>
                  <a:lnTo>
                    <a:pt x="6140" y="1284"/>
                  </a:lnTo>
                  <a:lnTo>
                    <a:pt x="6140" y="3853"/>
                  </a:lnTo>
                  <a:lnTo>
                    <a:pt x="8684" y="3853"/>
                  </a:lnTo>
                  <a:lnTo>
                    <a:pt x="8684" y="6147"/>
                  </a:lnTo>
                  <a:lnTo>
                    <a:pt x="6140" y="6147"/>
                  </a:lnTo>
                  <a:lnTo>
                    <a:pt x="6140" y="8716"/>
                  </a:lnTo>
                  <a:lnTo>
                    <a:pt x="3860" y="8716"/>
                  </a:lnTo>
                  <a:lnTo>
                    <a:pt x="3860" y="6147"/>
                  </a:lnTo>
                  <a:lnTo>
                    <a:pt x="1316" y="6147"/>
                  </a:lnTo>
                  <a:lnTo>
                    <a:pt x="1316" y="3853"/>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5" name="テキスト ボックス 14"/>
            <p:cNvSpPr/>
            <p:nvPr/>
          </p:nvSpPr>
          <p:spPr>
            <a:xfrm>
              <a:off x="5894280" y="3501720"/>
              <a:ext cx="1553760" cy="250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aining National approvals</a:t>
              </a:r>
              <a:endParaRPr b="1" lang="en-US" sz="800" spc="-1" strike="noStrike">
                <a:solidFill>
                  <a:srgbClr val="000000"/>
                </a:solidFill>
                <a:latin typeface="Arial"/>
              </a:endParaRPr>
            </a:p>
          </p:txBody>
        </p:sp>
        <p:sp>
          <p:nvSpPr>
            <p:cNvPr id="326" name="テキスト ボックス 18"/>
            <p:cNvSpPr/>
            <p:nvPr/>
          </p:nvSpPr>
          <p:spPr>
            <a:xfrm>
              <a:off x="5894280" y="4005000"/>
              <a:ext cx="1553760" cy="375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for a complete vehicle against National approvals and  for COP</a:t>
              </a:r>
              <a:endParaRPr b="1" lang="en-US" sz="800" spc="-1" strike="noStrike">
                <a:solidFill>
                  <a:srgbClr val="000000"/>
                </a:solidFill>
                <a:latin typeface="Arial"/>
              </a:endParaRPr>
            </a:p>
          </p:txBody>
        </p:sp>
        <p:sp>
          <p:nvSpPr>
            <p:cNvPr id="327" name="Right Arrow 113"/>
            <p:cNvSpPr/>
            <p:nvPr/>
          </p:nvSpPr>
          <p:spPr>
            <a:xfrm>
              <a:off x="5394240" y="3465360"/>
              <a:ext cx="325080" cy="215280"/>
            </a:xfrm>
            <a:prstGeom prst="rightArrow">
              <a:avLst>
                <a:gd name="adj1" fmla="val 50000"/>
                <a:gd name="adj2" fmla="val 50334"/>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8" name="Right Arrow 114"/>
            <p:cNvSpPr/>
            <p:nvPr/>
          </p:nvSpPr>
          <p:spPr>
            <a:xfrm>
              <a:off x="5394240" y="4113000"/>
              <a:ext cx="325080" cy="215280"/>
            </a:xfrm>
            <a:prstGeom prst="rightArrow">
              <a:avLst>
                <a:gd name="adj1" fmla="val 50000"/>
                <a:gd name="adj2" fmla="val 50334"/>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9" name="テキスト ボックス 16"/>
            <p:cNvSpPr/>
            <p:nvPr/>
          </p:nvSpPr>
          <p:spPr>
            <a:xfrm>
              <a:off x="3044520" y="3141360"/>
              <a:ext cx="126036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rtial” IWVTA</a:t>
              </a:r>
              <a:endParaRPr b="1" lang="en-US" sz="1200" spc="-1" strike="noStrike">
                <a:solidFill>
                  <a:srgbClr val="000000"/>
                </a:solidFill>
                <a:latin typeface="Arial"/>
              </a:endParaRPr>
            </a:p>
          </p:txBody>
        </p:sp>
      </p:grpSp>
      <p:grpSp>
        <p:nvGrpSpPr>
          <p:cNvPr id="330" name="Group 25"/>
          <p:cNvGrpSpPr/>
          <p:nvPr/>
        </p:nvGrpSpPr>
        <p:grpSpPr>
          <a:xfrm>
            <a:off x="560520" y="800280"/>
            <a:ext cx="8991360" cy="1763640"/>
            <a:chOff x="560520" y="800280"/>
            <a:chExt cx="8991360" cy="1763640"/>
          </a:xfrm>
        </p:grpSpPr>
        <p:sp>
          <p:nvSpPr>
            <p:cNvPr id="331" name="正方形/長方形 210"/>
            <p:cNvSpPr/>
            <p:nvPr/>
          </p:nvSpPr>
          <p:spPr>
            <a:xfrm>
              <a:off x="560520" y="800280"/>
              <a:ext cx="8991360" cy="17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2" name="テキスト ボックス 11"/>
            <p:cNvSpPr/>
            <p:nvPr/>
          </p:nvSpPr>
          <p:spPr>
            <a:xfrm>
              <a:off x="739440" y="1521000"/>
              <a:ext cx="136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66"/>
                  </a:solidFill>
                  <a:uFillTx/>
                  <a:latin typeface="Arial"/>
                </a:rPr>
                <a:t>Goal for March 2016</a:t>
              </a:r>
              <a:endParaRPr b="1" lang="en-US" sz="1400" spc="-1" strike="noStrike">
                <a:solidFill>
                  <a:srgbClr val="000000"/>
                </a:solidFill>
                <a:latin typeface="Arial"/>
              </a:endParaRPr>
            </a:p>
          </p:txBody>
        </p:sp>
        <p:sp>
          <p:nvSpPr>
            <p:cNvPr id="333" name="テキスト ボックス 12"/>
            <p:cNvSpPr/>
            <p:nvPr/>
          </p:nvSpPr>
          <p:spPr>
            <a:xfrm>
              <a:off x="7929360" y="1663920"/>
              <a:ext cx="936360" cy="396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VTA</a:t>
              </a:r>
              <a:endParaRPr b="1" lang="en-US" sz="1200" spc="-1" strike="noStrike">
                <a:solidFill>
                  <a:srgbClr val="000000"/>
                </a:solidFill>
                <a:latin typeface="Arial"/>
              </a:endParaRPr>
            </a:p>
          </p:txBody>
        </p:sp>
        <p:sp>
          <p:nvSpPr>
            <p:cNvPr id="334" name="角丸四角形 211"/>
            <p:cNvSpPr/>
            <p:nvPr/>
          </p:nvSpPr>
          <p:spPr>
            <a:xfrm>
              <a:off x="4941720" y="1268640"/>
              <a:ext cx="2509560" cy="12240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335" name="Group 30"/>
            <p:cNvGrpSpPr/>
            <p:nvPr/>
          </p:nvGrpSpPr>
          <p:grpSpPr>
            <a:xfrm>
              <a:off x="2000160" y="1268640"/>
              <a:ext cx="2917080" cy="1224000"/>
              <a:chOff x="2000160" y="1268640"/>
              <a:chExt cx="2917080" cy="1224000"/>
            </a:xfrm>
          </p:grpSpPr>
          <p:sp>
            <p:nvSpPr>
              <p:cNvPr id="336" name="角丸四角形 211"/>
              <p:cNvSpPr/>
              <p:nvPr/>
            </p:nvSpPr>
            <p:spPr>
              <a:xfrm>
                <a:off x="2000160" y="1268640"/>
                <a:ext cx="2509560" cy="12240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7" name="加算記号 208"/>
              <p:cNvSpPr/>
              <p:nvPr/>
            </p:nvSpPr>
            <p:spPr>
              <a:xfrm>
                <a:off x="4557240" y="1663920"/>
                <a:ext cx="360000" cy="360360"/>
              </a:xfrm>
              <a:custGeom>
                <a:avLst/>
                <a:gdLst/>
                <a:ahLst/>
                <a:rect l="l" t="t" r="r" b="b"/>
                <a:pathLst>
                  <a:path w="10000" h="10000">
                    <a:moveTo>
                      <a:pt x="1322" y="3833"/>
                    </a:moveTo>
                    <a:lnTo>
                      <a:pt x="3833" y="3833"/>
                    </a:lnTo>
                    <a:lnTo>
                      <a:pt x="3833" y="1322"/>
                    </a:lnTo>
                    <a:lnTo>
                      <a:pt x="6167" y="1322"/>
                    </a:lnTo>
                    <a:lnTo>
                      <a:pt x="6167" y="3833"/>
                    </a:lnTo>
                    <a:lnTo>
                      <a:pt x="8678" y="3833"/>
                    </a:lnTo>
                    <a:lnTo>
                      <a:pt x="8678" y="6167"/>
                    </a:lnTo>
                    <a:lnTo>
                      <a:pt x="6167" y="6167"/>
                    </a:lnTo>
                    <a:lnTo>
                      <a:pt x="6167" y="8678"/>
                    </a:lnTo>
                    <a:lnTo>
                      <a:pt x="3833" y="8678"/>
                    </a:lnTo>
                    <a:lnTo>
                      <a:pt x="3833" y="6167"/>
                    </a:lnTo>
                    <a:lnTo>
                      <a:pt x="1322" y="6167"/>
                    </a:lnTo>
                    <a:lnTo>
                      <a:pt x="1322" y="3833"/>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8" name="加算記号 209"/>
              <p:cNvSpPr/>
              <p:nvPr/>
            </p:nvSpPr>
            <p:spPr>
              <a:xfrm>
                <a:off x="3117240" y="1773360"/>
                <a:ext cx="179280" cy="171720"/>
              </a:xfrm>
              <a:custGeom>
                <a:avLst/>
                <a:gdLst/>
                <a:ahLst/>
                <a:rect l="l" t="t" r="r" b="b"/>
                <a:pathLst>
                  <a:path w="10000" h="10000">
                    <a:moveTo>
                      <a:pt x="1327" y="3796"/>
                    </a:moveTo>
                    <a:lnTo>
                      <a:pt x="3894" y="3796"/>
                    </a:lnTo>
                    <a:lnTo>
                      <a:pt x="3894" y="1296"/>
                    </a:lnTo>
                    <a:lnTo>
                      <a:pt x="6106" y="1296"/>
                    </a:lnTo>
                    <a:lnTo>
                      <a:pt x="6106" y="3796"/>
                    </a:lnTo>
                    <a:lnTo>
                      <a:pt x="8673" y="3796"/>
                    </a:lnTo>
                    <a:lnTo>
                      <a:pt x="8673" y="6204"/>
                    </a:lnTo>
                    <a:lnTo>
                      <a:pt x="6106" y="6204"/>
                    </a:lnTo>
                    <a:lnTo>
                      <a:pt x="6106" y="8704"/>
                    </a:lnTo>
                    <a:lnTo>
                      <a:pt x="3894" y="8704"/>
                    </a:lnTo>
                    <a:lnTo>
                      <a:pt x="3894" y="6204"/>
                    </a:lnTo>
                    <a:lnTo>
                      <a:pt x="1327" y="6204"/>
                    </a:lnTo>
                    <a:lnTo>
                      <a:pt x="1327" y="3796"/>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9" name="テキスト ボックス 14"/>
              <p:cNvSpPr/>
              <p:nvPr/>
            </p:nvSpPr>
            <p:spPr>
              <a:xfrm>
                <a:off x="2082240" y="1484640"/>
                <a:ext cx="2366640" cy="252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system UN approvals</a:t>
                </a:r>
                <a:endParaRPr b="1" lang="en-US" sz="1000" spc="-1" strike="noStrike">
                  <a:solidFill>
                    <a:srgbClr val="000000"/>
                  </a:solidFill>
                  <a:latin typeface="Arial"/>
                </a:endParaRPr>
              </a:p>
            </p:txBody>
          </p:sp>
          <p:sp>
            <p:nvSpPr>
              <p:cNvPr id="340" name="テキスト ボックス 18"/>
              <p:cNvSpPr/>
              <p:nvPr/>
            </p:nvSpPr>
            <p:spPr>
              <a:xfrm>
                <a:off x="2072880" y="1987920"/>
                <a:ext cx="2376000" cy="37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for a complete vehicle against UN approvals and for COP</a:t>
                </a:r>
                <a:endParaRPr b="1" lang="en-US" sz="1000" spc="-1" strike="noStrike">
                  <a:solidFill>
                    <a:srgbClr val="000000"/>
                  </a:solidFill>
                  <a:latin typeface="Arial"/>
                </a:endParaRPr>
              </a:p>
            </p:txBody>
          </p:sp>
        </p:grpSp>
        <p:grpSp>
          <p:nvGrpSpPr>
            <p:cNvPr id="341" name="Group 36"/>
            <p:cNvGrpSpPr/>
            <p:nvPr/>
          </p:nvGrpSpPr>
          <p:grpSpPr>
            <a:xfrm>
              <a:off x="5025960" y="1484640"/>
              <a:ext cx="2840760" cy="879480"/>
              <a:chOff x="5025960" y="1484640"/>
              <a:chExt cx="2840760" cy="879480"/>
            </a:xfrm>
          </p:grpSpPr>
          <p:sp>
            <p:nvSpPr>
              <p:cNvPr id="342" name="等号 207"/>
              <p:cNvSpPr/>
              <p:nvPr/>
            </p:nvSpPr>
            <p:spPr>
              <a:xfrm>
                <a:off x="7579800" y="1737000"/>
                <a:ext cx="286920" cy="216000"/>
              </a:xfrm>
              <a:custGeom>
                <a:avLst/>
                <a:gdLst/>
                <a:ahLst/>
                <a:rect l="l" t="t" r="r" b="b"/>
                <a:pathLst>
                  <a:path w="10000" h="10000">
                    <a:moveTo>
                      <a:pt x="1326" y="2059"/>
                    </a:moveTo>
                    <a:lnTo>
                      <a:pt x="8674" y="2059"/>
                    </a:lnTo>
                    <a:lnTo>
                      <a:pt x="8674" y="4412"/>
                    </a:lnTo>
                    <a:lnTo>
                      <a:pt x="1326" y="4412"/>
                    </a:lnTo>
                    <a:lnTo>
                      <a:pt x="1326" y="2059"/>
                    </a:lnTo>
                    <a:close/>
                    <a:moveTo>
                      <a:pt x="1326" y="5588"/>
                    </a:moveTo>
                    <a:lnTo>
                      <a:pt x="8674" y="5588"/>
                    </a:lnTo>
                    <a:lnTo>
                      <a:pt x="8674" y="7941"/>
                    </a:lnTo>
                    <a:lnTo>
                      <a:pt x="1326" y="7941"/>
                    </a:lnTo>
                    <a:lnTo>
                      <a:pt x="1326" y="5588"/>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3" name="加算記号 209"/>
              <p:cNvSpPr/>
              <p:nvPr/>
            </p:nvSpPr>
            <p:spPr>
              <a:xfrm>
                <a:off x="6068520" y="1773720"/>
                <a:ext cx="180720" cy="171360"/>
              </a:xfrm>
              <a:custGeom>
                <a:avLst/>
                <a:gdLst/>
                <a:ahLst/>
                <a:rect l="l" t="t" r="r" b="b"/>
                <a:pathLst>
                  <a:path w="10000" h="10000">
                    <a:moveTo>
                      <a:pt x="1316" y="3796"/>
                    </a:moveTo>
                    <a:lnTo>
                      <a:pt x="3860" y="3796"/>
                    </a:lnTo>
                    <a:lnTo>
                      <a:pt x="3860" y="1296"/>
                    </a:lnTo>
                    <a:lnTo>
                      <a:pt x="6140" y="1296"/>
                    </a:lnTo>
                    <a:lnTo>
                      <a:pt x="6140" y="3796"/>
                    </a:lnTo>
                    <a:lnTo>
                      <a:pt x="8684" y="3796"/>
                    </a:lnTo>
                    <a:lnTo>
                      <a:pt x="8684" y="6204"/>
                    </a:lnTo>
                    <a:lnTo>
                      <a:pt x="6140" y="6204"/>
                    </a:lnTo>
                    <a:lnTo>
                      <a:pt x="6140" y="8704"/>
                    </a:lnTo>
                    <a:lnTo>
                      <a:pt x="3860" y="8704"/>
                    </a:lnTo>
                    <a:lnTo>
                      <a:pt x="3860" y="6204"/>
                    </a:lnTo>
                    <a:lnTo>
                      <a:pt x="1316" y="6204"/>
                    </a:lnTo>
                    <a:lnTo>
                      <a:pt x="1316" y="3796"/>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4" name="テキスト ボックス 14"/>
              <p:cNvSpPr/>
              <p:nvPr/>
            </p:nvSpPr>
            <p:spPr>
              <a:xfrm>
                <a:off x="5034960" y="1484640"/>
                <a:ext cx="2366640" cy="252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aining National approvals</a:t>
                </a:r>
                <a:endParaRPr b="1" lang="en-US" sz="1000" spc="-1" strike="noStrike">
                  <a:solidFill>
                    <a:srgbClr val="000000"/>
                  </a:solidFill>
                  <a:latin typeface="Arial"/>
                </a:endParaRPr>
              </a:p>
            </p:txBody>
          </p:sp>
          <p:sp>
            <p:nvSpPr>
              <p:cNvPr id="345" name="テキスト ボックス 18"/>
              <p:cNvSpPr/>
              <p:nvPr/>
            </p:nvSpPr>
            <p:spPr>
              <a:xfrm>
                <a:off x="5025960" y="1989360"/>
                <a:ext cx="2376000" cy="374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for a complete vehicle against National approvals and  for COP</a:t>
                </a:r>
                <a:endParaRPr b="1" lang="en-US" sz="1000" spc="-1" strike="noStrike">
                  <a:solidFill>
                    <a:srgbClr val="000000"/>
                  </a:solidFill>
                  <a:latin typeface="Arial"/>
                </a:endParaRPr>
              </a:p>
            </p:txBody>
          </p:sp>
        </p:grpSp>
        <p:sp>
          <p:nvSpPr>
            <p:cNvPr id="346" name="テキスト ボックス 16"/>
            <p:cNvSpPr/>
            <p:nvPr/>
          </p:nvSpPr>
          <p:spPr>
            <a:xfrm>
              <a:off x="2612880" y="1089360"/>
              <a:ext cx="126000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rtial” IWVTA</a:t>
              </a:r>
              <a:endParaRPr b="1" lang="en-US" sz="1200" spc="-1" strike="noStrike">
                <a:solidFill>
                  <a:srgbClr val="000000"/>
                </a:solidFill>
                <a:latin typeface="Arial"/>
              </a:endParaRPr>
            </a:p>
          </p:txBody>
        </p:sp>
      </p:grpSp>
      <p:grpSp>
        <p:nvGrpSpPr>
          <p:cNvPr id="347" name="Group 42"/>
          <p:cNvGrpSpPr/>
          <p:nvPr/>
        </p:nvGrpSpPr>
        <p:grpSpPr>
          <a:xfrm>
            <a:off x="523800" y="4869000"/>
            <a:ext cx="9028080" cy="1763640"/>
            <a:chOff x="523800" y="4869000"/>
            <a:chExt cx="9028080" cy="1763640"/>
          </a:xfrm>
        </p:grpSpPr>
        <p:sp>
          <p:nvSpPr>
            <p:cNvPr id="348" name="正方形/長方形 210"/>
            <p:cNvSpPr/>
            <p:nvPr/>
          </p:nvSpPr>
          <p:spPr>
            <a:xfrm>
              <a:off x="560160" y="4869000"/>
              <a:ext cx="8991720" cy="17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9" name="テキスト ボックス 11"/>
            <p:cNvSpPr/>
            <p:nvPr/>
          </p:nvSpPr>
          <p:spPr>
            <a:xfrm>
              <a:off x="523800" y="5697720"/>
              <a:ext cx="158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66"/>
                  </a:solidFill>
                  <a:uFillTx/>
                  <a:latin typeface="Arial"/>
                </a:rPr>
                <a:t>Ultimate Goal</a:t>
              </a:r>
              <a:endParaRPr b="1" lang="en-US" sz="1600" spc="-1" strike="noStrike">
                <a:solidFill>
                  <a:srgbClr val="000000"/>
                </a:solidFill>
                <a:latin typeface="Arial"/>
              </a:endParaRPr>
            </a:p>
          </p:txBody>
        </p:sp>
        <p:grpSp>
          <p:nvGrpSpPr>
            <p:cNvPr id="350" name="Group 45"/>
            <p:cNvGrpSpPr/>
            <p:nvPr/>
          </p:nvGrpSpPr>
          <p:grpSpPr>
            <a:xfrm>
              <a:off x="2036520" y="5050080"/>
              <a:ext cx="5724360" cy="1403280"/>
              <a:chOff x="2036520" y="5050080"/>
              <a:chExt cx="5724360" cy="1403280"/>
            </a:xfrm>
          </p:grpSpPr>
          <p:sp>
            <p:nvSpPr>
              <p:cNvPr id="351" name="角丸四角形 211"/>
              <p:cNvSpPr/>
              <p:nvPr/>
            </p:nvSpPr>
            <p:spPr>
              <a:xfrm>
                <a:off x="2036520" y="5229360"/>
                <a:ext cx="3446640" cy="12240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2" name="角丸四角形 211"/>
              <p:cNvSpPr/>
              <p:nvPr/>
            </p:nvSpPr>
            <p:spPr>
              <a:xfrm>
                <a:off x="5827320" y="5229360"/>
                <a:ext cx="1683000" cy="1224000"/>
              </a:xfrm>
              <a:prstGeom prst="roundRect">
                <a:avLst>
                  <a:gd name="adj" fmla="val 16667"/>
                </a:avLst>
              </a:prstGeom>
              <a:noFill/>
              <a:ln w="9360">
                <a:solidFill>
                  <a:srgbClr val="000000">
                    <a:alpha val="50000"/>
                  </a:srgbClr>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3" name="加算記号 208"/>
              <p:cNvSpPr/>
              <p:nvPr/>
            </p:nvSpPr>
            <p:spPr>
              <a:xfrm>
                <a:off x="5456160" y="5624640"/>
                <a:ext cx="360360" cy="360360"/>
              </a:xfrm>
              <a:custGeom>
                <a:avLst/>
                <a:gdLst>
                  <a:gd name="textAreaLeft" fmla="*/ 47520 w 360360"/>
                  <a:gd name="textAreaRight" fmla="*/ 312840 w 360360"/>
                  <a:gd name="textAreaTop" fmla="*/ 138240 h 360360"/>
                  <a:gd name="textAreaBottom" fmla="*/ 222120 h 360360"/>
                </a:gdLst>
                <a:ahLst/>
                <a:rect l="textAreaLeft" t="textAreaTop" r="textAreaRight" b="textAreaBottom"/>
                <a:pathLst>
                  <a:path w="360362" h="360363">
                    <a:moveTo>
                      <a:pt x="47766" y="137803"/>
                    </a:moveTo>
                    <a:lnTo>
                      <a:pt x="137802" y="137803"/>
                    </a:lnTo>
                    <a:lnTo>
                      <a:pt x="137802" y="47766"/>
                    </a:lnTo>
                    <a:lnTo>
                      <a:pt x="222560" y="47766"/>
                    </a:lnTo>
                    <a:lnTo>
                      <a:pt x="222560" y="137803"/>
                    </a:lnTo>
                    <a:lnTo>
                      <a:pt x="312596" y="137803"/>
                    </a:lnTo>
                    <a:lnTo>
                      <a:pt x="312596" y="222560"/>
                    </a:lnTo>
                    <a:lnTo>
                      <a:pt x="222560" y="222560"/>
                    </a:lnTo>
                    <a:lnTo>
                      <a:pt x="222560" y="312597"/>
                    </a:lnTo>
                    <a:lnTo>
                      <a:pt x="137802" y="312597"/>
                    </a:lnTo>
                    <a:lnTo>
                      <a:pt x="137802" y="222560"/>
                    </a:lnTo>
                    <a:lnTo>
                      <a:pt x="47766" y="222560"/>
                    </a:lnTo>
                    <a:lnTo>
                      <a:pt x="47766" y="137803"/>
                    </a:lnTo>
                    <a:close/>
                  </a:path>
                </a:pathLst>
              </a:custGeom>
              <a:noFill/>
              <a:ln w="9360">
                <a:solidFill>
                  <a:srgbClr val="c0c0c0"/>
                </a:solidFill>
                <a:round/>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4" name="加算記号 209"/>
              <p:cNvSpPr/>
              <p:nvPr/>
            </p:nvSpPr>
            <p:spPr>
              <a:xfrm>
                <a:off x="3152520" y="5732640"/>
                <a:ext cx="179280" cy="173160"/>
              </a:xfrm>
              <a:custGeom>
                <a:avLst/>
                <a:gdLst/>
                <a:ahLst/>
                <a:rect l="l" t="t" r="r" b="b"/>
                <a:pathLst>
                  <a:path w="10000" h="10000">
                    <a:moveTo>
                      <a:pt x="1327" y="3853"/>
                    </a:moveTo>
                    <a:lnTo>
                      <a:pt x="3894" y="3853"/>
                    </a:lnTo>
                    <a:lnTo>
                      <a:pt x="3894" y="1284"/>
                    </a:lnTo>
                    <a:lnTo>
                      <a:pt x="6106" y="1284"/>
                    </a:lnTo>
                    <a:lnTo>
                      <a:pt x="6106" y="3853"/>
                    </a:lnTo>
                    <a:lnTo>
                      <a:pt x="8673" y="3853"/>
                    </a:lnTo>
                    <a:lnTo>
                      <a:pt x="8673" y="6147"/>
                    </a:lnTo>
                    <a:lnTo>
                      <a:pt x="6106" y="6147"/>
                    </a:lnTo>
                    <a:lnTo>
                      <a:pt x="6106" y="8716"/>
                    </a:lnTo>
                    <a:lnTo>
                      <a:pt x="3894" y="8716"/>
                    </a:lnTo>
                    <a:lnTo>
                      <a:pt x="3894" y="6147"/>
                    </a:lnTo>
                    <a:lnTo>
                      <a:pt x="1327" y="6147"/>
                    </a:lnTo>
                    <a:lnTo>
                      <a:pt x="1327" y="3853"/>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5" name="テキスト ボックス 16"/>
              <p:cNvSpPr/>
              <p:nvPr/>
            </p:nvSpPr>
            <p:spPr>
              <a:xfrm>
                <a:off x="3081240" y="5050080"/>
                <a:ext cx="126036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WVTA</a:t>
                </a:r>
                <a:endParaRPr b="1" lang="en-US" sz="1200" spc="-1" strike="noStrike">
                  <a:solidFill>
                    <a:srgbClr val="000000"/>
                  </a:solidFill>
                  <a:latin typeface="Arial"/>
                </a:endParaRPr>
              </a:p>
            </p:txBody>
          </p:sp>
          <p:sp>
            <p:nvSpPr>
              <p:cNvPr id="356" name="テキスト ボックス 14"/>
              <p:cNvSpPr/>
              <p:nvPr/>
            </p:nvSpPr>
            <p:spPr>
              <a:xfrm>
                <a:off x="2117520" y="5445360"/>
                <a:ext cx="3122640" cy="252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system UN approvals</a:t>
                </a:r>
                <a:endParaRPr b="1" lang="en-US" sz="1000" spc="-1" strike="noStrike">
                  <a:solidFill>
                    <a:srgbClr val="000000"/>
                  </a:solidFill>
                  <a:latin typeface="Arial"/>
                </a:endParaRPr>
              </a:p>
            </p:txBody>
          </p:sp>
          <p:sp>
            <p:nvSpPr>
              <p:cNvPr id="357" name="テキスト ボックス 18"/>
              <p:cNvSpPr/>
              <p:nvPr/>
            </p:nvSpPr>
            <p:spPr>
              <a:xfrm>
                <a:off x="2107800" y="5948640"/>
                <a:ext cx="3132360" cy="376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for a complete vehicle against UN approvals and for COP</a:t>
                </a:r>
                <a:endParaRPr b="1" lang="en-US" sz="1000" spc="-1" strike="noStrike">
                  <a:solidFill>
                    <a:srgbClr val="000000"/>
                  </a:solidFill>
                  <a:latin typeface="Arial"/>
                </a:endParaRPr>
              </a:p>
            </p:txBody>
          </p:sp>
          <p:sp>
            <p:nvSpPr>
              <p:cNvPr id="358" name="加算記号 209"/>
              <p:cNvSpPr/>
              <p:nvPr/>
            </p:nvSpPr>
            <p:spPr>
              <a:xfrm>
                <a:off x="6105240" y="5734440"/>
                <a:ext cx="179280" cy="172800"/>
              </a:xfrm>
              <a:custGeom>
                <a:avLst/>
                <a:gdLst>
                  <a:gd name="textAreaLeft" fmla="*/ 23760 w 179280"/>
                  <a:gd name="textAreaRight" fmla="*/ 155520 w 179280"/>
                  <a:gd name="textAreaTop" fmla="*/ 66600 h 172800"/>
                  <a:gd name="textAreaBottom" fmla="*/ 106200 h 172800"/>
                </a:gdLst>
                <a:ahLst/>
                <a:rect l="textAreaLeft" t="textAreaTop" r="textAreaRight" b="textAreaBottom"/>
                <a:pathLst>
                  <a:path w="180020" h="172007">
                    <a:moveTo>
                      <a:pt x="23862" y="65775"/>
                    </a:moveTo>
                    <a:lnTo>
                      <a:pt x="69782" y="65775"/>
                    </a:lnTo>
                    <a:lnTo>
                      <a:pt x="69782" y="22800"/>
                    </a:lnTo>
                    <a:lnTo>
                      <a:pt x="110238" y="22800"/>
                    </a:lnTo>
                    <a:lnTo>
                      <a:pt x="110238" y="65775"/>
                    </a:lnTo>
                    <a:lnTo>
                      <a:pt x="156158" y="65775"/>
                    </a:lnTo>
                    <a:lnTo>
                      <a:pt x="156158" y="106232"/>
                    </a:lnTo>
                    <a:lnTo>
                      <a:pt x="110238" y="106232"/>
                    </a:lnTo>
                    <a:lnTo>
                      <a:pt x="110238" y="149207"/>
                    </a:lnTo>
                    <a:lnTo>
                      <a:pt x="69782" y="149207"/>
                    </a:lnTo>
                    <a:lnTo>
                      <a:pt x="69782" y="106232"/>
                    </a:lnTo>
                    <a:lnTo>
                      <a:pt x="23862" y="106232"/>
                    </a:lnTo>
                    <a:lnTo>
                      <a:pt x="23862" y="65775"/>
                    </a:lnTo>
                    <a:close/>
                  </a:path>
                </a:pathLst>
              </a:custGeom>
              <a:noFill/>
              <a:ln w="9360">
                <a:solidFill>
                  <a:srgbClr val="c0c0c0">
                    <a:alpha val="46000"/>
                  </a:srgbClr>
                </a:solidFill>
                <a:round/>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9" name="テキスト ボックス 14"/>
              <p:cNvSpPr/>
              <p:nvPr/>
            </p:nvSpPr>
            <p:spPr>
              <a:xfrm>
                <a:off x="5889240" y="5445360"/>
                <a:ext cx="1548000" cy="252360"/>
              </a:xfrm>
              <a:prstGeom prst="rect">
                <a:avLst/>
              </a:prstGeom>
              <a:noFill/>
              <a:ln w="9360">
                <a:solidFill>
                  <a:srgbClr val="000000">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Remaining National approvals</a:t>
                </a:r>
                <a:endParaRPr b="1" lang="en-US" sz="800" spc="-1" strike="noStrike">
                  <a:solidFill>
                    <a:srgbClr val="000000"/>
                  </a:solidFill>
                  <a:latin typeface="Arial"/>
                </a:endParaRPr>
              </a:p>
            </p:txBody>
          </p:sp>
          <p:sp>
            <p:nvSpPr>
              <p:cNvPr id="360" name="テキスト ボックス 18"/>
              <p:cNvSpPr/>
              <p:nvPr/>
            </p:nvSpPr>
            <p:spPr>
              <a:xfrm>
                <a:off x="5889240" y="5950080"/>
                <a:ext cx="1548000" cy="376200"/>
              </a:xfrm>
              <a:prstGeom prst="rect">
                <a:avLst/>
              </a:prstGeom>
              <a:noFill/>
              <a:ln w="9360">
                <a:solidFill>
                  <a:srgbClr val="000000">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heck for a complete vehicle against National approvals and  for COP</a:t>
                </a:r>
                <a:endParaRPr b="1" lang="en-US" sz="800" spc="-1" strike="noStrike">
                  <a:solidFill>
                    <a:srgbClr val="000000"/>
                  </a:solidFill>
                  <a:latin typeface="Arial"/>
                </a:endParaRPr>
              </a:p>
            </p:txBody>
          </p:sp>
          <p:sp>
            <p:nvSpPr>
              <p:cNvPr id="361" name="Right Arrow 130"/>
              <p:cNvSpPr/>
              <p:nvPr/>
            </p:nvSpPr>
            <p:spPr>
              <a:xfrm>
                <a:off x="5456160" y="5409000"/>
                <a:ext cx="2304720" cy="215640"/>
              </a:xfrm>
              <a:prstGeom prst="rightArrow">
                <a:avLst>
                  <a:gd name="adj1" fmla="val 50000"/>
                  <a:gd name="adj2" fmla="val 50124"/>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2" name="Right Arrow 131"/>
              <p:cNvSpPr/>
              <p:nvPr/>
            </p:nvSpPr>
            <p:spPr>
              <a:xfrm>
                <a:off x="5456160" y="6056640"/>
                <a:ext cx="2304720" cy="215640"/>
              </a:xfrm>
              <a:prstGeom prst="rightArrow">
                <a:avLst>
                  <a:gd name="adj1" fmla="val 50000"/>
                  <a:gd name="adj2" fmla="val 50124"/>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363" name="Group 58"/>
            <p:cNvGrpSpPr/>
            <p:nvPr/>
          </p:nvGrpSpPr>
          <p:grpSpPr>
            <a:xfrm>
              <a:off x="8048520" y="5050080"/>
              <a:ext cx="1440000" cy="1368360"/>
              <a:chOff x="8048520" y="5050080"/>
              <a:chExt cx="1440000" cy="1368360"/>
            </a:xfrm>
          </p:grpSpPr>
          <p:sp>
            <p:nvSpPr>
              <p:cNvPr id="364" name="Oval 78"/>
              <p:cNvSpPr/>
              <p:nvPr/>
            </p:nvSpPr>
            <p:spPr>
              <a:xfrm>
                <a:off x="8048520" y="5050080"/>
                <a:ext cx="1440000" cy="1368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5" name="Oval 79"/>
              <p:cNvSpPr/>
              <p:nvPr/>
            </p:nvSpPr>
            <p:spPr>
              <a:xfrm>
                <a:off x="8265960" y="5266080"/>
                <a:ext cx="1008000" cy="9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WVTA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pproval</a:t>
                </a:r>
                <a:endParaRPr b="1"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30"/>
                                        </p:tgtEl>
                                        <p:attrNameLst>
                                          <p:attrName>style.visibility</p:attrName>
                                        </p:attrNameLst>
                                      </p:cBhvr>
                                      <p:to>
                                        <p:strVal val="visible"/>
                                      </p:to>
                                    </p:set>
                                    <p:animEffect filter="blinds(horizontal)" transition="in">
                                      <p:cBhvr additive="repl">
                                        <p:cTn id="7" dur="500"/>
                                        <p:tgtEl>
                                          <p:spTgt spid="330"/>
                                        </p:tgtEl>
                                      </p:cBhvr>
                                    </p:animEffect>
                                  </p:childTnLst>
                                </p:cTn>
                              </p:par>
                              <p:par>
                                <p:cTn id="8" nodeType="withEffect" fill="hold" presetClass="entr" presetID="3" presetSubtype="10">
                                  <p:stCondLst>
                                    <p:cond delay="0"/>
                                  </p:stCondLst>
                                  <p:childTnLst>
                                    <p:set>
                                      <p:cBhvr>
                                        <p:cTn id="9" dur="1" fill="hold">
                                          <p:stCondLst>
                                            <p:cond delay="0"/>
                                          </p:stCondLst>
                                        </p:cTn>
                                        <p:tgtEl>
                                          <p:spTgt spid="309"/>
                                        </p:tgtEl>
                                        <p:attrNameLst>
                                          <p:attrName>style.visibility</p:attrName>
                                        </p:attrNameLst>
                                      </p:cBhvr>
                                      <p:to>
                                        <p:strVal val="visible"/>
                                      </p:to>
                                    </p:set>
                                    <p:animEffect filter="blinds(horizontal)" transition="in">
                                      <p:cBhvr additive="repl">
                                        <p:cTn id="10" dur="500"/>
                                        <p:tgtEl>
                                          <p:spTgt spid="309"/>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12"/>
                                        </p:tgtEl>
                                        <p:attrNameLst>
                                          <p:attrName>style.visibility</p:attrName>
                                        </p:attrNameLst>
                                      </p:cBhvr>
                                      <p:to>
                                        <p:strVal val="visible"/>
                                      </p:to>
                                    </p:set>
                                    <p:animEffect filter="blinds(horizontal)" transition="in">
                                      <p:cBhvr additive="repl">
                                        <p:cTn id="15" dur="500"/>
                                        <p:tgtEl>
                                          <p:spTgt spid="312"/>
                                        </p:tgtEl>
                                      </p:cBhvr>
                                    </p:animEffect>
                                  </p:childTnLst>
                                </p:cTn>
                              </p:par>
                              <p:par>
                                <p:cTn id="16" nodeType="withEffect" fill="hold" presetClass="entr" presetID="3" presetSubtype="10">
                                  <p:stCondLst>
                                    <p:cond delay="0"/>
                                  </p:stCondLst>
                                  <p:childTnLst>
                                    <p:set>
                                      <p:cBhvr>
                                        <p:cTn id="17" dur="1" fill="hold">
                                          <p:stCondLst>
                                            <p:cond delay="0"/>
                                          </p:stCondLst>
                                        </p:cTn>
                                        <p:tgtEl>
                                          <p:spTgt spid="310"/>
                                        </p:tgtEl>
                                        <p:attrNameLst>
                                          <p:attrName>style.visibility</p:attrName>
                                        </p:attrNameLst>
                                      </p:cBhvr>
                                      <p:to>
                                        <p:strVal val="visible"/>
                                      </p:to>
                                    </p:set>
                                    <p:animEffect filter="blinds(horizontal)" transition="in">
                                      <p:cBhvr additive="repl">
                                        <p:cTn id="18" dur="500"/>
                                        <p:tgtEl>
                                          <p:spTgt spid="310"/>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347"/>
                                        </p:tgtEl>
                                        <p:attrNameLst>
                                          <p:attrName>style.visibility</p:attrName>
                                        </p:attrNameLst>
                                      </p:cBhvr>
                                      <p:to>
                                        <p:strVal val="visible"/>
                                      </p:to>
                                    </p:set>
                                    <p:animEffect filter="blinds(horizontal)" transition="in">
                                      <p:cBhvr additive="repl">
                                        <p:cTn id="23" dur="500"/>
                                        <p:tgtEl>
                                          <p:spTgt spid="347"/>
                                        </p:tgtEl>
                                      </p:cBhvr>
                                    </p:animEffect>
                                  </p:childTnLst>
                                </p:cTn>
                              </p:par>
                              <p:par>
                                <p:cTn id="24" nodeType="withEffect" fill="hold" presetClass="entr" presetID="3" presetSubtype="10">
                                  <p:stCondLst>
                                    <p:cond delay="0"/>
                                  </p:stCondLst>
                                  <p:childTnLst>
                                    <p:set>
                                      <p:cBhvr>
                                        <p:cTn id="25" dur="1" fill="hold">
                                          <p:stCondLst>
                                            <p:cond delay="0"/>
                                          </p:stCondLst>
                                        </p:cTn>
                                        <p:tgtEl>
                                          <p:spTgt spid="311"/>
                                        </p:tgtEl>
                                        <p:attrNameLst>
                                          <p:attrName>style.visibility</p:attrName>
                                        </p:attrNameLst>
                                      </p:cBhvr>
                                      <p:to>
                                        <p:strVal val="visible"/>
                                      </p:to>
                                    </p:set>
                                    <p:animEffect filter="blinds(horizontal)" transition="in">
                                      <p:cBhvr additive="repl">
                                        <p:cTn id="26"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EEB4-5366-4DF4-9284-3ED229BA1F03}"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7"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8" name="テキスト ボックス 24"/>
          <p:cNvSpPr/>
          <p:nvPr/>
        </p:nvSpPr>
        <p:spPr>
          <a:xfrm>
            <a:off x="0" y="44280"/>
            <a:ext cx="3117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clusion </a:t>
            </a:r>
            <a:endParaRPr b="1" lang="en-US" sz="2800" spc="-1" strike="noStrike">
              <a:solidFill>
                <a:srgbClr val="000000"/>
              </a:solidFill>
              <a:latin typeface="Arial"/>
            </a:endParaRPr>
          </a:p>
        </p:txBody>
      </p:sp>
      <p:sp>
        <p:nvSpPr>
          <p:cNvPr id="369" name="テキスト ボックス 3"/>
          <p:cNvSpPr/>
          <p:nvPr/>
        </p:nvSpPr>
        <p:spPr>
          <a:xfrm>
            <a:off x="415800" y="836640"/>
            <a:ext cx="9204480" cy="5963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By March 2016, "partial" IWVTA is established and </a:t>
            </a:r>
            <a:r>
              <a:rPr b="0" lang="en-US" sz="2400" spc="-1" strike="noStrike">
                <a:solidFill>
                  <a:srgbClr val="000000"/>
                </a:solidFill>
                <a:latin typeface="Arial"/>
              </a:rPr>
              <a:t>at a future point </a:t>
            </a:r>
            <a:r>
              <a:rPr b="0" lang="ja-JP" sz="2400" spc="-1" strike="noStrike">
                <a:solidFill>
                  <a:srgbClr val="000000"/>
                </a:solidFill>
                <a:latin typeface="Arial"/>
              </a:rPr>
              <a:t>it</a:t>
            </a:r>
            <a:r>
              <a:rPr b="0" lang="en-US" sz="2400" spc="-1" strike="noStrike">
                <a:solidFill>
                  <a:srgbClr val="000000"/>
                </a:solidFill>
                <a:latin typeface="Arial"/>
              </a:rPr>
              <a:t> should develop</a:t>
            </a:r>
            <a:r>
              <a:rPr b="0" lang="en-US" sz="2400" spc="-1" strike="noStrike">
                <a:solidFill>
                  <a:srgbClr val="7030a0"/>
                </a:solidFill>
                <a:latin typeface="Arial"/>
              </a:rPr>
              <a:t> </a:t>
            </a:r>
            <a:r>
              <a:rPr b="0" lang="en-US" sz="2400" spc="-1" strike="noStrike">
                <a:solidFill>
                  <a:srgbClr val="000000"/>
                </a:solidFill>
                <a:latin typeface="Arial"/>
              </a:rPr>
              <a:t>into a complete</a:t>
            </a:r>
            <a:r>
              <a:rPr b="0" lang="ja-JP" sz="2400" spc="-1" strike="noStrike">
                <a:solidFill>
                  <a:srgbClr val="000000"/>
                </a:solidFill>
                <a:latin typeface="Arial"/>
              </a:rPr>
              <a:t> IWVTA.</a:t>
            </a: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WVTA has 2 different approaches</a:t>
            </a:r>
            <a:r>
              <a:rPr b="0" lang="ja-JP" sz="2400" spc="-1" strike="noStrike">
                <a:solidFill>
                  <a:srgbClr val="000000"/>
                </a:solidFill>
                <a:latin typeface="Arial"/>
              </a:rPr>
              <a:t>; U-IWVTA and L-IWVTA</a:t>
            </a:r>
            <a:r>
              <a:rPr b="0" lang="en-US" sz="2400" spc="-1" strike="noStrike">
                <a:solidFill>
                  <a:srgbClr val="000000"/>
                </a:solidFill>
                <a:latin typeface="Arial"/>
              </a:rPr>
              <a:t>.</a:t>
            </a: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l group has working assumptions</a:t>
            </a:r>
            <a:r>
              <a:rPr b="0" lang="ja-JP" sz="2400" spc="-1" strike="noStrike">
                <a:solidFill>
                  <a:srgbClr val="000000"/>
                </a:solidFill>
                <a:latin typeface="Arial"/>
              </a:rPr>
              <a:t> on the followings for</a:t>
            </a:r>
            <a:r>
              <a:rPr b="0" lang="en-US" sz="2400" spc="-1" strike="noStrike">
                <a:solidFill>
                  <a:srgbClr val="000000"/>
                </a:solidFill>
                <a:latin typeface="Arial"/>
              </a:rPr>
              <a:t> </a:t>
            </a:r>
            <a:r>
              <a:rPr b="0" lang="ja-JP" sz="2400" spc="-1" strike="noStrike">
                <a:solidFill>
                  <a:srgbClr val="000000"/>
                </a:solidFill>
                <a:latin typeface="Arial"/>
              </a:rPr>
              <a:t>developing the UNR0;</a:t>
            </a:r>
            <a:endParaRPr b="1" lang="en-US" sz="24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Obligation of CPs</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Right of CPs</a:t>
            </a:r>
            <a:endParaRPr b="1" lang="en-US" sz="2100" spc="-1" strike="noStrike">
              <a:solidFill>
                <a:srgbClr val="000000"/>
              </a:solidFill>
              <a:latin typeface="Arial"/>
            </a:endParaRPr>
          </a:p>
          <a:p>
            <a:pPr lvl="1" marL="743040" indent="-28584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Routine updating of UNR0</a:t>
            </a:r>
            <a:endParaRPr b="1" lang="en-US" sz="2100" spc="-1" strike="noStrike">
              <a:solidFill>
                <a:srgbClr val="000000"/>
              </a:solidFill>
              <a:latin typeface="Arial"/>
            </a:endParaRPr>
          </a:p>
          <a:p>
            <a:pPr lvl="1" marL="743040" indent="-28584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informal group continues to discuss</a:t>
            </a:r>
            <a:r>
              <a:rPr b="0" lang="ja-JP"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Which</a:t>
            </a:r>
            <a:r>
              <a:rPr b="0" lang="en-GB" sz="2100" spc="-1" strike="noStrike">
                <a:solidFill>
                  <a:srgbClr val="000000"/>
                </a:solidFill>
                <a:latin typeface="Arial"/>
                <a:ea typeface="Arial"/>
              </a:rPr>
              <a:t> UN Regulations to include within IWVTA</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Routine updating of UNR0</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Exchange of information between CPs</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How to include the concept of a Certificate of Conformity (CoC)</a:t>
            </a:r>
            <a:endParaRPr b="1" lang="en-US" sz="21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E153-1B45-4286-92A3-4F074CD3AE41}"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95"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テキスト ボックス 24"/>
          <p:cNvSpPr/>
          <p:nvPr/>
        </p:nvSpPr>
        <p:spPr>
          <a:xfrm>
            <a:off x="0" y="44280"/>
            <a:ext cx="596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tents of this presentation</a:t>
            </a:r>
            <a:endParaRPr b="1" lang="en-US" sz="2800" spc="-1" strike="noStrike">
              <a:solidFill>
                <a:srgbClr val="000000"/>
              </a:solidFill>
              <a:latin typeface="Arial"/>
            </a:endParaRPr>
          </a:p>
        </p:txBody>
      </p:sp>
      <p:sp>
        <p:nvSpPr>
          <p:cNvPr id="97" name="テキスト ボックス 3"/>
          <p:cNvSpPr/>
          <p:nvPr/>
        </p:nvSpPr>
        <p:spPr>
          <a:xfrm>
            <a:off x="415800" y="1046160"/>
            <a:ext cx="9204480" cy="7485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verview of IWVTA</a:t>
            </a:r>
            <a:endParaRPr b="1" lang="en-US" sz="24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N Regulation No. 0 (UN R0)</a:t>
            </a:r>
            <a:endParaRPr b="1" lang="en-US" sz="20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bjective of IWVTA</a:t>
            </a:r>
            <a:r>
              <a:rPr b="0" lang="ja-JP" sz="2000" spc="-1" strike="noStrike">
                <a:solidFill>
                  <a:srgbClr val="000000"/>
                </a:solidFill>
                <a:latin typeface="Arial"/>
                <a:ea typeface="ＭＳ Ｐゴシック"/>
              </a:rPr>
              <a:t> - Who benefits from IWVTA?</a:t>
            </a:r>
            <a:endParaRPr b="1" lang="en-US" sz="20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livering the Vision</a:t>
            </a:r>
            <a:r>
              <a:rPr b="0" lang="ja-JP" sz="2000" spc="-1" strike="noStrike">
                <a:solidFill>
                  <a:srgbClr val="000000"/>
                </a:solidFill>
                <a:latin typeface="Arial"/>
                <a:ea typeface="ＭＳ Ｐゴシック"/>
              </a:rPr>
              <a:t> and Visualising our Approach</a:t>
            </a:r>
            <a:endParaRPr b="1" lang="en-US" sz="20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IWVTA comprise</a:t>
            </a:r>
            <a:r>
              <a:rPr b="0" lang="ja-JP" sz="2000" spc="-1" strike="noStrike">
                <a:solidFill>
                  <a:srgbClr val="000000"/>
                </a:solidFill>
                <a:latin typeface="Arial"/>
                <a:ea typeface="ＭＳ Ｐゴシック"/>
              </a:rPr>
              <a:t>s</a:t>
            </a:r>
            <a:endParaRPr b="1"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for WP.29 to not</a:t>
            </a:r>
            <a:r>
              <a:rPr b="0" lang="ja-JP" sz="2400" spc="-1" strike="noStrike">
                <a:solidFill>
                  <a:srgbClr val="000000"/>
                </a:solidFill>
                <a:latin typeface="Arial"/>
              </a:rPr>
              <a:t>e</a:t>
            </a:r>
            <a:endParaRPr b="1" lang="en-US" sz="24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ea typeface="ＭＳ Ｐゴシック"/>
              </a:rPr>
              <a:t> </a:t>
            </a:r>
            <a:r>
              <a:rPr b="0" lang="ja-JP" sz="2100" spc="-1" strike="noStrike">
                <a:solidFill>
                  <a:srgbClr val="000000"/>
                </a:solidFill>
                <a:latin typeface="Arial"/>
                <a:ea typeface="ＭＳ Ｐゴシック"/>
              </a:rPr>
              <a:t>Working Assumptions</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Contents of draft UNR0</a:t>
            </a:r>
            <a:r>
              <a:rPr b="0" lang="ja-JP" sz="2100" spc="-1" strike="noStrike">
                <a:solidFill>
                  <a:srgbClr val="000000"/>
                </a:solidFill>
                <a:latin typeface="Arial"/>
                <a:ea typeface="ＭＳ Ｐゴシック"/>
              </a:rPr>
              <a:t> and its Technical Requirements</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ea typeface="ＭＳ Ｐゴシック"/>
              </a:rPr>
              <a:t>Items for Further Discussion</a:t>
            </a:r>
            <a:endParaRPr b="1"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evolution of UN R0</a:t>
            </a: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5377-B1E9-434C-8E4A-57552CFBD10B}"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371"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2" name="テキスト ボックス 24"/>
          <p:cNvSpPr/>
          <p:nvPr/>
        </p:nvSpPr>
        <p:spPr>
          <a:xfrm>
            <a:off x="0" y="44280"/>
            <a:ext cx="8337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o find the details</a:t>
            </a:r>
            <a:endParaRPr b="1" lang="en-US" sz="2800" spc="-1" strike="noStrike">
              <a:solidFill>
                <a:srgbClr val="000000"/>
              </a:solidFill>
              <a:latin typeface="Arial"/>
            </a:endParaRPr>
          </a:p>
        </p:txBody>
      </p:sp>
      <p:sp>
        <p:nvSpPr>
          <p:cNvPr id="373" name="Text Box 6"/>
          <p:cNvSpPr/>
          <p:nvPr/>
        </p:nvSpPr>
        <p:spPr>
          <a:xfrm>
            <a:off x="920880" y="1197000"/>
            <a:ext cx="8135640" cy="3762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WVTA sub group SGR0 documents are available at the informal group section of the UN-ECE website.</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st recent version of the draft UNR0 is SGR0-08-13</a:t>
            </a:r>
            <a:endParaRPr b="1"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Arial"/>
                <a:hlinkClick r:id="rId1"/>
              </a:rPr>
              <a:t>https://www2.unece.org/wiki/download/attachments/14320328/SGR0-08-13.docx</a:t>
            </a:r>
            <a:endParaRPr b="1" lang="en-US" sz="16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A51E-AED8-41AF-AF01-83A7DD989D14}"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99"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0" name="テキスト ボックス 24"/>
          <p:cNvSpPr/>
          <p:nvPr/>
        </p:nvSpPr>
        <p:spPr>
          <a:xfrm>
            <a:off x="0" y="44280"/>
            <a:ext cx="920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gulation No. 0 (UN R0)</a:t>
            </a:r>
            <a:endParaRPr b="1" lang="en-US" sz="2800" spc="-1" strike="noStrike">
              <a:solidFill>
                <a:srgbClr val="000000"/>
              </a:solidFill>
              <a:latin typeface="Arial"/>
            </a:endParaRPr>
          </a:p>
        </p:txBody>
      </p:sp>
      <p:sp>
        <p:nvSpPr>
          <p:cNvPr id="101" name="Rectangle 4"/>
          <p:cNvSpPr/>
          <p:nvPr/>
        </p:nvSpPr>
        <p:spPr>
          <a:xfrm>
            <a:off x="1239840" y="4654440"/>
            <a:ext cx="7772400" cy="136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2" name="Text Box 6"/>
          <p:cNvSpPr/>
          <p:nvPr/>
        </p:nvSpPr>
        <p:spPr>
          <a:xfrm>
            <a:off x="452520" y="1125360"/>
            <a:ext cx="8265960" cy="1191240"/>
          </a:xfrm>
          <a:prstGeom prst="rect">
            <a:avLst/>
          </a:prstGeom>
          <a:noFill/>
          <a:ln w="0">
            <a:noFill/>
          </a:ln>
        </p:spPr>
        <p:style>
          <a:lnRef idx="0"/>
          <a:fillRef idx="0"/>
          <a:effectRef idx="0"/>
          <a:fontRef idx="minor"/>
        </p:style>
        <p:txBody>
          <a:bodyPr lIns="90000" rIns="90000" tIns="46800" bIns="46800" anchor="t">
            <a:spAutoFit/>
          </a:bodyPr>
          <a:p>
            <a:pPr marL="343080" indent="205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R0 seeks to establish </a:t>
            </a:r>
            <a:r>
              <a:rPr b="0" lang="en-GB" sz="2400" spc="-1" strike="noStrike">
                <a:solidFill>
                  <a:srgbClr val="000000"/>
                </a:solidFill>
                <a:latin typeface="Arial"/>
              </a:rPr>
              <a:t>an internationally recognised</a:t>
            </a:r>
            <a:r>
              <a:rPr b="0" lang="en-GB" sz="2400" spc="-1" strike="noStrike">
                <a:solidFill>
                  <a:srgbClr val="ff0000"/>
                </a:solidFill>
                <a:latin typeface="Arial"/>
              </a:rPr>
              <a:t> </a:t>
            </a:r>
            <a:r>
              <a:rPr b="0" lang="en-GB" sz="2400" spc="-1" strike="noStrike">
                <a:solidFill>
                  <a:srgbClr val="000000"/>
                </a:solidFill>
                <a:latin typeface="Arial"/>
              </a:rPr>
              <a:t>whole vehicle type approval (IWVTA) scheme within the framework of the revised 1958 Agreement.</a:t>
            </a:r>
            <a:endParaRPr b="1" lang="en-US" sz="2400" spc="-1" strike="noStrike">
              <a:solidFill>
                <a:srgbClr val="000000"/>
              </a:solidFill>
              <a:latin typeface="Arial"/>
            </a:endParaRPr>
          </a:p>
        </p:txBody>
      </p:sp>
      <p:sp>
        <p:nvSpPr>
          <p:cNvPr id="103" name="AutoShape 26"/>
          <p:cNvSpPr/>
          <p:nvPr/>
        </p:nvSpPr>
        <p:spPr>
          <a:xfrm>
            <a:off x="4665600" y="4076640"/>
            <a:ext cx="577800" cy="647640"/>
          </a:xfrm>
          <a:prstGeom prst="rightArrow">
            <a:avLst>
              <a:gd name="adj1" fmla="val 49787"/>
              <a:gd name="adj2" fmla="val 46278"/>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04" name="Group 8"/>
          <p:cNvGrpSpPr/>
          <p:nvPr/>
        </p:nvGrpSpPr>
        <p:grpSpPr>
          <a:xfrm>
            <a:off x="5313240" y="2781360"/>
            <a:ext cx="3889440" cy="3384000"/>
            <a:chOff x="5313240" y="2781360"/>
            <a:chExt cx="3889440" cy="3384000"/>
          </a:xfrm>
        </p:grpSpPr>
        <p:sp>
          <p:nvSpPr>
            <p:cNvPr id="105" name="AutoShape 34"/>
            <p:cNvSpPr/>
            <p:nvPr/>
          </p:nvSpPr>
          <p:spPr>
            <a:xfrm>
              <a:off x="5313240" y="2998440"/>
              <a:ext cx="3889440" cy="3166920"/>
            </a:xfrm>
            <a:prstGeom prst="roundRect">
              <a:avLst>
                <a:gd name="adj" fmla="val 7944"/>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6" name="Text Box 24"/>
            <p:cNvSpPr/>
            <p:nvPr/>
          </p:nvSpPr>
          <p:spPr>
            <a:xfrm>
              <a:off x="5456160" y="3285720"/>
              <a:ext cx="36021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utual recognition of approval at the whole vehicle level</a:t>
              </a:r>
              <a:endParaRPr b="1" lang="en-US" sz="1600" spc="-1" strike="noStrike">
                <a:solidFill>
                  <a:srgbClr val="000000"/>
                </a:solidFill>
                <a:latin typeface="Arial"/>
              </a:endParaRPr>
            </a:p>
          </p:txBody>
        </p:sp>
        <p:sp>
          <p:nvSpPr>
            <p:cNvPr id="107" name="Text Box 31"/>
            <p:cNvSpPr/>
            <p:nvPr/>
          </p:nvSpPr>
          <p:spPr>
            <a:xfrm>
              <a:off x="5591160" y="5446440"/>
              <a:ext cx="3384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hicle type approval not required to be obtained from each country</a:t>
              </a:r>
              <a:endParaRPr b="1" lang="en-US" sz="1600" spc="-1" strike="noStrike">
                <a:solidFill>
                  <a:srgbClr val="000000"/>
                </a:solidFill>
                <a:latin typeface="Arial"/>
              </a:endParaRPr>
            </a:p>
          </p:txBody>
        </p:sp>
        <p:sp>
          <p:nvSpPr>
            <p:cNvPr id="108" name="AutoShape 32"/>
            <p:cNvSpPr/>
            <p:nvPr/>
          </p:nvSpPr>
          <p:spPr>
            <a:xfrm>
              <a:off x="5457600" y="5373360"/>
              <a:ext cx="3673440" cy="64908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9" name="Text Box 8"/>
            <p:cNvSpPr/>
            <p:nvPr/>
          </p:nvSpPr>
          <p:spPr>
            <a:xfrm>
              <a:off x="6033960" y="2781360"/>
              <a:ext cx="2376360" cy="3373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sion for IWVTA</a:t>
              </a:r>
              <a:endParaRPr b="1" lang="en-US" sz="1600" spc="-1" strike="noStrike">
                <a:solidFill>
                  <a:srgbClr val="000000"/>
                </a:solidFill>
                <a:latin typeface="Arial"/>
              </a:endParaRPr>
            </a:p>
          </p:txBody>
        </p:sp>
      </p:grpSp>
      <p:sp>
        <p:nvSpPr>
          <p:cNvPr id="110" name="Freeform 27"/>
          <p:cNvSpPr/>
          <p:nvPr/>
        </p:nvSpPr>
        <p:spPr>
          <a:xfrm>
            <a:off x="5673600" y="3860640"/>
            <a:ext cx="2998800" cy="1171800"/>
          </a:xfrm>
          <a:custGeom>
            <a:avLst/>
            <a:gdLst>
              <a:gd name="textAreaLeft" fmla="*/ 0 w 2998800"/>
              <a:gd name="textAreaRight" fmla="*/ 2999160 w 2998800"/>
              <a:gd name="textAreaTop" fmla="*/ 0 h 1171800"/>
              <a:gd name="textAreaBottom" fmla="*/ 1172160 h 1171800"/>
            </a:gdLst>
            <a:ahLst/>
            <a:rect l="textAreaLeft" t="textAreaTop" r="textAreaRight" b="textAreaBottom"/>
            <a:pathLst>
              <a:path w="4802" h="1880">
                <a:moveTo>
                  <a:pt x="21" y="1082"/>
                </a:moveTo>
                <a:lnTo>
                  <a:pt x="0" y="1221"/>
                </a:lnTo>
                <a:lnTo>
                  <a:pt x="34" y="1388"/>
                </a:lnTo>
                <a:lnTo>
                  <a:pt x="41" y="1519"/>
                </a:lnTo>
                <a:lnTo>
                  <a:pt x="119" y="1576"/>
                </a:lnTo>
                <a:lnTo>
                  <a:pt x="754" y="1621"/>
                </a:lnTo>
                <a:lnTo>
                  <a:pt x="799" y="1712"/>
                </a:lnTo>
                <a:lnTo>
                  <a:pt x="909" y="1811"/>
                </a:lnTo>
                <a:lnTo>
                  <a:pt x="1082" y="1880"/>
                </a:lnTo>
                <a:lnTo>
                  <a:pt x="1242" y="1873"/>
                </a:lnTo>
                <a:lnTo>
                  <a:pt x="1395" y="1846"/>
                </a:lnTo>
                <a:lnTo>
                  <a:pt x="1480" y="1757"/>
                </a:lnTo>
                <a:lnTo>
                  <a:pt x="1571" y="1576"/>
                </a:lnTo>
                <a:lnTo>
                  <a:pt x="1616" y="1621"/>
                </a:lnTo>
                <a:lnTo>
                  <a:pt x="3929" y="1576"/>
                </a:lnTo>
                <a:lnTo>
                  <a:pt x="3975" y="1667"/>
                </a:lnTo>
                <a:lnTo>
                  <a:pt x="4065" y="1757"/>
                </a:lnTo>
                <a:lnTo>
                  <a:pt x="4177" y="1797"/>
                </a:lnTo>
                <a:lnTo>
                  <a:pt x="4316" y="1818"/>
                </a:lnTo>
                <a:lnTo>
                  <a:pt x="4462" y="1790"/>
                </a:lnTo>
                <a:lnTo>
                  <a:pt x="4573" y="1707"/>
                </a:lnTo>
                <a:lnTo>
                  <a:pt x="4635" y="1582"/>
                </a:lnTo>
                <a:lnTo>
                  <a:pt x="4655" y="1485"/>
                </a:lnTo>
                <a:lnTo>
                  <a:pt x="4700" y="1485"/>
                </a:lnTo>
                <a:lnTo>
                  <a:pt x="4746" y="1395"/>
                </a:lnTo>
                <a:lnTo>
                  <a:pt x="4791" y="1258"/>
                </a:lnTo>
                <a:lnTo>
                  <a:pt x="4802" y="1096"/>
                </a:lnTo>
                <a:lnTo>
                  <a:pt x="4747" y="923"/>
                </a:lnTo>
                <a:lnTo>
                  <a:pt x="4700" y="759"/>
                </a:lnTo>
                <a:lnTo>
                  <a:pt x="4656" y="624"/>
                </a:lnTo>
                <a:lnTo>
                  <a:pt x="4559" y="513"/>
                </a:lnTo>
                <a:lnTo>
                  <a:pt x="4337" y="306"/>
                </a:lnTo>
                <a:lnTo>
                  <a:pt x="4156" y="170"/>
                </a:lnTo>
                <a:lnTo>
                  <a:pt x="4156" y="124"/>
                </a:lnTo>
                <a:lnTo>
                  <a:pt x="3976" y="90"/>
                </a:lnTo>
                <a:lnTo>
                  <a:pt x="3839" y="79"/>
                </a:lnTo>
                <a:lnTo>
                  <a:pt x="3521" y="34"/>
                </a:lnTo>
                <a:lnTo>
                  <a:pt x="3109" y="0"/>
                </a:lnTo>
                <a:lnTo>
                  <a:pt x="2776" y="0"/>
                </a:lnTo>
                <a:lnTo>
                  <a:pt x="2491" y="20"/>
                </a:lnTo>
                <a:lnTo>
                  <a:pt x="2206" y="79"/>
                </a:lnTo>
                <a:lnTo>
                  <a:pt x="1207" y="548"/>
                </a:lnTo>
                <a:lnTo>
                  <a:pt x="1068" y="576"/>
                </a:lnTo>
                <a:lnTo>
                  <a:pt x="853" y="624"/>
                </a:lnTo>
                <a:lnTo>
                  <a:pt x="618" y="669"/>
                </a:lnTo>
                <a:lnTo>
                  <a:pt x="346" y="759"/>
                </a:lnTo>
                <a:lnTo>
                  <a:pt x="180" y="825"/>
                </a:lnTo>
                <a:lnTo>
                  <a:pt x="118" y="881"/>
                </a:lnTo>
                <a:lnTo>
                  <a:pt x="76" y="1006"/>
                </a:lnTo>
                <a:lnTo>
                  <a:pt x="21" y="1082"/>
                </a:lnTo>
                <a:close/>
              </a:path>
            </a:pathLst>
          </a:custGeom>
          <a:solidFill>
            <a:srgbClr val="66ffff">
              <a:alpha val="50000"/>
            </a:srgbClr>
          </a:solid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11" name="Group 16"/>
          <p:cNvGrpSpPr/>
          <p:nvPr/>
        </p:nvGrpSpPr>
        <p:grpSpPr>
          <a:xfrm>
            <a:off x="992160" y="2781360"/>
            <a:ext cx="3529080" cy="3390840"/>
            <a:chOff x="992160" y="2781360"/>
            <a:chExt cx="3529080" cy="3390840"/>
          </a:xfrm>
        </p:grpSpPr>
        <p:grpSp>
          <p:nvGrpSpPr>
            <p:cNvPr id="112" name="Group 17"/>
            <p:cNvGrpSpPr/>
            <p:nvPr/>
          </p:nvGrpSpPr>
          <p:grpSpPr>
            <a:xfrm>
              <a:off x="992160" y="2781360"/>
              <a:ext cx="3529080" cy="3390840"/>
              <a:chOff x="992160" y="2781360"/>
              <a:chExt cx="3529080" cy="3390840"/>
            </a:xfrm>
          </p:grpSpPr>
          <p:sp>
            <p:nvSpPr>
              <p:cNvPr id="113" name="AutoShape 33"/>
              <p:cNvSpPr/>
              <p:nvPr/>
            </p:nvSpPr>
            <p:spPr>
              <a:xfrm>
                <a:off x="992160" y="3005280"/>
                <a:ext cx="3529080" cy="3166920"/>
              </a:xfrm>
              <a:prstGeom prst="roundRect">
                <a:avLst>
                  <a:gd name="adj" fmla="val 794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4" name="Text Box 12"/>
              <p:cNvSpPr/>
              <p:nvPr/>
            </p:nvSpPr>
            <p:spPr>
              <a:xfrm>
                <a:off x="1136520" y="3220920"/>
                <a:ext cx="324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tual recognition of approval of vehicle systems and parts</a:t>
                </a:r>
                <a:endParaRPr b="1" lang="en-US" sz="1600" spc="-1" strike="noStrike">
                  <a:solidFill>
                    <a:srgbClr val="000000"/>
                  </a:solidFill>
                  <a:latin typeface="Arial"/>
                </a:endParaRPr>
              </a:p>
            </p:txBody>
          </p:sp>
          <p:grpSp>
            <p:nvGrpSpPr>
              <p:cNvPr id="115" name="Group 20"/>
              <p:cNvGrpSpPr/>
              <p:nvPr/>
            </p:nvGrpSpPr>
            <p:grpSpPr>
              <a:xfrm>
                <a:off x="1234800" y="3859560"/>
                <a:ext cx="2830680" cy="1189800"/>
                <a:chOff x="1234800" y="3859560"/>
                <a:chExt cx="2830680" cy="1189800"/>
              </a:xfrm>
            </p:grpSpPr>
            <p:sp>
              <p:nvSpPr>
                <p:cNvPr id="116" name="Oval 15"/>
                <p:cNvSpPr/>
                <p:nvPr/>
              </p:nvSpPr>
              <p:spPr>
                <a:xfrm>
                  <a:off x="1613160" y="4546440"/>
                  <a:ext cx="503280" cy="5029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7" name="Oval 16"/>
                <p:cNvSpPr/>
                <p:nvPr/>
              </p:nvSpPr>
              <p:spPr>
                <a:xfrm>
                  <a:off x="3560760" y="4546440"/>
                  <a:ext cx="504720" cy="5029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8" name="Oval 17"/>
                <p:cNvSpPr/>
                <p:nvPr/>
              </p:nvSpPr>
              <p:spPr>
                <a:xfrm>
                  <a:off x="2937240" y="4624920"/>
                  <a:ext cx="567000" cy="11376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840" bIns="338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9" name="Oval 18"/>
                <p:cNvSpPr/>
                <p:nvPr/>
              </p:nvSpPr>
              <p:spPr>
                <a:xfrm rot="16838400">
                  <a:off x="3215160" y="4331880"/>
                  <a:ext cx="622440" cy="1123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120" bIns="33120" anchor="t" anchorCtr="1" vert="eaVe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0" name="Oval 19"/>
                <p:cNvSpPr/>
                <p:nvPr/>
              </p:nvSpPr>
              <p:spPr>
                <a:xfrm>
                  <a:off x="2287080" y="4624920"/>
                  <a:ext cx="565560" cy="11376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840" bIns="338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1" name="Oval 20"/>
                <p:cNvSpPr/>
                <p:nvPr/>
              </p:nvSpPr>
              <p:spPr>
                <a:xfrm rot="16838400">
                  <a:off x="2566080" y="4331160"/>
                  <a:ext cx="621360" cy="11376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840" bIns="33840" anchor="t" anchorCtr="1" vert="eaVe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2" name="Oval 21"/>
                <p:cNvSpPr/>
                <p:nvPr/>
              </p:nvSpPr>
              <p:spPr>
                <a:xfrm rot="20199000">
                  <a:off x="1881000" y="4007520"/>
                  <a:ext cx="771480" cy="11340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480" bIns="334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3" name="Oval 22"/>
                <p:cNvSpPr/>
                <p:nvPr/>
              </p:nvSpPr>
              <p:spPr>
                <a:xfrm rot="20532000">
                  <a:off x="1242720" y="4365720"/>
                  <a:ext cx="504720" cy="13320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4" name="Oval 23"/>
                <p:cNvSpPr/>
                <p:nvPr/>
              </p:nvSpPr>
              <p:spPr>
                <a:xfrm rot="4384200">
                  <a:off x="1839240" y="4684680"/>
                  <a:ext cx="310680" cy="11376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840" bIns="33840" anchor="t" anchorCtr="1" vert="eaVert" rot="10800000">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25" name="Text Box 28"/>
              <p:cNvSpPr/>
              <p:nvPr/>
            </p:nvSpPr>
            <p:spPr>
              <a:xfrm>
                <a:off x="1135080" y="5453280"/>
                <a:ext cx="3240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hicle type approval required  to be obtained from each country</a:t>
                </a:r>
                <a:endParaRPr b="1" lang="en-US" sz="1600" spc="-1" strike="noStrike">
                  <a:solidFill>
                    <a:srgbClr val="000000"/>
                  </a:solidFill>
                  <a:latin typeface="Arial"/>
                </a:endParaRPr>
              </a:p>
            </p:txBody>
          </p:sp>
          <p:sp>
            <p:nvSpPr>
              <p:cNvPr id="126" name="Line 29"/>
              <p:cNvSpPr/>
              <p:nvPr/>
            </p:nvSpPr>
            <p:spPr>
              <a:xfrm>
                <a:off x="2576520" y="5164200"/>
                <a:ext cx="43164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7" name="Line 30"/>
              <p:cNvSpPr/>
              <p:nvPr/>
            </p:nvSpPr>
            <p:spPr>
              <a:xfrm>
                <a:off x="2792520" y="4948200"/>
                <a:ext cx="1440" cy="43200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8" name="Text Box 7"/>
              <p:cNvSpPr/>
              <p:nvPr/>
            </p:nvSpPr>
            <p:spPr>
              <a:xfrm>
                <a:off x="1711440" y="2781360"/>
                <a:ext cx="223200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System</a:t>
                </a:r>
                <a:endParaRPr b="1" lang="en-US" sz="1600" spc="-1" strike="noStrike">
                  <a:solidFill>
                    <a:srgbClr val="000000"/>
                  </a:solidFill>
                  <a:latin typeface="Arial"/>
                </a:endParaRPr>
              </a:p>
            </p:txBody>
          </p:sp>
        </p:grpSp>
        <p:grpSp>
          <p:nvGrpSpPr>
            <p:cNvPr id="129" name="Group 35"/>
            <p:cNvGrpSpPr/>
            <p:nvPr/>
          </p:nvGrpSpPr>
          <p:grpSpPr>
            <a:xfrm>
              <a:off x="1125360" y="3859560"/>
              <a:ext cx="2997360" cy="1189800"/>
              <a:chOff x="1125360" y="3859560"/>
              <a:chExt cx="2997360" cy="1189800"/>
            </a:xfrm>
          </p:grpSpPr>
          <p:sp>
            <p:nvSpPr>
              <p:cNvPr id="130" name="Freeform 14"/>
              <p:cNvSpPr/>
              <p:nvPr/>
            </p:nvSpPr>
            <p:spPr>
              <a:xfrm>
                <a:off x="1125360" y="3868920"/>
                <a:ext cx="2997360" cy="1171800"/>
              </a:xfrm>
              <a:custGeom>
                <a:avLst/>
                <a:gdLst>
                  <a:gd name="textAreaLeft" fmla="*/ 0 w 2997360"/>
                  <a:gd name="textAreaRight" fmla="*/ 2997720 w 2997360"/>
                  <a:gd name="textAreaTop" fmla="*/ 0 h 1171800"/>
                  <a:gd name="textAreaBottom" fmla="*/ 1172160 h 1171800"/>
                </a:gdLst>
                <a:ahLst/>
                <a:rect l="textAreaLeft" t="textAreaTop" r="textAreaRight" b="textAreaBottom"/>
                <a:pathLst>
                  <a:path w="4802" h="1880">
                    <a:moveTo>
                      <a:pt x="21" y="1082"/>
                    </a:moveTo>
                    <a:lnTo>
                      <a:pt x="0" y="1221"/>
                    </a:lnTo>
                    <a:lnTo>
                      <a:pt x="34" y="1388"/>
                    </a:lnTo>
                    <a:lnTo>
                      <a:pt x="41" y="1519"/>
                    </a:lnTo>
                    <a:lnTo>
                      <a:pt x="119" y="1576"/>
                    </a:lnTo>
                    <a:lnTo>
                      <a:pt x="754" y="1621"/>
                    </a:lnTo>
                    <a:lnTo>
                      <a:pt x="799" y="1712"/>
                    </a:lnTo>
                    <a:lnTo>
                      <a:pt x="909" y="1811"/>
                    </a:lnTo>
                    <a:lnTo>
                      <a:pt x="1082" y="1880"/>
                    </a:lnTo>
                    <a:lnTo>
                      <a:pt x="1242" y="1873"/>
                    </a:lnTo>
                    <a:lnTo>
                      <a:pt x="1395" y="1846"/>
                    </a:lnTo>
                    <a:lnTo>
                      <a:pt x="1480" y="1757"/>
                    </a:lnTo>
                    <a:lnTo>
                      <a:pt x="1571" y="1576"/>
                    </a:lnTo>
                    <a:lnTo>
                      <a:pt x="1616" y="1621"/>
                    </a:lnTo>
                    <a:lnTo>
                      <a:pt x="3929" y="1576"/>
                    </a:lnTo>
                    <a:lnTo>
                      <a:pt x="3975" y="1667"/>
                    </a:lnTo>
                    <a:lnTo>
                      <a:pt x="4065" y="1757"/>
                    </a:lnTo>
                    <a:lnTo>
                      <a:pt x="4177" y="1797"/>
                    </a:lnTo>
                    <a:lnTo>
                      <a:pt x="4316" y="1818"/>
                    </a:lnTo>
                    <a:lnTo>
                      <a:pt x="4462" y="1790"/>
                    </a:lnTo>
                    <a:lnTo>
                      <a:pt x="4573" y="1707"/>
                    </a:lnTo>
                    <a:lnTo>
                      <a:pt x="4635" y="1582"/>
                    </a:lnTo>
                    <a:lnTo>
                      <a:pt x="4655" y="1485"/>
                    </a:lnTo>
                    <a:lnTo>
                      <a:pt x="4700" y="1485"/>
                    </a:lnTo>
                    <a:lnTo>
                      <a:pt x="4746" y="1395"/>
                    </a:lnTo>
                    <a:lnTo>
                      <a:pt x="4791" y="1258"/>
                    </a:lnTo>
                    <a:lnTo>
                      <a:pt x="4802" y="1096"/>
                    </a:lnTo>
                    <a:lnTo>
                      <a:pt x="4747" y="923"/>
                    </a:lnTo>
                    <a:lnTo>
                      <a:pt x="4700" y="759"/>
                    </a:lnTo>
                    <a:lnTo>
                      <a:pt x="4656" y="624"/>
                    </a:lnTo>
                    <a:lnTo>
                      <a:pt x="4559" y="513"/>
                    </a:lnTo>
                    <a:lnTo>
                      <a:pt x="4337" y="306"/>
                    </a:lnTo>
                    <a:lnTo>
                      <a:pt x="4156" y="170"/>
                    </a:lnTo>
                    <a:lnTo>
                      <a:pt x="4156" y="124"/>
                    </a:lnTo>
                    <a:lnTo>
                      <a:pt x="3976" y="90"/>
                    </a:lnTo>
                    <a:lnTo>
                      <a:pt x="3839" y="79"/>
                    </a:lnTo>
                    <a:lnTo>
                      <a:pt x="3521" y="34"/>
                    </a:lnTo>
                    <a:lnTo>
                      <a:pt x="3109" y="0"/>
                    </a:lnTo>
                    <a:lnTo>
                      <a:pt x="2776" y="0"/>
                    </a:lnTo>
                    <a:lnTo>
                      <a:pt x="2491" y="20"/>
                    </a:lnTo>
                    <a:lnTo>
                      <a:pt x="2206" y="79"/>
                    </a:lnTo>
                    <a:lnTo>
                      <a:pt x="1207" y="548"/>
                    </a:lnTo>
                    <a:lnTo>
                      <a:pt x="1068" y="576"/>
                    </a:lnTo>
                    <a:lnTo>
                      <a:pt x="853" y="624"/>
                    </a:lnTo>
                    <a:lnTo>
                      <a:pt x="618" y="669"/>
                    </a:lnTo>
                    <a:lnTo>
                      <a:pt x="346" y="759"/>
                    </a:lnTo>
                    <a:lnTo>
                      <a:pt x="180" y="825"/>
                    </a:lnTo>
                    <a:lnTo>
                      <a:pt x="118" y="881"/>
                    </a:lnTo>
                    <a:lnTo>
                      <a:pt x="76" y="1006"/>
                    </a:lnTo>
                    <a:lnTo>
                      <a:pt x="21" y="1082"/>
                    </a:lnTo>
                    <a:close/>
                  </a:path>
                </a:pathLst>
              </a:custGeom>
              <a:solidFill>
                <a:srgbClr val="66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1" name="Oval 15"/>
              <p:cNvSpPr/>
              <p:nvPr/>
            </p:nvSpPr>
            <p:spPr>
              <a:xfrm>
                <a:off x="1602000" y="4546440"/>
                <a:ext cx="503280" cy="5029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2" name="Oval 16"/>
              <p:cNvSpPr/>
              <p:nvPr/>
            </p:nvSpPr>
            <p:spPr>
              <a:xfrm>
                <a:off x="3549600" y="4546440"/>
                <a:ext cx="504720" cy="5029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3" name="Oval 17"/>
              <p:cNvSpPr/>
              <p:nvPr/>
            </p:nvSpPr>
            <p:spPr>
              <a:xfrm>
                <a:off x="2926080" y="4624920"/>
                <a:ext cx="567000" cy="11376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840" bIns="338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4" name="Oval 18"/>
              <p:cNvSpPr/>
              <p:nvPr/>
            </p:nvSpPr>
            <p:spPr>
              <a:xfrm rot="16838400">
                <a:off x="3207240" y="4333680"/>
                <a:ext cx="622800" cy="1123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120" bIns="33120" anchor="ctr" rot="10800000">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5" name="Oval 19"/>
              <p:cNvSpPr/>
              <p:nvPr/>
            </p:nvSpPr>
            <p:spPr>
              <a:xfrm>
                <a:off x="2275920" y="4624920"/>
                <a:ext cx="565560" cy="11376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840" bIns="338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6" name="Oval 20"/>
              <p:cNvSpPr/>
              <p:nvPr/>
            </p:nvSpPr>
            <p:spPr>
              <a:xfrm rot="16838400">
                <a:off x="2556720" y="4334040"/>
                <a:ext cx="621360" cy="1141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4200" bIns="34200" anchor="ctr" rot="10800000">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7" name="Oval 21"/>
              <p:cNvSpPr/>
              <p:nvPr/>
            </p:nvSpPr>
            <p:spPr>
              <a:xfrm rot="20199000">
                <a:off x="1869840" y="4007520"/>
                <a:ext cx="771480" cy="11340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480" bIns="334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8" name="Oval 22"/>
              <p:cNvSpPr/>
              <p:nvPr/>
            </p:nvSpPr>
            <p:spPr>
              <a:xfrm rot="20532000">
                <a:off x="1231560" y="4365720"/>
                <a:ext cx="504720" cy="13320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9" name="Oval 23"/>
              <p:cNvSpPr/>
              <p:nvPr/>
            </p:nvSpPr>
            <p:spPr>
              <a:xfrm rot="4384200">
                <a:off x="1829160" y="4687920"/>
                <a:ext cx="310680" cy="1141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4200" bIns="342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A463-C46C-4E98-A63A-1AA697C6884A}"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1"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2" name="テキスト ボックス 24"/>
          <p:cNvSpPr/>
          <p:nvPr/>
        </p:nvSpPr>
        <p:spPr>
          <a:xfrm>
            <a:off x="0" y="44280"/>
            <a:ext cx="596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of IWVTA</a:t>
            </a:r>
            <a:endParaRPr b="1" lang="en-US" sz="2800" spc="-1" strike="noStrike">
              <a:solidFill>
                <a:srgbClr val="000000"/>
              </a:solidFill>
              <a:latin typeface="Arial"/>
            </a:endParaRPr>
          </a:p>
        </p:txBody>
      </p:sp>
      <p:sp>
        <p:nvSpPr>
          <p:cNvPr id="143" name="テキスト ボックス 3"/>
          <p:cNvSpPr/>
          <p:nvPr/>
        </p:nvSpPr>
        <p:spPr>
          <a:xfrm>
            <a:off x="236520" y="1160640"/>
            <a:ext cx="9204480" cy="5091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200" spc="-1" strike="noStrike">
                <a:solidFill>
                  <a:srgbClr val="000000"/>
                </a:solidFill>
                <a:latin typeface="Arial"/>
              </a:rPr>
              <a:t>The principal objective of IWVTA is expanding the mutual recognition of vehicle systems and components to whole vehicles by:</a:t>
            </a:r>
            <a:endParaRPr b="1"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ＭＳ Ｐゴシック"/>
              </a:rPr>
              <a:t>Achieving wider acceptance of the vehicle/component type approvals pursuant to the UN Regulations;</a:t>
            </a: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Increasing the transparency of vehicle type approval procedures in the Contracting Parties applying the IWVTA regulation;</a:t>
            </a: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implifying procedures and minimizing administrative burdens </a:t>
            </a:r>
            <a:r>
              <a:rPr b="0" lang="en-GB" sz="2200" spc="-1" strike="noStrike">
                <a:solidFill>
                  <a:srgbClr val="000000"/>
                </a:solidFill>
                <a:latin typeface="Arial"/>
                <a:ea typeface="ＭＳ Ｐゴシック"/>
              </a:rPr>
              <a:t>in obtaining national/regional vehicle type approvals; and</a:t>
            </a: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ＭＳ Ｐゴシック"/>
              </a:rPr>
              <a:t>Providing a flexible approach to help Contracting Parties developing their national new-vehicle approval requirements.</a:t>
            </a:r>
            <a:endParaRPr b="1" lang="en-US" sz="22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FB83-AB9A-4FF7-B512-F0A4F0D22056}"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6" name="テキスト ボックス 24"/>
          <p:cNvSpPr/>
          <p:nvPr/>
        </p:nvSpPr>
        <p:spPr>
          <a:xfrm>
            <a:off x="0" y="44280"/>
            <a:ext cx="596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benefits from IWVTA?</a:t>
            </a:r>
            <a:endParaRPr b="1" lang="en-US" sz="2800" spc="-1" strike="noStrike">
              <a:solidFill>
                <a:srgbClr val="000000"/>
              </a:solidFill>
              <a:latin typeface="Arial"/>
            </a:endParaRPr>
          </a:p>
        </p:txBody>
      </p:sp>
      <p:sp>
        <p:nvSpPr>
          <p:cNvPr id="147" name="テキスト ボックス 3"/>
          <p:cNvSpPr/>
          <p:nvPr/>
        </p:nvSpPr>
        <p:spPr>
          <a:xfrm>
            <a:off x="307800" y="1268280"/>
            <a:ext cx="9204480" cy="417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lising the IWVTA objective is beneficial for:</a:t>
            </a:r>
            <a:endParaRPr b="1"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overnments </a:t>
            </a:r>
            <a:r>
              <a:rPr b="0" lang="en-US" sz="2200" spc="-1" strike="noStrike">
                <a:solidFill>
                  <a:srgbClr val="000000"/>
                </a:solidFill>
                <a:latin typeface="Arial"/>
                <a:ea typeface="ＭＳ Ｐゴシック"/>
              </a:rPr>
              <a:t>-</a:t>
            </a:r>
            <a:r>
              <a:rPr b="1"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n delivering transparent, robust and reliable processes for vehicle type approval.</a:t>
            </a:r>
            <a:endParaRPr b="1" lang="en-US" sz="2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dustry</a:t>
            </a:r>
            <a:r>
              <a:rPr b="0" lang="en-US" sz="2200" spc="-1" strike="noStrike">
                <a:solidFill>
                  <a:srgbClr val="000000"/>
                </a:solidFill>
                <a:latin typeface="Arial"/>
                <a:ea typeface="ＭＳ Ｐゴシック"/>
              </a:rPr>
              <a:t> - by having access to quicker and more cost efficient type approval; and the potential for easier access to markets applying IWVTA. </a:t>
            </a:r>
            <a:endParaRPr b="1" lang="en-US" sz="2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nsumers</a:t>
            </a:r>
            <a:r>
              <a:rPr b="0" lang="en-US" sz="2200" spc="-1" strike="noStrike">
                <a:solidFill>
                  <a:srgbClr val="000000"/>
                </a:solidFill>
                <a:latin typeface="Arial"/>
                <a:ea typeface="ＭＳ Ｐゴシック"/>
              </a:rPr>
              <a:t> - who benefit from vehicles meeting uniform and consistent requirements at lower prices.</a:t>
            </a:r>
            <a:endParaRPr b="1" lang="en-US" sz="2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テキスト ボックス 24"/>
          <p:cNvSpPr/>
          <p:nvPr/>
        </p:nvSpPr>
        <p:spPr>
          <a:xfrm>
            <a:off x="0" y="0"/>
            <a:ext cx="866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ing the Vision</a:t>
            </a:r>
            <a:endParaRPr b="1" lang="en-US" sz="2800" spc="-1" strike="noStrike">
              <a:solidFill>
                <a:srgbClr val="000000"/>
              </a:solidFill>
              <a:latin typeface="Arial"/>
            </a:endParaRPr>
          </a:p>
        </p:txBody>
      </p:sp>
      <p:sp>
        <p:nvSpPr>
          <p:cNvPr id="149"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0" name="テキスト ボックス 3"/>
          <p:cNvSpPr/>
          <p:nvPr/>
        </p:nvSpPr>
        <p:spPr>
          <a:xfrm>
            <a:off x="488880" y="1015920"/>
            <a:ext cx="8856720" cy="5464800"/>
          </a:xfrm>
          <a:prstGeom prst="rect">
            <a:avLst/>
          </a:prstGeom>
          <a:noFill/>
          <a:ln w="0">
            <a:noFill/>
          </a:ln>
        </p:spPr>
        <p:style>
          <a:lnRef idx="0"/>
          <a:fillRef idx="0"/>
          <a:effectRef idx="0"/>
          <a:fontRef idx="minor"/>
        </p:style>
        <p:txBody>
          <a:bodyPr lIns="90000" rIns="90000" tIns="46800" bIns="46800" anchor="t">
            <a:spAutoFit/>
          </a:bodyPr>
          <a:p>
            <a:pP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recognise the IWVTA vision cannot be achieved from the very  beginning due to:</a:t>
            </a:r>
            <a:endParaRPr b="1" lang="en-US" sz="2200" spc="-1" strike="noStrike">
              <a:solidFill>
                <a:srgbClr val="000000"/>
              </a:solidFill>
              <a:latin typeface="Arial"/>
            </a:endParaRPr>
          </a:p>
          <a:p>
            <a:pPr lvl="1" marL="900000" indent="-26820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he different number of UN Regulations currently applied by CPs, and</a:t>
            </a:r>
            <a:endParaRPr b="1" lang="en-US" sz="2200" spc="-1" strike="noStrike">
              <a:solidFill>
                <a:srgbClr val="000000"/>
              </a:solidFill>
              <a:latin typeface="Arial"/>
            </a:endParaRPr>
          </a:p>
          <a:p>
            <a:pPr lvl="1" marL="9000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he different requirements at whole vehicle level operated  nationally/regionally.</a:t>
            </a:r>
            <a:br>
              <a:rPr sz="2200"/>
            </a:br>
            <a:r>
              <a:rPr b="0" lang="en-US" sz="2200" spc="-1" strike="noStrike">
                <a:solidFill>
                  <a:srgbClr val="000000"/>
                </a:solidFill>
                <a:latin typeface="Arial"/>
              </a:rPr>
              <a:t> </a:t>
            </a:r>
            <a:endParaRPr b="1" lang="en-US" sz="2200" spc="-1" strike="noStrike">
              <a:solidFill>
                <a:srgbClr val="000000"/>
              </a:solidFill>
              <a:latin typeface="Arial"/>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o;</a:t>
            </a:r>
            <a:r>
              <a:rPr b="0" lang="en-US" sz="2800" spc="-1" strike="noStrike">
                <a:solidFill>
                  <a:srgbClr val="000000"/>
                </a:solidFill>
                <a:latin typeface="Arial"/>
              </a:rPr>
              <a:t> </a:t>
            </a:r>
            <a:endParaRPr b="1" lang="en-US" sz="2800" spc="-1" strike="noStrike">
              <a:solidFill>
                <a:srgbClr val="000000"/>
              </a:solidFill>
              <a:latin typeface="Arial"/>
            </a:endParaRPr>
          </a:p>
          <a:p>
            <a:pPr lvl="1" marL="900000" indent="-26820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in the first version of UN R0 the number of key provisions will not be sufficient to certify a whole vehicle </a:t>
            </a:r>
            <a:r>
              <a:rPr b="0" lang="en-US" sz="2200" spc="-1" strike="noStrike">
                <a:solidFill>
                  <a:srgbClr val="000000"/>
                </a:solidFill>
                <a:latin typeface="Wingdings"/>
                <a:ea typeface="Wingdings"/>
              </a:rPr>
              <a:t></a:t>
            </a:r>
            <a:r>
              <a:rPr b="0" lang="en-US" sz="2200" spc="-1" strike="noStrike">
                <a:solidFill>
                  <a:srgbClr val="000000"/>
                </a:solidFill>
                <a:latin typeface="Arial"/>
                <a:ea typeface="ＭＳ Ｐゴシック"/>
              </a:rPr>
              <a:t> “partial” IWVTA.</a:t>
            </a:r>
            <a:endParaRPr b="1" lang="en-US" sz="2200" spc="-1" strike="noStrike">
              <a:solidFill>
                <a:srgbClr val="000000"/>
              </a:solidFill>
              <a:latin typeface="Arial"/>
            </a:endParaRPr>
          </a:p>
          <a:p>
            <a:pPr lvl="1" marL="900000" indent="-26820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t a future point this “partial” IWVTA should develop</a:t>
            </a:r>
            <a:r>
              <a:rPr b="0" lang="en-US" sz="2200" spc="-1" strike="noStrike">
                <a:solidFill>
                  <a:srgbClr val="7030a0"/>
                </a:solidFill>
                <a:latin typeface="Arial"/>
                <a:ea typeface="ＭＳ Ｐゴシック"/>
              </a:rPr>
              <a:t> </a:t>
            </a:r>
            <a:r>
              <a:rPr b="0" lang="en-US" sz="2200" spc="-1" strike="noStrike">
                <a:solidFill>
                  <a:srgbClr val="000000"/>
                </a:solidFill>
                <a:latin typeface="Arial"/>
                <a:ea typeface="ＭＳ Ｐゴシック"/>
              </a:rPr>
              <a:t>into a complete whole vehicle type approval.</a:t>
            </a:r>
            <a:endParaRPr b="1" lang="en-US" sz="2200" spc="-1" strike="noStrike">
              <a:solidFill>
                <a:srgbClr val="000000"/>
              </a:solidFill>
              <a:latin typeface="Arial"/>
            </a:endParaRPr>
          </a:p>
          <a:p>
            <a:pPr lvl="1" marL="900000" indent="-268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we are not proposing a timescale for delivering this overall vision.</a:t>
            </a:r>
            <a:r>
              <a:rPr b="0" lang="en-US" sz="2000" spc="-1" strike="noStrike">
                <a:solidFill>
                  <a:srgbClr val="000000"/>
                </a:solidFill>
                <a:latin typeface="Arial"/>
                <a:ea typeface="ＭＳ Ｐゴシック"/>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直線コネクタ 23"/>
          <p:cNvSpPr/>
          <p:nvPr/>
        </p:nvSpPr>
        <p:spPr>
          <a:xfrm>
            <a:off x="0" y="800280"/>
            <a:ext cx="990612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2" name="テキスト ボックス 24"/>
          <p:cNvSpPr/>
          <p:nvPr/>
        </p:nvSpPr>
        <p:spPr>
          <a:xfrm>
            <a:off x="523800" y="152280"/>
            <a:ext cx="8966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ising our Approach</a:t>
            </a:r>
            <a:endParaRPr b="1" lang="en-US" sz="2800" spc="-1" strike="noStrike">
              <a:solidFill>
                <a:srgbClr val="000000"/>
              </a:solidFill>
              <a:latin typeface="Arial"/>
            </a:endParaRPr>
          </a:p>
        </p:txBody>
      </p:sp>
      <p:sp>
        <p:nvSpPr>
          <p:cNvPr id="153" name="テキスト ボックス 11"/>
          <p:cNvSpPr/>
          <p:nvPr/>
        </p:nvSpPr>
        <p:spPr>
          <a:xfrm>
            <a:off x="488880" y="3933720"/>
            <a:ext cx="9145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WVTA is a shell over a set of separate UN-approvals that flexibly links these UN-approvals with national approval schemes. </a:t>
            </a:r>
            <a:endParaRPr b="1" lang="en-US" sz="1600" spc="-1" strike="noStrike">
              <a:solidFill>
                <a:srgbClr val="000000"/>
              </a:solidFill>
              <a:latin typeface="Arial"/>
            </a:endParaRPr>
          </a:p>
        </p:txBody>
      </p:sp>
      <p:sp>
        <p:nvSpPr>
          <p:cNvPr id="154" name="正方形/長方形 203"/>
          <p:cNvSpPr/>
          <p:nvPr/>
        </p:nvSpPr>
        <p:spPr>
          <a:xfrm>
            <a:off x="488880" y="1089000"/>
            <a:ext cx="9145800" cy="1657440"/>
          </a:xfrm>
          <a:prstGeom prst="rect">
            <a:avLst/>
          </a:prstGeom>
          <a:noFill/>
          <a:ln w="38160">
            <a:solidFill>
              <a:srgbClr val="e46c0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5" name="テキスト ボックス 12"/>
          <p:cNvSpPr/>
          <p:nvPr/>
        </p:nvSpPr>
        <p:spPr>
          <a:xfrm>
            <a:off x="8013600" y="2023920"/>
            <a:ext cx="954360" cy="46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VTA</a:t>
            </a:r>
            <a:endParaRPr b="1" lang="en-US" sz="1200" spc="-1" strike="noStrike">
              <a:solidFill>
                <a:srgbClr val="000000"/>
              </a:solidFill>
              <a:latin typeface="Arial"/>
            </a:endParaRPr>
          </a:p>
        </p:txBody>
      </p:sp>
      <p:sp>
        <p:nvSpPr>
          <p:cNvPr id="156" name="等号 201"/>
          <p:cNvSpPr/>
          <p:nvPr/>
        </p:nvSpPr>
        <p:spPr>
          <a:xfrm>
            <a:off x="7545240" y="2097000"/>
            <a:ext cx="292320" cy="250920"/>
          </a:xfrm>
          <a:custGeom>
            <a:avLst/>
            <a:gdLst/>
            <a:ahLst/>
            <a:rect l="l" t="t" r="r" b="b"/>
            <a:pathLst>
              <a:path w="292100" h="250825">
                <a:moveTo>
                  <a:pt x="38718" y="51670"/>
                </a:moveTo>
                <a:lnTo>
                  <a:pt x="253382" y="51670"/>
                </a:lnTo>
                <a:lnTo>
                  <a:pt x="253382" y="110664"/>
                </a:lnTo>
                <a:lnTo>
                  <a:pt x="38718" y="110664"/>
                </a:lnTo>
                <a:lnTo>
                  <a:pt x="38718" y="51670"/>
                </a:lnTo>
                <a:close/>
                <a:moveTo>
                  <a:pt x="38718" y="140161"/>
                </a:moveTo>
                <a:lnTo>
                  <a:pt x="253382" y="140161"/>
                </a:lnTo>
                <a:lnTo>
                  <a:pt x="253382" y="199155"/>
                </a:lnTo>
                <a:lnTo>
                  <a:pt x="38718" y="199155"/>
                </a:lnTo>
                <a:lnTo>
                  <a:pt x="38718" y="140161"/>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7" name="加算記号 202"/>
          <p:cNvSpPr/>
          <p:nvPr/>
        </p:nvSpPr>
        <p:spPr>
          <a:xfrm>
            <a:off x="2468520" y="1989000"/>
            <a:ext cx="366840" cy="420840"/>
          </a:xfrm>
          <a:custGeom>
            <a:avLst/>
            <a:gdLst/>
            <a:ahLst/>
            <a:rect l="l" t="t" r="r" b="b"/>
            <a:pathLst>
              <a:path w="366712" h="420687">
                <a:moveTo>
                  <a:pt x="48608" y="167218"/>
                </a:moveTo>
                <a:lnTo>
                  <a:pt x="140231" y="167218"/>
                </a:lnTo>
                <a:lnTo>
                  <a:pt x="140231" y="55762"/>
                </a:lnTo>
                <a:lnTo>
                  <a:pt x="226481" y="55762"/>
                </a:lnTo>
                <a:lnTo>
                  <a:pt x="226481" y="167218"/>
                </a:lnTo>
                <a:lnTo>
                  <a:pt x="318104" y="167218"/>
                </a:lnTo>
                <a:lnTo>
                  <a:pt x="318104" y="253469"/>
                </a:lnTo>
                <a:lnTo>
                  <a:pt x="226481" y="253469"/>
                </a:lnTo>
                <a:lnTo>
                  <a:pt x="226481" y="364925"/>
                </a:lnTo>
                <a:lnTo>
                  <a:pt x="140231" y="364925"/>
                </a:lnTo>
                <a:lnTo>
                  <a:pt x="140231" y="253469"/>
                </a:lnTo>
                <a:lnTo>
                  <a:pt x="48608" y="253469"/>
                </a:lnTo>
                <a:lnTo>
                  <a:pt x="48608" y="167218"/>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8" name="加算記号 206"/>
          <p:cNvSpPr/>
          <p:nvPr/>
        </p:nvSpPr>
        <p:spPr>
          <a:xfrm>
            <a:off x="4881600" y="1989000"/>
            <a:ext cx="366840" cy="420840"/>
          </a:xfrm>
          <a:custGeom>
            <a:avLst/>
            <a:gdLst/>
            <a:ahLst/>
            <a:rect l="l" t="t" r="r" b="b"/>
            <a:pathLst>
              <a:path w="366712" h="420687">
                <a:moveTo>
                  <a:pt x="48608" y="167218"/>
                </a:moveTo>
                <a:lnTo>
                  <a:pt x="140231" y="167218"/>
                </a:lnTo>
                <a:lnTo>
                  <a:pt x="140231" y="55762"/>
                </a:lnTo>
                <a:lnTo>
                  <a:pt x="226481" y="55762"/>
                </a:lnTo>
                <a:lnTo>
                  <a:pt x="226481" y="167218"/>
                </a:lnTo>
                <a:lnTo>
                  <a:pt x="318104" y="167218"/>
                </a:lnTo>
                <a:lnTo>
                  <a:pt x="318104" y="253469"/>
                </a:lnTo>
                <a:lnTo>
                  <a:pt x="226481" y="253469"/>
                </a:lnTo>
                <a:lnTo>
                  <a:pt x="226481" y="364925"/>
                </a:lnTo>
                <a:lnTo>
                  <a:pt x="140231" y="364925"/>
                </a:lnTo>
                <a:lnTo>
                  <a:pt x="140231" y="253469"/>
                </a:lnTo>
                <a:lnTo>
                  <a:pt x="48608" y="253469"/>
                </a:lnTo>
                <a:lnTo>
                  <a:pt x="48608" y="167218"/>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9" name="テキスト ボックス 14"/>
          <p:cNvSpPr/>
          <p:nvPr/>
        </p:nvSpPr>
        <p:spPr>
          <a:xfrm>
            <a:off x="3116160" y="1989000"/>
            <a:ext cx="1611360" cy="522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approvals</a:t>
            </a:r>
            <a:endParaRPr b="1" lang="en-US" sz="1200" spc="-1" strike="noStrike">
              <a:solidFill>
                <a:srgbClr val="000000"/>
              </a:solidFill>
              <a:latin typeface="Arial"/>
            </a:endParaRPr>
          </a:p>
        </p:txBody>
      </p:sp>
      <p:sp>
        <p:nvSpPr>
          <p:cNvPr id="160" name="テキスト ボックス 14"/>
          <p:cNvSpPr/>
          <p:nvPr/>
        </p:nvSpPr>
        <p:spPr>
          <a:xfrm>
            <a:off x="5384880" y="1952640"/>
            <a:ext cx="1979640" cy="612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for a complete vehicle &amp; COP against national approvals </a:t>
            </a:r>
            <a:endParaRPr b="1" lang="en-US" sz="1200" spc="-1" strike="noStrike">
              <a:solidFill>
                <a:srgbClr val="000000"/>
              </a:solidFill>
              <a:latin typeface="Arial"/>
            </a:endParaRPr>
          </a:p>
        </p:txBody>
      </p:sp>
      <p:sp>
        <p:nvSpPr>
          <p:cNvPr id="161" name="テキスト ボックス 14"/>
          <p:cNvSpPr/>
          <p:nvPr/>
        </p:nvSpPr>
        <p:spPr>
          <a:xfrm>
            <a:off x="920880" y="1989000"/>
            <a:ext cx="1317600" cy="52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approvals</a:t>
            </a:r>
            <a:endParaRPr b="1" lang="en-US" sz="1200" spc="-1" strike="noStrike">
              <a:solidFill>
                <a:srgbClr val="000000"/>
              </a:solidFill>
              <a:latin typeface="Arial"/>
            </a:endParaRPr>
          </a:p>
        </p:txBody>
      </p:sp>
      <p:sp>
        <p:nvSpPr>
          <p:cNvPr id="162" name="下矢印 242"/>
          <p:cNvSpPr/>
          <p:nvPr/>
        </p:nvSpPr>
        <p:spPr>
          <a:xfrm>
            <a:off x="3476520" y="2852640"/>
            <a:ext cx="2808360" cy="900360"/>
          </a:xfrm>
          <a:prstGeom prst="downArrow">
            <a:avLst>
              <a:gd name="adj1" fmla="val 50000"/>
              <a:gd name="adj2" fmla="val 50000"/>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3" name="正方形/長方形 210"/>
          <p:cNvSpPr/>
          <p:nvPr/>
        </p:nvSpPr>
        <p:spPr>
          <a:xfrm>
            <a:off x="380880" y="3824280"/>
            <a:ext cx="9217080" cy="25560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4" name="等号 207"/>
          <p:cNvSpPr/>
          <p:nvPr/>
        </p:nvSpPr>
        <p:spPr>
          <a:xfrm>
            <a:off x="8193240" y="5408640"/>
            <a:ext cx="287280" cy="216000"/>
          </a:xfrm>
          <a:custGeom>
            <a:avLst/>
            <a:gdLst/>
            <a:ahLst/>
            <a:rect l="l" t="t" r="r" b="b"/>
            <a:pathLst>
              <a:path w="287337" h="215900">
                <a:moveTo>
                  <a:pt x="38087" y="44475"/>
                </a:moveTo>
                <a:lnTo>
                  <a:pt x="249250" y="44475"/>
                </a:lnTo>
                <a:lnTo>
                  <a:pt x="249250" y="95255"/>
                </a:lnTo>
                <a:lnTo>
                  <a:pt x="38087" y="95255"/>
                </a:lnTo>
                <a:lnTo>
                  <a:pt x="38087" y="44475"/>
                </a:lnTo>
                <a:close/>
                <a:moveTo>
                  <a:pt x="38087" y="120645"/>
                </a:moveTo>
                <a:lnTo>
                  <a:pt x="249250" y="120645"/>
                </a:lnTo>
                <a:lnTo>
                  <a:pt x="249250" y="171425"/>
                </a:lnTo>
                <a:lnTo>
                  <a:pt x="38087" y="171425"/>
                </a:lnTo>
                <a:lnTo>
                  <a:pt x="38087" y="120645"/>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5" name="テキスト ボックス 12"/>
          <p:cNvSpPr/>
          <p:nvPr/>
        </p:nvSpPr>
        <p:spPr>
          <a:xfrm>
            <a:off x="8516880" y="5265720"/>
            <a:ext cx="936720" cy="396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VTA</a:t>
            </a:r>
            <a:endParaRPr b="1" lang="en-US" sz="1200" spc="-1" strike="noStrike">
              <a:solidFill>
                <a:srgbClr val="000000"/>
              </a:solidFill>
              <a:latin typeface="Arial"/>
            </a:endParaRPr>
          </a:p>
        </p:txBody>
      </p:sp>
      <p:sp>
        <p:nvSpPr>
          <p:cNvPr id="166" name="テキスト ボックス 11"/>
          <p:cNvSpPr/>
          <p:nvPr/>
        </p:nvSpPr>
        <p:spPr>
          <a:xfrm>
            <a:off x="4124160" y="3141720"/>
            <a:ext cx="147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March 2016</a:t>
            </a:r>
            <a:endParaRPr b="1" lang="en-US" sz="1400" spc="-1" strike="noStrike">
              <a:solidFill>
                <a:srgbClr val="000000"/>
              </a:solidFill>
              <a:latin typeface="Arial"/>
            </a:endParaRPr>
          </a:p>
        </p:txBody>
      </p:sp>
      <p:sp>
        <p:nvSpPr>
          <p:cNvPr id="167" name="加算記号 208"/>
          <p:cNvSpPr/>
          <p:nvPr/>
        </p:nvSpPr>
        <p:spPr>
          <a:xfrm>
            <a:off x="1820880" y="5300640"/>
            <a:ext cx="360360" cy="360360"/>
          </a:xfrm>
          <a:custGeom>
            <a:avLst/>
            <a:gdLst/>
            <a:ahLst/>
            <a:rect l="l" t="t" r="r" b="b"/>
            <a:pathLst>
              <a:path w="360362" h="360362">
                <a:moveTo>
                  <a:pt x="47766" y="137802"/>
                </a:moveTo>
                <a:lnTo>
                  <a:pt x="137802" y="137802"/>
                </a:lnTo>
                <a:lnTo>
                  <a:pt x="137802" y="47766"/>
                </a:lnTo>
                <a:lnTo>
                  <a:pt x="222560" y="47766"/>
                </a:lnTo>
                <a:lnTo>
                  <a:pt x="222560" y="137802"/>
                </a:lnTo>
                <a:lnTo>
                  <a:pt x="312596" y="137802"/>
                </a:lnTo>
                <a:lnTo>
                  <a:pt x="312596" y="222560"/>
                </a:lnTo>
                <a:lnTo>
                  <a:pt x="222560" y="222560"/>
                </a:lnTo>
                <a:lnTo>
                  <a:pt x="222560" y="312596"/>
                </a:lnTo>
                <a:lnTo>
                  <a:pt x="137802" y="312596"/>
                </a:lnTo>
                <a:lnTo>
                  <a:pt x="137802" y="222560"/>
                </a:lnTo>
                <a:lnTo>
                  <a:pt x="47766" y="222560"/>
                </a:lnTo>
                <a:lnTo>
                  <a:pt x="47766" y="137802"/>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8" name="加算記号 209"/>
          <p:cNvSpPr/>
          <p:nvPr/>
        </p:nvSpPr>
        <p:spPr>
          <a:xfrm>
            <a:off x="4016520" y="5308560"/>
            <a:ext cx="360360" cy="360360"/>
          </a:xfrm>
          <a:custGeom>
            <a:avLst/>
            <a:gdLst/>
            <a:ahLst/>
            <a:rect l="l" t="t" r="r" b="b"/>
            <a:pathLst>
              <a:path w="360363" h="360363">
                <a:moveTo>
                  <a:pt x="47766" y="137803"/>
                </a:moveTo>
                <a:lnTo>
                  <a:pt x="137803" y="137803"/>
                </a:lnTo>
                <a:lnTo>
                  <a:pt x="137803" y="47766"/>
                </a:lnTo>
                <a:lnTo>
                  <a:pt x="222560" y="47766"/>
                </a:lnTo>
                <a:lnTo>
                  <a:pt x="222560" y="137803"/>
                </a:lnTo>
                <a:lnTo>
                  <a:pt x="312597" y="137803"/>
                </a:lnTo>
                <a:lnTo>
                  <a:pt x="312597" y="222560"/>
                </a:lnTo>
                <a:lnTo>
                  <a:pt x="222560" y="222560"/>
                </a:lnTo>
                <a:lnTo>
                  <a:pt x="222560" y="312597"/>
                </a:lnTo>
                <a:lnTo>
                  <a:pt x="137803" y="312597"/>
                </a:lnTo>
                <a:lnTo>
                  <a:pt x="137803" y="222560"/>
                </a:lnTo>
                <a:lnTo>
                  <a:pt x="47766" y="222560"/>
                </a:lnTo>
                <a:lnTo>
                  <a:pt x="47766" y="137803"/>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9" name="角丸四角形 211"/>
          <p:cNvSpPr/>
          <p:nvPr/>
        </p:nvSpPr>
        <p:spPr>
          <a:xfrm>
            <a:off x="560520" y="4941720"/>
            <a:ext cx="3492360" cy="1116360"/>
          </a:xfrm>
          <a:prstGeom prst="roundRect">
            <a:avLst>
              <a:gd name="adj" fmla="val 16667"/>
            </a:avLst>
          </a:prstGeom>
          <a:solidFill>
            <a:srgbClr val="d1faff">
              <a:alpha val="4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0" name="テキスト ボックス 16"/>
          <p:cNvSpPr/>
          <p:nvPr/>
        </p:nvSpPr>
        <p:spPr>
          <a:xfrm>
            <a:off x="1747800" y="4689360"/>
            <a:ext cx="862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WVTA</a:t>
            </a:r>
            <a:endParaRPr b="1" lang="en-US" sz="1200" spc="-1" strike="noStrike">
              <a:solidFill>
                <a:srgbClr val="000000"/>
              </a:solidFill>
              <a:latin typeface="Arial"/>
            </a:endParaRPr>
          </a:p>
        </p:txBody>
      </p:sp>
      <p:sp>
        <p:nvSpPr>
          <p:cNvPr id="171" name="加算記号 217"/>
          <p:cNvSpPr/>
          <p:nvPr/>
        </p:nvSpPr>
        <p:spPr>
          <a:xfrm>
            <a:off x="5961240" y="5300640"/>
            <a:ext cx="360360" cy="360360"/>
          </a:xfrm>
          <a:custGeom>
            <a:avLst/>
            <a:gdLst/>
            <a:ahLst/>
            <a:rect l="l" t="t" r="r" b="b"/>
            <a:pathLst>
              <a:path w="360362" h="360362">
                <a:moveTo>
                  <a:pt x="47766" y="137802"/>
                </a:moveTo>
                <a:lnTo>
                  <a:pt x="137802" y="137802"/>
                </a:lnTo>
                <a:lnTo>
                  <a:pt x="137802" y="47766"/>
                </a:lnTo>
                <a:lnTo>
                  <a:pt x="222560" y="47766"/>
                </a:lnTo>
                <a:lnTo>
                  <a:pt x="222560" y="137802"/>
                </a:lnTo>
                <a:lnTo>
                  <a:pt x="312596" y="137802"/>
                </a:lnTo>
                <a:lnTo>
                  <a:pt x="312596" y="222560"/>
                </a:lnTo>
                <a:lnTo>
                  <a:pt x="222560" y="222560"/>
                </a:lnTo>
                <a:lnTo>
                  <a:pt x="222560" y="312596"/>
                </a:lnTo>
                <a:lnTo>
                  <a:pt x="137802" y="312596"/>
                </a:lnTo>
                <a:lnTo>
                  <a:pt x="137802" y="222560"/>
                </a:lnTo>
                <a:lnTo>
                  <a:pt x="47766" y="222560"/>
                </a:lnTo>
                <a:lnTo>
                  <a:pt x="47766" y="137802"/>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2" name="テキスト ボックス 14"/>
          <p:cNvSpPr/>
          <p:nvPr/>
        </p:nvSpPr>
        <p:spPr>
          <a:xfrm>
            <a:off x="596880" y="5265720"/>
            <a:ext cx="12240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approvals</a:t>
            </a:r>
            <a:endParaRPr b="1" lang="en-US" sz="1200" spc="-1" strike="noStrike">
              <a:solidFill>
                <a:srgbClr val="000000"/>
              </a:solidFill>
              <a:latin typeface="Arial"/>
            </a:endParaRPr>
          </a:p>
        </p:txBody>
      </p:sp>
      <p:sp>
        <p:nvSpPr>
          <p:cNvPr id="173" name="テキスト ボックス 18"/>
          <p:cNvSpPr/>
          <p:nvPr/>
        </p:nvSpPr>
        <p:spPr>
          <a:xfrm>
            <a:off x="2181240" y="5192640"/>
            <a:ext cx="1801800" cy="7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for a complete vehicle &amp; COP against UN approvals</a:t>
            </a:r>
            <a:r>
              <a:rPr b="0" lang="en-US" sz="1200" spc="-1" strike="noStrike">
                <a:solidFill>
                  <a:srgbClr val="000000"/>
                </a:solidFill>
                <a:latin typeface="Arial"/>
              </a:rPr>
              <a:t> </a:t>
            </a:r>
            <a:endParaRPr b="1" lang="en-US" sz="1200" spc="-1" strike="noStrike">
              <a:solidFill>
                <a:srgbClr val="000000"/>
              </a:solidFill>
              <a:latin typeface="Arial"/>
            </a:endParaRPr>
          </a:p>
        </p:txBody>
      </p:sp>
      <p:sp>
        <p:nvSpPr>
          <p:cNvPr id="174" name="テキスト ボックス 14"/>
          <p:cNvSpPr/>
          <p:nvPr/>
        </p:nvSpPr>
        <p:spPr>
          <a:xfrm>
            <a:off x="4376880" y="5300640"/>
            <a:ext cx="1584360" cy="447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approvals</a:t>
            </a:r>
            <a:endParaRPr b="1" lang="en-US" sz="1200" spc="-1" strike="noStrike">
              <a:solidFill>
                <a:srgbClr val="000000"/>
              </a:solidFill>
              <a:latin typeface="Arial"/>
            </a:endParaRPr>
          </a:p>
        </p:txBody>
      </p:sp>
      <p:sp>
        <p:nvSpPr>
          <p:cNvPr id="175" name="テキスト ボックス 14"/>
          <p:cNvSpPr/>
          <p:nvPr/>
        </p:nvSpPr>
        <p:spPr>
          <a:xfrm>
            <a:off x="6321600" y="5157720"/>
            <a:ext cx="1871640" cy="72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for a complete vehicle &amp; COP against national approvals</a:t>
            </a:r>
            <a:r>
              <a:rPr b="0" lang="en-US" sz="1200" spc="-1" strike="noStrike">
                <a:solidFill>
                  <a:srgbClr val="000000"/>
                </a:solidFill>
                <a:latin typeface="Arial"/>
              </a:rPr>
              <a:t> </a:t>
            </a:r>
            <a:endParaRPr b="1" lang="en-US" sz="1200" spc="-1" strike="noStrike">
              <a:solidFill>
                <a:srgbClr val="000000"/>
              </a:solidFill>
              <a:latin typeface="Arial"/>
            </a:endParaRPr>
          </a:p>
        </p:txBody>
      </p:sp>
      <p:sp>
        <p:nvSpPr>
          <p:cNvPr id="176" name="テキスト ボックス 11"/>
          <p:cNvSpPr/>
          <p:nvPr/>
        </p:nvSpPr>
        <p:spPr>
          <a:xfrm>
            <a:off x="488880" y="1233360"/>
            <a:ext cx="9145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situation in many Contracting Part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Oval 50"/>
          <p:cNvSpPr/>
          <p:nvPr/>
        </p:nvSpPr>
        <p:spPr>
          <a:xfrm>
            <a:off x="3908520" y="728640"/>
            <a:ext cx="4248000" cy="2376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8" name="Oval 48"/>
          <p:cNvSpPr/>
          <p:nvPr/>
        </p:nvSpPr>
        <p:spPr>
          <a:xfrm>
            <a:off x="1820880" y="4076640"/>
            <a:ext cx="4392720" cy="2592360"/>
          </a:xfrm>
          <a:prstGeom prst="ellipse">
            <a:avLst/>
          </a:prstGeom>
          <a:solidFill>
            <a:srgbClr val="d4fa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 name="スライド番号プレースホルダー 5"/>
          <p:cNvSpPr/>
          <p:nvPr/>
        </p:nvSpPr>
        <p:spPr>
          <a:xfrm>
            <a:off x="7113600" y="623736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5393-839D-4784-9096-29DBE0B9B6B0}"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180"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1" name="テキスト ボックス 3"/>
          <p:cNvSpPr/>
          <p:nvPr/>
        </p:nvSpPr>
        <p:spPr>
          <a:xfrm>
            <a:off x="4305240" y="1089000"/>
            <a:ext cx="3421080" cy="1536840"/>
          </a:xfrm>
          <a:prstGeom prst="rect">
            <a:avLst/>
          </a:prstGeom>
          <a:noFill/>
          <a:ln w="0">
            <a:noFill/>
          </a:ln>
        </p:spPr>
        <p:style>
          <a:lnRef idx="0"/>
          <a:fillRef idx="0"/>
          <a:effectRef idx="0"/>
          <a:fontRef idx="minor"/>
        </p:style>
        <p:txBody>
          <a:bodyPr lIns="90000" rIns="90000" tIns="46800" bIns="4680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al IWVTA (U-IWVTA)</a:t>
            </a:r>
            <a:endParaRPr b="1" lang="en-US" sz="1800" spc="-1" strike="noStrike">
              <a:solidFill>
                <a:srgbClr val="000000"/>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pproval pursuant to the highest level of stringency of the latest version of the UN Regulations listed in UNR0.</a:t>
            </a:r>
            <a:endParaRPr b="1" lang="en-US" sz="1800" spc="-1" strike="noStrike">
              <a:solidFill>
                <a:srgbClr val="000000"/>
              </a:solidFill>
              <a:latin typeface="Arial"/>
            </a:endParaRPr>
          </a:p>
        </p:txBody>
      </p:sp>
      <p:sp>
        <p:nvSpPr>
          <p:cNvPr id="182" name="テキスト ボックス 24"/>
          <p:cNvSpPr/>
          <p:nvPr/>
        </p:nvSpPr>
        <p:spPr>
          <a:xfrm>
            <a:off x="0" y="44280"/>
            <a:ext cx="8337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WVTA comprises</a:t>
            </a:r>
            <a:endParaRPr b="1" lang="en-US" sz="2800" spc="-1" strike="noStrike">
              <a:solidFill>
                <a:srgbClr val="000000"/>
              </a:solidFill>
              <a:latin typeface="Arial"/>
            </a:endParaRPr>
          </a:p>
        </p:txBody>
      </p:sp>
      <p:grpSp>
        <p:nvGrpSpPr>
          <p:cNvPr id="183" name="Group 8"/>
          <p:cNvGrpSpPr/>
          <p:nvPr/>
        </p:nvGrpSpPr>
        <p:grpSpPr>
          <a:xfrm>
            <a:off x="7329600" y="1736640"/>
            <a:ext cx="1663560" cy="4127400"/>
            <a:chOff x="7329600" y="1736640"/>
            <a:chExt cx="1663560" cy="4127400"/>
          </a:xfrm>
        </p:grpSpPr>
        <p:sp>
          <p:nvSpPr>
            <p:cNvPr id="184" name="Abgerundetes Rechteck 4"/>
            <p:cNvSpPr/>
            <p:nvPr/>
          </p:nvSpPr>
          <p:spPr>
            <a:xfrm>
              <a:off x="7329600" y="1771560"/>
              <a:ext cx="1663560" cy="4092480"/>
            </a:xfrm>
            <a:custGeom>
              <a:avLst/>
              <a:gdLst>
                <a:gd name="textAreaLeft" fmla="*/ 81000 w 1663560"/>
                <a:gd name="textAreaRight" fmla="*/ 1582560 w 1663560"/>
                <a:gd name="textAreaTop" fmla="*/ 81000 h 4092480"/>
                <a:gd name="textAreaBottom" fmla="*/ 4011480 h 4092480"/>
              </a:gdLst>
              <a:ahLst/>
              <a:rect l="textAreaLeft" t="textAreaTop" r="textAreaRight" b="textAreaBottom"/>
              <a:pathLst>
                <a:path w="21600" h="53131">
                  <a:moveTo>
                    <a:pt x="3600" y="0"/>
                  </a:moveTo>
                  <a:arcTo wR="3600" hR="3600" stAng="16200000" swAng="-5400000"/>
                  <a:lnTo>
                    <a:pt x="0" y="49531"/>
                  </a:lnTo>
                  <a:arcTo wR="3600" hR="3600" stAng="10800000" swAng="-5400000"/>
                  <a:lnTo>
                    <a:pt x="18000" y="5313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85" name="Group 10"/>
            <p:cNvGrpSpPr/>
            <p:nvPr/>
          </p:nvGrpSpPr>
          <p:grpSpPr>
            <a:xfrm>
              <a:off x="7508880" y="1736640"/>
              <a:ext cx="1339920" cy="4088160"/>
              <a:chOff x="7508880" y="1736640"/>
              <a:chExt cx="1339920" cy="4088160"/>
            </a:xfrm>
          </p:grpSpPr>
          <p:sp>
            <p:nvSpPr>
              <p:cNvPr id="186" name="Abgerundetes Rechteck 5"/>
              <p:cNvSpPr/>
              <p:nvPr/>
            </p:nvSpPr>
            <p:spPr>
              <a:xfrm>
                <a:off x="7508880" y="2679480"/>
                <a:ext cx="1339920" cy="3938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A.nn</a:t>
                </a:r>
                <a:endParaRPr b="1" lang="en-US" sz="1600" spc="-1" strike="noStrike">
                  <a:solidFill>
                    <a:srgbClr val="000000"/>
                  </a:solidFill>
                  <a:latin typeface="Arial"/>
                </a:endParaRPr>
              </a:p>
            </p:txBody>
          </p:sp>
          <p:sp>
            <p:nvSpPr>
              <p:cNvPr id="187" name="Textfeld 6"/>
              <p:cNvSpPr/>
              <p:nvPr/>
            </p:nvSpPr>
            <p:spPr>
              <a:xfrm>
                <a:off x="7710840" y="5121360"/>
                <a:ext cx="68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t>
                </a:r>
                <a:endParaRPr b="1" lang="en-US" sz="4000" spc="-1" strike="noStrike">
                  <a:solidFill>
                    <a:srgbClr val="000000"/>
                  </a:solidFill>
                  <a:latin typeface="Arial"/>
                </a:endParaRPr>
              </a:p>
            </p:txBody>
          </p:sp>
          <p:sp>
            <p:nvSpPr>
              <p:cNvPr id="188" name="Textfeld 7"/>
              <p:cNvSpPr/>
              <p:nvPr/>
            </p:nvSpPr>
            <p:spPr>
              <a:xfrm>
                <a:off x="7560720" y="1736640"/>
                <a:ext cx="1207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iversal</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WVTA</a:t>
                </a:r>
                <a:endParaRPr b="1" lang="en-US" sz="1800" spc="-1" strike="noStrike">
                  <a:solidFill>
                    <a:srgbClr val="000000"/>
                  </a:solidFill>
                  <a:latin typeface="Arial"/>
                </a:endParaRPr>
              </a:p>
            </p:txBody>
          </p:sp>
          <p:sp>
            <p:nvSpPr>
              <p:cNvPr id="189" name="Abgerundetes Rechteck 8"/>
              <p:cNvSpPr/>
              <p:nvPr/>
            </p:nvSpPr>
            <p:spPr>
              <a:xfrm>
                <a:off x="7508880" y="3138480"/>
                <a:ext cx="1339920" cy="3934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B.nn</a:t>
                </a:r>
                <a:endParaRPr b="1" lang="en-US" sz="1600" spc="-1" strike="noStrike">
                  <a:solidFill>
                    <a:srgbClr val="000000"/>
                  </a:solidFill>
                  <a:latin typeface="Arial"/>
                </a:endParaRPr>
              </a:p>
            </p:txBody>
          </p:sp>
          <p:sp>
            <p:nvSpPr>
              <p:cNvPr id="190" name="Abgerundetes Rechteck 9"/>
              <p:cNvSpPr/>
              <p:nvPr/>
            </p:nvSpPr>
            <p:spPr>
              <a:xfrm>
                <a:off x="7508880" y="3638520"/>
                <a:ext cx="1339920" cy="3920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C.nn</a:t>
                </a:r>
                <a:endParaRPr b="1" lang="en-US" sz="1600" spc="-1" strike="noStrike">
                  <a:solidFill>
                    <a:srgbClr val="000000"/>
                  </a:solidFill>
                  <a:latin typeface="Arial"/>
                </a:endParaRPr>
              </a:p>
            </p:txBody>
          </p:sp>
          <p:sp>
            <p:nvSpPr>
              <p:cNvPr id="191" name="Abgerundetes Rechteck 10"/>
              <p:cNvSpPr/>
              <p:nvPr/>
            </p:nvSpPr>
            <p:spPr>
              <a:xfrm>
                <a:off x="7508880" y="4145040"/>
                <a:ext cx="1339920" cy="3934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D.nn</a:t>
                </a:r>
                <a:endParaRPr b="1" lang="en-US" sz="1600" spc="-1" strike="noStrike">
                  <a:solidFill>
                    <a:srgbClr val="000000"/>
                  </a:solidFill>
                  <a:latin typeface="Arial"/>
                </a:endParaRPr>
              </a:p>
            </p:txBody>
          </p:sp>
          <p:sp>
            <p:nvSpPr>
              <p:cNvPr id="192" name="Abgerundetes Rechteck 11"/>
              <p:cNvSpPr/>
              <p:nvPr/>
            </p:nvSpPr>
            <p:spPr>
              <a:xfrm>
                <a:off x="7508880" y="4647960"/>
                <a:ext cx="1339920" cy="3938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E.nn</a:t>
                </a:r>
                <a:endParaRPr b="1" lang="en-US" sz="1600" spc="-1" strike="noStrike">
                  <a:solidFill>
                    <a:srgbClr val="000000"/>
                  </a:solidFill>
                  <a:latin typeface="Arial"/>
                </a:endParaRPr>
              </a:p>
            </p:txBody>
          </p:sp>
          <p:sp>
            <p:nvSpPr>
              <p:cNvPr id="193" name="Abgerundetes Rechteck 12"/>
              <p:cNvSpPr/>
              <p:nvPr/>
            </p:nvSpPr>
            <p:spPr>
              <a:xfrm>
                <a:off x="7508880" y="5135400"/>
                <a:ext cx="1339920" cy="3920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F.nn</a:t>
                </a:r>
                <a:endParaRPr b="1" lang="en-US" sz="1600" spc="-1" strike="noStrike">
                  <a:solidFill>
                    <a:srgbClr val="000000"/>
                  </a:solidFill>
                  <a:latin typeface="Arial"/>
                </a:endParaRPr>
              </a:p>
            </p:txBody>
          </p:sp>
        </p:grpSp>
      </p:grpSp>
      <p:sp>
        <p:nvSpPr>
          <p:cNvPr id="194" name="正方形/長方形 25"/>
          <p:cNvSpPr/>
          <p:nvPr/>
        </p:nvSpPr>
        <p:spPr>
          <a:xfrm>
            <a:off x="812880" y="907920"/>
            <a:ext cx="201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WVTA has 2 different approaches.  </a:t>
            </a:r>
            <a:endParaRPr b="1" lang="en-US" sz="2000" spc="-1" strike="noStrike">
              <a:solidFill>
                <a:srgbClr val="000000"/>
              </a:solidFill>
              <a:latin typeface="Arial"/>
            </a:endParaRPr>
          </a:p>
        </p:txBody>
      </p:sp>
      <p:sp>
        <p:nvSpPr>
          <p:cNvPr id="195" name="Line 33"/>
          <p:cNvSpPr/>
          <p:nvPr/>
        </p:nvSpPr>
        <p:spPr>
          <a:xfrm>
            <a:off x="2828880" y="1413000"/>
            <a:ext cx="1224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6" name="Line 34"/>
          <p:cNvSpPr/>
          <p:nvPr/>
        </p:nvSpPr>
        <p:spPr>
          <a:xfrm>
            <a:off x="2397240" y="1881360"/>
            <a:ext cx="360360" cy="24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97" name="Group 22"/>
          <p:cNvGrpSpPr/>
          <p:nvPr/>
        </p:nvGrpSpPr>
        <p:grpSpPr>
          <a:xfrm>
            <a:off x="452520" y="2529000"/>
            <a:ext cx="1663560" cy="4093920"/>
            <a:chOff x="452520" y="2529000"/>
            <a:chExt cx="1663560" cy="4093920"/>
          </a:xfrm>
        </p:grpSpPr>
        <p:sp>
          <p:nvSpPr>
            <p:cNvPr id="198" name="Abgerundetes Rechteck 13"/>
            <p:cNvSpPr/>
            <p:nvPr/>
          </p:nvSpPr>
          <p:spPr>
            <a:xfrm>
              <a:off x="452520" y="2529000"/>
              <a:ext cx="1663560" cy="4093920"/>
            </a:xfrm>
            <a:custGeom>
              <a:avLst/>
              <a:gdLst>
                <a:gd name="textAreaLeft" fmla="*/ 81000 w 1663560"/>
                <a:gd name="textAreaRight" fmla="*/ 1582560 w 1663560"/>
                <a:gd name="textAreaTop" fmla="*/ 81000 h 4093920"/>
                <a:gd name="textAreaBottom" fmla="*/ 4012920 h 4093920"/>
              </a:gdLst>
              <a:ahLst/>
              <a:rect l="textAreaLeft" t="textAreaTop" r="textAreaRight" b="textAreaBottom"/>
              <a:pathLst>
                <a:path w="21600" h="53149">
                  <a:moveTo>
                    <a:pt x="3600" y="0"/>
                  </a:moveTo>
                  <a:arcTo wR="3600" hR="3600" stAng="16200000" swAng="-5400000"/>
                  <a:lnTo>
                    <a:pt x="0" y="49549"/>
                  </a:lnTo>
                  <a:arcTo wR="3600" hR="3600" stAng="10800000" swAng="-5400000"/>
                  <a:lnTo>
                    <a:pt x="18000" y="53149"/>
                  </a:lnTo>
                  <a:arcTo wR="3600" hR="3600" stAng="5400000" swAng="-5400000"/>
                  <a:lnTo>
                    <a:pt x="21600" y="3600"/>
                  </a:lnTo>
                  <a:arcTo wR="3600" hR="3600" stAng="0" swAng="-5400000"/>
                  <a:close/>
                </a:path>
              </a:pathLst>
            </a:custGeom>
            <a:solidFill>
              <a:srgbClr val="d4fad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99" name="Group 24"/>
            <p:cNvGrpSpPr/>
            <p:nvPr/>
          </p:nvGrpSpPr>
          <p:grpSpPr>
            <a:xfrm>
              <a:off x="560520" y="2565000"/>
              <a:ext cx="1501200" cy="3791880"/>
              <a:chOff x="560520" y="2565000"/>
              <a:chExt cx="1501200" cy="3791880"/>
            </a:xfrm>
          </p:grpSpPr>
          <p:sp>
            <p:nvSpPr>
              <p:cNvPr id="200" name="Abgerundetes Rechteck 14"/>
              <p:cNvSpPr/>
              <p:nvPr/>
            </p:nvSpPr>
            <p:spPr>
              <a:xfrm>
                <a:off x="645840" y="3509280"/>
                <a:ext cx="1339560" cy="3916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A.nn</a:t>
                </a:r>
                <a:endParaRPr b="1" lang="en-US" sz="1600" spc="-1" strike="noStrike">
                  <a:solidFill>
                    <a:srgbClr val="000000"/>
                  </a:solidFill>
                  <a:latin typeface="Arial"/>
                </a:endParaRPr>
              </a:p>
            </p:txBody>
          </p:sp>
          <p:sp>
            <p:nvSpPr>
              <p:cNvPr id="201" name="Textfeld 16"/>
              <p:cNvSpPr/>
              <p:nvPr/>
            </p:nvSpPr>
            <p:spPr>
              <a:xfrm>
                <a:off x="587520" y="2565000"/>
                <a:ext cx="14274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WVTA of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imited</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cognition</a:t>
                </a:r>
                <a:endParaRPr b="1" lang="en-US" sz="1800" spc="-1" strike="noStrike">
                  <a:solidFill>
                    <a:srgbClr val="000000"/>
                  </a:solidFill>
                  <a:latin typeface="Arial"/>
                </a:endParaRPr>
              </a:p>
            </p:txBody>
          </p:sp>
          <p:sp>
            <p:nvSpPr>
              <p:cNvPr id="202" name="Abgerundetes Rechteck 17"/>
              <p:cNvSpPr/>
              <p:nvPr/>
            </p:nvSpPr>
            <p:spPr>
              <a:xfrm>
                <a:off x="645840" y="3967920"/>
                <a:ext cx="1339560" cy="3916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poS"/>
                  </a:rPr>
                  <a:t>UN-R B.nn</a:t>
                </a:r>
                <a:r>
                  <a:rPr b="1" lang="de-DE" sz="1400" spc="-1" strike="noStrike">
                    <a:solidFill>
                      <a:srgbClr val="ff0000"/>
                    </a:solidFill>
                    <a:latin typeface="CorpoS"/>
                  </a:rPr>
                  <a:t>-1</a:t>
                </a:r>
                <a:endParaRPr b="1" lang="en-US" sz="1400" spc="-1" strike="noStrike">
                  <a:solidFill>
                    <a:srgbClr val="000000"/>
                  </a:solidFill>
                  <a:latin typeface="Arial"/>
                </a:endParaRPr>
              </a:p>
            </p:txBody>
          </p:sp>
          <p:sp>
            <p:nvSpPr>
              <p:cNvPr id="203" name="Abgerundetes Rechteck 18"/>
              <p:cNvSpPr/>
              <p:nvPr/>
            </p:nvSpPr>
            <p:spPr>
              <a:xfrm>
                <a:off x="645840" y="4467960"/>
                <a:ext cx="1339560" cy="3916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C.nn</a:t>
                </a:r>
                <a:endParaRPr b="1" lang="en-US" sz="1600" spc="-1" strike="noStrike">
                  <a:solidFill>
                    <a:srgbClr val="000000"/>
                  </a:solidFill>
                  <a:latin typeface="Arial"/>
                </a:endParaRPr>
              </a:p>
            </p:txBody>
          </p:sp>
          <p:sp>
            <p:nvSpPr>
              <p:cNvPr id="204" name="Abgerundetes Rechteck 19"/>
              <p:cNvSpPr/>
              <p:nvPr/>
            </p:nvSpPr>
            <p:spPr>
              <a:xfrm>
                <a:off x="645840" y="4974480"/>
                <a:ext cx="1339560" cy="3916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poS"/>
                  </a:rPr>
                  <a:t>UN-R D.nn</a:t>
                </a:r>
                <a:r>
                  <a:rPr b="1" lang="de-DE" sz="1400" spc="-1" strike="noStrike">
                    <a:solidFill>
                      <a:srgbClr val="ff0000"/>
                    </a:solidFill>
                    <a:latin typeface="CorpoS"/>
                  </a:rPr>
                  <a:t>-2</a:t>
                </a:r>
                <a:endParaRPr b="1" lang="en-US" sz="1400" spc="-1" strike="noStrike">
                  <a:solidFill>
                    <a:srgbClr val="000000"/>
                  </a:solidFill>
                  <a:latin typeface="Arial"/>
                </a:endParaRPr>
              </a:p>
            </p:txBody>
          </p:sp>
          <p:sp>
            <p:nvSpPr>
              <p:cNvPr id="205" name="Abgerundetes Rechteck 20"/>
              <p:cNvSpPr/>
              <p:nvPr/>
            </p:nvSpPr>
            <p:spPr>
              <a:xfrm>
                <a:off x="645840" y="5477760"/>
                <a:ext cx="1339560" cy="3916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E.nn</a:t>
                </a:r>
                <a:endParaRPr b="1" lang="en-US" sz="1600" spc="-1" strike="noStrike">
                  <a:solidFill>
                    <a:srgbClr val="000000"/>
                  </a:solidFill>
                  <a:latin typeface="Arial"/>
                </a:endParaRPr>
              </a:p>
            </p:txBody>
          </p:sp>
          <p:sp>
            <p:nvSpPr>
              <p:cNvPr id="206" name="Abgerundetes Rechteck 21"/>
              <p:cNvSpPr/>
              <p:nvPr/>
            </p:nvSpPr>
            <p:spPr>
              <a:xfrm>
                <a:off x="645840" y="5963400"/>
                <a:ext cx="1339560" cy="3934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F.nn</a:t>
                </a:r>
                <a:endParaRPr b="1" lang="en-US" sz="1600" spc="-1" strike="noStrike">
                  <a:solidFill>
                    <a:srgbClr val="000000"/>
                  </a:solidFill>
                  <a:latin typeface="Arial"/>
                </a:endParaRPr>
              </a:p>
            </p:txBody>
          </p:sp>
          <p:sp>
            <p:nvSpPr>
              <p:cNvPr id="207" name="Gerade Verbindung 22"/>
              <p:cNvSpPr/>
              <p:nvPr/>
            </p:nvSpPr>
            <p:spPr>
              <a:xfrm flipV="1">
                <a:off x="560520" y="5469840"/>
                <a:ext cx="1495080" cy="39960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8" name="Gerade Verbindung 23"/>
              <p:cNvSpPr/>
              <p:nvPr/>
            </p:nvSpPr>
            <p:spPr>
              <a:xfrm>
                <a:off x="566640" y="5468040"/>
                <a:ext cx="1495080" cy="39996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sp>
        <p:nvSpPr>
          <p:cNvPr id="209" name="Textfeld 15"/>
          <p:cNvSpPr/>
          <p:nvPr/>
        </p:nvSpPr>
        <p:spPr>
          <a:xfrm>
            <a:off x="992160" y="5985000"/>
            <a:ext cx="61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t>
            </a:r>
            <a:endParaRPr b="1" lang="en-US" sz="4000" spc="-1" strike="noStrike">
              <a:solidFill>
                <a:srgbClr val="000000"/>
              </a:solidFill>
              <a:latin typeface="Arial"/>
            </a:endParaRPr>
          </a:p>
        </p:txBody>
      </p:sp>
      <p:sp>
        <p:nvSpPr>
          <p:cNvPr id="210" name="Rectangle 49"/>
          <p:cNvSpPr/>
          <p:nvPr/>
        </p:nvSpPr>
        <p:spPr>
          <a:xfrm>
            <a:off x="2036880" y="4365720"/>
            <a:ext cx="399564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WVTA of limited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cognition (L-IWVTA)</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ype approval to a lower level of stringency (for some Regulations earlier versions than those specified for U-IWVTA and/or no type approval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0DCC-5C9B-4F40-BEE2-0CE29B16C535}"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2"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3" name="テキスト ボックス 24"/>
          <p:cNvSpPr/>
          <p:nvPr/>
        </p:nvSpPr>
        <p:spPr>
          <a:xfrm>
            <a:off x="0" y="44280"/>
            <a:ext cx="596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tents of this presentation</a:t>
            </a:r>
            <a:endParaRPr b="1" lang="en-US" sz="2800" spc="-1" strike="noStrike">
              <a:solidFill>
                <a:srgbClr val="000000"/>
              </a:solidFill>
              <a:latin typeface="Arial"/>
            </a:endParaRPr>
          </a:p>
        </p:txBody>
      </p:sp>
      <p:sp>
        <p:nvSpPr>
          <p:cNvPr id="214" name="テキスト ボックス 3"/>
          <p:cNvSpPr/>
          <p:nvPr/>
        </p:nvSpPr>
        <p:spPr>
          <a:xfrm>
            <a:off x="415800" y="1046160"/>
            <a:ext cx="9204480" cy="4955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b2b2b2"/>
                </a:solidFill>
                <a:latin typeface="Arial"/>
              </a:rPr>
              <a:t>Overview of IWVTA</a:t>
            </a:r>
            <a:endParaRPr b="1" lang="en-US" sz="24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UN Regulation No. 0 (UN R0)</a:t>
            </a:r>
            <a:endParaRPr b="1" lang="en-US" sz="20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Objective of IWVTA</a:t>
            </a:r>
            <a:r>
              <a:rPr b="0" lang="ja-JP" sz="2000" spc="-1" strike="noStrike">
                <a:solidFill>
                  <a:srgbClr val="b2b2b2"/>
                </a:solidFill>
                <a:latin typeface="Arial"/>
                <a:ea typeface="ＭＳ Ｐゴシック"/>
              </a:rPr>
              <a:t> - Who benefits from IWVTA?</a:t>
            </a:r>
            <a:endParaRPr b="1" lang="en-US" sz="20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Delivering the Vision</a:t>
            </a:r>
            <a:r>
              <a:rPr b="0" lang="ja-JP" sz="2000" spc="-1" strike="noStrike">
                <a:solidFill>
                  <a:srgbClr val="b2b2b2"/>
                </a:solidFill>
                <a:latin typeface="Arial"/>
                <a:ea typeface="ＭＳ Ｐゴシック"/>
              </a:rPr>
              <a:t> and Visualising our Approach</a:t>
            </a:r>
            <a:endParaRPr b="1" lang="en-US" sz="20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What IWVTA comprise</a:t>
            </a:r>
            <a:r>
              <a:rPr b="0" lang="ja-JP" sz="2000" spc="-1" strike="noStrike">
                <a:solidFill>
                  <a:srgbClr val="b2b2b2"/>
                </a:solidFill>
                <a:latin typeface="Arial"/>
                <a:ea typeface="ＭＳ Ｐゴシック"/>
              </a:rPr>
              <a:t>s</a:t>
            </a:r>
            <a:endParaRPr b="1" lang="en-US" sz="2000" spc="-1" strike="noStrike">
              <a:solidFill>
                <a:srgbClr val="000000"/>
              </a:solidFill>
              <a:latin typeface="Arial"/>
            </a:endParaRPr>
          </a:p>
          <a:p>
            <a:pPr marL="343080" indent="-343080">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for WP.29 to not</a:t>
            </a:r>
            <a:r>
              <a:rPr b="0" lang="ja-JP" sz="2400" spc="-1" strike="noStrike">
                <a:solidFill>
                  <a:srgbClr val="000000"/>
                </a:solidFill>
                <a:latin typeface="Arial"/>
              </a:rPr>
              <a:t>e</a:t>
            </a:r>
            <a:endParaRPr b="1" lang="en-US" sz="24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ea typeface="ＭＳ Ｐゴシック"/>
              </a:rPr>
              <a:t> </a:t>
            </a:r>
            <a:r>
              <a:rPr b="0" lang="ja-JP" sz="2100" spc="-1" strike="noStrike">
                <a:solidFill>
                  <a:srgbClr val="000000"/>
                </a:solidFill>
                <a:latin typeface="Arial"/>
                <a:ea typeface="ＭＳ Ｐゴシック"/>
              </a:rPr>
              <a:t>Working Assumptions</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Contents of draft UNR0</a:t>
            </a:r>
            <a:r>
              <a:rPr b="0" lang="ja-JP" sz="2100" spc="-1" strike="noStrike">
                <a:solidFill>
                  <a:srgbClr val="000000"/>
                </a:solidFill>
                <a:latin typeface="Arial"/>
                <a:ea typeface="ＭＳ Ｐゴシック"/>
              </a:rPr>
              <a:t> and its Technical Requirements</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ea typeface="ＭＳ Ｐゴシック"/>
              </a:rPr>
              <a:t>Items for Further Discussion</a:t>
            </a:r>
            <a:endParaRPr b="1"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Future evolution of UN R0</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2T16:56:00Z</dcterms:created>
  <dc:creator>陦梧帆諠・ｱ蛹匁耳騾ｲ隱ｲ</dc:creator>
  <dc:description/>
  <dc:language>en-US</dc:language>
  <cp:lastModifiedBy>Romain Hubert</cp:lastModifiedBy>
  <cp:lastPrinted>2013-06-24T16:36:47Z</cp:lastPrinted>
  <dcterms:modified xsi:type="dcterms:W3CDTF">2013-11-11T12:57:12Z</dcterms:modified>
  <cp:revision>467</cp:revision>
  <dc:subject/>
  <dc:title>繧ｹ繝ｩ繧､繝・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1-8.1.0.3373</vt:lpwstr>
  </property>
</Properties>
</file>