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984-4086-4A37-B9A4-8DA9B3E7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7D1-EFA6-4F66-A258-82930350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AD6-1965-4602-8CE5-69A2878D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131-6787-479F-867F-F576AA45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65B-6A1F-4B65-A638-0905DC12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5ED-2FAC-4FF5-A3CF-A9660069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971-CDE3-4855-BC7F-6664D24F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1C5-179A-4E2D-97E9-9DE39D12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2D3-777D-45C5-A53D-6744DA7C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B63-9B39-4898-9EB0-F3DFB33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57A-DEF8-42CF-9C97-89B74648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9C3-3C4B-42FA-80AD-4E827EC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A61A-FE21-437A-81C4-50BDFD8DDF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E09F-4AE2-4805-9AF0-F1589A24A7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847A-00C0-4EDC-A2E3-5838097B50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324000" y="1187280"/>
            <a:ext cx="8496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WP.29-159 - March 2013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sentation of a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st draft proposal for revision 3 of the 1958 Agreemen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WP.29-159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vice by WP.29 o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main outstanding issue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vel of ambition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 respect to the list of 50 action items previously endorsed by WP.29 and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gal status of the so-called placeholder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cifying the administrative provisions for the type approval procedu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sibl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tion of the 6 months notification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cedure and the possible need to change th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dition of the formal adoption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a new Regulation or an amendment to an existing Regul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change of type-approval data and the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e of DETA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this proc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cation of Regulations annexed to the 1958 Agreement for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certification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WP.29 Chair requested the informal group to submit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l draft for revision 3 of the 1958 Agreement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or consideration at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vember 2013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ession on the basis of a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ficial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108000" y="11592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mitted by IWVTA Chair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document WP.29-161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7876-6D3E-4C8A-AD37-346159A0A4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WP.29-160  - June 2013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us on the review of the 1958 Agreement presented (WP.29-160-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noted that it would be proposed that the current text of the Agreement o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certification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ould remain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agreed on the need to establish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noted that som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aining open issue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ve still to be resolved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vel of ambition with respect to the "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tantial and editorial" amendments to the Agreement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gal status of the so-called placeholder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cifying the administrative and procedural provisions applicable to all UN Regulations annexed to the 1958 Agre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urged the IWVTA subgroup on the 1958 Agreemen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resolve the open issue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reed to have a detailed discussio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 this subjec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the November 2013 session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732-9FA0-4876-BE01-0611E6C6C4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WP.29-161  - November 2013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mal submissio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consolidated drafting proposals for revision 3 of the 1958 Agreement (ECE/TRANS/WP.29/2013/134) for consideration by WP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main outstanding issues resolved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informal document WP.29-161-1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reement on level of ambition with respect to the "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tantial and editorial" amendments to the Agreement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and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gal status of the so-called placeholder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s been clarified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confirmed (by OLA)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schedule of administrative and procedural provisions – SAP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ths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notification procedur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intained, with faster processing through UNECE Secretari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orporation of provisions enabling the use of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s to self-certificatio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text of the Agreement re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feature to increase attractivenes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CPs can vote in favour of new UN Regulations without being obliged to start applying them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7E06-B357-4078-B3E8-41D22BE332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WP.29-161  - November 2013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jor proposal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imed a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the 1958 Agreement more attractiv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P will be able to issue and accept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ype-approvals according to earlier versions of UN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P can delegate in writing the right to vote on its behalf to another CP or regional economic integration organization to which the CP belongs (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xy vot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P can vote in favour of new UN Regulations without being obliged to start applying them immediately (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ght to start applying at a later stag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aining issue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consideration and decision by WP.29: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 there – in addition - a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 to increase the 2/3 majority threshold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establishing new UN Regulations and amendments to existing UN Regulations to make the 1958 Agreement more attractive?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A506-9887-4830-9AE7-6BEC2766B6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Next steps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Contracting Parties to the 1958 Agreement are invited as from now to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rutinise the formal proposal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revision 3 of the 1958 Agre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eedback at the WP.29 session in March 2014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 any outstanding questions, comments, concerns, need for clarification they may have with regard to the proposed amend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P.29 will, after having considered outstanding issues raised by Contracting Parties,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 the IWVTA informal group to address and resolve these outstanding issue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or consideration by WP.29 i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vember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ject to all outstanding issues satisfactorily resolved, WP.29 shall verify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ther unanimity by all Contracting Parties to the 1958 Agreement can be achieved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or the amending proposals (March 201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formal 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ticle 13 procedure for amending the 1958 Agreement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ll be launched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June 2015) after which the 6 + 3 months periods will start.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cipated entry into force of revision 3 of the Agreement:  March 2016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AE51-7903-4D05-A4B2-1CD5643AFC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24000" y="1187280"/>
            <a:ext cx="8496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Next steps</a:t>
            </a: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68360" y="114480"/>
            <a:ext cx="8062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of the 1958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3"/>
          <p:cNvSpPr/>
          <p:nvPr/>
        </p:nvSpPr>
        <p:spPr>
          <a:xfrm>
            <a:off x="490680" y="1938240"/>
            <a:ext cx="71892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4"/>
          <p:cNvSpPr/>
          <p:nvPr/>
        </p:nvSpPr>
        <p:spPr>
          <a:xfrm>
            <a:off x="490680" y="2552760"/>
            <a:ext cx="71892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.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5"/>
          <p:cNvSpPr/>
          <p:nvPr/>
        </p:nvSpPr>
        <p:spPr>
          <a:xfrm>
            <a:off x="490680" y="3205080"/>
            <a:ext cx="71892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6"/>
          <p:cNvSpPr/>
          <p:nvPr/>
        </p:nvSpPr>
        <p:spPr>
          <a:xfrm>
            <a:off x="1189080" y="3898800"/>
            <a:ext cx="1501560" cy="35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7"/>
          <p:cNvSpPr/>
          <p:nvPr/>
        </p:nvSpPr>
        <p:spPr>
          <a:xfrm>
            <a:off x="3133800" y="3898800"/>
            <a:ext cx="133200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retary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8"/>
          <p:cNvSpPr/>
          <p:nvPr/>
        </p:nvSpPr>
        <p:spPr>
          <a:xfrm>
            <a:off x="4933800" y="3898800"/>
            <a:ext cx="719280" cy="35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9"/>
          <p:cNvSpPr/>
          <p:nvPr/>
        </p:nvSpPr>
        <p:spPr>
          <a:xfrm>
            <a:off x="6013440" y="3898800"/>
            <a:ext cx="1422360" cy="36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retary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線矢印コネクタ 16"/>
          <p:cNvCxnSpPr>
            <a:stCxn id="61" idx="2"/>
            <a:endCxn id="62" idx="0"/>
          </p:cNvCxnSpPr>
          <p:nvPr/>
        </p:nvCxnSpPr>
        <p:spPr>
          <a:xfrm>
            <a:off x="848880" y="2912760"/>
            <a:ext cx="1080" cy="2926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68" name="カギ線コネクタ 23"/>
          <p:cNvCxnSpPr>
            <a:stCxn id="62" idx="2"/>
            <a:endCxn id="63" idx="1"/>
          </p:cNvCxnSpPr>
          <p:nvPr/>
        </p:nvCxnSpPr>
        <p:spPr>
          <a:xfrm flipH="1" rot="16200000">
            <a:off x="762480" y="3651840"/>
            <a:ext cx="513720" cy="340200"/>
          </a:xfrm>
          <a:prstGeom prst="bentConnector2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69" name="直線矢印コネクタ 36"/>
          <p:cNvCxnSpPr>
            <a:stCxn id="60" idx="2"/>
            <a:endCxn id="61" idx="0"/>
          </p:cNvCxnSpPr>
          <p:nvPr/>
        </p:nvCxnSpPr>
        <p:spPr>
          <a:xfrm>
            <a:off x="848880" y="2298600"/>
            <a:ext cx="1080" cy="2548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sp>
        <p:nvSpPr>
          <p:cNvPr id="70" name="テキスト ボックス 39"/>
          <p:cNvSpPr/>
          <p:nvPr/>
        </p:nvSpPr>
        <p:spPr>
          <a:xfrm>
            <a:off x="1322280" y="1992240"/>
            <a:ext cx="625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roposal for Revision 3 to the 1958 Agre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0"/>
          <p:cNvSpPr/>
          <p:nvPr/>
        </p:nvSpPr>
        <p:spPr>
          <a:xfrm>
            <a:off x="1353960" y="260496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sider propo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1"/>
          <p:cNvSpPr/>
          <p:nvPr/>
        </p:nvSpPr>
        <p:spPr>
          <a:xfrm>
            <a:off x="2386080" y="4299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7777"/>
                </a:solidFill>
                <a:uFillTx/>
                <a:latin typeface="Calibri"/>
                <a:ea typeface="ＭＳ Ｐゴシック"/>
              </a:rPr>
              <a:t>3-6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46"/>
          <p:cNvCxnSpPr>
            <a:stCxn id="63" idx="3"/>
            <a:endCxn id="64" idx="1"/>
          </p:cNvCxnSpPr>
          <p:nvPr/>
        </p:nvCxnSpPr>
        <p:spPr>
          <a:xfrm>
            <a:off x="2690280" y="4078080"/>
            <a:ext cx="443880" cy="10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74" name="直線矢印コネクタ 48"/>
          <p:cNvCxnSpPr>
            <a:stCxn id="64" idx="3"/>
            <a:endCxn id="65" idx="1"/>
          </p:cNvCxnSpPr>
          <p:nvPr/>
        </p:nvCxnSpPr>
        <p:spPr>
          <a:xfrm flipV="1">
            <a:off x="4465800" y="4077720"/>
            <a:ext cx="468720" cy="10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cxnSp>
        <p:nvCxnSpPr>
          <p:cNvPr id="75" name="直線矢印コネクタ 51"/>
          <p:cNvCxnSpPr>
            <a:stCxn id="65" idx="3"/>
            <a:endCxn id="66" idx="1"/>
          </p:cNvCxnSpPr>
          <p:nvPr/>
        </p:nvCxnSpPr>
        <p:spPr>
          <a:xfrm>
            <a:off x="5652720" y="4078080"/>
            <a:ext cx="361080" cy="108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sp>
        <p:nvSpPr>
          <p:cNvPr id="76" name="テキスト ボックス 61"/>
          <p:cNvSpPr/>
          <p:nvPr/>
        </p:nvSpPr>
        <p:spPr>
          <a:xfrm>
            <a:off x="1287360" y="3178080"/>
            <a:ext cx="167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erify whether unanimity can be achie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63"/>
          <p:cNvSpPr/>
          <p:nvPr/>
        </p:nvSpPr>
        <p:spPr>
          <a:xfrm>
            <a:off x="2997360" y="3467160"/>
            <a:ext cx="170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Notification (Beginning of the 6 months perio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64"/>
          <p:cNvSpPr/>
          <p:nvPr/>
        </p:nvSpPr>
        <p:spPr>
          <a:xfrm>
            <a:off x="6016680" y="3467160"/>
            <a:ext cx="142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Notification (Objections, if an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正方形/長方形 79"/>
          <p:cNvSpPr/>
          <p:nvPr/>
        </p:nvSpPr>
        <p:spPr>
          <a:xfrm>
            <a:off x="7745400" y="3898800"/>
            <a:ext cx="944640" cy="358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直線矢印コネクタ 80"/>
          <p:cNvCxnSpPr>
            <a:stCxn id="66" idx="3"/>
            <a:endCxn id="79" idx="1"/>
          </p:cNvCxnSpPr>
          <p:nvPr/>
        </p:nvCxnSpPr>
        <p:spPr>
          <a:xfrm flipV="1">
            <a:off x="7435800" y="4078080"/>
            <a:ext cx="310320" cy="2160"/>
          </a:xfrm>
          <a:prstGeom prst="straightConnector1">
            <a:avLst/>
          </a:prstGeom>
          <a:ln w="9360">
            <a:solidFill>
              <a:srgbClr val="fafaf1"/>
            </a:solidFill>
            <a:miter/>
            <a:tailEnd len="med" type="arrow" w="med"/>
          </a:ln>
        </p:spPr>
      </p:cxnSp>
      <p:sp>
        <p:nvSpPr>
          <p:cNvPr id="81" name="上カーブ矢印 99"/>
          <p:cNvSpPr/>
          <p:nvPr/>
        </p:nvSpPr>
        <p:spPr>
          <a:xfrm>
            <a:off x="2197080" y="4311720"/>
            <a:ext cx="1174680" cy="298440"/>
          </a:xfrm>
          <a:custGeom>
            <a:avLst/>
            <a:gdLst>
              <a:gd name="textAreaLeft" fmla="*/ 265680 w 1174680"/>
              <a:gd name="textAreaRight" fmla="*/ 871920 w 1174680"/>
              <a:gd name="textAreaTop" fmla="*/ 39960 h 298440"/>
              <a:gd name="textAreaBottom" fmla="*/ 2584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71" hR="21600" stAng="10800000" swAng="-5400000"/>
                <a:lnTo>
                  <a:pt x="11143" y="21600"/>
                </a:lnTo>
                <a:arcTo wR="9771" hR="21600" stAng="5400000" swAng="-3616987"/>
                <a:lnTo>
                  <a:pt x="21290" y="5400"/>
                </a:lnTo>
                <a:lnTo>
                  <a:pt x="20228" y="0"/>
                </a:lnTo>
                <a:lnTo>
                  <a:pt x="18546" y="5400"/>
                </a:lnTo>
                <a:lnTo>
                  <a:pt x="19232" y="5400"/>
                </a:lnTo>
                <a:arcTo wR="9771" hR="21600" stAng="1783013" swAng="3507574"/>
                <a:lnTo>
                  <a:pt x="10457" y="21547"/>
                </a:lnTo>
                <a:arcTo wR="9771" hR="21600" stAng="5509413" swAng="5290587"/>
                <a:close/>
              </a:path>
              <a:path fill="darkenLess" w="21600" h="21600">
                <a:moveTo>
                  <a:pt x="0" y="0"/>
                </a:moveTo>
                <a:arcTo wR="9771" hR="21600" stAng="10800000" swAng="-5400000"/>
                <a:lnTo>
                  <a:pt x="11143" y="21600"/>
                </a:lnTo>
                <a:arcTo wR="9771" hR="21600" stAng="5400000" swAng="109413"/>
                <a:lnTo>
                  <a:pt x="10457" y="21547"/>
                </a:lnTo>
                <a:arcTo wR="9771" hR="21600" stAng="5509413" swAng="5290587"/>
                <a:close/>
              </a:path>
            </a:pathLst>
          </a:custGeom>
          <a:solidFill>
            <a:srgbClr val="e4e4e4"/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上カーブ矢印 102"/>
          <p:cNvSpPr/>
          <p:nvPr/>
        </p:nvSpPr>
        <p:spPr>
          <a:xfrm>
            <a:off x="4335480" y="4325760"/>
            <a:ext cx="1955880" cy="297000"/>
          </a:xfrm>
          <a:custGeom>
            <a:avLst/>
            <a:gdLst>
              <a:gd name="textAreaLeft" fmla="*/ 461160 w 1955880"/>
              <a:gd name="textAreaRight" fmla="*/ 1457640 w 1955880"/>
              <a:gd name="textAreaTop" fmla="*/ 39600 h 297000"/>
              <a:gd name="textAreaBottom" fmla="*/ 25740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86" hR="21600" stAng="10800000" swAng="-5400000"/>
                <a:lnTo>
                  <a:pt x="11005" y="21600"/>
                </a:lnTo>
                <a:arcTo wR="10186" hR="21600" stAng="5400000" swAng="-3677819"/>
                <a:lnTo>
                  <a:pt x="21277" y="5400"/>
                </a:lnTo>
                <a:lnTo>
                  <a:pt x="20781" y="0"/>
                </a:lnTo>
                <a:lnTo>
                  <a:pt x="19638" y="5400"/>
                </a:lnTo>
                <a:lnTo>
                  <a:pt x="20048" y="5400"/>
                </a:lnTo>
                <a:arcTo wR="10186" hR="21600" stAng="1722181" swAng="3612600"/>
                <a:lnTo>
                  <a:pt x="10595" y="21583"/>
                </a:lnTo>
                <a:arcTo wR="10186" hR="21600" stAng="5465219" swAng="5334781"/>
                <a:close/>
              </a:path>
              <a:path fill="darkenLess" w="21600" h="21600">
                <a:moveTo>
                  <a:pt x="0" y="0"/>
                </a:moveTo>
                <a:arcTo wR="10186" hR="21600" stAng="10800000" swAng="-5400000"/>
                <a:lnTo>
                  <a:pt x="11005" y="21600"/>
                </a:lnTo>
                <a:arcTo wR="10186" hR="21600" stAng="5400000" swAng="65219"/>
                <a:lnTo>
                  <a:pt x="10595" y="21583"/>
                </a:lnTo>
                <a:arcTo wR="10186" hR="21600" stAng="5465219" swAng="5334781"/>
                <a:close/>
              </a:path>
            </a:pathLst>
          </a:custGeom>
          <a:solidFill>
            <a:srgbClr val="e4e4e4"/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04"/>
          <p:cNvSpPr/>
          <p:nvPr/>
        </p:nvSpPr>
        <p:spPr>
          <a:xfrm>
            <a:off x="4933800" y="4299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7777"/>
                </a:solidFill>
                <a:uFillTx/>
                <a:latin typeface="Calibri"/>
                <a:ea typeface="ＭＳ Ｐゴシック"/>
              </a:rPr>
              <a:t>6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148"/>
          <p:cNvSpPr/>
          <p:nvPr/>
        </p:nvSpPr>
        <p:spPr>
          <a:xfrm>
            <a:off x="4933800" y="3467160"/>
            <a:ext cx="77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ossibility to op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148"/>
          <p:cNvSpPr/>
          <p:nvPr/>
        </p:nvSpPr>
        <p:spPr>
          <a:xfrm>
            <a:off x="7682040" y="3556080"/>
            <a:ext cx="102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ntry into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41"/>
          <p:cNvSpPr/>
          <p:nvPr/>
        </p:nvSpPr>
        <p:spPr>
          <a:xfrm>
            <a:off x="7321680" y="434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7777"/>
                </a:solidFill>
                <a:uFillTx/>
                <a:latin typeface="Calibri"/>
                <a:ea typeface="ＭＳ Ｐゴシック"/>
              </a:rPr>
              <a:t>3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上カーブ矢印 99"/>
          <p:cNvSpPr/>
          <p:nvPr/>
        </p:nvSpPr>
        <p:spPr>
          <a:xfrm>
            <a:off x="7132680" y="4359240"/>
            <a:ext cx="1174680" cy="298440"/>
          </a:xfrm>
          <a:custGeom>
            <a:avLst/>
            <a:gdLst>
              <a:gd name="textAreaLeft" fmla="*/ 265680 w 1174680"/>
              <a:gd name="textAreaRight" fmla="*/ 871920 w 1174680"/>
              <a:gd name="textAreaTop" fmla="*/ 39960 h 298440"/>
              <a:gd name="textAreaBottom" fmla="*/ 2584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71" hR="21600" stAng="10800000" swAng="-5400000"/>
                <a:lnTo>
                  <a:pt x="11143" y="21600"/>
                </a:lnTo>
                <a:arcTo wR="9771" hR="21600" stAng="5400000" swAng="-3616987"/>
                <a:lnTo>
                  <a:pt x="21290" y="5400"/>
                </a:lnTo>
                <a:lnTo>
                  <a:pt x="20228" y="0"/>
                </a:lnTo>
                <a:lnTo>
                  <a:pt x="18546" y="5400"/>
                </a:lnTo>
                <a:lnTo>
                  <a:pt x="19232" y="5400"/>
                </a:lnTo>
                <a:arcTo wR="9771" hR="21600" stAng="1783013" swAng="3507574"/>
                <a:lnTo>
                  <a:pt x="10457" y="21547"/>
                </a:lnTo>
                <a:arcTo wR="9771" hR="21600" stAng="5509413" swAng="5290587"/>
                <a:close/>
              </a:path>
              <a:path fill="darkenLess" w="21600" h="21600">
                <a:moveTo>
                  <a:pt x="0" y="0"/>
                </a:moveTo>
                <a:arcTo wR="9771" hR="21600" stAng="10800000" swAng="-5400000"/>
                <a:lnTo>
                  <a:pt x="11143" y="21600"/>
                </a:lnTo>
                <a:arcTo wR="9771" hR="21600" stAng="5400000" swAng="109413"/>
                <a:lnTo>
                  <a:pt x="10457" y="21547"/>
                </a:lnTo>
                <a:arcTo wR="9771" hR="21600" stAng="5509413" swAng="5290587"/>
                <a:close/>
              </a:path>
            </a:pathLst>
          </a:custGeom>
          <a:solidFill>
            <a:srgbClr val="e4e4e4"/>
          </a:solidFill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直線矢印コネクタ 16"/>
          <p:cNvCxnSpPr/>
          <p:nvPr/>
        </p:nvCxnSpPr>
        <p:spPr>
          <a:xfrm>
            <a:off x="848880" y="2931840"/>
            <a:ext cx="1080" cy="2926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89" name="カギ線コネクタ 23"/>
          <p:cNvCxnSpPr/>
          <p:nvPr/>
        </p:nvCxnSpPr>
        <p:spPr>
          <a:xfrm flipH="1" rot="16200000">
            <a:off x="762840" y="3670920"/>
            <a:ext cx="513360" cy="340200"/>
          </a:xfrm>
          <a:prstGeom prst="bentConnector2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0" name="直線矢印コネクタ 36"/>
          <p:cNvCxnSpPr/>
          <p:nvPr/>
        </p:nvCxnSpPr>
        <p:spPr>
          <a:xfrm>
            <a:off x="848880" y="2317680"/>
            <a:ext cx="1080" cy="2548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1" name="直線矢印コネクタ 46"/>
          <p:cNvCxnSpPr/>
          <p:nvPr/>
        </p:nvCxnSpPr>
        <p:spPr>
          <a:xfrm>
            <a:off x="2690280" y="4096800"/>
            <a:ext cx="443880" cy="10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2" name="直線矢印コネクタ 48"/>
          <p:cNvCxnSpPr/>
          <p:nvPr/>
        </p:nvCxnSpPr>
        <p:spPr>
          <a:xfrm flipV="1">
            <a:off x="4465800" y="4096440"/>
            <a:ext cx="468720" cy="10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3" name="直線矢印コネクタ 51"/>
          <p:cNvCxnSpPr/>
          <p:nvPr/>
        </p:nvCxnSpPr>
        <p:spPr>
          <a:xfrm>
            <a:off x="5652720" y="4096800"/>
            <a:ext cx="361080" cy="108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94" name="直線矢印コネクタ 80"/>
          <p:cNvCxnSpPr/>
          <p:nvPr/>
        </p:nvCxnSpPr>
        <p:spPr>
          <a:xfrm flipV="1">
            <a:off x="7435800" y="4096440"/>
            <a:ext cx="310320" cy="2520"/>
          </a:xfrm>
          <a:prstGeom prst="straightConnector1">
            <a:avLst/>
          </a:prstGeom>
          <a:ln w="9360">
            <a:solidFill>
              <a:srgbClr val="777777"/>
            </a:solidFill>
            <a:miter/>
            <a:tailEnd len="med" type="arrow" w="med"/>
          </a:ln>
        </p:spPr>
      </p:cxnSp>
      <p:pic>
        <p:nvPicPr>
          <p:cNvPr id="95" name="Diagram 2" descr=""/>
          <p:cNvPicPr/>
          <p:nvPr/>
        </p:nvPicPr>
        <p:blipFill>
          <a:blip r:embed="rId1"/>
          <a:stretch/>
        </p:blipFill>
        <p:spPr>
          <a:xfrm>
            <a:off x="469800" y="3584520"/>
            <a:ext cx="8277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49:41Z</dcterms:created>
  <dc:creator>Juan Ramos Garcia</dc:creator>
  <dc:description/>
  <dc:language>en-US</dc:language>
  <cp:lastModifiedBy>Romain Hubert</cp:lastModifiedBy>
  <cp:lastPrinted>2013-11-11T18:16:19Z</cp:lastPrinted>
  <dcterms:modified xsi:type="dcterms:W3CDTF">2013-11-11T18:18:18Z</dcterms:modified>
  <cp:revision>67</cp:revision>
  <dc:subject/>
  <dc:title>Underlying principles of the Commission’s policy making  Marianne Klingbeil</dc:title>
</cp:coreProperties>
</file>