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6D0-BC74-4870-9752-B555D9F5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113-A179-4C11-8647-E8E9CBED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A20-51D0-441A-A28D-0776EF4E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43C-2DD7-4632-8018-828B2EA2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427-B6BA-4084-BA32-027BA3C4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986-3C73-4125-97AC-0D60BE0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3F8-D9CA-4164-9C78-D67A9FA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6D3-77BA-4C97-AE99-4DDF763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F19-B840-4112-9235-CEC8073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61E-D844-463E-8DF6-6C400F9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8A2-6DCB-4C55-B923-ECDC016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C1D-3540-4C41-BA11-A1B7C29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A493-D71A-48EE-B1BE-894EE2BE23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81BC-DB89-4E3F-98B8-423942662B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DD2-E363-43CF-8C9C-A471CEFA9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324000" y="1187280"/>
            <a:ext cx="8496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59 - March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entation of a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st draft proposal for revision 3 of the 1958 Agreemen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P.29-159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ice by WP.29 o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main outstanding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l of ambi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respect to the list of 50 action items previously endorsed by WP.29 and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cifying the administrative provisions for the type approval procedu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tion of the 6 months notifica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cedure and the possible need to change 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dition of the formal adop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a new Regulation or an amendment to an existing Regul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change of type-approval data and 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e of DETA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his proc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of Regulations annexed to the 1958 Agreement for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certification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P.29 Chair requested the informal group to submit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l draft for revision 3 of the 1958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consideration at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3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ession on the basis of a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ficia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08000" y="11592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ted by IWVTA Chair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document WP.29-16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9CB-1B35-4615-A928-6A17BF2F16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0  - June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 on the review of the 1958 Agreement presented (WP.29-160-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noted that it would be proposed that the current text of the Agreement o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certificat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ould remain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agreed on the need to establish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noted that som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open issue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ve still to be resolved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l of ambition with respect to the "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tantial and editorial" amendments to the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cifying the administrative and procedural provisions applicable to all UN Regulations annexed to the 1958 Agre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urged the IWVTA subgroup on the 1958 Agreemen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resolve the open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eed to have a detailed discuss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 this subjec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the November 2013 sess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FB4-648D-4F95-BB2F-7474F4B24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1  - November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al submiss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consolidated drafting proposals for revision 3 of the 1958 Agreement (ECE/TRANS/WP.29/2013/134) for consideration by WP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main outstanding issues resolved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informal document WP.29-161-1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eement on level of ambition with respect to the "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tantial and editorial" amendments to the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and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s been clarified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confirmed (by OLA)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schedule of administrative and procedural provisions – SAP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hs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tification procedur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tained, with faster processing through UNECE Secretari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ion of provisions enabling the use of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s to self-certificat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ext of the Agreement re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feature to increase attractivenes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Ps can vote in favour of new UN Regulations without being obliged to start applying them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298B-1E4F-4F9E-8A02-0A405B1F8C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1  - November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jor proposal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imed a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the 1958 Agreement more attractiv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will be able to issue and accep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pe-approvals according to earlier versions of UN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can delegate in writing the right to vote on its behalf to another CP or regional economic integration organization to which the CP belongs (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xy vot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can vote in favour of new UN Regulations without being obliged to start applying them immediately (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ght to start applying at a later stag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issu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consideration and decision by WP.29: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there – in addition - a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to increase the 2/3 majority threshold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establishing new UN Regulations and amendments to existing UN Regulations to make the 1958 Agreement more attractive?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E88-A681-4AE7-BB71-7964E9F6B3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ext steps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Contracting Parties to the 1958 Agreement are invited as from now to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rutinise the formal proposal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revision 3 of the 1958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eedback at the WP.29 session in March 2014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 any outstanding questions, comments, concerns, need for clarification they may have with regard to the proposed ame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will, after having considered outstanding issues raised by Contracting Parties,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the IWVTA informal group to address and resolve these outstanding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consideration by WP.29 i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 to all outstanding issues satisfactorily resolved, WP.29 shall verify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ther unanimity by all Contracting Parties to the 1958 Agreement can be achieved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the amending proposals (March 20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ormal 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icle 13 procedure for amending the 1958 Agreemen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ll be launched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June 2015) after which the 6 + 3 months periods will start.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cipated entry into force of revision 3 of the Agreement:  March 2016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648-48B5-4354-8043-F82D8DEC58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ext steps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"/>
          <p:cNvSpPr/>
          <p:nvPr/>
        </p:nvSpPr>
        <p:spPr>
          <a:xfrm>
            <a:off x="490680" y="193824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4"/>
          <p:cNvSpPr/>
          <p:nvPr/>
        </p:nvSpPr>
        <p:spPr>
          <a:xfrm>
            <a:off x="490680" y="255276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5"/>
          <p:cNvSpPr/>
          <p:nvPr/>
        </p:nvSpPr>
        <p:spPr>
          <a:xfrm>
            <a:off x="490680" y="320508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6"/>
          <p:cNvSpPr/>
          <p:nvPr/>
        </p:nvSpPr>
        <p:spPr>
          <a:xfrm>
            <a:off x="1189080" y="3898800"/>
            <a:ext cx="150156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7"/>
          <p:cNvSpPr/>
          <p:nvPr/>
        </p:nvSpPr>
        <p:spPr>
          <a:xfrm>
            <a:off x="3133800" y="3898800"/>
            <a:ext cx="133200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retar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8"/>
          <p:cNvSpPr/>
          <p:nvPr/>
        </p:nvSpPr>
        <p:spPr>
          <a:xfrm>
            <a:off x="4933800" y="3898800"/>
            <a:ext cx="71928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9"/>
          <p:cNvSpPr/>
          <p:nvPr/>
        </p:nvSpPr>
        <p:spPr>
          <a:xfrm>
            <a:off x="6013440" y="3898800"/>
            <a:ext cx="142236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retar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16"/>
          <p:cNvCxnSpPr>
            <a:stCxn id="61" idx="2"/>
            <a:endCxn id="62" idx="0"/>
          </p:cNvCxnSpPr>
          <p:nvPr/>
        </p:nvCxnSpPr>
        <p:spPr>
          <a:xfrm>
            <a:off x="848880" y="2912760"/>
            <a:ext cx="1080" cy="2926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68" name="カギ線コネクタ 23"/>
          <p:cNvCxnSpPr>
            <a:stCxn id="62" idx="2"/>
            <a:endCxn id="63" idx="1"/>
          </p:cNvCxnSpPr>
          <p:nvPr/>
        </p:nvCxnSpPr>
        <p:spPr>
          <a:xfrm flipH="1" rot="16200000">
            <a:off x="762480" y="3651840"/>
            <a:ext cx="513720" cy="340200"/>
          </a:xfrm>
          <a:prstGeom prst="bentConnector2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69" name="直線矢印コネクタ 36"/>
          <p:cNvCxnSpPr>
            <a:stCxn id="60" idx="2"/>
            <a:endCxn id="61" idx="0"/>
          </p:cNvCxnSpPr>
          <p:nvPr/>
        </p:nvCxnSpPr>
        <p:spPr>
          <a:xfrm>
            <a:off x="848880" y="2298600"/>
            <a:ext cx="1080" cy="2548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70" name="テキスト ボックス 39"/>
          <p:cNvSpPr/>
          <p:nvPr/>
        </p:nvSpPr>
        <p:spPr>
          <a:xfrm>
            <a:off x="1322280" y="1992240"/>
            <a:ext cx="625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posal for Revision 3 to the 1958 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0"/>
          <p:cNvSpPr/>
          <p:nvPr/>
        </p:nvSpPr>
        <p:spPr>
          <a:xfrm>
            <a:off x="1353960" y="260496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ider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1"/>
          <p:cNvSpPr/>
          <p:nvPr/>
        </p:nvSpPr>
        <p:spPr>
          <a:xfrm>
            <a:off x="2386080" y="4299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3-6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46"/>
          <p:cNvCxnSpPr>
            <a:stCxn id="63" idx="3"/>
            <a:endCxn id="64" idx="1"/>
          </p:cNvCxnSpPr>
          <p:nvPr/>
        </p:nvCxnSpPr>
        <p:spPr>
          <a:xfrm>
            <a:off x="2690280" y="4078080"/>
            <a:ext cx="44388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74" name="直線矢印コネクタ 48"/>
          <p:cNvCxnSpPr>
            <a:stCxn id="64" idx="3"/>
            <a:endCxn id="65" idx="1"/>
          </p:cNvCxnSpPr>
          <p:nvPr/>
        </p:nvCxnSpPr>
        <p:spPr>
          <a:xfrm flipV="1">
            <a:off x="4465800" y="4077720"/>
            <a:ext cx="46872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75" name="直線矢印コネクタ 51"/>
          <p:cNvCxnSpPr>
            <a:stCxn id="65" idx="3"/>
            <a:endCxn id="66" idx="1"/>
          </p:cNvCxnSpPr>
          <p:nvPr/>
        </p:nvCxnSpPr>
        <p:spPr>
          <a:xfrm>
            <a:off x="5652720" y="4078080"/>
            <a:ext cx="36108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76" name="テキスト ボックス 61"/>
          <p:cNvSpPr/>
          <p:nvPr/>
        </p:nvSpPr>
        <p:spPr>
          <a:xfrm>
            <a:off x="1287360" y="3178080"/>
            <a:ext cx="167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ify whether unanimity can be achie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63"/>
          <p:cNvSpPr/>
          <p:nvPr/>
        </p:nvSpPr>
        <p:spPr>
          <a:xfrm>
            <a:off x="2997360" y="3467160"/>
            <a:ext cx="17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otification (Beginning of the 6 months perio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64"/>
          <p:cNvSpPr/>
          <p:nvPr/>
        </p:nvSpPr>
        <p:spPr>
          <a:xfrm>
            <a:off x="6016680" y="3467160"/>
            <a:ext cx="142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otification (Objections, if a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79"/>
          <p:cNvSpPr/>
          <p:nvPr/>
        </p:nvSpPr>
        <p:spPr>
          <a:xfrm>
            <a:off x="7745400" y="3898800"/>
            <a:ext cx="94464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80"/>
          <p:cNvCxnSpPr>
            <a:stCxn id="66" idx="3"/>
            <a:endCxn id="79" idx="1"/>
          </p:cNvCxnSpPr>
          <p:nvPr/>
        </p:nvCxnSpPr>
        <p:spPr>
          <a:xfrm flipV="1">
            <a:off x="7435800" y="4078080"/>
            <a:ext cx="310320" cy="216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81" name="上カーブ矢印 99"/>
          <p:cNvSpPr/>
          <p:nvPr/>
        </p:nvSpPr>
        <p:spPr>
          <a:xfrm>
            <a:off x="2197080" y="4311720"/>
            <a:ext cx="1174680" cy="298440"/>
          </a:xfrm>
          <a:custGeom>
            <a:avLst/>
            <a:gdLst>
              <a:gd name="textAreaLeft" fmla="*/ 265680 w 1174680"/>
              <a:gd name="textAreaRight" fmla="*/ 871920 w 117468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-3616987"/>
                <a:lnTo>
                  <a:pt x="21290" y="5400"/>
                </a:lnTo>
                <a:lnTo>
                  <a:pt x="20228" y="0"/>
                </a:lnTo>
                <a:lnTo>
                  <a:pt x="18546" y="5400"/>
                </a:lnTo>
                <a:lnTo>
                  <a:pt x="19232" y="5400"/>
                </a:lnTo>
                <a:arcTo wR="9771" hR="21600" stAng="1783013" swAng="3507574"/>
                <a:lnTo>
                  <a:pt x="10457" y="21547"/>
                </a:lnTo>
                <a:arcTo wR="9771" hR="21600" stAng="5509413" swAng="5290587"/>
                <a:close/>
              </a:path>
              <a:path fill="darkenLess"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109413"/>
                <a:lnTo>
                  <a:pt x="10457" y="21547"/>
                </a:lnTo>
                <a:arcTo wR="9771" hR="21600" stAng="5509413" swAng="5290587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上カーブ矢印 102"/>
          <p:cNvSpPr/>
          <p:nvPr/>
        </p:nvSpPr>
        <p:spPr>
          <a:xfrm>
            <a:off x="4335480" y="4325760"/>
            <a:ext cx="1955880" cy="297000"/>
          </a:xfrm>
          <a:custGeom>
            <a:avLst/>
            <a:gdLst>
              <a:gd name="textAreaLeft" fmla="*/ 461160 w 1955880"/>
              <a:gd name="textAreaRight" fmla="*/ 1457640 w 195588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5" y="21600"/>
                </a:lnTo>
                <a:arcTo wR="10186" hR="21600" stAng="5400000" swAng="-3677819"/>
                <a:lnTo>
                  <a:pt x="21277" y="5400"/>
                </a:lnTo>
                <a:lnTo>
                  <a:pt x="20781" y="0"/>
                </a:lnTo>
                <a:lnTo>
                  <a:pt x="19638" y="5400"/>
                </a:lnTo>
                <a:lnTo>
                  <a:pt x="20048" y="5400"/>
                </a:lnTo>
                <a:arcTo wR="10186" hR="21600" stAng="1722181" swAng="3612600"/>
                <a:lnTo>
                  <a:pt x="10595" y="21583"/>
                </a:lnTo>
                <a:arcTo wR="10186" hR="21600" stAng="5465219" swAng="533478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5" y="21600"/>
                </a:lnTo>
                <a:arcTo wR="10186" hR="21600" stAng="5400000" swAng="65219"/>
                <a:lnTo>
                  <a:pt x="10595" y="21583"/>
                </a:lnTo>
                <a:arcTo wR="10186" hR="21600" stAng="5465219" swAng="5334781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04"/>
          <p:cNvSpPr/>
          <p:nvPr/>
        </p:nvSpPr>
        <p:spPr>
          <a:xfrm>
            <a:off x="4933800" y="4299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148"/>
          <p:cNvSpPr/>
          <p:nvPr/>
        </p:nvSpPr>
        <p:spPr>
          <a:xfrm>
            <a:off x="4933800" y="3467160"/>
            <a:ext cx="77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ossibility to op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48"/>
          <p:cNvSpPr/>
          <p:nvPr/>
        </p:nvSpPr>
        <p:spPr>
          <a:xfrm>
            <a:off x="7682040" y="3556080"/>
            <a:ext cx="102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ntry into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41"/>
          <p:cNvSpPr/>
          <p:nvPr/>
        </p:nvSpPr>
        <p:spPr>
          <a:xfrm>
            <a:off x="7321680" y="434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3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カーブ矢印 99"/>
          <p:cNvSpPr/>
          <p:nvPr/>
        </p:nvSpPr>
        <p:spPr>
          <a:xfrm>
            <a:off x="7132680" y="4359240"/>
            <a:ext cx="1174680" cy="298440"/>
          </a:xfrm>
          <a:custGeom>
            <a:avLst/>
            <a:gdLst>
              <a:gd name="textAreaLeft" fmla="*/ 265680 w 1174680"/>
              <a:gd name="textAreaRight" fmla="*/ 871920 w 117468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-3616987"/>
                <a:lnTo>
                  <a:pt x="21290" y="5400"/>
                </a:lnTo>
                <a:lnTo>
                  <a:pt x="20228" y="0"/>
                </a:lnTo>
                <a:lnTo>
                  <a:pt x="18546" y="5400"/>
                </a:lnTo>
                <a:lnTo>
                  <a:pt x="19232" y="5400"/>
                </a:lnTo>
                <a:arcTo wR="9771" hR="21600" stAng="1783013" swAng="3507574"/>
                <a:lnTo>
                  <a:pt x="10457" y="21547"/>
                </a:lnTo>
                <a:arcTo wR="9771" hR="21600" stAng="5509413" swAng="5290587"/>
                <a:close/>
              </a:path>
              <a:path fill="darkenLess"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109413"/>
                <a:lnTo>
                  <a:pt x="10457" y="21547"/>
                </a:lnTo>
                <a:arcTo wR="9771" hR="21600" stAng="5509413" swAng="5290587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線矢印コネクタ 16"/>
          <p:cNvCxnSpPr/>
          <p:nvPr/>
        </p:nvCxnSpPr>
        <p:spPr>
          <a:xfrm>
            <a:off x="848880" y="2931840"/>
            <a:ext cx="1080" cy="2926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89" name="カギ線コネクタ 23"/>
          <p:cNvCxnSpPr/>
          <p:nvPr/>
        </p:nvCxnSpPr>
        <p:spPr>
          <a:xfrm flipH="1" rot="16200000">
            <a:off x="762840" y="3670920"/>
            <a:ext cx="513360" cy="340200"/>
          </a:xfrm>
          <a:prstGeom prst="bentConnector2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0" name="直線矢印コネクタ 36"/>
          <p:cNvCxnSpPr/>
          <p:nvPr/>
        </p:nvCxnSpPr>
        <p:spPr>
          <a:xfrm>
            <a:off x="848880" y="2317680"/>
            <a:ext cx="1080" cy="2548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1" name="直線矢印コネクタ 46"/>
          <p:cNvCxnSpPr/>
          <p:nvPr/>
        </p:nvCxnSpPr>
        <p:spPr>
          <a:xfrm>
            <a:off x="2690280" y="4096800"/>
            <a:ext cx="44388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2" name="直線矢印コネクタ 48"/>
          <p:cNvCxnSpPr/>
          <p:nvPr/>
        </p:nvCxnSpPr>
        <p:spPr>
          <a:xfrm flipV="1">
            <a:off x="4465800" y="4096440"/>
            <a:ext cx="46872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3" name="直線矢印コネクタ 51"/>
          <p:cNvCxnSpPr/>
          <p:nvPr/>
        </p:nvCxnSpPr>
        <p:spPr>
          <a:xfrm>
            <a:off x="5652720" y="4096800"/>
            <a:ext cx="36108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4" name="直線矢印コネクタ 80"/>
          <p:cNvCxnSpPr/>
          <p:nvPr/>
        </p:nvCxnSpPr>
        <p:spPr>
          <a:xfrm flipV="1">
            <a:off x="7435800" y="4096440"/>
            <a:ext cx="310320" cy="252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pic>
        <p:nvPicPr>
          <p:cNvPr id="95" name="Diagram 2" descr=""/>
          <p:cNvPicPr/>
          <p:nvPr/>
        </p:nvPicPr>
        <p:blipFill>
          <a:blip r:embed="rId1"/>
          <a:stretch/>
        </p:blipFill>
        <p:spPr>
          <a:xfrm>
            <a:off x="469800" y="3584520"/>
            <a:ext cx="8277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49:41Z</dcterms:created>
  <dc:creator>Juan Ramos Garcia</dc:creator>
  <dc:description/>
  <dc:language>en-US</dc:language>
  <cp:lastModifiedBy>Romain Hubert</cp:lastModifiedBy>
  <cp:lastPrinted>2013-11-11T18:16:19Z</cp:lastPrinted>
  <dcterms:modified xsi:type="dcterms:W3CDTF">2013-11-11T18:18:18Z</dcterms:modified>
  <cp:revision>67</cp:revision>
  <dc:subject/>
  <dc:title>Underlying principles of the Commission’s policy making  Marianne Klingbeil</dc:title>
</cp:coreProperties>
</file>