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07E-B359-4239-A986-0170F4E52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DFB-1872-4695-9ED4-9D513922CD53}" type="slidenum">
              <a:rPr b="0" lang="en-US" sz="1200" spc="-1" strike="noStrike">
                <a:solidFill>
                  <a:srgbClr val="1d52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D069-BBE8-4E71-A417-77749999F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E0D1-733F-44FD-8A8A-54B78DF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2B09-74A2-4201-BBFD-2ED7D90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6E20-1C32-46B7-A999-06D5C09D4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41DA-F5A8-4358-98EB-96DB1F6E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E9D95-3F22-4D66-99E7-42E6E0C1F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B3FB9-94E4-4DD8-A620-43B7E34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B83A-A49B-43E5-BAEE-EA988EC5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DB93-BA12-4670-849E-E1ABAF09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8688D-86B9-4357-8C69-BE82E50D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2319-86FF-4225-8FA2-EEE038BA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FF9A5-3759-49EB-94E9-AB1C41D2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DB481-984B-448A-9F3C-1EA7C0C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BD230-8131-4D19-8A37-3B0C3193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26144-9528-459B-9D40-A36722A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81A38-87FE-4444-8C79-59196C99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3FD52-D5F2-4A35-8843-07C9E0E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4D700-DF19-4185-A044-D20372009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A0BB-17B0-45DA-8102-574F23DEC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405A-6C20-46CB-8BB0-D98F431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4964-5A59-4FF8-B98C-056FAE5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F728-4601-429A-9223-E8D23E90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A7C7-D79F-4A74-A4F3-38B4805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C05-48D6-4FEC-BBAB-CEEC068F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2F87-1E54-4928-8C49-8DC77C97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B9E4-97F1-4ED7-8143-24DC548F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B019-1A77-45A7-91A3-3B0206B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0A09-67C9-47E9-A7CE-6E948B7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FA1-105C-4769-8822-60B234A4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C1D7-CE2E-4962-82B8-D2216FC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636-6131-441A-84E9-F4A083618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DCA63-7CF9-4BF1-AFA2-F3247C491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0796-D99D-4797-A3C2-363157DC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C61D9-1B2F-418B-8473-E1BA78A9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5F8F6-4C72-4086-82B7-CE16A989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78455-DC58-4222-A8E3-5944AC55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162E1-CF45-418E-A52D-0071EBE4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AD18B-4E61-47DB-AC03-079E1152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2AE70-BB69-4E1A-9A18-E7E4D5C6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30613-4CDF-4F43-B98D-0730C34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65206-FDA9-4DD7-8966-BC0B3A9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517F9-5EBC-4D1C-9480-894E6C1D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A0290-3190-46F3-A459-D65785B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03A0-7D7C-4EA4-B89C-DDF787AE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956DD-305F-422D-888E-EAC104251B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40A9A-F028-469C-ACB8-906B4C9A1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63D42-2EF1-40A8-B682-7323C059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04AA0-26F1-42AB-BB36-03242E59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21E67-FDDC-4F4B-8EC3-81477A1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4C999-B35E-40A2-91CF-8075B775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2930D-6B7E-4A9F-9D57-CF203F75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D5D41-4A63-4541-8717-0DB66DC7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02963-DDF2-4BBB-83C7-A76EA18E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AB288-412F-455C-B0C2-D1321E64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DAD0-0693-48E7-8657-5D5FA52A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C4369-B1C5-41C7-8FBE-1D0A849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82A78-8248-4B41-9525-F4707AB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5712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FA0CF-4B4D-4902-9CFA-2B7780E5A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5712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B88C-3147-410B-B07B-EE51CFF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712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4D50-8EEF-4C2D-8A15-7C41A39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28600"/>
            <a:ext cx="9156600" cy="914400"/>
            <a:chOff x="0" y="228600"/>
            <a:chExt cx="9156600" cy="914400"/>
          </a:xfrm>
        </p:grpSpPr>
        <p:sp>
          <p:nvSpPr>
            <p:cNvPr id="1" name="Rectangle 12"/>
            <p:cNvSpPr/>
            <p:nvPr/>
          </p:nvSpPr>
          <p:spPr>
            <a:xfrm>
              <a:off x="2880" y="228600"/>
              <a:ext cx="9153720" cy="914400"/>
            </a:xfrm>
            <a:prstGeom prst="rect">
              <a:avLst/>
            </a:prstGeom>
            <a:gradFill rotWithShape="0">
              <a:gsLst>
                <a:gs pos="0">
                  <a:srgbClr val="85e0ff"/>
                </a:gs>
                <a:gs pos="100000">
                  <a:srgbClr val="326a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28600"/>
              <a:ext cx="5551560" cy="325440"/>
            </a:xfrm>
            <a:custGeom>
              <a:avLst/>
              <a:gdLst>
                <a:gd name="textAreaLeft" fmla="*/ 0 w 5551560"/>
                <a:gd name="textAreaRight" fmla="*/ 5551560 w 5551560"/>
                <a:gd name="textAreaTop" fmla="*/ 360 h 325440"/>
                <a:gd name="textAreaBottom" fmla="*/ 326160 h 325440"/>
              </a:gdLst>
              <a:ahLst/>
              <a:rect l="textAreaLeft" t="textAreaTop" r="textAreaRight" b="textAreaBottom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c2f0ff"/>
                </a:gs>
                <a:gs pos="100000">
                  <a:srgbClr val="326a9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685080"/>
              <a:ext cx="5876640" cy="447840"/>
            </a:xfrm>
            <a:custGeom>
              <a:avLst/>
              <a:gdLst>
                <a:gd name="textAreaLeft" fmla="*/ 0 w 5876640"/>
                <a:gd name="textAreaRight" fmla="*/ 5877000 w 58766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85e0ff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fabd5"/>
              </a:gs>
              <a:gs pos="100000">
                <a:srgbClr val="34218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266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a94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A4F-74B5-4A06-A49C-9AF1107AF6B6}" type="slidenum">
              <a:rPr b="0" lang="en-US" sz="1400" spc="-1" strike="noStrike">
                <a:solidFill>
                  <a:srgbClr val="326a9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2" descr="Humanetics_(SM_BLK_Trans).gif"/>
          <p:cNvPicPr/>
          <p:nvPr/>
        </p:nvPicPr>
        <p:blipFill>
          <a:blip r:embed="rId2"/>
          <a:stretch/>
        </p:blipFill>
        <p:spPr>
          <a:xfrm>
            <a:off x="380880" y="6400800"/>
            <a:ext cx="182880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banner.jpg"/>
          <p:cNvPicPr/>
          <p:nvPr/>
        </p:nvPicPr>
        <p:blipFill>
          <a:blip r:embed="rId2"/>
          <a:stretch/>
        </p:blipFill>
        <p:spPr>
          <a:xfrm>
            <a:off x="73080" y="2359080"/>
            <a:ext cx="9004320" cy="18781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6"/>
          <p:cNvGrpSpPr/>
          <p:nvPr/>
        </p:nvGrpSpPr>
        <p:grpSpPr>
          <a:xfrm>
            <a:off x="69840" y="4267080"/>
            <a:ext cx="9074160" cy="2521080"/>
            <a:chOff x="69840" y="4267080"/>
            <a:chExt cx="9074160" cy="2521080"/>
          </a:xfrm>
        </p:grpSpPr>
        <p:sp>
          <p:nvSpPr>
            <p:cNvPr id="48" name="Rectangle 17"/>
            <p:cNvSpPr/>
            <p:nvPr/>
          </p:nvSpPr>
          <p:spPr>
            <a:xfrm>
              <a:off x="69840" y="4267080"/>
              <a:ext cx="9074160" cy="25210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Rectangle 18"/>
            <p:cNvSpPr/>
            <p:nvPr/>
          </p:nvSpPr>
          <p:spPr>
            <a:xfrm>
              <a:off x="69840" y="426708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59595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afabd5"/>
              </a:gs>
              <a:gs pos="100000">
                <a:srgbClr val="3421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2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57" name="Picture 15" descr="Humanetics_(SM_BLK_Trans).gif"/>
          <p:cNvPicPr/>
          <p:nvPr/>
        </p:nvPicPr>
        <p:blipFill>
          <a:blip r:embed="rId3"/>
          <a:stretch/>
        </p:blipFill>
        <p:spPr>
          <a:xfrm>
            <a:off x="228600" y="6127920"/>
            <a:ext cx="2133720" cy="441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1"/>
          <p:cNvGrpSpPr/>
          <p:nvPr/>
        </p:nvGrpSpPr>
        <p:grpSpPr>
          <a:xfrm>
            <a:off x="0" y="0"/>
            <a:ext cx="9144000" cy="6931800"/>
            <a:chOff x="0" y="0"/>
            <a:chExt cx="9144000" cy="6931800"/>
          </a:xfrm>
        </p:grpSpPr>
        <p:grpSp>
          <p:nvGrpSpPr>
            <p:cNvPr id="97" name="Rectangle 12"/>
            <p:cNvGrpSpPr/>
            <p:nvPr/>
          </p:nvGrpSpPr>
          <p:grpSpPr>
            <a:xfrm>
              <a:off x="0" y="0"/>
              <a:ext cx="9144000" cy="6856200"/>
              <a:chOff x="0" y="0"/>
              <a:chExt cx="9144000" cy="6856200"/>
            </a:xfrm>
          </p:grpSpPr>
          <p:pic>
            <p:nvPicPr>
              <p:cNvPr id="98" name="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685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2880" y="5760"/>
                <a:ext cx="9135000" cy="68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0" name="Freeform 13"/>
            <p:cNvSpPr/>
            <p:nvPr/>
          </p:nvSpPr>
          <p:spPr>
            <a:xfrm flipH="1" flipV="1">
              <a:off x="3589560" y="9000"/>
              <a:ext cx="5539680" cy="2437560"/>
            </a:xfrm>
            <a:custGeom>
              <a:avLst/>
              <a:gdLst>
                <a:gd name="textAreaLeft" fmla="*/ 0 w 5539680"/>
                <a:gd name="textAreaRight" fmla="*/ 5539680 w 5539680"/>
                <a:gd name="textAreaTop" fmla="*/ -360 h 2437560"/>
                <a:gd name="textAreaBottom" fmla="*/ 2437560 h 2437560"/>
              </a:gdLst>
              <a:ahLst/>
              <a:rect l="textAreaLeft" t="textAreaTop" r="textAreaRight" b="textAreaBottom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8781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0" y="3579480"/>
              <a:ext cx="5864400" cy="3352320"/>
            </a:xfrm>
            <a:custGeom>
              <a:avLst/>
              <a:gdLst>
                <a:gd name="textAreaLeft" fmla="*/ 0 w 5864400"/>
                <a:gd name="textAreaRight" fmla="*/ 5864760 w 586440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7370b4"/>
                </a:gs>
                <a:gs pos="100000">
                  <a:srgbClr val="a5a1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102" name="Picture 10" descr="Humanetics_(SM_BLK_Trans).gif"/>
          <p:cNvPicPr/>
          <p:nvPr/>
        </p:nvPicPr>
        <p:blipFill>
          <a:blip r:embed="rId3"/>
          <a:stretch/>
        </p:blipFill>
        <p:spPr>
          <a:xfrm>
            <a:off x="6629400" y="214200"/>
            <a:ext cx="2286000" cy="471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4266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232-6AB4-43CC-9EA5-86F2506799B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152280" y="6553080"/>
            <a:ext cx="8534520" cy="152640"/>
          </a:xfrm>
          <a:prstGeom prst="rect">
            <a:avLst/>
          </a:prstGeom>
          <a:gradFill rotWithShape="0">
            <a:gsLst>
              <a:gs pos="0">
                <a:srgbClr val="afabd5"/>
              </a:gs>
              <a:gs pos="100000">
                <a:srgbClr val="605ca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4" name="Picture 1" descr="C:\Documents and Settings\lpan\Desktop\trans.gif"/>
          <p:cNvPicPr/>
          <p:nvPr/>
        </p:nvPicPr>
        <p:blipFill>
          <a:blip r:embed="rId2"/>
          <a:stretch/>
        </p:blipFill>
        <p:spPr>
          <a:xfrm>
            <a:off x="111240" y="228600"/>
            <a:ext cx="345960" cy="1676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 rot="5400000">
            <a:off x="-792360" y="30016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a94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6"/>
          </p:nvPr>
        </p:nvSpPr>
        <p:spPr>
          <a:xfrm rot="5400000">
            <a:off x="-792360" y="521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CC5C-3A63-463C-9091-FB91682FA7EE}" type="slidenum">
              <a:rPr b="0" lang="en-US" sz="1400" spc="-1" strike="noStrike">
                <a:solidFill>
                  <a:srgbClr val="326a9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C:\Documents and Settings\lpan\Desktop\Images\Edited\downward.gif"/>
          <p:cNvPicPr/>
          <p:nvPr/>
        </p:nvPicPr>
        <p:blipFill>
          <a:blip r:embed="rId2"/>
          <a:stretch/>
        </p:blipFill>
        <p:spPr>
          <a:xfrm>
            <a:off x="6778800" y="3651120"/>
            <a:ext cx="2371680" cy="3213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5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fabd5">
                  <a:alpha val="50196"/>
                </a:srgbClr>
              </a:gs>
              <a:gs pos="100000">
                <a:srgbClr val="605ca9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7" name="Picture 11" descr="Humanetics_(SM_BLK_Trans).gif"/>
          <p:cNvPicPr/>
          <p:nvPr/>
        </p:nvPicPr>
        <p:blipFill>
          <a:blip r:embed="rId3"/>
          <a:stretch/>
        </p:blipFill>
        <p:spPr>
          <a:xfrm>
            <a:off x="6705720" y="168120"/>
            <a:ext cx="2286000" cy="471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266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a94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8F05-778F-4C79-92E2-F25CA8A0340F}" type="slidenum">
              <a:rPr b="0" lang="en-US" sz="1400" spc="-1" strike="noStrike">
                <a:solidFill>
                  <a:srgbClr val="326a9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1"/>
          <p:cNvGrpSpPr/>
          <p:nvPr/>
        </p:nvGrpSpPr>
        <p:grpSpPr>
          <a:xfrm>
            <a:off x="0" y="228600"/>
            <a:ext cx="9156600" cy="914400"/>
            <a:chOff x="0" y="228600"/>
            <a:chExt cx="9156600" cy="914400"/>
          </a:xfrm>
        </p:grpSpPr>
        <p:sp>
          <p:nvSpPr>
            <p:cNvPr id="229" name="Rectangle 12"/>
            <p:cNvSpPr/>
            <p:nvPr/>
          </p:nvSpPr>
          <p:spPr>
            <a:xfrm>
              <a:off x="2880" y="228600"/>
              <a:ext cx="9153720" cy="914400"/>
            </a:xfrm>
            <a:prstGeom prst="rect">
              <a:avLst/>
            </a:prstGeom>
            <a:gradFill rotWithShape="0">
              <a:gsLst>
                <a:gs pos="0">
                  <a:srgbClr val="85e0ff"/>
                </a:gs>
                <a:gs pos="100000">
                  <a:srgbClr val="326a9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 flipH="1" flipV="1">
              <a:off x="3596400" y="228600"/>
              <a:ext cx="5551560" cy="325440"/>
            </a:xfrm>
            <a:custGeom>
              <a:avLst/>
              <a:gdLst>
                <a:gd name="textAreaLeft" fmla="*/ 0 w 5551560"/>
                <a:gd name="textAreaRight" fmla="*/ 5551560 w 5551560"/>
                <a:gd name="textAreaTop" fmla="*/ 360 h 325440"/>
                <a:gd name="textAreaBottom" fmla="*/ 326160 h 325440"/>
              </a:gdLst>
              <a:ahLst/>
              <a:rect l="textAreaLeft" t="textAreaTop" r="textAreaRight" b="textAreaBottom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c2f0ff"/>
                </a:gs>
                <a:gs pos="100000">
                  <a:srgbClr val="326a9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0" y="685080"/>
              <a:ext cx="5876640" cy="447840"/>
            </a:xfrm>
            <a:custGeom>
              <a:avLst/>
              <a:gdLst>
                <a:gd name="textAreaLeft" fmla="*/ 0 w 5876640"/>
                <a:gd name="textAreaRight" fmla="*/ 5877000 w 58766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85e0ff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15"/>
          <p:cNvSpPr/>
          <p:nvPr/>
        </p:nvSpPr>
        <p:spPr>
          <a:xfrm>
            <a:off x="144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fabd5"/>
              </a:gs>
              <a:gs pos="100000">
                <a:srgbClr val="34218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33" name="Picture 12" descr="Humanetics_(SM_BLK_Trans).gif"/>
          <p:cNvPicPr/>
          <p:nvPr/>
        </p:nvPicPr>
        <p:blipFill>
          <a:blip r:embed="rId2"/>
          <a:stretch/>
        </p:blipFill>
        <p:spPr>
          <a:xfrm>
            <a:off x="380880" y="6400800"/>
            <a:ext cx="1828800" cy="37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Garamond Premr Pro"/>
              <a:buChar char="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9"/>
          </p:nvPr>
        </p:nvSpPr>
        <p:spPr>
          <a:xfrm>
            <a:off x="41144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a94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6a9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8FA7-A243-4CA7-B1FE-934F7E01B959}" type="slidenum">
              <a:rPr b="0" lang="en-US" sz="1400" spc="-1" strike="noStrike">
                <a:solidFill>
                  <a:srgbClr val="326a9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Flex PLI GTR Statu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438280" y="49525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-2 Dec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rnard B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011320" cy="42926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5"/>
          <p:cNvSpPr/>
          <p:nvPr/>
        </p:nvSpPr>
        <p:spPr>
          <a:xfrm>
            <a:off x="3063960" y="1676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l Group GTR9 PH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1896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GTR legs manufac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feld 3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umber of GTR Legs Ma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JARI proto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Humanetics for internal testing, demo and C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2 customer legs have been s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legs are on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ustomer legs have onboard 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with optional addition channels up to 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4413240" y="1212840"/>
            <a:ext cx="4584600" cy="5499000"/>
          </a:xfrm>
          <a:prstGeom prst="rect">
            <a:avLst/>
          </a:prstGeom>
          <a:ln w="0">
            <a:noFill/>
          </a:ln>
        </p:spPr>
      </p:pic>
      <p:sp>
        <p:nvSpPr>
          <p:cNvPr id="292" name="Textfeld 4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Flex Statu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oduction legs have Vinyl ester bones (more durable) Some prototypes have been updated to Vinyl 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legs were build passing agreed GTR static component corrid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oduction leg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T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endu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rrid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3 and T4 are usually high and MCL is generally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 legs consist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ver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TR corrid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tibia moment channels are too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very repea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different batches of Vinyl ester bone have been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est experience Humanetics currently manufactures bones to be as close to GTR inverse corridors as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feld 3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2011 Production Pendulum Resul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1447920"/>
          <a:ext cx="8610480" cy="4724280"/>
        </p:xfrm>
        <a:graphic>
          <a:graphicData uri="http://schemas.openxmlformats.org/drawingml/2006/table">
            <a:tbl>
              <a:tblPr/>
              <a:tblGrid>
                <a:gridCol w="1042920"/>
                <a:gridCol w="339840"/>
                <a:gridCol w="347400"/>
                <a:gridCol w="514440"/>
                <a:gridCol w="492120"/>
                <a:gridCol w="449280"/>
                <a:gridCol w="463680"/>
                <a:gridCol w="174600"/>
                <a:gridCol w="492120"/>
                <a:gridCol w="463320"/>
                <a:gridCol w="540000"/>
                <a:gridCol w="166680"/>
                <a:gridCol w="507960"/>
                <a:gridCol w="506160"/>
                <a:gridCol w="500400"/>
                <a:gridCol w="153720"/>
                <a:gridCol w="528840"/>
                <a:gridCol w="463320"/>
                <a:gridCol w="463680"/>
              </a:tblGrid>
              <a:tr h="220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ulum 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H5646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G0726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G6304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H6791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1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1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7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9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2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16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7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5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6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6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site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goya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goya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T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2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5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9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.7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.0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8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3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.2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.3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6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.7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.7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4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.1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8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6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1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9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9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5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4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5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.9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7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1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6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9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9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5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.0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9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.3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6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7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0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4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7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0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09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7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8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8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0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.3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8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5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1cf83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3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4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5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9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5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5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A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8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9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9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7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7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L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P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stiff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thick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4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8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10.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Batc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stiff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thick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6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7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Batc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Assembl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Assembl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ee Assembl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2 turn to spring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LICE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feld 3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2011 Production Inverse Resul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2120" y="1523880"/>
          <a:ext cx="7619760" cy="4267440"/>
        </p:xfrm>
        <a:graphic>
          <a:graphicData uri="http://schemas.openxmlformats.org/drawingml/2006/table">
            <a:tbl>
              <a:tblPr/>
              <a:tblGrid>
                <a:gridCol w="1199880"/>
                <a:gridCol w="390600"/>
                <a:gridCol w="390600"/>
                <a:gridCol w="617400"/>
                <a:gridCol w="592200"/>
                <a:gridCol w="189000"/>
                <a:gridCol w="582480"/>
                <a:gridCol w="608040"/>
                <a:gridCol w="177840"/>
                <a:gridCol w="625680"/>
                <a:gridCol w="599760"/>
                <a:gridCol w="177840"/>
                <a:gridCol w="657360"/>
                <a:gridCol w="177840"/>
                <a:gridCol w="633240"/>
              </a:tblGrid>
              <a:tr h="222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e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H5646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G0726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 DG6304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6791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6014</a:t>
                      </a:r>
                      <a:endParaRPr b="0" lang="en-US" sz="11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9/2011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0/2011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9/2011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16/2011</a:t>
                      </a:r>
                      <a:endParaRPr b="0" lang="en-US" sz="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7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4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0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/20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site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T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T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mout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 Impact velocit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1 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.1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.7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.3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.3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4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.0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2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.0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.9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5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2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.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.3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4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3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0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1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7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3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.0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6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oment @ T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1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2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4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4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0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1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A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7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7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M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PCL Elongation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0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4fd1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7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stiff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thick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4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8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10.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Batc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stiff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thickne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6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7mm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Batch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3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2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bia Assembl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ur Assembl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ee Assembly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</a:t>
                      </a:r>
                      <a:endParaRPr b="0" lang="en-US" sz="9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feld 4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Leg Availability for Test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tics proposes at least 6 legs should be tested for corridor definition at  6 labs minimum after they have been checked and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 of legs for testing would depend on customer co-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etics would make their internal leg available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feld 3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2514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feld 2"/>
          <p:cNvSpPr/>
          <p:nvPr/>
        </p:nvSpPr>
        <p:spPr>
          <a:xfrm>
            <a:off x="7772400" y="0"/>
            <a:ext cx="137160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1d528d"/>
                </a:solidFill>
                <a:uFillTx/>
                <a:latin typeface="Calibri"/>
                <a:ea typeface="Calibri"/>
              </a:rPr>
              <a:t>GTR9-1-08r1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5:13:34Z</dcterms:created>
  <dc:creator>lpan</dc:creator>
  <dc:description/>
  <dc:language>en-US</dc:language>
  <cp:lastModifiedBy>Gianotti</cp:lastModifiedBy>
  <dcterms:modified xsi:type="dcterms:W3CDTF">2012-03-01T16:50:50Z</dcterms:modified>
  <cp:revision>499</cp:revision>
  <dc:subject/>
  <dc:title>Slide 1</dc:title>
</cp:coreProperties>
</file>