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8C1E-7C43-47AC-BA0A-079A4E23326B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tshållare för bild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0EC3-074A-4C17-9CB7-2A9B71ACDC4C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01A0-D4F1-4E96-B6A5-86196B437C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0720" y="1343160"/>
            <a:ext cx="79660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20720" y="3625920"/>
            <a:ext cx="79660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144D4-4056-4148-A4C9-F21FA61C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0720" y="1343160"/>
            <a:ext cx="38872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2760" y="1343160"/>
            <a:ext cx="38872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20720" y="3625920"/>
            <a:ext cx="38872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02760" y="3625920"/>
            <a:ext cx="38872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3ACBE-5B5A-4653-9C4A-B8B8E391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20720" y="1343160"/>
            <a:ext cx="256500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4240" y="1343160"/>
            <a:ext cx="256500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8120" y="1343160"/>
            <a:ext cx="256500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20720" y="3625920"/>
            <a:ext cx="256500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4240" y="3625920"/>
            <a:ext cx="256500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8120" y="3625920"/>
            <a:ext cx="256500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65F5D-B64D-433E-88DD-35105B3452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824A5-F793-473F-BC2B-1C0A8CE0B9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20720" y="1343160"/>
            <a:ext cx="796608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2AA21-E77C-4C36-8E40-9AA79B94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1343160"/>
            <a:ext cx="7966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2BD6D-7A7B-473E-ACC7-A389A564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0720" y="1343160"/>
            <a:ext cx="38872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2760" y="1343160"/>
            <a:ext cx="38872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7B7CC-9911-4064-95D9-6926E537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DFBDF-F7A6-4116-95BA-1DF67E97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19280" y="-360"/>
            <a:ext cx="7967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50F35-43AA-4EE8-B85D-7EE44BDD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720" y="1343160"/>
            <a:ext cx="38872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2760" y="1343160"/>
            <a:ext cx="38872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20720" y="3625920"/>
            <a:ext cx="38872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6F65E-2472-48CF-9879-B0FF70BB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20720" y="1343160"/>
            <a:ext cx="796608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C90B9-066C-4C75-9277-C7BE5493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720" y="1343160"/>
            <a:ext cx="38872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2760" y="1343160"/>
            <a:ext cx="38872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02760" y="3625920"/>
            <a:ext cx="38872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35ACC-7E53-4AAA-8637-F1B83A79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720" y="1343160"/>
            <a:ext cx="38872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2760" y="1343160"/>
            <a:ext cx="38872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20720" y="3625920"/>
            <a:ext cx="79660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1B66F-B486-488A-8CD7-9DC02270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0720" y="1343160"/>
            <a:ext cx="79660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20720" y="3625920"/>
            <a:ext cx="79660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B5D2C-73FE-469E-9685-14E59BE4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0720" y="1343160"/>
            <a:ext cx="38872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02760" y="1343160"/>
            <a:ext cx="38872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20720" y="3625920"/>
            <a:ext cx="38872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02760" y="3625920"/>
            <a:ext cx="38872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DA672-832D-41F3-A596-A486C8D6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0720" y="1343160"/>
            <a:ext cx="256500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4240" y="1343160"/>
            <a:ext cx="256500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8120" y="1343160"/>
            <a:ext cx="256500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20720" y="3625920"/>
            <a:ext cx="256500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4240" y="3625920"/>
            <a:ext cx="256500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8120" y="3625920"/>
            <a:ext cx="256500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B9E70-8F00-46CF-B91C-04B4CBA849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343160"/>
            <a:ext cx="7966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2C7CC-BC63-4733-97E8-BEF5F9CB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0720" y="1343160"/>
            <a:ext cx="38872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02760" y="1343160"/>
            <a:ext cx="38872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25E52-37A8-42A2-8C5E-CCBFF853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D030-BB82-4E02-90A7-632AB89F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19280" y="-360"/>
            <a:ext cx="7967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9265-3AA0-4A9F-99C2-3A607BE5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20720" y="1343160"/>
            <a:ext cx="38872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02760" y="1343160"/>
            <a:ext cx="38872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20720" y="3625920"/>
            <a:ext cx="38872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97BB9-C6C9-44EE-A19E-F12E8303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0720" y="1343160"/>
            <a:ext cx="38872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2760" y="1343160"/>
            <a:ext cx="38872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02760" y="3625920"/>
            <a:ext cx="38872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8935-B8C7-48B4-BFD5-618AC7FF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0720" y="1343160"/>
            <a:ext cx="38872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2760" y="1343160"/>
            <a:ext cx="38872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20720" y="3625920"/>
            <a:ext cx="79660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1329F-E646-4F4E-85C4-4FD4C0AE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dobjekt 12" descr="bg_nyP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177920"/>
          </a:xfrm>
          <a:prstGeom prst="rect">
            <a:avLst/>
          </a:prstGeom>
          <a:ln w="0">
            <a:noFill/>
          </a:ln>
        </p:spPr>
      </p:pic>
      <p:sp>
        <p:nvSpPr>
          <p:cNvPr id="1" name="Rak 7"/>
          <p:cNvSpPr/>
          <p:nvPr/>
        </p:nvSpPr>
        <p:spPr>
          <a:xfrm>
            <a:off x="830160" y="5965920"/>
            <a:ext cx="7856640" cy="1440"/>
          </a:xfrm>
          <a:prstGeom prst="line">
            <a:avLst/>
          </a:prstGeom>
          <a:ln w="12600">
            <a:solidFill>
              <a:srgbClr val="4d4f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552720" y="602136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7380000" y="6308640"/>
            <a:ext cx="13064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f53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0F14-E748-499C-B5B1-0283785DE501}" type="slidenum">
              <a:rPr b="0" lang="sv-SE" sz="1000" spc="-1" strike="noStrike">
                <a:solidFill>
                  <a:srgbClr val="4d4f53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720720" y="1343160"/>
            <a:ext cx="7966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5bb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0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3880" indent="-260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5320" indent="-2415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6040" indent="-1695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6040" indent="-1695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6040" indent="-1695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Bildobjekt 9" descr="STA_Eng_3V_RGB.jpg"/>
          <p:cNvPicPr/>
          <p:nvPr/>
        </p:nvPicPr>
        <p:blipFill>
          <a:blip r:embed="rId3"/>
          <a:stretch/>
        </p:blipFill>
        <p:spPr>
          <a:xfrm>
            <a:off x="285840" y="6138720"/>
            <a:ext cx="1407960" cy="43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ildobjekt 9" descr="top pp-framsida (kopia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44" name="Rak 7"/>
          <p:cNvSpPr/>
          <p:nvPr/>
        </p:nvSpPr>
        <p:spPr>
          <a:xfrm>
            <a:off x="830160" y="5965920"/>
            <a:ext cx="7856640" cy="1440"/>
          </a:xfrm>
          <a:prstGeom prst="line">
            <a:avLst/>
          </a:prstGeom>
          <a:ln w="12600">
            <a:solidFill>
              <a:srgbClr val="4d4f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Bildobjekt 9" descr="STA_Eng_3V_RGB.jpg"/>
          <p:cNvPicPr/>
          <p:nvPr/>
        </p:nvPicPr>
        <p:blipFill>
          <a:blip r:embed="rId3"/>
          <a:stretch/>
        </p:blipFill>
        <p:spPr>
          <a:xfrm>
            <a:off x="285840" y="6138720"/>
            <a:ext cx="1407960" cy="433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20720" y="1343160"/>
            <a:ext cx="7966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5bb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0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3880" indent="-260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65320" indent="-2415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46040" indent="-1695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46040" indent="-1695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46040" indent="-1695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552720" y="602136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7380000" y="6308640"/>
            <a:ext cx="13064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f53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2203-0951-45FA-98B2-CAB09F85539D}" type="slidenum">
              <a:rPr b="0" lang="sv-SE" sz="1000" spc="-1" strike="noStrike">
                <a:solidFill>
                  <a:srgbClr val="4d4f53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0720" y="164268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52nd GRSP, 11 – 14 Decemer 2012,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agenda item 1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20720" y="2890800"/>
            <a:ext cx="7780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ulation No. 29 – 03 series of amend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356000" y="549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Informal document</a:t>
            </a:r>
            <a:r>
              <a:rPr b="0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GRSP-52-2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(5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  <a:ea typeface="Times New Roman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GRSP, 11 - 14 May 2012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agenda item 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ckground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20720" y="1343160"/>
            <a:ext cx="796608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cope for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Group on Truck Cab Strength w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5bb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develop testing procedures for trucks of categories N2 with a gross vehicle mass exceeding 7.5 ton and for categories N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5bb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leave testing procedures for trucks of categories N1 and N2 with a gross vehicle mass not exceeding 7.5 ton un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Test for all catego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20720" y="1343160"/>
            <a:ext cx="796608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10000"/>
              </a:lnSpc>
              <a:spcBef>
                <a:spcPts val="601"/>
              </a:spcBef>
              <a:buClr>
                <a:srgbClr val="005bb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est 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 means a frontal impact test intended to evaluate the resistance of a cab in frontal impact acc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601"/>
              </a:spcBef>
              <a:buClr>
                <a:srgbClr val="005bb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est 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 means an impact test to the A-pillars of the cab intended to evaluate the resistance of a cab in a 90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ollover accident with subsequent imp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601"/>
              </a:spcBef>
              <a:buClr>
                <a:srgbClr val="005bb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est 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 means a cab roof strength test intended to evaluate the resistance of a cab in a 180° rollover acc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ktangel 3"/>
          <p:cNvSpPr/>
          <p:nvPr/>
        </p:nvSpPr>
        <p:spPr>
          <a:xfrm>
            <a:off x="2916360" y="1268280"/>
            <a:ext cx="25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ront impact test (test 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Рис1е"/>
          <p:cNvPicPr/>
          <p:nvPr/>
        </p:nvPicPr>
        <p:blipFill>
          <a:blip r:embed="rId1"/>
          <a:stretch/>
        </p:blipFill>
        <p:spPr>
          <a:xfrm>
            <a:off x="2124000" y="3068640"/>
            <a:ext cx="5143680" cy="2720880"/>
          </a:xfrm>
          <a:prstGeom prst="rect">
            <a:avLst/>
          </a:prstGeom>
          <a:ln w="0">
            <a:noFill/>
          </a:ln>
        </p:spPr>
      </p:pic>
      <p:sp>
        <p:nvSpPr>
          <p:cNvPr id="102" name="textruta 6"/>
          <p:cNvSpPr/>
          <p:nvPr/>
        </p:nvSpPr>
        <p:spPr>
          <a:xfrm>
            <a:off x="5580000" y="19162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alibri"/>
              </a:rPr>
              <a:t>Vehicle of category N₁, N₂, N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 flipH="1">
            <a:off x="2195640" y="155916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ront pillar impact test (Test 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Рис2е"/>
          <p:cNvPicPr/>
          <p:nvPr/>
        </p:nvPicPr>
        <p:blipFill>
          <a:blip r:embed="rId1"/>
          <a:stretch/>
        </p:blipFill>
        <p:spPr>
          <a:xfrm>
            <a:off x="2438280" y="2327400"/>
            <a:ext cx="4016520" cy="3043080"/>
          </a:xfrm>
          <a:prstGeom prst="rect">
            <a:avLst/>
          </a:prstGeom>
          <a:ln w="0">
            <a:noFill/>
          </a:ln>
        </p:spPr>
      </p:pic>
      <p:sp>
        <p:nvSpPr>
          <p:cNvPr id="105" name="textruta 5"/>
          <p:cNvSpPr/>
          <p:nvPr/>
        </p:nvSpPr>
        <p:spPr>
          <a:xfrm>
            <a:off x="6372360" y="191628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Vehicles of category N₂ with a gross vehicle mass exceeding 7.5 t and of category N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ktangel 2"/>
          <p:cNvSpPr/>
          <p:nvPr/>
        </p:nvSpPr>
        <p:spPr>
          <a:xfrm>
            <a:off x="3132000" y="1125360"/>
            <a:ext cx="26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oof strength test (Test 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Рис3е"/>
          <p:cNvPicPr/>
          <p:nvPr/>
        </p:nvPicPr>
        <p:blipFill>
          <a:blip r:embed="rId1"/>
          <a:stretch/>
        </p:blipFill>
        <p:spPr>
          <a:xfrm>
            <a:off x="2916360" y="2492280"/>
            <a:ext cx="3203280" cy="2508480"/>
          </a:xfrm>
          <a:prstGeom prst="rect">
            <a:avLst/>
          </a:prstGeom>
          <a:ln w="0">
            <a:noFill/>
          </a:ln>
        </p:spPr>
      </p:pic>
      <p:sp>
        <p:nvSpPr>
          <p:cNvPr id="108" name="textruta 5"/>
          <p:cNvSpPr/>
          <p:nvPr/>
        </p:nvSpPr>
        <p:spPr>
          <a:xfrm>
            <a:off x="5580000" y="3068640"/>
            <a:ext cx="287964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Calibri"/>
              </a:rPr>
              <a:t>Dynamic pre-loading of vehicles of category N</a:t>
            </a:r>
            <a:r>
              <a:rPr b="1" lang="en-GB" sz="1600" spc="-1" strike="noStrike" baseline="-25000">
                <a:solidFill>
                  <a:srgbClr val="990000"/>
                </a:solidFill>
                <a:latin typeface="Calibri"/>
              </a:rPr>
              <a:t>2</a:t>
            </a:r>
            <a:r>
              <a:rPr b="1" lang="en-GB" sz="1600" spc="-1" strike="noStrike">
                <a:solidFill>
                  <a:srgbClr val="990000"/>
                </a:solidFill>
                <a:latin typeface="Calibri"/>
              </a:rPr>
              <a:t> with a gross vehicle mass exceeding 7.5 t and of category N</a:t>
            </a:r>
            <a:r>
              <a:rPr b="1" lang="en-GB" sz="1600" spc="-1" strike="noStrike" baseline="-25000">
                <a:solidFill>
                  <a:srgbClr val="990000"/>
                </a:solidFill>
                <a:latin typeface="Calibri"/>
              </a:rPr>
              <a:t>3</a:t>
            </a:r>
            <a:r>
              <a:rPr b="1" lang="en-GB" sz="16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ruta 6"/>
          <p:cNvSpPr/>
          <p:nvPr/>
        </p:nvSpPr>
        <p:spPr>
          <a:xfrm>
            <a:off x="1476360" y="206064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loading device face shall covers the whole area of the cab roof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ruta 7"/>
          <p:cNvSpPr/>
          <p:nvPr/>
        </p:nvSpPr>
        <p:spPr>
          <a:xfrm>
            <a:off x="3995640" y="16286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alibri"/>
              </a:rPr>
              <a:t>Vehicle of category N₁, N₂, N</a:t>
            </a:r>
            <a:r>
              <a:rPr b="1" lang="sv-SE" sz="1800" spc="-1" strike="noStrike">
                <a:solidFill>
                  <a:srgbClr val="000000"/>
                </a:solidFill>
                <a:latin typeface="Calibri"/>
              </a:rPr>
              <a:t>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7967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roposal for amending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SP/2012/19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latshållare för innehåll 2" descr=""/>
          <p:cNvPicPr/>
          <p:nvPr/>
        </p:nvPicPr>
        <p:blipFill>
          <a:blip r:embed="rId1"/>
          <a:stretch/>
        </p:blipFill>
        <p:spPr>
          <a:xfrm>
            <a:off x="628560" y="1305000"/>
            <a:ext cx="81979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09:23:01Z</dcterms:created>
  <dc:creator>Edoardo Gianotti</dc:creator>
  <dc:description>TS9000E, v1.0, 2011-06-13</dc:description>
  <dc:language>en-US</dc:language>
  <cp:lastModifiedBy>gianotti</cp:lastModifiedBy>
  <dcterms:modified xsi:type="dcterms:W3CDTF">2012-12-13T10:09:51Z</dcterms:modified>
  <cp:revision>45</cp:revision>
  <dc:subject/>
  <dc:title>Rubrikbild</dc:title>
</cp:coreProperties>
</file>