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1C5F-0F68-419E-911E-D11F190D62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ven if well explain in the instruction for use, the non standardisation of the belt routing leads to mis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ABD6-B96F-44B5-8BB6-9D7A9CF6F3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paration of the category in two types of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oster seats with head protection (mainly for lateral impact) integrated in the C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oster cushion were head protection in lateral impact must be provided by the vehicle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83F3-4B96-48A0-B35A-87E9236CF3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845-CA60-4300-BE56-231A1B0B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911-356B-466D-BBD0-5B8021CC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033-8D4B-484B-A33F-573268BC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5C0-9612-4EB3-8BE4-6342D384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5C9-527C-4F49-9E30-67203374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436-C3D4-44DF-A4DD-C22F959F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89A-6D7B-47DC-A9C5-CC98A937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F6B-5E42-46C9-8525-8255AFD4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B3B-FA9E-4EB2-9054-6469D7E5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CA6-D388-4633-A319-0A6AD087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57B-22DB-4D7C-B138-F8419E88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479-F83A-4C96-8300-7F871ACA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2nd  GRSP Session 11 – 14 December 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BC97-943C-4E92-9170-934D6AF1B16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Logo UTAC couleur  Fond blanc uniformisé"/>
          <p:cNvPicPr/>
          <p:nvPr/>
        </p:nvPicPr>
        <p:blipFill>
          <a:blip r:embed="rId2"/>
          <a:stretch/>
        </p:blipFill>
        <p:spPr>
          <a:xfrm>
            <a:off x="0" y="0"/>
            <a:ext cx="1965240" cy="534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1" descr="logo_ceram_hd"/>
          <p:cNvPicPr/>
          <p:nvPr/>
        </p:nvPicPr>
        <p:blipFill>
          <a:blip r:embed="rId3"/>
          <a:stretch/>
        </p:blipFill>
        <p:spPr>
          <a:xfrm>
            <a:off x="8126280" y="0"/>
            <a:ext cx="1017720" cy="1373040"/>
          </a:xfrm>
          <a:prstGeom prst="rect">
            <a:avLst/>
          </a:prstGeom>
          <a:ln w="0">
            <a:noFill/>
          </a:ln>
        </p:spPr>
      </p:pic>
      <p:sp>
        <p:nvSpPr>
          <p:cNvPr id="7" name="Connecteur droit 8"/>
          <p:cNvSpPr/>
          <p:nvPr/>
        </p:nvSpPr>
        <p:spPr>
          <a:xfrm>
            <a:off x="233280" y="981000"/>
            <a:ext cx="7893000" cy="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Logo UTAC couleur  Fond blanc uniformisé"/>
          <p:cNvPicPr/>
          <p:nvPr/>
        </p:nvPicPr>
        <p:blipFill>
          <a:blip r:embed="rId2"/>
          <a:stretch/>
        </p:blipFill>
        <p:spPr>
          <a:xfrm>
            <a:off x="0" y="0"/>
            <a:ext cx="1965240" cy="53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logo_ceram_hd"/>
          <p:cNvPicPr/>
          <p:nvPr/>
        </p:nvPicPr>
        <p:blipFill>
          <a:blip r:embed="rId3"/>
          <a:stretch/>
        </p:blipFill>
        <p:spPr>
          <a:xfrm>
            <a:off x="8126280" y="0"/>
            <a:ext cx="1017720" cy="1373040"/>
          </a:xfrm>
          <a:prstGeom prst="rect">
            <a:avLst/>
          </a:prstGeom>
          <a:ln w="0">
            <a:noFill/>
          </a:ln>
        </p:spPr>
      </p:pic>
      <p:sp>
        <p:nvSpPr>
          <p:cNvPr id="46" name="Connecteur droit 8"/>
          <p:cNvSpPr/>
          <p:nvPr/>
        </p:nvSpPr>
        <p:spPr>
          <a:xfrm>
            <a:off x="233280" y="981000"/>
            <a:ext cx="7893000" cy="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re 5" descr=""/>
          <p:cNvPicPr/>
          <p:nvPr/>
        </p:nvPicPr>
        <p:blipFill>
          <a:blip r:embed="rId1"/>
          <a:stretch/>
        </p:blipFill>
        <p:spPr>
          <a:xfrm>
            <a:off x="689040" y="1652760"/>
            <a:ext cx="7772400" cy="2290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ierre CASTA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195640" y="189000"/>
          <a:ext cx="6327720" cy="731880"/>
        </p:xfrm>
        <a:graphic>
          <a:graphicData uri="http://schemas.openxmlformats.org/drawingml/2006/table">
            <a:tbl>
              <a:tblPr/>
              <a:tblGrid>
                <a:gridCol w="3163680"/>
                <a:gridCol w="3164040"/>
              </a:tblGrid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Informal document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SP-5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52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GRSP, 11 - 14 December 2012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genda item 2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U iss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CIL DIRECTIVE of 16 December 199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ng to the compulsory use of safety belts and child-restraint systems in vehicles (91/671/EE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nded by: Directive 2003/20/EC of the European Parliament and of the Council of 8 April 20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o reference made to the New 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2nd  GRSP Session 11 – 14 December 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A7DC-F99E-46DE-BAF3-C19E594AD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hase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155736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ll an open cogitation on belted integral C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ll needed for non ISOFIX or i-Size pos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ll needed for old vehicles in current fl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new requirements in a phas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grade ECE R4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2nd  GRSP S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 – 14 December 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28F0-6993-4B26-99E8-2CAD22449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40435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tended Man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160020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IWG asks GRSP to extend the mandate until the end of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aft regulation for phase 2 (May 20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 of transitional provision to withdraw ISOFIX application from ECE R44 (December 20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regulation for phase 3 (May 201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2nd  GRSP Session 11 – 14 December 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9955-5FC9-4F65-B3AE-C9BB3E9B6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eet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06 June 2012 at OICA – P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0 August 2012 at ACEA – Bruss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0 October 2012 at EC – Bruss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2 November 2012 at EC – Bruss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29 January 2013 at OICA – Pari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28 February 2013 at CLEPA – Bruss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18 April 2013 at SMMT – Lond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2nd  GRSP Session 11 – 14 December 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C017-62E4-42CC-9355-870D43641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ummies Meet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5 October 2012  Webex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*29 January 2013 at OICA – P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IWG CRS special meeting dedicated to Q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2nd  GRSP Session 11 – 14 December 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9E2B-2A7C-4745-B134-2FDFFD7FD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hase 2 &amp; 3 philosoph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hild is restrained by the belt system of the vehic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ifferent categories for Booster seat &amp; Booster cush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ISOFI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ig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isu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out ISOFI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imilar to Current Univers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SOFIX could be a Sub-category, class, 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-Size na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sed on size of the chi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sed on “plug and play principle” on i-size ready pos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-Size position / i-Size vehi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Image 7" descr=""/>
          <p:cNvPicPr/>
          <p:nvPr/>
        </p:nvPicPr>
        <p:blipFill>
          <a:blip r:embed="rId1"/>
          <a:stretch/>
        </p:blipFill>
        <p:spPr>
          <a:xfrm>
            <a:off x="4572000" y="1247760"/>
            <a:ext cx="2273400" cy="1884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has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hase 2 is already underw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-integral C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ooster seats (up to 1,35 m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ooster cushion (between 1,35 m and 1,5 m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OFIX, simplified ISOFIX, no ISOFIX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lt rou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eometric approac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lt guid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echanical robustness contro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2nd  GRSP S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 – 14 December 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DA35-CDED-4C9B-9EB9-78896F1F6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3" descr=""/>
          <p:cNvPicPr/>
          <p:nvPr/>
        </p:nvPicPr>
        <p:blipFill>
          <a:blip r:embed="rId2"/>
          <a:stretch/>
        </p:blipFill>
        <p:spPr>
          <a:xfrm>
            <a:off x="7238880" y="4508640"/>
            <a:ext cx="1835280" cy="195732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e 11"/>
          <p:cNvGrpSpPr/>
          <p:nvPr/>
        </p:nvGrpSpPr>
        <p:grpSpPr>
          <a:xfrm>
            <a:off x="5273640" y="4581360"/>
            <a:ext cx="1965240" cy="1963800"/>
            <a:chOff x="5273640" y="4581360"/>
            <a:chExt cx="1965240" cy="1963800"/>
          </a:xfrm>
        </p:grpSpPr>
        <p:pic>
          <p:nvPicPr>
            <p:cNvPr id="118" name="Image 8" descr=""/>
            <p:cNvPicPr/>
            <p:nvPr/>
          </p:nvPicPr>
          <p:blipFill>
            <a:blip r:embed="rId3"/>
            <a:stretch/>
          </p:blipFill>
          <p:spPr>
            <a:xfrm>
              <a:off x="5273640" y="4581360"/>
              <a:ext cx="1965240" cy="19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9"/>
            <p:cNvSpPr/>
            <p:nvPr/>
          </p:nvSpPr>
          <p:spPr>
            <a:xfrm>
              <a:off x="5810760" y="5805000"/>
              <a:ext cx="360000" cy="28764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0" name="Image 10" descr=""/>
          <p:cNvPicPr/>
          <p:nvPr/>
        </p:nvPicPr>
        <p:blipFill>
          <a:blip r:embed="rId4"/>
          <a:stretch/>
        </p:blipFill>
        <p:spPr>
          <a:xfrm>
            <a:off x="4500720" y="3160800"/>
            <a:ext cx="3824280" cy="1492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5"/>
          <a:stretch/>
        </p:blipFill>
        <p:spPr>
          <a:xfrm>
            <a:off x="6732720" y="1413000"/>
            <a:ext cx="212400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Ta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ligmen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ew i-Size gabarit infl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iciency of ISOFIX connectors (rigi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SO definition of vehicle / booster interface Definition of interface between Child dummies and standard belt routing as defined by the 5th % female dumm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D points for belt routing on 5th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ork on prog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560" y="98100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 Dummy Sub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lidation of the drawing packages for Q0, Q1, Q1,5, Q3 dumm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 Dummies definition for Q6 and Q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Q10 production version is currently under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ressing issues raised in EPOCh and third party testing progra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ems needing decision from Stakeholder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lt penetration in pelvis thigh gro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lt – suit intera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de impact performa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jury thresho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bdominal sens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lutions (not affecting development of production version dummy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lt penetration dealt with using hip sh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lt slip occurred after introducing Cordura layer in su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 side impact a kit consisting of minimal number of parts under investig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jury thresholds proposed by EPOCh to be further evalua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bdominal sensor: research item which should not affect abdominal behavi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Need decision making on issues by group like EEVC WG12 or alter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2nd  GRSP S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 – 14 December 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8FBA-CFD0-4F0D-81FB-4F621A46F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3:34:56Z</dcterms:created>
  <dc:creator>Administrateur</dc:creator>
  <dc:description/>
  <dc:language>en-US</dc:language>
  <cp:lastModifiedBy>gianotti</cp:lastModifiedBy>
  <dcterms:modified xsi:type="dcterms:W3CDTF">2012-12-11T16:52:24Z</dcterms:modified>
  <cp:revision>11</cp:revision>
  <dc:subject/>
  <dc:title>51st GRSP Session Draft new Regulation on child restraint systems</dc:title>
</cp:coreProperties>
</file>