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6C83CC-1725-4B0A-B952-3BE44F95FCB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C52CB5-247F-4613-A451-2B4820F6753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9A7B-D53B-4457-9332-D1E1F5B1E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FDFB-4CFC-4295-90AE-D78559259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22E8-A0CB-40BA-9AB5-11A018336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088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456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088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456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FD1F-DFAD-41F2-BEF0-7A6AD5B47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F16A-4AD3-4414-AA36-743320CC8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0592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0592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088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4560" y="159984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088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4560" y="3796200"/>
            <a:ext cx="26697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7308-EBB1-4443-9110-1EEB93687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3ACF-785E-461A-A6C0-005B4D6E2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B2B6-5685-49F2-BD1C-AD7533632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8A44-EAE3-4004-BC46-CD3547A1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7D4F-5F73-4D74-A337-78D652A5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379620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0AF-8A60-4641-8A17-26CE22DB2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599840"/>
            <a:ext cx="40460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915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59DE-387C-4941-B743-DE22CCD05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8964720" y="3095640"/>
            <a:ext cx="180720" cy="1557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"/>
          <p:cNvPicPr/>
          <p:nvPr/>
        </p:nvPicPr>
        <p:blipFill>
          <a:blip r:embed="rId3"/>
          <a:stretch/>
        </p:blipFill>
        <p:spPr>
          <a:xfrm>
            <a:off x="0" y="1700280"/>
            <a:ext cx="179280" cy="993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4"/>
          <a:srcRect l="0" t="0" r="0" b="52896"/>
          <a:stretch/>
        </p:blipFill>
        <p:spPr>
          <a:xfrm>
            <a:off x="8785080" y="4653000"/>
            <a:ext cx="179640" cy="2205000"/>
          </a:xfrm>
          <a:prstGeom prst="rect">
            <a:avLst/>
          </a:prstGeom>
          <a:ln w="0">
            <a:noFill/>
          </a:ln>
        </p:spPr>
      </p:pic>
      <p:sp>
        <p:nvSpPr>
          <p:cNvPr id="5" name="Line 11"/>
          <p:cNvSpPr/>
          <p:nvPr/>
        </p:nvSpPr>
        <p:spPr>
          <a:xfrm>
            <a:off x="179280" y="1484280"/>
            <a:ext cx="8496360" cy="0"/>
          </a:xfrm>
          <a:prstGeom prst="line">
            <a:avLst/>
          </a:prstGeom>
          <a:ln w="19080">
            <a:solidFill>
              <a:srgbClr val="d0d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79280" y="6021360"/>
            <a:ext cx="8496360" cy="0"/>
          </a:xfrm>
          <a:prstGeom prst="line">
            <a:avLst/>
          </a:prstGeom>
          <a:ln w="19080">
            <a:solidFill>
              <a:srgbClr val="d0d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0" bIns="55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1" lang="de-DE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3A79F541-0E24-46E6-B3B7-4487EDC9CB63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4"/>
          <p:cNvSpPr/>
          <p:nvPr/>
        </p:nvSpPr>
        <p:spPr>
          <a:xfrm>
            <a:off x="7236000" y="62373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99"/>
                </a:solidFill>
                <a:latin typeface="Verdana"/>
              </a:rPr>
              <a:t>www.bmvbs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5"/>
          <p:cNvSpPr/>
          <p:nvPr/>
        </p:nvSpPr>
        <p:spPr>
          <a:xfrm>
            <a:off x="0" y="62499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99"/>
                </a:solidFill>
                <a:latin typeface="Verdana"/>
              </a:rPr>
              <a:t>Kellermann/24.05.2012/GR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BMVBS_Office_Farbe_en"/>
          <p:cNvPicPr/>
          <p:nvPr/>
        </p:nvPicPr>
        <p:blipFill>
          <a:blip r:embed="rId5"/>
          <a:stretch/>
        </p:blipFill>
        <p:spPr>
          <a:xfrm>
            <a:off x="0" y="0"/>
            <a:ext cx="238752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964720" y="3095640"/>
            <a:ext cx="180720" cy="155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0" y="1700280"/>
            <a:ext cx="179280" cy="99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rcRect l="0" t="0" r="0" b="52896"/>
          <a:stretch/>
        </p:blipFill>
        <p:spPr>
          <a:xfrm>
            <a:off x="8785080" y="4653000"/>
            <a:ext cx="179640" cy="220500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179280" y="1484280"/>
            <a:ext cx="8496360" cy="0"/>
          </a:xfrm>
          <a:prstGeom prst="line">
            <a:avLst/>
          </a:prstGeom>
          <a:ln w="19080">
            <a:solidFill>
              <a:srgbClr val="d0d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179280" y="6021360"/>
            <a:ext cx="8496360" cy="0"/>
          </a:xfrm>
          <a:prstGeom prst="line">
            <a:avLst/>
          </a:prstGeom>
          <a:ln w="19080">
            <a:solidFill>
              <a:srgbClr val="d0d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236000" y="62373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99"/>
                </a:solidFill>
                <a:latin typeface="Verdana"/>
              </a:rPr>
              <a:t>www.bmvbs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BMVBS_Office_Farbe_en"/>
          <p:cNvPicPr/>
          <p:nvPr/>
        </p:nvPicPr>
        <p:blipFill>
          <a:blip r:embed="rId5"/>
          <a:stretch/>
        </p:blipFill>
        <p:spPr>
          <a:xfrm>
            <a:off x="0" y="0"/>
            <a:ext cx="2387520" cy="1270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99cc00"/>
                </a:solidFill>
                <a:latin typeface="Verdana"/>
              </a:rPr>
              <a:t>Re</a:t>
            </a:r>
            <a:r>
              <a:rPr b="1" lang="en-GB" sz="3000" spc="-1" strike="noStrike">
                <a:solidFill>
                  <a:srgbClr val="003399"/>
                </a:solidFill>
                <a:latin typeface="Verdana"/>
              </a:rPr>
              <a:t>chargeable </a:t>
            </a:r>
            <a:r>
              <a:rPr b="1" lang="en-GB" sz="3000" spc="-1" strike="noStrike">
                <a:solidFill>
                  <a:srgbClr val="99cc00"/>
                </a:solidFill>
                <a:latin typeface="Verdana"/>
              </a:rPr>
              <a:t>E</a:t>
            </a:r>
            <a:r>
              <a:rPr b="1" lang="en-GB" sz="3000" spc="-1" strike="noStrike">
                <a:solidFill>
                  <a:srgbClr val="003399"/>
                </a:solidFill>
                <a:latin typeface="Verdana"/>
              </a:rPr>
              <a:t>nergy </a:t>
            </a:r>
            <a:r>
              <a:rPr b="1" lang="en-GB" sz="30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1" lang="en-GB" sz="3000" spc="-1" strike="noStrike">
                <a:solidFill>
                  <a:srgbClr val="003399"/>
                </a:solidFill>
                <a:latin typeface="Verdana"/>
              </a:rPr>
              <a:t>torage </a:t>
            </a:r>
            <a:r>
              <a:rPr b="1" lang="en-GB" sz="30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1" lang="en-GB" sz="3000" spc="-1" strike="noStrike">
                <a:solidFill>
                  <a:srgbClr val="003399"/>
                </a:solidFill>
                <a:latin typeface="Verdana"/>
              </a:rPr>
              <a:t>ystem</a:t>
            </a: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s (REESS)</a:t>
            </a:r>
            <a:r>
              <a:rPr b="1" lang="en-GB" sz="3000" spc="-1" strike="noStrike">
                <a:solidFill>
                  <a:srgbClr val="003399"/>
                </a:solidFill>
                <a:latin typeface="Verdana"/>
              </a:rPr>
              <a:t> requirements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rd Kellermann,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5508720" y="333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nformal document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RSP-5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5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GRSP, 21 - 24 May 201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genda item 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DD630B6-CB59-49C0-94D2-25FA09932482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open issue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ort of damaged batteries (WP.1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s for rescue operation after crash (recommendations on a local/regional lev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hemical safety (H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experience till EOL will show whether reduced quality or increased risk at EOL lead to further amend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6AC2B12-AFE9-44A4-98E5-0146E23E97D3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19280" y="2781360"/>
            <a:ext cx="6337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BD25E228-F00A-4C0B-A9FB-E70C5C565BEF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49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Sequence of actions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mended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g 100 SA 01 (3/20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g 12, 94, 95 (11/20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g 10 (3/201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of interested experts on </a:t>
            </a:r>
            <a:r>
              <a:rPr b="0" lang="en-GB" sz="2400" spc="-1" strike="noStrike">
                <a:solidFill>
                  <a:srgbClr val="99cc00"/>
                </a:solidFill>
                <a:latin typeface="Verdana"/>
              </a:rPr>
              <a:t>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rgeable </a:t>
            </a:r>
            <a:r>
              <a:rPr b="0" lang="en-GB" sz="2400" spc="-1" strike="noStrike">
                <a:solidFill>
                  <a:srgbClr val="99cc00"/>
                </a:solidFill>
                <a:latin typeface="Verdan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rgy </a:t>
            </a:r>
            <a:r>
              <a:rPr b="0" lang="en-GB" sz="24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rage </a:t>
            </a:r>
            <a:r>
              <a:rPr b="0" lang="en-GB" sz="24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v. 2010 Bon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n. 2011 Par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r. 2011 Bora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ul. 2011 Main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ct. 2011 Madri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n. 2012 Brus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. 2011 Geneva GRSP inf.do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2012 Geneva GRSP formal and inf. doc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Goal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tablish regulations for commercialization of 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V as save as ICE veh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sure safety in aftersale market (retrofit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73A80BD8-3478-4CAE-9F02-406E675F571B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D415CD30-B0DD-470D-AFA0-3E433FC9D62E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46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having in mind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hinder the fast development in high voltage vehicles but contribute to the new technology by avoiding discredit by acci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 not restrict the scope to Li-Ion batt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way approach: REESS type approved as component or vehicle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ign with UN 38.3 as far as possible to reduce time and effort for testing (e.g. vib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existing IEC and ISO stand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Amend existing regulation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Reg. 100 contains safety requirements for high voltage vehicles, i.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tection against electrical sh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rect co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irect co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solation re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void overheat of RE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sure functional 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emissions for open type (lead acid) traction batt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BE2789CA-A328-48AE-81E1-BDAA19896881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4CFD8F48-C188-4467-8B58-50CC1414BA23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Verdana"/>
              </a:rPr>
              <a:t>integration in R 100 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a new Part II with REESS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Part I: Requirements of a vehicle with regard to its electrical safe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Part II: Requirements of a Rechargeable Energy Storage System (REESS) with regard to its safe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o restriction to high voltage batteries, but excluding batteries for starting the engine, lighting,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nd an annex with test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CFC2A7DB-B6D5-4268-9B80-C7CA517F6F2E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53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Requirements in Part II 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V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Thermal shock and cyc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Mechanical sho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hanical integr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Fire resista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if electrolyte is flamm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External short circuit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Overcharge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Over-discharge prot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Over-temperature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What has to be tested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s related to mechanical impact or fire can be conducted eather with the vehicle or with the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general test with REESS subsystems instaed of the whole REESS could be done, if the manufacturer demonstrate its represent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4056A8B2-DB17-4318-B2D6-ECD2DD9DD9E2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Verdana"/>
              </a:rPr>
              <a:t>Test conditions </a:t>
            </a:r>
            <a:endParaRPr b="1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cceptance criteria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elektrolyte leakag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ruptur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fir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explos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isolation resistence after the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st procedure with starting conditions like state of charge, temperatur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oliennummernplatzhalter 3"/>
          <p:cNvSpPr/>
          <p:nvPr/>
        </p:nvSpPr>
        <p:spPr>
          <a:xfrm>
            <a:off x="108000" y="6165720"/>
            <a:ext cx="235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55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D09BD4FF-094F-4809-91F8-D12C80274769}" type="slidenum">
              <a:rPr b="1" lang="de-DE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30:34Z</dcterms:created>
  <dc:creator>Kellermann</dc:creator>
  <dc:description/>
  <dc:language>en-US</dc:language>
  <cp:lastModifiedBy>gianotti</cp:lastModifiedBy>
  <cp:lastPrinted>2012-05-16T11:54:13Z</cp:lastPrinted>
  <dcterms:modified xsi:type="dcterms:W3CDTF">2012-05-24T11:02:41Z</dcterms:modified>
  <cp:revision>67</cp:revision>
  <dc:subject/>
  <dc:title>Folie 1</dc:title>
</cp:coreProperties>
</file>