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5EF-1696-4B59-B312-DE23FB5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B33-F37A-48C2-A017-B2729779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BDA-74EA-46AC-A317-0FBF5633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2C0-2CE9-497F-BA8E-233ECB67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0CA-2655-4A67-909E-978C40D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BDA-EB8E-4351-A07A-25AAFA4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030-327D-42F6-94D6-5B2A4CA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747-9D73-4D69-BF0D-73EF585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855-AB7F-4548-A94B-96B00EFF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312-1604-42DF-B67F-C00A36F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72E-24ED-402E-A810-D256FA4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955-01F2-4780-9CA7-5030B44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7C1-F457-4D14-A632-385C3945C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SP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m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95640" y="620640"/>
          <a:ext cx="6327720" cy="731880"/>
        </p:xfrm>
        <a:graphic>
          <a:graphicData uri="http://schemas.openxmlformats.org/drawingml/2006/table">
            <a:tbl>
              <a:tblPr/>
              <a:tblGrid>
                <a:gridCol w="3163680"/>
                <a:gridCol w="316404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Informal documen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SP-5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5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GRSP, 21 - 24 May 2012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nda item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met Visor and Sunscr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1"/>
          <p:cNvSpPr/>
          <p:nvPr/>
        </p:nvSpPr>
        <p:spPr>
          <a:xfrm>
            <a:off x="611280" y="1052640"/>
            <a:ext cx="82087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 Regula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, in 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5.3.4., we should test the luminous transmittance as specified below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ors shall have a luminous transmittance 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≥ 80%, relative to the standard illuminant D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uminous transmittance 80% &gt; 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≥ 50%, measured by the method given in § 7.8.3.2.1.1., is also permissible if the visor is marked with the symbol shown in figure 2 and/or with the English words “DAYTIME USE ONLY”. The luminous transmittance shall be measured before the abrasion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482800"/>
            <a:ext cx="4114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- ECE R22-05 transparent visor Tv ≥ 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- ECE R22-05 tinted visor 80% &gt; Tv ≥ 5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- Visor supplied as spare parts with hel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(but without type appro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met Visor and Sun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e 4"/>
          <p:cNvGrpSpPr/>
          <p:nvPr/>
        </p:nvGrpSpPr>
        <p:grpSpPr>
          <a:xfrm>
            <a:off x="539640" y="2060640"/>
            <a:ext cx="7817040" cy="3222720"/>
            <a:chOff x="539640" y="2060640"/>
            <a:chExt cx="7817040" cy="3222720"/>
          </a:xfrm>
        </p:grpSpPr>
        <p:grpSp>
          <p:nvGrpSpPr>
            <p:cNvPr id="49" name="Groupe 2"/>
            <p:cNvGrpSpPr/>
            <p:nvPr/>
          </p:nvGrpSpPr>
          <p:grpSpPr>
            <a:xfrm>
              <a:off x="539640" y="2060640"/>
              <a:ext cx="4295880" cy="3222720"/>
              <a:chOff x="539640" y="2060640"/>
              <a:chExt cx="4295880" cy="3222720"/>
            </a:xfrm>
          </p:grpSpPr>
          <p:pic>
            <p:nvPicPr>
              <p:cNvPr id="50" name="Picture 4" descr="C:\Users\lepretre\AppData\Local\Microsoft\Windows\Temporary Internet Files\Content.Outlook\11X6EBRQ\IMG_5518.JPG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060640"/>
                <a:ext cx="4295880" cy="32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Ellipse 6"/>
              <p:cNvSpPr/>
              <p:nvPr/>
            </p:nvSpPr>
            <p:spPr>
              <a:xfrm>
                <a:off x="826920" y="2636640"/>
                <a:ext cx="288720" cy="287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Ellipse 8"/>
              <p:cNvSpPr/>
              <p:nvPr/>
            </p:nvSpPr>
            <p:spPr>
              <a:xfrm>
                <a:off x="1834920" y="2933640"/>
                <a:ext cx="288720" cy="287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Ellipse 10"/>
              <p:cNvSpPr/>
              <p:nvPr/>
            </p:nvSpPr>
            <p:spPr>
              <a:xfrm>
                <a:off x="2843280" y="3284640"/>
                <a:ext cx="288720" cy="288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e 3"/>
            <p:cNvGrpSpPr/>
            <p:nvPr/>
          </p:nvGrpSpPr>
          <p:grpSpPr>
            <a:xfrm>
              <a:off x="5508720" y="2106360"/>
              <a:ext cx="2847960" cy="2695680"/>
              <a:chOff x="5508720" y="2106360"/>
              <a:chExt cx="2847960" cy="2695680"/>
            </a:xfrm>
          </p:grpSpPr>
          <p:pic>
            <p:nvPicPr>
              <p:cNvPr id="5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8720" y="2106360"/>
                <a:ext cx="2847960" cy="26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Ellipse 12"/>
              <p:cNvSpPr/>
              <p:nvPr/>
            </p:nvSpPr>
            <p:spPr>
              <a:xfrm>
                <a:off x="5508720" y="3382920"/>
                <a:ext cx="287280" cy="288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Ellipse 13"/>
              <p:cNvSpPr/>
              <p:nvPr/>
            </p:nvSpPr>
            <p:spPr>
              <a:xfrm>
                <a:off x="6372360" y="3240000"/>
                <a:ext cx="287280" cy="287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Espace réservé du contenu 3"/>
          <p:cNvSpPr/>
          <p:nvPr/>
        </p:nvSpPr>
        <p:spPr>
          <a:xfrm>
            <a:off x="4778280" y="5484960"/>
            <a:ext cx="41148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- ECE R22-05  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5- Sunscreen integrated in Helmet, without type 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"/>
          <p:cNvSpPr/>
          <p:nvPr/>
        </p:nvSpPr>
        <p:spPr>
          <a:xfrm>
            <a:off x="275040" y="836640"/>
            <a:ext cx="881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find on the market some helmets equipped with integrated sunscreen (5). The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screens are not approved according to ECE R22-05, and modify the luminous transmitt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over, helmet visors (3) which not met luminous transmittance criteria of ECE R22-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found, as spare parts, on the mar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ench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ropose for next meeting a document to amend current ECE R22.05 in order to take into account this innov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will be based on the following principl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thori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CE R22-05 tinted visor with lower light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the sunscreen definition in ECE R22-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space réservé du contenu 1" descr=""/>
          <p:cNvPicPr/>
          <p:nvPr/>
        </p:nvPicPr>
        <p:blipFill>
          <a:blip r:embed="rId1"/>
          <a:stretch/>
        </p:blipFill>
        <p:spPr>
          <a:xfrm>
            <a:off x="500040" y="993600"/>
            <a:ext cx="8229600" cy="4548240"/>
          </a:xfrm>
          <a:prstGeom prst="rect">
            <a:avLst/>
          </a:prstGeom>
          <a:ln w="0">
            <a:noFill/>
          </a:ln>
        </p:spPr>
      </p:pic>
      <p:sp>
        <p:nvSpPr>
          <p:cNvPr id="64" name="Interdiction 2"/>
          <p:cNvSpPr/>
          <p:nvPr/>
        </p:nvSpPr>
        <p:spPr>
          <a:xfrm>
            <a:off x="6516720" y="4648320"/>
            <a:ext cx="719280" cy="647640"/>
          </a:xfrm>
          <a:custGeom>
            <a:avLst/>
            <a:gdLst/>
            <a:ahLst/>
            <a:rect l="l" t="t" r="r" b="b"/>
            <a:pathLst>
              <a:path w="719137" h="647700">
                <a:moveTo>
                  <a:pt x="0" y="323850"/>
                </a:moveTo>
                <a:cubicBezTo>
                  <a:pt x="0" y="144993"/>
                  <a:pt x="160985" y="0"/>
                  <a:pt x="359569" y="0"/>
                </a:cubicBezTo>
                <a:cubicBezTo>
                  <a:pt x="558153" y="0"/>
                  <a:pt x="719138" y="144993"/>
                  <a:pt x="719138" y="323850"/>
                </a:cubicBezTo>
                <a:cubicBezTo>
                  <a:pt x="719138" y="502707"/>
                  <a:pt x="558153" y="647700"/>
                  <a:pt x="359569" y="647700"/>
                </a:cubicBezTo>
                <a:cubicBezTo>
                  <a:pt x="160985" y="647700"/>
                  <a:pt x="0" y="502707"/>
                  <a:pt x="0" y="323850"/>
                </a:cubicBezTo>
                <a:close/>
                <a:moveTo>
                  <a:pt x="564793" y="426508"/>
                </a:moveTo>
                <a:cubicBezTo>
                  <a:pt x="625835" y="338342"/>
                  <a:pt x="599885" y="225320"/>
                  <a:pt x="504320" y="163133"/>
                </a:cubicBezTo>
                <a:cubicBezTo>
                  <a:pt x="429731" y="114596"/>
                  <a:pt x="328542" y="107867"/>
                  <a:pt x="245980" y="145955"/>
                </a:cubicBezTo>
                <a:lnTo>
                  <a:pt x="564793" y="426508"/>
                </a:lnTo>
                <a:close/>
                <a:moveTo>
                  <a:pt x="154344" y="221192"/>
                </a:moveTo>
                <a:cubicBezTo>
                  <a:pt x="93302" y="309358"/>
                  <a:pt x="119252" y="422380"/>
                  <a:pt x="214817" y="484567"/>
                </a:cubicBezTo>
                <a:cubicBezTo>
                  <a:pt x="289406" y="533104"/>
                  <a:pt x="390595" y="539833"/>
                  <a:pt x="473157" y="501745"/>
                </a:cubicBezTo>
                <a:lnTo>
                  <a:pt x="154344" y="221192"/>
                </a:lnTo>
                <a:close/>
              </a:path>
            </a:pathLst>
          </a:custGeom>
          <a:solidFill>
            <a:srgbClr val="c0504d">
              <a:alpha val="45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4772160" y="26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6"/>
          <p:cNvSpPr/>
          <p:nvPr/>
        </p:nvSpPr>
        <p:spPr>
          <a:xfrm>
            <a:off x="3193920" y="40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4"/>
          <p:cNvSpPr/>
          <p:nvPr/>
        </p:nvSpPr>
        <p:spPr>
          <a:xfrm>
            <a:off x="539640" y="27846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8"/>
          <p:cNvSpPr/>
          <p:nvPr/>
        </p:nvSpPr>
        <p:spPr>
          <a:xfrm>
            <a:off x="458640" y="4529160"/>
            <a:ext cx="8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5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70" name="Image 7" descr=""/>
          <p:cNvPicPr/>
          <p:nvPr/>
        </p:nvPicPr>
        <p:blipFill>
          <a:blip r:embed="rId3"/>
          <a:stretch/>
        </p:blipFill>
        <p:spPr>
          <a:xfrm>
            <a:off x="7885080" y="27525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71" name="Image 9" descr=""/>
          <p:cNvPicPr/>
          <p:nvPr/>
        </p:nvPicPr>
        <p:blipFill>
          <a:blip r:embed="rId4"/>
          <a:stretch/>
        </p:blipFill>
        <p:spPr>
          <a:xfrm>
            <a:off x="4205160" y="557532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72" name="Image 10" descr=""/>
          <p:cNvPicPr/>
          <p:nvPr/>
        </p:nvPicPr>
        <p:blipFill>
          <a:blip r:embed="rId5"/>
          <a:stretch/>
        </p:blipFill>
        <p:spPr>
          <a:xfrm>
            <a:off x="1863720" y="5594400"/>
            <a:ext cx="13669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N 1938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ggles for motorcycle and moped us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23:29Z</dcterms:created>
  <dc:creator>Pierre Castaing</dc:creator>
  <dc:description/>
  <dc:language>en-US</dc:language>
  <cp:lastModifiedBy>gianotti</cp:lastModifiedBy>
  <dcterms:modified xsi:type="dcterms:W3CDTF">2012-05-23T11:46:43Z</dcterms:modified>
  <cp:revision>82</cp:revision>
  <dc:subject/>
  <dc:title>Présentation PowerPoint</dc:title>
</cp:coreProperties>
</file>