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ADA3-841A-440C-9383-9A45484B40A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B33B-0667-419B-A2AB-7723098C65C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23AE-B42D-4DF9-872B-402A8029E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BD48-DE65-4FB7-A2BF-83297A96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D93C-EAAB-4220-8665-E8DA99E92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5010-04B2-4D92-BCA4-DC2C1617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0371-B0A0-4135-AE67-7BFB9F1B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6214-9B71-4BE0-B5AD-0AE7E92A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173C-4E36-4347-8B19-B33CF871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C248-6204-4AF3-A03C-2243475F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2B93-0C27-44CF-A0D1-BDADD7F4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A646-54AE-4525-B01B-405241C9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1EAE-87AA-4B01-87F0-C978C357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BDA1-445E-4E3D-BC7B-E3B67FBC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1FA2-6373-4B8F-A100-7A02EB1EB5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5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GRSP Sess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tus report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formal Group on F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Pierre CASTA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Chair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195640" y="620640"/>
          <a:ext cx="6327720" cy="731880"/>
        </p:xfrm>
        <a:graphic>
          <a:graphicData uri="http://schemas.openxmlformats.org/drawingml/2006/table">
            <a:tbl>
              <a:tblPr/>
              <a:tblGrid>
                <a:gridCol w="3163680"/>
                <a:gridCol w="3164040"/>
              </a:tblGrid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Informal document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RSP-5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5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GRSP, 21 - 24 May 2012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genda item 1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Mandate of the informal group on Frontal Impa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362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Report of the Working Party on Passive Safety on its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Fiftieth session (Geneva, 6–9 December 2011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31.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Chair of the informal working group on Frontal collision introduced ECE/TRANS/WP.29/GRSP/2011/24 through a presentation (GRSP-50-01) on the new terms of reference of the informal working group. GRSP adopted ECE/TRANS/WP.29/GRSP/2011/24 as reproduced in Annex V to this report and sought the consent of WP.29 at its March 2012 sessio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Reports of the  World Forum for Harmonization of Vehicle Regulations on its 156th session (</a:t>
            </a: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Geneva, 12-16 March 2012</a:t>
            </a:r>
            <a:r>
              <a:rPr b="1" lang="fr-FR" sz="2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36.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garding Regulation No. 94 (Frontal collision), he informed WP.29 that GRSP had adopted the new terms of references of the informal group, as reproduced in Annex V of the GRSP report (ECE/TRANS/WP.29/GRSP/50). The World Forum endorsed in principle the above mentioned terms of references, pending the adoption of the report of the December 2011 session of GRSP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terms of reference for the mandate to the informal working group on frontal colli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formal working group shall consider the update of Regulation No. 94 on protecting older occupants, femal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nts and also focus on optimization of vehicles’ structural interaction to improve self-protection and partn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formal working group will make use of existing tools, consider and develop the results of ongoing research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validation pro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articular, the informal working group expects to make use of results fro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ntal Impact and Compatibility Assessment Research (FIMCAR) on the set of test procedur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target end of 201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racic injury assessment for improved vehicle safety (THORAX) on thorax injury prediction too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target mid 201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c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xpert group who will validate the use of thorax injury prediction tools (deflection equivalen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EQ), Thorax Multi-Point and high Rate measurement device (THMPR) and Rib Eye) for the Hybri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 dummy (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target end of 201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xpert group who will conduct an impact assessment (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until the end of 201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first step following these results, the group will propose a final draft for amendment to Regulation No. 94, fo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SP at its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May 2014 sess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cond step would be to improve the Regulation, preferably by means of a global technical regulation (gtr)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ing at least mid-2014, depending on the availability and the progress of the Test Device for Human Occupan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raint New Type (THOR NT) with input from the research project THORAX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formal working group encourages collaboration on the development of a harmonized THOR dummy for th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ond ste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"grandfathering" clause could be used for the second phase, so that the new requirements may apply only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ly new vehicle desig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formal working group submits the above proposal for comments and endorsement to GRSP experts to seek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ent from the World Forum for Harmonization of Vehicle Regulation (WP.29) for an extension of the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mandate of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the informal working group until the end of 201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eet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Meeting - 18 April 2012 – OICA Par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84807"/>
                </a:solidFill>
                <a:latin typeface="Calibri"/>
              </a:rPr>
              <a:t>16</a:t>
            </a:r>
            <a:r>
              <a:rPr b="0" lang="en-GB" sz="3200" spc="-1" strike="noStrike" baseline="30000">
                <a:solidFill>
                  <a:srgbClr val="984807"/>
                </a:solidFill>
                <a:latin typeface="Calibri"/>
              </a:rPr>
              <a:t>th</a:t>
            </a:r>
            <a:r>
              <a:rPr b="0" lang="en-GB" sz="3200" spc="-1" strike="noStrike">
                <a:solidFill>
                  <a:srgbClr val="984807"/>
                </a:solidFill>
                <a:latin typeface="Calibri"/>
              </a:rPr>
              <a:t> Meeting – 11 October 2012 – OICA Par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Diagramme 3" descr=""/>
          <p:cNvPicPr/>
          <p:nvPr/>
        </p:nvPicPr>
        <p:blipFill>
          <a:blip r:embed="rId1"/>
          <a:stretch/>
        </p:blipFill>
        <p:spPr>
          <a:xfrm>
            <a:off x="938160" y="1378080"/>
            <a:ext cx="7284960" cy="23526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scenario for amendment of ECE R9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ZoneTexte 1"/>
          <p:cNvSpPr/>
          <p:nvPr/>
        </p:nvSpPr>
        <p:spPr>
          <a:xfrm>
            <a:off x="1706040" y="4292640"/>
            <a:ext cx="495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has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get date for a draft amendment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nd of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pen issue FWRB / FW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Groupe 3"/>
          <p:cNvGrpSpPr/>
          <p:nvPr/>
        </p:nvGrpSpPr>
        <p:grpSpPr>
          <a:xfrm>
            <a:off x="1116720" y="1844640"/>
            <a:ext cx="6911280" cy="3456000"/>
            <a:chOff x="1116720" y="1844640"/>
            <a:chExt cx="6911280" cy="3456000"/>
          </a:xfrm>
        </p:grpSpPr>
        <p:pic>
          <p:nvPicPr>
            <p:cNvPr id="62" name="Picture 7" descr=""/>
            <p:cNvPicPr/>
            <p:nvPr/>
          </p:nvPicPr>
          <p:blipFill>
            <a:blip r:embed="rId1"/>
            <a:stretch/>
          </p:blipFill>
          <p:spPr>
            <a:xfrm>
              <a:off x="4174200" y="4024080"/>
              <a:ext cx="920520" cy="41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8" descr=""/>
            <p:cNvPicPr/>
            <p:nvPr/>
          </p:nvPicPr>
          <p:blipFill>
            <a:blip r:embed="rId2"/>
            <a:stretch/>
          </p:blipFill>
          <p:spPr>
            <a:xfrm>
              <a:off x="1408680" y="4041000"/>
              <a:ext cx="109440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0"/>
            <p:cNvSpPr/>
            <p:nvPr/>
          </p:nvSpPr>
          <p:spPr>
            <a:xfrm>
              <a:off x="1408680" y="2620080"/>
              <a:ext cx="1094400" cy="4536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Self Prote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Fuel Integ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1"/>
            <p:cNvSpPr/>
            <p:nvPr/>
          </p:nvSpPr>
          <p:spPr>
            <a:xfrm>
              <a:off x="6796800" y="1844640"/>
              <a:ext cx="11941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Phase II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~ 2020 (GTR?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2"/>
            <p:cNvSpPr/>
            <p:nvPr/>
          </p:nvSpPr>
          <p:spPr>
            <a:xfrm>
              <a:off x="2780640" y="1844640"/>
              <a:ext cx="100368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Phase I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~20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3"/>
            <p:cNvSpPr/>
            <p:nvPr/>
          </p:nvSpPr>
          <p:spPr>
            <a:xfrm>
              <a:off x="1456920" y="1844640"/>
              <a:ext cx="923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Today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4"/>
            <p:cNvSpPr/>
            <p:nvPr/>
          </p:nvSpPr>
          <p:spPr>
            <a:xfrm>
              <a:off x="1415160" y="4725000"/>
              <a:ext cx="1094400" cy="4536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HIII 50%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5"/>
            <p:cNvSpPr/>
            <p:nvPr/>
          </p:nvSpPr>
          <p:spPr>
            <a:xfrm>
              <a:off x="6812640" y="2620080"/>
              <a:ext cx="1094400" cy="13190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Tb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Picture 18" descr=""/>
            <p:cNvPicPr/>
            <p:nvPr/>
          </p:nvPicPr>
          <p:blipFill>
            <a:blip r:embed="rId3"/>
            <a:stretch/>
          </p:blipFill>
          <p:spPr>
            <a:xfrm>
              <a:off x="2709360" y="4042440"/>
              <a:ext cx="1094400" cy="37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9"/>
            <p:cNvSpPr/>
            <p:nvPr/>
          </p:nvSpPr>
          <p:spPr>
            <a:xfrm>
              <a:off x="2715840" y="4725000"/>
              <a:ext cx="1094400" cy="4536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HIII 50%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1"/>
            <p:cNvSpPr/>
            <p:nvPr/>
          </p:nvSpPr>
          <p:spPr>
            <a:xfrm>
              <a:off x="2596680" y="1844640"/>
              <a:ext cx="0" cy="34560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3"/>
            <p:cNvSpPr/>
            <p:nvPr/>
          </p:nvSpPr>
          <p:spPr>
            <a:xfrm>
              <a:off x="4093920" y="4725000"/>
              <a:ext cx="1094400" cy="45360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[HIII 50%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HIII 5%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30"/>
            <p:cNvSpPr/>
            <p:nvPr/>
          </p:nvSpPr>
          <p:spPr>
            <a:xfrm>
              <a:off x="6812640" y="4725000"/>
              <a:ext cx="1094400" cy="4536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[THOR %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35"/>
            <p:cNvSpPr/>
            <p:nvPr/>
          </p:nvSpPr>
          <p:spPr>
            <a:xfrm>
              <a:off x="1383120" y="2459160"/>
              <a:ext cx="66448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36"/>
            <p:cNvSpPr/>
            <p:nvPr/>
          </p:nvSpPr>
          <p:spPr>
            <a:xfrm>
              <a:off x="1408680" y="4577760"/>
              <a:ext cx="66193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38"/>
            <p:cNvSpPr/>
            <p:nvPr/>
          </p:nvSpPr>
          <p:spPr>
            <a:xfrm rot="16200000">
              <a:off x="610560" y="3820320"/>
              <a:ext cx="1225800" cy="21348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Configu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39"/>
            <p:cNvSpPr/>
            <p:nvPr/>
          </p:nvSpPr>
          <p:spPr>
            <a:xfrm rot="16200000">
              <a:off x="878760" y="4849200"/>
              <a:ext cx="689040" cy="21348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Dumm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40"/>
            <p:cNvSpPr/>
            <p:nvPr/>
          </p:nvSpPr>
          <p:spPr>
            <a:xfrm rot="16200000">
              <a:off x="874080" y="2782440"/>
              <a:ext cx="707760" cy="21348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Sco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Picture 41" descr=""/>
            <p:cNvPicPr/>
            <p:nvPr/>
          </p:nvPicPr>
          <p:blipFill>
            <a:blip r:embed="rId4"/>
            <a:stretch/>
          </p:blipFill>
          <p:spPr>
            <a:xfrm>
              <a:off x="5472000" y="4069800"/>
              <a:ext cx="476280" cy="32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42" descr=""/>
            <p:cNvPicPr/>
            <p:nvPr/>
          </p:nvPicPr>
          <p:blipFill>
            <a:blip r:embed="rId5"/>
            <a:stretch/>
          </p:blipFill>
          <p:spPr>
            <a:xfrm>
              <a:off x="6073920" y="4066200"/>
              <a:ext cx="474840" cy="34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Line 46"/>
            <p:cNvSpPr/>
            <p:nvPr/>
          </p:nvSpPr>
          <p:spPr>
            <a:xfrm>
              <a:off x="1410480" y="3290760"/>
              <a:ext cx="6617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47"/>
            <p:cNvSpPr/>
            <p:nvPr/>
          </p:nvSpPr>
          <p:spPr>
            <a:xfrm>
              <a:off x="6703200" y="1844640"/>
              <a:ext cx="0" cy="34560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48"/>
            <p:cNvSpPr/>
            <p:nvPr/>
          </p:nvSpPr>
          <p:spPr>
            <a:xfrm>
              <a:off x="1408680" y="3486960"/>
              <a:ext cx="1094400" cy="4536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OD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56 km/h, 4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49"/>
            <p:cNvSpPr/>
            <p:nvPr/>
          </p:nvSpPr>
          <p:spPr>
            <a:xfrm>
              <a:off x="2709360" y="3486960"/>
              <a:ext cx="1094400" cy="4536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OD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56 km/h, 4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50"/>
            <p:cNvSpPr/>
            <p:nvPr/>
          </p:nvSpPr>
          <p:spPr>
            <a:xfrm>
              <a:off x="4087440" y="3486960"/>
              <a:ext cx="1094400" cy="45360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FWR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50 km/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51"/>
            <p:cNvSpPr/>
            <p:nvPr/>
          </p:nvSpPr>
          <p:spPr>
            <a:xfrm>
              <a:off x="5468760" y="3486960"/>
              <a:ext cx="1094400" cy="45360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[Geometric Assessment PEAS / SEAS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52"/>
            <p:cNvSpPr/>
            <p:nvPr/>
          </p:nvSpPr>
          <p:spPr>
            <a:xfrm>
              <a:off x="3868920" y="355140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53"/>
            <p:cNvSpPr/>
            <p:nvPr/>
          </p:nvSpPr>
          <p:spPr>
            <a:xfrm>
              <a:off x="5241240" y="355140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0808"/>
                  </a:solidFill>
                  <a:latin typeface="Arial"/>
                  <a:ea typeface="ヒラギノ角ゴ Pro W3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57"/>
            <p:cNvSpPr/>
            <p:nvPr/>
          </p:nvSpPr>
          <p:spPr>
            <a:xfrm>
              <a:off x="2709360" y="2620080"/>
              <a:ext cx="1094400" cy="4536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Self Prote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Fuel Integ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58"/>
            <p:cNvSpPr/>
            <p:nvPr/>
          </p:nvSpPr>
          <p:spPr>
            <a:xfrm>
              <a:off x="4087440" y="2620080"/>
              <a:ext cx="1094400" cy="45360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Restraint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59"/>
            <p:cNvSpPr/>
            <p:nvPr/>
          </p:nvSpPr>
          <p:spPr>
            <a:xfrm>
              <a:off x="5468760" y="2620080"/>
              <a:ext cx="1094400" cy="45360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Compatibility 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60"/>
            <p:cNvSpPr/>
            <p:nvPr/>
          </p:nvSpPr>
          <p:spPr>
            <a:xfrm>
              <a:off x="3868920" y="267768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61"/>
            <p:cNvSpPr/>
            <p:nvPr/>
          </p:nvSpPr>
          <p:spPr>
            <a:xfrm>
              <a:off x="5241240" y="267768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0808"/>
                  </a:solidFill>
                  <a:latin typeface="Arial"/>
                  <a:ea typeface="ヒラギノ角ゴ Pro W3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ZoneTexte 37"/>
          <p:cNvSpPr/>
          <p:nvPr/>
        </p:nvSpPr>
        <p:spPr>
          <a:xfrm>
            <a:off x="1228680" y="5661000"/>
            <a:ext cx="737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ICA, Japan and some member states are in favour of harmonisation in phas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discussion of FWDB, PDB &amp; THOR is still open for phase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xpertise need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xpert group to validate the use of thorax injury prediction tools (DEQ, Rib Eye) for the H3 (target end of 201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done in parallel with Euro NCAP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Biomechanical workshop scheduled in Paris the 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Jul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xpert group to conduct an impact assessment until the end of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pen iss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vailability of dummies definition and par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percentile harmonised jac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7:23:29Z</dcterms:created>
  <dc:creator>Pierre Castaing</dc:creator>
  <dc:description/>
  <dc:language>en-US</dc:language>
  <cp:lastModifiedBy>gianotti</cp:lastModifiedBy>
  <dcterms:modified xsi:type="dcterms:W3CDTF">2012-05-22T11:04:36Z</dcterms:modified>
  <cp:revision>65</cp:revision>
  <dc:subject/>
  <dc:title>Présentation PowerPoint</dc:title>
</cp:coreProperties>
</file>