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WG on gtr No.7-Phase 2, 5-6 Dec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2366-5845-4E9D-B3F1-1BE3805A128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576A-0AB0-49EE-B142-3AA8DF15255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ijdelijke aanduiding voor voettekst 1"/>
          <p:cNvSpPr/>
          <p:nvPr/>
        </p:nvSpPr>
        <p:spPr>
          <a:xfrm>
            <a:off x="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WG on gtr No.7-Phase 2, 5-6 Dec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6235-45CD-4421-8FD7-4E9C2F4D5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2C91-8CB7-48C0-8FC2-89457D58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E904-44FB-404E-AB52-D42CD5903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B3E8-055A-47C4-B508-DB0BE92C1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34B4-29CA-4CEA-857A-D52A2A67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69C4-C92E-4FB3-8C64-FED6EA8F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955A-8CE2-41B6-AE45-A138AB7B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F394-80D5-44A8-964F-D44523E0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EEE6-4DAD-431E-9CE4-5A1F9B1B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72F2-F4EF-4D52-9AE6-497D8498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527B-D0D7-4D0F-B67D-DD4ADBFB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57D4-4BCF-40F7-9A22-EDBB56C8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2840" y="6184800"/>
            <a:ext cx="212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09600" y="62229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WG on gtr No.7-Phase 2, 5-6 December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6440" y="6235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6723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719E-60C3-4445-B049-3BA3BE092A19}" type="slidenum">
              <a:rPr b="0" lang="nl-NL" sz="1400" spc="-1" strike="noStrike">
                <a:solidFill>
                  <a:srgbClr val="e67235"/>
                </a:solidFill>
                <a:latin typeface="Times New Roman"/>
              </a:rPr>
              <a:t>&lt;number&gt;</a:t>
            </a:fld>
            <a:r>
              <a:rPr b="0" lang="nl-NL" sz="1400" spc="-1" strike="noStrike">
                <a:solidFill>
                  <a:srgbClr val="e67235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102200" y="2946240"/>
            <a:ext cx="534672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tr7 measuring method for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ead restraint h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Update for GRSP,  follow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the IWG on gtr No.7 in London March 20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Hans Ammerlaan - Netherl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438280" y="6270480"/>
            <a:ext cx="610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e67235"/>
                </a:solidFill>
                <a:latin typeface="Arial"/>
              </a:rPr>
              <a:t>Update GRSP on measuring method  - Geneva, May 20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jdelijke aanduiding voor dianummer 2"/>
          <p:cNvSpPr/>
          <p:nvPr/>
        </p:nvSpPr>
        <p:spPr>
          <a:xfrm>
            <a:off x="8674200" y="6235560"/>
            <a:ext cx="2538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7C61-EFD8-4181-B0A7-9EC8E4C4F888}" type="slidenum">
              <a:rPr b="0" lang="nl-NL" sz="1400" spc="-1" strike="noStrike">
                <a:solidFill>
                  <a:srgbClr val="e672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5207040" y="388800"/>
            <a:ext cx="367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formal docu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SP-51-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51st GRSP,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ay 2012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genda item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dianummer 3"/>
          <p:cNvSpPr/>
          <p:nvPr/>
        </p:nvSpPr>
        <p:spPr>
          <a:xfrm>
            <a:off x="6616800" y="62355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80A4-D57C-4428-A137-09BB173674C6}" type="slidenum">
              <a:rPr b="0" lang="nl-NL" sz="1400" spc="-1" strike="noStrike">
                <a:solidFill>
                  <a:srgbClr val="e672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95400" y="177840"/>
            <a:ext cx="8756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est procedure for effective head restraint height 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Torso &amp; Neck Link concept expressed in goniometric formu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61800" y="990720"/>
            <a:ext cx="4629240" cy="54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With head restraint set in its highest position, the measuring of Intersection Point  I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vailable 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X-coordinate 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table providing the “distance X” wh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pends of the design torso ang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eeded ac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calculate  X-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ordinat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IP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asured  X-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ordinat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CP + “distance x”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mark this point on the head restraint and measure  Z-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ordinat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400400" y="2819520"/>
            <a:ext cx="29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e67235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e67235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136960" y="6173640"/>
            <a:ext cx="549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e67235"/>
                </a:solidFill>
                <a:latin typeface="Arial"/>
              </a:rPr>
              <a:t>Update GRSP on measuring method  - Geneva, May 20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4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7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7" descr="d:\users\ammerlaa\AppData\Local\Microsoft\Windows\Temporary Internet Files\Content.Outlook\JCOKAUIV\Presentatie 2.png"/>
          <p:cNvPicPr/>
          <p:nvPr/>
        </p:nvPicPr>
        <p:blipFill>
          <a:blip r:embed="rId1"/>
          <a:stretch/>
        </p:blipFill>
        <p:spPr>
          <a:xfrm>
            <a:off x="4572000" y="977760"/>
            <a:ext cx="389412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jdelijke aanduiding voor dianummer 3"/>
          <p:cNvSpPr/>
          <p:nvPr/>
        </p:nvSpPr>
        <p:spPr>
          <a:xfrm>
            <a:off x="6616800" y="62355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3B7E-20DE-414D-9F83-EE4C53A728B0}" type="slidenum">
              <a:rPr b="0" lang="nl-NL" sz="1400" spc="-1" strike="noStrike">
                <a:solidFill>
                  <a:srgbClr val="e672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714240" y="160200"/>
            <a:ext cx="77155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est procedure for effective head restraint height 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Torso &amp; Neck Link concept expressed in goniometric formu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03040" y="1674720"/>
            <a:ext cx="6451920" cy="18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alculation of the highest effective head restaint heigh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eeded final a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alculate effective head restaint height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X * SIN(design torso angle) + 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Z * COS(design torso ang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399680" y="28195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e67235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463840" y="628164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e67235"/>
                </a:solidFill>
                <a:latin typeface="Arial"/>
              </a:rPr>
              <a:t>Update GRSP on measuring method  - Geneva, May 20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7" descr="d:\users\ammerlaa\AppData\Local\Microsoft\Windows\Temporary Internet Files\Content.Outlook\JCOKAUIV\Presentatie 3 (2).png"/>
          <p:cNvPicPr/>
          <p:nvPr/>
        </p:nvPicPr>
        <p:blipFill>
          <a:blip r:embed="rId1"/>
          <a:stretch/>
        </p:blipFill>
        <p:spPr>
          <a:xfrm>
            <a:off x="4686480" y="990720"/>
            <a:ext cx="38941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ianummer 3"/>
          <p:cNvSpPr/>
          <p:nvPr/>
        </p:nvSpPr>
        <p:spPr>
          <a:xfrm>
            <a:off x="6616800" y="62355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37DE-206B-45EB-9006-63401C7FEB2F}" type="slidenum">
              <a:rPr b="0" lang="nl-NL" sz="1400" spc="-1" strike="noStrike">
                <a:solidFill>
                  <a:srgbClr val="e672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930320" y="2666880"/>
            <a:ext cx="58104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hank you for your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221840" y="28195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e67235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2429280" y="6211800"/>
            <a:ext cx="549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e67235"/>
                </a:solidFill>
                <a:latin typeface="Arial"/>
              </a:rPr>
              <a:t>Update GRSP on measuring method  - Geneva, May 20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ianummer 3"/>
          <p:cNvSpPr/>
          <p:nvPr/>
        </p:nvSpPr>
        <p:spPr>
          <a:xfrm>
            <a:off x="6616800" y="62355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FA2E-B871-478E-8109-06AE76BB7213}" type="slidenum">
              <a:rPr b="0" lang="nl-NL" sz="1400" spc="-1" strike="noStrike">
                <a:solidFill>
                  <a:srgbClr val="e672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1281600" y="561960"/>
            <a:ext cx="1500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16000" y="1676520"/>
            <a:ext cx="8826480" cy="36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rms of reference of the informal group gtr No.7 - Head Restraints - Phase 2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art (a): how to define the effective height / concerns expressed in the rationale of gtr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nthropometry / position of back-of-head in the 1980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hysical tools for positioning of back-of-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s for p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sitioning of back-of-head of people nowa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asuring procedure for effective head restraint height (step by st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1221840" y="28195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e67235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333880" y="6294600"/>
            <a:ext cx="549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e67235"/>
                </a:solidFill>
                <a:latin typeface="Arial"/>
              </a:rPr>
              <a:t>Update GRSP on measuring method  - Geneva, May 20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ianummer 3"/>
          <p:cNvSpPr/>
          <p:nvPr/>
        </p:nvSpPr>
        <p:spPr>
          <a:xfrm>
            <a:off x="6616800" y="62355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F309-541C-4D4C-888B-244379005998}" type="slidenum">
              <a:rPr b="0" lang="nl-NL" sz="1400" spc="-1" strike="noStrike">
                <a:solidFill>
                  <a:srgbClr val="e672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949680" y="561960"/>
            <a:ext cx="731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s of reference of the informal group gtr No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d Restraints Pha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927000" y="1676520"/>
            <a:ext cx="702972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Text from doc. GTR7-01-08 (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CE/TRANS/WP.29/2009/130)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I. SUBJECTS FOR REVIEW  AND TASKS TO BE UNDERTA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With regard to head restraint height, the informal group should dec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define the effective heigh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height requirements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1221840" y="28195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e67235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2432520" y="6294600"/>
            <a:ext cx="549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e67235"/>
                </a:solidFill>
                <a:latin typeface="Arial"/>
              </a:rPr>
              <a:t>Update GRSP on measuring method  - Geneva, May 20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jdelijke aanduiding voor dianummer 3"/>
          <p:cNvSpPr/>
          <p:nvPr/>
        </p:nvSpPr>
        <p:spPr>
          <a:xfrm>
            <a:off x="6616800" y="62355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CE04-10E8-488F-8237-7C0E034B8FFD}" type="slidenum">
              <a:rPr b="0" lang="nl-NL" sz="1400" spc="-1" strike="noStrike">
                <a:solidFill>
                  <a:srgbClr val="e672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1180800" y="587520"/>
            <a:ext cx="7041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ncerns expressed in the rationale of gtr No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244520" y="4444920"/>
            <a:ext cx="7134480" cy="15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measurement of the head restraint height taken as shown above does not address the effective height of the head restrai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 the case of extremely contoured head restraints, the height of the surface that the head would contact is less than the measured heig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221840" y="28195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e67235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308680" y="6299280"/>
            <a:ext cx="549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e67235"/>
                </a:solidFill>
                <a:latin typeface="Arial"/>
              </a:rPr>
              <a:t>Update GRSP on measuring method  - Geneva, May 20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2006640" y="1033560"/>
            <a:ext cx="545796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jdelijke aanduiding voor dianummer 3"/>
          <p:cNvSpPr/>
          <p:nvPr/>
        </p:nvSpPr>
        <p:spPr>
          <a:xfrm>
            <a:off x="6616800" y="62355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60F6-C793-436E-8BAB-4FDA307FA852}" type="slidenum">
              <a:rPr b="0" lang="nl-NL" sz="1400" spc="-1" strike="noStrike">
                <a:solidFill>
                  <a:srgbClr val="e672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482760" y="284040"/>
            <a:ext cx="8420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nthropometry / position of back-of-head in the 1980’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978440" y="798480"/>
            <a:ext cx="3924360" cy="50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d355a"/>
                </a:solidFill>
                <a:latin typeface="Arial"/>
              </a:rPr>
              <a:t>UMTRI-86-39 study, merged H-points of the small female, mid-sized male and large male (known from the UMTRI-83-53-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d355a"/>
                </a:solidFill>
                <a:latin typeface="Arial"/>
              </a:rPr>
              <a:t>It was found that the back-of-head of the large male, compared to the mid-sized male, is a “distance x”  (being 31 mm) more rearw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d355a"/>
                </a:solidFill>
                <a:latin typeface="Arial"/>
              </a:rPr>
              <a:t>However this result is reached wit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3d35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d355a"/>
                </a:solidFill>
                <a:latin typeface="Arial"/>
              </a:rPr>
              <a:t>a chosen seatback angl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3d35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d355a"/>
                </a:solidFill>
                <a:latin typeface="Arial"/>
              </a:rPr>
              <a:t>a large male dating from the 1980’s, so not representing the nowadays large male car occup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303640" y="6257880"/>
            <a:ext cx="549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e67235"/>
                </a:solidFill>
                <a:latin typeface="Arial"/>
              </a:rPr>
              <a:t>Update GRSP on measuring method  - Geneva, May 20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"/>
          <p:cNvPicPr/>
          <p:nvPr/>
        </p:nvPicPr>
        <p:blipFill>
          <a:blip r:embed="rId1"/>
          <a:stretch/>
        </p:blipFill>
        <p:spPr>
          <a:xfrm>
            <a:off x="673200" y="701640"/>
            <a:ext cx="394164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jdelijke aanduiding voor dianummer 3"/>
          <p:cNvSpPr/>
          <p:nvPr/>
        </p:nvSpPr>
        <p:spPr>
          <a:xfrm>
            <a:off x="6616800" y="62355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523E-7F3F-462A-962D-87037331E30B}" type="slidenum">
              <a:rPr b="0" lang="nl-NL" sz="1400" spc="-1" strike="noStrike">
                <a:solidFill>
                  <a:srgbClr val="e672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1116360" y="574560"/>
            <a:ext cx="689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hysical tools for positioning of back-of-he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221840" y="28195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e67235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514600" y="6232680"/>
            <a:ext cx="61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e67235"/>
                </a:solidFill>
                <a:latin typeface="Arial"/>
              </a:rPr>
              <a:t>Update GRSP on measuring method  - Geneva, May 20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Figure 1-1 R incl legs"/>
          <p:cNvPicPr/>
          <p:nvPr/>
        </p:nvPicPr>
        <p:blipFill>
          <a:blip r:embed="rId1"/>
          <a:stretch/>
        </p:blipFill>
        <p:spPr>
          <a:xfrm>
            <a:off x="3603600" y="1560600"/>
            <a:ext cx="5060880" cy="4125960"/>
          </a:xfrm>
          <a:prstGeom prst="rect">
            <a:avLst/>
          </a:prstGeom>
          <a:ln w="0">
            <a:noFill/>
          </a:ln>
        </p:spPr>
      </p:pic>
      <p:sp>
        <p:nvSpPr>
          <p:cNvPr id="78" name="Rechthoek 2"/>
          <p:cNvSpPr/>
          <p:nvPr/>
        </p:nvSpPr>
        <p:spPr>
          <a:xfrm>
            <a:off x="511200" y="1649520"/>
            <a:ext cx="5622840" cy="18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bined in one picture two physical tool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oth for mid-sized male of the 1980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HRMD (from ICBC) mounted on the 3-D H-point          machin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Torso &amp; Neck Link (known from gtr No.7, fase 1)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3"/>
          <p:cNvSpPr/>
          <p:nvPr/>
        </p:nvSpPr>
        <p:spPr>
          <a:xfrm>
            <a:off x="6616800" y="62355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F3A1-02D4-49C6-806C-3F0DC2A1B42C}" type="slidenum">
              <a:rPr b="0" lang="nl-NL" sz="1400" spc="-1" strike="noStrike">
                <a:solidFill>
                  <a:srgbClr val="e672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138240" y="369720"/>
            <a:ext cx="8821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ools for positioning of back-of-head of people nowadays 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79280" y="982800"/>
            <a:ext cx="8761680" cy="54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buClr>
                <a:srgbClr val="3d35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d355a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3d355a"/>
                </a:solidFill>
                <a:latin typeface="Arial"/>
              </a:rPr>
              <a:t>The TNO study presented in Berlin (GTR7-04-03) made use of the posture from UMTRI-83-53-1 ( this study is used to create the HRMD) and combined this posture with the recent anthropometric database of CAESAR  </a:t>
            </a:r>
            <a:r>
              <a:rPr b="1" lang="nl-NL" sz="1600" spc="-1" strike="noStrike">
                <a:solidFill>
                  <a:srgbClr val="3d355a"/>
                </a:solidFill>
                <a:latin typeface="Arial"/>
              </a:rPr>
              <a:t>(C</a:t>
            </a:r>
            <a:r>
              <a:rPr b="0" lang="nl-NL" sz="1600" spc="-1" strike="noStrike">
                <a:solidFill>
                  <a:srgbClr val="3d355a"/>
                </a:solidFill>
                <a:latin typeface="Arial"/>
              </a:rPr>
              <a:t>ivilian </a:t>
            </a:r>
            <a:r>
              <a:rPr b="1" lang="nl-NL" sz="1600" spc="-1" strike="noStrike">
                <a:solidFill>
                  <a:srgbClr val="3d355a"/>
                </a:solidFill>
                <a:latin typeface="Arial"/>
              </a:rPr>
              <a:t>A</a:t>
            </a:r>
            <a:r>
              <a:rPr b="0" lang="nl-NL" sz="1600" spc="-1" strike="noStrike">
                <a:solidFill>
                  <a:srgbClr val="3d355a"/>
                </a:solidFill>
                <a:latin typeface="Arial"/>
              </a:rPr>
              <a:t>merican and </a:t>
            </a:r>
            <a:r>
              <a:rPr b="1" lang="nl-NL" sz="1600" spc="-1" strike="noStrike">
                <a:solidFill>
                  <a:srgbClr val="3d355a"/>
                </a:solidFill>
                <a:latin typeface="Arial"/>
              </a:rPr>
              <a:t>E</a:t>
            </a:r>
            <a:r>
              <a:rPr b="0" lang="nl-NL" sz="1600" spc="-1" strike="noStrike">
                <a:solidFill>
                  <a:srgbClr val="3d355a"/>
                </a:solidFill>
                <a:latin typeface="Arial"/>
              </a:rPr>
              <a:t>uropean </a:t>
            </a:r>
            <a:r>
              <a:rPr b="1" lang="nl-NL" sz="1600" spc="-1" strike="noStrike">
                <a:solidFill>
                  <a:srgbClr val="3d355a"/>
                </a:solidFill>
                <a:latin typeface="Arial"/>
              </a:rPr>
              <a:t>S</a:t>
            </a:r>
            <a:r>
              <a:rPr b="0" lang="nl-NL" sz="1600" spc="-1" strike="noStrike">
                <a:solidFill>
                  <a:srgbClr val="3d355a"/>
                </a:solidFill>
                <a:latin typeface="Arial"/>
              </a:rPr>
              <a:t>urface </a:t>
            </a:r>
            <a:r>
              <a:rPr b="1" lang="nl-NL" sz="1600" spc="-1" strike="noStrike">
                <a:solidFill>
                  <a:srgbClr val="3d355a"/>
                </a:solidFill>
                <a:latin typeface="Arial"/>
              </a:rPr>
              <a:t>A</a:t>
            </a:r>
            <a:r>
              <a:rPr b="0" lang="nl-NL" sz="1600" spc="-1" strike="noStrike">
                <a:solidFill>
                  <a:srgbClr val="3d355a"/>
                </a:solidFill>
                <a:latin typeface="Arial"/>
              </a:rPr>
              <a:t>nthropometry </a:t>
            </a:r>
            <a:r>
              <a:rPr b="1" lang="nl-NL" sz="1600" spc="-1" strike="noStrike">
                <a:solidFill>
                  <a:srgbClr val="3d355a"/>
                </a:solidFill>
                <a:latin typeface="Arial"/>
              </a:rPr>
              <a:t>R</a:t>
            </a:r>
            <a:r>
              <a:rPr b="0" lang="nl-NL" sz="1600" spc="-1" strike="noStrike">
                <a:solidFill>
                  <a:srgbClr val="3d355a"/>
                </a:solidFill>
                <a:latin typeface="Arial"/>
              </a:rPr>
              <a:t>esource)</a:t>
            </a:r>
            <a:r>
              <a:rPr b="1" lang="nl-NL" sz="1600" spc="-1" strike="noStrike">
                <a:solidFill>
                  <a:srgbClr val="3d355a"/>
                </a:solidFill>
                <a:latin typeface="Arial"/>
              </a:rPr>
              <a:t>.</a:t>
            </a:r>
            <a:r>
              <a:rPr b="0" lang="nl-NL" sz="1600" spc="-1" strike="noStrike">
                <a:solidFill>
                  <a:srgbClr val="3d355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3d35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d355a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3d355a"/>
                </a:solidFill>
                <a:latin typeface="Arial"/>
              </a:rPr>
              <a:t>The back-of-head of the 2004 NL large male is found to be 39 mm more rearwards than a mid-sized occupant (HRM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3d35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d355a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3d355a"/>
                </a:solidFill>
                <a:latin typeface="Arial"/>
              </a:rPr>
              <a:t>Based on this the Torso &amp; Neck Link (known from the gtr No.7 Phase 1) is supplemented with an upscaled version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3d35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3d35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3d35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3d35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3d35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221840" y="28195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e67235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158920" y="6257880"/>
            <a:ext cx="555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e67235"/>
                </a:solidFill>
                <a:latin typeface="Arial"/>
              </a:rPr>
              <a:t>Update GRSP on measuring method  - Geneva, May 20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47640" y="4716360"/>
          <a:ext cx="7340760" cy="1258920"/>
        </p:xfrm>
        <a:graphic>
          <a:graphicData uri="http://schemas.openxmlformats.org/drawingml/2006/table">
            <a:tbl>
              <a:tblPr/>
              <a:tblGrid>
                <a:gridCol w="1324080"/>
                <a:gridCol w="2941560"/>
                <a:gridCol w="3075120"/>
              </a:tblGrid>
              <a:tr h="49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rso &amp; Neck Link, based on HRM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rso &amp; Neck Link, based 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rge male (CAESAR NL 200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rso li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ck li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d-overha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ianummer 3"/>
          <p:cNvSpPr/>
          <p:nvPr/>
        </p:nvSpPr>
        <p:spPr>
          <a:xfrm>
            <a:off x="6616800" y="62355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29E0-835B-4D8E-8559-EFC38C60566C}" type="slidenum">
              <a:rPr b="0" lang="nl-NL" sz="1400" spc="-1" strike="noStrike">
                <a:solidFill>
                  <a:srgbClr val="e672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27000" y="312840"/>
            <a:ext cx="8907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ools for positioning of back-of-head of people nowadays 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457200" y="936720"/>
            <a:ext cx="8415360" cy="54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buClr>
                <a:srgbClr val="3d35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d355a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3d355a"/>
                </a:solidFill>
                <a:latin typeface="Arial"/>
              </a:rPr>
              <a:t>The original Torso &amp; Neck Link together with the upscaled Torso &amp; Neck Link can be expressed in goniometric formul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3d35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3d35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d355a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3d355a"/>
                </a:solidFill>
                <a:latin typeface="Arial"/>
              </a:rPr>
              <a:t>With these formulas can be calculated the difference in back-of-head position between the mid-sized male (HRMD) and the nowadays large male (this difference is hereafter called “Distance x”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3d35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3d35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d355a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3d355a"/>
                </a:solidFill>
                <a:latin typeface="Arial"/>
              </a:rPr>
              <a:t>The design torso angle is the only parameter in the formulas. So the outcome of the calculations can also be expressed in a table (e.g. just like is done in Regulation No.125 on Forward Field of Vision of Drivers (Table IV)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3d35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3d35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d355a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3d355a"/>
                </a:solidFill>
                <a:latin typeface="Arial"/>
              </a:rPr>
              <a:t>Doing so, the measuring method for effective head restraint height does not need tools that are question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3d35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3d35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d355a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3d355a"/>
                </a:solidFill>
                <a:latin typeface="Arial"/>
              </a:rPr>
              <a:t>The so developped measuring method comprises the following 5 ste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221840" y="28195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e67235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235240" y="6257880"/>
            <a:ext cx="55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e67235"/>
                </a:solidFill>
                <a:latin typeface="Arial"/>
              </a:rPr>
              <a:t>Update GRSP on measuring method  - Geneva, May 20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ijdelijke aanduiding voor dianummer 3"/>
          <p:cNvSpPr/>
          <p:nvPr/>
        </p:nvSpPr>
        <p:spPr>
          <a:xfrm>
            <a:off x="6616800" y="62355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136A-3D4C-467D-B838-6A84E76A6861}" type="slidenum">
              <a:rPr b="0" lang="nl-NL" sz="1400" spc="-1" strike="noStrike">
                <a:solidFill>
                  <a:srgbClr val="e672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279360" y="177840"/>
            <a:ext cx="8763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est procedure for effective head restraint height 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Torso &amp; Neck Link concept expressed in goniometric formu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20600" y="1117440"/>
            <a:ext cx="5099040" cy="54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With head restraint set in mid-sized positio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the measuring of Contact Point C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vailable are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coordinates of the R-poin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design torso angle,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dimensions of the mid-sized Torso &amp; Neck Lin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eeded ac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alculate  Z-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ordinat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CP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504.5 * COS(design torso angle – 2.6º) + 20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instead of calculation, a table will be provided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ark this point on the head restraint surface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easure  X-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ordinat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C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399680" y="28195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e67235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340360" y="6257880"/>
            <a:ext cx="549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e67235"/>
                </a:solidFill>
                <a:latin typeface="Arial"/>
              </a:rPr>
              <a:t>Update GRSP on measuring method  - Geneva, May 20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7" descr="d:\users\ammerlaa\AppData\Local\Microsoft\Windows\Temporary Internet Files\Content.Outlook\JCOKAUIV\Presentatie 1 (2).png"/>
          <p:cNvPicPr/>
          <p:nvPr/>
        </p:nvPicPr>
        <p:blipFill>
          <a:blip r:embed="rId1"/>
          <a:stretch/>
        </p:blipFill>
        <p:spPr>
          <a:xfrm>
            <a:off x="4572000" y="990720"/>
            <a:ext cx="38941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5T09:29:06Z</dcterms:created>
  <dc:creator>van Geenhuizen</dc:creator>
  <dc:description/>
  <dc:language>en-US</dc:language>
  <cp:lastModifiedBy>gianotti</cp:lastModifiedBy>
  <cp:lastPrinted>2012-05-16T09:34:38Z</cp:lastPrinted>
  <dcterms:modified xsi:type="dcterms:W3CDTF">2012-05-21T16:07:21Z</dcterms:modified>
  <cp:revision>382</cp:revision>
  <dc:subject/>
  <dc:title>Geen diatitel</dc:title>
</cp:coreProperties>
</file>