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FED-B2B5-44FD-93F4-ED4550B7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B52-9BB9-4E1E-B64B-9420F104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297-5233-4BA8-A7F8-B6945787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985-1351-4F9D-939C-65BC72D8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162-1B9D-4B4D-9ADE-28316EE8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E8B-3C01-40D9-A50E-5A2C61AF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78F-CCFE-439F-ABA8-AF12144A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B3B-2C6D-42DA-B203-56EDC084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2B0-E613-45BD-89DD-C1968FDC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453-B24E-4615-B66F-F2F2A177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09C-25D9-4E02-A536-F67D32A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354-1901-4B22-99D2-A073720E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5BC9-71E3-4B6D-8575-422DE45B57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nece.org/trans/main/wp29/wp29wgs/wp29grsp/gtr7phase2_3_drawing_package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311120"/>
            <a:ext cx="8207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Draft Status Report of the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BioRID 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d Lorenz (B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va,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284720" y="26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formal docu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SP-51-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1st GRSP,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20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enda item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nd Lor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ndesanstalt für Straßenwesen (B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üderstraße 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-51427 Bergisch Glad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renz@bast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eting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January 2010: last official Global BioRID User (WebEX) Meeting (GBUM) chaired by Mike Beebe (Dent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ebruary 2010: joint with IWG GTR No. 7 - Toky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March 2010: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meeting (hosted by Dent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pril 2010: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Meeting (hosted by FT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July 2010: 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meeting (hosted by Huma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eptember 2010: 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meeting (hosted by Huma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2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September 2010: joint with IWG GTR No. 7 –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vember 2010: 5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– (hosted by Huma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cember 2010: joint with IWG GTR No. 7 – 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ebruary 2011: 6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– (hosted by Huma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ebruary 2011: joint with IWG GTR No. 7 – Bru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pril 2011: 7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– (hosted by Huma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eting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June 2011: 8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– (hosted by Huma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June 2011: joint with IWG GTR No. 7 – Washington D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6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cember 2011: joint with IWG GTR No. 7 – 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cember 2012: 9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– (hosted by Huma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January 2012: 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– (hosted by Huma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February 2012: face to face meeting and 1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– Bast, Bergisch Glad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March 2012: 1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– (hosted by Huma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March 2012: joint with IWG GTR No. 7 – Lond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xt TEG meeting: 1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May: 1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ebEx  (cance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ssues under Discussion /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certification procedure (without head restraint) in use and corridors need to be tight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eatability and Reproducibility – data collection with new certifica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cket Test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llection of certification procedure with head restraint and higher pendulum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certification tests and better control of material properties might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Data analysis of test series conducted on behalf of EC/TRL, OSRP, VRTC, PDB is ongoing -&gt; some results/findings were presented at the Londo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gress reached so far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24000" y="1773000"/>
            <a:ext cx="6840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2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 drawing package available on UNECE website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nece.org/trans/main/wp29/wp29wgs/wp29grsp/gtr7phase2_3_drawing_package.html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 PADI available on UNECE website  (TEGID-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list included in PADI to check for correct buil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ill some feed back need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lease provide information/result of built level check to Humane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39640" y="1052640"/>
            <a:ext cx="8363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rmonization of Draw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Humane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4920" y="1622520"/>
            <a:ext cx="2016000" cy="27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108000" y="4076640"/>
            <a:ext cx="19000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300720" y="2189160"/>
            <a:ext cx="2613240" cy="3687840"/>
          </a:xfrm>
          <a:prstGeom prst="rect">
            <a:avLst/>
          </a:prstGeom>
          <a:ln w="3240">
            <a:solidFill>
              <a:srgbClr val="333399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gress reached so far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8600" y="764640"/>
            <a:ext cx="85741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certification procedure and  corridors (Humanetics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50920" y="1700280"/>
            <a:ext cx="85741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certification sled(s)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s with and without head restr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cket test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draft certification corridors proposed by Humanetics on the basis of data from different BioR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BioRIDs used in test programs for TEG activities shall be of built level according PADI and certified according to the new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ification data (with head restraint and jacket, also) shall be provided to Humanetics for tightening corrid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Based on new test results (EC/TRL test serie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Pelvis certification test might be added (stiffness and geometry che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Quasi-static spine stiffness test pro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Better control of bumper stiff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gress reached so far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0240" y="765000"/>
            <a:ext cx="83581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EC/TRL–tes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BioRID (no. 006, 007, 028, 068, 077,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wapping of parts between dummies (e.g. spine, pelv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leration sled, lab seat, draft GTR 7-pulse (JNCAP sty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kumente und Einstellungen\lorenz\Desktop\BioRID\IMG_8388.JPG"/>
          <p:cNvPicPr/>
          <p:nvPr/>
        </p:nvPicPr>
        <p:blipFill>
          <a:blip r:embed="rId1"/>
          <a:stretch/>
        </p:blipFill>
        <p:spPr>
          <a:xfrm>
            <a:off x="1544760" y="2538360"/>
            <a:ext cx="597996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gress reached so far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0240" y="765000"/>
            <a:ext cx="83581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eatability and Reproducibility (EC/TRL, OSRP, VRTC, Humanetics, PDB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issues identified which seems to influence R &amp;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24000" y="2205000"/>
            <a:ext cx="85737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s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cket (e.g. stiffness) -&gt; jacket cert test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ck pins -&gt; better control of tole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lvis stiffness and geometry -&gt; pelvis cert test might be added, geometry check/control may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mpers -&gt; better control of material propertie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rtification corridors need to be tightened, more data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ral remarks / Outl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07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ings, draft PADI, check list for built level, draft certification procedure avail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certification procedure in use and further cert tests und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/TRL test series delivered important results/finding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findings need to be verified by additional testing (e.g. swapping of dummy parts, bump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neral repeatability of BioRID good (kinematics 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roducibility of some channels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test series planned for end of June at BASt with 3-4 refurbished BioRIDs. Dummies need to be shipped to Humanetics/USA for check and tuning of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9:52:42Z</dcterms:created>
  <dc:creator>Lorenz BASt</dc:creator>
  <dc:description/>
  <dc:language>en-US</dc:language>
  <cp:lastModifiedBy>gianotti</cp:lastModifiedBy>
  <dcterms:modified xsi:type="dcterms:W3CDTF">2012-05-21T16:05:05Z</dcterms:modified>
  <cp:revision>74</cp:revision>
  <dc:subject/>
  <dc:title>Status Report of the  BioRID TEG</dc:title>
</cp:coreProperties>
</file>