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5480" y="4717800"/>
            <a:ext cx="4962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8"/>
          </p:nvPr>
        </p:nvSpPr>
        <p:spPr>
          <a:xfrm>
            <a:off x="411120" y="9618840"/>
            <a:ext cx="4813200" cy="31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Presentation title in CorpoS Regular 9 pt | Department |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29"/>
          </p:nvPr>
        </p:nvSpPr>
        <p:spPr>
          <a:xfrm>
            <a:off x="-360" y="9618840"/>
            <a:ext cx="374760" cy="31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0B45-CC40-49D0-81D3-F0430E831ABE}" type="slidenum">
              <a:rPr b="0" lang="de-DE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Gerade Verbindung 7"/>
          <p:cNvSpPr/>
          <p:nvPr/>
        </p:nvSpPr>
        <p:spPr>
          <a:xfrm>
            <a:off x="411120" y="9615600"/>
            <a:ext cx="592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3" descr="WortMArke_1200dpi_0,3"/>
          <p:cNvPicPr/>
          <p:nvPr/>
        </p:nvPicPr>
        <p:blipFill>
          <a:blip r:embed="rId2"/>
          <a:stretch/>
        </p:blipFill>
        <p:spPr>
          <a:xfrm>
            <a:off x="5470560" y="9715680"/>
            <a:ext cx="857160" cy="10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ußzeilenplatzhalter 5"/>
          <p:cNvSpPr/>
          <p:nvPr/>
        </p:nvSpPr>
        <p:spPr>
          <a:xfrm>
            <a:off x="411120" y="9618840"/>
            <a:ext cx="48132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Presentation title in CorpoS Regular 9 pt | Department | 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liennummernplatzhalter 6"/>
          <p:cNvSpPr/>
          <p:nvPr/>
        </p:nvSpPr>
        <p:spPr>
          <a:xfrm>
            <a:off x="0" y="9618840"/>
            <a:ext cx="37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DF6B-B037-4D85-AFF7-995EBA1BA362}" type="slidenum">
              <a:rPr b="0" lang="de-DE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5480" y="4717800"/>
            <a:ext cx="4962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326-4C23-4B8D-9C7C-E55AF701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A27-1499-4D67-8C66-8BA027E0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2A2-A86A-41AA-95CD-D966AC5D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3EC-3C25-4D50-BFE4-F99E8565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AC09-FDAE-43D9-9551-4AEA4A69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D28-8F20-483E-9BF7-8361FAC2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3C78-FDEF-4B1A-A67C-161D449A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81D14-A412-4C5B-AB38-D167D2E0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63F9B-FFE0-465C-A91F-43FBB765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8DBB-DCFF-4A46-B4CD-AFED2D3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BCAE-5E57-49F5-9ED7-D2EEE1F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8A643-F851-4578-A9A8-205F8D4B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DCB40-7023-407E-A1F4-16747CE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B59F-12F9-4ED8-916E-8D73754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4A77-1BBE-4F08-8250-87B4788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D8D3-397D-49FC-AC46-7ED1069C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C70BC-340B-4D30-9885-42D78F8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0AE75-EDD2-42B1-B5EA-CEDB4FBD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B750-285F-49CB-B2F2-0A039447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FE91B-96FA-4C94-82A7-536038B8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0C6E0-86AF-4FC8-80E0-B2076167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5020-8CCC-4DE3-B43C-9FF604E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8BC37-8EB8-46DE-8CD8-A928909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52CA2-1009-4E5E-AAB2-B18556E8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0F54-4DA0-484B-A0A2-36A5A6B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70B8C-95E4-4A54-B313-D795A90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A0B6F-F40C-4AF1-AD17-E434D52D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15879-8781-4ED5-8419-FFFF7B6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D9D52-CDD0-458A-819B-054775F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98DB4-E060-4377-8575-6A641B6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CE1BB-90F4-4E16-9905-06B372D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6E038-4A92-4DBE-B99A-F5502CC7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5DD5-A7B3-4A79-8A06-034002AC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BF1ED-C03A-47B7-8182-380951BC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A80A-C764-4A48-BB72-CF61D53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EFF-3038-4CEC-8C8A-83B2619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9784-93FC-4DA4-8B14-DB9C543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4B24-2AD5-4CD4-93C3-C0F5C8C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4987-F117-4903-88F8-DF47F9FB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9A72-1267-4E0B-B92C-4D547387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83F-2AA8-4420-A919-D208AFDC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F1C6-932F-4F8B-B919-750EB966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6367-0725-45BB-A28C-24F3FCC1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496C1-53C9-480F-924F-C0E1C508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278A-27B3-4DF7-B2DE-1A56862F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C1E8-0B91-4F85-831F-89E54CCB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668-9771-4D53-9DBF-81DA2B99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3048-7373-4941-8C6F-F0A1024F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0626-E020-41CA-AB92-B492F8C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2BFF-E1EA-4B8B-B9DB-1077486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A070-1290-43F0-8850-CDFD879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7E55-1EEC-4837-B606-001BA60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89DF-A9AE-4F72-ADCC-CCF1506B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6038-1A6B-4799-A021-CE5A3EB1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E36A3-EFA2-45DC-99D3-CEC07AD9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402F-6884-44EB-BABA-5CD847D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6AFB-0E0D-4025-BB0E-E2D882D8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B55-ACFA-4A21-820B-A3851CB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4B03-98B0-49FD-B5AB-D29A88D3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ED61-6B93-4F33-A74C-9C22DAD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E760-AEA8-421B-BADA-84543D26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CF09-B03E-41DC-B43F-3CF0F24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237C-CF44-4329-8512-215B76D4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17B9-8422-461A-8F2B-25CC989A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290E-B470-405A-8F19-D953637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C47B-2B44-46D8-A3C0-7E7F4B9C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9519-BDB8-4997-A2C6-F4D935C5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9638-966D-4851-80A2-02A231EA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997-3E99-4770-B788-92E52586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EE07-6AC1-4C7E-9D28-AD5C9FD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0BDA-412C-4805-B7BE-5F921E0C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EF3A-CF83-4B03-9325-031EBE07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DF272-A143-463E-8B60-122E5BB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3080-8910-4DB2-8136-6942D847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C984-DCDA-402C-BC07-2362516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2C78-F31A-49BC-859C-4D8F9A0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6FC5D-B513-433B-8CF4-631BD3E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5BAA-A749-4BF5-A90F-6FB44C6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1F5FF-149F-4C91-8C88-A1A9947E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017-D306-4879-89D5-B2874AC3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323E-2356-482D-B822-5E509161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6314-F0C8-4A11-B023-74B9918C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2C922-5975-4E94-92ED-DCC073B0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3A4F-5232-4FE5-8EB5-CC5CF857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153E-7767-40DA-A9B0-23A2370A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B0DF-C8F3-44F2-891D-23A54D8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CD2C2-382C-462D-AD32-958FFB0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DAF6-DE2C-4B82-9E33-21137BD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E83F5-50CA-4F97-B4FD-3E6D15F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4C53-D280-402B-B447-F5F1B9CD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C8E-AD2C-4EC5-B181-F01657C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38A0-CEE3-4E5C-B124-3D2982A6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438D-7222-442A-9055-093C55A3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2DF37-5F10-4B84-B8E8-3917E9F2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D57D3-498E-4C68-A76F-7994CDD2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64D91-FA1A-4C23-99D8-5981E5BA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85C3-4BEF-4E28-AEC3-272ED744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07F99-8383-4444-AFE3-CFCA7115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DC604-5B06-49D7-8438-FE9D67E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C9B2-ADD2-4115-830A-E9912A57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A79C7-4DDB-4E90-8F38-35F30B4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C58-2ED4-4E9D-A67A-6E9EA04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CD8EC-CBCB-4529-ADA2-8A465E4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4BA7-F2F4-44E4-8362-65C0BE20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8647-1CFE-43C7-A2B1-A0812250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68F2F-E374-4500-8FD5-EDAD2B1F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62DE-1B0F-4F1C-A9F6-F8D5A9F2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425-4EEE-4542-948F-C32EAE75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E93D-C59F-491D-BFAC-104F57B8F81D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AD4-BF2C-49CE-A293-A4F5B238C511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4" descr="WortMArke_1200dpi_0,3"/>
          <p:cNvPicPr/>
          <p:nvPr/>
        </p:nvPicPr>
        <p:blipFill>
          <a:blip r:embed="rId2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8" descr="nouveau logo OICA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F030-AEE0-4503-AB46-82C7E0B6EBB6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68F-A393-4936-964F-CE132BBF01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8" descr="nouveau logo OICA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9FF5-410B-4165-A5B8-438FC6E8FB8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osal for automatic door locking | Rossow | 17.04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605-012E-4255-BD51-97B7AD5E3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4564-2B5E-4483-B96D-7899B6D37E0A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516-06A5-45EE-A868-4E1AF7B4C2CD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02_MB_Powerpoint_Stempel_Draft_101111"/>
          <p:cNvPicPr/>
          <p:nvPr/>
        </p:nvPicPr>
        <p:blipFill>
          <a:blip r:embed="rId2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WortMArke_1200dpi_0,3"/>
          <p:cNvPicPr/>
          <p:nvPr/>
        </p:nvPicPr>
        <p:blipFill>
          <a:blip r:embed="rId3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BF3-A786-44C9-97FB-B87708EEF29B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2666-8D8A-4BEC-906E-EE35D82FCB2F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WortMArke_1200dpi_0,3"/>
          <p:cNvPicPr/>
          <p:nvPr/>
        </p:nvPicPr>
        <p:blipFill>
          <a:blip r:embed="rId2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05_MB_Powerpoint_Stempel_Confidential_241111"/>
          <p:cNvPicPr/>
          <p:nvPr/>
        </p:nvPicPr>
        <p:blipFill>
          <a:blip r:embed="rId3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D60C-1B88-4724-B9D2-1AD5C663C0E6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21A2-6499-4D5C-A7F2-FFFA481420AB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WortMArke_1200dpi_0,3"/>
          <p:cNvPicPr/>
          <p:nvPr/>
        </p:nvPicPr>
        <p:blipFill>
          <a:blip r:embed="rId2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03_MB_Powerpoint_Stempel_Secret_101111"/>
          <p:cNvPicPr/>
          <p:nvPr/>
        </p:nvPicPr>
        <p:blipFill>
          <a:blip r:embed="rId3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4582-41A1-4C9F-A3B7-EEF6449A6974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CED-3C75-4890-8C97-C3021D074F25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02_MB_Powerpoint_Stempel_Draft_101111"/>
          <p:cNvPicPr/>
          <p:nvPr/>
        </p:nvPicPr>
        <p:blipFill>
          <a:blip r:embed="rId2"/>
          <a:stretch/>
        </p:blipFill>
        <p:spPr>
          <a:xfrm>
            <a:off x="4911840" y="71280"/>
            <a:ext cx="18777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WortMArke_1200dpi_0,3"/>
          <p:cNvPicPr/>
          <p:nvPr/>
        </p:nvPicPr>
        <p:blipFill>
          <a:blip r:embed="rId3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05_MB_Powerpoint_Stempel_Confidential_241111"/>
          <p:cNvPicPr/>
          <p:nvPr/>
        </p:nvPicPr>
        <p:blipFill>
          <a:blip r:embed="rId4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433840" y="6548040"/>
            <a:ext cx="766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4DDA-FA6A-4F94-80AD-55ED6FCB6B31}" type="datetime">
              <a:rPr b="0" lang="en-US" sz="900" spc="-1" strike="noStrike">
                <a:solidFill>
                  <a:srgbClr val="000000"/>
                </a:solidFill>
                <a:latin typeface="CorpoS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94920" y="6548040"/>
            <a:ext cx="48942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Proposal for automatic door locking | Rossow | 17.04.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5320" y="6548040"/>
            <a:ext cx="25236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rpo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51F1-BEF1-4911-9837-634E5FF955BA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Gerade Verbindung 7"/>
          <p:cNvSpPr/>
          <p:nvPr/>
        </p:nvSpPr>
        <p:spPr>
          <a:xfrm>
            <a:off x="395280" y="6551640"/>
            <a:ext cx="8348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02_MB_Powerpoint_Stempel_Draft_101111"/>
          <p:cNvPicPr/>
          <p:nvPr/>
        </p:nvPicPr>
        <p:blipFill>
          <a:blip r:embed="rId2"/>
          <a:stretch/>
        </p:blipFill>
        <p:spPr>
          <a:xfrm>
            <a:off x="4911840" y="71280"/>
            <a:ext cx="1877760" cy="30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WortMArke_1200dpi_0,3"/>
          <p:cNvPicPr/>
          <p:nvPr/>
        </p:nvPicPr>
        <p:blipFill>
          <a:blip r:embed="rId3"/>
          <a:stretch/>
        </p:blipFill>
        <p:spPr>
          <a:xfrm>
            <a:off x="7808760" y="6649920"/>
            <a:ext cx="938520" cy="1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03_MB_Powerpoint_Stempel_Secret_101111"/>
          <p:cNvPicPr/>
          <p:nvPr/>
        </p:nvPicPr>
        <p:blipFill>
          <a:blip r:embed="rId4"/>
          <a:stretch/>
        </p:blipFill>
        <p:spPr>
          <a:xfrm>
            <a:off x="6862680" y="71280"/>
            <a:ext cx="18781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68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355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A3E0-DD83-4E95-A4CA-2870E496C8D8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osal for automatic door locking | Rossow | 17.04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79E-E7D4-4E2F-B19C-C00C4D451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8" descr="nouveau logo OICA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4920" y="366840"/>
            <a:ext cx="8348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po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orpo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394920" y="1420560"/>
            <a:ext cx="834876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1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2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3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4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5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lvl="6" marL="343080" indent="-343080">
              <a:lnSpc>
                <a:spcPts val="2599"/>
              </a:lnSpc>
              <a:spcAft>
                <a:spcPts val="1001"/>
              </a:spcAft>
              <a:buClr>
                <a:srgbClr val="000000"/>
              </a:buClr>
              <a:buFont typeface="Corpo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396720" y="884160"/>
          <a:ext cx="8344080" cy="4965840"/>
        </p:xfrm>
        <a:graphic>
          <a:graphicData uri="http://schemas.openxmlformats.org/drawingml/2006/table">
            <a:tbl>
              <a:tblPr/>
              <a:tblGrid>
                <a:gridCol w="1419480"/>
                <a:gridCol w="1154160"/>
                <a:gridCol w="1153800"/>
                <a:gridCol w="1154160"/>
                <a:gridCol w="1154160"/>
                <a:gridCol w="1154160"/>
                <a:gridCol w="115416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r locking status at engine ru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uto locking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locking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locking function is optional or can be deactiv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r locking status before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c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ruck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k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the test no door shall 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ocked after th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ion to the Techn. Ser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with one 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7" name="Rectangle 127"/>
          <p:cNvSpPr/>
          <p:nvPr/>
        </p:nvSpPr>
        <p:spPr>
          <a:xfrm>
            <a:off x="2151000" y="2833560"/>
            <a:ext cx="50472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8"/>
          <p:cNvSpPr/>
          <p:nvPr/>
        </p:nvSpPr>
        <p:spPr>
          <a:xfrm>
            <a:off x="3306600" y="2833560"/>
            <a:ext cx="50508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29"/>
          <p:cNvSpPr/>
          <p:nvPr/>
        </p:nvSpPr>
        <p:spPr>
          <a:xfrm>
            <a:off x="2144880" y="1481040"/>
            <a:ext cx="50472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30"/>
          <p:cNvSpPr/>
          <p:nvPr/>
        </p:nvSpPr>
        <p:spPr>
          <a:xfrm>
            <a:off x="3308400" y="1481040"/>
            <a:ext cx="50472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31"/>
          <p:cNvSpPr/>
          <p:nvPr/>
        </p:nvSpPr>
        <p:spPr>
          <a:xfrm>
            <a:off x="5627520" y="1481040"/>
            <a:ext cx="50508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2"/>
          <p:cNvSpPr/>
          <p:nvPr/>
        </p:nvSpPr>
        <p:spPr>
          <a:xfrm>
            <a:off x="6689880" y="1481040"/>
            <a:ext cx="50472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33"/>
          <p:cNvSpPr/>
          <p:nvPr/>
        </p:nvSpPr>
        <p:spPr>
          <a:xfrm>
            <a:off x="5621400" y="2833560"/>
            <a:ext cx="50472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34"/>
          <p:cNvSpPr/>
          <p:nvPr/>
        </p:nvSpPr>
        <p:spPr>
          <a:xfrm>
            <a:off x="4464000" y="2833560"/>
            <a:ext cx="50472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5"/>
          <p:cNvSpPr/>
          <p:nvPr/>
        </p:nvSpPr>
        <p:spPr>
          <a:xfrm>
            <a:off x="7593120" y="2833560"/>
            <a:ext cx="252360" cy="736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6"/>
          <p:cNvSpPr/>
          <p:nvPr/>
        </p:nvSpPr>
        <p:spPr>
          <a:xfrm>
            <a:off x="7329600" y="2833560"/>
            <a:ext cx="252360" cy="736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1"/>
          <p:cNvSpPr/>
          <p:nvPr/>
        </p:nvSpPr>
        <p:spPr>
          <a:xfrm>
            <a:off x="6288120" y="2160720"/>
            <a:ext cx="28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43"/>
          <p:cNvSpPr/>
          <p:nvPr/>
        </p:nvSpPr>
        <p:spPr>
          <a:xfrm>
            <a:off x="2057400" y="246240"/>
            <a:ext cx="2911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Regulation No. 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ZoneTexte 4"/>
          <p:cNvSpPr/>
          <p:nvPr/>
        </p:nvSpPr>
        <p:spPr>
          <a:xfrm>
            <a:off x="5880240" y="81000"/>
            <a:ext cx="310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SP-51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1st GRSP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20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6:18:59Z</dcterms:created>
  <dc:creator>Rossow, Joerg (059)</dc:creator>
  <dc:description/>
  <dc:language>en-US</dc:language>
  <cp:lastModifiedBy>gianotti</cp:lastModifiedBy>
  <dcterms:modified xsi:type="dcterms:W3CDTF">2012-05-16T10:00:47Z</dcterms:modified>
  <cp:revision>27</cp:revision>
  <dc:subject/>
  <dc:title>Folie 1</dc:title>
</cp:coreProperties>
</file>