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A07-6EED-4065-9C77-C7E4B7F2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4137120"/>
            <a:ext cx="8534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B27-6C87-4D94-84BB-CE61E300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B19-18D9-4B83-997B-797CAAA3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4137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4137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4137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563E-B402-48AB-BACA-2A53AA0C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3452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157-F929-443A-8C26-147FB3E6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784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137120"/>
            <a:ext cx="8534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4137120"/>
            <a:ext cx="8534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784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4137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90680" y="4137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6080" y="4137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FEE-6B3F-40BD-96E1-DDA59419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1A2-229A-4DCE-9D4A-D78BA2B4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482-09BC-41AA-AC6B-883525A0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43452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365-1171-4F39-9DD8-A7CF824D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F76-37D5-4F1E-9962-B19A6341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9E4-0527-4387-91E2-2ED6E66C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137120"/>
            <a:ext cx="8534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495-A755-4BFF-96AF-3027F5EA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>
            <a:off x="0" y="6426360"/>
            <a:ext cx="9144000" cy="431640"/>
          </a:xfrm>
          <a:prstGeom prst="rect">
            <a:avLst/>
          </a:prstGeom>
          <a:solidFill>
            <a:srgbClr val="005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24280"/>
            <a:ext cx="3679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5B7D-1A33-4124-9851-20EB80BF6E1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6"/>
          <p:cNvSpPr/>
          <p:nvPr/>
        </p:nvSpPr>
        <p:spPr>
          <a:xfrm>
            <a:off x="0" y="1268280"/>
            <a:ext cx="6300720" cy="0"/>
          </a:xfrm>
          <a:prstGeom prst="line">
            <a:avLst/>
          </a:prstGeom>
          <a:ln w="9360">
            <a:solidFill>
              <a:srgbClr val="0038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7" descr="1"/>
          <p:cNvPicPr/>
          <p:nvPr/>
        </p:nvPicPr>
        <p:blipFill>
          <a:blip r:embed="rId2"/>
          <a:stretch/>
        </p:blipFill>
        <p:spPr>
          <a:xfrm>
            <a:off x="178560" y="249120"/>
            <a:ext cx="2305080" cy="9590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" descr=""/>
          <p:cNvPicPr/>
          <p:nvPr/>
        </p:nvPicPr>
        <p:blipFill>
          <a:blip r:embed="rId3"/>
          <a:stretch/>
        </p:blipFill>
        <p:spPr>
          <a:xfrm>
            <a:off x="6300720" y="115920"/>
            <a:ext cx="2592360" cy="1297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5" descr="logo_unece"/>
          <p:cNvPicPr/>
          <p:nvPr/>
        </p:nvPicPr>
        <p:blipFill>
          <a:blip r:embed="rId4"/>
          <a:stretch/>
        </p:blipFill>
        <p:spPr>
          <a:xfrm>
            <a:off x="3708360" y="287280"/>
            <a:ext cx="1368360" cy="88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8"/>
          <p:cNvSpPr/>
          <p:nvPr/>
        </p:nvSpPr>
        <p:spPr>
          <a:xfrm>
            <a:off x="0" y="6426360"/>
            <a:ext cx="9177480" cy="431640"/>
          </a:xfrm>
          <a:prstGeom prst="rect">
            <a:avLst/>
          </a:prstGeom>
          <a:solidFill>
            <a:srgbClr val="003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5"/>
          <p:cNvGrpSpPr/>
          <p:nvPr/>
        </p:nvGrpSpPr>
        <p:grpSpPr>
          <a:xfrm>
            <a:off x="349200" y="0"/>
            <a:ext cx="8266320" cy="1236600"/>
            <a:chOff x="349200" y="0"/>
            <a:chExt cx="8266320" cy="1236600"/>
          </a:xfrm>
        </p:grpSpPr>
        <p:pic>
          <p:nvPicPr>
            <p:cNvPr id="48" name="Picture 13" descr="fiat_group"/>
            <p:cNvPicPr/>
            <p:nvPr/>
          </p:nvPicPr>
          <p:blipFill>
            <a:blip r:embed="rId2"/>
            <a:stretch/>
          </p:blipFill>
          <p:spPr>
            <a:xfrm>
              <a:off x="349200" y="357120"/>
              <a:ext cx="874800" cy="8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iveco gra"/>
            <p:cNvPicPr/>
            <p:nvPr/>
          </p:nvPicPr>
          <p:blipFill>
            <a:blip r:embed="rId3"/>
            <a:stretch/>
          </p:blipFill>
          <p:spPr>
            <a:xfrm>
              <a:off x="5816520" y="0"/>
              <a:ext cx="2799000" cy="12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Line 16"/>
          <p:cNvSpPr/>
          <p:nvPr/>
        </p:nvSpPr>
        <p:spPr>
          <a:xfrm>
            <a:off x="380880" y="5562720"/>
            <a:ext cx="8382240" cy="0"/>
          </a:xfrm>
          <a:prstGeom prst="line">
            <a:avLst/>
          </a:prstGeom>
          <a:ln w="15840">
            <a:solidFill>
              <a:srgbClr val="aa12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2"/>
          <p:cNvSpPr/>
          <p:nvPr/>
        </p:nvSpPr>
        <p:spPr>
          <a:xfrm>
            <a:off x="-363600" y="5254560"/>
            <a:ext cx="1936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298080" y="6524640"/>
            <a:ext cx="232884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Viena, 29th August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Marcador de fecha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4 Marcador de pie de página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Marcador de número de diapositiva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BC62-3A84-48DB-A074-7672E8B0DC8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55640" y="1922400"/>
            <a:ext cx="7632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1ff"/>
                </a:solidFill>
                <a:latin typeface="Calibri"/>
              </a:rPr>
              <a:t>LNG – Task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1e1"/>
                </a:solidFill>
                <a:latin typeface="Calibri"/>
              </a:rPr>
              <a:t>Report of activities to the GRSG 102</a:t>
            </a:r>
            <a:r>
              <a:rPr b="0" lang="en-GB" sz="2400" spc="-1" strike="noStrike" baseline="30000">
                <a:solidFill>
                  <a:srgbClr val="0051e1"/>
                </a:solidFill>
                <a:latin typeface="Calibri"/>
              </a:rPr>
              <a:t>nd</a:t>
            </a:r>
            <a:r>
              <a:rPr b="0" lang="en-GB" sz="2400" spc="-1" strike="noStrike">
                <a:solidFill>
                  <a:srgbClr val="0051e1"/>
                </a:solidFill>
                <a:latin typeface="Calibri"/>
              </a:rPr>
              <a:t>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16th-20th April 2012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6378480" y="1287360"/>
            <a:ext cx="2516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Informal document GRSG-102-25</a:t>
            </a:r>
            <a:br>
              <a:rPr sz="1200"/>
            </a:b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(102</a:t>
            </a:r>
            <a:r>
              <a:rPr b="0" lang="en-US" sz="1200" spc="-1" strike="noStrike" baseline="30000">
                <a:solidFill>
                  <a:srgbClr val="003896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 GRSG, 16-20 April 2012</a:t>
            </a:r>
            <a:br>
              <a:rPr sz="1200"/>
            </a:b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agenda item 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3 Marcador de fecha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4 Marcador de pie de página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5 Marcador de número de diapositiva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9886-C228-4AC1-BD72-45AE01F993D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68360" y="1197000"/>
            <a:ext cx="842472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GB" sz="2200" spc="-1" strike="noStrike">
                <a:solidFill>
                  <a:srgbClr val="0051ff"/>
                </a:solidFill>
                <a:latin typeface="Calibri"/>
              </a:rPr>
              <a:t>The LNG Task Force was created to develop technical specifications for LNG (Liquefied Natural Gas) cryogenic components to be installed on-board road vehic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The LNG Task Force results from the work of the Heavy Duty Dual-Fuel Task Force (operating within the Informal Group on Gaseous Fuelled Vehicles of the GRPE) developing technical specifications to enable certification of D-F engi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 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Timely development of compatible LNG component regulations  will allow for  EU Type Approval of vehicles with D-F engi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Four meetings of the LNG-TF have been held  (September &amp; November 2011 and February &amp; March 2012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- Chairman: Mr. Paul Dijkhof – KIWA (N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- Co-secretariat: Dr. Seisler (NGV Global)/Mr. del Álamo (NGVA 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  Europ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fecha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4 Marcador de pie de página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 Marcador de número de diapositiva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C22B-E1EB-48D3-AB19-D9F1392ECDD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68360" y="1341360"/>
            <a:ext cx="82803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PPROACH TO THE NEW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1ff"/>
              </a:buClr>
              <a:buFont typeface="Arial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Principle point decided: To amend the existing R.110 rather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than create an entirely new technical regulation for LNG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(which would require duplication of much of R.110 due to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overlap and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create difficulties for future harmonization as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R.110 is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amended over tim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-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Some components of LNG systems are the same as CNG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systems so the existing R.110 language has been adapted or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additions have been made to also cover LNG  (mostly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editorial in natu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-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Specifications for dedicated LNG components are being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placed in a separate annex to R.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34100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CIFIC CHANGES RELATED TO L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Multifunctional components will be covered: i.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LNG tanks with internal cryogenic pum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LNG rigid and flexible fuel lines can be made only of stainless steel, to prevent from embritt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Management of methane into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Boil-off, boil-off management systems and venting system definitions and prescriptions are inser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5 day minimum LNG ‘holding time’ aligned with US regulations (SAE J 2343 and CAR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02FE-40CA-423D-A4EA-0EBC80A9D96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Marcador de fecha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Marcador de pie de página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 Marcador de número de diapositiva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14AD-4434-45DB-BD96-430589E8FAD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468360" y="1341360"/>
            <a:ext cx="82803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CIFIC CHANGES RELATED TO LNG 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Identification mark for vehicles and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- Vehicles: same approach as for CNG. Only mandatory for public service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51ff"/>
              </a:buClr>
              <a:buFont typeface="Calibri"/>
              <a:buChar char="-"/>
              <a:tabLst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Components: they will be marked accordingly, to reflect information like: manufacturer, serial number, type of fuel, capacity, pressur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A new Class 5 component was introduced:  Parts in contact with LNG, or at temperature below -40</a:t>
            </a:r>
            <a:r>
              <a:rPr b="1" lang="en-GB" sz="2400" spc="-1" strike="noStrike" baseline="30000">
                <a:solidFill>
                  <a:srgbClr val="0051ff"/>
                </a:solidFill>
                <a:latin typeface="Calibri"/>
                <a:ea typeface="ＭＳ Ｐゴシック"/>
              </a:rPr>
              <a:t>0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C and a storage pressure less than 26 Mpa  prevent certain manufacturers from certifying CNG components with higher pressure than 26MPa under this new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fecha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pie de página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5 Marcador de número de diapositiva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D0B7-5E8B-4F08-8996-DEBD10D2943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68360" y="1341360"/>
            <a:ext cx="8280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CIFIC CHANGES RELATED TO LNG 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1ff"/>
              </a:buClr>
              <a:buFont typeface="Arial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Periodic inspection requirements: same as specified in TPED: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visual inspection at least once every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Acceleration requirements: same as for CNG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55700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S FOR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Informal document presented at 102</a:t>
            </a:r>
            <a:r>
              <a:rPr b="1" lang="en-GB" sz="2400" spc="-1" strike="noStrike" baseline="30000">
                <a:solidFill>
                  <a:srgbClr val="0051ff"/>
                </a:solidFill>
                <a:latin typeface="Calibri"/>
              </a:rPr>
              <a:t>nd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 GR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Next Meeting: 6</a:t>
            </a:r>
            <a:r>
              <a:rPr b="1" lang="en-GB" sz="2400" spc="-1" strike="noStrike" baseline="30000">
                <a:solidFill>
                  <a:srgbClr val="0051ff"/>
                </a:solidFill>
                <a:latin typeface="Calibri"/>
              </a:rPr>
              <a:t>th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 June in Geneva during  week of GRP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Editorial changes to complet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Completion of annex for LNG-specific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Presentation of Formal Document for consideration by 103</a:t>
            </a:r>
            <a:r>
              <a:rPr b="1" lang="en-GB" sz="2400" spc="-1" strike="noStrike" baseline="30000">
                <a:solidFill>
                  <a:srgbClr val="0051ff"/>
                </a:solidFill>
                <a:latin typeface="Calibri"/>
              </a:rPr>
              <a:t>rd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 GR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7E98-00EC-4A92-9E3D-267168FACB9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07:40:25Z</dcterms:created>
  <dc:creator>J. Alamo</dc:creator>
  <dc:description/>
  <dc:language>en-US</dc:language>
  <cp:lastModifiedBy>Romain Hubert</cp:lastModifiedBy>
  <cp:lastPrinted>2007-04-03T10:24:52Z</cp:lastPrinted>
  <dcterms:modified xsi:type="dcterms:W3CDTF">2012-04-16T08:21:34Z</dcterms:modified>
  <cp:revision>190</cp:revision>
  <dc:subject/>
  <dc:title>Diapositiva 1</dc:title>
</cp:coreProperties>
</file>