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8FB7-4250-409D-AB7A-6926D2F30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6521-CE6E-44B4-B3E2-20980F2EB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4056-EAF4-415B-8900-A38495CD1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trogen oxide and nitrogen oxides (ND IR) pg 22 Anne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ill be consider also a summary of the assessment criteria that you will find in the CIRCA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E054-1005-4E0E-BC65-BC1B66CF9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US OXIDE =N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6D24-6C01-4B96-8E53-F54102BCE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149-3591-4D0B-850B-9D7C3D50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310-E06D-4AEB-80DD-79B3EA7C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E8C-66F4-464A-A221-6570F94C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6F3-5C43-4E7F-B9BA-9F7B6556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653-5B19-4950-BB7C-4B250465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3DD7-34BA-44F8-96FC-129239AC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3C6-519E-4F2E-8600-3F3AD5C3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E07-2AC6-46EE-922E-8ABF15CA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FE6-5B39-436B-B162-AEE43F7D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EB91-9A36-4B80-A00A-AC26E65B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219-E0EA-4685-8E72-135C63C2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539-BF08-4076-B097-707EBBA8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32AE-924E-468B-9D13-2E07DE344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Report Jun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repor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 06. Jun.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7321680" y="12060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WLTP-DTP-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84760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necessa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or additional Validation test will be discussed in detail during next face to face meeting in Frankfurt (hosted by Hori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19.06.20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10:00 – 16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31320" y="1568520"/>
            <a:ext cx="7207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urther definition of an additional valid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1"/>
          <p:cNvSpPr/>
          <p:nvPr/>
        </p:nvSpPr>
        <p:spPr>
          <a:xfrm>
            <a:off x="6653160" y="795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4233960" y="5994360"/>
            <a:ext cx="457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i="1" lang="fr-FR" sz="2000" spc="-1" strike="noStrike">
                <a:solidFill>
                  <a:srgbClr val="333399"/>
                </a:solidFill>
                <a:latin typeface="Comic Sans MS"/>
              </a:rPr>
              <a:t>THANKS FOR YOUR ATTEN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Comic Sans MS"/>
              </a:rPr>
              <a:t>C. Asto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1080" y="2328840"/>
            <a:ext cx="835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CIRCA documents WLTP-DTP-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GTR proposal: </a:t>
            </a:r>
            <a:r>
              <a:rPr b="1" i="1" lang="en-US" sz="2800" spc="-1" strike="noStrike">
                <a:solidFill>
                  <a:srgbClr val="6b6bcf"/>
                </a:solidFill>
                <a:latin typeface="Arial"/>
              </a:rPr>
              <a:t>Main contribution to Annex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91320" y="8370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eting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25600" y="1477800"/>
          <a:ext cx="8304120" cy="3884760"/>
        </p:xfrm>
        <a:graphic>
          <a:graphicData uri="http://schemas.openxmlformats.org/drawingml/2006/table">
            <a:tbl>
              <a:tblPr/>
              <a:tblGrid>
                <a:gridCol w="803160"/>
                <a:gridCol w="2143080"/>
                <a:gridCol w="1741680"/>
                <a:gridCol w="1253880"/>
                <a:gridCol w="2362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20.07.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Web/Tel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Defin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27.09.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Web/Tel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List of pollut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9./10.12.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JRC/Isp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List of Candidate meth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7./8.03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BMW/Muni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Drafting of G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10/11.05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JRC/Isp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Drafting of G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09.12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Web/Tel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VP2 parameter 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.05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/Tel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issues G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.05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/Tel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issues G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.06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oriba/Frankfu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of 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b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b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21800" y="1474920"/>
            <a:ext cx="8037720" cy="405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lidation phase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/N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measuremen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ll labs should provide feed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nly some labs will provid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 for Diesel with SCR: a few labs will be able to del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O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hy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ater… (specific VF for those compounds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74560" y="1650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articipating labs measure both ways (bag and dilute mod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easure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difference between dilute and modal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tes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ility of NO result compared to NOx-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ility of NO result from bag measurement versus dilute mo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39280" y="863640"/>
            <a:ext cx="528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ion phase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/NOx-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595520" y="4795920"/>
            <a:ext cx="65754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participating labs in VP2 should deliv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7135560" y="6180120"/>
            <a:ext cx="156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43-45; Annex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49 Mix g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15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of two (or more) different systems in parallel (e.g. QCL*, GC-ECD, FTIR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bration Gas: 5 ppm of 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in N2 (+/- 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easure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ability of air bag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n result of the tw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ity of calibration (apply calibration gas before and after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tes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ility of 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41440" y="838080"/>
            <a:ext cx="480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ion phase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-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759120" y="5614920"/>
            <a:ext cx="42782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labs will deliv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503840" y="651816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52-53; Annex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433440" y="650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Quantun cascade Laser dete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46680" y="933480"/>
            <a:ext cx="24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ion phase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772080" y="5499000"/>
            <a:ext cx="46051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few labs will deliv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36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nly for Diesel with SC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care of extracted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of two systems in parallel (e.g. QCL and FTIR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of different sampl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with smallest possible Volume, shortest possible lin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with larger Volume and lin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available, use in situ system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easu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average concentration resu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races of the systems (incidence of first peak, rise time, dr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tes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ility of NH3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7528320" y="647388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50-51; Annex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03000" y="193680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ation of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34320" y="2755800"/>
            <a:ext cx="8309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/N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sufficient results expected from V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limited results from VP2 additional validation might be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itional validatio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O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itional validatio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dehyd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itional validatio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5707080" y="2271600"/>
            <a:ext cx="752400" cy="3988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O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42720" y="1623960"/>
            <a:ext cx="88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set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in one lab (tb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ex fuel vehicles runnig on E05, E25 and E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est to suppliers to make available online systems for Et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systems measure in parallel along with existing impinger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should be carried out together with validation of aldehydes (on-line systems for Aldehydes are under development but not yet available) for efficiency reas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77920" y="81612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ation of EtOH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7503840" y="651816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54-55; Annex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80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setu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ine systems for Aldehydes are under development but not ye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soon as systems become avail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in one lab (tb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est to suppliers to make available online systems for aldehy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systems measure, in parallel, along with existing DNPH-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06520" y="816120"/>
            <a:ext cx="3635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ation of Aldehy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7503840" y="65181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56; Annex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2:57:13Z</dcterms:created>
  <dc:creator>Moersch, Oliver (019)</dc:creator>
  <dc:description/>
  <dc:language>en-US</dc:language>
  <cp:lastModifiedBy>Pierpaolo Cazzola</cp:lastModifiedBy>
  <dcterms:modified xsi:type="dcterms:W3CDTF">2012-06-08T14:54:07Z</dcterms:modified>
  <cp:revision>55</cp:revision>
  <dc:subject/>
  <dc:title>Folie 1</dc:title>
</cp:coreProperties>
</file>