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EDB-5F12-489A-89D6-B0280C9D5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ABE8-4F09-44EF-B413-E87EA2FD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6FDE-54DD-452C-8AC2-2F356F79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trogen oxide and nitrogen oxides (ND IR) pg 22 Anne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be consider also a summary of the assessment criteria that you will find in the CIRCA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F0F-4D30-4A72-AE99-AE7ADD34D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US OXIDE =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5E0-AE6A-4F79-B229-427EEB2A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933-37CD-497C-96E9-08AB49A7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31E-F32B-45A9-93BF-8B943B61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E56-7265-43F8-8A26-CFA86CE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2E9-37F5-4DA8-B822-4E4DE0B8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4D9-1F5A-4787-85D5-37AB73DB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013-C53A-413F-84E6-EEDECA8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069-6204-4F52-A0E9-F60EF823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121-5A9C-41E5-BFD0-C19A9C2F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F07-A966-4D3D-B8A1-F8C5B49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AEC-268A-4C13-9D45-0E8B9D0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BD2-CD5F-4727-ABB3-94ED9EC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93E-0BDD-4715-99F9-ECB73CE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A2E-B850-40CD-ABA7-052B879D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06. Jun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7321680" y="12060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84760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necess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additional Validation test will be discussed in detail during next face to face meeting in Frankfurt (hosted by Hori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19.06.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0:00 –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31320" y="1568520"/>
            <a:ext cx="7207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urther definition of an additional valid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6653160" y="795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233960" y="5994360"/>
            <a:ext cx="45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THANKS FOR YOUR AT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C. Asto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1080" y="2328840"/>
            <a:ext cx="835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1" i="1" lang="en-US" sz="2800" spc="-1" strike="noStrike">
                <a:solidFill>
                  <a:srgbClr val="6b6bcf"/>
                </a:solidFill>
                <a:latin typeface="Arial"/>
              </a:rPr>
              <a:t>Main contribution to Annex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91320" y="8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25600" y="1477800"/>
          <a:ext cx="8304120" cy="3884760"/>
        </p:xfrm>
        <a:graphic>
          <a:graphicData uri="http://schemas.openxmlformats.org/drawingml/2006/table">
            <a:tbl>
              <a:tblPr/>
              <a:tblGrid>
                <a:gridCol w="803160"/>
                <a:gridCol w="2143080"/>
                <a:gridCol w="1741680"/>
                <a:gridCol w="1253880"/>
                <a:gridCol w="2362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20.07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efin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27.09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List of pollu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9./10.12.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JRC/Is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List of Candidate meth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7./8.03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BMW/Mu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rafting of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10/11.05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JRC/Is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Drafting of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  <a:ea typeface="ＭＳ Ｐゴシック"/>
                        </a:rPr>
                        <a:t>09.12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b3b3"/>
                          </a:solidFill>
                          <a:latin typeface="Arial"/>
                        </a:rPr>
                        <a:t>VP2 parameter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/Tel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 G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riba/Frankfu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of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b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1800" y="1474920"/>
            <a:ext cx="8037720" cy="40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/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measuremen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ll labs should provide feed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nly some labs will provid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for Diesel with SCR: a few labs will be able to del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hy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ter… (specific VF for those compound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74560" y="165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articipating labs measure both ways (bag and dilute mod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difference between dilute and modal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O result compared to NOx-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O result from bag measurement versus dilute m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9280" y="86364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/NOx-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95520" y="4795920"/>
            <a:ext cx="65754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articipating labs in VP2 should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7135560" y="6180120"/>
            <a:ext cx="156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43-45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49 Mix g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15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two (or more) different systems in parallel (e.g. QCL*, GC-ECD, FTIR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Gas: 5 ppm of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in N2 (+/- 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ability of air bag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result of the tw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ty of calibration (apply calibration gas before and after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41440" y="838080"/>
            <a:ext cx="480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759120" y="5614920"/>
            <a:ext cx="42782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labs will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503840" y="65181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2-53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33440" y="650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Quantun cascade Laser dete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46680" y="933480"/>
            <a:ext cx="24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ion 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772080" y="5499000"/>
            <a:ext cx="46051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few labs will deliv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6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ly for Diesel with SC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care of extract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of two systems in parallel (e.g. QCL and FTIR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different sampl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with smallest possible Volume, shortest possible lin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with larger Volume and lin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available, use in situ system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average concentration 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races of the systems (incidence of first peak, rise time, dr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te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y of NH3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7528320" y="647388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0-51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03000" y="19368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34320" y="2755800"/>
            <a:ext cx="83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/N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ufficient results expected from V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limited results from VP2 additional validation might be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dehyd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validatio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5707080" y="2271600"/>
            <a:ext cx="752400" cy="398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O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2720" y="1623960"/>
            <a:ext cx="88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in one lab (tb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ex fuel vehicles runnig on E05, E25 and E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suppliers to make available online systems for E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ystems measure in parallel along with existing imping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should be carried out together with validation of aldehydes (on-line systems for Aldehydes are under development but not yet available) for efficiency rea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7920" y="81612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EtOH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503840" y="651816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4-55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set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systems for Aldehydes are under development but not ye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soon as systems become avail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in one lab (tb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to suppliers to make available online systems for aldehy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systems measure, in parallel, along with existing DNPH-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06520" y="816120"/>
            <a:ext cx="3635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ion of Aldehy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7503840" y="65181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56; Annex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Pierpaolo Cazzola</cp:lastModifiedBy>
  <dcterms:modified xsi:type="dcterms:W3CDTF">2012-06-08T14:54:07Z</dcterms:modified>
  <cp:revision>55</cp:revision>
  <dc:subject/>
  <dc:title>Folie 1</dc:title>
</cp:coreProperties>
</file>