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EB4-EFF4-4DF9-ABB1-31ACA1BB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694-BFAB-4EC2-8918-119CB375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235-9E91-4D9A-B784-4D616D9C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722-6DFE-4D36-AFD9-9F6D0AC7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915-D732-4861-81D2-DC563832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C1F-4CCA-4EA4-B01E-1CB42DD2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018-6240-46B8-96CD-262C48F1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984-9670-42C3-A10B-E66CE9EA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E7E-44AA-481A-B49C-A4200805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382-ABBD-4AAC-BD62-480C5C7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D1F-6BDD-469F-8EBE-82942DDF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01B-822A-40CE-9691-78C1072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A149-8A3E-4C2D-A3AC-E5EA107F2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P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eting – Geneva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June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20932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 on the execution status of Validatio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idation Tas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7315200" y="1522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WLTP-DTP-10-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mal (Poland) : VP2 tests have started and current plan is to complete them by end of July, as agreed a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TF+PLs meeting in Isp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kra and TUEF (Germany): VP2 tests are ongoing and should be completed by end of Ju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pan Laboratories (report from Ichikawa-s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EA Laboratories (report from W. Thi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61400" cy="3106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09480" y="3809880"/>
            <a:ext cx="7961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16 April 2012 the first Info Package was uploaded to JRC ftp server (folder 18) and the VP2 experimental tests on ICE vehicles star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15 May 2012 a new Info Package was uploaded, with instructions also for EV/HEV vehicles. This date can be considered as the starting date for the VP2 tests on EV/HE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rning Validation 1 tests on Low Powered Vehicles (Class 1 and Class 2 driving cycle), India delegation has presented an update at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HC meeting (5 June 20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676520" y="1219320"/>
          <a:ext cx="5562360" cy="4724280"/>
        </p:xfrm>
        <a:graphic>
          <a:graphicData uri="http://schemas.openxmlformats.org/drawingml/2006/table">
            <a:tbl>
              <a:tblPr/>
              <a:tblGrid>
                <a:gridCol w="1611360"/>
                <a:gridCol w="2377800"/>
                <a:gridCol w="1573200"/>
              </a:tblGrid>
              <a:tr h="2905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 rowSpan="18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THP (115 k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(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&amp; 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(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&amp; 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9280"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)   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=test number; 3= test repeti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7" name="Rectangle 5"/>
          <p:cNvSpPr/>
          <p:nvPr/>
        </p:nvSpPr>
        <p:spPr>
          <a:xfrm>
            <a:off x="7621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(experimental activity will be completed by 6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July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34920" y="1600200"/>
          <a:ext cx="7371000" cy="4648320"/>
        </p:xfrm>
        <a:graphic>
          <a:graphicData uri="http://schemas.openxmlformats.org/drawingml/2006/table">
            <a:tbl>
              <a:tblPr/>
              <a:tblGrid>
                <a:gridCol w="1411560"/>
                <a:gridCol w="2079360"/>
                <a:gridCol w="1376640"/>
                <a:gridCol w="1250640"/>
                <a:gridCol w="1252800"/>
              </a:tblGrid>
              <a:tr h="277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560">
                <a:tc rowSpan="19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 Commercial CNG Vehicle (High pm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 23/24 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ed at 31.05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(CNG-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+ 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+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+ 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+ 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1 filter for all or each phas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two reference fuel (CNG-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 (CNG-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72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*)   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=test number; 3= test repeti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09480" y="1143000"/>
          <a:ext cx="8229600" cy="282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8368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perimental activity will be completed by end of June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1981080"/>
          <a:ext cx="7772400" cy="4067280"/>
        </p:xfrm>
        <a:graphic>
          <a:graphicData uri="http://schemas.openxmlformats.org/drawingml/2006/table">
            <a:tbl>
              <a:tblPr/>
              <a:tblGrid>
                <a:gridCol w="1241640"/>
                <a:gridCol w="2257200"/>
                <a:gridCol w="1424160"/>
                <a:gridCol w="1425600"/>
                <a:gridCol w="1423800"/>
              </a:tblGrid>
              <a:tr h="5378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 / Comp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9640">
                <a:tc rowSpan="16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H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H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Port Injection (Medium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Medium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Medium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1023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9480" y="1905120"/>
          <a:ext cx="7925040" cy="3992400"/>
        </p:xfrm>
        <a:graphic>
          <a:graphicData uri="http://schemas.openxmlformats.org/drawingml/2006/table">
            <a:tbl>
              <a:tblPr/>
              <a:tblGrid>
                <a:gridCol w="1443240"/>
                <a:gridCol w="2128680"/>
                <a:gridCol w="1451160"/>
                <a:gridCol w="1450800"/>
                <a:gridCol w="1451160"/>
              </a:tblGrid>
              <a:tr h="284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 rowSpan="16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a (CH)</a:t>
                      </a:r>
                      <a:br>
                        <a:rPr sz="1900"/>
                      </a:br>
                      <a:br>
                        <a:rPr sz="1900"/>
                      </a:b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reparation: July 2012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sting: July/August 2012</a:t>
                      </a:r>
                      <a:br>
                        <a:rPr sz="1900"/>
                      </a:br>
                      <a:br>
                        <a:rPr sz="19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Indirect Injection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G Passenger Car Indirect Injection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2886120"/>
          <a:ext cx="8229600" cy="1954080"/>
        </p:xfrm>
        <a:graphic>
          <a:graphicData uri="http://schemas.openxmlformats.org/drawingml/2006/table">
            <a:tbl>
              <a:tblPr/>
              <a:tblGrid>
                <a:gridCol w="1163520"/>
                <a:gridCol w="1605240"/>
                <a:gridCol w="911160"/>
                <a:gridCol w="909720"/>
                <a:gridCol w="909360"/>
                <a:gridCol w="909720"/>
                <a:gridCol w="911160"/>
                <a:gridCol w="909720"/>
              </a:tblGrid>
              <a:tr h="220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 rowSpan="9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C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sts to be completed by mid-Augu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medium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hybrid passenger car (NOVC) (High pm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+ 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+ 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+ 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AP (NO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NH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N</a:t>
                      </a:r>
                      <a:r>
                        <a:rPr b="0" lang="en-US" sz="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+ 1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63640" y="1820880"/>
          <a:ext cx="7416720" cy="4086360"/>
        </p:xfrm>
        <a:graphic>
          <a:graphicData uri="http://schemas.openxmlformats.org/drawingml/2006/table">
            <a:tbl>
              <a:tblPr/>
              <a:tblGrid>
                <a:gridCol w="1704960"/>
                <a:gridCol w="2513160"/>
                <a:gridCol w="1662120"/>
                <a:gridCol w="1536480"/>
              </a:tblGrid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0880">
                <a:tc rowSpan="1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A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if time is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2O and NH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 filter stabil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4"/>
          <p:cNvSpPr/>
          <p:nvPr/>
        </p:nvSpPr>
        <p:spPr>
          <a:xfrm>
            <a:off x="762120" y="9144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(experimental activity will be completed by end of June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941480"/>
          <a:ext cx="8229600" cy="3843360"/>
        </p:xfrm>
        <a:graphic>
          <a:graphicData uri="http://schemas.openxmlformats.org/drawingml/2006/table">
            <a:tbl>
              <a:tblPr/>
              <a:tblGrid>
                <a:gridCol w="1590840"/>
                <a:gridCol w="2346120"/>
                <a:gridCol w="1552680"/>
                <a:gridCol w="1519200"/>
                <a:gridCol w="1220760"/>
              </a:tblGrid>
              <a:tr h="3031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atory/Comp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hicle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680">
                <a:tc rowSpan="16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RC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oline Passenger Car Direct Injection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 Commercial Diesel Vehicle (Medium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sel Passenger Car (High pm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High (TM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r>
                        <a:rPr b="0" lang="en-US" sz="13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 (*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&amp; 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 &amp; 6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(Euro 4 - No DP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necess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est Mass Low (TM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 Item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ehicle w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ode construction  (Cold - Hot star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norm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&amp; 4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PM/PN  (during rege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lass 2 test 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523880" y="1309680"/>
            <a:ext cx="610236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8:36:22Z</dcterms:created>
  <dc:creator>Alessandro Marotta</dc:creator>
  <dc:description/>
  <dc:language>en-US</dc:language>
  <cp:lastModifiedBy>Pierpaolo Cazzola</cp:lastModifiedBy>
  <dcterms:modified xsi:type="dcterms:W3CDTF">2012-06-08T14:52:27Z</dcterms:modified>
  <cp:revision>14</cp:revision>
  <dc:subject/>
  <dc:title>PowerPoint Presentation</dc:title>
</cp:coreProperties>
</file>