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2" name="Picture 111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8" descr="Slide_template_IES_logo"/>
          <p:cNvPicPr/>
          <p:nvPr/>
        </p:nvPicPr>
        <p:blipFill>
          <a:blip r:embed="rId3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19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" name="Rectangle 120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1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russels, 22 September 2009 – 101st MVE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22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132EFF4-45F9-4315-992C-0A948B1E5793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8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4" descr=""/>
          <p:cNvPicPr/>
          <p:nvPr/>
        </p:nvPicPr>
        <p:blipFill>
          <a:blip r:embed="rId3"/>
          <a:stretch/>
        </p:blipFill>
        <p:spPr>
          <a:xfrm>
            <a:off x="7162920" y="4267080"/>
            <a:ext cx="1933560" cy="19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0"/>
          <p:cNvSpPr/>
          <p:nvPr/>
        </p:nvSpPr>
        <p:spPr>
          <a:xfrm>
            <a:off x="838080" y="487692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Aft>
                <a:spcPts val="561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IES - Institute for Environment and Sustain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f3277"/>
                </a:solidFill>
                <a:latin typeface="Arial"/>
              </a:rPr>
              <a:t>Transport and Air Quality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400" spc="-1" strike="noStrike">
                <a:solidFill>
                  <a:srgbClr val="0f3277"/>
                </a:solidFill>
                <a:latin typeface="Arial"/>
              </a:rPr>
              <a:t>Alessandro.Marotta@jrc.ec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2"/>
          <p:cNvSpPr/>
          <p:nvPr/>
        </p:nvSpPr>
        <p:spPr>
          <a:xfrm>
            <a:off x="609480" y="16002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WLTP - Development of the Harmonized driving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Proposed methodology for assessing the suitability of existing in-use driving data through comparison with newly collected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(Ref. WLTP-DHC-02-1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4" descr="Slide_template_IES_logo"/>
          <p:cNvPicPr/>
          <p:nvPr/>
        </p:nvPicPr>
        <p:blipFill>
          <a:blip r:embed="rId4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75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0" name="Rectangle 176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77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8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405B62D-46F4-4A61-8781-115250BF2098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59788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WLTP - Validation Phase 2 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(acceptability of the new test procedure)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73"/>
                </a:solidFill>
                <a:latin typeface="Arial"/>
              </a:rPr>
              <a:t>18 January 2012, update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2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29600" y="1143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LTP-DTC-08-1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6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001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99" name="Oval 5"/>
          <p:cNvGrpSpPr/>
          <p:nvPr/>
        </p:nvGrpSpPr>
        <p:grpSpPr>
          <a:xfrm>
            <a:off x="3164040" y="798480"/>
            <a:ext cx="3590640" cy="2219400"/>
            <a:chOff x="3164040" y="798480"/>
            <a:chExt cx="3590640" cy="2219400"/>
          </a:xfrm>
        </p:grpSpPr>
        <p:pic>
          <p:nvPicPr>
            <p:cNvPr id="100" name="Oval 5" descr=""/>
            <p:cNvPicPr/>
            <p:nvPr/>
          </p:nvPicPr>
          <p:blipFill>
            <a:blip r:embed="rId3"/>
            <a:stretch/>
          </p:blipFill>
          <p:spPr>
            <a:xfrm>
              <a:off x="3164040" y="798480"/>
              <a:ext cx="359064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767040" y="1204920"/>
              <a:ext cx="2371680" cy="14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990720" y="1327320"/>
            <a:ext cx="8076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ion Phase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605640" y="11430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T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Test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Bevel 12"/>
          <p:cNvSpPr/>
          <p:nvPr/>
        </p:nvSpPr>
        <p:spPr>
          <a:xfrm>
            <a:off x="6300720" y="887400"/>
            <a:ext cx="3429000" cy="16938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990720" y="1371600"/>
            <a:ext cx="8076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ion Phase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605640" y="11430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T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Test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5562720" y="4191120"/>
            <a:ext cx="4190760" cy="26305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6019920" y="4660920"/>
            <a:ext cx="3352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TP Subgro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ssessment Criteria, Data Analysis, Corrective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0"/>
          <p:cNvCxnSpPr/>
          <p:nvPr/>
        </p:nvCxnSpPr>
        <p:spPr>
          <a:xfrm>
            <a:off x="8610120" y="2580840"/>
            <a:ext cx="1080" cy="1777320"/>
          </a:xfrm>
          <a:prstGeom prst="straightConnector1">
            <a:avLst/>
          </a:prstGeom>
          <a:ln w="76320">
            <a:solidFill>
              <a:srgbClr val="1a38cc"/>
            </a:solidFill>
            <a:miter/>
            <a:headEnd len="med" type="arrow" w="med"/>
            <a:tailEnd len="med" type="arrow" w="med"/>
          </a:ln>
        </p:spPr>
      </p:cxnSp>
      <p:sp>
        <p:nvSpPr>
          <p:cNvPr id="114" name="Bevel 12"/>
          <p:cNvSpPr/>
          <p:nvPr/>
        </p:nvSpPr>
        <p:spPr>
          <a:xfrm>
            <a:off x="6300720" y="887400"/>
            <a:ext cx="3429000" cy="16938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990720" y="1368360"/>
            <a:ext cx="807696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ion Phase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LTC and Gear Shift strate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Parameter Lists (ICE, E-Lab, PM/PN, AP, Fuel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Test Sequence (i.e. operating instructions for Lab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ode construction (Cold Start Emissions, 3-4 Bags, Range, etc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Data reporting (excel templat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JRC ftp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Additional Info (interaction with VTF/DT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511440" y="21272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ingle La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6605640" y="11430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T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Test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5562720" y="4191120"/>
            <a:ext cx="4190760" cy="20574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019920" y="4660920"/>
            <a:ext cx="3352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TP Subgro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ssessment Criteria, Data Analysis, Corrective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10"/>
          <p:cNvCxnSpPr/>
          <p:nvPr/>
        </p:nvCxnSpPr>
        <p:spPr>
          <a:xfrm>
            <a:off x="8610120" y="2580840"/>
            <a:ext cx="1080" cy="1777320"/>
          </a:xfrm>
          <a:prstGeom prst="straightConnector1">
            <a:avLst/>
          </a:prstGeom>
          <a:ln w="76320">
            <a:solidFill>
              <a:srgbClr val="1a38cc"/>
            </a:solidFill>
            <a:miter/>
            <a:headEnd len="med" type="arrow" w="med"/>
            <a:tailEnd len="med" type="arrow" w="med"/>
          </a:ln>
        </p:spPr>
      </p:cxnSp>
      <p:sp>
        <p:nvSpPr>
          <p:cNvPr id="123" name="Bevel 12"/>
          <p:cNvSpPr/>
          <p:nvPr/>
        </p:nvSpPr>
        <p:spPr>
          <a:xfrm>
            <a:off x="6300720" y="887400"/>
            <a:ext cx="3429000" cy="16938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lowchart: Card 3"/>
          <p:cNvSpPr/>
          <p:nvPr/>
        </p:nvSpPr>
        <p:spPr>
          <a:xfrm>
            <a:off x="990720" y="2084400"/>
            <a:ext cx="7024680" cy="2411280"/>
          </a:xfrm>
          <a:prstGeom prst="flowChartPunchedCard">
            <a:avLst/>
          </a:prstGeom>
          <a:noFill/>
          <a:ln w="38160">
            <a:solidFill>
              <a:srgbClr val="1a38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2133720" y="990720"/>
            <a:ext cx="6318000" cy="609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VTF – 2012 Program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Validation Phase 2 (provisional start: April 2012)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Road Load Determination (no need for validation ?)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Confirmation Tests (to be completed by December 2012)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27:22Z</dcterms:created>
  <dc:creator>marotal</dc:creator>
  <dc:description>© European Communities, 2007</dc:description>
  <cp:keywords/>
  <dc:language>en-US</dc:language>
  <cp:lastModifiedBy>PC2</cp:lastModifiedBy>
  <cp:lastPrinted>2003-09-04T09:59:31Z</cp:lastPrinted>
  <dcterms:modified xsi:type="dcterms:W3CDTF">2012-01-19T18:07:56Z</dcterms:modified>
  <cp:revision>98</cp:revision>
  <dc:subject>JRC Corporate Image Toolkit (CIT)</dc:subject>
  <dc:title>Slide 1</dc:title>
</cp:coreProperties>
</file>