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11E-501F-48D9-A4B0-59B7EFEB7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99CF-E6C0-4C09-B923-5F0C111B4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379-FAC2-4438-85E9-C6841A84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601-6E28-4F01-954A-1C88248D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2AA-9B38-42FD-8B68-8B55B003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152-0907-4B46-8468-C7B5F91E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B8F-405B-4FF5-BF6D-94D999BF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159-A789-4558-89A8-D6901CF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07F-52FF-4CCC-AA08-714FFA92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E98-A7C9-4F42-8DDE-35FB2F00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FAF-E398-40E8-BD9F-9FCAFF27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799-7799-40BC-9823-3E03CA9D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B5A-4603-4BF9-9BB2-F226235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6E6-CC93-4C4D-89DA-4F2FC57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44A-E190-4ED6-876A-2FA00DA5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anuary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18. Jan.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0200" y="1922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LTP-DTC-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53520" y="1208520"/>
            <a:ext cx="757656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th July 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th July 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JRC/Isp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/10 Dec. 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th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BMW/Muni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/8 March 20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th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JRC/Isp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/11 Mai 20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th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9th Dec. 20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-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asureme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olute difference between dilute and modal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 tes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ility of NO result compared to NOx-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ility of NO result from bag measurement versus dilute mo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46480" y="816120"/>
            <a:ext cx="53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ative assessment para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was discussed within group. There was agreement, that only NO2 should be required from all labs in VP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labs do not have instrumentation or instrumentation is not available for other 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 fuel E5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asurement of EtOH and Aldehydes not meaning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s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OH and Aldehydes should not be measured in V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labs to use existing equipment without specifying parameter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H3 only for Diesel with SC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ake care of extracted samp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 setup/analyzers used and experiences m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44320" y="816120"/>
            <a:ext cx="66045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est to prepare parameter list for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discussion of pros and cons it was decided to retain the possibility of bag measurement of NO for VP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rticipating labs should measure both ways (bag and dilute moda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decision will be based on results of VP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list has been amended (Version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46840" y="81612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measurement from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35080" y="1285920"/>
            <a:ext cx="8712000" cy="484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263160" y="77148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 List (AP) Ver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73040" y="1633680"/>
            <a:ext cx="8271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bag measurement for NO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e addressed in validation 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H3 sampling during engine of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perature for NH3 sampling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0 – 190?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: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tpoint between 110 °C and 190 °C with range of +/- 1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A position: between 110 and 133 due to decomposition of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40280" y="81612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73040" y="1633680"/>
            <a:ext cx="8271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ceability to national standards of cal gas for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TP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as industry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fficulties for NH3, ETOH to be expected, achievable accuracy/stability has to be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40280" y="81612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57:13Z</dcterms:created>
  <dc:creator>Moersch, Oliver (019)</dc:creator>
  <dc:description/>
  <dc:language>en-US</dc:language>
  <cp:lastModifiedBy>PC2</cp:lastModifiedBy>
  <dcterms:modified xsi:type="dcterms:W3CDTF">2012-01-19T18:06:45Z</dcterms:modified>
  <cp:revision>16</cp:revision>
  <dc:subject/>
  <dc:title>Folie 1</dc:title>
</cp:coreProperties>
</file>