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8BB-7AEF-4F5A-9CB1-06CBD23B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EA7E-F9B2-4283-841E-97F6DCDB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520-88A2-4739-955A-52808B31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38D-7B1E-4AA1-A170-9BAA532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930D-FF6D-4927-9CEB-85FE6B3D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C27-14CE-4C1E-90D0-8E636BF1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109-D720-4EF0-95A8-DEFD837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05B-59C5-4B2B-9B15-2C83F56D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68B-5FEB-4F71-B0C3-61EDCD35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DE6-6DA6-446C-9D14-422EBC0E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A81-E56C-47B5-813E-A025B18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984-818C-4A6F-9559-D40A69C1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64B-483B-4530-8A75-D560EB6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743-18CC-44B0-B49F-D3E0146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592-9F43-4394-B08D-EC165C16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anuar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18. Jan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0200" y="1922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LTP-DTC-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53520" y="1208520"/>
            <a:ext cx="757656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th July 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th July 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JRC/Isp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/10 Dec. 20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BMW/Muni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/8 March 20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th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JRC/Isp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/11 Mai 20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th Meeting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9th Dec. 2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-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asureme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lute difference between dilute and modal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ility of NO result compared to NOx-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ility of NO result from bag measurement versus dilute mo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46480" y="816120"/>
            <a:ext cx="53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ative assessment par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 was discussed within group. There was agreement, that only NO2 should be required from all labs in VP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labs do not have instrumentation or instrumentation is not available for other 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fuel E5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asurement of EtOH and Aldehydes not meaning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s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OH and Aldehydes should not be measured in V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labs to use existing equipment without specifying parameter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H3 only for Diesel with SCR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ake care of extracted samp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 setup/analyzers used and experiences m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44320" y="816120"/>
            <a:ext cx="66045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to prepare parameter list for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discussion of pros and cons it was decided to retain the possibility of bag measurement of NO for VP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articipating labs should measure both ways (bag and dilute mod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decision will be based on results of VP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list has been amended (Version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46840" y="81612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measurement from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35080" y="1285920"/>
            <a:ext cx="8712000" cy="484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263160" y="77148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 List (AP) Ver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73040" y="1633680"/>
            <a:ext cx="8271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bag measurement for NO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addressed in validation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H3 sampling during engine of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perature for NH3 sampling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 – 190?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: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tpoint between 110 °C and 190 °C with range of +/- 1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A position: between 110 and 133 due to decomposition of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40280" y="8161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umsplatzhalt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3040" y="1633680"/>
            <a:ext cx="8271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eability to national standards of cal gas for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P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as industry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ifficulties for NH3, ETOH to be expected, achievable accuracy/stability ha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40280" y="8161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PC2</cp:lastModifiedBy>
  <dcterms:modified xsi:type="dcterms:W3CDTF">2012-01-19T18:06:45Z</dcterms:modified>
  <cp:revision>16</cp:revision>
  <dc:subject/>
  <dc:title>Folie 1</dc:title>
</cp:coreProperties>
</file>