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58B-57A3-451E-B99A-B5CD8F36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050-13C0-459E-8D4B-83E024C8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EEC-6C76-4E4E-85CA-AB410612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851-82E5-4493-A6FC-5E0119DA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C62-E58B-4499-8097-0A57738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50C-F667-4581-A410-670E259F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6F1-7DC7-4D1C-9016-69629AB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7A1-1BC8-4BA1-81AE-AE2912C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B35-9F5B-4436-A2E2-2E991125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117-E0EE-4C9B-B3E5-7805B8D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5E8-F4A4-48B0-8D5E-9738015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9E5-2628-4856-867D-300F75B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2D71-49D5-40C7-BBD9-DFDF80D4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F1C7-E84B-4A62-B979-144CC0B25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09480" y="1231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 pa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Mode Construc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Valid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838080" y="345924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O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009880" y="440208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/DTP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va 17.01.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80360" y="189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6"/>
          <p:cNvSpPr/>
          <p:nvPr/>
        </p:nvSpPr>
        <p:spPr>
          <a:xfrm>
            <a:off x="684360" y="1125360"/>
            <a:ext cx="784836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document  represents the position of OICA working groups on WLTP mode construction for presentation at DHC11 at the GRPE Meeting  January 2012 in Gen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posal covers the mode construction for conventional vehicle with options to be tested in Validation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 construction for electrified vehicles provides procedures for determination of electrical range, for charge depleting (CD) and charge sustaining (CS) test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5092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Coventional Vehicles, Baseline test - Cold start -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262320" y="14144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056120" y="141444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 rot="16200000">
            <a:off x="4060800" y="382752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564000" y="2060640"/>
            <a:ext cx="273672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– 36 h So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536640" y="42084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859280" y="141444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5651640" y="1414440"/>
            <a:ext cx="82836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 rot="16200000">
            <a:off x="4751280" y="-244800"/>
            <a:ext cx="152280" cy="3083040"/>
          </a:xfrm>
          <a:custGeom>
            <a:avLst/>
            <a:gdLst>
              <a:gd name="textAreaLeft" fmla="*/ 0 w 152280"/>
              <a:gd name="textAreaRight" fmla="*/ 55080 w 152280"/>
              <a:gd name="textAreaTop" fmla="*/ 80280 h 3083040"/>
              <a:gd name="textAreaBottom" fmla="*/ 3002760 h 308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247640" y="9810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258920" y="148428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er Bat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3306600" y="266076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100400" y="266076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3301920" y="30304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4064040" y="30178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>
            <a:off x="4851360" y="30052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3298680" y="3417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4060800" y="3417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4890960" y="266076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5683320" y="266076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5648400" y="29988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6516720" y="29797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4879800" y="34178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5645160" y="341784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25476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02804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482472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5626440" y="318456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>
            <a:off x="4952880" y="49528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4992840" y="4608360"/>
            <a:ext cx="71892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2"/>
          <p:cNvSpPr/>
          <p:nvPr/>
        </p:nvSpPr>
        <p:spPr>
          <a:xfrm>
            <a:off x="5784840" y="460836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5749920" y="4946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>
            <a:off x="6618240" y="49276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>
            <a:off x="4981680" y="5365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5746680" y="5365800"/>
            <a:ext cx="86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926240" y="513252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>
            <a:off x="5727960" y="513252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26920" y="3759120"/>
            <a:ext cx="56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1) in case 4 bags sampling is not availabl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nd Ex-HIGH phases can be executed separat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0"/>
          <p:cNvSpPr/>
          <p:nvPr/>
        </p:nvSpPr>
        <p:spPr>
          <a:xfrm>
            <a:off x="3362400" y="460836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1"/>
          <p:cNvSpPr/>
          <p:nvPr/>
        </p:nvSpPr>
        <p:spPr>
          <a:xfrm>
            <a:off x="4168800" y="460836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2"/>
          <p:cNvSpPr/>
          <p:nvPr/>
        </p:nvSpPr>
        <p:spPr>
          <a:xfrm>
            <a:off x="3363840" y="49417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>
            <a:off x="3378240" y="53690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3680280" y="512604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amp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5"/>
          <p:cNvSpPr/>
          <p:nvPr/>
        </p:nvSpPr>
        <p:spPr>
          <a:xfrm>
            <a:off x="1476360" y="4653000"/>
            <a:ext cx="165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omple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&amp;M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28720" y="558972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2) Cycle phase to be 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41400" y="5934240"/>
          <a:ext cx="7920000" cy="62064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582560"/>
                <a:gridCol w="1873080"/>
                <a:gridCol w="719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maximum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6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8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11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phas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and MID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, MIDDLE and 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732720" y="2421000"/>
            <a:ext cx="2233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M-Filter for all 4 phases, some labs to measure 2 Filters (L+M, HxH), SoC for each phase separ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9"/>
          <p:cNvSpPr/>
          <p:nvPr/>
        </p:nvSpPr>
        <p:spPr>
          <a:xfrm>
            <a:off x="6732720" y="4292640"/>
            <a:ext cx="2233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M-Filter for all 4 phases, some labs to measure 2 Filters (L+M, HxH), SoC for each phase separ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5092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Baseline test - Hot start -]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003480" y="16588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797280" y="16588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132000" y="2781360"/>
            <a:ext cx="324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ntermediate soak i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16200000">
            <a:off x="3682080" y="810360"/>
            <a:ext cx="192240" cy="1501920"/>
          </a:xfrm>
          <a:custGeom>
            <a:avLst/>
            <a:gdLst>
              <a:gd name="textAreaLeft" fmla="*/ 0 w 192240"/>
              <a:gd name="textAreaRight" fmla="*/ 69480 w 192240"/>
              <a:gd name="textAreaTop" fmla="*/ 38880 h 1501920"/>
              <a:gd name="textAreaBottom" fmla="*/ 1463040 h 15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174480" y="12114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42920" y="1700280"/>
            <a:ext cx="136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er Bat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4616280" y="16574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5410080" y="16574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>
            <a:off x="4611600" y="202716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5373720" y="20145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6135840" y="20019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608360" y="2414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5370480" y="2414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4564440" y="218124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5337720" y="2181240"/>
            <a:ext cx="86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059280" y="3357720"/>
            <a:ext cx="56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1) some of laboratories will be required to run the intermediate soak study ( i.e. 0, 5, 10 and mor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059280" y="4149720"/>
            <a:ext cx="367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2) Cycle phase to be 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03560" y="5373720"/>
            <a:ext cx="5716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3) In case hot start test is conducted after cold start test, starter battery charge shall be omitted. Soak for equipment preparation before preconditioning pha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174840" y="4537080"/>
          <a:ext cx="5500800" cy="62064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755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maximum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6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phas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and 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9"/>
          <p:cNvSpPr/>
          <p:nvPr/>
        </p:nvSpPr>
        <p:spPr>
          <a:xfrm>
            <a:off x="6443640" y="1557360"/>
            <a:ext cx="2160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 PM- Filter for last 2 phases, SoC for each phase separat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5092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rmination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2614680" y="15112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4181400" y="151128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394080" y="15112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973760" y="151128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10"/>
          <p:cNvCxnSpPr>
            <a:stCxn id="127" idx="0"/>
            <a:endCxn id="124" idx="0"/>
          </p:cNvCxnSpPr>
          <p:nvPr/>
        </p:nvCxnSpPr>
        <p:spPr>
          <a:xfrm rot="5400000">
            <a:off x="4179960" y="808560"/>
            <a:ext cx="2160" cy="2413800"/>
          </a:xfrm>
          <a:prstGeom prst="bentConnector3">
            <a:avLst>
              <a:gd name="adj1" fmla="val 193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6"/>
          <p:cNvCxnSpPr>
            <a:stCxn id="130" idx="3"/>
            <a:endCxn id="124" idx="1"/>
          </p:cNvCxnSpPr>
          <p:nvPr/>
        </p:nvCxnSpPr>
        <p:spPr>
          <a:xfrm>
            <a:off x="2109960" y="1762200"/>
            <a:ext cx="505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7"/>
          <p:cNvCxnSpPr>
            <a:stCxn id="127" idx="1"/>
            <a:endCxn id="132" idx="1"/>
          </p:cNvCxnSpPr>
          <p:nvPr/>
        </p:nvCxnSpPr>
        <p:spPr>
          <a:xfrm flipV="1">
            <a:off x="5802120" y="1758240"/>
            <a:ext cx="557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Text Box 19"/>
          <p:cNvSpPr/>
          <p:nvPr/>
        </p:nvSpPr>
        <p:spPr>
          <a:xfrm>
            <a:off x="3377160" y="19940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5"/>
          <p:cNvSpPr/>
          <p:nvPr/>
        </p:nvSpPr>
        <p:spPr>
          <a:xfrm>
            <a:off x="669960" y="147312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ld start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6359400" y="146988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line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ld start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47"/>
          <p:cNvCxnSpPr>
            <a:stCxn id="132" idx="3"/>
            <a:endCxn id="132" idx="0"/>
          </p:cNvCxnSpPr>
          <p:nvPr/>
        </p:nvCxnSpPr>
        <p:spPr>
          <a:xfrm flipH="1" flipV="1">
            <a:off x="7079760" y="1469520"/>
            <a:ext cx="720000" cy="289440"/>
          </a:xfrm>
          <a:prstGeom prst="bentConnector4">
            <a:avLst>
              <a:gd name="adj1" fmla="val -31565"/>
              <a:gd name="adj2" fmla="val 1793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3"/>
          <p:cNvSpPr/>
          <p:nvPr/>
        </p:nvSpPr>
        <p:spPr>
          <a:xfrm>
            <a:off x="5940360" y="752400"/>
            <a:ext cx="309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o run until regeneration was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95280" y="4724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1) Cycle phase to be 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07960" y="5068800"/>
          <a:ext cx="7920000" cy="620640"/>
        </p:xfrm>
        <a:graphic>
          <a:graphicData uri="http://schemas.openxmlformats.org/drawingml/2006/table">
            <a:tbl>
              <a:tblPr/>
              <a:tblGrid>
                <a:gridCol w="2160720"/>
                <a:gridCol w="1584360"/>
                <a:gridCol w="1582560"/>
                <a:gridCol w="1873440"/>
                <a:gridCol w="718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maximum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6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8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110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phas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and MID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, MIDDLE and 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8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7767720" cy="189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395280" y="692280"/>
            <a:ext cx="8229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Mode Construction for electrified Vehicles – CD,CS, Electrical range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1" descr=""/>
          <p:cNvPicPr/>
          <p:nvPr/>
        </p:nvPicPr>
        <p:blipFill>
          <a:blip r:embed="rId2"/>
          <a:stretch/>
        </p:blipFill>
        <p:spPr>
          <a:xfrm>
            <a:off x="324000" y="2871720"/>
            <a:ext cx="8270640" cy="250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3"/>
          <a:stretch/>
        </p:blipFill>
        <p:spPr>
          <a:xfrm>
            <a:off x="539640" y="5445000"/>
            <a:ext cx="8353440" cy="1217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eckige Legende 1"/>
          <p:cNvSpPr/>
          <p:nvPr/>
        </p:nvSpPr>
        <p:spPr>
          <a:xfrm>
            <a:off x="2771640" y="1818000"/>
            <a:ext cx="3240360" cy="398880"/>
          </a:xfrm>
          <a:prstGeom prst="wedgeRectCallout">
            <a:avLst>
              <a:gd name="adj1" fmla="val -19740"/>
              <a:gd name="adj2" fmla="val 7894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series of Low cycles shall be validated, additiona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 series of Low+ Middle cycles shall be valida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Gerade Verbindung 8"/>
          <p:cNvSpPr/>
          <p:nvPr/>
        </p:nvSpPr>
        <p:spPr>
          <a:xfrm>
            <a:off x="8682120" y="1700280"/>
            <a:ext cx="0" cy="43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ode Construction Proposal during Validat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9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820000" cy="2736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395280" y="765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Mode Construction for electrified Vehicles – Thinkable options in case that a hot start test is required. For that case, the procedure should be  also validated for the RCB correction factor determination during VP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1" descr=""/>
          <p:cNvPicPr/>
          <p:nvPr/>
        </p:nvPicPr>
        <p:blipFill>
          <a:blip r:embed="rId2"/>
          <a:stretch/>
        </p:blipFill>
        <p:spPr>
          <a:xfrm>
            <a:off x="468360" y="5405400"/>
            <a:ext cx="8207280" cy="1047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2" descr=""/>
          <p:cNvPicPr/>
          <p:nvPr/>
        </p:nvPicPr>
        <p:blipFill>
          <a:blip r:embed="rId3"/>
          <a:stretch/>
        </p:blipFill>
        <p:spPr>
          <a:xfrm>
            <a:off x="539640" y="1766880"/>
            <a:ext cx="8136000" cy="798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 rot="19413600">
            <a:off x="7492320" y="556344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Gerade Verbindung 2"/>
          <p:cNvSpPr/>
          <p:nvPr/>
        </p:nvSpPr>
        <p:spPr>
          <a:xfrm>
            <a:off x="8682120" y="1343160"/>
            <a:ext cx="0" cy="43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2:10:58Z</dcterms:created>
  <dc:creator>トヨタ自動車株式会社</dc:creator>
  <dc:description/>
  <dc:language>en-US</dc:language>
  <cp:lastModifiedBy>PC2</cp:lastModifiedBy>
  <dcterms:modified xsi:type="dcterms:W3CDTF">2012-01-19T18:05:21Z</dcterms:modified>
  <cp:revision>9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