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268-9F25-41A4-97AC-5B1DB9EF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D96-80F1-4EA2-8621-B059FDEA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38C-F3F5-4561-9BE2-8E1EE0D2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230-8BD4-40AA-A176-D1D690D3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514-216E-4004-81CF-287F2832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52B-5653-4B40-874A-B3FF3228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8F7-86D3-46E0-9FDE-80B14839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2BC-0428-4F20-A72E-6018D2E3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6E2-6522-4CD6-810A-69833B6A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D85-8E46-4FE6-9F1F-177B1D56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8F2-E583-460A-A18A-49C883A4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348-F990-4AA3-9BA1-6EEA4A35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5DBE-7CC0-4381-A34C-CB8924885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BD11-0915-4F11-8042-B148713A0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609480" y="1231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 pa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Mode Construc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Valida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838080" y="345924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O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009880" y="440208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/DTP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va 17.01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80360" y="1890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WLTP-DTC-08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ode Construction Proposal during Validat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36"/>
          <p:cNvSpPr/>
          <p:nvPr/>
        </p:nvSpPr>
        <p:spPr>
          <a:xfrm>
            <a:off x="684360" y="1125360"/>
            <a:ext cx="784836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document  represents the position of OICA working groups on WLTP mode construction for presentation at DHC11 at the GRPE Meeting  January 2012 in Gene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posal covers the mode construction for conventional vehicle with options to be tested in Validation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 construction for electrified vehicles provides procedures for determination of electrical range, for charge depleting (CD) and charge sustaining (CS) test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50920" y="76500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Coventional Vehicles, Baseline test - Cold start -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262320" y="14144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056120" y="141444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 rot="16200000">
            <a:off x="4060800" y="382752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564000" y="2060640"/>
            <a:ext cx="273672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– 36 h So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536640" y="420840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859280" y="141444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5651640" y="1414440"/>
            <a:ext cx="82836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 rot="16200000">
            <a:off x="4751280" y="-244800"/>
            <a:ext cx="152280" cy="3083040"/>
          </a:xfrm>
          <a:custGeom>
            <a:avLst/>
            <a:gdLst>
              <a:gd name="textAreaLeft" fmla="*/ 0 w 152280"/>
              <a:gd name="textAreaRight" fmla="*/ 55080 w 152280"/>
              <a:gd name="textAreaTop" fmla="*/ 80280 h 3083040"/>
              <a:gd name="textAreaBottom" fmla="*/ 3002760 h 308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247640" y="98100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258920" y="1484280"/>
            <a:ext cx="136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er Batt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3306600" y="266076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4100400" y="266076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3301920" y="30304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4064040" y="30178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7"/>
          <p:cNvSpPr/>
          <p:nvPr/>
        </p:nvSpPr>
        <p:spPr>
          <a:xfrm>
            <a:off x="4851360" y="30052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8"/>
          <p:cNvSpPr/>
          <p:nvPr/>
        </p:nvSpPr>
        <p:spPr>
          <a:xfrm>
            <a:off x="3298680" y="34178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4060800" y="34178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4890960" y="266076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1"/>
          <p:cNvSpPr/>
          <p:nvPr/>
        </p:nvSpPr>
        <p:spPr>
          <a:xfrm>
            <a:off x="5683320" y="266076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"/>
          <p:cNvSpPr/>
          <p:nvPr/>
        </p:nvSpPr>
        <p:spPr>
          <a:xfrm>
            <a:off x="5648400" y="29988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6516720" y="297972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4879800" y="34178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5645160" y="341784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3254760" y="318456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4028040" y="318456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4824720" y="318456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5626440" y="318456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"/>
          <p:cNvSpPr/>
          <p:nvPr/>
        </p:nvSpPr>
        <p:spPr>
          <a:xfrm>
            <a:off x="4952880" y="49528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1"/>
          <p:cNvSpPr/>
          <p:nvPr/>
        </p:nvSpPr>
        <p:spPr>
          <a:xfrm>
            <a:off x="4992840" y="4608360"/>
            <a:ext cx="71892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2"/>
          <p:cNvSpPr/>
          <p:nvPr/>
        </p:nvSpPr>
        <p:spPr>
          <a:xfrm>
            <a:off x="5784840" y="460836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3"/>
          <p:cNvSpPr/>
          <p:nvPr/>
        </p:nvSpPr>
        <p:spPr>
          <a:xfrm>
            <a:off x="5749920" y="4946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4"/>
          <p:cNvSpPr/>
          <p:nvPr/>
        </p:nvSpPr>
        <p:spPr>
          <a:xfrm>
            <a:off x="6618240" y="49276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5"/>
          <p:cNvSpPr/>
          <p:nvPr/>
        </p:nvSpPr>
        <p:spPr>
          <a:xfrm>
            <a:off x="4981680" y="5365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5746680" y="536580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926240" y="513252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>
            <a:off x="5727960" y="513252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826920" y="3759120"/>
            <a:ext cx="56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1) in case 4 bags sampling is not availabl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and Ex-HIGH phases can be executed separat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0"/>
          <p:cNvSpPr/>
          <p:nvPr/>
        </p:nvSpPr>
        <p:spPr>
          <a:xfrm>
            <a:off x="3362400" y="460836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1"/>
          <p:cNvSpPr/>
          <p:nvPr/>
        </p:nvSpPr>
        <p:spPr>
          <a:xfrm>
            <a:off x="4168800" y="460836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2"/>
          <p:cNvSpPr/>
          <p:nvPr/>
        </p:nvSpPr>
        <p:spPr>
          <a:xfrm>
            <a:off x="3363840" y="494172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3"/>
          <p:cNvSpPr/>
          <p:nvPr/>
        </p:nvSpPr>
        <p:spPr>
          <a:xfrm>
            <a:off x="3378240" y="53690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4"/>
          <p:cNvSpPr/>
          <p:nvPr/>
        </p:nvSpPr>
        <p:spPr>
          <a:xfrm>
            <a:off x="3680280" y="512604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amp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C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5"/>
          <p:cNvSpPr/>
          <p:nvPr/>
        </p:nvSpPr>
        <p:spPr>
          <a:xfrm>
            <a:off x="1476360" y="4653000"/>
            <a:ext cx="165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comple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&amp;M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28720" y="558972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2) Cycle phase to be dr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41400" y="5934240"/>
          <a:ext cx="7920000" cy="620640"/>
        </p:xfrm>
        <a:graphic>
          <a:graphicData uri="http://schemas.openxmlformats.org/drawingml/2006/table">
            <a:tbl>
              <a:tblPr/>
              <a:tblGrid>
                <a:gridCol w="2160720"/>
                <a:gridCol w="1584360"/>
                <a:gridCol w="1582560"/>
                <a:gridCol w="1873080"/>
                <a:gridCol w="7192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maximum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6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8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11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phas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and MID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, MIDDLE and 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ode Construction Proposal during Validat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6732720" y="2421000"/>
            <a:ext cx="223344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PM-Filter for all 4 phases, some labs to measure 2 Filters (L+M, HxH), SoC for each phase separa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9"/>
          <p:cNvSpPr/>
          <p:nvPr/>
        </p:nvSpPr>
        <p:spPr>
          <a:xfrm>
            <a:off x="6732720" y="4292640"/>
            <a:ext cx="223344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PM-Filter for all 4 phases, some labs to measure 2 Filters (L+M, HxH), SoC for each phase separa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50920" y="76500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Baseline test - Hot start -]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3003480" y="165888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797280" y="165888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132000" y="2781360"/>
            <a:ext cx="324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intermediate soak is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 rot="16200000">
            <a:off x="3682080" y="810360"/>
            <a:ext cx="192240" cy="1501920"/>
          </a:xfrm>
          <a:custGeom>
            <a:avLst/>
            <a:gdLst>
              <a:gd name="textAreaLeft" fmla="*/ 0 w 192240"/>
              <a:gd name="textAreaRight" fmla="*/ 69480 w 192240"/>
              <a:gd name="textAreaTop" fmla="*/ 38880 h 1501920"/>
              <a:gd name="textAreaBottom" fmla="*/ 1463040 h 15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3174480" y="121140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42920" y="1700280"/>
            <a:ext cx="136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er Batt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/>
          <p:cNvSpPr/>
          <p:nvPr/>
        </p:nvSpPr>
        <p:spPr>
          <a:xfrm>
            <a:off x="4616280" y="16574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5410080" y="16574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>
            <a:off x="4611600" y="2027160"/>
            <a:ext cx="0" cy="754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5373720" y="2014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>
            <a:off x="6135840" y="20019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4608360" y="2414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5370480" y="2414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4564440" y="218124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5337720" y="218124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059280" y="3357720"/>
            <a:ext cx="56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1) some of laboratories will be required to run the intermediate soak study ( i.e. 0, 5, 10 and mor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059280" y="4149720"/>
            <a:ext cx="367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2) Cycle phase to be dr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103560" y="5373720"/>
            <a:ext cx="5716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3) In case hot start test is conducted after cold start test, starter battery charge shall be omitted. Soak for equipment preparation before preconditioning phas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174840" y="4537080"/>
          <a:ext cx="5500800" cy="620640"/>
        </p:xfrm>
        <a:graphic>
          <a:graphicData uri="http://schemas.openxmlformats.org/drawingml/2006/table">
            <a:tbl>
              <a:tblPr/>
              <a:tblGrid>
                <a:gridCol w="2160720"/>
                <a:gridCol w="1584360"/>
                <a:gridCol w="17557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maximum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6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phas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and MID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ode Construction Proposal during Validat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9"/>
          <p:cNvSpPr/>
          <p:nvPr/>
        </p:nvSpPr>
        <p:spPr>
          <a:xfrm>
            <a:off x="6443640" y="1557360"/>
            <a:ext cx="2160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PM- Filter for last 2 phases, SoC for each phase separa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250920" y="76500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termination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2614680" y="151128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4181400" y="151128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3394080" y="151128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4973760" y="151128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10"/>
          <p:cNvCxnSpPr>
            <a:stCxn id="127" idx="0"/>
            <a:endCxn id="124" idx="0"/>
          </p:cNvCxnSpPr>
          <p:nvPr/>
        </p:nvCxnSpPr>
        <p:spPr>
          <a:xfrm rot="5400000">
            <a:off x="4179960" y="808560"/>
            <a:ext cx="2160" cy="2413800"/>
          </a:xfrm>
          <a:prstGeom prst="bentConnector3">
            <a:avLst>
              <a:gd name="adj1" fmla="val 193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16"/>
          <p:cNvCxnSpPr>
            <a:stCxn id="130" idx="3"/>
            <a:endCxn id="124" idx="1"/>
          </p:cNvCxnSpPr>
          <p:nvPr/>
        </p:nvCxnSpPr>
        <p:spPr>
          <a:xfrm>
            <a:off x="2109960" y="1762200"/>
            <a:ext cx="50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17"/>
          <p:cNvCxnSpPr>
            <a:stCxn id="127" idx="1"/>
            <a:endCxn id="132" idx="1"/>
          </p:cNvCxnSpPr>
          <p:nvPr/>
        </p:nvCxnSpPr>
        <p:spPr>
          <a:xfrm flipV="1">
            <a:off x="5802120" y="1758240"/>
            <a:ext cx="5576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Text Box 19"/>
          <p:cNvSpPr/>
          <p:nvPr/>
        </p:nvSpPr>
        <p:spPr>
          <a:xfrm>
            <a:off x="3377160" y="199404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5"/>
          <p:cNvSpPr/>
          <p:nvPr/>
        </p:nvSpPr>
        <p:spPr>
          <a:xfrm>
            <a:off x="669960" y="147312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line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ld start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6"/>
          <p:cNvSpPr/>
          <p:nvPr/>
        </p:nvSpPr>
        <p:spPr>
          <a:xfrm>
            <a:off x="6359400" y="146988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line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ld start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47"/>
          <p:cNvCxnSpPr>
            <a:stCxn id="132" idx="3"/>
            <a:endCxn id="132" idx="0"/>
          </p:cNvCxnSpPr>
          <p:nvPr/>
        </p:nvCxnSpPr>
        <p:spPr>
          <a:xfrm flipH="1" flipV="1">
            <a:off x="7079760" y="1469520"/>
            <a:ext cx="720000" cy="289440"/>
          </a:xfrm>
          <a:prstGeom prst="bentConnector4">
            <a:avLst>
              <a:gd name="adj1" fmla="val -31565"/>
              <a:gd name="adj2" fmla="val 1793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3"/>
          <p:cNvSpPr/>
          <p:nvPr/>
        </p:nvSpPr>
        <p:spPr>
          <a:xfrm>
            <a:off x="5940360" y="752400"/>
            <a:ext cx="309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 to run until regeneration was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ode Construction Proposal during Validat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95280" y="4724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1) Cycle phase to be dr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07960" y="5068800"/>
          <a:ext cx="7920000" cy="620640"/>
        </p:xfrm>
        <a:graphic>
          <a:graphicData uri="http://schemas.openxmlformats.org/drawingml/2006/table">
            <a:tbl>
              <a:tblPr/>
              <a:tblGrid>
                <a:gridCol w="2160720"/>
                <a:gridCol w="1584360"/>
                <a:gridCol w="1582560"/>
                <a:gridCol w="1873440"/>
                <a:gridCol w="718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maximum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6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8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11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phas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and MID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, MIDDLE and 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ode Construction Proposal during Validat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8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7767720" cy="189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395280" y="692280"/>
            <a:ext cx="8229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Mode Construction for electrified Vehicles – CD,CS, Electrical range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1" descr=""/>
          <p:cNvPicPr/>
          <p:nvPr/>
        </p:nvPicPr>
        <p:blipFill>
          <a:blip r:embed="rId2"/>
          <a:stretch/>
        </p:blipFill>
        <p:spPr>
          <a:xfrm>
            <a:off x="324000" y="2871720"/>
            <a:ext cx="8270640" cy="250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3" descr=""/>
          <p:cNvPicPr/>
          <p:nvPr/>
        </p:nvPicPr>
        <p:blipFill>
          <a:blip r:embed="rId3"/>
          <a:stretch/>
        </p:blipFill>
        <p:spPr>
          <a:xfrm>
            <a:off x="539640" y="5445000"/>
            <a:ext cx="8353440" cy="12178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eckige Legende 1"/>
          <p:cNvSpPr/>
          <p:nvPr/>
        </p:nvSpPr>
        <p:spPr>
          <a:xfrm>
            <a:off x="2771640" y="1818000"/>
            <a:ext cx="3240360" cy="398880"/>
          </a:xfrm>
          <a:prstGeom prst="wedgeRectCallout">
            <a:avLst>
              <a:gd name="adj1" fmla="val -19740"/>
              <a:gd name="adj2" fmla="val 7894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series of Low cycles shall be validated, additiona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series of Low+ Middle cycles shall be valida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Gerade Verbindung 8"/>
          <p:cNvSpPr/>
          <p:nvPr/>
        </p:nvSpPr>
        <p:spPr>
          <a:xfrm>
            <a:off x="8682120" y="1700280"/>
            <a:ext cx="0" cy="43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ode Construction Proposal during Validat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9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8820000" cy="27367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395280" y="76500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Mode Construction for electrified Vehicles – Thinkable options in case that a hot start test is required. For that case, the procedure should be  also validated for the RCB correction factor determination during VP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1" descr=""/>
          <p:cNvPicPr/>
          <p:nvPr/>
        </p:nvPicPr>
        <p:blipFill>
          <a:blip r:embed="rId2"/>
          <a:stretch/>
        </p:blipFill>
        <p:spPr>
          <a:xfrm>
            <a:off x="468360" y="5405400"/>
            <a:ext cx="8207280" cy="1047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2" descr=""/>
          <p:cNvPicPr/>
          <p:nvPr/>
        </p:nvPicPr>
        <p:blipFill>
          <a:blip r:embed="rId3"/>
          <a:stretch/>
        </p:blipFill>
        <p:spPr>
          <a:xfrm>
            <a:off x="539640" y="1766880"/>
            <a:ext cx="8136000" cy="798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Gerade Verbindung 2"/>
          <p:cNvSpPr/>
          <p:nvPr/>
        </p:nvSpPr>
        <p:spPr>
          <a:xfrm>
            <a:off x="8682120" y="1343160"/>
            <a:ext cx="0" cy="43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2:10:58Z</dcterms:created>
  <dc:creator>トヨタ自動車株式会社</dc:creator>
  <dc:description/>
  <dc:language>en-US</dc:language>
  <cp:lastModifiedBy>PC2</cp:lastModifiedBy>
  <dcterms:modified xsi:type="dcterms:W3CDTF">2012-01-19T18:05:21Z</dcterms:modified>
  <cp:revision>99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