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E42-F7CD-4C2D-A973-4AEE82A5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CB1-B86F-4DD0-B37E-521B271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15B-38BB-40B5-87E7-61432543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3C7-6352-4F20-B730-0EE9F452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EEE-3DE6-4D9C-9DF0-D5DF0CA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7D1-35ED-444D-AF74-7205152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DCE-772B-4329-BF1C-D576DFB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237-1590-4573-B72D-3A949F6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B77-473D-4BDB-A011-40F9D74C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E33-E2C3-4F68-A100-04FD44C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C0A-C1A4-42A5-86EE-AB252DC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471-4151-4FE5-BD25-3687965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E43-A1B9-4A1B-991E-AC7BC2A467A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C488-9D77-408F-AB2F-3D47B816D3F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bined approach for vehicle test weight, stepless inertia and vehicl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084720" y="5734080"/>
            <a:ext cx="28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 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TP meeting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3933720"/>
            <a:ext cx="8642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vised proposa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therlands (Andre Rijnders ), T&amp;E (Iddo Riemersma) and ICCT (Peter Mo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80360" y="333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306864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ing representative vehicle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ijdelijke aanduiding voor inhoud 82"/>
          <p:cNvSpPr/>
          <p:nvPr/>
        </p:nvSpPr>
        <p:spPr>
          <a:xfrm>
            <a:off x="46836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otal vehicle mass is considered to be compose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laden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tional equipment (factory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tional equipment (after sales, owner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riv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assenger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ggage /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hese mass contributions can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nstant (vehicle independ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riable (dependant of vehicle construction and desig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pproach to define representative vehicle mas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imate  each individual contribution (constant and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ing representative vehicle test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197000"/>
          <a:ext cx="8208720" cy="3311640"/>
        </p:xfrm>
        <a:graphic>
          <a:graphicData uri="http://schemas.openxmlformats.org/drawingml/2006/table">
            <a:tbl>
              <a:tblPr/>
              <a:tblGrid>
                <a:gridCol w="2474640"/>
                <a:gridCol w="2867040"/>
                <a:gridCol w="286704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s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Variable (payload depend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laden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Actual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tional equipment (factory install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Actual 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wner installed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after sa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5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75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en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6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uggage / Pay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2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4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10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ctr">
                        <a:lnSpc>
                          <a:spcPct val="11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0 to 10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ijdelijke aanduiding voor inhoud 82"/>
          <p:cNvSpPr/>
          <p:nvPr/>
        </p:nvSpPr>
        <p:spPr>
          <a:xfrm>
            <a:off x="395280" y="4869000"/>
            <a:ext cx="83628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mass translates on average i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15%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of (LM-RM) for M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1"/>
          <p:cNvSpPr/>
          <p:nvPr/>
        </p:nvSpPr>
        <p:spPr>
          <a:xfrm>
            <a:off x="3699000" y="4106880"/>
            <a:ext cx="1008000" cy="64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"/>
          <p:cNvSpPr/>
          <p:nvPr/>
        </p:nvSpPr>
        <p:spPr>
          <a:xfrm>
            <a:off x="6443640" y="4106880"/>
            <a:ext cx="1224000" cy="5461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Rechte verbindingslijn met pijl 4"/>
          <p:cNvCxnSpPr>
            <a:stCxn id="160" idx="2"/>
          </p:cNvCxnSpPr>
          <p:nvPr/>
        </p:nvCxnSpPr>
        <p:spPr>
          <a:xfrm flipH="1">
            <a:off x="4932000" y="4379400"/>
            <a:ext cx="1512000" cy="562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consid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LTP objective: representative fuel consumption /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s requir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epresentative vehicle in a representativ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ve test mass definition and vehic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ble and verifiable at type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test bu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playing field and sound against wrong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approach for all vehicle models, categories an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hicle test mass defin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define representative vehicle test mas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unladen mass of the vehi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representative mass for vehicl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onstant and variable mass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e variable mass contribution to the remaining load capacity of the veh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6013440" y="3645000"/>
            <a:ext cx="1295280" cy="218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 equ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ehicle test mass defin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216000" y="5662440"/>
            <a:ext cx="845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6012000" y="907920"/>
            <a:ext cx="1224000" cy="208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Remaining load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738036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8532720" y="90792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 rot="16200000">
            <a:off x="7928640" y="1452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35640" y="5805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2000" y="3860640"/>
            <a:ext cx="1224000" cy="1801800"/>
          </a:xfrm>
          <a:prstGeom prst="rect">
            <a:avLst/>
          </a:prstGeom>
          <a:solidFill>
            <a:srgbClr val="e6b9b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lad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6"/>
          <p:cNvSpPr/>
          <p:nvPr/>
        </p:nvSpPr>
        <p:spPr>
          <a:xfrm>
            <a:off x="7524720" y="299736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8028000" y="26370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"/>
          <p:cNvSpPr/>
          <p:nvPr/>
        </p:nvSpPr>
        <p:spPr>
          <a:xfrm>
            <a:off x="8244000" y="263700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3"/>
          <p:cNvSpPr/>
          <p:nvPr/>
        </p:nvSpPr>
        <p:spPr>
          <a:xfrm rot="16200000">
            <a:off x="7231320" y="38671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hicle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 rot="16200000">
            <a:off x="6595920" y="3253680"/>
            <a:ext cx="16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730872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730872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012000" y="2997360"/>
            <a:ext cx="1224000" cy="64764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gg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012000" y="2637000"/>
            <a:ext cx="1224000" cy="360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luggage or 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7308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vak 55"/>
          <p:cNvSpPr/>
          <p:nvPr/>
        </p:nvSpPr>
        <p:spPr>
          <a:xfrm>
            <a:off x="611280" y="1916280"/>
            <a:ext cx="4824360" cy="122868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hicle test mass is the unladen vehicle mass (UM) plus mass of vehicle options (OM) + 100 kg + 15% of remaining difference wit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st mass = UM + OM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Calibri"/>
              </a:rPr>
              <a:t>REP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100 + 0.15 (LM – 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6"/>
          <p:cNvSpPr/>
          <p:nvPr/>
        </p:nvSpPr>
        <p:spPr>
          <a:xfrm>
            <a:off x="6012000" y="3645000"/>
            <a:ext cx="1224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524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3"/>
          <p:cNvSpPr/>
          <p:nvPr/>
        </p:nvSpPr>
        <p:spPr>
          <a:xfrm rot="16200000">
            <a:off x="7124040" y="2751840"/>
            <a:ext cx="64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4"/>
          <p:cNvSpPr/>
          <p:nvPr/>
        </p:nvSpPr>
        <p:spPr>
          <a:xfrm>
            <a:off x="7812000" y="907920"/>
            <a:ext cx="144720" cy="2089440"/>
          </a:xfrm>
          <a:prstGeom prst="upDownArrow">
            <a:avLst>
              <a:gd name="adj1" fmla="val 50000"/>
              <a:gd name="adj2" fmla="val 29731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3"/>
          <p:cNvSpPr/>
          <p:nvPr/>
        </p:nvSpPr>
        <p:spPr>
          <a:xfrm rot="16200000">
            <a:off x="7339320" y="18144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-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7812000" y="2997360"/>
            <a:ext cx="144720" cy="2735280"/>
          </a:xfrm>
          <a:prstGeom prst="upDownArrow">
            <a:avLst>
              <a:gd name="adj1" fmla="val 50000"/>
              <a:gd name="adj2" fmla="val 297158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3"/>
          <p:cNvSpPr/>
          <p:nvPr/>
        </p:nvSpPr>
        <p:spPr>
          <a:xfrm rot="16200000">
            <a:off x="7350120" y="46940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jdelijke aanduiding voor inhoud 82"/>
          <p:cNvSpPr/>
          <p:nvPr/>
        </p:nvSpPr>
        <p:spPr>
          <a:xfrm>
            <a:off x="468360" y="981000"/>
            <a:ext cx="53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ant mass contribution: 1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mass contribution: 15% of (LM – 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6013440" y="3645000"/>
            <a:ext cx="1295280" cy="2188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ption equi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Vehicle test mass for N1 veh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16000" y="5662440"/>
            <a:ext cx="845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013440" y="3860640"/>
            <a:ext cx="1224000" cy="93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ody work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012000" y="907920"/>
            <a:ext cx="122400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Remaining load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38036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8532720" y="90792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 rot="16200000">
            <a:off x="7928640" y="14526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5435640" y="5805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1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012000" y="4797360"/>
            <a:ext cx="1224000" cy="865080"/>
          </a:xfrm>
          <a:prstGeom prst="rect">
            <a:avLst/>
          </a:prstGeom>
          <a:solidFill>
            <a:srgbClr val="e6b9b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Unlad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7524720" y="299736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7956720" y="220500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8244000" y="2205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3"/>
          <p:cNvSpPr/>
          <p:nvPr/>
        </p:nvSpPr>
        <p:spPr>
          <a:xfrm rot="16200000">
            <a:off x="7231320" y="38671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hicle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3"/>
          <p:cNvSpPr/>
          <p:nvPr/>
        </p:nvSpPr>
        <p:spPr>
          <a:xfrm rot="16200000">
            <a:off x="6595920" y="3253680"/>
            <a:ext cx="16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7308720" y="220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30872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556000" y="4437000"/>
            <a:ext cx="2520720" cy="459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 necessary for multi stage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0"/>
          <p:cNvSpPr/>
          <p:nvPr/>
        </p:nvSpPr>
        <p:spPr>
          <a:xfrm flipV="1">
            <a:off x="5076720" y="4220640"/>
            <a:ext cx="93528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012000" y="2997360"/>
            <a:ext cx="1224000" cy="64764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ugg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012000" y="2205000"/>
            <a:ext cx="1224000" cy="792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>
            <a:off x="7308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55"/>
          <p:cNvSpPr/>
          <p:nvPr/>
        </p:nvSpPr>
        <p:spPr>
          <a:xfrm>
            <a:off x="611280" y="2492280"/>
            <a:ext cx="4824360" cy="122868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hicle test mass is the unladen vehicle mass (UM) plus mass of vehicle options (OM) + 100 kg + 35% of remaining difference with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st mass = UM + OM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Calibri"/>
              </a:rPr>
              <a:t>REP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100 + 0.35 (LM – 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6"/>
          <p:cNvSpPr/>
          <p:nvPr/>
        </p:nvSpPr>
        <p:spPr>
          <a:xfrm>
            <a:off x="6012000" y="3645000"/>
            <a:ext cx="12240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52472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3"/>
          <p:cNvSpPr/>
          <p:nvPr/>
        </p:nvSpPr>
        <p:spPr>
          <a:xfrm rot="16200000">
            <a:off x="7123680" y="253368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4"/>
          <p:cNvSpPr/>
          <p:nvPr/>
        </p:nvSpPr>
        <p:spPr>
          <a:xfrm>
            <a:off x="7812000" y="907920"/>
            <a:ext cx="144720" cy="2089440"/>
          </a:xfrm>
          <a:prstGeom prst="upDownArrow">
            <a:avLst>
              <a:gd name="adj1" fmla="val 50000"/>
              <a:gd name="adj2" fmla="val 29731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3"/>
          <p:cNvSpPr/>
          <p:nvPr/>
        </p:nvSpPr>
        <p:spPr>
          <a:xfrm rot="16200000">
            <a:off x="7339320" y="181440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M-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7812000" y="2997360"/>
            <a:ext cx="144720" cy="2735280"/>
          </a:xfrm>
          <a:prstGeom prst="upDownArrow">
            <a:avLst>
              <a:gd name="adj1" fmla="val 50000"/>
              <a:gd name="adj2" fmla="val 297158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3"/>
          <p:cNvSpPr/>
          <p:nvPr/>
        </p:nvSpPr>
        <p:spPr>
          <a:xfrm rot="16200000">
            <a:off x="7350120" y="469404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inhoud 82"/>
          <p:cNvSpPr/>
          <p:nvPr/>
        </p:nvSpPr>
        <p:spPr>
          <a:xfrm>
            <a:off x="539640" y="765000"/>
            <a:ext cx="518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approach chosen as for M1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constant mass of 1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le added mass based on AEA report, results in 35% of (LM – 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resentative mass for vehicle op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define representative mass for vehicle o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best case and worst case test mass (vehicle with no options and vehicle with full optio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olation based on actual vehicle weight (assuming linear relation between mass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 compliance only demonstrated at worst case vehi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presentative vehicl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100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select a representative vehicle for road load determin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ad load is dependent of vehicl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road load at worst case vehicle, and optionally at best case vehicle (at choice of manufactur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polation based on actual vehicle weight (assuming linear relation between mass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D2A5-0EF0-4051-B41E-E48E0ABB2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6"/>
          <p:cNvCxnSpPr>
            <a:endCxn id="114" idx="2"/>
          </p:cNvCxnSpPr>
          <p:nvPr/>
        </p:nvCxnSpPr>
        <p:spPr>
          <a:xfrm flipV="1">
            <a:off x="1730160" y="3452040"/>
            <a:ext cx="2718360" cy="10674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</a:ln>
        </p:spPr>
      </p:cxnSp>
      <p:sp>
        <p:nvSpPr>
          <p:cNvPr id="115" name="Oval 48"/>
          <p:cNvSpPr/>
          <p:nvPr/>
        </p:nvSpPr>
        <p:spPr>
          <a:xfrm>
            <a:off x="1530360" y="4525920"/>
            <a:ext cx="228600" cy="228600"/>
          </a:xfrm>
          <a:prstGeom prst="ellipse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52"/>
          <p:cNvCxnSpPr/>
          <p:nvPr/>
        </p:nvCxnSpPr>
        <p:spPr>
          <a:xfrm flipV="1">
            <a:off x="872640" y="2773080"/>
            <a:ext cx="1080" cy="3170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7" name="Straight Arrow Connector 53"/>
          <p:cNvCxnSpPr/>
          <p:nvPr/>
        </p:nvCxnSpPr>
        <p:spPr>
          <a:xfrm>
            <a:off x="888480" y="5925600"/>
            <a:ext cx="558108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8" name="TextBox 55"/>
          <p:cNvSpPr/>
          <p:nvPr/>
        </p:nvSpPr>
        <p:spPr>
          <a:xfrm>
            <a:off x="282240" y="27050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6"/>
          <p:cNvSpPr/>
          <p:nvPr/>
        </p:nvSpPr>
        <p:spPr>
          <a:xfrm>
            <a:off x="6018120" y="59166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4676760" y="523872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M = unladen mass (empty vehic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8"/>
          <p:cNvSpPr/>
          <p:nvPr/>
        </p:nvSpPr>
        <p:spPr>
          <a:xfrm>
            <a:off x="1530360" y="52642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8"/>
          <p:cNvCxnSpPr>
            <a:stCxn id="121" idx="0"/>
            <a:endCxn id="115" idx="4"/>
          </p:cNvCxnSpPr>
          <p:nvPr/>
        </p:nvCxnSpPr>
        <p:spPr>
          <a:xfrm flipV="1">
            <a:off x="1644120" y="4754160"/>
            <a:ext cx="1080" cy="510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3" name="Oval 110"/>
          <p:cNvSpPr/>
          <p:nvPr/>
        </p:nvSpPr>
        <p:spPr>
          <a:xfrm>
            <a:off x="4448160" y="4267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11"/>
          <p:cNvCxnSpPr>
            <a:endCxn id="114" idx="4"/>
          </p:cNvCxnSpPr>
          <p:nvPr/>
        </p:nvCxnSpPr>
        <p:spPr>
          <a:xfrm flipV="1">
            <a:off x="4562280" y="3566520"/>
            <a:ext cx="108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5" name="Oval 112"/>
          <p:cNvSpPr/>
          <p:nvPr/>
        </p:nvSpPr>
        <p:spPr>
          <a:xfrm>
            <a:off x="2249640" y="4224240"/>
            <a:ext cx="136440" cy="1382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13"/>
          <p:cNvSpPr/>
          <p:nvPr/>
        </p:nvSpPr>
        <p:spPr>
          <a:xfrm>
            <a:off x="2602080" y="4098960"/>
            <a:ext cx="136440" cy="1364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4"/>
          <p:cNvSpPr/>
          <p:nvPr/>
        </p:nvSpPr>
        <p:spPr>
          <a:xfrm>
            <a:off x="3122640" y="3897360"/>
            <a:ext cx="136440" cy="136440"/>
          </a:xfrm>
          <a:prstGeom prst="ellipse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5"/>
          <p:cNvSpPr/>
          <p:nvPr/>
        </p:nvSpPr>
        <p:spPr>
          <a:xfrm>
            <a:off x="4689360" y="3546360"/>
            <a:ext cx="1984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5% of LM-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7"/>
          <p:cNvSpPr/>
          <p:nvPr/>
        </p:nvSpPr>
        <p:spPr>
          <a:xfrm>
            <a:off x="4448160" y="52642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118"/>
          <p:cNvCxnSpPr>
            <a:stCxn id="129" idx="0"/>
          </p:cNvCxnSpPr>
          <p:nvPr/>
        </p:nvCxnSpPr>
        <p:spPr>
          <a:xfrm flipH="1" flipV="1">
            <a:off x="4560120" y="4494960"/>
            <a:ext cx="2520" cy="76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1" name="Oval 120"/>
          <p:cNvSpPr/>
          <p:nvPr/>
        </p:nvSpPr>
        <p:spPr>
          <a:xfrm>
            <a:off x="4448160" y="26100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1"/>
          <p:cNvSpPr/>
          <p:nvPr/>
        </p:nvSpPr>
        <p:spPr>
          <a:xfrm>
            <a:off x="4676760" y="4321080"/>
            <a:ext cx="29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unladen mass + mass of all available optional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2"/>
          <p:cNvSpPr/>
          <p:nvPr/>
        </p:nvSpPr>
        <p:spPr>
          <a:xfrm>
            <a:off x="4689360" y="2562120"/>
            <a:ext cx="32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M = laden mass, gross vehicl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3"/>
          <p:cNvSpPr/>
          <p:nvPr/>
        </p:nvSpPr>
        <p:spPr>
          <a:xfrm>
            <a:off x="4689360" y="3286080"/>
            <a:ext cx="2925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test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4"/>
          <p:cNvSpPr/>
          <p:nvPr/>
        </p:nvSpPr>
        <p:spPr>
          <a:xfrm>
            <a:off x="1738440" y="5253120"/>
            <a:ext cx="29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5"/>
          <p:cNvSpPr/>
          <p:nvPr/>
        </p:nvSpPr>
        <p:spPr>
          <a:xfrm>
            <a:off x="1758960" y="4795920"/>
            <a:ext cx="198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5% of LM-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6"/>
          <p:cNvSpPr/>
          <p:nvPr/>
        </p:nvSpPr>
        <p:spPr>
          <a:xfrm>
            <a:off x="1751040" y="4495680"/>
            <a:ext cx="635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7"/>
          <p:cNvCxnSpPr>
            <a:endCxn id="131" idx="4"/>
          </p:cNvCxnSpPr>
          <p:nvPr/>
        </p:nvCxnSpPr>
        <p:spPr>
          <a:xfrm flipV="1">
            <a:off x="4562280" y="2837880"/>
            <a:ext cx="1080" cy="516600"/>
          </a:xfrm>
          <a:prstGeom prst="straightConnector1">
            <a:avLst/>
          </a:prstGeom>
          <a:ln w="25560">
            <a:solidFill>
              <a:srgbClr val="7f7f7f"/>
            </a:solidFill>
            <a:prstDash val="sysDash"/>
            <a:miter/>
            <a:tailEnd len="med" type="triangle" w="lg"/>
          </a:ln>
        </p:spPr>
      </p:cxnSp>
      <p:sp>
        <p:nvSpPr>
          <p:cNvPr id="139" name="TextBox 128"/>
          <p:cNvSpPr/>
          <p:nvPr/>
        </p:nvSpPr>
        <p:spPr>
          <a:xfrm>
            <a:off x="2198520" y="4222800"/>
            <a:ext cx="13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  <a:ea typeface="Arial"/>
              </a:rPr>
              <a:t>mod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  <a:ea typeface="Arial"/>
              </a:rPr>
              <a:t>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9"/>
          <p:cNvSpPr/>
          <p:nvPr/>
        </p:nvSpPr>
        <p:spPr>
          <a:xfrm>
            <a:off x="4695840" y="1778040"/>
            <a:ext cx="38545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us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non-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-emissions (worst-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emissions (upper value for regression 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ast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0"/>
          <p:cNvSpPr/>
          <p:nvPr/>
        </p:nvSpPr>
        <p:spPr>
          <a:xfrm>
            <a:off x="969840" y="2863800"/>
            <a:ext cx="35132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TM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L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us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</a:t>
            </a:r>
            <a:r>
              <a:rPr b="1" lang="en-US" sz="1200" spc="-1" strike="noStrike" baseline="-25000">
                <a:solidFill>
                  <a:srgbClr val="00009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 emissions (lower value for reg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0"/>
                </a:solidFill>
                <a:latin typeface="Arial"/>
                <a:ea typeface="Arial"/>
              </a:rPr>
              <a:t>coastdown (optional, OEM ch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31"/>
          <p:cNvCxnSpPr/>
          <p:nvPr/>
        </p:nvCxnSpPr>
        <p:spPr>
          <a:xfrm flipV="1">
            <a:off x="4562280" y="2998440"/>
            <a:ext cx="1051560" cy="413280"/>
          </a:xfrm>
          <a:prstGeom prst="straightConnector1">
            <a:avLst/>
          </a:prstGeom>
          <a:ln w="25560">
            <a:solidFill>
              <a:srgbClr val="008000"/>
            </a:solidFill>
            <a:prstDash val="dash"/>
            <a:miter/>
          </a:ln>
        </p:spPr>
      </p:cxnSp>
      <p:sp>
        <p:nvSpPr>
          <p:cNvPr id="114" name="Oval 109"/>
          <p:cNvSpPr/>
          <p:nvPr/>
        </p:nvSpPr>
        <p:spPr>
          <a:xfrm>
            <a:off x="4448160" y="3338640"/>
            <a:ext cx="228600" cy="228600"/>
          </a:xfrm>
          <a:prstGeom prst="ellipse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2"/>
          <p:cNvSpPr/>
          <p:nvPr/>
        </p:nvSpPr>
        <p:spPr>
          <a:xfrm>
            <a:off x="5613480" y="2787480"/>
            <a:ext cx="321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extrapolation allowed up to [50 kg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Arial"/>
              </a:rPr>
              <a:t>(in case that additional options added l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4"/>
          <p:cNvSpPr/>
          <p:nvPr/>
        </p:nvSpPr>
        <p:spPr>
          <a:xfrm>
            <a:off x="4446720" y="382572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57"/>
          <p:cNvCxnSpPr>
            <a:stCxn id="123" idx="0"/>
            <a:endCxn id="144" idx="4"/>
          </p:cNvCxnSpPr>
          <p:nvPr/>
        </p:nvCxnSpPr>
        <p:spPr>
          <a:xfrm flipH="1" flipV="1">
            <a:off x="4560120" y="4053600"/>
            <a:ext cx="2520" cy="21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6" name="TextBox 63"/>
          <p:cNvSpPr/>
          <p:nvPr/>
        </p:nvSpPr>
        <p:spPr>
          <a:xfrm>
            <a:off x="4695840" y="3790800"/>
            <a:ext cx="3606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heaviest vehicle reference 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4"/>
          <p:cNvSpPr/>
          <p:nvPr/>
        </p:nvSpPr>
        <p:spPr>
          <a:xfrm>
            <a:off x="4695840" y="4057560"/>
            <a:ext cx="19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 1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mbined appro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kstvak 41"/>
          <p:cNvSpPr/>
          <p:nvPr/>
        </p:nvSpPr>
        <p:spPr>
          <a:xfrm>
            <a:off x="611280" y="860400"/>
            <a:ext cx="3673440" cy="1191240"/>
          </a:xfrm>
          <a:prstGeom prst="rect">
            <a:avLst/>
          </a:prstGeom>
          <a:solidFill>
            <a:srgbClr val="fdeada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epless inertia: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t and worst case vehicle tested at their defined test masses Interpolation for vehicles i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000" y="620640"/>
            <a:ext cx="8505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representative vehicle test mass (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ual mass of optional equipment, actual loading capacity conside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definition applicable for all vehicle models, types and categories (M1 and N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mass also considers vehicle construction features and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representativity of road load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accurate and vehicle specific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of masses for individual vehicle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formance depends on customer’s ch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0:23:22Z</dcterms:created>
  <dc:creator>rijnders</dc:creator>
  <dc:description/>
  <dc:language>en-US</dc:language>
  <cp:lastModifiedBy>PC2</cp:lastModifiedBy>
  <dcterms:modified xsi:type="dcterms:W3CDTF">2012-01-19T18:04:19Z</dcterms:modified>
  <cp:revision>167</cp:revision>
  <dc:subject/>
  <dc:title>NL Proposal Vehicle test mass</dc:title>
</cp:coreProperties>
</file>