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8C0B7B9-CCDE-4442-8D56-7A77741A2F8D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98F4A13-5EFC-4EE0-A616-2026801D1D25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3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0206-FD85-43B8-B54C-809382541797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9" descr="Logo_col_wappen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Line 40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1298520" y="6392880"/>
            <a:ext cx="6153120" cy="19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. D’Urbano, Swiss FOEN, DTP Chair, 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LTP DTP, 18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anuary 20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otelbern.ch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Welcome to the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fr-CH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 Meeting of WLTP DTP</a:t>
            </a:r>
            <a:br>
              <a:rPr sz="2400"/>
            </a:b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fr-CH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January 2012</a:t>
            </a: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UNECE, Geneva (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5300280"/>
            <a:ext cx="74293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491000" y="907920"/>
            <a:ext cx="31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Air Pollution Control and NIR Di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0360" y="333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WLTP-DTC-08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55640" y="1736280"/>
            <a:ext cx="7632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3. General issues (DTP level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WLTP Revised Roadm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77280" cy="5040360"/>
          </a:xfrm>
          <a:prstGeom prst="rect">
            <a:avLst/>
          </a:prstGeom>
          <a:ln w="0">
            <a:noFill/>
          </a:ln>
        </p:spPr>
      </p:pic>
      <p:sp>
        <p:nvSpPr>
          <p:cNvPr id="111" name="Pfeil nach rechts 3"/>
          <p:cNvSpPr/>
          <p:nvPr/>
        </p:nvSpPr>
        <p:spPr>
          <a:xfrm>
            <a:off x="2050920" y="2492280"/>
            <a:ext cx="5329440" cy="20163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sentation from Ichikawa-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TR Drafting Work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42920" y="873000"/>
            <a:ext cx="71611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TR Drafting: proposed GTR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979640" y="1039680"/>
            <a:ext cx="5353200" cy="4981680"/>
          </a:xfrm>
          <a:prstGeom prst="rect">
            <a:avLst/>
          </a:prstGeom>
          <a:ln w="0">
            <a:noFill/>
          </a:ln>
        </p:spPr>
      </p:pic>
      <p:sp>
        <p:nvSpPr>
          <p:cNvPr id="116" name="Pfeil nach rechts 3"/>
          <p:cNvSpPr/>
          <p:nvPr/>
        </p:nvSpPr>
        <p:spPr>
          <a:xfrm>
            <a:off x="2050920" y="2492280"/>
            <a:ext cx="5329440" cy="20163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sentation from S. Dub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neral issues (DTP lev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test mass and inerti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presentation of WLTP-DTP-08-02 from NL, ic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and T&amp;E during LabProce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mily concept (certification iss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=&gt; OICA will be asked to provide a proposal for the     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 family concept until DTP9 in Apr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=&gt; to be discussed and confirmed at DTP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6560" y="1736640"/>
            <a:ext cx="7417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4. Validation Phase 2</a:t>
            </a:r>
            <a:br>
              <a:rPr sz="6000"/>
            </a:b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(including validation of Road Load Determin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feil nach rechts 2"/>
          <p:cNvSpPr/>
          <p:nvPr/>
        </p:nvSpPr>
        <p:spPr>
          <a:xfrm>
            <a:off x="2050920" y="3573360"/>
            <a:ext cx="5329440" cy="20163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sentation from A. Maro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99640" y="1736640"/>
            <a:ext cx="7488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5. Reports from the DTP subgroups </a:t>
            </a: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(including working progress, parameter setting list and assessment parame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99640" y="1736640"/>
            <a:ext cx="7488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6. Wrap-up and open iss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99640" y="1736640"/>
            <a:ext cx="7488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7. Next DTP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P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12 in Bern (CH) at Hotel Bern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telbern.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P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held in September 2012, final dates and location has not been agreed y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99640" y="1736640"/>
            <a:ext cx="7488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8. Miscellan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55640" y="1736280"/>
            <a:ext cx="7632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1. Approval of Draft 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99640" y="1736640"/>
            <a:ext cx="7488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Thank you for your attention and your contribution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for appro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2326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for approval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3752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7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079640" y="1079640"/>
            <a:ext cx="734688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5640" y="1736280"/>
            <a:ext cx="7632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2. 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85920" y="1052640"/>
            <a:ext cx="7472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orking progress from the subgroups is excel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raft definitions as well as draft partial test procedures are available but not consolidat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erms and definitions not yet consistent at GRPE level (classification and definitions of vehicle propulsion system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TR drafting coordinator has been appointed: welcome to Mr. Serge Dubu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012 is very challenging for DTP: address the remaining open issues and consolidate GTR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planning of the validation phase 2 (VP2) is almost finalized. VP2 should start beginning of Febr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bjectives of DTP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85920" y="1052640"/>
            <a:ext cx="74721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ree on the WLTP revised road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ree on the proposed GTR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ddress open issues at DTP level and agree on further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alidation phase 2: finalize the parameter setting lists and the assessment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pare validation phase for the road load determin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how working progress from the sub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DTP contribution to get consistency in GRPE classification and definitions of vehicle propuls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WLTP Project Organisation (B. Colema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4360" y="838080"/>
            <a:ext cx="785304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7:02Z</dcterms:created>
  <dc:creator>Giovanni D'Urbano</dc:creator>
  <dc:description/>
  <dc:language>en-US</dc:language>
  <cp:lastModifiedBy>PC2</cp:lastModifiedBy>
  <cp:lastPrinted>2003-11-14T16:51:38Z</cp:lastPrinted>
  <dcterms:modified xsi:type="dcterms:W3CDTF">2012-01-19T18:03:36Z</dcterms:modified>
  <cp:revision>438</cp:revision>
  <dc:subject>Cours sanu</dc:subject>
  <dc:title>Dispositions de l‘OPair pour les machines de chantiers  Cadre légal, rôles et responsabilité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5:4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7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französ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4443420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