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CF38679-48C1-415F-94D3-E386F6842969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0F7C2EF-AE05-4115-9188-48C26AF3AD78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240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888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8592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240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888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6720" y="323640"/>
            <a:ext cx="74610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1240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3888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8592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1240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3888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96720" y="323640"/>
            <a:ext cx="74610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5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3"/>
          <p:cNvSpPr/>
          <p:nvPr/>
        </p:nvSpPr>
        <p:spPr>
          <a:xfrm>
            <a:off x="6448320" y="6397560"/>
            <a:ext cx="22669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F28A-DA84-4DDF-879D-D6671AE59DF9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9" descr="Logo_col_wappen"/>
          <p:cNvPicPr/>
          <p:nvPr/>
        </p:nvPicPr>
        <p:blipFill>
          <a:blip r:embed="rId2"/>
          <a:stretch/>
        </p:blipFill>
        <p:spPr>
          <a:xfrm>
            <a:off x="360360" y="390600"/>
            <a:ext cx="26676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Line 40"/>
          <p:cNvSpPr/>
          <p:nvPr/>
        </p:nvSpPr>
        <p:spPr>
          <a:xfrm flipH="1">
            <a:off x="1285560" y="635472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1298520" y="6392880"/>
            <a:ext cx="6153120" cy="19440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. D’Urbano, Swiss FOEN, DTP Chair, 8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LTP DTP, 18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January 20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2"/>
          <p:cNvSpPr/>
          <p:nvPr/>
        </p:nvSpPr>
        <p:spPr>
          <a:xfrm>
            <a:off x="4572000" y="387360"/>
            <a:ext cx="4095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deral Department of the Environ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, Energy and Communications DET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deral Office for the Environment</a:t>
            </a: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 FO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7" descr="Logo_CMYK_pos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hotelbern.ch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Welcome to the </a:t>
            </a:r>
            <a:br>
              <a:rPr sz="4000"/>
            </a:b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fr-CH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Meeting of WLTP DTP</a:t>
            </a:r>
            <a:br>
              <a:rPr sz="2400"/>
            </a:br>
            <a:br>
              <a:rPr sz="2400"/>
            </a:b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fr-CH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January 2012</a:t>
            </a:r>
            <a:br>
              <a:rPr sz="2400"/>
            </a:b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UNECE, Geneva (C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560" y="5300280"/>
            <a:ext cx="742932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491000" y="907920"/>
            <a:ext cx="310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Air Pollution Control and NIR Divi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80360" y="33336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WLTP-DTC-08-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755640" y="1736280"/>
            <a:ext cx="763272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3. General issues (DTP level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WLTP Revised Roadm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77280" cy="5040360"/>
          </a:xfrm>
          <a:prstGeom prst="rect">
            <a:avLst/>
          </a:prstGeom>
          <a:ln w="0">
            <a:noFill/>
          </a:ln>
        </p:spPr>
      </p:pic>
      <p:sp>
        <p:nvSpPr>
          <p:cNvPr id="111" name="Pfeil nach rechts 3"/>
          <p:cNvSpPr/>
          <p:nvPr/>
        </p:nvSpPr>
        <p:spPr>
          <a:xfrm>
            <a:off x="2050920" y="2492280"/>
            <a:ext cx="5329440" cy="20163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esentation from Ichikawa-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GTR Drafting Work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042920" y="873000"/>
            <a:ext cx="716112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GTR Drafting: proposed GTR stru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979640" y="1039680"/>
            <a:ext cx="5353200" cy="4981680"/>
          </a:xfrm>
          <a:prstGeom prst="rect">
            <a:avLst/>
          </a:prstGeom>
          <a:ln w="0">
            <a:noFill/>
          </a:ln>
        </p:spPr>
      </p:pic>
      <p:sp>
        <p:nvSpPr>
          <p:cNvPr id="116" name="Pfeil nach rechts 3"/>
          <p:cNvSpPr/>
          <p:nvPr/>
        </p:nvSpPr>
        <p:spPr>
          <a:xfrm>
            <a:off x="2050920" y="2492280"/>
            <a:ext cx="5329440" cy="20163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esentation from S. Dubu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General issues (DTP lev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 test mass and inerti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presentation of WLTP-DTP-08-02 from NL, ic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and T&amp;E during LabProceIC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amily concept (certification iss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=&gt; OICA will be asked to provide a proposal for the      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   family concept until DTP9 in Apr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=&gt; to be discussed and confirmed at DTP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26560" y="1736640"/>
            <a:ext cx="741708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4. Validation Phase 2</a:t>
            </a:r>
            <a:br>
              <a:rPr sz="6000"/>
            </a:b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(including validation of Road Load Determin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feil nach rechts 2"/>
          <p:cNvSpPr/>
          <p:nvPr/>
        </p:nvSpPr>
        <p:spPr>
          <a:xfrm>
            <a:off x="2050920" y="3573360"/>
            <a:ext cx="5329440" cy="20163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esentation from A. Maro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99640" y="1736640"/>
            <a:ext cx="7488360" cy="37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5. Reports from the DTP subgroups </a:t>
            </a: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(including working progress, parameter setting list and assessment parame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99640" y="1736640"/>
            <a:ext cx="7488360" cy="37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6. Wrap-up and open issu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99640" y="1736640"/>
            <a:ext cx="7488360" cy="37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7. Next DTP meet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P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ril 2012 in Bern (CH) at Hotel Bern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telbern.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P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e held in September 2012, final dates and location has not been agreed y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99640" y="1736640"/>
            <a:ext cx="7488360" cy="37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8. Miscellano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755640" y="1736280"/>
            <a:ext cx="763272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1. Approval of Draft Agen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99640" y="1736640"/>
            <a:ext cx="7488360" cy="37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Thank you for your attention and your contribution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raft agenda for approv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2326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raft agenda for approval (I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3752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Minutes DTP7 (wrap-up and open issu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346880" cy="50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55640" y="1736280"/>
            <a:ext cx="763272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2. Intro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Background information to DTP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85920" y="1052640"/>
            <a:ext cx="7472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orking progress from the subgroups is excel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raft definitions as well as draft partial test procedures are available but not consolidat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erms and definitions not yet consistent at GRPE level (classification and definitions of vehicle propulsion system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GTR drafting coordinator has been appointed: welcome to Mr. Serge Dubu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2012 is very challenging for DTP: address the remaining open issues and consolidate GTR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he planning of the validation phase 2 (VP2) is almost finalized. VP2 should start beginning of Febr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Objectives of DTP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85920" y="1052640"/>
            <a:ext cx="74721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gree on the WLTP revised road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gree on the proposed GTR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ddress open issues at DTP level and agree on further 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alidation phase 2: finalize the parameter setting lists and the assessment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epare validation phase for the road load determination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how working progress from the sub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 DTP contribution to get consistency in GRPE classification and definitions of vehicle propulsi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WLTP Project Organisation (B. Colema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684360" y="838080"/>
            <a:ext cx="785304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0:07:02Z</dcterms:created>
  <dc:creator>Giovanni D'Urbano</dc:creator>
  <dc:description/>
  <dc:language>en-US</dc:language>
  <cp:lastModifiedBy>PC2</cp:lastModifiedBy>
  <cp:lastPrinted>2003-11-14T16:51:38Z</cp:lastPrinted>
  <dcterms:modified xsi:type="dcterms:W3CDTF">2012-01-19T18:03:36Z</dcterms:modified>
  <cp:revision>438</cp:revision>
  <dc:subject>Cours sanu</dc:subject>
  <dc:title>Dispositions de l‘OPair pour les machines de chantiers  Cadre légal, rôles et responsabilité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SC#COOELAK@1.1001:ApprovedAt">
    <vt:lpwstr/>
  </property>
  <property fmtid="{D5CDD505-2E9C-101B-9397-08002B2CF9AE}" pid="3" name="FSC#COOELAK@1.1001:ApprovedBy">
    <vt:lpwstr/>
  </property>
  <property fmtid="{D5CDD505-2E9C-101B-9397-08002B2CF9AE}" pid="4" name="FSC#COOELAK@1.1001:CreatedAt">
    <vt:lpwstr>30.11.2005 11:45:44</vt:lpwstr>
  </property>
  <property fmtid="{D5CDD505-2E9C-101B-9397-08002B2CF9AE}" pid="5" name="FSC#COOELAK@1.1001:Department">
    <vt:lpwstr>Informatikdienst IS-UVEK (nicht im Organigram)</vt:lpwstr>
  </property>
  <property fmtid="{D5CDD505-2E9C-101B-9397-08002B2CF9AE}" pid="6" name="FSC#COOELAK@1.1001:DispatchedAt">
    <vt:lpwstr/>
  </property>
  <property fmtid="{D5CDD505-2E9C-101B-9397-08002B2CF9AE}" pid="7" name="FSC#COOELAK@1.1001:DispatchedBy">
    <vt:lpwstr/>
  </property>
  <property fmtid="{D5CDD505-2E9C-101B-9397-08002B2CF9AE}" pid="8" name="FSC#COOELAK@1.1001:ExternalRef">
    <vt:lpwstr/>
  </property>
  <property fmtid="{D5CDD505-2E9C-101B-9397-08002B2CF9AE}" pid="9" name="FSC#COOELAK@1.1001:FileRefBarCode">
    <vt:lpwstr/>
  </property>
  <property fmtid="{D5CDD505-2E9C-101B-9397-08002B2CF9AE}" pid="10" name="FSC#COOELAK@1.1001:FileRefOU">
    <vt:lpwstr/>
  </property>
  <property fmtid="{D5CDD505-2E9C-101B-9397-08002B2CF9AE}" pid="11" name="FSC#COOELAK@1.1001:FileRefOrdinal">
    <vt:lpwstr/>
  </property>
  <property fmtid="{D5CDD505-2E9C-101B-9397-08002B2CF9AE}" pid="12" name="FSC#COOELAK@1.1001:FileRefYear">
    <vt:lpwstr/>
  </property>
  <property fmtid="{D5CDD505-2E9C-101B-9397-08002B2CF9AE}" pid="13" name="FSC#COOELAK@1.1001:FileReference">
    <vt:lpwstr/>
  </property>
  <property fmtid="{D5CDD505-2E9C-101B-9397-08002B2CF9AE}" pid="14" name="FSC#COOELAK@1.1001:OU">
    <vt:lpwstr>Informatikdienst IS-UVEK (nicht im Organigram)</vt:lpwstr>
  </property>
  <property fmtid="{D5CDD505-2E9C-101B-9397-08002B2CF9AE}" pid="15" name="FSC#COOELAK@1.1001:ObjBarCode">
    <vt:lpwstr>*COO.100.2000.1.81497*</vt:lpwstr>
  </property>
  <property fmtid="{D5CDD505-2E9C-101B-9397-08002B2CF9AE}" pid="16" name="FSC#COOELAK@1.1001:Organization">
    <vt:lpwstr/>
  </property>
  <property fmtid="{D5CDD505-2E9C-101B-9397-08002B2CF9AE}" pid="17" name="FSC#COOELAK@1.1001:Owner">
    <vt:lpwstr>Sehr geehrter Herr Gasser Administrator</vt:lpwstr>
  </property>
  <property fmtid="{D5CDD505-2E9C-101B-9397-08002B2CF9AE}" pid="18" name="FSC#COOELAK@1.1001:OwnerExtension">
    <vt:lpwstr/>
  </property>
  <property fmtid="{D5CDD505-2E9C-101B-9397-08002B2CF9AE}" pid="19" name="FSC#COOELAK@1.1001:OwnerFaxExtension">
    <vt:lpwstr/>
  </property>
  <property fmtid="{D5CDD505-2E9C-101B-9397-08002B2CF9AE}" pid="20" name="FSC#COOELAK@1.1001:Priority">
    <vt:lpwstr/>
  </property>
  <property fmtid="{D5CDD505-2E9C-101B-9397-08002B2CF9AE}" pid="21" name="FSC#COOELAK@1.1001:RefBarCode">
    <vt:lpwstr>*_BAFU - PowerPoint (französisch)*</vt:lpwstr>
  </property>
  <property fmtid="{D5CDD505-2E9C-101B-9397-08002B2CF9AE}" pid="22" name="FSC#COOELAK@1.1001:Subject">
    <vt:lpwstr/>
  </property>
  <property fmtid="{D5CDD505-2E9C-101B-9397-08002B2CF9AE}" pid="23" name="FSC#COOSYSTEM@1.1:Container">
    <vt:lpwstr>COO.2002.100.7.4443420</vt:lpwstr>
  </property>
  <property fmtid="{D5CDD505-2E9C-101B-9397-08002B2CF9AE}" pid="24" name="FSC#ELAKGOV@1.1001:PersonalSubjAddress">
    <vt:lpwstr/>
  </property>
  <property fmtid="{D5CDD505-2E9C-101B-9397-08002B2CF9AE}" pid="25" name="FSC#ELAKGOV@1.1001:PersonalSubjFirstName">
    <vt:lpwstr/>
  </property>
  <property fmtid="{D5CDD505-2E9C-101B-9397-08002B2CF9AE}" pid="26" name="FSC#ELAKGOV@1.1001:PersonalSubjGender">
    <vt:lpwstr/>
  </property>
  <property fmtid="{D5CDD505-2E9C-101B-9397-08002B2CF9AE}" pid="27" name="FSC#ELAKGOV@1.1001:PersonalSubjSalutation">
    <vt:lpwstr/>
  </property>
  <property fmtid="{D5CDD505-2E9C-101B-9397-08002B2CF9AE}" pid="28" name="FSC#ELAKGOV@1.1001:PersonalSubjSurName">
    <vt:lpwstr/>
  </property>
</Properties>
</file>