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3C1C-6521-44A2-A54B-A930657C1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D1B7-75E7-435E-A51B-EF7899C4C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F7B0-304F-4E72-A0EF-4F3A8C3F8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8449-2B0A-4997-B27D-EBB01C60B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AD36-413B-4ADE-9B17-5102D01FF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921A-AD3B-41D8-A391-5244A1A8B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C19C-6367-44BC-980C-A20FB7B2F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D8B3-C58E-4D81-9F76-32DF0F0CA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3AF5-ADF1-4399-A402-05BA27E40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1F9B-DD20-489E-8557-D3802C367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072C-4A37-4251-81D9-6079D5CBA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F5D3-9BAA-492A-9426-58ABA48F2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454-A165-4CE8-A9CE-2DE03B082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11-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20D-91EA-4EFE-86DD-E3A7960E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5CE-E27E-412C-A5E9-A81FB1C3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09480" y="1143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gress Report of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ld-wide Light-duty Tes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905120" y="47242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n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1F6-B937-42B5-8174-37C07760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gress summary after the 8th DHC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686800" cy="2318040"/>
        </p:xfrm>
        <a:graphic>
          <a:graphicData uri="http://schemas.openxmlformats.org/drawingml/2006/table">
            <a:tbl>
              <a:tblPr/>
              <a:tblGrid>
                <a:gridCol w="1087560"/>
                <a:gridCol w="1085760"/>
                <a:gridCol w="1089000"/>
                <a:gridCol w="1065240"/>
                <a:gridCol w="1103400"/>
                <a:gridCol w="1084320"/>
                <a:gridCol w="1087200"/>
                <a:gridCol w="1084320"/>
              </a:tblGrid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AutoShape 107"/>
          <p:cNvSpPr/>
          <p:nvPr/>
        </p:nvSpPr>
        <p:spPr>
          <a:xfrm>
            <a:off x="2590920" y="1828800"/>
            <a:ext cx="1828800" cy="484200"/>
          </a:xfrm>
          <a:prstGeom prst="rightArrow">
            <a:avLst>
              <a:gd name="adj1" fmla="val 50000"/>
              <a:gd name="adj2" fmla="val 6155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6"/>
          <p:cNvSpPr/>
          <p:nvPr/>
        </p:nvSpPr>
        <p:spPr>
          <a:xfrm>
            <a:off x="4419720" y="2286000"/>
            <a:ext cx="99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Bruss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5"/>
          <p:cNvSpPr/>
          <p:nvPr/>
        </p:nvSpPr>
        <p:spPr>
          <a:xfrm>
            <a:off x="152280" y="2209680"/>
            <a:ext cx="95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Gen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6"/>
          <p:cNvSpPr/>
          <p:nvPr/>
        </p:nvSpPr>
        <p:spPr>
          <a:xfrm>
            <a:off x="304920" y="19051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3"/>
          <p:cNvSpPr/>
          <p:nvPr/>
        </p:nvSpPr>
        <p:spPr>
          <a:xfrm>
            <a:off x="990720" y="2209680"/>
            <a:ext cx="1066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Stockho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2"/>
          <p:cNvSpPr/>
          <p:nvPr/>
        </p:nvSpPr>
        <p:spPr>
          <a:xfrm>
            <a:off x="6858000" y="19051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4"/>
          <p:cNvSpPr/>
          <p:nvPr/>
        </p:nvSpPr>
        <p:spPr>
          <a:xfrm>
            <a:off x="1220760" y="1600200"/>
            <a:ext cx="36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4"/>
          <p:cNvSpPr/>
          <p:nvPr/>
        </p:nvSpPr>
        <p:spPr>
          <a:xfrm>
            <a:off x="2058840" y="1600200"/>
            <a:ext cx="36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2"/>
          <p:cNvSpPr/>
          <p:nvPr/>
        </p:nvSpPr>
        <p:spPr>
          <a:xfrm>
            <a:off x="2057400" y="19051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3"/>
          <p:cNvSpPr/>
          <p:nvPr/>
        </p:nvSpPr>
        <p:spPr>
          <a:xfrm>
            <a:off x="1981080" y="2227320"/>
            <a:ext cx="76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th Ju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2"/>
          <p:cNvSpPr/>
          <p:nvPr/>
        </p:nvSpPr>
        <p:spPr>
          <a:xfrm>
            <a:off x="195840" y="3276720"/>
            <a:ext cx="869688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Propose WLTC ver.1 (DHC-09-02, DHC-09-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Provide WLTC ver.2 for validatio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ainly Ex-HIGH phase was modified based on EU requ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Report on validation1 test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3 months delay for further review on WLTC ver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view supplemental methodology and WLTC ver.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to develop the cycle for “Low powered vehicle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dditional data acqui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5) Provide WLTC ver.4 for validation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3"/>
          <p:cNvSpPr/>
          <p:nvPr/>
        </p:nvSpPr>
        <p:spPr>
          <a:xfrm>
            <a:off x="6705720" y="2286000"/>
            <a:ext cx="76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th D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2"/>
          <p:cNvSpPr/>
          <p:nvPr/>
        </p:nvSpPr>
        <p:spPr>
          <a:xfrm>
            <a:off x="7924680" y="19051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3"/>
          <p:cNvSpPr/>
          <p:nvPr/>
        </p:nvSpPr>
        <p:spPr>
          <a:xfrm>
            <a:off x="7772400" y="2286000"/>
            <a:ext cx="76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th Ja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4"/>
          <p:cNvSpPr/>
          <p:nvPr/>
        </p:nvSpPr>
        <p:spPr>
          <a:xfrm>
            <a:off x="4648320" y="1600200"/>
            <a:ext cx="36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4"/>
          <p:cNvSpPr/>
          <p:nvPr/>
        </p:nvSpPr>
        <p:spPr>
          <a:xfrm>
            <a:off x="6781680" y="1600200"/>
            <a:ext cx="37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4"/>
          <p:cNvSpPr/>
          <p:nvPr/>
        </p:nvSpPr>
        <p:spPr>
          <a:xfrm>
            <a:off x="7848720" y="1600200"/>
            <a:ext cx="36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6"/>
          <p:cNvSpPr/>
          <p:nvPr/>
        </p:nvSpPr>
        <p:spPr>
          <a:xfrm>
            <a:off x="1219320" y="19051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6"/>
          <p:cNvSpPr/>
          <p:nvPr/>
        </p:nvSpPr>
        <p:spPr>
          <a:xfrm>
            <a:off x="4648320" y="19051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4"/>
          <p:cNvSpPr/>
          <p:nvPr/>
        </p:nvSpPr>
        <p:spPr>
          <a:xfrm>
            <a:off x="1371600" y="2590920"/>
            <a:ext cx="838080" cy="30456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528" h="192">
                <a:moveTo>
                  <a:pt x="0" y="0"/>
                </a:moveTo>
                <a:cubicBezTo>
                  <a:pt x="100" y="96"/>
                  <a:pt x="200" y="192"/>
                  <a:pt x="288" y="192"/>
                </a:cubicBezTo>
                <a:cubicBezTo>
                  <a:pt x="376" y="192"/>
                  <a:pt x="452" y="96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6"/>
          <p:cNvSpPr/>
          <p:nvPr/>
        </p:nvSpPr>
        <p:spPr>
          <a:xfrm>
            <a:off x="7086600" y="26668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28" h="192">
                <a:moveTo>
                  <a:pt x="0" y="0"/>
                </a:moveTo>
                <a:cubicBezTo>
                  <a:pt x="100" y="96"/>
                  <a:pt x="200" y="192"/>
                  <a:pt x="288" y="192"/>
                </a:cubicBezTo>
                <a:cubicBezTo>
                  <a:pt x="376" y="192"/>
                  <a:pt x="452" y="96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9"/>
          <p:cNvSpPr/>
          <p:nvPr/>
        </p:nvSpPr>
        <p:spPr>
          <a:xfrm>
            <a:off x="5110200" y="20289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6"/>
          <p:cNvSpPr/>
          <p:nvPr/>
        </p:nvSpPr>
        <p:spPr>
          <a:xfrm>
            <a:off x="5243400" y="201456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rthe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6"/>
          <p:cNvSpPr/>
          <p:nvPr/>
        </p:nvSpPr>
        <p:spPr>
          <a:xfrm>
            <a:off x="2028960" y="270036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-HIGH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6"/>
          <p:cNvSpPr/>
          <p:nvPr/>
        </p:nvSpPr>
        <p:spPr>
          <a:xfrm>
            <a:off x="6539040" y="26812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mmary of Validation 1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9240" y="719280"/>
            <a:ext cx="84582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parties : JRC, India, Austria, ACEA, Korea, and Jap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at the low speed part (less than 10km/h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half clutch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to trace the cycle for low powered veh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to reproducibility at micro transient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to trace the cycle due to max. speed limit of vehicle spec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vehicles is not completely warmed up at the end of Low phase from cold starting. Middle phase might be necessary for hot start testing, if appl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ire slippage at the high acceleration and decel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60958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ports are available on UN-ECE web site. (DHC10) : http://www.unece.org/trans/main/wp29/wp29wgs/wp29grpe/wltp_dhc1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eeds to modify WLTC ver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990720"/>
          <a:ext cx="8382240" cy="5638680"/>
        </p:xfrm>
        <a:graphic>
          <a:graphicData uri="http://schemas.openxmlformats.org/drawingml/2006/table">
            <a:tbl>
              <a:tblPr/>
              <a:tblGrid>
                <a:gridCol w="3810240"/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 of validation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comments were reflected to WLTC ver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requirement from EU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ness of “dynamic performance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ed the supplemental methodology maintaining the original paramet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requirement from India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fficulty to trace the cycle for low powered vehic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ed to develop the cycle for low powered vehicles. Under the discussion on the definition of “low powered vehicles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haracteristics of WLTC ver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723600"/>
            <a:ext cx="84582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TC version 4 was developed to reflect validation1 test results and to apply supplemental method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9252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2428920" y="5257800"/>
            <a:ext cx="1835280" cy="117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219240" y="5257800"/>
            <a:ext cx="1834920" cy="1171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2424240" y="4876920"/>
            <a:ext cx="1882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um.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f  V * a_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19240" y="4871880"/>
            <a:ext cx="1981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um.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f Vehicle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5181480" y="167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LTC ver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 flipH="1" rot="5400000">
            <a:off x="4418640" y="5181480"/>
            <a:ext cx="914400" cy="762120"/>
          </a:xfrm>
          <a:custGeom>
            <a:avLst/>
            <a:gdLst>
              <a:gd name="textAreaLeft" fmla="*/ 526320 w 914400"/>
              <a:gd name="textAreaRight" fmla="*/ 772200 w 914400"/>
              <a:gd name="textAreaTop" fmla="*/ 102600 h 762120"/>
              <a:gd name="textAreaBottom" fmla="*/ 32616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105160" y="5562720"/>
            <a:ext cx="39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supplemental 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04920" y="251460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minimum speed @ 10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the micro transient po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maximum acceleration @ 95 percent 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3137040" y="2577960"/>
            <a:ext cx="850680" cy="228600"/>
          </a:xfrm>
          <a:prstGeom prst="rightArrow">
            <a:avLst>
              <a:gd name="adj1" fmla="val 50000"/>
              <a:gd name="adj2" fmla="val 930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Gear shif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80640"/>
            <a:ext cx="87631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(2) methods are under th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: Vehicle speed ba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-use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speed and Acceleration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d vehicle category and gear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ger car / Light duty commercial vehi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/ 6 speed gearbox for re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hat this shift point can be used for validation1b test about WLTC ver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: Engine spe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ll be proposed before validation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914400"/>
          <a:ext cx="8864640" cy="52848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owered 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AutoShape 105"/>
          <p:cNvSpPr/>
          <p:nvPr/>
        </p:nvSpPr>
        <p:spPr>
          <a:xfrm>
            <a:off x="3416400" y="49784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2"/>
          <p:cNvSpPr/>
          <p:nvPr/>
        </p:nvSpPr>
        <p:spPr>
          <a:xfrm>
            <a:off x="3497400" y="3317760"/>
            <a:ext cx="106668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TC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3"/>
          <p:cNvSpPr/>
          <p:nvPr/>
        </p:nvSpPr>
        <p:spPr>
          <a:xfrm>
            <a:off x="2646360" y="5270400"/>
            <a:ext cx="1265400" cy="3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al data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6"/>
          <p:cNvSpPr/>
          <p:nvPr/>
        </p:nvSpPr>
        <p:spPr>
          <a:xfrm>
            <a:off x="1828800" y="2082960"/>
            <a:ext cx="819000" cy="32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Bruss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8"/>
          <p:cNvSpPr/>
          <p:nvPr/>
        </p:nvSpPr>
        <p:spPr>
          <a:xfrm>
            <a:off x="4538520" y="2835360"/>
            <a:ext cx="304920" cy="457200"/>
          </a:xfrm>
          <a:prstGeom prst="rightArrow">
            <a:avLst>
              <a:gd name="adj1" fmla="val 50000"/>
              <a:gd name="adj2" fmla="val 406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4"/>
          <p:cNvSpPr/>
          <p:nvPr/>
        </p:nvSpPr>
        <p:spPr>
          <a:xfrm>
            <a:off x="7620120" y="177804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5"/>
          <p:cNvSpPr/>
          <p:nvPr/>
        </p:nvSpPr>
        <p:spPr>
          <a:xfrm>
            <a:off x="7475040" y="2158920"/>
            <a:ext cx="710640" cy="47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Gen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5"/>
          <p:cNvSpPr/>
          <p:nvPr/>
        </p:nvSpPr>
        <p:spPr>
          <a:xfrm>
            <a:off x="3886200" y="2158920"/>
            <a:ext cx="950760" cy="47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Gen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6"/>
          <p:cNvSpPr/>
          <p:nvPr/>
        </p:nvSpPr>
        <p:spPr>
          <a:xfrm>
            <a:off x="4191120" y="177804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2"/>
          <p:cNvSpPr/>
          <p:nvPr/>
        </p:nvSpPr>
        <p:spPr>
          <a:xfrm>
            <a:off x="4800600" y="177804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3"/>
          <p:cNvSpPr/>
          <p:nvPr/>
        </p:nvSpPr>
        <p:spPr>
          <a:xfrm>
            <a:off x="4724280" y="2158920"/>
            <a:ext cx="68580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DHC @ 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2"/>
          <p:cNvSpPr/>
          <p:nvPr/>
        </p:nvSpPr>
        <p:spPr>
          <a:xfrm>
            <a:off x="4191120" y="497844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3"/>
          <p:cNvSpPr/>
          <p:nvPr/>
        </p:nvSpPr>
        <p:spPr>
          <a:xfrm>
            <a:off x="5486400" y="2082960"/>
            <a:ext cx="1600200" cy="1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 meeting, if necess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9"/>
          <p:cNvSpPr/>
          <p:nvPr/>
        </p:nvSpPr>
        <p:spPr>
          <a:xfrm>
            <a:off x="5334120" y="200664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8"/>
          <p:cNvSpPr/>
          <p:nvPr/>
        </p:nvSpPr>
        <p:spPr>
          <a:xfrm>
            <a:off x="2349360" y="2832120"/>
            <a:ext cx="1524240" cy="457200"/>
          </a:xfrm>
          <a:prstGeom prst="rightArrow">
            <a:avLst>
              <a:gd name="adj1" fmla="val 50000"/>
              <a:gd name="adj2" fmla="val 4937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6"/>
          <p:cNvSpPr/>
          <p:nvPr/>
        </p:nvSpPr>
        <p:spPr>
          <a:xfrm>
            <a:off x="3909960" y="2952720"/>
            <a:ext cx="228600" cy="2286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7"/>
          <p:cNvSpPr/>
          <p:nvPr/>
        </p:nvSpPr>
        <p:spPr>
          <a:xfrm>
            <a:off x="4267080" y="41403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2"/>
          <p:cNvSpPr/>
          <p:nvPr/>
        </p:nvSpPr>
        <p:spPr>
          <a:xfrm>
            <a:off x="3809520" y="3835440"/>
            <a:ext cx="101700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8"/>
          <p:cNvSpPr/>
          <p:nvPr/>
        </p:nvSpPr>
        <p:spPr>
          <a:xfrm>
            <a:off x="5029200" y="3873600"/>
            <a:ext cx="2438280" cy="457200"/>
          </a:xfrm>
          <a:prstGeom prst="rightArrow">
            <a:avLst>
              <a:gd name="adj1" fmla="val 50000"/>
              <a:gd name="adj2" fmla="val 7898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6"/>
          <p:cNvSpPr/>
          <p:nvPr/>
        </p:nvSpPr>
        <p:spPr>
          <a:xfrm flipH="1">
            <a:off x="7709040" y="4419720"/>
            <a:ext cx="1231920" cy="457200"/>
          </a:xfrm>
          <a:prstGeom prst="rightArrow">
            <a:avLst>
              <a:gd name="adj1" fmla="val 50000"/>
              <a:gd name="adj2" fmla="val 4391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5"/>
          <p:cNvSpPr/>
          <p:nvPr/>
        </p:nvSpPr>
        <p:spPr>
          <a:xfrm>
            <a:off x="5151240" y="2975040"/>
            <a:ext cx="15703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6"/>
          <p:cNvSpPr/>
          <p:nvPr/>
        </p:nvSpPr>
        <p:spPr>
          <a:xfrm>
            <a:off x="4876920" y="2955960"/>
            <a:ext cx="228600" cy="2286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6"/>
          <p:cNvSpPr/>
          <p:nvPr/>
        </p:nvSpPr>
        <p:spPr>
          <a:xfrm>
            <a:off x="2057400" y="177804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1"/>
          <p:cNvSpPr/>
          <p:nvPr/>
        </p:nvSpPr>
        <p:spPr>
          <a:xfrm>
            <a:off x="7599240" y="2924280"/>
            <a:ext cx="228600" cy="2286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2"/>
          <p:cNvSpPr/>
          <p:nvPr/>
        </p:nvSpPr>
        <p:spPr>
          <a:xfrm>
            <a:off x="7342200" y="3203640"/>
            <a:ext cx="15703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8"/>
          <p:cNvSpPr/>
          <p:nvPr/>
        </p:nvSpPr>
        <p:spPr>
          <a:xfrm>
            <a:off x="5499000" y="5384880"/>
            <a:ext cx="1994040" cy="457200"/>
          </a:xfrm>
          <a:prstGeom prst="rightArrow">
            <a:avLst>
              <a:gd name="adj1" fmla="val 50000"/>
              <a:gd name="adj2" fmla="val 64593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tion1&amp;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8"/>
          <p:cNvSpPr/>
          <p:nvPr/>
        </p:nvSpPr>
        <p:spPr>
          <a:xfrm>
            <a:off x="7201080" y="2809800"/>
            <a:ext cx="304560" cy="457200"/>
          </a:xfrm>
          <a:prstGeom prst="rightArrow">
            <a:avLst>
              <a:gd name="adj1" fmla="val 50000"/>
              <a:gd name="adj2" fmla="val 406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1"/>
          <p:cNvSpPr/>
          <p:nvPr/>
        </p:nvSpPr>
        <p:spPr>
          <a:xfrm>
            <a:off x="5102640" y="3503520"/>
            <a:ext cx="21553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te gear shift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3"/>
          <p:cNvSpPr/>
          <p:nvPr/>
        </p:nvSpPr>
        <p:spPr>
          <a:xfrm>
            <a:off x="4114800" y="5257800"/>
            <a:ext cx="17524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 low powered vehicl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7"/>
          <p:cNvSpPr/>
          <p:nvPr/>
        </p:nvSpPr>
        <p:spPr>
          <a:xfrm>
            <a:off x="5105520" y="3429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4"/>
          <p:cNvSpPr/>
          <p:nvPr/>
        </p:nvSpPr>
        <p:spPr>
          <a:xfrm>
            <a:off x="3982680" y="5904000"/>
            <a:ext cx="364896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 the definition of “low powered vehic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7"/>
          <p:cNvSpPr/>
          <p:nvPr/>
        </p:nvSpPr>
        <p:spPr>
          <a:xfrm>
            <a:off x="4098960" y="5816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2-01-16T13:02:32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