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378-8927-4BFF-87F0-F9C34C67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679-E40B-42FE-AEEC-E622F303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F7E0-109B-4025-A774-75EEDD27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0BB9-86DB-4661-964A-C0764158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692000" y="0"/>
            <a:ext cx="74516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4F6-A313-498D-8FE8-B69CE2FA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45E-8CB7-4C26-9B80-46A7D140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6E80-0285-4591-B5C8-287C1FB0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893-B71D-42EB-9CF8-47B57966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692000" y="0"/>
            <a:ext cx="74516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9BE5-0B7D-4047-A3FE-217982BC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F728-3920-4B72-A527-AE65F0DA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B5B7-FFC5-4D1B-8C2A-91F4E838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AA3-5E15-47FA-AACD-8E096090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8"/>
          <p:cNvSpPr/>
          <p:nvPr/>
        </p:nvSpPr>
        <p:spPr>
          <a:xfrm>
            <a:off x="719280" y="62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" name="Rectangle 20"/>
            <p:cNvSpPr/>
            <p:nvPr/>
          </p:nvSpPr>
          <p:spPr>
            <a:xfrm>
              <a:off x="0" y="0"/>
              <a:ext cx="28584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33"/>
            <p:cNvGrpSpPr/>
            <p:nvPr/>
          </p:nvGrpSpPr>
          <p:grpSpPr>
            <a:xfrm>
              <a:off x="131760" y="0"/>
              <a:ext cx="9012240" cy="546120"/>
              <a:chOff x="131760" y="0"/>
              <a:chExt cx="9012240" cy="546120"/>
            </a:xfrm>
          </p:grpSpPr>
          <p:sp>
            <p:nvSpPr>
              <p:cNvPr id="4" name="Rectangle 21"/>
              <p:cNvSpPr/>
              <p:nvPr/>
            </p:nvSpPr>
            <p:spPr>
              <a:xfrm>
                <a:off x="412920" y="135000"/>
                <a:ext cx="8731080" cy="274680"/>
              </a:xfrm>
              <a:prstGeom prst="rect">
                <a:avLst/>
              </a:prstGeom>
              <a:gradFill rotWithShape="0">
                <a:gsLst>
                  <a:gs pos="0">
                    <a:srgbClr val="00007d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22"/>
              <p:cNvSpPr/>
              <p:nvPr/>
            </p:nvSpPr>
            <p:spPr>
              <a:xfrm>
                <a:off x="409680" y="135000"/>
                <a:ext cx="137880" cy="1411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23"/>
              <p:cNvSpPr/>
              <p:nvPr/>
            </p:nvSpPr>
            <p:spPr>
              <a:xfrm>
                <a:off x="547560" y="0"/>
                <a:ext cx="139680" cy="138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24"/>
              <p:cNvSpPr/>
              <p:nvPr/>
            </p:nvSpPr>
            <p:spPr>
              <a:xfrm>
                <a:off x="547560" y="135000"/>
                <a:ext cx="139680" cy="1411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25"/>
              <p:cNvSpPr/>
              <p:nvPr/>
            </p:nvSpPr>
            <p:spPr>
              <a:xfrm>
                <a:off x="274680" y="274680"/>
                <a:ext cx="136440" cy="138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26"/>
              <p:cNvSpPr/>
              <p:nvPr/>
            </p:nvSpPr>
            <p:spPr>
              <a:xfrm>
                <a:off x="131760" y="136440"/>
                <a:ext cx="141120" cy="138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27"/>
              <p:cNvSpPr/>
              <p:nvPr/>
            </p:nvSpPr>
            <p:spPr>
              <a:xfrm>
                <a:off x="409680" y="271440"/>
                <a:ext cx="137880" cy="138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28"/>
              <p:cNvSpPr/>
              <p:nvPr/>
            </p:nvSpPr>
            <p:spPr>
              <a:xfrm>
                <a:off x="274680" y="409680"/>
                <a:ext cx="136440" cy="136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ftr" idx="1"/>
          </p:nvPr>
        </p:nvSpPr>
        <p:spPr>
          <a:xfrm>
            <a:off x="2050560" y="6453000"/>
            <a:ext cx="49690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7" descr="Logo UTAC couleur (B2a)"/>
          <p:cNvPicPr/>
          <p:nvPr/>
        </p:nvPicPr>
        <p:blipFill>
          <a:blip r:embed="rId2"/>
          <a:stretch/>
        </p:blipFill>
        <p:spPr>
          <a:xfrm>
            <a:off x="433440" y="450720"/>
            <a:ext cx="1042920" cy="24156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394920" y="6453000"/>
            <a:ext cx="1368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7596000" y="6453000"/>
            <a:ext cx="10904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157B-BE25-4E4B-818A-803E36140AC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" name="Rectangle 50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51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5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8" name="Rectangle 53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54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55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56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57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58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59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Rectangle 60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1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62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8" name="Picture 32" descr="Logo UTAC couleur (B2a) fond transaparent"/>
          <p:cNvPicPr/>
          <p:nvPr/>
        </p:nvPicPr>
        <p:blipFill>
          <a:blip r:embed="rId2"/>
          <a:stretch/>
        </p:blipFill>
        <p:spPr>
          <a:xfrm>
            <a:off x="1187280" y="77760"/>
            <a:ext cx="3903840" cy="903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4"/>
          </p:nvPr>
        </p:nvSpPr>
        <p:spPr>
          <a:xfrm>
            <a:off x="826920" y="6381360"/>
            <a:ext cx="338472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WLTC VALIDATION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"/>
          <p:cNvSpPr/>
          <p:nvPr/>
        </p:nvSpPr>
        <p:spPr>
          <a:xfrm>
            <a:off x="5368320" y="6237360"/>
            <a:ext cx="37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4/10/2011- M. CAPIT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RIV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2"/>
          <p:cNvSpPr/>
          <p:nvPr/>
        </p:nvSpPr>
        <p:spPr>
          <a:xfrm>
            <a:off x="357120" y="765000"/>
            <a:ext cx="8678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EXT-HIGH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/  VEHICULE </a:t>
            </a:r>
            <a:r>
              <a:rPr b="1" i="1" lang="fr-FR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 /  GEAR SHIFT JAPAN  /  COLD TES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OLLER SPE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Graphique 9" descr=""/>
          <p:cNvPicPr/>
          <p:nvPr/>
        </p:nvPicPr>
        <p:blipFill>
          <a:blip r:embed="rId1"/>
          <a:stretch/>
        </p:blipFill>
        <p:spPr>
          <a:xfrm>
            <a:off x="49320" y="1487520"/>
            <a:ext cx="9296280" cy="5327640"/>
          </a:xfrm>
          <a:prstGeom prst="rect">
            <a:avLst/>
          </a:prstGeom>
          <a:ln w="0">
            <a:noFill/>
          </a:ln>
        </p:spPr>
      </p:pic>
      <p:pic>
        <p:nvPicPr>
          <p:cNvPr id="136" name="ZoneTexte 1" descr=""/>
          <p:cNvPicPr/>
          <p:nvPr/>
        </p:nvPicPr>
        <p:blipFill>
          <a:blip r:embed="rId2"/>
          <a:stretch/>
        </p:blipFill>
        <p:spPr>
          <a:xfrm>
            <a:off x="4175280" y="2243160"/>
            <a:ext cx="2097000" cy="725400"/>
          </a:xfrm>
          <a:prstGeom prst="rect">
            <a:avLst/>
          </a:prstGeom>
          <a:ln w="0">
            <a:noFill/>
          </a:ln>
        </p:spPr>
      </p:pic>
      <p:sp>
        <p:nvSpPr>
          <p:cNvPr id="137" name="Flèche droite 11"/>
          <p:cNvSpPr/>
          <p:nvPr/>
        </p:nvSpPr>
        <p:spPr>
          <a:xfrm flipV="1" rot="10800000">
            <a:off x="1979640" y="2568600"/>
            <a:ext cx="2232000" cy="15552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RIV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2"/>
          <p:cNvSpPr/>
          <p:nvPr/>
        </p:nvSpPr>
        <p:spPr>
          <a:xfrm>
            <a:off x="328680" y="765000"/>
            <a:ext cx="86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OBSERVATIONS SYNTHESIS &amp;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ZoneTexte 3"/>
          <p:cNvSpPr/>
          <p:nvPr/>
        </p:nvSpPr>
        <p:spPr>
          <a:xfrm>
            <a:off x="222120" y="1341360"/>
            <a:ext cx="87566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bservation : Engine speed too low during some low speed ph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ause : Gear shift engaged too 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sult : Risk of engine cut-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oposal : Disengage gear shift ear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bservation : Engine speed too high during some accelerations having enga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ause : Gear shif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sult : Engine point unrepresentative of re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oposal : Gear shif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RIV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2"/>
          <p:cNvSpPr/>
          <p:nvPr/>
        </p:nvSpPr>
        <p:spPr>
          <a:xfrm>
            <a:off x="328680" y="765000"/>
            <a:ext cx="86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OBSERVATIONS SYNTHESIS &amp;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ZoneTexte 3"/>
          <p:cNvSpPr/>
          <p:nvPr/>
        </p:nvSpPr>
        <p:spPr>
          <a:xfrm>
            <a:off x="230040" y="1125360"/>
            <a:ext cx="8755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HIGH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Times New Roman"/>
              </a:rPr>
              <a:t>(&amp; ALL PHA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bservation : Speed management with accel pedal during some of the small decel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engine break or small acceleration, but not with the break pedal =&gt; Otherwise with the speed was out of the toleran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sult : Risk of deterioration of the repetability (?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TRA-HIGH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&amp; HIGH PHASE MAIN ACCELERATION, DEPENDING ON ENGINE POW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bservation : Target speed is hard to follow during the main accel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ause : Engine in full acceleration (depending on engine pow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sult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ehicule cannot follow the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teriorates the repetabi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oposal : Limit the acceleration (not spe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PAR JAPAN / STEV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oneTexte 3"/>
          <p:cNvSpPr/>
          <p:nvPr/>
        </p:nvSpPr>
        <p:spPr>
          <a:xfrm>
            <a:off x="230040" y="731880"/>
            <a:ext cx="87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undamental difference of drivability between the two gear shift procedures, but changes engine speed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Graphique 5" descr=""/>
          <p:cNvPicPr/>
          <p:nvPr/>
        </p:nvPicPr>
        <p:blipFill>
          <a:blip r:embed="rId1"/>
          <a:stretch/>
        </p:blipFill>
        <p:spPr>
          <a:xfrm>
            <a:off x="324000" y="1560600"/>
            <a:ext cx="87278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RIVABILITY =&gt; ~CO2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Graphique 2" descr=""/>
          <p:cNvPicPr/>
          <p:nvPr/>
        </p:nvPicPr>
        <p:blipFill>
          <a:blip r:embed="rId1"/>
          <a:stretch/>
        </p:blipFill>
        <p:spPr>
          <a:xfrm>
            <a:off x="103320" y="755640"/>
            <a:ext cx="8937360" cy="5127480"/>
          </a:xfrm>
          <a:prstGeom prst="rect">
            <a:avLst/>
          </a:prstGeom>
          <a:ln w="0">
            <a:noFill/>
          </a:ln>
        </p:spPr>
      </p:pic>
      <p:sp>
        <p:nvSpPr>
          <p:cNvPr id="149" name="ZoneTexte 3"/>
          <p:cNvSpPr/>
          <p:nvPr/>
        </p:nvSpPr>
        <p:spPr>
          <a:xfrm>
            <a:off x="1943280" y="58626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dispersion in the Extra-High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use :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gine in full accel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Ellipse 1"/>
          <p:cNvSpPr/>
          <p:nvPr/>
        </p:nvSpPr>
        <p:spPr>
          <a:xfrm>
            <a:off x="4859280" y="1341360"/>
            <a:ext cx="1584360" cy="187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RIVABILITY =&gt; ~CO2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oneTexte 3"/>
          <p:cNvSpPr/>
          <p:nvPr/>
        </p:nvSpPr>
        <p:spPr>
          <a:xfrm>
            <a:off x="1943280" y="58626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dispersion in the Extra-High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cause :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gine in full accel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Graphique 4" descr=""/>
          <p:cNvPicPr/>
          <p:nvPr/>
        </p:nvPicPr>
        <p:blipFill>
          <a:blip r:embed="rId1"/>
          <a:stretch/>
        </p:blipFill>
        <p:spPr>
          <a:xfrm>
            <a:off x="103320" y="828720"/>
            <a:ext cx="8869320" cy="5041800"/>
          </a:xfrm>
          <a:prstGeom prst="rect">
            <a:avLst/>
          </a:prstGeom>
          <a:ln w="0">
            <a:noFill/>
          </a:ln>
        </p:spPr>
      </p:pic>
      <p:sp>
        <p:nvSpPr>
          <p:cNvPr id="154" name="Ellipse 5"/>
          <p:cNvSpPr/>
          <p:nvPr/>
        </p:nvSpPr>
        <p:spPr>
          <a:xfrm>
            <a:off x="5003640" y="4076640"/>
            <a:ext cx="1297080" cy="936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HERMO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2"/>
          <p:cNvSpPr/>
          <p:nvPr/>
        </p:nvSpPr>
        <p:spPr>
          <a:xfrm>
            <a:off x="2411280" y="1341360"/>
            <a:ext cx="28814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GINE HOT AT HALF OF THE MID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Graphique 4" descr=""/>
          <p:cNvPicPr/>
          <p:nvPr/>
        </p:nvPicPr>
        <p:blipFill>
          <a:blip r:embed="rId1"/>
          <a:stretch/>
        </p:blipFill>
        <p:spPr>
          <a:xfrm>
            <a:off x="176040" y="676440"/>
            <a:ext cx="8858520" cy="5419440"/>
          </a:xfrm>
          <a:prstGeom prst="rect">
            <a:avLst/>
          </a:prstGeom>
          <a:ln w="0">
            <a:noFill/>
          </a:ln>
        </p:spPr>
      </p:pic>
      <p:sp>
        <p:nvSpPr>
          <p:cNvPr id="158" name="Ellipse 5"/>
          <p:cNvSpPr/>
          <p:nvPr/>
        </p:nvSpPr>
        <p:spPr>
          <a:xfrm>
            <a:off x="2700360" y="2565360"/>
            <a:ext cx="1655640" cy="23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lèche vers le bas 6"/>
          <p:cNvSpPr/>
          <p:nvPr/>
        </p:nvSpPr>
        <p:spPr>
          <a:xfrm>
            <a:off x="3419640" y="2016000"/>
            <a:ext cx="215640" cy="577800"/>
          </a:xfrm>
          <a:prstGeom prst="downArrow">
            <a:avLst>
              <a:gd name="adj1" fmla="val 50000"/>
              <a:gd name="adj2" fmla="val 5009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HERMO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2"/>
          <p:cNvSpPr/>
          <p:nvPr/>
        </p:nvSpPr>
        <p:spPr>
          <a:xfrm>
            <a:off x="1476360" y="1773360"/>
            <a:ext cx="2879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 FROM THE HALF OF THE LOW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Graphique 5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9676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3"/>
          <p:cNvSpPr/>
          <p:nvPr/>
        </p:nvSpPr>
        <p:spPr>
          <a:xfrm>
            <a:off x="2073240" y="1341360"/>
            <a:ext cx="4997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VEHICUL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YNAMO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E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ST 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RIV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OMPARAISON JAPAN/STE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RIVABILITY =&gt; ~CO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HERMO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VEHICULE TE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55640" y="981000"/>
          <a:ext cx="7632720" cy="4308480"/>
        </p:xfrm>
        <a:graphic>
          <a:graphicData uri="http://schemas.openxmlformats.org/drawingml/2006/table">
            <a:tbl>
              <a:tblPr/>
              <a:tblGrid>
                <a:gridCol w="2232000"/>
                <a:gridCol w="1871640"/>
                <a:gridCol w="1800360"/>
                <a:gridCol w="1728720"/>
              </a:tblGrid>
              <a:tr h="509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094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O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09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 DISPLAC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49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m</a:t>
                      </a:r>
                      <a:r>
                        <a:rPr b="0" lang="fr-F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300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m</a:t>
                      </a:r>
                      <a:r>
                        <a:rPr b="0" lang="fr-F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m</a:t>
                      </a:r>
                      <a:r>
                        <a:rPr b="0" lang="fr-F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094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kW at 5500rpm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kW at 3500r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kW at 4000r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09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INER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 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0 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0 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094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 (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 (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09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SION 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5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412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SPECIFI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SURALI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&amp;ST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YNAMOME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Image 4" descr="12_cellule_homol_vl_02"/>
          <p:cNvPicPr/>
          <p:nvPr/>
        </p:nvPicPr>
        <p:blipFill>
          <a:blip r:embed="rId1"/>
          <a:stretch/>
        </p:blipFill>
        <p:spPr>
          <a:xfrm>
            <a:off x="1403280" y="682560"/>
            <a:ext cx="2448000" cy="1513080"/>
          </a:xfrm>
          <a:prstGeom prst="rect">
            <a:avLst/>
          </a:prstGeom>
          <a:ln w="0">
            <a:noFill/>
          </a:ln>
        </p:spPr>
      </p:pic>
      <p:sp>
        <p:nvSpPr>
          <p:cNvPr id="116" name="ZoneTexte 2"/>
          <p:cNvSpPr/>
          <p:nvPr/>
        </p:nvSpPr>
        <p:spPr>
          <a:xfrm>
            <a:off x="4761000" y="97776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YNAMOMETER FOR LIGHT-DUTY VEHICULES STANDARD TES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42920" y="2349360"/>
          <a:ext cx="7129440" cy="4008600"/>
        </p:xfrm>
        <a:graphic>
          <a:graphicData uri="http://schemas.openxmlformats.org/drawingml/2006/table">
            <a:tbl>
              <a:tblPr/>
              <a:tblGrid>
                <a:gridCol w="3297240"/>
                <a:gridCol w="3832200"/>
              </a:tblGrid>
              <a:tr h="5032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NAMOMETER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BA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 roller 48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76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PTION NOMINAL PO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kW [96 - 200 km/h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11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TEMP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0°C to +30°C ± 2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158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IDITY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g to 13g water / kg  dry air ± 5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618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INERTIA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to 3500k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795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WER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rtional to vehicle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809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S DILUTED GAS SAMPL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BA 9300T - 9 &amp; 12m3/m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795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S DILUTED GAS ANALYS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BA MEXA 9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ESU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24000" y="836640"/>
          <a:ext cx="6696000" cy="5346720"/>
        </p:xfrm>
        <a:graphic>
          <a:graphicData uri="http://schemas.openxmlformats.org/drawingml/2006/table">
            <a:tbl>
              <a:tblPr/>
              <a:tblGrid>
                <a:gridCol w="3106800"/>
                <a:gridCol w="1197000"/>
                <a:gridCol w="1195200"/>
                <a:gridCol w="1197000"/>
              </a:tblGrid>
              <a:tr h="339840"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ULE </a:t>
                      </a:r>
                      <a:br>
                        <a:rPr sz="1000"/>
                      </a:b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ULE </a:t>
                      </a:r>
                      <a:br>
                        <a:rPr sz="1000"/>
                      </a:b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ULE </a:t>
                      </a:r>
                      <a:br>
                        <a:rPr sz="1000"/>
                      </a:b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394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LER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namometer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RE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-B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-B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e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398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 PO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-B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-B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9460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 PEDAL ANGLE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-B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-B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 measur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364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 COOLANT TEMP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-B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-B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368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 SPEED (VOLUNTAR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-B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-B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2445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UTANTS EMISSIONS (VOLUNTAR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 Sampling (4phases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t / CH4 / CO / NOX / NO / CO2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=&gt; Fuel consump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ESTS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4"/>
          <p:cNvSpPr/>
          <p:nvPr/>
        </p:nvSpPr>
        <p:spPr>
          <a:xfrm>
            <a:off x="4356000" y="5805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Comment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: Same driver for all t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4360" y="907920"/>
          <a:ext cx="7775280" cy="4824720"/>
        </p:xfrm>
        <a:graphic>
          <a:graphicData uri="http://schemas.openxmlformats.org/drawingml/2006/table">
            <a:tbl>
              <a:tblPr/>
              <a:tblGrid>
                <a:gridCol w="893520"/>
                <a:gridCol w="1051200"/>
                <a:gridCol w="2381040"/>
                <a:gridCol w="1120680"/>
                <a:gridCol w="2328840"/>
              </a:tblGrid>
              <a:tr h="8524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U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ULE CONDI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NUMBERS </a:t>
                      </a:r>
                      <a:br>
                        <a:rPr sz="1200"/>
                      </a:b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IVE MESUREM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6360">
                <a:tc rowSpan="5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rowSpan="4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T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 1 (JAPA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 2 (STEVE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6360">
                <a:tc rowSpan="5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rowSpan="4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T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 1 (JAPA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 2 (STEVE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4920">
                <a:tc row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T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 3 (AUTOMATI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RIV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2"/>
          <p:cNvSpPr/>
          <p:nvPr/>
        </p:nvSpPr>
        <p:spPr>
          <a:xfrm>
            <a:off x="357120" y="765000"/>
            <a:ext cx="8353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/  VEHICULE </a:t>
            </a:r>
            <a:r>
              <a:rPr b="1" i="1" lang="fr-FR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 /  GEAR SHIFT JAPAN  /  COLD TES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OLLER SPE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Graphique 3" descr=""/>
          <p:cNvPicPr/>
          <p:nvPr/>
        </p:nvPicPr>
        <p:blipFill>
          <a:blip r:embed="rId1"/>
          <a:stretch/>
        </p:blipFill>
        <p:spPr>
          <a:xfrm>
            <a:off x="-109440" y="1054080"/>
            <a:ext cx="92898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RIV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2"/>
          <p:cNvSpPr/>
          <p:nvPr/>
        </p:nvSpPr>
        <p:spPr>
          <a:xfrm>
            <a:off x="357120" y="765000"/>
            <a:ext cx="8607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/  VEHICULE </a:t>
            </a:r>
            <a:r>
              <a:rPr b="1" i="1" lang="fr-FR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 /  GEAR SHIFT JAPAN  /  COLD TES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OLLER SPE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Graphique 4" descr=""/>
          <p:cNvPicPr/>
          <p:nvPr/>
        </p:nvPicPr>
        <p:blipFill>
          <a:blip r:embed="rId1"/>
          <a:stretch/>
        </p:blipFill>
        <p:spPr>
          <a:xfrm>
            <a:off x="0" y="512640"/>
            <a:ext cx="929016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RIV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2"/>
          <p:cNvSpPr/>
          <p:nvPr/>
        </p:nvSpPr>
        <p:spPr>
          <a:xfrm>
            <a:off x="357120" y="765000"/>
            <a:ext cx="8353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/  VEHICULE </a:t>
            </a:r>
            <a:r>
              <a:rPr b="1" i="1" lang="fr-FR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 /  GEAR SHIFT JAPAN  /  COLD TES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OLLER SPE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Graphique 5" descr=""/>
          <p:cNvPicPr/>
          <p:nvPr/>
        </p:nvPicPr>
        <p:blipFill>
          <a:blip r:embed="rId1"/>
          <a:stretch/>
        </p:blipFill>
        <p:spPr>
          <a:xfrm>
            <a:off x="-109440" y="549360"/>
            <a:ext cx="9289800" cy="6070680"/>
          </a:xfrm>
          <a:prstGeom prst="rect">
            <a:avLst/>
          </a:prstGeom>
          <a:ln w="0">
            <a:noFill/>
          </a:ln>
        </p:spPr>
      </p:pic>
      <p:pic>
        <p:nvPicPr>
          <p:cNvPr id="132" name="ZoneTexte 1" descr=""/>
          <p:cNvPicPr/>
          <p:nvPr/>
        </p:nvPicPr>
        <p:blipFill>
          <a:blip r:embed="rId2"/>
          <a:stretch/>
        </p:blipFill>
        <p:spPr>
          <a:xfrm>
            <a:off x="3456000" y="4114800"/>
            <a:ext cx="274320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0:23:07Z</dcterms:created>
  <dc:creator>François MINNE</dc:creator>
  <dc:description/>
  <dc:language>en-US</dc:language>
  <cp:lastModifiedBy>vallaude</cp:lastModifiedBy>
  <dcterms:modified xsi:type="dcterms:W3CDTF">2011-11-21T10:29:55Z</dcterms:modified>
  <cp:revision>73</cp:revision>
  <dc:subject/>
  <dc:title>Diapositive 1</dc:title>
</cp:coreProperties>
</file>