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C7D-79C3-4944-8F96-DF9F8025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3CD-78CE-4A6A-855E-0E82DE2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6EE-30A0-4771-8349-52A5ECFC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1AA-7FB7-4E77-AFFD-8834436A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939-1D0E-4A4B-9180-479FEF90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197-A464-4CA0-93B2-D5C5A7A9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BC5-3BBD-422C-9169-BC82EFC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360-DA09-4356-BF84-4175FA3B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240-6299-4E84-AD83-CE7442D5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EB1-B768-4D71-B1A6-8379B6C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2DE-5C9F-4E4B-8CFA-20120687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BAB-6B76-4953-ABFF-5E28FDC4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Rectangle 20"/>
            <p:cNvSpPr/>
            <p:nvPr/>
          </p:nvSpPr>
          <p:spPr>
            <a:xfrm>
              <a:off x="0" y="0"/>
              <a:ext cx="28584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33"/>
            <p:cNvGrpSpPr/>
            <p:nvPr/>
          </p:nvGrpSpPr>
          <p:grpSpPr>
            <a:xfrm>
              <a:off x="131760" y="0"/>
              <a:ext cx="9012240" cy="546120"/>
              <a:chOff x="131760" y="0"/>
              <a:chExt cx="9012240" cy="546120"/>
            </a:xfrm>
          </p:grpSpPr>
          <p:sp>
            <p:nvSpPr>
              <p:cNvPr id="4" name="Rectangle 21"/>
              <p:cNvSpPr/>
              <p:nvPr/>
            </p:nvSpPr>
            <p:spPr>
              <a:xfrm>
                <a:off x="412920" y="135000"/>
                <a:ext cx="8731080" cy="274680"/>
              </a:xfrm>
              <a:prstGeom prst="rect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22"/>
              <p:cNvSpPr/>
              <p:nvPr/>
            </p:nvSpPr>
            <p:spPr>
              <a:xfrm>
                <a:off x="409680" y="135000"/>
                <a:ext cx="137880" cy="141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23"/>
              <p:cNvSpPr/>
              <p:nvPr/>
            </p:nvSpPr>
            <p:spPr>
              <a:xfrm>
                <a:off x="547560" y="0"/>
                <a:ext cx="13968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24"/>
              <p:cNvSpPr/>
              <p:nvPr/>
            </p:nvSpPr>
            <p:spPr>
              <a:xfrm>
                <a:off x="547560" y="135000"/>
                <a:ext cx="139680" cy="141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25"/>
              <p:cNvSpPr/>
              <p:nvPr/>
            </p:nvSpPr>
            <p:spPr>
              <a:xfrm>
                <a:off x="274680" y="274680"/>
                <a:ext cx="13644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26"/>
              <p:cNvSpPr/>
              <p:nvPr/>
            </p:nvSpPr>
            <p:spPr>
              <a:xfrm>
                <a:off x="131760" y="136440"/>
                <a:ext cx="141120" cy="138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27"/>
              <p:cNvSpPr/>
              <p:nvPr/>
            </p:nvSpPr>
            <p:spPr>
              <a:xfrm>
                <a:off x="409680" y="271440"/>
                <a:ext cx="137880" cy="138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28"/>
              <p:cNvSpPr/>
              <p:nvPr/>
            </p:nvSpPr>
            <p:spPr>
              <a:xfrm>
                <a:off x="274680" y="409680"/>
                <a:ext cx="136440" cy="136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9690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7" descr="Logo UTAC couleur (B2a)"/>
          <p:cNvPicPr/>
          <p:nvPr/>
        </p:nvPicPr>
        <p:blipFill>
          <a:blip r:embed="rId2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394920" y="6453000"/>
            <a:ext cx="1368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7596000" y="6453000"/>
            <a:ext cx="1090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5120-08B6-43E7-B636-A62D4E79A30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50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5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5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" name="Rectangle 53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54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55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6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57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58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59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60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62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8" name="Picture 32" descr="Logo UTAC couleur (B2a) fond transaparent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4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WLTC VALIDATION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"/>
          <p:cNvSpPr/>
          <p:nvPr/>
        </p:nvSpPr>
        <p:spPr>
          <a:xfrm>
            <a:off x="5368320" y="623736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4/10/2011- M. CAPIT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2"/>
          <p:cNvSpPr/>
          <p:nvPr/>
        </p:nvSpPr>
        <p:spPr>
          <a:xfrm>
            <a:off x="357120" y="765000"/>
            <a:ext cx="8678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EXT-HIGH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/  VEHICULE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 /  GEAR SHIFT JAPAN  /  COLD TES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OLLER SPE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Graphique 9" descr=""/>
          <p:cNvPicPr/>
          <p:nvPr/>
        </p:nvPicPr>
        <p:blipFill>
          <a:blip r:embed="rId1"/>
          <a:stretch/>
        </p:blipFill>
        <p:spPr>
          <a:xfrm>
            <a:off x="49320" y="1487520"/>
            <a:ext cx="9296280" cy="5327640"/>
          </a:xfrm>
          <a:prstGeom prst="rect">
            <a:avLst/>
          </a:prstGeom>
          <a:ln w="0">
            <a:noFill/>
          </a:ln>
        </p:spPr>
      </p:pic>
      <p:pic>
        <p:nvPicPr>
          <p:cNvPr id="136" name="ZoneTexte 1" descr=""/>
          <p:cNvPicPr/>
          <p:nvPr/>
        </p:nvPicPr>
        <p:blipFill>
          <a:blip r:embed="rId2"/>
          <a:stretch/>
        </p:blipFill>
        <p:spPr>
          <a:xfrm>
            <a:off x="4175280" y="2243160"/>
            <a:ext cx="2097000" cy="725400"/>
          </a:xfrm>
          <a:prstGeom prst="rect">
            <a:avLst/>
          </a:prstGeom>
          <a:ln w="0">
            <a:noFill/>
          </a:ln>
        </p:spPr>
      </p:pic>
      <p:sp>
        <p:nvSpPr>
          <p:cNvPr id="137" name="Flèche droite 11"/>
          <p:cNvSpPr/>
          <p:nvPr/>
        </p:nvSpPr>
        <p:spPr>
          <a:xfrm flipV="1" rot="10800000">
            <a:off x="1979640" y="2568600"/>
            <a:ext cx="2232000" cy="1555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2"/>
          <p:cNvSpPr/>
          <p:nvPr/>
        </p:nvSpPr>
        <p:spPr>
          <a:xfrm>
            <a:off x="328680" y="76500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OBSERVATIONS SYNTHESIS &amp;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ZoneTexte 3"/>
          <p:cNvSpPr/>
          <p:nvPr/>
        </p:nvSpPr>
        <p:spPr>
          <a:xfrm>
            <a:off x="222120" y="1341360"/>
            <a:ext cx="87566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ation : Engine speed too low during some low speed 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use : Gear shift engaged too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sult : Risk of engine cut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posal : Disengage gear shift ear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ation : Engine speed too high during some accelerations having enga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use : Gear shif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sult : Engine point unrepresentative of re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posal : Gear shif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2"/>
          <p:cNvSpPr/>
          <p:nvPr/>
        </p:nvSpPr>
        <p:spPr>
          <a:xfrm>
            <a:off x="328680" y="76500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OBSERVATIONS SYNTHESIS &amp;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oneTexte 3"/>
          <p:cNvSpPr/>
          <p:nvPr/>
        </p:nvSpPr>
        <p:spPr>
          <a:xfrm>
            <a:off x="230040" y="1125360"/>
            <a:ext cx="875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GH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Times New Roman"/>
              </a:rPr>
              <a:t>(&amp; ALL PHA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ation : Speed management with accel pedal during some of the small decel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engine break or small acceleration, but not with the break pedal =&gt; Otherwise with the speed was out of the toleran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sult : Risk of deterioration of the repetability (?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TRA-HIGH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&amp; HIGH PHASE MAIN ACCELERATION, DEPENDING ON ENGINE POW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ation : Target speed is hard to follow during the main accel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use : Engine in full acceleration (depending on engine pow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sult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ehicule cannot follow th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teriorates the repet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posal : Limit the acceleration (not spe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PAR JAPAN / STEV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3"/>
          <p:cNvSpPr/>
          <p:nvPr/>
        </p:nvSpPr>
        <p:spPr>
          <a:xfrm>
            <a:off x="230040" y="731880"/>
            <a:ext cx="87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undamental difference of drivability between the two gear shift procedures, but changes engine spee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raphique 5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7278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 =&gt; ~CO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phique 2" descr=""/>
          <p:cNvPicPr/>
          <p:nvPr/>
        </p:nvPicPr>
        <p:blipFill>
          <a:blip r:embed="rId1"/>
          <a:stretch/>
        </p:blipFill>
        <p:spPr>
          <a:xfrm>
            <a:off x="103320" y="755640"/>
            <a:ext cx="8937360" cy="5127480"/>
          </a:xfrm>
          <a:prstGeom prst="rect">
            <a:avLst/>
          </a:prstGeom>
          <a:ln w="0">
            <a:noFill/>
          </a:ln>
        </p:spPr>
      </p:pic>
      <p:sp>
        <p:nvSpPr>
          <p:cNvPr id="149" name="ZoneTexte 3"/>
          <p:cNvSpPr/>
          <p:nvPr/>
        </p:nvSpPr>
        <p:spPr>
          <a:xfrm>
            <a:off x="1943280" y="5862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dispersion in the Extra-High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use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gine in full accel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Ellipse 1"/>
          <p:cNvSpPr/>
          <p:nvPr/>
        </p:nvSpPr>
        <p:spPr>
          <a:xfrm>
            <a:off x="4859280" y="1341360"/>
            <a:ext cx="1584360" cy="187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 =&gt; ~CO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3"/>
          <p:cNvSpPr/>
          <p:nvPr/>
        </p:nvSpPr>
        <p:spPr>
          <a:xfrm>
            <a:off x="1943280" y="5862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dispersion in the Extra-High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cause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gine in full accel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Graphique 4" descr=""/>
          <p:cNvPicPr/>
          <p:nvPr/>
        </p:nvPicPr>
        <p:blipFill>
          <a:blip r:embed="rId1"/>
          <a:stretch/>
        </p:blipFill>
        <p:spPr>
          <a:xfrm>
            <a:off x="103320" y="828720"/>
            <a:ext cx="8869320" cy="5041800"/>
          </a:xfrm>
          <a:prstGeom prst="rect">
            <a:avLst/>
          </a:prstGeom>
          <a:ln w="0">
            <a:noFill/>
          </a:ln>
        </p:spPr>
      </p:pic>
      <p:sp>
        <p:nvSpPr>
          <p:cNvPr id="154" name="Ellipse 5"/>
          <p:cNvSpPr/>
          <p:nvPr/>
        </p:nvSpPr>
        <p:spPr>
          <a:xfrm>
            <a:off x="5003640" y="4076640"/>
            <a:ext cx="12970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RMO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2"/>
          <p:cNvSpPr/>
          <p:nvPr/>
        </p:nvSpPr>
        <p:spPr>
          <a:xfrm>
            <a:off x="2411280" y="1341360"/>
            <a:ext cx="2881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 HOT AT HALF OF THE MID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Graphique 4" descr=""/>
          <p:cNvPicPr/>
          <p:nvPr/>
        </p:nvPicPr>
        <p:blipFill>
          <a:blip r:embed="rId1"/>
          <a:stretch/>
        </p:blipFill>
        <p:spPr>
          <a:xfrm>
            <a:off x="176040" y="676440"/>
            <a:ext cx="8858520" cy="5419440"/>
          </a:xfrm>
          <a:prstGeom prst="rect">
            <a:avLst/>
          </a:prstGeom>
          <a:ln w="0">
            <a:noFill/>
          </a:ln>
        </p:spPr>
      </p:pic>
      <p:sp>
        <p:nvSpPr>
          <p:cNvPr id="158" name="Ellipse 5"/>
          <p:cNvSpPr/>
          <p:nvPr/>
        </p:nvSpPr>
        <p:spPr>
          <a:xfrm>
            <a:off x="2700360" y="2565360"/>
            <a:ext cx="1655640" cy="23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lèche vers le bas 6"/>
          <p:cNvSpPr/>
          <p:nvPr/>
        </p:nvSpPr>
        <p:spPr>
          <a:xfrm>
            <a:off x="3419640" y="2016000"/>
            <a:ext cx="215640" cy="577800"/>
          </a:xfrm>
          <a:prstGeom prst="downArrow">
            <a:avLst>
              <a:gd name="adj1" fmla="val 50000"/>
              <a:gd name="adj2" fmla="val 500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RMO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2"/>
          <p:cNvSpPr/>
          <p:nvPr/>
        </p:nvSpPr>
        <p:spPr>
          <a:xfrm>
            <a:off x="1476360" y="1773360"/>
            <a:ext cx="2879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 FROM THE HALF OF THE LOW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Graphique 5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9676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3"/>
          <p:cNvSpPr/>
          <p:nvPr/>
        </p:nvSpPr>
        <p:spPr>
          <a:xfrm>
            <a:off x="2073240" y="1341360"/>
            <a:ext cx="499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EHICUL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YNAMO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E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ST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RIV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ARAISON JAPAN/ST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RIVABILITY =&gt; ~CO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HERMO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VEHICULE T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55640" y="981000"/>
          <a:ext cx="7632720" cy="4308480"/>
        </p:xfrm>
        <a:graphic>
          <a:graphicData uri="http://schemas.openxmlformats.org/drawingml/2006/table">
            <a:tbl>
              <a:tblPr/>
              <a:tblGrid>
                <a:gridCol w="2232000"/>
                <a:gridCol w="1871640"/>
                <a:gridCol w="1800360"/>
                <a:gridCol w="1728720"/>
              </a:tblGrid>
              <a:tr h="509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O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DIS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49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m</a:t>
                      </a:r>
                      <a:r>
                        <a:rPr b="0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00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m</a:t>
                      </a:r>
                      <a:r>
                        <a:rPr b="0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m</a:t>
                      </a:r>
                      <a:r>
                        <a:rPr b="0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kW at 5500rpm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kW at 3500r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W at 4000r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INER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(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FI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SURALI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&amp;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YNAMO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 4" descr="12_cellule_homol_vl_02"/>
          <p:cNvPicPr/>
          <p:nvPr/>
        </p:nvPicPr>
        <p:blipFill>
          <a:blip r:embed="rId1"/>
          <a:stretch/>
        </p:blipFill>
        <p:spPr>
          <a:xfrm>
            <a:off x="1403280" y="682560"/>
            <a:ext cx="2448000" cy="151308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2"/>
          <p:cNvSpPr/>
          <p:nvPr/>
        </p:nvSpPr>
        <p:spPr>
          <a:xfrm>
            <a:off x="4761000" y="9777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YNAMOMETER FOR LIGHT-DUTY VEHICULES STANDARD TES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349360"/>
          <a:ext cx="7129440" cy="4008600"/>
        </p:xfrm>
        <a:graphic>
          <a:graphicData uri="http://schemas.openxmlformats.org/drawingml/2006/table">
            <a:tbl>
              <a:tblPr/>
              <a:tblGrid>
                <a:gridCol w="3297240"/>
                <a:gridCol w="3832200"/>
              </a:tblGrid>
              <a:tr h="503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OMETER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roller 48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 NOMINAL 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kW [96 - 200 km/h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0°C to +30°C ± 2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15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IDITY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g to 13g water / kg  dry air ± 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61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INERTIA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to 3500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795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WER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al to vehicle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80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S DILUTED GAS SAMPL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 9300T - 9 &amp; 12m3/m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795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S DILUTED GAS ANALYS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 MEXA 9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E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24000" y="836640"/>
          <a:ext cx="6696000" cy="5346720"/>
        </p:xfrm>
        <a:graphic>
          <a:graphicData uri="http://schemas.openxmlformats.org/drawingml/2006/table">
            <a:tbl>
              <a:tblPr/>
              <a:tblGrid>
                <a:gridCol w="3106800"/>
                <a:gridCol w="1197000"/>
                <a:gridCol w="1195200"/>
                <a:gridCol w="1197000"/>
              </a:tblGrid>
              <a:tr h="33984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 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 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 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9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ER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ometer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RE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e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9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9460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 PEDAL ANGLE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measu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36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COOLANT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36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PEED (VOLUNT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2445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 EMISSIONS (VOLUNT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 Sampling (4phases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t / CH4 / CO / NOX / NO / CO2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=&gt; Fuel consump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STS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4"/>
          <p:cNvSpPr/>
          <p:nvPr/>
        </p:nvSpPr>
        <p:spPr>
          <a:xfrm>
            <a:off x="4356000" y="5805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mmen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Same driver for all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4360" y="907920"/>
          <a:ext cx="7775280" cy="4824720"/>
        </p:xfrm>
        <a:graphic>
          <a:graphicData uri="http://schemas.openxmlformats.org/drawingml/2006/table">
            <a:tbl>
              <a:tblPr/>
              <a:tblGrid>
                <a:gridCol w="893520"/>
                <a:gridCol w="1051200"/>
                <a:gridCol w="2381040"/>
                <a:gridCol w="1120680"/>
                <a:gridCol w="2328840"/>
              </a:tblGrid>
              <a:tr h="852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 COND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NUMBERS </a:t>
                      </a:r>
                      <a:br>
                        <a:rPr sz="1200"/>
                      </a:b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IVE MESURE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rowSpan="5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T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1 (JAP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2 (STEV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rowSpan="5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T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1 (JAP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2 (STEV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T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3 (AUTOMATI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2"/>
          <p:cNvSpPr/>
          <p:nvPr/>
        </p:nvSpPr>
        <p:spPr>
          <a:xfrm>
            <a:off x="357120" y="765000"/>
            <a:ext cx="835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/  VEHICULE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 /  GEAR SHIFT JAPAN  /  COLD TES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OLLER SPE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Graphique 3" descr=""/>
          <p:cNvPicPr/>
          <p:nvPr/>
        </p:nvPicPr>
        <p:blipFill>
          <a:blip r:embed="rId1"/>
          <a:stretch/>
        </p:blipFill>
        <p:spPr>
          <a:xfrm>
            <a:off x="-109440" y="1054080"/>
            <a:ext cx="92898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2"/>
          <p:cNvSpPr/>
          <p:nvPr/>
        </p:nvSpPr>
        <p:spPr>
          <a:xfrm>
            <a:off x="357120" y="765000"/>
            <a:ext cx="8607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/  VEHICULE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 /  GEAR SHIFT JAPAN  /  COLD TES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OLLER SPE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raphique 4" descr=""/>
          <p:cNvPicPr/>
          <p:nvPr/>
        </p:nvPicPr>
        <p:blipFill>
          <a:blip r:embed="rId1"/>
          <a:stretch/>
        </p:blipFill>
        <p:spPr>
          <a:xfrm>
            <a:off x="0" y="512640"/>
            <a:ext cx="929016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2"/>
          <p:cNvSpPr/>
          <p:nvPr/>
        </p:nvSpPr>
        <p:spPr>
          <a:xfrm>
            <a:off x="357120" y="765000"/>
            <a:ext cx="835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/  VEHICULE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 /  GEAR SHIFT JAPAN  /  COLD TES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OLLER SPE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Graphique 5" descr=""/>
          <p:cNvPicPr/>
          <p:nvPr/>
        </p:nvPicPr>
        <p:blipFill>
          <a:blip r:embed="rId1"/>
          <a:stretch/>
        </p:blipFill>
        <p:spPr>
          <a:xfrm>
            <a:off x="-109440" y="549360"/>
            <a:ext cx="9289800" cy="6070680"/>
          </a:xfrm>
          <a:prstGeom prst="rect">
            <a:avLst/>
          </a:prstGeom>
          <a:ln w="0">
            <a:noFill/>
          </a:ln>
        </p:spPr>
      </p:pic>
      <p:pic>
        <p:nvPicPr>
          <p:cNvPr id="132" name="ZoneTexte 1" descr=""/>
          <p:cNvPicPr/>
          <p:nvPr/>
        </p:nvPicPr>
        <p:blipFill>
          <a:blip r:embed="rId2"/>
          <a:stretch/>
        </p:blipFill>
        <p:spPr>
          <a:xfrm>
            <a:off x="3456000" y="4114800"/>
            <a:ext cx="2743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0:23:07Z</dcterms:created>
  <dc:creator>François MINNE</dc:creator>
  <dc:description/>
  <dc:language>en-US</dc:language>
  <cp:lastModifiedBy>vallaude</cp:lastModifiedBy>
  <dcterms:modified xsi:type="dcterms:W3CDTF">2011-11-21T10:29:55Z</dcterms:modified>
  <cp:revision>73</cp:revision>
  <dc:subject/>
  <dc:title>Diapositive 1</dc:title>
</cp:coreProperties>
</file>