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D2A6-A7C6-4F6A-9883-0821113BD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8294-5E59-4369-87F8-AD851E80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33B6-5C1E-47C6-929C-12FB7B398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CB03-8B6A-46BA-AA31-90E1C02CF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0672-350B-48B3-86F2-9941B96F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D324-D554-40E3-80D6-448A4934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C884-53BA-488F-99AD-54465717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2570-B809-4FF8-84C3-917A33E8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8F7B-1440-4026-96A6-6F59E236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C63A-2F11-49BB-B453-DB085BD3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8CAD-5973-439C-8EA5-58D4B52F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53A8-6DA4-461A-A812-105BCA6C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934D-9316-4442-897B-D2351F76B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nikolaus.steininger@ec.europa.eu" TargetMode="External"/><Relationship Id="rId3" Type="http://schemas.openxmlformats.org/officeDocument/2006/relationships/hyperlink" Target="http://ec.europa.eu/enterprise/sectors/automotive/index_en.htm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-34920" y="0"/>
            <a:ext cx="9178560" cy="1671120"/>
            <a:chOff x="-34920" y="0"/>
            <a:chExt cx="9178560" cy="167112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-34920" y="0"/>
              <a:ext cx="9178560" cy="160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4095360" y="133560"/>
              <a:ext cx="840960" cy="60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347400" y="1150920"/>
              <a:ext cx="2753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Book Antiqua"/>
                </a:rPr>
                <a:t>Enterprise and Industry Directorate-Gener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407040" y="739800"/>
              <a:ext cx="2217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3546360" y="757080"/>
            <a:ext cx="21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uropean Com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905440" y="5589720"/>
            <a:ext cx="2457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133720"/>
            <a:ext cx="9144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cc"/>
                </a:solidFill>
                <a:latin typeface="Book Antiqua"/>
              </a:rPr>
              <a:t>European strategy 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cc"/>
                </a:solidFill>
                <a:latin typeface="Book Antiqua"/>
              </a:rPr>
              <a:t>MAC generated GHG emi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GRPE, UNECE Geneva 17 January 2012 </a:t>
            </a:r>
            <a:br>
              <a:rPr sz="4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87560" y="333360"/>
            <a:ext cx="170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MACTP-03-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9640" y="260280"/>
            <a:ext cx="86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AC &amp; GHG emi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916280"/>
            <a:ext cx="9217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Book Antiqua"/>
              </a:rPr>
              <a:t>Direct greenhouse gas (GHG) emiss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Book Antiqu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ook Antiqua"/>
              </a:rPr>
              <a:t>Typical refrigerants have very high greenhouse warming potential (GW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ook Antiqua"/>
              </a:rPr>
              <a:t>Release of refrigerant during operation, maintenance end of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Book Antiqua"/>
              </a:rPr>
              <a:t>Indirect greenhouse gas (GHG) emiss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ook Antiqua"/>
              </a:rPr>
              <a:t>MAC operation leads to significantly increased fuel consumption/CO2 emissions of the veh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9640" y="260280"/>
            <a:ext cx="86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AC: direct GHG emi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916280"/>
            <a:ext cx="9217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Book Antiqua"/>
              </a:rPr>
              <a:t>MAC Directive 2006/40/E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Greenhouse warming potential (GWP) of passenger car refrigerants &lt; 150 x GWP(CO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Book Antiqua"/>
              </a:rPr>
              <a:t>- As of 1 January 2011 for all new types of vehicles </a:t>
            </a:r>
            <a:r>
              <a:rPr b="1" lang="en-GB" sz="2400" spc="-1" strike="noStrike">
                <a:solidFill>
                  <a:srgbClr val="0000ff"/>
                </a:solidFill>
                <a:latin typeface="Book Antiqua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Book Antiqua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Book Antiqua"/>
              </a:rPr>
              <a:t>ap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Book Antiqua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Book Antiqua"/>
              </a:rPr>
              <a:t>- As of 1 January 2017 for all new vehicles regis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Various provisions on handling of refrigerant (training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Book Antiqua"/>
              </a:rPr>
              <a:t>NB: Today’s standard refrigerant R-134a has a GWP of about 1430 x GWP(CO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spcAft>
                <a:spcPts val="9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9640" y="260280"/>
            <a:ext cx="86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AC: indirect GHG emi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1557360"/>
            <a:ext cx="896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Book Antiqua"/>
              </a:rPr>
              <a:t>Operation of MACs leads to substantial, additional fuel consumption/CO2 e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Book Antiqua"/>
              </a:rPr>
              <a:t>Technically there is a great potential for improvement at small costs, “low hanging frui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Book Antiqua"/>
              </a:rPr>
              <a:t>Commission Communication of February 2007 on the integrated approach for reducing automotive CO2 emissions identifies MAC as target of 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260280"/>
            <a:ext cx="860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AC: indirect GHG emi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1440" y="1484280"/>
            <a:ext cx="91454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Book Antiqua"/>
              </a:rPr>
              <a:t>Type approval test procedure for MAC energy efficiency in vehicle developed by TUG/TNO with stakeholders on behalf of Commission (test with MAC on/off on chassis dy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Book Antiqua"/>
              </a:rPr>
              <a:t>Test can be performed in “normal” test lab without special facilities (heating, humidification, solar lamps,..) =&gt; low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Book Antiqua"/>
              </a:rPr>
              <a:t>Potential for virtual testing (numerical simulation) of defined test procedure in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Book Antiqua"/>
              </a:rPr>
              <a:t>Pilot test phase ongoing, to be finished in 3rd quarter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Book Antiqua"/>
              </a:rPr>
              <a:t>MAC test procedure drafting &amp; regulatory amendments in early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Book Antiqua"/>
              </a:rPr>
              <a:t>Should be applied to Euro 6 vehicles, MAC CO2 emissions to be recorded in certificate of conformity (Co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4000" y="260280"/>
            <a:ext cx="860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AC: indirect GHG emi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1440" y="1484280"/>
            <a:ext cx="91454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Book Antiqua"/>
              </a:rPr>
              <a:t>MAC CO2 emissions in CoC. So what. And t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Consumer awareness =&gt; incentive for improving MAC energy efficiency. Suffici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Specific limit values for MAC energy efficiency? Probably not in the near futu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Include MAC CO2 emissions in value for overall CO2 emissions of the vehicle for the purposes of CO2 fleet limits. Possibl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after revision</a:t>
            </a: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 of automotive CO2 Regulation 443/2009/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Book Antiqua"/>
              </a:rPr>
              <a:t>Political decision is necessary, discussion to be started by end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Book Antiqua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1280" y="1484280"/>
            <a:ext cx="8964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1001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1049"/>
              </a:spcBef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1049"/>
              </a:spcBef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66"/>
                </a:solidFill>
                <a:latin typeface="Book Antiqua"/>
              </a:rPr>
              <a:t>Thank you for your attention!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cc"/>
                </a:solidFill>
                <a:latin typeface="Book Antiqua"/>
              </a:rPr>
              <a:t>Nikolaus Steini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cc"/>
                </a:solidFill>
                <a:latin typeface="Book Antiqua"/>
              </a:rPr>
              <a:t>Automotive Industry Un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cc"/>
                </a:solidFill>
                <a:latin typeface="Book Antiqua"/>
              </a:rPr>
              <a:t>Enterprise and Industry Directorate-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cc"/>
                </a:solidFill>
                <a:latin typeface="Book Antiqua"/>
              </a:rPr>
              <a:t>European Com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 u="sng">
                <a:solidFill>
                  <a:srgbClr val="009999"/>
                </a:solidFill>
                <a:uFillTx/>
                <a:latin typeface="Book Antiqua"/>
                <a:hlinkClick r:id="rId2"/>
              </a:rPr>
              <a:t>nikolaus.steininger@ec.europa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More information: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Book Antiqua"/>
                <a:hlinkClick r:id="rId3"/>
              </a:rPr>
              <a:t>http://ec.europa.eu/enterprise/sectors/automotive/index_en.htm</a:t>
            </a:r>
            <a:r>
              <a:rPr b="0" lang="en-GB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5:05:21Z</dcterms:created>
  <dc:creator>Antoniadis Antonios Foibos</dc:creator>
  <dc:description/>
  <dc:language>en-US</dc:language>
  <cp:lastModifiedBy>PC2</cp:lastModifiedBy>
  <dcterms:modified xsi:type="dcterms:W3CDTF">2012-01-16T10:51:55Z</dcterms:modified>
  <cp:revision>10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