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05D-3529-4428-A99D-ACF02251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807-C166-405B-B204-1311E7B9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414-2129-4344-8C6D-E365E98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209-DC1D-4D96-BB02-DCA7749E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502-9B11-4138-A96F-92616B6F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BF1-F63F-4C54-8605-AD18A1D7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61-7FAE-4FB9-8CAB-5B3D19C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C74-2460-4BE7-880F-9B4D6D0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33C-1600-4B1B-853A-115DDB12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C24-A152-410C-B63D-CF61376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533-4CF3-4EDC-BEA6-DA0EE347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857-B0CE-41CE-B281-5337EE5E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solidFill>
            <a:srgbClr val="00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3679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1D8-48E8-4F86-9C53-99A7DE7A3DF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1268280"/>
            <a:ext cx="6300720" cy="0"/>
          </a:xfrm>
          <a:prstGeom prst="line">
            <a:avLst/>
          </a:prstGeom>
          <a:ln w="9360">
            <a:solidFill>
              <a:srgbClr val="0038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7" descr="1"/>
          <p:cNvPicPr/>
          <p:nvPr/>
        </p:nvPicPr>
        <p:blipFill>
          <a:blip r:embed="rId2"/>
          <a:stretch/>
        </p:blipFill>
        <p:spPr>
          <a:xfrm>
            <a:off x="178560" y="249120"/>
            <a:ext cx="2305080" cy="959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5" descr="logo_unece"/>
          <p:cNvPicPr/>
          <p:nvPr/>
        </p:nvPicPr>
        <p:blipFill>
          <a:blip r:embed="rId4"/>
          <a:stretch/>
        </p:blipFill>
        <p:spPr>
          <a:xfrm>
            <a:off x="3708360" y="28728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8"/>
          <p:cNvSpPr/>
          <p:nvPr/>
        </p:nvSpPr>
        <p:spPr>
          <a:xfrm>
            <a:off x="0" y="6426360"/>
            <a:ext cx="9177480" cy="43164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349200" y="0"/>
            <a:ext cx="8266320" cy="1236600"/>
            <a:chOff x="349200" y="0"/>
            <a:chExt cx="8266320" cy="1236600"/>
          </a:xfrm>
        </p:grpSpPr>
        <p:pic>
          <p:nvPicPr>
            <p:cNvPr id="48" name="Picture 13" descr="fiat_group"/>
            <p:cNvPicPr/>
            <p:nvPr/>
          </p:nvPicPr>
          <p:blipFill>
            <a:blip r:embed="rId2"/>
            <a:stretch/>
          </p:blipFill>
          <p:spPr>
            <a:xfrm>
              <a:off x="349200" y="357120"/>
              <a:ext cx="87480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iveco gra"/>
            <p:cNvPicPr/>
            <p:nvPr/>
          </p:nvPicPr>
          <p:blipFill>
            <a:blip r:embed="rId3"/>
            <a:stretch/>
          </p:blipFill>
          <p:spPr>
            <a:xfrm>
              <a:off x="5816520" y="0"/>
              <a:ext cx="2799000" cy="12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Line 16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15840">
            <a:solidFill>
              <a:srgbClr val="aa12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-363600" y="5254560"/>
            <a:ext cx="193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98080" y="6524640"/>
            <a:ext cx="2328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iena, 29th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28E7-D14A-4094-A698-0E2EE4FDB7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55640" y="1700280"/>
            <a:ext cx="7632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1ff"/>
                </a:solidFill>
                <a:latin typeface="Calibri"/>
              </a:rPr>
              <a:t>LNG – Tas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Report of activities to the GRSG 102</a:t>
            </a:r>
            <a:r>
              <a:rPr b="0" lang="en-GB" sz="2400" spc="-1" strike="noStrike" baseline="30000">
                <a:solidFill>
                  <a:srgbClr val="0051e1"/>
                </a:solidFill>
                <a:latin typeface="Calibri"/>
              </a:rPr>
              <a:t>nd</a:t>
            </a: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16th-20th April 2012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....As reported to the Informal Group  Gaseous Fue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15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(GFV-20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EFE2-758A-4D2D-9556-869D181DCAF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68360" y="1197000"/>
            <a:ext cx="84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</a:rPr>
              <a:t>The LNG Task Force was created to develop technical specifications for LNG (Liquefied Natural Gas) cryogenic components to be installed on-board road vehi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he LNG Task Force results from the work of the Heavy Duty Dual-Fuel Task Force (operating within the Informal Group on Gaseous Fuelled Vehicles of the GRPE) developing technical specifications to enable certification of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imely development of compatible LNG component regulations  will allow for  EU Type Approval of vehicles with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Four meetings of the LNG-TF have been held  (September &amp; November 2011 and February &amp; March 2012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hairman: Mr. Paul Dijkhof – KIWA (N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o-secretariat: Dr. Seisler (NGV Global)/Mr. del Álamo (NGVA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 Euro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4213-09AB-41EE-ABB2-D7C368B7446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68360" y="1341360"/>
            <a:ext cx="8280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PPROACH TO THE NEW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inciple point decided: To amend the existing R.110 rathe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than create an entirely new technical regulation for L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(which would require duplication of much of R.110 due to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overlap and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reate difficulties for future harmonization a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R.110 i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mended over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ome components of LNG systems are the same as C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ystems so the existing R.110 language has been adapted o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dditions have been made to also cover LNG  (mostly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editorial in nat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pecifications for dedicated LNG components are bei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placed in a separate annex to R.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920" y="1341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ultifunctional components will be covered: i.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tanks with internal cryogenic pu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rigid and flexible fuel lines can be made only of stainless steel, to prevent from embri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anagement of methane into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Boil-off, boil-off management systems and venting system definitions and prescriptions are inse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5 day minimum LNG ‘holding time’ aligned with US regulations (SAE J 2343 and CA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6D13-7594-4B12-B433-1125C7A7177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5AD1-7A17-41BD-BBF3-F272FAB017E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68360" y="134136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Identification mark for vehicles and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Vehicles: same approach as for CNG. Only mandatory for public service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-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omponents: they will be marked accordingly, to reflect information like: manufacturer, serial number, type of fuel, capacity, pressu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 new Class 5 component was introduced:  Parts in contact with LNG, or at temperature below -40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  <a:ea typeface="ＭＳ Ｐゴシック"/>
              </a:rPr>
              <a:t>0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 and a storage pressure less than 26 Mpa  prevent certain manufacturers from certifying CNG components with higher pressure than 26MPa under this new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B50A-359E-4353-A54E-DCFD2C01E07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341360"/>
            <a:ext cx="828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eriodic inspection requirements: same as specified in TPED: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visual inspection at least once every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cceleration requirements: same as for CNG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557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S FOR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Informal document presented at 102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n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Next Meeting: 6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th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June in Geneva during  week of GRP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Editorial changes to complet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ompletion of annex for LNG-specif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esentation of Formal Document for consideration by 103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r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41A-6738-4270-8ACD-9AE2D224DCB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7:40:25Z</dcterms:created>
  <dc:creator>J. Alamo</dc:creator>
  <dc:description/>
  <dc:language>en-US</dc:language>
  <cp:lastModifiedBy>jseisler</cp:lastModifiedBy>
  <cp:lastPrinted>2007-04-03T10:24:52Z</cp:lastPrinted>
  <dcterms:modified xsi:type="dcterms:W3CDTF">2012-05-20T22:24:44Z</dcterms:modified>
  <cp:revision>192</cp:revision>
  <dc:subject/>
  <dc:title>Diapositiva 1</dc:title>
</cp:coreProperties>
</file>