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66A-B9A3-47EA-BF4B-2F5AE452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413712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2DA-DE3E-472B-997E-9EA36D8B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53ED-FECB-44BC-A7BE-15641190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A9A-A832-434B-BA54-A4696477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3452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879-B0F3-4569-B120-63C8C7C0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784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413712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784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068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6080" y="4137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15A-95C6-4657-B60B-EC62CF75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CA3-615B-4528-9885-5CBD0DDA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B27-1F6F-4506-9D5C-E5CD57C9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43452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497-B842-4F1A-9F83-268CE84F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8C0-5613-4B33-99EE-AC18D5F1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413712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35B-2D1F-4C3D-B75E-EE183573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137120"/>
            <a:ext cx="8534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D0E-6DDD-4D16-9F7D-60B6DFE2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0" y="6426360"/>
            <a:ext cx="9144000" cy="431640"/>
          </a:xfrm>
          <a:prstGeom prst="rect">
            <a:avLst/>
          </a:prstGeom>
          <a:solidFill>
            <a:srgbClr val="005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36799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AFE2-C07C-46FA-9C73-A48D4B1095C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6"/>
          <p:cNvSpPr/>
          <p:nvPr/>
        </p:nvSpPr>
        <p:spPr>
          <a:xfrm>
            <a:off x="0" y="1268280"/>
            <a:ext cx="6300720" cy="0"/>
          </a:xfrm>
          <a:prstGeom prst="line">
            <a:avLst/>
          </a:prstGeom>
          <a:ln w="9360">
            <a:solidFill>
              <a:srgbClr val="0038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7" descr="1"/>
          <p:cNvPicPr/>
          <p:nvPr/>
        </p:nvPicPr>
        <p:blipFill>
          <a:blip r:embed="rId2"/>
          <a:stretch/>
        </p:blipFill>
        <p:spPr>
          <a:xfrm>
            <a:off x="178560" y="249120"/>
            <a:ext cx="2305080" cy="9590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" descr=""/>
          <p:cNvPicPr/>
          <p:nvPr/>
        </p:nvPicPr>
        <p:blipFill>
          <a:blip r:embed="rId3"/>
          <a:stretch/>
        </p:blipFill>
        <p:spPr>
          <a:xfrm>
            <a:off x="6300720" y="115920"/>
            <a:ext cx="2592360" cy="1297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5" descr="logo_unece"/>
          <p:cNvPicPr/>
          <p:nvPr/>
        </p:nvPicPr>
        <p:blipFill>
          <a:blip r:embed="rId4"/>
          <a:stretch/>
        </p:blipFill>
        <p:spPr>
          <a:xfrm>
            <a:off x="3708360" y="287280"/>
            <a:ext cx="136836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8"/>
          <p:cNvSpPr/>
          <p:nvPr/>
        </p:nvSpPr>
        <p:spPr>
          <a:xfrm>
            <a:off x="0" y="6426360"/>
            <a:ext cx="9177480" cy="431640"/>
          </a:xfrm>
          <a:prstGeom prst="rect">
            <a:avLst/>
          </a:prstGeom>
          <a:solidFill>
            <a:srgbClr val="003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5"/>
          <p:cNvGrpSpPr/>
          <p:nvPr/>
        </p:nvGrpSpPr>
        <p:grpSpPr>
          <a:xfrm>
            <a:off x="349200" y="0"/>
            <a:ext cx="8266320" cy="1236600"/>
            <a:chOff x="349200" y="0"/>
            <a:chExt cx="8266320" cy="1236600"/>
          </a:xfrm>
        </p:grpSpPr>
        <p:pic>
          <p:nvPicPr>
            <p:cNvPr id="48" name="Picture 13" descr="fiat_group"/>
            <p:cNvPicPr/>
            <p:nvPr/>
          </p:nvPicPr>
          <p:blipFill>
            <a:blip r:embed="rId2"/>
            <a:stretch/>
          </p:blipFill>
          <p:spPr>
            <a:xfrm>
              <a:off x="349200" y="357120"/>
              <a:ext cx="87480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iveco gra"/>
            <p:cNvPicPr/>
            <p:nvPr/>
          </p:nvPicPr>
          <p:blipFill>
            <a:blip r:embed="rId3"/>
            <a:stretch/>
          </p:blipFill>
          <p:spPr>
            <a:xfrm>
              <a:off x="5816520" y="0"/>
              <a:ext cx="2799000" cy="12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Line 16"/>
          <p:cNvSpPr/>
          <p:nvPr/>
        </p:nvSpPr>
        <p:spPr>
          <a:xfrm>
            <a:off x="380880" y="5562720"/>
            <a:ext cx="8382240" cy="0"/>
          </a:xfrm>
          <a:prstGeom prst="line">
            <a:avLst/>
          </a:prstGeom>
          <a:ln w="15840">
            <a:solidFill>
              <a:srgbClr val="aa12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-363600" y="5254560"/>
            <a:ext cx="1936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34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19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304920" y="18284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298080" y="6524640"/>
            <a:ext cx="232884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Viena, 29th Augus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7E60-1CD7-4133-B87A-3C41F7B1D1F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55640" y="1700280"/>
            <a:ext cx="76327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1ff"/>
                </a:solidFill>
                <a:latin typeface="Calibri"/>
              </a:rPr>
              <a:t>LNG – Task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1e1"/>
                </a:solidFill>
                <a:latin typeface="Calibri"/>
              </a:rPr>
              <a:t>Report of activities to the GRSG 102</a:t>
            </a:r>
            <a:r>
              <a:rPr b="0" lang="en-GB" sz="2400" spc="-1" strike="noStrike" baseline="30000">
                <a:solidFill>
                  <a:srgbClr val="0051e1"/>
                </a:solidFill>
                <a:latin typeface="Calibri"/>
              </a:rPr>
              <a:t>nd</a:t>
            </a:r>
            <a:r>
              <a:rPr b="0" lang="en-GB" sz="2400" spc="-1" strike="noStrike">
                <a:solidFill>
                  <a:srgbClr val="0051e1"/>
                </a:solidFill>
                <a:latin typeface="Calibri"/>
              </a:rPr>
              <a:t>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16th-20th April 2012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....As reported to the Informal Group  Gaseous Fuel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15 Ma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(GFV-20-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FDB1-6F45-44ED-AADD-B0E89C436CB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468360" y="1197000"/>
            <a:ext cx="842472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</a:rPr>
              <a:t>The LNG Task Force was created to develop technical specifications for LNG (Liquefied Natural Gas) cryogenic components to be installed on-board road vehic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The LNG Task Force results from the work of the Heavy Duty Dual-Fuel Task Force (operating within the Informal Group on Gaseous Fuelled Vehicles of the GRPE) developing technical specifications to enable certification of D-F engi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 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Timely development of compatible LNG component regulations  will allow for  EU Type Approval of vehicles with D-F engi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Four meetings of the LNG-TF have been held  (September &amp; November 2011 and February &amp; March 2012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Chairman: Mr. Paul Dijkhof – KIWA (N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Co-secretariat: Dr. Seisler (NGV Global)/Mr. del Álamo (NGVA 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2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  Europ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19A6-4263-4CA1-88F6-FCBBE4B1765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68360" y="1341360"/>
            <a:ext cx="8280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PPROACH TO THE NEW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1ff"/>
              </a:buClr>
              <a:buFont typeface="Arial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Principle point decided: To amend the existing R.110 rather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than create an entirely new technical regulation for LNG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(which would require duplication of much of R.110 due to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overlap and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create difficulties for future harmonization as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R.110 is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amended over ti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Some components of LNG systems are the same as CNG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systems so the existing R.110 language has been adapted or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additions have been made to also cover LNG  (mostly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editorial in natu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Specifications for dedicated LNG components are being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placed in a separate annex to R.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920" y="134100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CIFIC CHANGES RELATED TO L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Multifunctional components will be covered: i.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LNG tanks with internal cryogenic pum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LNG rigid and flexible fuel lines can be made only of stainless steel, to prevent from embritt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Management of methane into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Boil-off, boil-off management systems and venting system definitions and prescriptions are inser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5 day minimum LNG ‘holding time’ aligned with US regulations (SAE J 2343 and CAR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BF7E-3129-46F2-A3A0-6170EF7DC57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BE84-8A61-4599-B808-C3EE7DC244D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468360" y="1341360"/>
            <a:ext cx="82803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CIFIC CHANGES RELATED TO LNG 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Identification mark for vehicles and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- Vehicles: same approach as for CNG. Only mandatory for public service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51ff"/>
              </a:buClr>
              <a:buFont typeface="Calibri"/>
              <a:buChar char="-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Components: they will be marked accordingly, to reflect information like: manufacturer, serial number, type of fuel, capacity, pressur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A new Class 5 component was introduced:  Parts in contact with LNG, or at temperature below -40</a:t>
            </a:r>
            <a:r>
              <a:rPr b="1" lang="en-GB" sz="2400" spc="-1" strike="noStrike" baseline="30000">
                <a:solidFill>
                  <a:srgbClr val="0051ff"/>
                </a:solidFill>
                <a:latin typeface="Calibri"/>
                <a:ea typeface="ＭＳ Ｐゴシック"/>
              </a:rPr>
              <a:t>0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  <a:ea typeface="ＭＳ Ｐゴシック"/>
              </a:rPr>
              <a:t>C and a storage pressure less than 26 Mpa  prevent certain manufacturers from certifying CNG components with higher pressure than 26MPa under this new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  <a:tab algn="l" pos="573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5 Marcador de número de diapositiva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0D9B-C694-40B6-9E6E-76126D324DC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68360" y="1341360"/>
            <a:ext cx="8280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CIFIC CHANGES RELATED TO LNG 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1ff"/>
              </a:buClr>
              <a:buFont typeface="Arial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Periodic inspection requirements: same as specified in TPED: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visual inspection at least once every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Acceleration requirements: same as for CNG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1ff"/>
              </a:buClr>
              <a:buFont typeface="Calibri"/>
              <a:buChar char="•"/>
              <a:tabLst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155700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S FOR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Informal document presented at 102</a:t>
            </a:r>
            <a:r>
              <a:rPr b="1" lang="en-GB" sz="2400" spc="-1" strike="noStrike" baseline="30000">
                <a:solidFill>
                  <a:srgbClr val="0051ff"/>
                </a:solidFill>
                <a:latin typeface="Calibri"/>
              </a:rPr>
              <a:t>nd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 GR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Next Meeting: 6</a:t>
            </a:r>
            <a:r>
              <a:rPr b="1" lang="en-GB" sz="2400" spc="-1" strike="noStrike" baseline="30000">
                <a:solidFill>
                  <a:srgbClr val="0051ff"/>
                </a:solidFill>
                <a:latin typeface="Calibri"/>
              </a:rPr>
              <a:t>th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 June in Geneva during  week of GRP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Editorial changes to complet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Completion of annex for LNG-specific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1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Presentation of Formal Document for consideration by 103</a:t>
            </a:r>
            <a:r>
              <a:rPr b="1" lang="en-GB" sz="2400" spc="-1" strike="noStrike" baseline="30000">
                <a:solidFill>
                  <a:srgbClr val="0051ff"/>
                </a:solidFill>
                <a:latin typeface="Calibri"/>
              </a:rPr>
              <a:t>rd</a:t>
            </a:r>
            <a:r>
              <a:rPr b="1" lang="en-GB" sz="2400" spc="-1" strike="noStrike">
                <a:solidFill>
                  <a:srgbClr val="0051ff"/>
                </a:solidFill>
                <a:latin typeface="Calibri"/>
              </a:rPr>
              <a:t> GR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228600" y="6524640"/>
            <a:ext cx="268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NG-TF Report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524640"/>
            <a:ext cx="367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948360" y="6529320"/>
            <a:ext cx="1905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7B8E-DFED-4997-BF62-86FEE424B7F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07:40:25Z</dcterms:created>
  <dc:creator>J. Alamo</dc:creator>
  <dc:description/>
  <dc:language>en-US</dc:language>
  <cp:lastModifiedBy>jseisler</cp:lastModifiedBy>
  <cp:lastPrinted>2007-04-03T10:24:52Z</cp:lastPrinted>
  <dcterms:modified xsi:type="dcterms:W3CDTF">2012-05-20T22:24:44Z</dcterms:modified>
  <cp:revision>192</cp:revision>
  <dc:subject/>
  <dc:title>Diapositiva 1</dc:title>
</cp:coreProperties>
</file>