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DCF-653E-496C-BDD1-543B174E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12B-A730-41CC-8D7A-E9B56D70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5A7-49F6-4C32-A746-F1236CF7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70B-F754-4230-87C5-BE0ADB95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785-4039-4563-9174-9C125C9E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2C9-943C-4030-98E7-02773EC2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9E0-1492-4174-9A6B-61D3A0F3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851-76C1-4AD8-9525-E6096684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614-8037-48A5-A30B-65031C94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5E1-1F78-43D5-BD1D-3D19F7FA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75F-4813-408A-9D1B-F4C19D2F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0AA-CE8D-4D16-8F2D-30C6E01C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453000"/>
            <a:ext cx="1225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ECE-GFV-DF-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BA1D-C7D4-4D3E-8B90-4CFAC8772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7848720" y="0"/>
            <a:ext cx="1295280" cy="1655640"/>
            <a:chOff x="7848720" y="0"/>
            <a:chExt cx="1295280" cy="1655640"/>
          </a:xfrm>
        </p:grpSpPr>
        <p:sp>
          <p:nvSpPr>
            <p:cNvPr id="6" name="Rectangle 8"/>
            <p:cNvSpPr/>
            <p:nvPr/>
          </p:nvSpPr>
          <p:spPr>
            <a:xfrm>
              <a:off x="7848720" y="0"/>
              <a:ext cx="1295280" cy="1655640"/>
            </a:xfrm>
            <a:prstGeom prst="rect">
              <a:avLst/>
            </a:prstGeom>
            <a:solidFill>
              <a:srgbClr val="f0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WordArt 9"/>
            <p:cNvSpPr txBox="1"/>
            <p:nvPr/>
          </p:nvSpPr>
          <p:spPr>
            <a:xfrm rot="5400000">
              <a:off x="7791480" y="309600"/>
              <a:ext cx="1461240" cy="1036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1">
                <a:avLst>
                  <a:gd name="adj1" fmla="val 838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99"/>
                      </a:gs>
                    </a:gsLst>
                    <a:lin ang="0"/>
                  </a:gradFill>
                  <a:latin typeface="Arial Black"/>
                </a:rPr>
                <a:t>Du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99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99"/>
                      </a:gs>
                    </a:gsLst>
                    <a:lin ang="0"/>
                  </a:gradFill>
                  <a:latin typeface="Arial Black"/>
                </a:rPr>
                <a:t>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99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99"/>
                      </a:gs>
                    </a:gsLst>
                    <a:lin ang="0"/>
                  </a:gradFill>
                  <a:latin typeface="Arial Black"/>
                </a:rPr>
                <a:t>Fuel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99"/>
                    </a:gs>
                  </a:gsLst>
                  <a:lin ang="0"/>
                </a:gra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75D4-B39E-43D1-BD05-93F97AC23F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V Task Forc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vy Duty Dual Fuel vehicl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HDDF TF)</a:t>
            </a:r>
            <a:br>
              <a:rPr sz="3200"/>
            </a:br>
            <a:br>
              <a:rPr sz="32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GRPE 63 – 19 Jan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0E17-7D9C-46BE-ABA4-0BCDA3452F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vy-Duty dual-fuel engines and vehicl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since GRPE6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ments to rev.6 of Regulation 49 (EURO 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formal document has been drafted and submitted to GR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sections and appendices will be finalised in the course of Q1/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al document is intended to be ready for submission to GRPE64 in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ments to rev.5 of Regulation 49 (EURO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rafting status related to (EURO V) is not yet at a stage permitting the submission of an informal document to GR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FV proposal: 6 months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l document to be submitted to June 2012 GR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 document to be submitted to January 2013 GR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amendments tc be submitted to June 2013 WP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CA5C-9480-4EC7-917E-DC0E0A5F0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ndments to rev.6 of Regulation 49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the proposal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main body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 of dual-fuel engines and vehicles and of their operating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igation for HDDF to comply with Annex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ance of a fuel specific type-approval in case of engines fuelled with liquefied natural gas / liquefied biomethane (L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ling of dual-fuel engines and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requirements in case of HDDF engines approved as separate technical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to include a new engine system into an engine-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of the approval process in case of HD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Amendments to the existing Annexes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Introduction of the dual-fuel dedicated Annex 15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F601-B03A-4357-8582-D27915C45C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ndments to rev.6 of Regulation 49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the proposal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Amendments to the main body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existing Annexes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 1: adaptation of the information documents to HD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es 2A and 2C: adaptation of the communication sheets to HD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 3: extension of the approv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 5: introduction of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reference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ex 9B: consideration of HDDF specific OBD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Introduction of the dual-fuel dedicated Annex 15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7BAB-A4ED-42D7-85ED-AF1D793AD0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0040" y="216000"/>
            <a:ext cx="82296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ndments to rev.6 of Regulation 49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the proposal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Amendments to the main body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Amendments to the existing Annexes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the dual-fuel dedicated Annex 15 of Regulation 49 (rev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fuel specific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fuel engine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to operate dual-fuel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fuel specific indicators and w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able torque in case of dual-fuel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 and in-use HDDF specific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limits applicable to HDDF engines and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fuel specific OBD and NOx contro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alculation requirements for emission measurement (laboratory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alculation requirements for emission measurement (PEMS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250920" y="6453360"/>
            <a:ext cx="1225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/01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52464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DA85-B884-4E59-89DB-AA10330A7A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 time-plan – on time for EURO 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738000"/>
            <a:ext cx="8364600" cy="34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PE June 2011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on the major principl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ndments to R85 (informal 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PE Jan 2012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ndments to rev.6 of R49  (informal 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n – June 2012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ing of amendments to rev.5 of R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PE June 2012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al of the amendments to R49 rev.6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al of the amendments to R85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ndments to rev.5 of R49 (informal Doc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29 Nov 2012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al of the amendments to R49 rev.6 &amp; R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PE Jan 2013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al of the amendments to R49 rev.5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for retrofit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29 June 2013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al of the amendments to R49 rev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110120" y="217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516720" y="5084640"/>
            <a:ext cx="2448000" cy="11912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fficulties regarding amendments to R49 rev. 5 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LAY necessary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117440" y="4292640"/>
            <a:ext cx="50547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9:45:10Z</dcterms:created>
  <dc:creator>R078864</dc:creator>
  <dc:description/>
  <dc:language>en-US</dc:language>
  <cp:lastModifiedBy>jseisler</cp:lastModifiedBy>
  <dcterms:modified xsi:type="dcterms:W3CDTF">2012-01-27T13:27:47Z</dcterms:modified>
  <cp:revision>116</cp:revision>
  <dc:subject/>
  <dc:title>HDDF05 – working material</dc:title>
</cp:coreProperties>
</file>