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1F87-9F63-4752-86B1-620283FFE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80592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767B-7B5C-4FB2-A238-E6ED98C26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BD16-602B-47E6-8501-45634A023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682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682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8059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8059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8059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C5F3-B865-4991-BE7B-147D733E5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0305-4B56-4B32-A416-3269AB1EF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78DE-5801-4D4A-8E2E-1B6B2858B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C563-148D-456F-8108-FD552AC11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0CAA-56C9-44D0-8BB7-F8D1DEA08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8229600" cy="354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CDB1-8A6D-4D17-BF0C-E54B62D56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9FBA-5BBB-44B6-88C0-10C9D3D26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70DF-2333-44B3-BA74-6A2D3D2A5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80592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E644-A591-47E9-B1C5-D66F4EE7B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50920" y="6453000"/>
            <a:ext cx="1225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/01/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524280"/>
            <a:ext cx="28958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ECE-GFV-DF-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2428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BCF84-1941-4FF2-9198-F2A06F7548E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7848720" y="0"/>
            <a:ext cx="1295280" cy="1655640"/>
            <a:chOff x="7848720" y="0"/>
            <a:chExt cx="1295280" cy="1655640"/>
          </a:xfrm>
        </p:grpSpPr>
        <p:sp>
          <p:nvSpPr>
            <p:cNvPr id="6" name="Rectangle 8"/>
            <p:cNvSpPr/>
            <p:nvPr/>
          </p:nvSpPr>
          <p:spPr>
            <a:xfrm>
              <a:off x="7848720" y="0"/>
              <a:ext cx="1295280" cy="1655640"/>
            </a:xfrm>
            <a:prstGeom prst="rect">
              <a:avLst/>
            </a:prstGeom>
            <a:solidFill>
              <a:srgbClr val="f0fd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WordArt 9"/>
            <p:cNvSpPr txBox="1"/>
            <p:nvPr/>
          </p:nvSpPr>
          <p:spPr>
            <a:xfrm rot="5400000">
              <a:off x="7791480" y="309600"/>
              <a:ext cx="1461240" cy="103680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Wave1">
                <a:avLst>
                  <a:gd name="adj1" fmla="val 8380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ff00"/>
                      </a:gs>
                      <a:gs pos="100000">
                        <a:srgbClr val="009999"/>
                      </a:gs>
                    </a:gsLst>
                    <a:lin ang="0"/>
                  </a:gradFill>
                  <a:latin typeface="Arial Black"/>
                </a:rPr>
                <a:t>Dual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9999"/>
                    </a:gs>
                  </a:gsLst>
                  <a:lin ang="0"/>
                </a:gradFill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ff00"/>
                      </a:gs>
                      <a:gs pos="100000">
                        <a:srgbClr val="009999"/>
                      </a:gs>
                    </a:gsLst>
                    <a:lin ang="0"/>
                  </a:gradFill>
                  <a:latin typeface="Arial Black"/>
                </a:rPr>
                <a:t>-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9999"/>
                    </a:gs>
                  </a:gsLst>
                  <a:lin ang="0"/>
                </a:gradFill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ff00"/>
                      </a:gs>
                      <a:gs pos="100000">
                        <a:srgbClr val="009999"/>
                      </a:gs>
                    </a:gsLst>
                    <a:lin ang="0"/>
                  </a:gradFill>
                  <a:latin typeface="Arial Black"/>
                </a:rPr>
                <a:t>Fuels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9999"/>
                    </a:gs>
                  </a:gsLst>
                  <a:lin ang="0"/>
                </a:gradFill>
                <a:latin typeface="Arial Black"/>
                <a:ea typeface="Arial Blac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Date Placeholder 3"/>
          <p:cNvSpPr/>
          <p:nvPr/>
        </p:nvSpPr>
        <p:spPr>
          <a:xfrm>
            <a:off x="250920" y="6453360"/>
            <a:ext cx="1225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/01/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Slide Number Placeholder 5"/>
          <p:cNvSpPr/>
          <p:nvPr/>
        </p:nvSpPr>
        <p:spPr>
          <a:xfrm>
            <a:off x="6553080" y="6524640"/>
            <a:ext cx="213372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49BFE-5B60-44C9-9044-F586C01DF77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FV Task Force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eavy Duty Dual Fuel vehicles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(HDDF TF)</a:t>
            </a:r>
            <a:br>
              <a:rPr sz="3200"/>
            </a:br>
            <a:br>
              <a:rPr sz="3200"/>
            </a:b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GRPE 63 – 19 January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Date Placeholder 3"/>
          <p:cNvSpPr/>
          <p:nvPr/>
        </p:nvSpPr>
        <p:spPr>
          <a:xfrm>
            <a:off x="250920" y="6453360"/>
            <a:ext cx="1225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/01/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lide Number Placeholder 5"/>
          <p:cNvSpPr/>
          <p:nvPr/>
        </p:nvSpPr>
        <p:spPr>
          <a:xfrm>
            <a:off x="6553080" y="6524640"/>
            <a:ext cx="213372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D778F-4976-4A43-8D63-9F87F2620DF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eavy-Duty dual-fuel engines and vehicles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gress since GRPE62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endments to rev.6 of Regulation 49 (EURO V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informal document has been drafted and submitted to GR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me sections and appendices will be finalised in the course of Q1/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formal document is intended to be ready for submission to GRPE64 in June 2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endments to rev.5 of Regulation 49 (EURO 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rafting status related to (EURO V) is not yet at a stage permitting the submission of an informal document to GR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FV proposal: 6 months de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formal document to be submitted to June 2012 GR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mal document to be submitted to January 2013 GR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 amendments tc be submitted to June 2013 WP2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Date Placeholder 3"/>
          <p:cNvSpPr/>
          <p:nvPr/>
        </p:nvSpPr>
        <p:spPr>
          <a:xfrm>
            <a:off x="250920" y="6453360"/>
            <a:ext cx="1225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/01/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lide Number Placeholder 5"/>
          <p:cNvSpPr/>
          <p:nvPr/>
        </p:nvSpPr>
        <p:spPr>
          <a:xfrm>
            <a:off x="6553080" y="6524640"/>
            <a:ext cx="213372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9A2EF-6DEA-4DDF-839F-4557655433E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8760" y="1155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mendments to rev.6 of Regulation 49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mmary of the proposal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endments to the main body of Regulation 49 (rev.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itions of dual-fuel engines and vehicles and of their operating m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ligation for HDDF to comply with Annex 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ance of a fuel specific type-approval in case of engines fuelled with liquefied natural gas / liquefied biomethane (L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elling of dual-fuel engines and vehic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allation requirements in case of HDDF engines approved as separate technical un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to include a new engine system into an engine-fami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mmary of the approval process in case of HD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b3b3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3b3b3"/>
                </a:solidFill>
                <a:latin typeface="Arial"/>
              </a:rPr>
              <a:t>Amendments to the existing Annexes of Regulation 49 (rev.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b3b3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3b3b3"/>
                </a:solidFill>
                <a:latin typeface="Arial"/>
              </a:rPr>
              <a:t>Introduction of the dual-fuel dedicated Annex 15 of Regulation 49 (rev.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Date Placeholder 3"/>
          <p:cNvSpPr/>
          <p:nvPr/>
        </p:nvSpPr>
        <p:spPr>
          <a:xfrm>
            <a:off x="250920" y="6453360"/>
            <a:ext cx="1225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/01/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524640"/>
            <a:ext cx="213372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7C22E-F0E2-4A28-969A-F5FD6762DA7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7480" y="1425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mendments to rev.6 of Regulation 49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mmary of the proposal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771200"/>
            <a:ext cx="822960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b3b3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3b3b3"/>
                </a:solidFill>
                <a:latin typeface="Arial"/>
              </a:rPr>
              <a:t>Amendments to the main body of Regulation 49 (rev.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endments to the existing Annexes of Regulation 49 (rev.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nex 1: adaptation of the information documents to HD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nexes 2A and 2C: adaptation of the communication sheets to HD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nex 3: extension of the approval ma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nex 5: introduction of 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s reference fu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nex 9B: consideration of HDDF specific OBD iss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b3b3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3b3b3"/>
                </a:solidFill>
                <a:latin typeface="Arial"/>
              </a:rPr>
              <a:t>Introduction of the dual-fuel dedicated Annex 15 of Regulation 49 (rev.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Date Placeholder 3"/>
          <p:cNvSpPr/>
          <p:nvPr/>
        </p:nvSpPr>
        <p:spPr>
          <a:xfrm>
            <a:off x="250920" y="6453360"/>
            <a:ext cx="1225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/01/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lide Number Placeholder 5"/>
          <p:cNvSpPr/>
          <p:nvPr/>
        </p:nvSpPr>
        <p:spPr>
          <a:xfrm>
            <a:off x="6553080" y="6524640"/>
            <a:ext cx="213372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A3186-C0EC-4224-B457-8082BA214B4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30040" y="216000"/>
            <a:ext cx="8229600" cy="90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mendments to rev.6 of Regulation 49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mmary of the proposal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28120" indent="-528120">
              <a:lnSpc>
                <a:spcPct val="80000"/>
              </a:lnSpc>
              <a:spcBef>
                <a:spcPts val="499"/>
              </a:spcBef>
              <a:buClr>
                <a:srgbClr val="b3b3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3b3b3"/>
                </a:solidFill>
                <a:latin typeface="Arial"/>
              </a:rPr>
              <a:t>Amendments to the main body of Regulation 49 (rev.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80000"/>
              </a:lnSpc>
              <a:spcBef>
                <a:spcPts val="499"/>
              </a:spcBef>
              <a:buClr>
                <a:srgbClr val="b3b3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3b3b3"/>
                </a:solidFill>
                <a:latin typeface="Arial"/>
              </a:rPr>
              <a:t>Amendments to the existing Annexes of Regulation 49 (rev.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tion of the dual-fuel dedicated Annex 15 of Regulation 49 (rev.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al-fuel specific defin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al-fuel engine fami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irements to operate dual-fuel vehic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al-fuel specific indicators and warn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rievable torque in case of dual-fuel vehic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E and in-use HDDF specific 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ission limits applicable to HDDF engines and vehic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al-fuel specific OBD and NOx control 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itional calculation requirements for emission measurement (laboratory te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itional calculation requirements for emission measurement (PEMS te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Date Placeholder 3"/>
          <p:cNvSpPr/>
          <p:nvPr/>
        </p:nvSpPr>
        <p:spPr>
          <a:xfrm>
            <a:off x="250920" y="6453360"/>
            <a:ext cx="1225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/01/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lide Number Placeholder 5"/>
          <p:cNvSpPr/>
          <p:nvPr/>
        </p:nvSpPr>
        <p:spPr>
          <a:xfrm>
            <a:off x="6553080" y="6524640"/>
            <a:ext cx="213372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E6AA7-9A0B-4A24-AA77-15598D14827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raft time-plan – on time for EURO 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240" y="738000"/>
            <a:ext cx="8364600" cy="344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PE June 2011: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greement on the major principles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mendments to R85 (informal docu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PE Jan 2012: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mendments to rev.6 of R49  (informal Docu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an – June 2012: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rafting of amendments to rev.5 of R4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PE June 2012: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pproval of the amendments to R49 rev.6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pproval of the amendments to R85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mendments to rev.5 of R49 (informal Docu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P29 Nov 2012: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pproval of the amendments to R49 rev.6 &amp; R8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PE Jan 2013: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pproval of the amendments to R49 rev.5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uidance for retrofit specif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P29 June 2013: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pproval of the amendments to R49 rev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4110120" y="217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6516720" y="5084640"/>
            <a:ext cx="2448000" cy="1191240"/>
          </a:xfrm>
          <a:prstGeom prst="rect">
            <a:avLst/>
          </a:prstGeom>
          <a:solidFill>
            <a:srgbClr val="eefb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difficulties regarding amendments to R49 rev. 5 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DELAY necessary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0" descr=""/>
          <p:cNvPicPr/>
          <p:nvPr/>
        </p:nvPicPr>
        <p:blipFill>
          <a:blip r:embed="rId1"/>
          <a:stretch/>
        </p:blipFill>
        <p:spPr>
          <a:xfrm>
            <a:off x="1117440" y="4292640"/>
            <a:ext cx="5054760" cy="22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6T09:45:10Z</dcterms:created>
  <dc:creator>R078864</dc:creator>
  <dc:description/>
  <dc:language>en-US</dc:language>
  <cp:lastModifiedBy>jseisler</cp:lastModifiedBy>
  <dcterms:modified xsi:type="dcterms:W3CDTF">2012-01-27T13:27:47Z</dcterms:modified>
  <cp:revision>116</cp:revision>
  <dc:subject/>
  <dc:title>HDDF05 – working material</dc:title>
</cp:coreProperties>
</file>