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jpeg" ContentType="image/jpeg"/>
  <Override PartName="/ppt/media/image3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98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-360"/>
            <a:ext cx="2971800" cy="498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9445320"/>
            <a:ext cx="2971800" cy="498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9445320"/>
            <a:ext cx="2971800" cy="498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619CB-911E-43EF-8C81-E7F94EAACFE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egnaposto numero diapositiva 3"/>
          <p:cNvSpPr/>
          <p:nvPr/>
        </p:nvSpPr>
        <p:spPr>
          <a:xfrm>
            <a:off x="3884760" y="944568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B07EF-32F0-4B76-9CE3-A9C2331FD03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FF0A-C1B8-44C8-9EFB-B02957021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D084-4F28-491A-9AB5-78FEBB29B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1167-AC10-4101-BC9C-06ED8097F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F318-58B4-4E8E-B92E-05A42261E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CE7B3-656D-451B-82F0-2AE6760B5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CA1EB-FF2A-4858-B850-401C07E1B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EDA1E-2ADF-45E1-A464-D0B459A06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410FF-FD89-46AC-AA07-8165CDE25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4CC39-4773-4FCE-B81A-610D364E9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C056B-5E8B-4C26-B0B1-90E131E56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A62FC-A259-40BA-8F7F-5FB5C419C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80A4-1921-4098-BF8C-D84779F42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747F9-FF30-438E-A226-00F04CE78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6F730-05CC-40C1-AAC1-88C8BDE03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6E819-30F9-4F94-B316-F1D1951FA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A745F-89E1-4BF7-A2DA-497C1D79D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A6C1B-252B-4CEF-BDD8-E70FC680E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1086-40EE-4712-B2D2-A05321F81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7664-BBA0-41C4-B29F-7BDC06A15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73E1-B70A-4116-B6A4-34BBC48EB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EBF2-3639-4EAA-B3F4-25416A119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47C8-E11A-4800-A92F-CDF1F22FD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5292-EAD9-4201-9C2C-05038B19D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9252-3B5D-44AC-B815-ECD0C968F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A1F00-18F8-497D-B629-2F4691DC1308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B8B65-D8E0-4DAB-846E-44022222C09F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png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23640" y="1844280"/>
            <a:ext cx="856908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AEGPL amendments proposals to Regulations n. 83 and 115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Bi-fuel vehicles – New definition and provis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76360" y="4005000"/>
            <a:ext cx="590400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GFV - Brussels, 15</a:t>
            </a:r>
            <a:r>
              <a:rPr b="0" lang="en-GB" sz="2400" spc="-1" strike="noStrike" baseline="30000">
                <a:solidFill>
                  <a:srgbClr val="ffffff"/>
                </a:solidFill>
                <a:latin typeface="Verdana"/>
              </a:rPr>
              <a:t>th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 December  201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375e"/>
                </a:solidFill>
                <a:latin typeface="Verdana"/>
              </a:rPr>
              <a:t>Energy gas ratio - Calculation metho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total mass (expressed in kg) can be derived from the mean fuel consumption of R101 (expressed in l/100km) by the following equation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Calibri"/>
              </a:rPr>
              <a:t>tot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= FC*d*dist/100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(4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9996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FC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is the fuel consumption calculated according to Annex 6 of Regulation 101 (l/100k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9996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is the density of gas (LPG: 0.538 kg/l, CNG: 0,654 kg/m3, see par. 5.2.4. of regulation 101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9996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dist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is the total distance travelled during the type 1 test (k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ubstituting eq. 4 into 3, and then eqs. 3 and 2 into 1 the result become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1" lang="it-IT" sz="2000" spc="-1" strike="noStrike" baseline="-25000">
                <a:solidFill>
                  <a:srgbClr val="000000"/>
                </a:solidFill>
                <a:latin typeface="Calibri"/>
              </a:rPr>
              <a:t>gas</a:t>
            </a: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 = m</a:t>
            </a:r>
            <a:r>
              <a:rPr b="1" lang="it-IT" sz="2000" spc="-1" strike="noStrike" baseline="-25000">
                <a:solidFill>
                  <a:srgbClr val="000000"/>
                </a:solidFill>
                <a:latin typeface="Calibri"/>
              </a:rPr>
              <a:t>gas</a:t>
            </a: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*100/(FC*dist*d)</a:t>
            </a: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(5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375e"/>
                </a:solidFill>
                <a:latin typeface="Verdana"/>
              </a:rPr>
              <a:t>Energy gas ratio - Calculation metho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C as calculated on LPG only is a conservative assumption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79280" y="1989000"/>
            <a:ext cx="86043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Box 3"/>
          <p:cNvSpPr/>
          <p:nvPr/>
        </p:nvSpPr>
        <p:spPr>
          <a:xfrm>
            <a:off x="468360" y="476280"/>
            <a:ext cx="83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060"/>
                </a:solidFill>
                <a:latin typeface="Arial"/>
              </a:rPr>
              <a:t>Obje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4"/>
          <p:cNvSpPr/>
          <p:nvPr/>
        </p:nvSpPr>
        <p:spPr>
          <a:xfrm>
            <a:off x="179280" y="1087560"/>
            <a:ext cx="87854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roposed amendments are aimed at redefining the class of bi-fuel vehicles to permit 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 simultaneous use of gas and petrol, even if limited in amount or du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se modifications are needed primarily for the approval of some bi-fuel vehicle equipped with petrol direct injection systems and retrofit systems intended to be fitted on vehicles equipped with petrol direct injection systems: in order to safeguard the petrol injectors, a certain amount of petrol may need to be injected also in gas mode, especially when particular temperature conditions are reach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this end, are introduc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ifications to bi-fuel vehicles definition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ew requirements to set a minimum limit to gas energy  ratio (used as inverse index of petrol us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method to calculate the gas energy rati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324000" y="189000"/>
            <a:ext cx="8192880" cy="62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0253f"/>
                </a:solidFill>
                <a:latin typeface="Verdana"/>
              </a:rPr>
              <a:t>Bi-fuel vehic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0253f"/>
                </a:solidFill>
                <a:latin typeface="Verdana"/>
              </a:rPr>
              <a:t>Definition and new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7375e"/>
                </a:solidFill>
                <a:latin typeface="Verdana"/>
              </a:rPr>
              <a:t>Defin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7375e"/>
                </a:solidFill>
                <a:latin typeface="Verdana"/>
              </a:rPr>
              <a:t>Main eleme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wo separate fuel storage system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designed to run on only one fuel at a tim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he simultaneous use of both fuels is limited in amount or duration (new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17375e"/>
                </a:solidFill>
                <a:latin typeface="Verdana"/>
              </a:rPr>
              <a:t>       </a:t>
            </a:r>
            <a:r>
              <a:rPr b="1" lang="en-GB" sz="1600" spc="-1" strike="noStrike">
                <a:solidFill>
                  <a:srgbClr val="17375e"/>
                </a:solidFill>
                <a:latin typeface="Verdana"/>
              </a:rPr>
              <a:t>New requir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17375e"/>
                </a:solidFill>
                <a:latin typeface="Verdana"/>
              </a:rPr>
              <a:t>       </a:t>
            </a:r>
            <a:r>
              <a:rPr b="1" lang="en-GB" sz="1600" spc="-1" strike="noStrike">
                <a:solidFill>
                  <a:srgbClr val="17375e"/>
                </a:solidFill>
                <a:latin typeface="Verdana"/>
              </a:rPr>
              <a:t>Combined application of the following restriction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17375e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17375e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7375e"/>
                </a:solidFill>
                <a:latin typeface="Verdana"/>
                <a:ea typeface="Arial"/>
              </a:rPr>
              <a:t>60 seconds max limit applied to petrol warm-up period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17375e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17375e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7375e"/>
                </a:solidFill>
                <a:latin typeface="Verdana"/>
                <a:ea typeface="Arial"/>
              </a:rPr>
              <a:t>Gas energy ratio higher than 80% as calculated over the entire driving cycl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17375e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7375e"/>
                </a:solidFill>
                <a:latin typeface="Verdana"/>
              </a:rPr>
              <a:t>Note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choice of a min gas limit instead of a max petrol limit is motivated by the fact that petrol consumption is very low and, furthermore, this would be difficult to be measured with simple instrumen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Emi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 need to adapt measurement methods and correction factors for calculation of NOx and CO emissions as they are “essentially” fuel-independent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error on corrected concentration due to different DF’s is negligible and conservativ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C emission calculation are “more” fuel-dependent due to the different density of the pollutants, but the assumption that only LPG is burned during the cycle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as it stands now –  warm-up on petrol)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a conservative condi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Calibri"/>
              </a:rPr>
              <a:t>Emissions</a:t>
            </a:r>
            <a:br>
              <a:rPr sz="3600"/>
            </a:br>
            <a:r>
              <a:rPr b="0" lang="it-IT" sz="3600" spc="-1" strike="noStrike">
                <a:solidFill>
                  <a:srgbClr val="000000"/>
                </a:solidFill>
                <a:latin typeface="Calibri"/>
              </a:rPr>
              <a:t>THC calcul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684360" y="1547640"/>
            <a:ext cx="77770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Ambient condition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ambient temperature: 23 °C = 297.2 K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barometric pressure: PB = 101.33 kPa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relative humidity: Ra = 60 per cent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saturation vapour pressure: Pd = 2.81 kPa of H2O at 23 °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Volume measured and reduced to standard conditions (para. 1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V = 51.961 m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Analyser reading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Diluted exhaust sample </a:t>
            </a:r>
            <a:r>
              <a:rPr b="0" i="1" lang="it-IT" sz="1600" spc="-1" strike="noStrike">
                <a:solidFill>
                  <a:srgbClr val="000000"/>
                </a:solidFill>
                <a:latin typeface="Arial"/>
              </a:rPr>
              <a:t>(Ce)</a:t>
            </a:r>
            <a:r>
              <a:rPr b="0" i="1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Dilution-air sample </a:t>
            </a:r>
            <a:r>
              <a:rPr b="0" i="1" lang="it-IT" sz="1600" spc="-1" strike="noStrike">
                <a:solidFill>
                  <a:srgbClr val="000000"/>
                </a:solidFill>
                <a:latin typeface="Arial"/>
              </a:rPr>
              <a:t>(C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HC (1)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92 ppm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3.0 pp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470 ppm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0 pp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NOx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70 ppm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0 pp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CO2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1.6 per cent by volume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0.03 per cent by volu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(1) in ppm carbon equival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Calibri"/>
              </a:rPr>
              <a:t>Emissions</a:t>
            </a:r>
            <a:br>
              <a:rPr sz="3600"/>
            </a:br>
            <a:r>
              <a:rPr b="0" lang="it-IT" sz="3600" spc="-1" strike="noStrike">
                <a:solidFill>
                  <a:srgbClr val="000000"/>
                </a:solidFill>
                <a:latin typeface="Calibri"/>
              </a:rPr>
              <a:t>THC calcul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69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Given tha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DF = 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   for petrol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DF = 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   for LP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DF =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   for NG            for CN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DF’s differs in percentage terms by the following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Calibri"/>
                <a:ea typeface="Arial"/>
              </a:rPr>
              <a:t>Δ</a:t>
            </a:r>
            <a:r>
              <a:rPr b="1" lang="en-GB" sz="1400" spc="-1" strike="noStrike">
                <a:solidFill>
                  <a:srgbClr val="000000"/>
                </a:solidFill>
                <a:latin typeface="Calibri"/>
              </a:rPr>
              <a:t>DF% (LPG – Petrol) = -11.2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Calibri"/>
                <a:ea typeface="Arial"/>
              </a:rPr>
              <a:t>Δ</a:t>
            </a:r>
            <a:r>
              <a:rPr b="1" lang="en-GB" sz="1400" spc="-1" strike="noStrike">
                <a:solidFill>
                  <a:srgbClr val="000000"/>
                </a:solidFill>
                <a:latin typeface="Calibri"/>
              </a:rPr>
              <a:t>DF% (CNG – Petrol) = -29.1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13" descr=""/>
          <p:cNvPicPr/>
          <p:nvPr/>
        </p:nvPicPr>
        <p:blipFill>
          <a:blip r:embed="rId2"/>
          <a:stretch/>
        </p:blipFill>
        <p:spPr>
          <a:xfrm>
            <a:off x="1116000" y="1989000"/>
            <a:ext cx="2193840" cy="6638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5" descr=""/>
          <p:cNvPicPr/>
          <p:nvPr/>
        </p:nvPicPr>
        <p:blipFill>
          <a:blip r:embed="rId3"/>
          <a:stretch/>
        </p:blipFill>
        <p:spPr>
          <a:xfrm>
            <a:off x="1116000" y="2708280"/>
            <a:ext cx="2193840" cy="7095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6" descr=""/>
          <p:cNvPicPr/>
          <p:nvPr/>
        </p:nvPicPr>
        <p:blipFill>
          <a:blip r:embed="rId4"/>
          <a:stretch/>
        </p:blipFill>
        <p:spPr>
          <a:xfrm>
            <a:off x="1042920" y="3500280"/>
            <a:ext cx="2328840" cy="6858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7"/>
          <p:cNvSpPr/>
          <p:nvPr/>
        </p:nvSpPr>
        <p:spPr>
          <a:xfrm>
            <a:off x="5292720" y="1700280"/>
            <a:ext cx="3382920" cy="46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ulating for all fuels the corrected concentration of HC in the sampling bag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i = Ce - C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i = 89.371 for petr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i = 89.418 for L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i = 89.558 for C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, in percentage terms, the differences, in relation to petrol, ar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% (LPG-petrol) = +0.053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% (CNG-petrol) = +0.209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centage error is positive but neglig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8" descr=""/>
          <p:cNvPicPr/>
          <p:nvPr/>
        </p:nvPicPr>
        <p:blipFill>
          <a:blip r:embed="rId5"/>
          <a:stretch/>
        </p:blipFill>
        <p:spPr>
          <a:xfrm>
            <a:off x="6443640" y="2492280"/>
            <a:ext cx="798480" cy="5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mission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C calcul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Given th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1" lang="en-GB" sz="800" spc="-1" strike="noStrike">
                <a:solidFill>
                  <a:srgbClr val="000000"/>
                </a:solidFill>
                <a:latin typeface="Calibri"/>
              </a:rPr>
              <a:t>HC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 = C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 *V</a:t>
            </a:r>
            <a:r>
              <a:rPr b="1" lang="en-GB" sz="10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*Q</a:t>
            </a:r>
            <a:r>
              <a:rPr b="1" lang="en-GB" sz="900" spc="-1" strike="noStrike">
                <a:solidFill>
                  <a:srgbClr val="000000"/>
                </a:solidFill>
                <a:latin typeface="Calibri"/>
              </a:rPr>
              <a:t>H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Differences in DF’s do not weigh significantly in final calculatio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HC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’s are, instead, influential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QHC = 0.631 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for petro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QHC = 0.649 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for LP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QHC = 0.714 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for 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In conclusion, considering 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the cycle fully driven on gas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, the mass emissions per km will be higher with respect to 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the limit case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 (20%petrol, 80%gas)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Calibri"/>
                <a:ea typeface="Arial"/>
              </a:rPr>
              <a:t>Δ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Arial"/>
              </a:rPr>
              <a:t>M</a:t>
            </a:r>
            <a:r>
              <a:rPr b="0" lang="it-IT" sz="1000" spc="-1" strike="noStrike">
                <a:solidFill>
                  <a:srgbClr val="000000"/>
                </a:solidFill>
                <a:latin typeface="Calibri"/>
                <a:ea typeface="Arial"/>
              </a:rPr>
              <a:t>HC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Arial"/>
              </a:rPr>
              <a:t>%(LPG-limit)= + 0,57%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Calibri"/>
                <a:ea typeface="Arial"/>
              </a:rPr>
              <a:t>Δ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Arial"/>
              </a:rPr>
              <a:t>M</a:t>
            </a:r>
            <a:r>
              <a:rPr b="0" lang="it-IT" sz="1000" spc="-1" strike="noStrike">
                <a:solidFill>
                  <a:srgbClr val="000000"/>
                </a:solidFill>
                <a:latin typeface="Calibri"/>
                <a:ea typeface="Arial"/>
              </a:rPr>
              <a:t>HC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Arial"/>
              </a:rPr>
              <a:t>%(CNG-limit)= + 2,42%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375e"/>
                </a:solidFill>
                <a:latin typeface="Verdana"/>
              </a:rPr>
              <a:t>Energy gas ratio - Calculation metho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739520"/>
            <a:ext cx="8229600" cy="50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7375e"/>
                </a:solidFill>
                <a:latin typeface="Verdana"/>
              </a:rPr>
              <a:t>Measurement of gas mass consumed during the cycl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fuel weighing system measuring the weight of the LPG storage container during the test: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accuracy of ± 2 per cent of the difference between the readings at the beginning and at the end of the test or bet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careful installation of the device according to the instrument manufacturers’ recommendations and to good engineering practice to avoid measurement errors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Verdana"/>
              </a:rPr>
              <a:t>other measurement methods are permitted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if an equivalent accuracy can be demonstrated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Note: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ith particular reference to mass flow metering, the reliability of such type of instrument – on gas - seems not proven yet in transient conditions and, furthermore, its positioning and installation, in a bench test, might raise some problems, likely affecting reproducibility of the measurement metho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nergy gas ratio - Calculation method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68360" y="1196640"/>
            <a:ext cx="8229600" cy="49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ormula demonstra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Calibri"/>
              </a:rPr>
              <a:t>gas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Calibri"/>
              </a:rPr>
              <a:t>gas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Calibri"/>
              </a:rPr>
              <a:t>to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(1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ere: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Calibri"/>
              </a:rPr>
              <a:t>gas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= m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Calibri"/>
              </a:rPr>
              <a:t>gas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* 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Calibri"/>
              </a:rPr>
              <a:t>gas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(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712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556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Calibri"/>
              </a:rPr>
              <a:t>tot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is the total energy required for type 1 test (MJ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556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Calibri"/>
              </a:rPr>
              <a:t>gas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is the amount of energy supplied by gas fuel (MJ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556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Calibri"/>
              </a:rPr>
              <a:t>gas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is the mass of gas burned during the type 1 test (kg) which supplies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alibri"/>
              </a:rPr>
              <a:t>ga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556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Calibri"/>
              </a:rPr>
              <a:t>gas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is the specific heating value of gas (MJ/kg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total energy used during the type I test can be derived from fuel consumption data, assuming that only gas is burned during the test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Calibri"/>
              </a:rPr>
              <a:t>tot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= m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Calibri"/>
              </a:rPr>
              <a:t>tot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* 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Calibri"/>
              </a:rPr>
              <a:t>gas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(3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556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alibri"/>
              </a:rPr>
              <a:t>ot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is the total mass of gas derived from fuel consumption data (kg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556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Calibri"/>
              </a:rPr>
              <a:t>gas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is the specific heating value of gas (MJ/kg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3T12:23:51Z</dcterms:created>
  <dc:creator>davida</dc:creator>
  <dc:description/>
  <dc:language>en-US</dc:language>
  <cp:lastModifiedBy>Amendment 2 to Revision 2</cp:lastModifiedBy>
  <cp:lastPrinted>2011-12-02T13:45:45Z</cp:lastPrinted>
  <dcterms:modified xsi:type="dcterms:W3CDTF">2012-01-10T13:47:20Z</dcterms:modified>
  <cp:revision>32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570025764</vt:r8>
  </property>
</Properties>
</file>