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CD38-0602-4B34-A90F-D3DBF94AE0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29E-CAF3-4655-8DB6-AC94858B66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FFE-BBBA-4334-9C3A-2867EE48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08B-1480-43ED-BF7E-45BFA7C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737-64F0-4604-B17A-744B22F9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D46-7353-4BEC-BE46-642CF623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473-B11A-4247-8F1F-6940FEA9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2CB-CC73-4315-B420-F65A9DFC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BA1B-3393-4C74-9713-7CDF444A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DD06-0F64-43FF-9420-21BF3D3F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9604-8438-4F36-9C5B-4ED0417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26BB-2A2F-46A5-94C4-1B374DDA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7BCB-D57B-4F8F-AF14-18B3C62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9B0-C146-4BE9-9051-C0EA802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97AA-C07C-493C-BAB6-A18271F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18C5-3A3F-4F9E-9312-91B96EC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BC4D-36D9-429B-8CA6-DEC2415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5298-BEEA-4927-8A78-E2F62275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E83-B4C3-4EF8-B00A-B06FB554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F1F-88AA-47CA-BA65-9573A91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AD4-3052-4E00-B6B8-56CFDFE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976-F2A3-4B1E-AC43-FFFB8A14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D37-CCD6-4430-B161-EA80CDD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966-0DA3-437C-ACEC-D53689F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B5F-624A-43F0-86A1-ECDA523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F74-17C4-413E-A112-7EE390B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C40-D868-4415-A725-5D9A823FFA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B4D-582C-41FD-881D-38868DBC22F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EGPL amendments proposals to Regulations n. 83 and 115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i-fuel vehicles – New definition and prov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360" y="4005000"/>
            <a:ext cx="590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FV - Brussels, 1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ecember 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Verdana"/>
              </a:rPr>
              <a:t>Energy gas ratio - Calcula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otal mass (expressed in kg) can be derived from the mean fuel consumption of R101 (expressed in l/100km) by the following equati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FC*d*dist/10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fuel consumption calculated according to Annex 6 of Regulation 101 (l/100k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density of gas (LPG: 0.538 kg/l, CNG: 0,654 kg/m3, see par. 5.2.4. of regulation 10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total distance travelled during the type 1 test (k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ituting eq. 4 into 3, and then eqs. 3 and 2 into 1 the result beco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= m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*100/(FC*dist*d)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Verdana"/>
              </a:rPr>
              <a:t>Energy gas ratio - Calcula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C as calculated on LPG only is a conservative assump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60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468360" y="476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79280" y="108756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amendments are aimed at redefining the class of bi-fuel vehicles to permit 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simultaneous use of gas and petrol, even if limited in amount or du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modifications are needed primarily for the approval of some bi-fuel vehicle equipped with petrol direct injection systems and retrofit systems intended to be fitted on vehicles equipped with petrol direct injection systems: in order to safeguard the petrol injectors, a certain amount of petrol may need to be injected also in gas mode, especially when particular temperature conditions are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is end, are introdu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 to bi-fuel vehicles defini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requirements to set a minimum limit to gas energy  ratio (used as inverse index of petrol u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thod to calculate the gas energy rat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24000" y="189000"/>
            <a:ext cx="81928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253f"/>
                </a:solidFill>
                <a:latin typeface="Verdana"/>
              </a:rPr>
              <a:t>Bi-fuel ve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253f"/>
                </a:solidFill>
                <a:latin typeface="Verdana"/>
              </a:rPr>
              <a:t>Definition and new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375e"/>
                </a:solidFill>
                <a:latin typeface="Verdan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375e"/>
                </a:solidFill>
                <a:latin typeface="Verdana"/>
              </a:rPr>
              <a:t>Main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wo separate fuel storag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signed to run on only one fuel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simultaneous use of both fuels is limited in amount or duration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       </a:t>
            </a: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New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       </a:t>
            </a: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Combined application of the following restri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375e"/>
                </a:solidFill>
                <a:latin typeface="Verdana"/>
                <a:ea typeface="Arial"/>
              </a:rPr>
              <a:t>60 seconds max limit applied to petrol warm-up peri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375e"/>
                </a:solidFill>
                <a:latin typeface="Verdana"/>
                <a:ea typeface="Arial"/>
              </a:rPr>
              <a:t>Gas energy ratio higher than 80% as calculated over the entire driving cyc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375e"/>
                </a:solidFill>
                <a:latin typeface="Verdana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hoice of a min gas limit instead of a max petrol limit is motivated by the fact that petrol consumption is very low and, furthermore, this would be difficult to be measured with simple instr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adapt measurement methods and correction factors for calculation of NOx and CO emissions as they are “essentially” fuel-independ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rror on corrected concentration due to different DF’s is negligible and conservativ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C emission calculation are “more” fuel-dependent due to the different density of the pollutants, but the assumption that only LPG is burned during the cyc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s it stands now –  warm-up on petrol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onservative con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Emissions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THC cal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4360" y="1547640"/>
            <a:ext cx="7777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bient condi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bient temperature: 23 °C = 297.2 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arometric pressure: PB = 101.33 kP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lative humidity: Ra = 60 per ce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aturation vapour pressure: Pd = 2.81 kPa of H2O at 23 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olume measured and reduced to standard conditions (para. 1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 = 51.961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alyser read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luted exhaust sampl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Ce)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lution-air sampl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C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C (1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92 pp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.0 p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70 pp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 p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x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70 pp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 p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.6 per cent by volu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.03 per cent by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) in ppm carbon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Emissions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THC cal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iven th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 =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for petrol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 =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for L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 =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for NG            for C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’s differs in percentage terms by the following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F% (LPG – Petrol) = -11.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F% (CNG – Petrol) = -29.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193840" cy="66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2193840" cy="70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4"/>
          <a:stretch/>
        </p:blipFill>
        <p:spPr>
          <a:xfrm>
            <a:off x="1042920" y="3500280"/>
            <a:ext cx="232884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7"/>
          <p:cNvSpPr/>
          <p:nvPr/>
        </p:nvSpPr>
        <p:spPr>
          <a:xfrm>
            <a:off x="5292720" y="1700280"/>
            <a:ext cx="338292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ng for all fuels the corrected concentration of HC in the sampling ba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Ce - 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89.371 for pe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89.418 for L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89.558 for C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, in percentage terms, the differences, in relation to petrol,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(LPG-petrol) = +0.0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(CNG-petrol) = +0.20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error is positive but neglig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"/>
          <p:cNvPicPr/>
          <p:nvPr/>
        </p:nvPicPr>
        <p:blipFill>
          <a:blip r:embed="rId5"/>
          <a:stretch/>
        </p:blipFill>
        <p:spPr>
          <a:xfrm>
            <a:off x="6443640" y="2492280"/>
            <a:ext cx="79848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is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C cal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iven th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HC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*V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*Q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H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fferences in DF’s do not weigh significantly in final calcul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C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’s are, instead, influentia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HC = 0.631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pe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HC = 0.649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L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HC = 0.714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conclusion, considering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cycle fully driven on ga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the mass emissions per km will be higher with respect to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limit cas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(20%petrol, 80%gas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H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%(LPG-limit)= + 0,5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H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%(CNG-limit)= + 2,4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Verdana"/>
              </a:rPr>
              <a:t>Energy gas ratio - Calcula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3952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375e"/>
                </a:solidFill>
                <a:latin typeface="Verdana"/>
              </a:rPr>
              <a:t>Measurement of gas mass consumed during the cyc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el weighing system measuring the weight of the LPG storage container during the test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curacy of ± 2 per cent of the difference between the readings at the beginning and at the end of the test or 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reful installation of the device according to the instrument manufacturers’ recommendations and to good engineering practice to avoid measurement erro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other measurement methods are permitted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an equivalent accuracy can be demonstrate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 particular reference to mass flow metering, the reliability of such type of instrument – on gas - seems not proven yet in transient conditions and, furthermore, its positioning and installation, in a bench test, might raise some problems, likely affecting reproducibility of the measurement meth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ergy gas ratio - Calculation method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mula demonst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total energy required for type 1 test (MJ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amount of energy supplied by gas fuel (MJ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mass of gas burned during the type 1 test (kg) which supplies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specific heating value of gas (MJ/k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otal energy used during the type I test can be derived from fuel consumption data, assuming that only gas is burned during the te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o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total mass of gas derived from fuel consumption data (k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specific heating value of gas (MJ/k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2:23:51Z</dcterms:created>
  <dc:creator>davida</dc:creator>
  <dc:description/>
  <dc:language>en-US</dc:language>
  <cp:lastModifiedBy>Amendment 2 to Revision 2</cp:lastModifiedBy>
  <cp:lastPrinted>2011-12-02T13:45:45Z</cp:lastPrinted>
  <dcterms:modified xsi:type="dcterms:W3CDTF">2012-01-10T13:47:20Z</dcterms:modified>
  <cp:revision>3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0025764</vt:r8>
  </property>
</Properties>
</file>