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4360" y="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4640"/>
            <a:ext cx="5105160" cy="382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980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436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AB4A-D2EA-449F-9B6C-7E4E0A2D3832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B53C-B307-49B2-A04E-54A807AEFF8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5160" cy="38293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4014720" y="9698040"/>
            <a:ext cx="3070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3426-B57E-4ED7-823C-5D80EB6FDB9D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956-CA74-4307-998A-31A5123E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A29-12AB-41C3-A19B-A3FA3CB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517-DF95-4260-B948-639FB964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03E-6018-44C0-B786-41D7FD4E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960-F11B-40DD-AE97-BDC7E3A0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F52-2E40-4724-AD92-D845C552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FF6-6AB7-4452-ADF8-6A7175A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FF9-9A86-434F-B0A6-C47AD28A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20C-6B56-481B-8C5E-C777CDD4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A66-3FAC-495F-B14D-FE9DCBEC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C9A-0ECA-46C1-B956-3FC65F85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270-B9EC-4C1C-B44F-49A669D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676-BD9E-41D4-8CDD-C8BDB54AB70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RE/2012/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27...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RIVERS OPINION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h. D. Tomasz Targosi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455080" y="836640"/>
            <a:ext cx="34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formal document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GRE-68-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8th GRE, 16-18 October 20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item 4(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G:\_GTB\OICA Paris 07 03 2012\naukowiec.gif"/>
          <p:cNvPicPr/>
          <p:nvPr/>
        </p:nvPicPr>
        <p:blipFill>
          <a:blip r:embed="rId1"/>
          <a:stretch/>
        </p:blipFill>
        <p:spPr>
          <a:xfrm>
            <a:off x="324000" y="1413000"/>
            <a:ext cx="2446200" cy="3744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1908000" y="2637000"/>
            <a:ext cx="70549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3db27"/>
                </a:solidFill>
                <a:latin typeface="Arial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250920" y="90792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s 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passing beam headlamps checked by Periodical Technical Inspection equally saf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road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traffic condi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32000" y="2708280"/>
          <a:ext cx="6408720" cy="3398760"/>
        </p:xfrm>
        <a:graphic>
          <a:graphicData uri="http://schemas.openxmlformats.org/drawingml/2006/table">
            <a:tbl>
              <a:tblPr/>
              <a:tblGrid>
                <a:gridCol w="4646520"/>
                <a:gridCol w="1762200"/>
              </a:tblGrid>
              <a:tr h="905040">
                <a:tc>
                  <a:txBody>
                    <a:bodyPr lIns="57240" rIns="57240" tIns="76320" bIns="76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57240" rIns="57240" tIns="76320" bIns="76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83160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52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60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I DON’T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5"/>
          <p:cNvSpPr/>
          <p:nvPr/>
        </p:nvSpPr>
        <p:spPr>
          <a:xfrm>
            <a:off x="1332000" y="115920"/>
            <a:ext cx="64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cc"/>
                </a:solidFill>
                <a:latin typeface="Arial"/>
              </a:rPr>
              <a:t>DRIVERS OPINION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332000" y="115920"/>
            <a:ext cx="64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cc"/>
                </a:solidFill>
                <a:latin typeface="Arial"/>
              </a:rPr>
              <a:t>DRIVERS OPINION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9079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river can asses quality of headl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060640"/>
          <a:ext cx="7129440" cy="3695760"/>
        </p:xfrm>
        <a:graphic>
          <a:graphicData uri="http://schemas.openxmlformats.org/drawingml/2006/table">
            <a:tbl>
              <a:tblPr/>
              <a:tblGrid>
                <a:gridCol w="6102360"/>
                <a:gridCol w="1027080"/>
              </a:tblGrid>
              <a:tr h="441000">
                <a:tc>
                  <a:txBody>
                    <a:bodyPr lIns="53640" rIns="53640" tIns="71280" bIns="71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53640" rIns="53640" tIns="71280" bIns="71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20120"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 the base of manufacturer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Looking  at illuminated road at n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Testing in servic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oking at the headlamp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6480"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oking what king of bulb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s installed in headl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Can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2200" rIns="52200" tIns="52200" bIns="52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332000" y="115920"/>
            <a:ext cx="64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cc"/>
                </a:solidFill>
                <a:latin typeface="Arial"/>
              </a:rPr>
              <a:t>DRIVERS OPINION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50920" y="907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the road illumination distance by passing beams 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2060640"/>
          <a:ext cx="7129440" cy="4103640"/>
        </p:xfrm>
        <a:graphic>
          <a:graphicData uri="http://schemas.openxmlformats.org/drawingml/2006/table">
            <a:tbl>
              <a:tblPr/>
              <a:tblGrid>
                <a:gridCol w="6102360"/>
                <a:gridCol w="1027080"/>
              </a:tblGrid>
              <a:tr h="442800">
                <a:tc>
                  <a:txBody>
                    <a:bodyPr lIns="53640" rIns="53640" tIns="71280" bIns="71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53640" rIns="53640" tIns="71280" bIns="712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40644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p to 10 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p to 20 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p to 40 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p to 80 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p to 150 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re than 150 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ifferent for different vehicl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Changeable for the same vehic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I don’t kno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3640" rIns="53640" tIns="53640" bIns="53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7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250920" y="9079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equipped with manual leveling device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332000" y="115920"/>
            <a:ext cx="64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cc"/>
                </a:solidFill>
                <a:latin typeface="Arial"/>
              </a:rPr>
              <a:t>DRIVERS OPINION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1700280"/>
          <a:ext cx="8064360" cy="4176720"/>
        </p:xfrm>
        <a:graphic>
          <a:graphicData uri="http://schemas.openxmlformats.org/drawingml/2006/table">
            <a:tbl>
              <a:tblPr/>
              <a:tblGrid>
                <a:gridCol w="6877080"/>
                <a:gridCol w="1187280"/>
              </a:tblGrid>
              <a:tr h="641160">
                <a:tc>
                  <a:txBody>
                    <a:bodyPr lIns="57240" rIns="57240" tIns="76320" bIns="76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57240" rIns="57240" tIns="76320" bIns="76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58896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l vehic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ly c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uck and bu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It is optional equip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 manufacturer discre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There are specific requirements f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250920" y="9079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anual leveling is used by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332000" y="115920"/>
            <a:ext cx="64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00cc"/>
                </a:solidFill>
                <a:latin typeface="Arial"/>
              </a:rPr>
              <a:t>DRIVERS OPINION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205000"/>
          <a:ext cx="8209080" cy="2894040"/>
        </p:xfrm>
        <a:graphic>
          <a:graphicData uri="http://schemas.openxmlformats.org/drawingml/2006/table">
            <a:tbl>
              <a:tblPr/>
              <a:tblGrid>
                <a:gridCol w="7000920"/>
                <a:gridCol w="1208160"/>
              </a:tblGrid>
              <a:tr h="619200">
                <a:tc>
                  <a:txBody>
                    <a:bodyPr lIns="57240" rIns="57240" tIns="76320" bIns="76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57240" rIns="57240" tIns="76320" bIns="763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56844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rvice for repair or maintena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988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 periodical checking of l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08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Driver oblig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At driver dis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240" rIns="57240" tIns="57240" bIns="57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87280" y="-36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HO IS RESPONSIBLE FOR ROAD SAFETY ?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in lighting dom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rostokąt 4"/>
          <p:cNvSpPr/>
          <p:nvPr/>
        </p:nvSpPr>
        <p:spPr>
          <a:xfrm>
            <a:off x="826920" y="1484280"/>
            <a:ext cx="2160720" cy="1224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W CRE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GTB, GRE, WP29, 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rostokąt 6"/>
          <p:cNvSpPr/>
          <p:nvPr/>
        </p:nvSpPr>
        <p:spPr>
          <a:xfrm>
            <a:off x="6012000" y="1268280"/>
            <a:ext cx="2160360" cy="1224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TIV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ostokąt 7"/>
          <p:cNvSpPr/>
          <p:nvPr/>
        </p:nvSpPr>
        <p:spPr>
          <a:xfrm>
            <a:off x="6804000" y="5373720"/>
            <a:ext cx="2160720" cy="1224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8"/>
          <p:cNvSpPr/>
          <p:nvPr/>
        </p:nvSpPr>
        <p:spPr>
          <a:xfrm>
            <a:off x="1619280" y="5661000"/>
            <a:ext cx="1944720" cy="1008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Łącznik prosty ze strzałką 10"/>
          <p:cNvCxnSpPr/>
          <p:nvPr/>
        </p:nvCxnSpPr>
        <p:spPr>
          <a:xfrm>
            <a:off x="2987280" y="2421000"/>
            <a:ext cx="4249080" cy="2953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2" name="Łącznik prosty ze strzałką 13"/>
          <p:cNvCxnSpPr>
            <a:endCxn id="68" idx="1"/>
          </p:cNvCxnSpPr>
          <p:nvPr/>
        </p:nvCxnSpPr>
        <p:spPr>
          <a:xfrm flipV="1">
            <a:off x="2987280" y="1880640"/>
            <a:ext cx="3025080" cy="35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3" name="Łącznik prosty ze strzałką 15"/>
          <p:cNvCxnSpPr/>
          <p:nvPr/>
        </p:nvCxnSpPr>
        <p:spPr>
          <a:xfrm>
            <a:off x="2987640" y="1699920"/>
            <a:ext cx="3672720" cy="1369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4" name="Łącznik prosty ze strzałką 17"/>
          <p:cNvCxnSpPr/>
          <p:nvPr/>
        </p:nvCxnSpPr>
        <p:spPr>
          <a:xfrm>
            <a:off x="1476000" y="2707920"/>
            <a:ext cx="1080" cy="865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5" name="Łącznik prosty ze strzałką 20"/>
          <p:cNvCxnSpPr>
            <a:stCxn id="70" idx="3"/>
            <a:endCxn id="76" idx="1"/>
          </p:cNvCxnSpPr>
          <p:nvPr/>
        </p:nvCxnSpPr>
        <p:spPr>
          <a:xfrm flipV="1">
            <a:off x="3563640" y="5554080"/>
            <a:ext cx="361080" cy="611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7" name="Łącznik prosty ze strzałką 22"/>
          <p:cNvCxnSpPr>
            <a:stCxn id="69" idx="0"/>
          </p:cNvCxnSpPr>
          <p:nvPr/>
        </p:nvCxnSpPr>
        <p:spPr>
          <a:xfrm flipH="1" flipV="1">
            <a:off x="5795280" y="3788640"/>
            <a:ext cx="2089800" cy="1585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" name="Łącznik prosty ze strzałką 24"/>
          <p:cNvCxnSpPr/>
          <p:nvPr/>
        </p:nvCxnSpPr>
        <p:spPr>
          <a:xfrm>
            <a:off x="8459640" y="3933720"/>
            <a:ext cx="145440" cy="1440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9" name="Łącznik prosty ze strzałką 26"/>
          <p:cNvCxnSpPr/>
          <p:nvPr/>
        </p:nvCxnSpPr>
        <p:spPr>
          <a:xfrm>
            <a:off x="5796000" y="4076280"/>
            <a:ext cx="1729440" cy="1297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0" name="Łącznik prosty ze strzałką 28"/>
          <p:cNvCxnSpPr>
            <a:stCxn id="67" idx="3"/>
          </p:cNvCxnSpPr>
          <p:nvPr/>
        </p:nvCxnSpPr>
        <p:spPr>
          <a:xfrm>
            <a:off x="2987280" y="2097000"/>
            <a:ext cx="1369080" cy="828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1" name="Łącznik prosty ze strzałką 30"/>
          <p:cNvCxnSpPr>
            <a:endCxn id="82" idx="3"/>
          </p:cNvCxnSpPr>
          <p:nvPr/>
        </p:nvCxnSpPr>
        <p:spPr>
          <a:xfrm flipH="1">
            <a:off x="2916000" y="2491920"/>
            <a:ext cx="3528000" cy="1693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3" name="Łącznik prosty ze strzałką 32"/>
          <p:cNvCxnSpPr/>
          <p:nvPr/>
        </p:nvCxnSpPr>
        <p:spPr>
          <a:xfrm flipV="1">
            <a:off x="5579640" y="3933360"/>
            <a:ext cx="1369080" cy="1008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4" name="Łącznik prosty ze strzałką 34"/>
          <p:cNvCxnSpPr/>
          <p:nvPr/>
        </p:nvCxnSpPr>
        <p:spPr>
          <a:xfrm flipH="1">
            <a:off x="2986920" y="1483920"/>
            <a:ext cx="3025080" cy="73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85" name="Prostokąt 38"/>
          <p:cNvSpPr/>
          <p:nvPr/>
        </p:nvSpPr>
        <p:spPr>
          <a:xfrm>
            <a:off x="6659640" y="2708280"/>
            <a:ext cx="2376360" cy="1225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rostokąt 45"/>
          <p:cNvSpPr/>
          <p:nvPr/>
        </p:nvSpPr>
        <p:spPr>
          <a:xfrm>
            <a:off x="3924360" y="4941720"/>
            <a:ext cx="2266920" cy="1224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Łącznik prosty ze strzałką 48"/>
          <p:cNvCxnSpPr>
            <a:endCxn id="76" idx="0"/>
          </p:cNvCxnSpPr>
          <p:nvPr/>
        </p:nvCxnSpPr>
        <p:spPr>
          <a:xfrm>
            <a:off x="2484360" y="2708280"/>
            <a:ext cx="2574000" cy="2234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7" name="Łącznik prosty ze strzałką 52"/>
          <p:cNvCxnSpPr/>
          <p:nvPr/>
        </p:nvCxnSpPr>
        <p:spPr>
          <a:xfrm flipH="1" flipV="1">
            <a:off x="7308360" y="2491920"/>
            <a:ext cx="1008720" cy="216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8" name="Łącznik prosty ze strzałką 58"/>
          <p:cNvCxnSpPr/>
          <p:nvPr/>
        </p:nvCxnSpPr>
        <p:spPr>
          <a:xfrm flipH="1" flipV="1">
            <a:off x="6155640" y="5732280"/>
            <a:ext cx="648360" cy="73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9" name="Łącznik prosty ze strzałką 59"/>
          <p:cNvCxnSpPr/>
          <p:nvPr/>
        </p:nvCxnSpPr>
        <p:spPr>
          <a:xfrm flipH="1">
            <a:off x="3563640" y="6245280"/>
            <a:ext cx="3240720" cy="280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Łącznik prosty ze strzałką 64"/>
          <p:cNvCxnSpPr/>
          <p:nvPr/>
        </p:nvCxnSpPr>
        <p:spPr>
          <a:xfrm flipV="1">
            <a:off x="2771280" y="4149360"/>
            <a:ext cx="1080360" cy="1512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1" name="Łącznik prosty ze strzałką 67"/>
          <p:cNvCxnSpPr/>
          <p:nvPr/>
        </p:nvCxnSpPr>
        <p:spPr>
          <a:xfrm flipH="1" flipV="1">
            <a:off x="8027640" y="3933720"/>
            <a:ext cx="289440" cy="1440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2" name="Łącznik prosty ze strzałką 69"/>
          <p:cNvCxnSpPr/>
          <p:nvPr/>
        </p:nvCxnSpPr>
        <p:spPr>
          <a:xfrm>
            <a:off x="1042560" y="2708280"/>
            <a:ext cx="793080" cy="2953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3" name="Łącznik prosty ze strzałką 73"/>
          <p:cNvCxnSpPr/>
          <p:nvPr/>
        </p:nvCxnSpPr>
        <p:spPr>
          <a:xfrm>
            <a:off x="6156000" y="5445000"/>
            <a:ext cx="648360" cy="145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4" name="Łącznik prosty ze strzałką 75"/>
          <p:cNvCxnSpPr/>
          <p:nvPr/>
        </p:nvCxnSpPr>
        <p:spPr>
          <a:xfrm flipV="1">
            <a:off x="4932000" y="2348640"/>
            <a:ext cx="1080360" cy="575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5" name="Łącznik prosty ze strzałką 77"/>
          <p:cNvCxnSpPr>
            <a:endCxn id="85" idx="1"/>
          </p:cNvCxnSpPr>
          <p:nvPr/>
        </p:nvCxnSpPr>
        <p:spPr>
          <a:xfrm>
            <a:off x="5776560" y="3141720"/>
            <a:ext cx="864360" cy="180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6" name="Łącznik prosty ze strzałką 79"/>
          <p:cNvCxnSpPr/>
          <p:nvPr/>
        </p:nvCxnSpPr>
        <p:spPr>
          <a:xfrm flipH="1" flipV="1">
            <a:off x="2339280" y="2707920"/>
            <a:ext cx="1656360" cy="2234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97" name="Prostokąt 9"/>
          <p:cNvSpPr/>
          <p:nvPr/>
        </p:nvSpPr>
        <p:spPr>
          <a:xfrm>
            <a:off x="3635280" y="2924280"/>
            <a:ext cx="2160720" cy="1225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rostokąt 5"/>
          <p:cNvSpPr/>
          <p:nvPr/>
        </p:nvSpPr>
        <p:spPr>
          <a:xfrm>
            <a:off x="755640" y="3573360"/>
            <a:ext cx="2160720" cy="1224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CHNICA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Łącznik prosty ze strzałką 81"/>
          <p:cNvCxnSpPr/>
          <p:nvPr/>
        </p:nvCxnSpPr>
        <p:spPr>
          <a:xfrm flipV="1">
            <a:off x="2050560" y="2707560"/>
            <a:ext cx="73800" cy="865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Łącznik prosty ze strzałką 83"/>
          <p:cNvCxnSpPr/>
          <p:nvPr/>
        </p:nvCxnSpPr>
        <p:spPr>
          <a:xfrm flipH="1" flipV="1">
            <a:off x="2194920" y="4796640"/>
            <a:ext cx="216360" cy="864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0" name="Łącznik prosty ze strzałką 86"/>
          <p:cNvCxnSpPr/>
          <p:nvPr/>
        </p:nvCxnSpPr>
        <p:spPr>
          <a:xfrm flipH="1" flipV="1">
            <a:off x="2986920" y="2707560"/>
            <a:ext cx="648360" cy="577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1" name="Łącznik prosty ze strzałką 89"/>
          <p:cNvCxnSpPr>
            <a:endCxn id="97" idx="3"/>
          </p:cNvCxnSpPr>
          <p:nvPr/>
        </p:nvCxnSpPr>
        <p:spPr>
          <a:xfrm flipH="1" flipV="1">
            <a:off x="5795280" y="3536640"/>
            <a:ext cx="864360" cy="72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2" name="Łącznik prosty ze strzałką 94"/>
          <p:cNvCxnSpPr/>
          <p:nvPr/>
        </p:nvCxnSpPr>
        <p:spPr>
          <a:xfrm flipH="1">
            <a:off x="3276000" y="4149720"/>
            <a:ext cx="1151640" cy="15120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3" name="Łącznik prosty ze strzałką 97"/>
          <p:cNvCxnSpPr/>
          <p:nvPr/>
        </p:nvCxnSpPr>
        <p:spPr>
          <a:xfrm>
            <a:off x="6948000" y="2492280"/>
            <a:ext cx="1080360" cy="288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4" name="Łącznik prosty ze strzałką 103"/>
          <p:cNvCxnSpPr/>
          <p:nvPr/>
        </p:nvCxnSpPr>
        <p:spPr>
          <a:xfrm flipV="1">
            <a:off x="2268000" y="2060280"/>
            <a:ext cx="3744360" cy="1513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5" name="Łącznik prosty ze strzałką 109"/>
          <p:cNvCxnSpPr/>
          <p:nvPr/>
        </p:nvCxnSpPr>
        <p:spPr>
          <a:xfrm flipH="1">
            <a:off x="6156360" y="3933360"/>
            <a:ext cx="1440360" cy="1296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06" name="Elipsa 111"/>
          <p:cNvSpPr/>
          <p:nvPr/>
        </p:nvSpPr>
        <p:spPr>
          <a:xfrm>
            <a:off x="179280" y="5516640"/>
            <a:ext cx="1224000" cy="1152360"/>
          </a:xfrm>
          <a:prstGeom prst="ellipse">
            <a:avLst/>
          </a:prstGeom>
          <a:noFill/>
          <a:ln w="63360">
            <a:solidFill>
              <a:srgbClr val="03d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3db27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Łącznik prosty 113"/>
          <p:cNvSpPr/>
          <p:nvPr/>
        </p:nvSpPr>
        <p:spPr>
          <a:xfrm>
            <a:off x="179280" y="5516640"/>
            <a:ext cx="1295640" cy="115236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Łącznik prosty 118"/>
          <p:cNvSpPr/>
          <p:nvPr/>
        </p:nvSpPr>
        <p:spPr>
          <a:xfrm flipV="1">
            <a:off x="108000" y="5516280"/>
            <a:ext cx="1366920" cy="115236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88"/>
          <p:cNvSpPr/>
          <p:nvPr/>
        </p:nvSpPr>
        <p:spPr>
          <a:xfrm>
            <a:off x="79200" y="192240"/>
            <a:ext cx="2411640" cy="11523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Y B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Łącznik zakrzywiony 96"/>
          <p:cNvCxnSpPr/>
          <p:nvPr/>
        </p:nvCxnSpPr>
        <p:spPr>
          <a:xfrm flipH="1" flipV="1" rot="5400000">
            <a:off x="-1622520" y="3284280"/>
            <a:ext cx="4322160" cy="289440"/>
          </a:xfrm>
          <a:prstGeom prst="curvedConnector5">
            <a:avLst>
              <a:gd name="adj1" fmla="val 49995"/>
              <a:gd name="adj2" fmla="val 49937"/>
              <a:gd name="adj3" fmla="val 49995"/>
            </a:avLst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84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RESPONSIBILITY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OF GRE FOR ROAD SAFET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Łącznik prosty ze strzałką 24"/>
          <p:cNvCxnSpPr>
            <a:stCxn id="113" idx="2"/>
          </p:cNvCxnSpPr>
          <p:nvPr/>
        </p:nvCxnSpPr>
        <p:spPr>
          <a:xfrm>
            <a:off x="4067280" y="3789360"/>
            <a:ext cx="8640" cy="937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4" name="Łącznik prosty ze strzałką 52"/>
          <p:cNvCxnSpPr>
            <a:stCxn id="115" idx="1"/>
          </p:cNvCxnSpPr>
          <p:nvPr/>
        </p:nvCxnSpPr>
        <p:spPr>
          <a:xfrm flipH="1" flipV="1">
            <a:off x="5112720" y="3099960"/>
            <a:ext cx="827640" cy="72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6" name="Łącznik prosty ze strzałką 73"/>
          <p:cNvCxnSpPr/>
          <p:nvPr/>
        </p:nvCxnSpPr>
        <p:spPr>
          <a:xfrm>
            <a:off x="4140360" y="1412640"/>
            <a:ext cx="2160" cy="1146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7" name="Łącznik prosty ze strzałką 77"/>
          <p:cNvCxnSpPr>
            <a:endCxn id="113" idx="1"/>
          </p:cNvCxnSpPr>
          <p:nvPr/>
        </p:nvCxnSpPr>
        <p:spPr>
          <a:xfrm>
            <a:off x="1557000" y="2026800"/>
            <a:ext cx="1430640" cy="11516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5" name="Prostokąt 9"/>
          <p:cNvSpPr/>
          <p:nvPr/>
        </p:nvSpPr>
        <p:spPr>
          <a:xfrm>
            <a:off x="5940360" y="2494080"/>
            <a:ext cx="2160720" cy="1225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OVERN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46"/>
          <p:cNvSpPr/>
          <p:nvPr/>
        </p:nvSpPr>
        <p:spPr>
          <a:xfrm>
            <a:off x="2987640" y="2565360"/>
            <a:ext cx="2160720" cy="1224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RE, WP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66"/>
          <p:cNvSpPr/>
          <p:nvPr/>
        </p:nvSpPr>
        <p:spPr>
          <a:xfrm>
            <a:off x="3132000" y="4724280"/>
            <a:ext cx="1944720" cy="10083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SAFE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684360" y="1677960"/>
            <a:ext cx="6551640" cy="5032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and proposed ranges in GRE/2012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be similar as today + driv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advanced-voluntary (no driver additional information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948360" y="429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3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372360" y="148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5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91636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Arial"/>
              </a:rPr>
              <a:t>1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067280" y="148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7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3:33:33Z</dcterms:created>
  <dc:creator>Arciszewska</dc:creator>
  <dc:description/>
  <dc:language>en-US</dc:language>
  <cp:lastModifiedBy>Guichard</cp:lastModifiedBy>
  <dcterms:modified xsi:type="dcterms:W3CDTF">2012-10-16T16:25:22Z</dcterms:modified>
  <cp:revision>488</cp:revision>
  <dc:subject/>
  <dc:title>Slajd 1</dc:title>
</cp:coreProperties>
</file>