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11.jpeg" ContentType="image/jpeg"/>
  <Override PartName="/ppt/media/image19.png" ContentType="image/png"/>
  <Override PartName="/ppt/media/image18.wmf" ContentType="image/x-wmf"/>
  <Override PartName="/ppt/media/image15.png" ContentType="image/png"/>
  <Override PartName="/ppt/media/image14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8.png" ContentType="image/png"/>
  <Override PartName="/ppt/media/image16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ftr" idx="1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 type="sldNum" idx="1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DFD5-F2CE-4D10-9B5F-85F64AFCFC5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FE18-C23D-4004-8091-B5CC3B94C21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6A49-6A2E-4F13-95A9-3EB255643BE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3910-7C20-46DA-88FB-E2E4E0D81B7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F2F7-6266-4B4F-96C8-85DB52C197C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B4C4-1074-4981-A647-777DA2B6D8A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5E22-20AD-41A9-80BB-F24DBB2A83D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5776-B05F-4C79-811A-D944C0E9193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D5A4-761E-47DD-A837-17CFD64F8DD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402F-246A-4407-A247-9A225D1F08E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643C-92CC-4478-BD75-7187567A968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CFA5-9F73-4F46-BECD-DFB2EBB87DC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FD13-EF01-4905-A803-29E1664B4CF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5EBE-E5E8-429D-84FF-3D592FB5E22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28C3-7B5A-44A1-BCCA-0A8923898D3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37F4-BC1A-4ECE-A0AB-9A9E7C0BE2A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6437-C449-4B96-B202-78786CB0A3E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F1C4-FB4A-4197-87BC-09FCE22A921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91AF-50A3-4F06-9184-214877084E4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C7BA-45E7-423A-8917-96161925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AA58-C11E-4D6C-ACCD-4D450F5B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4C02-8A3E-409E-9EEF-63C3E548D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65F7-DC70-48C9-A195-5AF9E4758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14F0-2EBC-4A16-952A-152CF117C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D4E6-AFEF-4115-8DCE-EA402B12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5ED8-07DF-460E-B487-CACB3CAA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60CE-7A9D-49A0-A833-015CC7DD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B133-F5FE-4F0B-8A36-21816553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68DE-DDF0-4F26-BA33-0528D2E7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3FA5-3C56-4A40-AC55-DCCBE4A1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1541-A8F1-4F35-8266-25ED961C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C3F6-5D97-45D0-99FB-C5ECF5AA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BF1E-47B2-4A3A-82E4-0E553FB8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DA79-7016-4018-B0B5-B4FF97E0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C066-2C14-4541-99A7-F83835164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80AF-D889-4E98-839B-BAA3C82A5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AFFD-9169-4C5C-8D03-4F4802CA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EAFAC-CE2E-4A70-A556-BF82EB53B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6B41D-8698-41FB-869A-684F354E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24090-CF01-4BA0-B86F-A734C11A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C53B-6291-4427-AA8B-9D54B63D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E2165-CFB0-49F5-94A4-F9876863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70DF7-5F64-4E0D-801B-EF7F3739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33E8E-A58A-4ED1-93B3-5E749A85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2ABC9-FD20-4725-977B-BB528A91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2238C-389A-4615-B293-7A33BBC1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96ABB-EE4E-4BEE-8762-2703A53F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2F91E-06F1-4FFF-AE4B-BE910B77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967EA-1FA4-471C-9E2B-2AF3C16D5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13AC8-D102-4FE9-AA06-E1D4FE24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54869-8320-422B-85DE-B045D5BAD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E27D-6D7F-4194-8F13-BF53C24C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B68A9-F817-4FBF-96DA-F5E80F0F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02A9B-97AE-46C2-A173-EDF0726F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26B84-F4DA-49A1-A44E-3315365E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7D700-72C0-418E-9260-AFBDE0BA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A6DD7-A7B9-4298-8E69-4CDB9580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55B85-0E11-48EC-8D72-55635941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72008-1E5D-455F-9AD1-88F1742D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1AF3C-8228-4629-BD13-11815535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9D96A-F9D0-46A8-861D-1ABBDCC7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27D1A-5827-4472-8630-AFEC837E1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E3F5-5578-4908-BA07-CB123ACB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5EF2E-1EFE-41EA-9E9D-04FE35776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055C4-6FFC-4902-8DD1-9F73463D8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7EE2A-928E-46B3-A0A3-1D5C435F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F9A91-D69E-4C02-BF50-B3FBBF4E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6EBD4-1F80-4C34-B104-950991E0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17014-55FC-48AD-A311-9B56C458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DF47C-176D-45CC-9DB2-6B6E91D8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95634-0162-4A9A-B403-B3931094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7A9A2-5B7D-4239-BC9F-3D916C64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E4BC9-72C5-4FC4-9FCF-3AB2F2BB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CDE2-8F63-40E3-BA21-17BB7932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3C67B-21EA-4D79-8246-602DFBEF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85D66-A15D-42E6-9C14-6880F335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B4EF9-BE9E-43C2-916C-92D9C0DF7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187B-F4DD-49E0-A8D1-EC4748C2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3BE8-2A77-4B74-BEEF-FC65A776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71BE-AC97-4B85-82BE-24C9EA0B2862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1071-47F6-4E27-80C2-682B4469B44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12"/>
          <p:cNvSpPr/>
          <p:nvPr/>
        </p:nvSpPr>
        <p:spPr>
          <a:xfrm>
            <a:off x="539640" y="3068640"/>
            <a:ext cx="8077320" cy="0"/>
          </a:xfrm>
          <a:prstGeom prst="line">
            <a:avLst/>
          </a:prstGeom>
          <a:ln w="9360">
            <a:solidFill>
              <a:srgbClr val="0d22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3"/>
          <p:cNvSpPr/>
          <p:nvPr/>
        </p:nvSpPr>
        <p:spPr>
          <a:xfrm>
            <a:off x="609480" y="6324480"/>
            <a:ext cx="468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SOCIETY OF MOTOR MANUFACTURERS AND TRADERS LIMI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8153280" y="63244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E </a:t>
            </a:r>
            <a:fld id="{236A54BB-30F6-4571-92B6-77B9F03FD33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5B44-6338-4FF8-92F5-B7001DF5E2EA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1"/>
          <p:cNvSpPr/>
          <p:nvPr/>
        </p:nvSpPr>
        <p:spPr>
          <a:xfrm>
            <a:off x="8153280" y="63244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E </a:t>
            </a:r>
            <a:fld id="{EA549678-5755-4845-916C-20643AEB31F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609480" y="6324480"/>
            <a:ext cx="468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SOCIETY OF MOTOR MANUFACTURERS AND TRADERS LIMI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9F62-BCA4-4CA6-9855-9B7F3C758A64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Line 7"/>
          <p:cNvSpPr/>
          <p:nvPr/>
        </p:nvSpPr>
        <p:spPr>
          <a:xfrm>
            <a:off x="533520" y="3048120"/>
            <a:ext cx="8076960" cy="0"/>
          </a:xfrm>
          <a:prstGeom prst="line">
            <a:avLst/>
          </a:prstGeom>
          <a:ln w="9360">
            <a:solidFill>
              <a:srgbClr val="0d22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B04C-A052-49B7-B852-2296120944B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6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628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375e"/>
                </a:solidFill>
                <a:latin typeface="Arial"/>
              </a:rPr>
              <a:t>Comments on GRE/2012/27</a:t>
            </a:r>
            <a:r>
              <a:rPr b="1" lang="en-GB" sz="1800" spc="-1" strike="noStrike">
                <a:solidFill>
                  <a:srgbClr val="17375e"/>
                </a:solidFill>
                <a:latin typeface="Arial"/>
              </a:rPr>
              <a:t>(Lighting &amp; Signalling W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000" y="2565360"/>
            <a:ext cx="8148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375e"/>
                </a:solidFill>
                <a:latin typeface="Arial"/>
              </a:rPr>
              <a:t>Headlamp Initial A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000" y="3068640"/>
            <a:ext cx="8148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375e"/>
                </a:solidFill>
                <a:latin typeface="Arial"/>
              </a:rPr>
              <a:t>October 2012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5292720" y="476280"/>
            <a:ext cx="320040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Informal documen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GRE-68-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(68th GRE, 15-18 October 2012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agenda item 4(b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Image 1" descr="oica-logofinal"/>
          <p:cNvPicPr/>
          <p:nvPr/>
        </p:nvPicPr>
        <p:blipFill>
          <a:blip r:embed="rId1"/>
          <a:stretch/>
        </p:blipFill>
        <p:spPr>
          <a:xfrm>
            <a:off x="0" y="0"/>
            <a:ext cx="19144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Box 5"/>
          <p:cNvSpPr/>
          <p:nvPr/>
        </p:nvSpPr>
        <p:spPr>
          <a:xfrm>
            <a:off x="911160" y="863640"/>
            <a:ext cx="784872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oretical Range vs. real vi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oth lamps have a theoretical range of 7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ample 11 has TC4-45 visibility range of 6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ample  5 has TC4-45 visibility range of 8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nclusion: theoretical range is a poor measure of real-world vi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Box 2"/>
          <p:cNvSpPr/>
          <p:nvPr/>
        </p:nvSpPr>
        <p:spPr>
          <a:xfrm>
            <a:off x="611280" y="162864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total load levelling tolerance is 2.0% approval, 2.6% C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ufacturer may define initial aim to optimise levelling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1"/>
          <p:cNvSpPr/>
          <p:nvPr/>
        </p:nvSpPr>
        <p:spPr>
          <a:xfrm>
            <a:off x="257040" y="293760"/>
            <a:ext cx="867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lerance with load levelling to be 50m to 100m theoretical range (6.2.6.1.2) for both approval and C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Object 5" descr=""/>
          <p:cNvPicPr/>
          <p:nvPr/>
        </p:nvPicPr>
        <p:blipFill>
          <a:blip r:embed="rId1"/>
          <a:stretch/>
        </p:blipFill>
        <p:spPr>
          <a:xfrm>
            <a:off x="1979640" y="2816280"/>
            <a:ext cx="4235400" cy="1446120"/>
          </a:xfrm>
          <a:prstGeom prst="rect">
            <a:avLst/>
          </a:prstGeom>
          <a:ln w="0">
            <a:noFill/>
          </a:ln>
        </p:spPr>
      </p:pic>
      <p:pic>
        <p:nvPicPr>
          <p:cNvPr id="324" name="Object 3" descr=""/>
          <p:cNvPicPr/>
          <p:nvPr/>
        </p:nvPicPr>
        <p:blipFill>
          <a:blip r:embed="rId2"/>
          <a:stretch/>
        </p:blipFill>
        <p:spPr>
          <a:xfrm>
            <a:off x="1979640" y="4581360"/>
            <a:ext cx="4235400" cy="14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2"/>
          <p:cNvSpPr/>
          <p:nvPr/>
        </p:nvSpPr>
        <p:spPr>
          <a:xfrm>
            <a:off x="235080" y="1773360"/>
            <a:ext cx="3832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osal is shown expressed as 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itial aim is defined by regul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ighest permitted aim with levelling  unchanged at -0.5%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rresponds to a reduction in load levelling  tolerance for most cars of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60-7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"/>
          <p:cNvSpPr/>
          <p:nvPr/>
        </p:nvSpPr>
        <p:spPr>
          <a:xfrm>
            <a:off x="257040" y="293760"/>
            <a:ext cx="867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lerance with load levelling to be 50m to 100m theoretical range (6.2.6.1.2) for both approval and C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Object 4" descr=""/>
          <p:cNvPicPr/>
          <p:nvPr/>
        </p:nvPicPr>
        <p:blipFill>
          <a:blip r:embed="rId1"/>
          <a:stretch/>
        </p:blipFill>
        <p:spPr>
          <a:xfrm>
            <a:off x="4356000" y="1916280"/>
            <a:ext cx="44071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3"/>
          <p:cNvSpPr/>
          <p:nvPr/>
        </p:nvSpPr>
        <p:spPr>
          <a:xfrm>
            <a:off x="488880" y="293760"/>
            <a:ext cx="867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lerance with load lev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4"/>
          <p:cNvSpPr/>
          <p:nvPr/>
        </p:nvSpPr>
        <p:spPr>
          <a:xfrm>
            <a:off x="179280" y="5513400"/>
            <a:ext cx="889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consistently meet CoP  requirements, initial aim and levelling system need to be repeatable with a standard deviation of better than 0.1%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eatability of suspension system alone is not this g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"/>
          <p:cNvSpPr/>
          <p:nvPr/>
        </p:nvSpPr>
        <p:spPr>
          <a:xfrm>
            <a:off x="755640" y="2060640"/>
            <a:ext cx="1851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xample for 650mm high passenger car headla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92" descr=""/>
          <p:cNvPicPr/>
          <p:nvPr/>
        </p:nvPicPr>
        <p:blipFill>
          <a:blip r:embed="rId1"/>
          <a:srcRect l="0" t="18254" r="0" b="9903"/>
          <a:stretch/>
        </p:blipFill>
        <p:spPr>
          <a:xfrm>
            <a:off x="2801880" y="836640"/>
            <a:ext cx="558648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Box 2"/>
          <p:cNvSpPr/>
          <p:nvPr/>
        </p:nvSpPr>
        <p:spPr>
          <a:xfrm>
            <a:off x="395280" y="404640"/>
            <a:ext cx="828036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.2.6.1.3 requires that if, under loading conditions of Annex 5, aim falls above the 100m range, glare must be measured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assessing the glare with the headlamp aimed as it would be under Annex 5 load conditions. Measurement to take place during headlamp type approval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ut at time of headlamp Type Approval, R48 inspection has not taken place, so the aim of the headlamp under Annex 5 conditions is not known.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Box 1"/>
          <p:cNvSpPr/>
          <p:nvPr/>
        </p:nvSpPr>
        <p:spPr>
          <a:xfrm>
            <a:off x="684360" y="549360"/>
            <a:ext cx="732132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letion of 2000lm requ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urrent regulation para 6.2.9 prohibits the use of para 6.2.2.2 manual levelling option with LED or &gt;2000lm ligh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posal deletes this prohibi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vided that 50-100m theoretical range can be achieved by manual levelling, manual levelling would be permissible for any headlamp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TB working group is currently reviewing visibility and glare: it would be better to await their outc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1"/>
          <p:cNvSpPr/>
          <p:nvPr/>
        </p:nvSpPr>
        <p:spPr>
          <a:xfrm>
            <a:off x="822240" y="549360"/>
            <a:ext cx="7321680" cy="34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arning message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f theoretical range under Annex 5 loading conditions falls below 50m but above 25m, a warning notice is to be placed in the car, declaring the minimum theoretical range as a minimum ”visibility distan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Visibility distance does not correlate directly with theoretical range (see above).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Box 5"/>
          <p:cNvSpPr/>
          <p:nvPr/>
        </p:nvSpPr>
        <p:spPr>
          <a:xfrm>
            <a:off x="468360" y="907920"/>
            <a:ext cx="813600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103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GRE/2012/21 proposed changes to ECE R48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1 of 3)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103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redefine the initial aim and static load-levelling requirements of dip beam headlamps in terms of theoretical range on the road rather than the current % downward inclinatio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nclu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2440" indent="-171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defining the aim point will raise the aim for most passenger car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is may not give the desired visibility rang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2440" indent="-171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o prevent this causing increased glare, aiming and levelling tolerances must be tighte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2440" indent="-171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171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dustry needs aiming and levelling capability data to identify if this tolerance tightening is practic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1717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457200" y="2421000"/>
            <a:ext cx="7786800" cy="62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58ed5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Box 5"/>
          <p:cNvSpPr/>
          <p:nvPr/>
        </p:nvSpPr>
        <p:spPr>
          <a:xfrm>
            <a:off x="611280" y="2349360"/>
            <a:ext cx="7848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E/2012/27 proposes changes to ECE R48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 improve the minimum range of visibility, and to replace the artificial 2000lm limit for automatic levelling with more appropriate glare contro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5"/>
          <p:cNvSpPr/>
          <p:nvPr/>
        </p:nvSpPr>
        <p:spPr>
          <a:xfrm>
            <a:off x="911160" y="863640"/>
            <a:ext cx="7848720" cy="54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posed chan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o redefine the initial aim and static load-levelling requirements of dip beam cut-off in terms of theoretical range on the road rather than the current % downward incli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o reduce aiming tolerance, and delete the additional aiming tolerance in CoP, aligning it with the approval requirement.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o add a requirement to measure glare values in loaded   conditions as part of both Type Approval and CoP, if the resultant aim falls outside permitted toler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o delete the reference to 2000lm as a threshold for automatic levelling.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o add a visible warning to the driver, defining what is the minimum visibility distance, if theoretical range is less than 50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1"/>
          <p:cNvSpPr/>
          <p:nvPr/>
        </p:nvSpPr>
        <p:spPr>
          <a:xfrm>
            <a:off x="324000" y="950760"/>
            <a:ext cx="86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posed Initial nominal aim to correspond to  75m theoretical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"/>
          <p:cNvPicPr/>
          <p:nvPr/>
        </p:nvPicPr>
        <p:blipFill>
          <a:blip r:embed="rId1"/>
          <a:stretch/>
        </p:blipFill>
        <p:spPr>
          <a:xfrm>
            <a:off x="108000" y="1989000"/>
            <a:ext cx="8399520" cy="2430720"/>
          </a:xfrm>
          <a:prstGeom prst="rect">
            <a:avLst/>
          </a:prstGeom>
          <a:ln w="0">
            <a:noFill/>
          </a:ln>
        </p:spPr>
      </p:pic>
      <p:sp>
        <p:nvSpPr>
          <p:cNvPr id="265" name="TextBox 7"/>
          <p:cNvSpPr/>
          <p:nvPr/>
        </p:nvSpPr>
        <p:spPr>
          <a:xfrm>
            <a:off x="611280" y="4149720"/>
            <a:ext cx="683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ed % inclination is ( Headlamp height / 75 ) as a %, rounded to nearest 0.1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2"/>
          <p:cNvSpPr/>
          <p:nvPr/>
        </p:nvSpPr>
        <p:spPr>
          <a:xfrm>
            <a:off x="571680" y="1844640"/>
            <a:ext cx="7130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rently: initial aim is specified by the manufacturer, within permitted limits dependent on lamp height. Height bands overlap for toler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8"/>
          <p:cNvSpPr/>
          <p:nvPr/>
        </p:nvSpPr>
        <p:spPr>
          <a:xfrm>
            <a:off x="571680" y="37296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posed Initial nominal aim to correspond to  75m theoretical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124000" y="3284640"/>
          <a:ext cx="3816360" cy="1190520"/>
        </p:xfrm>
        <a:graphic>
          <a:graphicData uri="http://schemas.openxmlformats.org/drawingml/2006/table">
            <a:tbl>
              <a:tblPr/>
              <a:tblGrid>
                <a:gridCol w="1152720"/>
                <a:gridCol w="1079280"/>
                <a:gridCol w="1584360"/>
              </a:tblGrid>
              <a:tr h="3967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 he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 he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d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% to 1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% to 2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Box 2"/>
          <p:cNvSpPr/>
          <p:nvPr/>
        </p:nvSpPr>
        <p:spPr>
          <a:xfrm>
            <a:off x="250920" y="134136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 propos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 overlap between height b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ost headlamps would be aimed higher than at 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isks increased gl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8"/>
          <p:cNvSpPr/>
          <p:nvPr/>
        </p:nvSpPr>
        <p:spPr>
          <a:xfrm>
            <a:off x="571680" y="37296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posed Initial nominal aim to correspond to  75m theoretical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Object 3" descr=""/>
          <p:cNvPicPr/>
          <p:nvPr/>
        </p:nvPicPr>
        <p:blipFill>
          <a:blip r:embed="rId1"/>
          <a:stretch/>
        </p:blipFill>
        <p:spPr>
          <a:xfrm>
            <a:off x="1184400" y="2852640"/>
            <a:ext cx="3311280" cy="3405240"/>
          </a:xfrm>
          <a:prstGeom prst="rect">
            <a:avLst/>
          </a:prstGeom>
          <a:ln w="0">
            <a:noFill/>
          </a:ln>
        </p:spPr>
      </p:pic>
      <p:sp>
        <p:nvSpPr>
          <p:cNvPr id="272" name="TextBox 5"/>
          <p:cNvSpPr/>
          <p:nvPr/>
        </p:nvSpPr>
        <p:spPr>
          <a:xfrm>
            <a:off x="4172040" y="3284640"/>
            <a:ext cx="3057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030a0"/>
                </a:solidFill>
                <a:latin typeface="Arial"/>
                <a:ea typeface="Arial"/>
              </a:rPr>
              <a:t>&lt;sports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&lt; normal family c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84807"/>
                </a:solidFill>
                <a:latin typeface="Arial"/>
                <a:ea typeface="Arial"/>
              </a:rPr>
              <a:t>&lt;  van/S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Box 5"/>
          <p:cNvSpPr/>
          <p:nvPr/>
        </p:nvSpPr>
        <p:spPr>
          <a:xfrm>
            <a:off x="911160" y="863640"/>
            <a:ext cx="7848720" cy="48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oretical Range vs. real vi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s Theoretical Range a good measure of real visibility range?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IE TC4-45 generated a way to measure visibility range: it is significantly more complicated than simply the cut-off intersection, but correlates well with human perce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following examples are taken from the CIE TC4-45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wo similar R98 headlamps, with similar mounting heights (715mm, 717m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oth are aimed at 1.0% down. This is  the same value of aim that would apply under the proposal for these headlamp h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anges are calculated according to TC4-45 metho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18"/>
          <p:cNvGrpSpPr/>
          <p:nvPr/>
        </p:nvGrpSpPr>
        <p:grpSpPr>
          <a:xfrm>
            <a:off x="0" y="0"/>
            <a:ext cx="8440560" cy="6870600"/>
            <a:chOff x="0" y="0"/>
            <a:chExt cx="8440560" cy="6870600"/>
          </a:xfrm>
        </p:grpSpPr>
        <p:grpSp>
          <p:nvGrpSpPr>
            <p:cNvPr id="275" name="Group 16"/>
            <p:cNvGrpSpPr/>
            <p:nvPr/>
          </p:nvGrpSpPr>
          <p:grpSpPr>
            <a:xfrm>
              <a:off x="0" y="0"/>
              <a:ext cx="8440560" cy="6870600"/>
              <a:chOff x="0" y="0"/>
              <a:chExt cx="8440560" cy="6870600"/>
            </a:xfrm>
          </p:grpSpPr>
          <p:pic>
            <p:nvPicPr>
              <p:cNvPr id="276" name="Picture 2" descr="Porsche 911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8440560" cy="687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Rectangle 19"/>
              <p:cNvSpPr/>
              <p:nvPr/>
            </p:nvSpPr>
            <p:spPr>
              <a:xfrm>
                <a:off x="0" y="6453360"/>
                <a:ext cx="3090600" cy="404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8" name="Object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2300400" y="5630760"/>
                <a:ext cx="6140160" cy="122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9" name="Picture 22" descr=""/>
              <p:cNvPicPr/>
              <p:nvPr/>
            </p:nvPicPr>
            <p:blipFill>
              <a:blip r:embed="rId3"/>
              <a:stretch/>
            </p:blipFill>
            <p:spPr>
              <a:xfrm>
                <a:off x="298800" y="5229360"/>
                <a:ext cx="2492640" cy="31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0" name="Picture 26" descr=""/>
              <p:cNvPicPr/>
              <p:nvPr/>
            </p:nvPicPr>
            <p:blipFill>
              <a:blip r:embed="rId4"/>
              <a:stretch/>
            </p:blipFill>
            <p:spPr>
              <a:xfrm>
                <a:off x="1893240" y="907920"/>
                <a:ext cx="3922920" cy="371160"/>
              </a:xfrm>
              <a:prstGeom prst="rect">
                <a:avLst/>
              </a:prstGeom>
              <a:ln w="9360">
                <a:solidFill>
                  <a:srgbClr val="cc0000"/>
                </a:solidFill>
                <a:miter/>
              </a:ln>
            </p:spPr>
          </p:pic>
          <p:pic>
            <p:nvPicPr>
              <p:cNvPr id="281" name="Picture 30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0"/>
                <a:ext cx="49590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2" name="Picture 31" descr=""/>
              <p:cNvPicPr/>
              <p:nvPr/>
            </p:nvPicPr>
            <p:blipFill>
              <a:blip r:embed="rId6"/>
              <a:stretch/>
            </p:blipFill>
            <p:spPr>
              <a:xfrm>
                <a:off x="3169440" y="3800520"/>
                <a:ext cx="5271120" cy="182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3" name="Picture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3177000" y="3811680"/>
                <a:ext cx="1942920" cy="19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Text Box 38"/>
              <p:cNvSpPr/>
              <p:nvPr/>
            </p:nvSpPr>
            <p:spPr>
              <a:xfrm>
                <a:off x="231480" y="188640"/>
                <a:ext cx="3390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Calibri"/>
                  </a:rPr>
                  <a:t>Glare intensities plotted on screen located at 50m from C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41"/>
              <p:cNvSpPr/>
              <p:nvPr/>
            </p:nvSpPr>
            <p:spPr>
              <a:xfrm>
                <a:off x="3423240" y="4149720"/>
                <a:ext cx="4652640" cy="24624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Calibri"/>
                  </a:rPr>
                  <a:t>Illuminance values plotted on screen at 25m (0,0 is the Headlamp Optical Axi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6" name="Group 25"/>
              <p:cNvGrpSpPr/>
              <p:nvPr/>
            </p:nvGrpSpPr>
            <p:grpSpPr>
              <a:xfrm>
                <a:off x="197640" y="214200"/>
                <a:ext cx="3494880" cy="642960"/>
                <a:chOff x="197640" y="214200"/>
                <a:chExt cx="3494880" cy="642960"/>
              </a:xfrm>
            </p:grpSpPr>
            <p:cxnSp>
              <p:nvCxnSpPr>
                <p:cNvPr id="287" name="Straight Arrow Connector 17"/>
                <p:cNvCxnSpPr/>
                <p:nvPr/>
              </p:nvCxnSpPr>
              <p:spPr>
                <a:xfrm>
                  <a:off x="2109240" y="428040"/>
                  <a:ext cx="462600" cy="429480"/>
                </a:xfrm>
                <a:prstGeom prst="straightConnector1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sp>
              <p:nvSpPr>
                <p:cNvPr id="288" name="Rectangle 18"/>
                <p:cNvSpPr/>
                <p:nvPr/>
              </p:nvSpPr>
              <p:spPr>
                <a:xfrm>
                  <a:off x="197640" y="214200"/>
                  <a:ext cx="3494880" cy="214200"/>
                </a:xfrm>
                <a:prstGeom prst="rect">
                  <a:avLst/>
                </a:prstGeom>
                <a:noFill/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9" name="Text Box 43"/>
              <p:cNvSpPr/>
              <p:nvPr/>
            </p:nvSpPr>
            <p:spPr>
              <a:xfrm>
                <a:off x="298800" y="5516640"/>
                <a:ext cx="1594080" cy="398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Calibri"/>
                  </a:rPr>
                  <a:t>Illuminance values plotted on road surfac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9"/>
              <p:cNvSpPr/>
              <p:nvPr/>
            </p:nvSpPr>
            <p:spPr>
              <a:xfrm>
                <a:off x="6726240" y="3833640"/>
                <a:ext cx="593640" cy="285480"/>
              </a:xfrm>
              <a:prstGeom prst="rect">
                <a:avLst/>
              </a:prstGeom>
              <a:solidFill>
                <a:srgbClr val="f8f7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Rectangle 3"/>
            <p:cNvSpPr/>
            <p:nvPr/>
          </p:nvSpPr>
          <p:spPr>
            <a:xfrm>
              <a:off x="10800" y="214200"/>
              <a:ext cx="131760" cy="6357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3"/>
          <p:cNvGrpSpPr/>
          <p:nvPr/>
        </p:nvGrpSpPr>
        <p:grpSpPr>
          <a:xfrm>
            <a:off x="517680" y="1195560"/>
            <a:ext cx="8440560" cy="368280"/>
            <a:chOff x="517680" y="1195560"/>
            <a:chExt cx="8440560" cy="368280"/>
          </a:xfrm>
        </p:grpSpPr>
        <p:sp>
          <p:nvSpPr>
            <p:cNvPr id="293" name="Straight Connector 24"/>
            <p:cNvSpPr/>
            <p:nvPr/>
          </p:nvSpPr>
          <p:spPr>
            <a:xfrm>
              <a:off x="517680" y="1411560"/>
              <a:ext cx="8109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Box 25"/>
            <p:cNvSpPr/>
            <p:nvPr/>
          </p:nvSpPr>
          <p:spPr>
            <a:xfrm>
              <a:off x="8360280" y="1195560"/>
              <a:ext cx="59796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75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Rectangular Callout 26"/>
          <p:cNvSpPr/>
          <p:nvPr/>
        </p:nvSpPr>
        <p:spPr>
          <a:xfrm>
            <a:off x="7763040" y="189000"/>
            <a:ext cx="1063440" cy="718920"/>
          </a:xfrm>
          <a:prstGeom prst="wedgeRectCallout">
            <a:avLst>
              <a:gd name="adj1" fmla="val -227194"/>
              <a:gd name="adj2" fmla="val 131347"/>
            </a:avLst>
          </a:prstGeom>
          <a:solidFill>
            <a:srgbClr val="ffffff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60m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rward Vi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ular Callout 29"/>
          <p:cNvSpPr/>
          <p:nvPr/>
        </p:nvSpPr>
        <p:spPr>
          <a:xfrm>
            <a:off x="517680" y="2492280"/>
            <a:ext cx="1461960" cy="720720"/>
          </a:xfrm>
          <a:prstGeom prst="wedgeRectCallout">
            <a:avLst>
              <a:gd name="adj1" fmla="val 265532"/>
              <a:gd name="adj2" fmla="val -174291"/>
            </a:avLst>
          </a:prstGeom>
          <a:solidFill>
            <a:srgbClr val="ffffff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Low gradient through the cutoff  = less glare sensitivity to initial aiming toleranc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18"/>
          <p:cNvGrpSpPr/>
          <p:nvPr/>
        </p:nvGrpSpPr>
        <p:grpSpPr>
          <a:xfrm>
            <a:off x="0" y="-30240"/>
            <a:ext cx="8440560" cy="6870600"/>
            <a:chOff x="0" y="-30240"/>
            <a:chExt cx="8440560" cy="6870600"/>
          </a:xfrm>
        </p:grpSpPr>
        <p:grpSp>
          <p:nvGrpSpPr>
            <p:cNvPr id="298" name="Group 16"/>
            <p:cNvGrpSpPr/>
            <p:nvPr/>
          </p:nvGrpSpPr>
          <p:grpSpPr>
            <a:xfrm>
              <a:off x="0" y="-30240"/>
              <a:ext cx="8440560" cy="6870600"/>
              <a:chOff x="0" y="-30240"/>
              <a:chExt cx="8440560" cy="6870600"/>
            </a:xfrm>
          </p:grpSpPr>
          <p:pic>
            <p:nvPicPr>
              <p:cNvPr id="299" name="Picture 2" descr="Ford Focus"/>
              <p:cNvPicPr/>
              <p:nvPr/>
            </p:nvPicPr>
            <p:blipFill>
              <a:blip r:embed="rId1"/>
              <a:stretch/>
            </p:blipFill>
            <p:spPr>
              <a:xfrm>
                <a:off x="0" y="-30240"/>
                <a:ext cx="8440560" cy="687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Rectangle 18"/>
              <p:cNvSpPr/>
              <p:nvPr/>
            </p:nvSpPr>
            <p:spPr>
              <a:xfrm>
                <a:off x="0" y="6423120"/>
                <a:ext cx="3090600" cy="404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1" name="Object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2300400" y="5600520"/>
                <a:ext cx="6140160" cy="122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2" name="Picture 21" descr=""/>
              <p:cNvPicPr/>
              <p:nvPr/>
            </p:nvPicPr>
            <p:blipFill>
              <a:blip r:embed="rId3"/>
              <a:stretch/>
            </p:blipFill>
            <p:spPr>
              <a:xfrm>
                <a:off x="298800" y="5199120"/>
                <a:ext cx="2492640" cy="31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3" name="Picture 25" descr=""/>
              <p:cNvPicPr/>
              <p:nvPr/>
            </p:nvPicPr>
            <p:blipFill>
              <a:blip r:embed="rId4"/>
              <a:stretch/>
            </p:blipFill>
            <p:spPr>
              <a:xfrm>
                <a:off x="1893240" y="877680"/>
                <a:ext cx="3922920" cy="371160"/>
              </a:xfrm>
              <a:prstGeom prst="rect">
                <a:avLst/>
              </a:prstGeom>
              <a:ln w="9360">
                <a:solidFill>
                  <a:srgbClr val="cc0000"/>
                </a:solidFill>
                <a:miter/>
              </a:ln>
            </p:spPr>
          </p:pic>
          <p:pic>
            <p:nvPicPr>
              <p:cNvPr id="304" name="Picture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-30240"/>
                <a:ext cx="6841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5" name="Picture 31" descr=""/>
              <p:cNvPicPr/>
              <p:nvPr/>
            </p:nvPicPr>
            <p:blipFill>
              <a:blip r:embed="rId6"/>
              <a:stretch/>
            </p:blipFill>
            <p:spPr>
              <a:xfrm>
                <a:off x="3174120" y="3792600"/>
                <a:ext cx="5266440" cy="180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6" name="Picture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3177000" y="3792600"/>
                <a:ext cx="1942920" cy="19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Text Box 38"/>
              <p:cNvSpPr/>
              <p:nvPr/>
            </p:nvSpPr>
            <p:spPr>
              <a:xfrm>
                <a:off x="231480" y="158400"/>
                <a:ext cx="3390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Calibri"/>
                  </a:rPr>
                  <a:t>Glare intensities plotted on screen located at 50m from C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41"/>
              <p:cNvSpPr/>
              <p:nvPr/>
            </p:nvSpPr>
            <p:spPr>
              <a:xfrm>
                <a:off x="3423240" y="4119480"/>
                <a:ext cx="4652640" cy="24624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Calibri"/>
                  </a:rPr>
                  <a:t>Illuminance values plotted on screen at 25m (0,0 is the Headlamp Optical Axi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9" name="Group 25"/>
              <p:cNvGrpSpPr/>
              <p:nvPr/>
            </p:nvGrpSpPr>
            <p:grpSpPr>
              <a:xfrm>
                <a:off x="197640" y="183960"/>
                <a:ext cx="3494880" cy="642960"/>
                <a:chOff x="197640" y="183960"/>
                <a:chExt cx="3494880" cy="642960"/>
              </a:xfrm>
            </p:grpSpPr>
            <p:cxnSp>
              <p:nvCxnSpPr>
                <p:cNvPr id="310" name="Straight Arrow Connector 17"/>
                <p:cNvCxnSpPr/>
                <p:nvPr/>
              </p:nvCxnSpPr>
              <p:spPr>
                <a:xfrm>
                  <a:off x="2109240" y="397800"/>
                  <a:ext cx="462600" cy="429480"/>
                </a:xfrm>
                <a:prstGeom prst="straightConnector1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sp>
              <p:nvSpPr>
                <p:cNvPr id="311" name="Rectangle 18"/>
                <p:cNvSpPr/>
                <p:nvPr/>
              </p:nvSpPr>
              <p:spPr>
                <a:xfrm>
                  <a:off x="197640" y="183960"/>
                  <a:ext cx="3494880" cy="214200"/>
                </a:xfrm>
                <a:prstGeom prst="rect">
                  <a:avLst/>
                </a:prstGeom>
                <a:noFill/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2" name="Text Box 43"/>
              <p:cNvSpPr/>
              <p:nvPr/>
            </p:nvSpPr>
            <p:spPr>
              <a:xfrm>
                <a:off x="298800" y="5486400"/>
                <a:ext cx="1594080" cy="398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Calibri"/>
                  </a:rPr>
                  <a:t>Illuminance values plotted on road surfac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9"/>
              <p:cNvSpPr/>
              <p:nvPr/>
            </p:nvSpPr>
            <p:spPr>
              <a:xfrm>
                <a:off x="6726240" y="3827520"/>
                <a:ext cx="593640" cy="285480"/>
              </a:xfrm>
              <a:prstGeom prst="rect">
                <a:avLst/>
              </a:prstGeom>
              <a:solidFill>
                <a:srgbClr val="f8f7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Rectangle 3"/>
            <p:cNvSpPr/>
            <p:nvPr/>
          </p:nvSpPr>
          <p:spPr>
            <a:xfrm>
              <a:off x="10800" y="183960"/>
              <a:ext cx="131760" cy="6357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23"/>
          <p:cNvGrpSpPr/>
          <p:nvPr/>
        </p:nvGrpSpPr>
        <p:grpSpPr>
          <a:xfrm>
            <a:off x="517680" y="1228680"/>
            <a:ext cx="8440560" cy="368280"/>
            <a:chOff x="517680" y="1228680"/>
            <a:chExt cx="8440560" cy="368280"/>
          </a:xfrm>
        </p:grpSpPr>
        <p:sp>
          <p:nvSpPr>
            <p:cNvPr id="316" name="Straight Connector 24"/>
            <p:cNvSpPr/>
            <p:nvPr/>
          </p:nvSpPr>
          <p:spPr>
            <a:xfrm>
              <a:off x="517680" y="1444680"/>
              <a:ext cx="8109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Box 25"/>
            <p:cNvSpPr/>
            <p:nvPr/>
          </p:nvSpPr>
          <p:spPr>
            <a:xfrm>
              <a:off x="8360280" y="1228680"/>
              <a:ext cx="59796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75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Rectangular Callout 27"/>
          <p:cNvSpPr/>
          <p:nvPr/>
        </p:nvSpPr>
        <p:spPr>
          <a:xfrm>
            <a:off x="7763040" y="189000"/>
            <a:ext cx="1063440" cy="718920"/>
          </a:xfrm>
          <a:prstGeom prst="wedgeRectCallout">
            <a:avLst>
              <a:gd name="adj1" fmla="val -242648"/>
              <a:gd name="adj2" fmla="val 112245"/>
            </a:avLst>
          </a:prstGeom>
          <a:solidFill>
            <a:srgbClr val="ffffff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85m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rward Vi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ular Callout 29"/>
          <p:cNvSpPr/>
          <p:nvPr/>
        </p:nvSpPr>
        <p:spPr>
          <a:xfrm>
            <a:off x="430200" y="2392200"/>
            <a:ext cx="1463760" cy="935280"/>
          </a:xfrm>
          <a:prstGeom prst="wedgeRectCallout">
            <a:avLst>
              <a:gd name="adj1" fmla="val 279587"/>
              <a:gd name="adj2" fmla="val -145185"/>
            </a:avLst>
          </a:prstGeom>
          <a:solidFill>
            <a:srgbClr val="ffffff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igh gradient through the cutoff  = more glare sensitivity to initial aiming toler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1T11:10:16Z</dcterms:created>
  <dc:creator>lawrek</dc:creator>
  <dc:description/>
  <dc:language>en-US</dc:language>
  <cp:lastModifiedBy>Guichard</cp:lastModifiedBy>
  <cp:lastPrinted>2012-10-03T09:44:42Z</cp:lastPrinted>
  <dcterms:modified xsi:type="dcterms:W3CDTF">2012-10-12T14:48:23Z</dcterms:modified>
  <cp:revision>163</cp:revision>
  <dc:subject/>
  <dc:title>Slide 1</dc:title>
</cp:coreProperties>
</file>