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3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3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3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4666-4937-4168-BED3-AF0064863E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A8B8-9278-472C-BA2B-A8177FF16C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5D0-716D-47F9-A2F9-C836867840A5}" type="slidenum">
              <a:rPr b="0" lang="de-DE" sz="12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EC07-2D73-4555-82CE-FAE5ABE1BB79}" type="slidenum">
              <a:rPr b="0" lang="de-DE" sz="12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83F0-4D90-4AC0-9EDB-5D11CFC5B0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86B-D8A8-4EC5-B629-FF4DFBF9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5E3-E301-462D-9209-8FB22167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EB3A-D29D-4403-B465-3CB56952DD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929A1-B360-4B57-A537-8183037792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D873-161B-4E58-9280-8FFFF28D66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6271B-1875-4B26-8F03-51BEE98A3B4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12D5-A6E1-4C50-BEF6-4FD0CDDF01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2B6F0-3145-404E-8EF1-FAAAAB199E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7B65B-79B0-43B3-842E-60E424F0F5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01D0-AA77-46E6-B3AB-5BB1B628E3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10D1-6A2D-4ECB-AB1E-2FCA7EE57B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97A0A-8EDD-4CE2-84F4-DF2160F0B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061-1E05-46A4-AA4C-96398C82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56DF2-6618-42E3-A2BE-E177D3C26F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26FC8-1D43-41EA-B568-6618CE8931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BFD5C1-FFE8-4FAE-A871-0211513943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21574-73E6-40B0-8C70-5564C42AAC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FC81D-491A-43EF-B951-F4C4369A54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D0B83-5729-44E3-A174-A2E0C1E1A0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F63CB-9303-4D42-B6B9-147F8CE1651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0CA3B-5346-463B-929E-48DBDA9945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E3301-4390-4F52-AC1E-2382B09575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9F4CC-0C82-4519-8638-1D033725D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DAE-B8A5-4096-81E7-CCFA0E92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2926D-3F16-4B8A-BF9B-A1B2986EA8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58CE73-4F26-4A2A-AA4A-65FAD08F5F8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21E497-B3CB-4936-8D2D-87157B322F5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091581-894F-427E-A95D-4CD9F1EADA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58FCA-3760-46C2-A7FA-1DE3FD3A3B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BB48FE-45B6-486D-A6F4-75D0530193C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45E6C6-EF73-439E-AE05-30DCB642055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F303B7-9081-42E4-B747-0C1DFE0A2F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B9A3AB-ADEF-4452-B98D-CF9599FB24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F8565D-CCCE-40F9-9A03-78ADF650C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1B483-4BD6-432F-8283-D21D03FEEA3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BF868B-2ED5-455E-ADBD-5C80324227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3D5858-109C-4838-94BD-F87FE4AD6F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CA4386-C493-429E-8C60-CE60C8F8628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217E6-DBD6-47C0-8F1B-DC09D39F55E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17040-595F-4E5D-84C2-BA3DECE5DB5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179FD-2C6E-4441-B7A6-42344DA272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FEF4-D9BA-4A59-A7AE-8780D38C471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B964-9AB1-4063-9B60-C546C17836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9E012-81E5-4118-84DC-DE0ADAD1683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02EA3-35BA-4849-856E-E7CDA7605B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E36E4-75CD-45A7-8EE1-8349D1F2459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8982-3EE6-461A-AB69-AB28E8C6830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8F730-0F4C-415B-8295-33CC79397B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D5018-D7B7-4C95-9FF6-0A57C750C57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D45DB-C636-4C57-8215-67B36037B1B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37E5-6546-434B-84F2-82AA3226299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DACEDD-ADF9-424A-A220-9BEF49DB70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9A01E-544B-4FCB-9773-3EEA31EF24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DFB7C7-2CB0-40CC-AE45-E53A9142710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1A2AD-8D55-42B9-AADE-973BC11EEA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AF413C-F77C-4F5B-ADE3-30AB361D31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0BD63-21B8-4E47-9135-FEEA404E81B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56623-6599-4224-9306-76C16ABEC1D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98FC70-99E4-441C-ADA8-432240FEF62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FDBFE2-5541-4D32-9FEA-D5D9CA1AC1B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FC1DB-F896-48E4-A57E-C8CA0E4C4C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9C592B-C997-4B6F-80EF-50C8D1EB4B4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C3598-D0CD-42D0-88C7-FDB9C869917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C19CA4-588D-4BA7-B39C-00818A34100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F3299-42E2-49D3-AB2A-61602FD1F94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E86AC-0457-4589-AC4D-7598EEFFD0E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3FEDF-7132-4629-8EED-CC28FF664D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4C423-66A5-4B9A-A729-33064FC9963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13DE9-F1B6-4040-B35F-E76BB35CB09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DEEDC-BB6D-4DCD-859A-847A059566B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B4851-BF20-49DC-BA5B-C5A007F8DF9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21048-381A-4E6B-82B1-5EFDCB043D5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D8855-D736-47DA-AD82-E0684FE4E40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C194C-8944-472E-823C-91CCE229516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60B6A-F149-4FFE-9BEE-F7659A684C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2938D-A12B-4059-8DDF-D8254F28655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A1B78-3B3F-436C-995E-6FE6697FD38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F27F5-5DB3-4E9E-872A-E547985E1F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C4B67-8BF4-4E36-A76B-4B8905B2526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BE177-870E-429F-929E-2F0F59354FB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675F6-604F-41A7-B0CA-1E1DBD5CDA8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329D5-46E8-4057-A6BF-D11B6A4825A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D14E1-11A8-411A-9948-F23F24FBE23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FBDD6-B4C6-4CD6-BED3-47EF553F98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B0A04-CA89-43BF-9E9A-C5767A5968F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46CD6-2B99-4725-B53B-CC0849B8EB2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4D49A-E210-4356-B3AE-643D6B71B17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066BA-1FA9-448D-8F1C-6E6F9A7E2A8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9A45A-5FC0-4C96-BF1D-E2D7D5992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A7230-776D-40AD-BA48-8ADC091AB02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5A123-9427-422B-848F-C8D2070FA66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5455EC-F81A-4391-B21B-5395C7C0893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0A4948-EB22-4783-8AFB-D762D0D77BA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B519F0-464A-4C86-A707-962647D15BB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E0CCB0-D02B-4B45-BA51-61133D64AFE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F726BD-C72E-415E-B32C-2C8A50268B2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2FF6D6-ED38-4538-86D7-FF839D0717C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387BBD-D891-4AC9-B4C1-D8663018454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A71504-9A94-4E0D-9BE1-9CDAD6F2504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E09AD8-DA55-4B8D-AFF8-413D8A7155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C5772-5B17-42AE-BC91-2D0212EE4BD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7B20D5-64BC-4DB1-911E-D074039D696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E28349-0C19-4129-8962-409EC96F4C1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816F9-08B3-442A-8E0A-75ADECEE1B8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0CEF6-E7B7-4BDA-A2CC-88EF9BFE6E9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FB67F-65E7-4046-BD13-778CE03832F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DA66F-B6FE-45D0-B563-BE2BD6D9952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EA094-910F-4F2C-81DC-0A048411456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A7076-458E-4B97-BB6A-23B61E94A9E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06AF0-E2C3-464F-8B00-C9A6220FCD8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DA2F4-4164-4FDB-A08C-BA4BC51EF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4DE-E846-437E-84E6-05ED737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B9BE8-34F7-4862-9FD7-ACA27F7637B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CFFD6-CB72-489B-8CAA-E5066FA4FE5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55631-D608-4E4F-8BB6-F307F2AEFBD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10FB6-3BB3-4F07-AD5D-CFA21B9C23F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7636D-CAE6-494F-8AF4-720CE85711E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2F382-35C9-4177-A2B5-10A73EEC2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CDD90-9D12-4988-ACEA-FFDBB6440B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FBEFA-4351-420A-93D3-E84051EC86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4E78D-822D-4DEB-8311-8C26A5532D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2B414-09FA-46D4-913F-135D59FB61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739-786A-474F-86D6-0572E8C6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0065C9-B1FC-423B-B857-29905737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90E7B-EF45-4F72-A0ED-91437D55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97138-F259-4555-A8B9-BC00718F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E62-7C0C-4173-849D-46E66F20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84889-7077-4EAD-8839-3A33EC9B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3534E-3B90-4825-A10A-27D2CB43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7E0405-6AA2-417B-8142-C5A4EBCE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4F5F6-2B61-4D62-96A3-CF951FD1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5A0B17-EA9A-4511-A8BF-032FFEC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DD7EA-256D-4AAF-BC6D-7792F9DA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59A6C-DD53-492F-BF36-0960065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A51DC-6260-4FDC-A785-E3A7639B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00045-C786-48C7-9346-C169D0AC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8F9A3-3C36-45BC-BD0A-CFF57AA3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73D-10C7-4CD8-90DD-9D347656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CA4F3-40FC-4041-A125-FCAB0E6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70617-6025-40F3-849B-D7E07AB2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3CA1D3-B30C-4141-B909-BF0327D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D017C-AA4E-4BDD-A3A2-BAB79482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4C339-4E46-47F9-A11D-365F2039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2686B-7C20-4604-92EB-48148C2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B3C2E-9EE4-48A8-9E5E-7198CDF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38699-7D44-42D9-B8C3-3A7562F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AC5FC2-FE20-405D-8164-9EB38F09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F9920-C7F6-4F73-9187-E95FD471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E17-72F3-47B8-AB12-7BC89744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F83E5-4ADE-4FAA-9A19-86A09E71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CC5608-D09B-4271-84A5-67B3558F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62C63E-3463-4459-95C5-F3EAE986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F517F9-780D-49C6-9D48-D4FD0BDE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9AAA7-6AA6-40C9-8997-599119B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F906C8-7871-4638-9522-104DD6AB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A1BA4D-CC26-4F68-A910-A035D0DB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0958A2-E503-4AF9-B49D-13D96F3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7FA64A-3D0A-440D-AC0B-A39F0D9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9944C6-1FFF-4243-8240-C6C5598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9FA-53C0-4B09-84A2-12D49AB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676A2-9255-488E-BC3B-7DE11C27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1D5679-F9C7-4724-BE4B-F170E613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76D635-17D5-4F6F-835D-DA28474E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058-4E54-4942-9CE2-7EC60D4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F4FB66-5B0E-46E6-A672-89BA1C75D2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B6D556-89C9-4E63-905F-38A0AA774B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D194A0-CE52-409B-9668-17518994F0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268709-536E-4BD5-B5B2-9A14A38633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992A3C-1664-4583-834F-3B12FECF8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E93-2173-470C-A728-2C862438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876FBE-F7BB-415E-A03F-4915E1E65C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42E821-33A0-477D-A721-ED8D8D78D2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78EBE-5ABA-4A3F-B056-13E58AD647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01ABB-91E6-4AF6-A81C-B0E955AABD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911E8-38F4-494A-BB91-AF74E86EAE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716BD2-C406-4860-9E9A-3ED3258A47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878017-007F-400E-880D-ED202E60E0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FC601-4084-4431-A665-F12F42D3A14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1E69E-9DD9-4D1D-89D9-4ACE28E6CF3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C1AC8-F40F-485B-BAC3-8C3DFBBD3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67B7-2B0C-4546-B6AA-9DF6DD99FA4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19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0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822-BC8F-45BC-B7D5-D4EA924A87AF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21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2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7D9-6CB8-49D5-8E2E-7941993021EF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DE29-974A-40AF-AEDE-FD86DC079D1A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5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6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5A79-8547-401E-AFD3-BEFAA1D10D15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27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28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2F22-51DD-4D72-B5F9-D41C3A5BCF0C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9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0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FA30-C145-4532-8D2E-925D8EC4190A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31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32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9405-136F-4B59-A391-709CB1BE77C7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3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4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229-05B9-4ABD-848C-1ACFAB525857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527E-5C20-4183-ABF0-A3A92D931AC8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44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12"/>
          <p:cNvSpPr/>
          <p:nvPr/>
        </p:nvSpPr>
        <p:spPr>
          <a:xfrm>
            <a:off x="539640" y="3068640"/>
            <a:ext cx="8077320" cy="0"/>
          </a:xfrm>
          <a:prstGeom prst="line">
            <a:avLst/>
          </a:prstGeom>
          <a:ln w="9360">
            <a:solidFill>
              <a:srgbClr val="0d22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3"/>
          <p:cNvSpPr/>
          <p:nvPr/>
        </p:nvSpPr>
        <p:spPr>
          <a:xfrm>
            <a:off x="609480" y="6324480"/>
            <a:ext cx="468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OCIETY OF MOTOR MANUFACTURERS AND TRADERS LIM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8153280" y="63244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F0E656-3292-4871-9126-7E28EC5F5F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E253-79BF-4FFF-8277-8EF4E9FDA93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1"/>
          <p:cNvSpPr/>
          <p:nvPr/>
        </p:nvSpPr>
        <p:spPr>
          <a:xfrm>
            <a:off x="8153280" y="63244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3D527210-BC44-4334-AED7-DA1854D5D8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609480" y="6324480"/>
            <a:ext cx="468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OCIETY OF MOTOR MANUFACTURERS AND TRADERS LIM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4ADE-8F05-485F-BC93-091F45E5163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7"/>
          <p:cNvSpPr/>
          <p:nvPr/>
        </p:nvSpPr>
        <p:spPr>
          <a:xfrm>
            <a:off x="533520" y="3048120"/>
            <a:ext cx="8076960" cy="0"/>
          </a:xfrm>
          <a:prstGeom prst="line">
            <a:avLst/>
          </a:prstGeom>
          <a:ln w="9360">
            <a:solidFill>
              <a:srgbClr val="0d22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ED1B-5423-48E0-A584-838E02322C0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Daimler_Logotype_100_CO"/>
          <p:cNvPicPr/>
          <p:nvPr/>
        </p:nvPicPr>
        <p:blipFill>
          <a:blip r:embed="rId2"/>
          <a:stretch/>
        </p:blipFill>
        <p:spPr>
          <a:xfrm>
            <a:off x="2749680" y="838080"/>
            <a:ext cx="3643200" cy="493920"/>
          </a:xfrm>
          <a:prstGeom prst="rect">
            <a:avLst/>
          </a:prstGeom>
          <a:ln w="0">
            <a:noFill/>
          </a:ln>
        </p:spPr>
      </p:pic>
      <p:sp>
        <p:nvSpPr>
          <p:cNvPr id="249" name="Line 11"/>
          <p:cNvSpPr/>
          <p:nvPr/>
        </p:nvSpPr>
        <p:spPr>
          <a:xfrm>
            <a:off x="250920" y="2421000"/>
            <a:ext cx="8640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2"/>
          <p:cNvGrpSpPr/>
          <p:nvPr/>
        </p:nvGrpSpPr>
        <p:grpSpPr>
          <a:xfrm>
            <a:off x="412920" y="4497480"/>
            <a:ext cx="8051760" cy="601560"/>
            <a:chOff x="412920" y="4497480"/>
            <a:chExt cx="8051760" cy="601560"/>
          </a:xfrm>
        </p:grpSpPr>
        <p:pic>
          <p:nvPicPr>
            <p:cNvPr id="251" name="Picture 18" descr="Fuso"/>
            <p:cNvPicPr/>
            <p:nvPr/>
          </p:nvPicPr>
          <p:blipFill>
            <a:blip r:embed="rId3"/>
            <a:stretch/>
          </p:blipFill>
          <p:spPr>
            <a:xfrm>
              <a:off x="3946680" y="4518000"/>
              <a:ext cx="5871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9" descr="Freightliner"/>
            <p:cNvPicPr/>
            <p:nvPr/>
          </p:nvPicPr>
          <p:blipFill>
            <a:blip r:embed="rId4"/>
            <a:stretch/>
          </p:blipFill>
          <p:spPr>
            <a:xfrm>
              <a:off x="2430360" y="4724280"/>
              <a:ext cx="1008360" cy="2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0" descr="Western_Star"/>
            <p:cNvPicPr/>
            <p:nvPr/>
          </p:nvPicPr>
          <p:blipFill>
            <a:blip r:embed="rId5"/>
            <a:stretch/>
          </p:blipFill>
          <p:spPr>
            <a:xfrm>
              <a:off x="5108760" y="4568760"/>
              <a:ext cx="60300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1" descr="TBB"/>
            <p:cNvPicPr/>
            <p:nvPr/>
          </p:nvPicPr>
          <p:blipFill>
            <a:blip r:embed="rId6"/>
            <a:stretch/>
          </p:blipFill>
          <p:spPr>
            <a:xfrm>
              <a:off x="6276960" y="4668840"/>
              <a:ext cx="90648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38" descr="MB-a_claim00_L_p_4C"/>
            <p:cNvPicPr/>
            <p:nvPr/>
          </p:nvPicPr>
          <p:blipFill>
            <a:blip r:embed="rId7"/>
            <a:stretch/>
          </p:blipFill>
          <p:spPr>
            <a:xfrm>
              <a:off x="412920" y="4622760"/>
              <a:ext cx="159048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40" descr="BharatBenz Final Logo with brandmark"/>
            <p:cNvPicPr/>
            <p:nvPr/>
          </p:nvPicPr>
          <p:blipFill>
            <a:blip r:embed="rId8"/>
            <a:stretch/>
          </p:blipFill>
          <p:spPr>
            <a:xfrm>
              <a:off x="7569360" y="4497480"/>
              <a:ext cx="895320" cy="6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4"/>
          </p:nvPr>
        </p:nvSpPr>
        <p:spPr>
          <a:xfrm>
            <a:off x="250920" y="6308640"/>
            <a:ext cx="8642160" cy="287280"/>
          </a:xfrm>
          <a:prstGeom prst="rect">
            <a:avLst/>
          </a:prstGeom>
          <a:solidFill>
            <a:srgbClr val="263f6a"/>
          </a:solidFill>
          <a:ln w="0">
            <a:noFill/>
          </a:ln>
        </p:spPr>
        <p:txBody>
          <a:bodyPr lIns="144000" rIns="144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600" spc="-1" strike="noStrike">
                <a:solidFill>
                  <a:srgbClr val="ffffff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orpoS"/>
              </a:rPr>
              <a:t>TP/E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5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TP/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6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3705-5D83-4322-BE13-08BC516CCB31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Line 12"/>
          <p:cNvSpPr/>
          <p:nvPr/>
        </p:nvSpPr>
        <p:spPr>
          <a:xfrm>
            <a:off x="250920" y="593640"/>
            <a:ext cx="8672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ct val="108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rpoS"/>
              </a:rPr>
              <a:t>Depar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9744-0F37-40BB-90D6-F6769D503C2B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f7f7f"/>
                </a:solidFill>
                <a:latin typeface="Arial"/>
              </a:rPr>
              <a:t>Background information on GRE/2012/44 </a:t>
            </a:r>
            <a:r>
              <a:rPr b="1" lang="en-GB" sz="1800" spc="-1" strike="noStrike">
                <a:solidFill>
                  <a:srgbClr val="7f7f7f"/>
                </a:solidFill>
                <a:latin typeface="Arial"/>
              </a:rPr>
              <a:t>(E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148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Proposal for the 05 series of amendments of Regulation No.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000" y="3068640"/>
            <a:ext cx="8148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October 201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5292720" y="476280"/>
            <a:ext cx="3200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formal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-68-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68th GRE, 15-18 October 201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18(f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Image 1" descr="oica-logofinal"/>
          <p:cNvPicPr/>
          <p:nvPr/>
        </p:nvPicPr>
        <p:blipFill>
          <a:blip r:embed="rId1"/>
          <a:stretch/>
        </p:blipFill>
        <p:spPr>
          <a:xfrm>
            <a:off x="0" y="0"/>
            <a:ext cx="1914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oliennummernplatzhalter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4F4C-4BF8-4388-9FFC-E121CD0E1A72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95280" y="1542600"/>
            <a:ext cx="835344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ts val="1899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changes are based on the latest version of ECE-R10: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04 of amendments to regulation ECE-R10 (WP.29/2011/8 + para. 53) at last amended  by correction 1 (WP.29/2011/83) and correction 2 (WP.29/2011/129) and supplement 2 (WP.29/2012/66)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82520"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82520" indent="-1825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objective of series 04 was to extend the scope of the Regulation No. 10 to th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ing mode of electric vehic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82520"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82520" indent="-1825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objectives of the proposed series 05 are two types of amendments: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1079640"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1) Th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cope of the Regulation No. 10 to th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ing mode of involved charging component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A’s like on-board charger).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1079640"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2) Th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measurement setups and procedure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cordance with the latest IEC, ISO and CISPR standard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82520" indent="0">
              <a:lnSpc>
                <a:spcPts val="1899"/>
              </a:lnSpc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Objective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pic>
        <p:nvPicPr>
          <p:cNvPr id="721" name="Image 1" descr="oica-logofinal"/>
          <p:cNvPicPr/>
          <p:nvPr/>
        </p:nvPicPr>
        <p:blipFill>
          <a:blip r:embed="rId1"/>
          <a:stretch/>
        </p:blipFill>
        <p:spPr>
          <a:xfrm>
            <a:off x="7164360" y="0"/>
            <a:ext cx="1914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reeform 6"/>
          <p:cNvSpPr/>
          <p:nvPr/>
        </p:nvSpPr>
        <p:spPr>
          <a:xfrm rot="5400000">
            <a:off x="2057400" y="406080"/>
            <a:ext cx="1006560" cy="3641760"/>
          </a:xfrm>
          <a:custGeom>
            <a:avLst/>
            <a:gdLst/>
            <a:ahLst/>
            <a:rect l="l" t="t" r="r" b="b"/>
            <a:pathLst>
              <a:path w="800" h="2000">
                <a:moveTo>
                  <a:pt x="0" y="0"/>
                </a:moveTo>
                <a:lnTo>
                  <a:pt x="800" y="0"/>
                </a:lnTo>
                <a:lnTo>
                  <a:pt x="800" y="2000"/>
                </a:lnTo>
                <a:lnTo>
                  <a:pt x="0" y="2000"/>
                </a:lnTo>
              </a:path>
            </a:pathLst>
          </a:custGeom>
          <a:noFill/>
          <a:ln w="25560">
            <a:solidFill>
              <a:srgbClr val="d2d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12"/>
          <p:cNvSpPr/>
          <p:nvPr/>
        </p:nvSpPr>
        <p:spPr>
          <a:xfrm>
            <a:off x="808200" y="1384200"/>
            <a:ext cx="34858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Vehicle based t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12"/>
          <p:cNvSpPr/>
          <p:nvPr/>
        </p:nvSpPr>
        <p:spPr>
          <a:xfrm>
            <a:off x="808200" y="1851120"/>
            <a:ext cx="34858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1) Emission from vehicl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2) Immunity of vehic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739800" y="2835360"/>
            <a:ext cx="8209080" cy="414360"/>
          </a:xfrm>
          <a:prstGeom prst="rect">
            <a:avLst/>
          </a:prstGeom>
          <a:solidFill>
            <a:srgbClr val="d2d4d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-R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8"/>
          <p:cNvSpPr/>
          <p:nvPr/>
        </p:nvSpPr>
        <p:spPr>
          <a:xfrm flipH="1" flipV="1" rot="5400000">
            <a:off x="956520" y="3162960"/>
            <a:ext cx="3217680" cy="3632400"/>
          </a:xfrm>
          <a:custGeom>
            <a:avLst/>
            <a:gdLst/>
            <a:ahLst/>
            <a:rect l="l" t="t" r="r" b="b"/>
            <a:pathLst>
              <a:path w="800" h="2000">
                <a:moveTo>
                  <a:pt x="0" y="0"/>
                </a:moveTo>
                <a:lnTo>
                  <a:pt x="800" y="0"/>
                </a:lnTo>
                <a:lnTo>
                  <a:pt x="800" y="2000"/>
                </a:lnTo>
                <a:lnTo>
                  <a:pt x="0" y="2000"/>
                </a:lnTo>
              </a:path>
            </a:pathLst>
          </a:custGeom>
          <a:noFill/>
          <a:ln w="25560">
            <a:solidFill>
              <a:srgbClr val="d2d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12"/>
          <p:cNvSpPr/>
          <p:nvPr/>
        </p:nvSpPr>
        <p:spPr>
          <a:xfrm>
            <a:off x="808200" y="3452760"/>
            <a:ext cx="348588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1) Emission from veh. in charg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2) Immunity of veh. in charg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3) Emission from AC/DC power lines in charg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4) Emission from veh. telecom. network of charging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5) Immunity of veh. on AC/DC power lines in charg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12"/>
          <p:cNvSpPr/>
          <p:nvPr/>
        </p:nvSpPr>
        <p:spPr>
          <a:xfrm>
            <a:off x="5389560" y="1427040"/>
            <a:ext cx="346068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Component (ESA) based t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12"/>
          <p:cNvSpPr/>
          <p:nvPr/>
        </p:nvSpPr>
        <p:spPr>
          <a:xfrm>
            <a:off x="5389560" y="1851120"/>
            <a:ext cx="34606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1) Emission from ES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2) Immunity of ES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"/>
          <p:cNvSpPr/>
          <p:nvPr/>
        </p:nvSpPr>
        <p:spPr>
          <a:xfrm rot="5400000">
            <a:off x="6622200" y="403560"/>
            <a:ext cx="1006560" cy="3646800"/>
          </a:xfrm>
          <a:custGeom>
            <a:avLst/>
            <a:gdLst/>
            <a:ahLst/>
            <a:rect l="l" t="t" r="r" b="b"/>
            <a:pathLst>
              <a:path w="800" h="2000">
                <a:moveTo>
                  <a:pt x="0" y="0"/>
                </a:moveTo>
                <a:lnTo>
                  <a:pt x="800" y="0"/>
                </a:lnTo>
                <a:lnTo>
                  <a:pt x="800" y="2000"/>
                </a:lnTo>
                <a:lnTo>
                  <a:pt x="0" y="2000"/>
                </a:lnTo>
              </a:path>
            </a:pathLst>
          </a:custGeom>
          <a:noFill/>
          <a:ln w="25560">
            <a:solidFill>
              <a:srgbClr val="d2d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6"/>
          <p:cNvSpPr/>
          <p:nvPr/>
        </p:nvSpPr>
        <p:spPr>
          <a:xfrm flipH="1" flipV="1" rot="5400000">
            <a:off x="5509440" y="3162960"/>
            <a:ext cx="3217680" cy="3632400"/>
          </a:xfrm>
          <a:custGeom>
            <a:avLst/>
            <a:gdLst/>
            <a:ahLst/>
            <a:rect l="l" t="t" r="r" b="b"/>
            <a:pathLst>
              <a:path w="800" h="2000">
                <a:moveTo>
                  <a:pt x="0" y="0"/>
                </a:moveTo>
                <a:lnTo>
                  <a:pt x="800" y="0"/>
                </a:lnTo>
                <a:lnTo>
                  <a:pt x="800" y="2000"/>
                </a:lnTo>
                <a:lnTo>
                  <a:pt x="0" y="2000"/>
                </a:lnTo>
              </a:path>
            </a:pathLst>
          </a:custGeom>
          <a:noFill/>
          <a:ln w="25560">
            <a:solidFill>
              <a:srgbClr val="d2d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12"/>
          <p:cNvSpPr/>
          <p:nvPr/>
        </p:nvSpPr>
        <p:spPr>
          <a:xfrm>
            <a:off x="5389560" y="3452760"/>
            <a:ext cx="346068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1) Emission from ESA in charg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2) Immunity of ESA in charg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3) Emission from AC/DC power lines of ESA in charg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4) Emission from ESA telecom. network of charging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2480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5) Immunity of ESA on AC/DC  power lines in charging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12"/>
          <p:cNvSpPr/>
          <p:nvPr/>
        </p:nvSpPr>
        <p:spPr>
          <a:xfrm rot="16200000">
            <a:off x="-402480" y="1901160"/>
            <a:ext cx="1594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Normal operation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12"/>
          <p:cNvSpPr/>
          <p:nvPr/>
        </p:nvSpPr>
        <p:spPr>
          <a:xfrm rot="16200000">
            <a:off x="-437400" y="4682520"/>
            <a:ext cx="16668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8000"/>
              </a:lnSpc>
              <a:spcAft>
                <a:spcPts val="887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PMingLiU"/>
              </a:rPr>
              <a:t>Charging operation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3"/>
          <p:cNvSpPr/>
          <p:nvPr/>
        </p:nvSpPr>
        <p:spPr>
          <a:xfrm>
            <a:off x="739800" y="1724040"/>
            <a:ext cx="8209080" cy="10065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4"/>
          <p:cNvSpPr/>
          <p:nvPr/>
        </p:nvSpPr>
        <p:spPr>
          <a:xfrm rot="16200000">
            <a:off x="4500360" y="4894560"/>
            <a:ext cx="134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CE-R10.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5"/>
          <p:cNvSpPr/>
          <p:nvPr/>
        </p:nvSpPr>
        <p:spPr>
          <a:xfrm>
            <a:off x="749160" y="3370320"/>
            <a:ext cx="3632400" cy="32176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1"/>
          <p:cNvSpPr/>
          <p:nvPr/>
        </p:nvSpPr>
        <p:spPr>
          <a:xfrm>
            <a:off x="5302080" y="3370320"/>
            <a:ext cx="3632400" cy="32176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2"/>
          <p:cNvSpPr/>
          <p:nvPr/>
        </p:nvSpPr>
        <p:spPr>
          <a:xfrm rot="16200000">
            <a:off x="3844800" y="4881600"/>
            <a:ext cx="134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CE-R10.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3"/>
          <p:cNvSpPr/>
          <p:nvPr/>
        </p:nvSpPr>
        <p:spPr>
          <a:xfrm>
            <a:off x="4146840" y="1414440"/>
            <a:ext cx="1343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ECE-R10.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7"/>
          <p:cNvSpPr/>
          <p:nvPr/>
        </p:nvSpPr>
        <p:spPr>
          <a:xfrm flipH="1" rot="16200000">
            <a:off x="2428560" y="2607480"/>
            <a:ext cx="250920" cy="26172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263f6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9"/>
          <p:cNvSpPr/>
          <p:nvPr/>
        </p:nvSpPr>
        <p:spPr>
          <a:xfrm flipV="1" rot="16200000">
            <a:off x="2428560" y="3215520"/>
            <a:ext cx="252360" cy="261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263f6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5"/>
          <p:cNvSpPr/>
          <p:nvPr/>
        </p:nvSpPr>
        <p:spPr>
          <a:xfrm flipH="1" rot="16200000">
            <a:off x="6992640" y="2607480"/>
            <a:ext cx="250920" cy="261720"/>
          </a:xfrm>
          <a:custGeom>
            <a:avLst/>
            <a:gdLst>
              <a:gd name="textAreaLeft" fmla="*/ -360 w 250920"/>
              <a:gd name="textAreaRight" fmla="*/ 250920 w 25092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263f6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17"/>
          <p:cNvSpPr/>
          <p:nvPr/>
        </p:nvSpPr>
        <p:spPr>
          <a:xfrm flipV="1" rot="16200000">
            <a:off x="6992640" y="3215520"/>
            <a:ext cx="252360" cy="261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263f6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Rechteck 2" descr=""/>
          <p:cNvPicPr/>
          <p:nvPr/>
        </p:nvPicPr>
        <p:blipFill>
          <a:blip r:embed="rId1"/>
          <a:stretch/>
        </p:blipFill>
        <p:spPr>
          <a:xfrm>
            <a:off x="1962000" y="4535640"/>
            <a:ext cx="1251000" cy="981000"/>
          </a:xfrm>
          <a:prstGeom prst="rect">
            <a:avLst/>
          </a:prstGeom>
          <a:ln w="0">
            <a:noFill/>
          </a:ln>
        </p:spPr>
      </p:pic>
      <p:pic>
        <p:nvPicPr>
          <p:cNvPr id="746" name="Image 1" descr="oica-logofinal"/>
          <p:cNvPicPr/>
          <p:nvPr/>
        </p:nvPicPr>
        <p:blipFill>
          <a:blip r:embed="rId2"/>
          <a:stretch/>
        </p:blipFill>
        <p:spPr>
          <a:xfrm>
            <a:off x="7164360" y="0"/>
            <a:ext cx="1914480" cy="121932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Extensions of ECE-R10 to include charging system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liennummernplatzhalter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DDB3-98AB-499B-8B6F-69D30E224752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95280" y="729720"/>
            <a:ext cx="83534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Types of modifications</a:t>
            </a:r>
            <a:br>
              <a:rPr sz="2800"/>
            </a:br>
            <a:r>
              <a:rPr b="0" lang="en-US" sz="2200" spc="-1" strike="noStrike">
                <a:solidFill>
                  <a:srgbClr val="3f9ac9"/>
                </a:solidFill>
                <a:latin typeface="CorpoS"/>
              </a:rPr>
              <a:t>Type 1 – Amendments related to components in charging mode</a:t>
            </a:r>
            <a:endParaRPr b="1" lang="en-US" sz="22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39480" indent="-3394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ments related to components (ESA’s) in charging mod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added in paragraph 7.10 – 7.19 and accordingly in annexes 17 – 22.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graphs 7.10 – 7.14 &amp; 7.17 considering emissions from ESA’s in charging mode according to CISPR and IEC standards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graphs 7.15, 7.16 &amp; 7.18, 7.19 considering immunity of ESA’s in charging mode according to IEC and ISO standards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(limits) for the ESA’s have been overtake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vehicle test which are already defined in ECE-R10.04 (paragraph 7.2 – 7.9)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setups and procedures have been adjuste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a component test in the following points: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2" marL="799920" indent="-352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 operation state during the test was defined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2" marL="799920" indent="-352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hicle was replaced by the ESA and measurement setup has been adjusted accordingly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751" name="Image 1" descr="oica-logofinal"/>
          <p:cNvPicPr/>
          <p:nvPr/>
        </p:nvPicPr>
        <p:blipFill>
          <a:blip r:embed="rId1"/>
          <a:stretch/>
        </p:blipFill>
        <p:spPr>
          <a:xfrm>
            <a:off x="7164360" y="0"/>
            <a:ext cx="1914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Foliennummernplatzhalter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A2F-BA51-4EE4-9D93-FB1CB2F5C49F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158760" y="2205000"/>
          <a:ext cx="8877240" cy="3168720"/>
        </p:xfrm>
        <a:graphic>
          <a:graphicData uri="http://schemas.openxmlformats.org/drawingml/2006/table">
            <a:tbl>
              <a:tblPr/>
              <a:tblGrid>
                <a:gridCol w="4610160"/>
                <a:gridCol w="2136600"/>
                <a:gridCol w="2130480"/>
              </a:tblGrid>
              <a:tr h="5922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paragraph and requirement for 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ex with measurement proced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 stand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0. Specifications concerning broadband electromagneti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used by 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 annex 7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lready existing for ESA test acc. To R10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rding to CISPR 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1. Specifications concern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harmonics on AC power lines from 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annex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rding to IEC 61000-3-2 ,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C 61000-3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2. Specifications concern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voltage changes, voltage fluctuations and flicker on AC power lines from E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annex 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rding to IEC 61000-3-3 ,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C 61000-3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3. Specifications concern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radiofrequency conducted disturbances on AC or DC power lines from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annex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rding to CISPR 16-2-1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s according IEC 61000-6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4. Specifications concern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radiofrequency conducted disturbances on network and telecommunication access from 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annex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rding to CISPR 22; limits according IEC 61000-6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4" name="Image 1" descr="oica-logofinal"/>
          <p:cNvPicPr/>
          <p:nvPr/>
        </p:nvPicPr>
        <p:blipFill>
          <a:blip r:embed="rId1"/>
          <a:stretch/>
        </p:blipFill>
        <p:spPr>
          <a:xfrm>
            <a:off x="7164360" y="0"/>
            <a:ext cx="1914480" cy="1219320"/>
          </a:xfrm>
          <a:prstGeom prst="rect">
            <a:avLst/>
          </a:prstGeom>
          <a:ln w="0">
            <a:noFill/>
          </a:ln>
        </p:spPr>
      </p:pic>
      <p:sp>
        <p:nvSpPr>
          <p:cNvPr id="755" name="Text Placeholder 1"/>
          <p:cNvSpPr/>
          <p:nvPr/>
        </p:nvSpPr>
        <p:spPr>
          <a:xfrm>
            <a:off x="1177920" y="5754600"/>
            <a:ext cx="7786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8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f9ac9"/>
                </a:solidFill>
                <a:latin typeface="CorpoS"/>
              </a:rPr>
              <a:t>c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3840" y="729720"/>
            <a:ext cx="8353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Types of modifications</a:t>
            </a:r>
            <a:br>
              <a:rPr sz="2800"/>
            </a:br>
            <a:r>
              <a:rPr b="0" lang="en-US" sz="2200" spc="-1" strike="noStrike">
                <a:solidFill>
                  <a:srgbClr val="3f9ac9"/>
                </a:solidFill>
                <a:latin typeface="CorpoS"/>
              </a:rPr>
              <a:t>Type 1 - </a:t>
            </a:r>
            <a:r>
              <a:rPr b="0" lang="de-DE" sz="2200" spc="-1" strike="noStrike">
                <a:solidFill>
                  <a:srgbClr val="3f9ac9"/>
                </a:solidFill>
                <a:latin typeface="CorpoS"/>
              </a:rPr>
              <a:t>Overview of amendments for ESA‘s in charging mode  1/2</a:t>
            </a:r>
            <a:endParaRPr b="1" lang="en-US" sz="2200" spc="-1" strike="noStrike">
              <a:solidFill>
                <a:srgbClr val="3f9ac9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liennummernplatzhalter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1947-49E8-47D6-9E91-5E33D3A655C5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08000" y="2276640"/>
          <a:ext cx="8928000" cy="3456000"/>
        </p:xfrm>
        <a:graphic>
          <a:graphicData uri="http://schemas.openxmlformats.org/drawingml/2006/table">
            <a:tbl>
              <a:tblPr/>
              <a:tblGrid>
                <a:gridCol w="4635360"/>
                <a:gridCol w="2149560"/>
                <a:gridCol w="2143080"/>
              </a:tblGrid>
              <a:tr h="6476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paragraph and requirement for 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ex with measurement proced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ed stand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5. Specifications concerning th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ESAs to electrical fast transient/burst disturbances conducted along AC and DC power 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annex 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rding to IEC 61000-4-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6. Specifications concerning th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ESAs to surge conducted along AC or DC power 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annex 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rding to IEC 61000-4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7. Specifications concerning th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transient conducted disturbances generated by ESAs on 12/ 24 V supply 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 annex 10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lready existing for ESA test acc. To R10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7637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8. Specifications concern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ESAs to electromagnetic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 annex 9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lready existing for ESA test acc. To R10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11452-2 (ALSE),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11452-4 (B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9. Specifications concerning th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ESAs to transient disturbances conducted along 12/ 24 V supply li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 annex 10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lready existing for ESA test acc. To R10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7637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9" name="Image 1" descr="oica-logofinal"/>
          <p:cNvPicPr/>
          <p:nvPr/>
        </p:nvPicPr>
        <p:blipFill>
          <a:blip r:embed="rId1"/>
          <a:stretch/>
        </p:blipFill>
        <p:spPr>
          <a:xfrm>
            <a:off x="7164360" y="0"/>
            <a:ext cx="1914480" cy="121932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3840" y="729720"/>
            <a:ext cx="8353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Types of modifications</a:t>
            </a:r>
            <a:br>
              <a:rPr sz="2800"/>
            </a:br>
            <a:r>
              <a:rPr b="0" lang="en-US" sz="2200" spc="-1" strike="noStrike">
                <a:solidFill>
                  <a:srgbClr val="3f9ac9"/>
                </a:solidFill>
                <a:latin typeface="CorpoS"/>
              </a:rPr>
              <a:t>Type 1 - </a:t>
            </a:r>
            <a:r>
              <a:rPr b="0" lang="de-DE" sz="2200" spc="-1" strike="noStrike">
                <a:solidFill>
                  <a:srgbClr val="3f9ac9"/>
                </a:solidFill>
                <a:latin typeface="CorpoS"/>
              </a:rPr>
              <a:t>Overview of amendments for ESA‘s in charging mode  2/2</a:t>
            </a:r>
            <a:endParaRPr b="1" lang="en-US" sz="2200" spc="-1" strike="noStrike">
              <a:solidFill>
                <a:srgbClr val="3f9ac9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729720"/>
            <a:ext cx="83534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Types of modifications</a:t>
            </a:r>
            <a:br>
              <a:rPr sz="2800"/>
            </a:br>
            <a:r>
              <a:rPr b="0" lang="en-US" sz="2200" spc="-1" strike="noStrike">
                <a:solidFill>
                  <a:srgbClr val="3f9ac9"/>
                </a:solidFill>
                <a:latin typeface="CorpoS"/>
              </a:rPr>
              <a:t>Type 2 – Amendments related to vehicles in charging mode</a:t>
            </a:r>
            <a:endParaRPr b="1" lang="en-US" sz="22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39480" indent="-33948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related to vehicles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ing mod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ling with more accurate description, editorial corrections and updated version of referenced standards, are: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f definitions (e.g. RESS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ESS)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on of test procedure regarding the used charging cabl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ation of “artificial network” for test setups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recise definition for surge test method added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f chapter “exceptions”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f references to standards, figures and tables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ment of transitional provisions and information document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on of measurement setups for vehicles and ESA’s in charging mode for several annexes (SOC condition, position of charging station / power mains / artificial network / impedance stabilisation / power charging / communication cable, adjustment of spectrum analyser- / receiver )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691200" indent="-339120">
              <a:lnSpc>
                <a:spcPct val="90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f all relevant figures for vehicles and ESA’s in charging mod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339480" indent="-339480">
              <a:lnSpc>
                <a:spcPct val="108000"/>
              </a:lnSpc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63" name="Foliennummernplatzhalter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CA61-AA56-4242-A7E4-4A589D58F877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Image 1" descr="oica-logofinal"/>
          <p:cNvPicPr/>
          <p:nvPr/>
        </p:nvPicPr>
        <p:blipFill>
          <a:blip r:embed="rId1"/>
          <a:stretch/>
        </p:blipFill>
        <p:spPr>
          <a:xfrm>
            <a:off x="7164360" y="0"/>
            <a:ext cx="1914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77868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Image 1" descr="oica-logofinal"/>
          <p:cNvPicPr/>
          <p:nvPr/>
        </p:nvPicPr>
        <p:blipFill>
          <a:blip r:embed="rId1"/>
          <a:stretch/>
        </p:blipFill>
        <p:spPr>
          <a:xfrm>
            <a:off x="7164360" y="0"/>
            <a:ext cx="1914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0:16Z</dcterms:created>
  <dc:creator>lawrek</dc:creator>
  <dc:description/>
  <dc:language>en-US</dc:language>
  <cp:lastModifiedBy>Guichard</cp:lastModifiedBy>
  <cp:lastPrinted>2012-10-03T09:44:42Z</cp:lastPrinted>
  <dcterms:modified xsi:type="dcterms:W3CDTF">2012-10-12T13:04:15Z</dcterms:modified>
  <cp:revision>176</cp:revision>
  <dc:subject/>
  <dc:title>Slide 1</dc:title>
</cp:coreProperties>
</file>