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</p:sldIdLst>
  <p:sldSz cx="9144000" cy="6858000"/>
  <p:notesSz cx="6710363" cy="9845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0" y="0"/>
            <a:ext cx="6710400" cy="984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dt" idx="16"/>
          </p:nvPr>
        </p:nvSpPr>
        <p:spPr>
          <a:xfrm>
            <a:off x="38098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sldImg"/>
          </p:nvPr>
        </p:nvSpPr>
        <p:spPr>
          <a:xfrm>
            <a:off x="914040" y="762120"/>
            <a:ext cx="487692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 type="body"/>
          </p:nvPr>
        </p:nvSpPr>
        <p:spPr>
          <a:xfrm>
            <a:off x="914040" y="4648320"/>
            <a:ext cx="4876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 type="ftr" idx="17"/>
          </p:nvPr>
        </p:nvSpPr>
        <p:spPr>
          <a:xfrm>
            <a:off x="-360" y="9372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 type="sldNum" idx="18"/>
          </p:nvPr>
        </p:nvSpPr>
        <p:spPr>
          <a:xfrm>
            <a:off x="3809880" y="93726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C3933-7978-4DE2-BFCA-84B0C44031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893880" y="738360"/>
            <a:ext cx="4924440" cy="369252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914040" y="4648320"/>
            <a:ext cx="48769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Slide Number Placeholder 3"/>
          <p:cNvSpPr/>
          <p:nvPr/>
        </p:nvSpPr>
        <p:spPr>
          <a:xfrm>
            <a:off x="3809880" y="93726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fld id="{BFB2C977-B220-4D85-A19C-99D7B0FF5D0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893880" y="736560"/>
            <a:ext cx="4924440" cy="369252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914040" y="4648320"/>
            <a:ext cx="48769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Slide Number Placeholder 3"/>
          <p:cNvSpPr/>
          <p:nvPr/>
        </p:nvSpPr>
        <p:spPr>
          <a:xfrm>
            <a:off x="3801960" y="9350280"/>
            <a:ext cx="29084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57A77-179C-4AB9-810C-DD1F269E7A5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893880" y="738360"/>
            <a:ext cx="4924440" cy="369252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14040" y="4648320"/>
            <a:ext cx="48769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Slide Number Placeholder 3"/>
          <p:cNvSpPr/>
          <p:nvPr/>
        </p:nvSpPr>
        <p:spPr>
          <a:xfrm>
            <a:off x="3809880" y="93726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fld id="{6AFAFC85-3D5F-47AC-B2D5-4C8A400C964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893880" y="738360"/>
            <a:ext cx="4924440" cy="369252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914040" y="4648320"/>
            <a:ext cx="48769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Slide Number Placeholder 3"/>
          <p:cNvSpPr/>
          <p:nvPr/>
        </p:nvSpPr>
        <p:spPr>
          <a:xfrm>
            <a:off x="3809880" y="93726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fld id="{63552F27-AD21-49EE-9D52-BC4A7B48102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893880" y="738360"/>
            <a:ext cx="4924440" cy="369252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914040" y="4648320"/>
            <a:ext cx="48769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Slide Number Placeholder 3"/>
          <p:cNvSpPr/>
          <p:nvPr/>
        </p:nvSpPr>
        <p:spPr>
          <a:xfrm>
            <a:off x="3809880" y="93726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fld id="{27AF4950-3E69-4D4F-B512-A0CBDCC2D28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893880" y="738360"/>
            <a:ext cx="4924440" cy="369252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14040" y="4648320"/>
            <a:ext cx="48769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Slide Number Placeholder 3"/>
          <p:cNvSpPr/>
          <p:nvPr/>
        </p:nvSpPr>
        <p:spPr>
          <a:xfrm>
            <a:off x="3809880" y="93726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fld id="{67164BA9-9B42-45BC-9596-6AB22222818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893880" y="738360"/>
            <a:ext cx="4924440" cy="369252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14040" y="4648320"/>
            <a:ext cx="48769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Slide Number Placeholder 3"/>
          <p:cNvSpPr/>
          <p:nvPr/>
        </p:nvSpPr>
        <p:spPr>
          <a:xfrm>
            <a:off x="3809880" y="93726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fld id="{BD79EFCA-FBF1-47E5-BD48-D6AC8B4AABC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893880" y="738360"/>
            <a:ext cx="4924440" cy="369252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14040" y="4648320"/>
            <a:ext cx="48769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Slide Number Placeholder 3"/>
          <p:cNvSpPr/>
          <p:nvPr/>
        </p:nvSpPr>
        <p:spPr>
          <a:xfrm>
            <a:off x="3809880" y="93726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fld id="{BAD1F00B-9558-42E7-8AC9-4606F6CD0E5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9521-5C1C-4A48-9D9F-E03790F62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CE35-42A5-4048-A1F1-21AC00E2C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07B4-1107-43F7-993C-0687454F0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FF33-979E-4175-A9EF-983E6294C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509C-3B0D-4FD1-8C3B-0C266F200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0459-6D39-4D18-A1AD-286A47F01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ADF4-2050-4B26-B16E-EE0AA66E8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A819-20FA-438D-9E65-D4C5ED65B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D470-D66F-40A6-B015-B8BE7FA4A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1887-2C2B-476E-A6C6-C417EFC3C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F9F4-16A8-49C0-83C2-8758EDE2B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1594-1F7E-423F-99C0-1E0F128A3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F4BE5-5EA1-47A1-B01F-4477342898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642600"/>
          </a:xfrm>
          <a:prstGeom prst="rect">
            <a:avLst/>
          </a:prstGeom>
          <a:gradFill rotWithShape="0">
            <a:gsLst>
              <a:gs pos="0">
                <a:srgbClr val="676668"/>
              </a:gs>
              <a:gs pos="50000">
                <a:srgbClr val="dedde0"/>
              </a:gs>
              <a:gs pos="100000">
                <a:srgbClr val="676668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250920" y="982800"/>
            <a:ext cx="8642160" cy="47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ftr" idx="11"/>
          </p:nvPr>
        </p:nvSpPr>
        <p:spPr>
          <a:xfrm>
            <a:off x="8532720" y="5702400"/>
            <a:ext cx="596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33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2E228-3D37-4908-82B4-B1DE7A0792D4}" type="slidenum">
              <a:rPr b="0" lang="en-US" sz="1400" spc="-1" strike="noStrike">
                <a:solidFill>
                  <a:srgbClr val="cc33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642600"/>
          </a:xfrm>
          <a:prstGeom prst="rect">
            <a:avLst/>
          </a:prstGeom>
          <a:gradFill rotWithShape="0">
            <a:gsLst>
              <a:gs pos="0">
                <a:srgbClr val="676668"/>
              </a:gs>
              <a:gs pos="50000">
                <a:srgbClr val="dedde0"/>
              </a:gs>
              <a:gs pos="100000">
                <a:srgbClr val="676668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250920" y="982800"/>
            <a:ext cx="8642160" cy="47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ftr" idx="12"/>
          </p:nvPr>
        </p:nvSpPr>
        <p:spPr>
          <a:xfrm>
            <a:off x="8532720" y="5702400"/>
            <a:ext cx="596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33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F408E-66A0-433F-911E-9DFF85F673A7}" type="slidenum">
              <a:rPr b="0" lang="en-US" sz="1400" spc="-1" strike="noStrike">
                <a:solidFill>
                  <a:srgbClr val="cc33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642600"/>
          </a:xfrm>
          <a:prstGeom prst="rect">
            <a:avLst/>
          </a:prstGeom>
          <a:gradFill rotWithShape="0">
            <a:gsLst>
              <a:gs pos="0">
                <a:srgbClr val="676668"/>
              </a:gs>
              <a:gs pos="50000">
                <a:srgbClr val="dedde0"/>
              </a:gs>
              <a:gs pos="100000">
                <a:srgbClr val="676668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250920" y="982800"/>
            <a:ext cx="8642160" cy="47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ftr" idx="13"/>
          </p:nvPr>
        </p:nvSpPr>
        <p:spPr>
          <a:xfrm>
            <a:off x="8532720" y="5702400"/>
            <a:ext cx="596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33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6A631-5894-4209-9632-EF30640B378D}" type="slidenum">
              <a:rPr b="0" lang="en-US" sz="1400" spc="-1" strike="noStrike">
                <a:solidFill>
                  <a:srgbClr val="cc33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642600"/>
          </a:xfrm>
          <a:prstGeom prst="rect">
            <a:avLst/>
          </a:prstGeom>
          <a:gradFill rotWithShape="0">
            <a:gsLst>
              <a:gs pos="0">
                <a:srgbClr val="676668"/>
              </a:gs>
              <a:gs pos="50000">
                <a:srgbClr val="dedde0"/>
              </a:gs>
              <a:gs pos="100000">
                <a:srgbClr val="676668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250920" y="982800"/>
            <a:ext cx="8642160" cy="47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ftr" idx="14"/>
          </p:nvPr>
        </p:nvSpPr>
        <p:spPr>
          <a:xfrm>
            <a:off x="8532720" y="5702400"/>
            <a:ext cx="596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33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9BA68-D414-419A-9432-CAD27F70C25E}" type="slidenum">
              <a:rPr b="0" lang="en-US" sz="1400" spc="-1" strike="noStrike">
                <a:solidFill>
                  <a:srgbClr val="cc33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642600"/>
          </a:xfrm>
          <a:prstGeom prst="rect">
            <a:avLst/>
          </a:prstGeom>
          <a:gradFill rotWithShape="0">
            <a:gsLst>
              <a:gs pos="0">
                <a:srgbClr val="676668"/>
              </a:gs>
              <a:gs pos="50000">
                <a:srgbClr val="dedde0"/>
              </a:gs>
              <a:gs pos="100000">
                <a:srgbClr val="676668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50920" y="982800"/>
            <a:ext cx="8642160" cy="47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ftr" idx="15"/>
          </p:nvPr>
        </p:nvSpPr>
        <p:spPr>
          <a:xfrm>
            <a:off x="8532720" y="5702400"/>
            <a:ext cx="596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33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3D106-9DD7-473C-9F9A-0FE772D28CAF}" type="slidenum">
              <a:rPr b="0" lang="en-US" sz="1400" spc="-1" strike="noStrike">
                <a:solidFill>
                  <a:srgbClr val="cc33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642600"/>
          </a:xfrm>
          <a:prstGeom prst="rect">
            <a:avLst/>
          </a:prstGeom>
          <a:gradFill rotWithShape="0">
            <a:gsLst>
              <a:gs pos="0">
                <a:srgbClr val="676668"/>
              </a:gs>
              <a:gs pos="50000">
                <a:srgbClr val="dedde0"/>
              </a:gs>
              <a:gs pos="100000">
                <a:srgbClr val="676668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50920" y="982800"/>
            <a:ext cx="8642160" cy="47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8532720" y="5702400"/>
            <a:ext cx="596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33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62713-74C8-444E-9BD1-675A9496D8F3}" type="slidenum">
              <a:rPr b="0" lang="en-US" sz="1400" spc="-1" strike="noStrike">
                <a:solidFill>
                  <a:srgbClr val="cc33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642600"/>
          </a:xfrm>
          <a:prstGeom prst="rect">
            <a:avLst/>
          </a:prstGeom>
          <a:gradFill rotWithShape="0">
            <a:gsLst>
              <a:gs pos="0">
                <a:srgbClr val="676668"/>
              </a:gs>
              <a:gs pos="50000">
                <a:srgbClr val="dedde0"/>
              </a:gs>
              <a:gs pos="100000">
                <a:srgbClr val="676668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250920" y="982800"/>
            <a:ext cx="8642160" cy="47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ftr" idx="5"/>
          </p:nvPr>
        </p:nvSpPr>
        <p:spPr>
          <a:xfrm>
            <a:off x="8532720" y="5702400"/>
            <a:ext cx="596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33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8D9AA-D1F1-4047-8D41-C8A38AD88A26}" type="slidenum">
              <a:rPr b="0" lang="en-US" sz="1400" spc="-1" strike="noStrike">
                <a:solidFill>
                  <a:srgbClr val="cc33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642600"/>
          </a:xfrm>
          <a:prstGeom prst="rect">
            <a:avLst/>
          </a:prstGeom>
          <a:gradFill rotWithShape="0">
            <a:gsLst>
              <a:gs pos="0">
                <a:srgbClr val="676668"/>
              </a:gs>
              <a:gs pos="50000">
                <a:srgbClr val="dedde0"/>
              </a:gs>
              <a:gs pos="100000">
                <a:srgbClr val="676668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250920" y="982800"/>
            <a:ext cx="8642160" cy="47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ftr" idx="6"/>
          </p:nvPr>
        </p:nvSpPr>
        <p:spPr>
          <a:xfrm>
            <a:off x="8532720" y="5702400"/>
            <a:ext cx="596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33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A6286-CE7E-40FB-83BB-A80D5338F555}" type="slidenum">
              <a:rPr b="0" lang="en-US" sz="1400" spc="-1" strike="noStrike">
                <a:solidFill>
                  <a:srgbClr val="cc33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642600"/>
          </a:xfrm>
          <a:prstGeom prst="rect">
            <a:avLst/>
          </a:prstGeom>
          <a:gradFill rotWithShape="0">
            <a:gsLst>
              <a:gs pos="0">
                <a:srgbClr val="676668"/>
              </a:gs>
              <a:gs pos="50000">
                <a:srgbClr val="dedde0"/>
              </a:gs>
              <a:gs pos="100000">
                <a:srgbClr val="676668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250920" y="982800"/>
            <a:ext cx="8642160" cy="47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ftr" idx="7"/>
          </p:nvPr>
        </p:nvSpPr>
        <p:spPr>
          <a:xfrm>
            <a:off x="8532720" y="5702400"/>
            <a:ext cx="596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33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295CF-92A1-403C-BF91-E88739F7A85C}" type="slidenum">
              <a:rPr b="0" lang="en-US" sz="1400" spc="-1" strike="noStrike">
                <a:solidFill>
                  <a:srgbClr val="cc33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642600"/>
          </a:xfrm>
          <a:prstGeom prst="rect">
            <a:avLst/>
          </a:prstGeom>
          <a:gradFill rotWithShape="0">
            <a:gsLst>
              <a:gs pos="0">
                <a:srgbClr val="676668"/>
              </a:gs>
              <a:gs pos="50000">
                <a:srgbClr val="dedde0"/>
              </a:gs>
              <a:gs pos="100000">
                <a:srgbClr val="676668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250920" y="982800"/>
            <a:ext cx="8642160" cy="47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ftr" idx="8"/>
          </p:nvPr>
        </p:nvSpPr>
        <p:spPr>
          <a:xfrm>
            <a:off x="8532720" y="5702400"/>
            <a:ext cx="596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33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2F9FA-3CB5-4635-9C65-67AE0C303A42}" type="slidenum">
              <a:rPr b="0" lang="en-US" sz="1400" spc="-1" strike="noStrike">
                <a:solidFill>
                  <a:srgbClr val="cc33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642600"/>
          </a:xfrm>
          <a:prstGeom prst="rect">
            <a:avLst/>
          </a:prstGeom>
          <a:gradFill rotWithShape="0">
            <a:gsLst>
              <a:gs pos="0">
                <a:srgbClr val="676668"/>
              </a:gs>
              <a:gs pos="50000">
                <a:srgbClr val="dedde0"/>
              </a:gs>
              <a:gs pos="100000">
                <a:srgbClr val="676668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250920" y="982800"/>
            <a:ext cx="8642160" cy="47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ftr" idx="9"/>
          </p:nvPr>
        </p:nvSpPr>
        <p:spPr>
          <a:xfrm>
            <a:off x="8532720" y="5702400"/>
            <a:ext cx="596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33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DA8E4-C29B-4D85-8187-8DE0793F0AD2}" type="slidenum">
              <a:rPr b="0" lang="en-US" sz="1400" spc="-1" strike="noStrike">
                <a:solidFill>
                  <a:srgbClr val="cc33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642600"/>
          </a:xfrm>
          <a:prstGeom prst="rect">
            <a:avLst/>
          </a:prstGeom>
          <a:gradFill rotWithShape="0">
            <a:gsLst>
              <a:gs pos="0">
                <a:srgbClr val="676668"/>
              </a:gs>
              <a:gs pos="50000">
                <a:srgbClr val="dedde0"/>
              </a:gs>
              <a:gs pos="100000">
                <a:srgbClr val="676668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250920" y="982800"/>
            <a:ext cx="8642160" cy="47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ftr" idx="10"/>
          </p:nvPr>
        </p:nvSpPr>
        <p:spPr>
          <a:xfrm>
            <a:off x="8532720" y="5702400"/>
            <a:ext cx="596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33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05033-D5A0-45E2-9C48-DF251F6FF7F5}" type="slidenum">
              <a:rPr b="0" lang="en-US" sz="1400" spc="-1" strike="noStrike">
                <a:solidFill>
                  <a:srgbClr val="cc33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19"/>
          <p:cNvSpPr/>
          <p:nvPr/>
        </p:nvSpPr>
        <p:spPr>
          <a:xfrm>
            <a:off x="214200" y="765000"/>
            <a:ext cx="6805800" cy="25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R59  :  AS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Rectangle 20"/>
          <p:cNvSpPr/>
          <p:nvPr/>
        </p:nvSpPr>
        <p:spPr>
          <a:xfrm>
            <a:off x="611280" y="4797360"/>
            <a:ext cx="820080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. Steenackers / R. Valgaer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 SEP 20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ZoneTexte 4"/>
          <p:cNvSpPr/>
          <p:nvPr/>
        </p:nvSpPr>
        <p:spPr>
          <a:xfrm>
            <a:off x="6162840" y="318960"/>
            <a:ext cx="23698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1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formal document</a:t>
            </a:r>
            <a:r>
              <a:rPr b="0" lang="en-TT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TT" sz="1100" spc="-1" strike="noStrike">
                <a:solidFill>
                  <a:srgbClr val="000000"/>
                </a:solidFill>
                <a:latin typeface="Arial"/>
                <a:ea typeface="Arial"/>
              </a:rPr>
              <a:t>GRB-56-1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1100" spc="-1" strike="noStrike">
                <a:solidFill>
                  <a:srgbClr val="000000"/>
                </a:solidFill>
                <a:latin typeface="Arial"/>
                <a:ea typeface="Arial"/>
              </a:rPr>
              <a:t>(56th GRB, 3-5 September 2012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TT" sz="1100" spc="-1" strike="noStrike">
                <a:solidFill>
                  <a:srgbClr val="000000"/>
                </a:solidFill>
                <a:latin typeface="Arial"/>
                <a:ea typeface="Arial"/>
              </a:rPr>
              <a:t>agenda item 4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763640" y="255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Arial"/>
                <a:ea typeface="Arial"/>
              </a:rPr>
              <a:t>ASEP: Vehicle 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826920" y="83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  <a:ea typeface="Arial"/>
              </a:rPr>
              <a:t>OE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  <a:ea typeface="Arial"/>
              </a:rPr>
              <a:t>Replac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3" name="Picture 8" descr=""/>
          <p:cNvPicPr/>
          <p:nvPr/>
        </p:nvPicPr>
        <p:blipFill>
          <a:blip r:embed="rId1"/>
          <a:stretch/>
        </p:blipFill>
        <p:spPr>
          <a:xfrm>
            <a:off x="198360" y="1509840"/>
            <a:ext cx="4192560" cy="261936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9" descr=""/>
          <p:cNvPicPr/>
          <p:nvPr/>
        </p:nvPicPr>
        <p:blipFill>
          <a:blip r:embed="rId2"/>
          <a:stretch/>
        </p:blipFill>
        <p:spPr>
          <a:xfrm>
            <a:off x="241200" y="4119480"/>
            <a:ext cx="4283280" cy="261936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10" descr=""/>
          <p:cNvPicPr/>
          <p:nvPr/>
        </p:nvPicPr>
        <p:blipFill>
          <a:blip r:embed="rId3"/>
          <a:stretch/>
        </p:blipFill>
        <p:spPr>
          <a:xfrm>
            <a:off x="4524480" y="1509840"/>
            <a:ext cx="4194000" cy="261936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11" descr=""/>
          <p:cNvPicPr/>
          <p:nvPr/>
        </p:nvPicPr>
        <p:blipFill>
          <a:blip r:embed="rId4"/>
          <a:stretch/>
        </p:blipFill>
        <p:spPr>
          <a:xfrm>
            <a:off x="4452840" y="4119480"/>
            <a:ext cx="428148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Arial"/>
                <a:ea typeface="Arial"/>
              </a:rPr>
              <a:t>ASEP: Vehicle 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8" name=""/>
          <p:cNvGraphicFramePr/>
          <p:nvPr/>
        </p:nvGraphicFramePr>
        <p:xfrm>
          <a:off x="277920" y="2755800"/>
          <a:ext cx="6095880" cy="370836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371520"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p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7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8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+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9" name="Rectangle 3"/>
          <p:cNvSpPr/>
          <p:nvPr/>
        </p:nvSpPr>
        <p:spPr>
          <a:xfrm>
            <a:off x="249120" y="1731960"/>
            <a:ext cx="864576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Arial"/>
              </a:rPr>
              <a:t>Alternative calculation L_Urban_ASEP according to paragraph 6.2 (Requirement &lt;= 3.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Picture 50" descr=""/>
          <p:cNvPicPr/>
          <p:nvPr/>
        </p:nvPicPr>
        <p:blipFill>
          <a:blip r:embed="rId1"/>
          <a:stretch/>
        </p:blipFill>
        <p:spPr>
          <a:xfrm>
            <a:off x="5502240" y="2685960"/>
            <a:ext cx="3403800" cy="192420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51" descr=""/>
          <p:cNvPicPr/>
          <p:nvPr/>
        </p:nvPicPr>
        <p:blipFill>
          <a:blip r:embed="rId2"/>
          <a:stretch/>
        </p:blipFill>
        <p:spPr>
          <a:xfrm>
            <a:off x="5491080" y="4610160"/>
            <a:ext cx="340380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Title 1"/>
          <p:cNvSpPr/>
          <p:nvPr/>
        </p:nvSpPr>
        <p:spPr>
          <a:xfrm>
            <a:off x="701640" y="2338560"/>
            <a:ext cx="7772400" cy="1737720"/>
          </a:xfrm>
          <a:prstGeom prst="rect">
            <a:avLst/>
          </a:prstGeom>
          <a:gradFill rotWithShape="0">
            <a:gsLst>
              <a:gs pos="0">
                <a:srgbClr val="676668"/>
              </a:gs>
              <a:gs pos="50000">
                <a:srgbClr val="dedde0"/>
              </a:gs>
              <a:gs pos="100000">
                <a:srgbClr val="6766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1280" indent="-341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ANK YO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Box 1"/>
          <p:cNvSpPr/>
          <p:nvPr/>
        </p:nvSpPr>
        <p:spPr>
          <a:xfrm>
            <a:off x="4510080" y="4179960"/>
            <a:ext cx="42624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imes New Roman"/>
              </a:rPr>
              <a:t>CLE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imes New Roman"/>
              </a:rPr>
              <a:t>Boulevard Brand Whitlock, 87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imes New Roman"/>
              </a:rPr>
              <a:t>B - 1200  BRUSSE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imes New Roman"/>
              </a:rPr>
              <a:t>Phone:</a:t>
            </a:r>
            <a:r>
              <a:rPr b="0" lang="nl-B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imes New Roman"/>
              </a:rPr>
              <a:t>+32 2 743 91 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imes New Roman"/>
              </a:rPr>
              <a:t>Fax:</a:t>
            </a:r>
            <a:r>
              <a:rPr b="0" lang="nl-B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imes New Roman"/>
              </a:rPr>
              <a:t>+32 2 732 00 55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imes New Roman"/>
              </a:rPr>
              <a:t>E-mail:</a:t>
            </a:r>
            <a:r>
              <a:rPr b="0" lang="nl-B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imes New Roman"/>
              </a:rPr>
              <a:t>techsec@clepa.b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imes New Roman"/>
              </a:rPr>
              <a:t>Web:</a:t>
            </a:r>
            <a:r>
              <a:rPr b="0" lang="nl-B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imes New Roman"/>
              </a:rPr>
              <a:t>www.clepa.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  <a:ea typeface="Arial"/>
              </a:rPr>
              <a:t>4 veh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  <a:ea typeface="Arial"/>
              </a:rPr>
              <a:t>2 pe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  <a:ea typeface="Arial"/>
              </a:rPr>
              <a:t>Vehicle A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  <a:ea typeface="Arial"/>
              </a:rPr>
              <a:t>PMR = 44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  <a:ea typeface="Arial"/>
              </a:rPr>
              <a:t>Vehicle B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  <a:ea typeface="Arial"/>
              </a:rPr>
              <a:t>PMR = 53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  <a:ea typeface="Arial"/>
              </a:rPr>
              <a:t>2 dies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  <a:ea typeface="Arial"/>
              </a:rPr>
              <a:t>Vehicle C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  <a:ea typeface="Arial"/>
              </a:rPr>
              <a:t>PMR = 52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  <a:ea typeface="Arial"/>
              </a:rPr>
              <a:t>Vehicle D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  <a:ea typeface="Arial"/>
              </a:rPr>
              <a:t>PMR = 5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249120" y="188640"/>
            <a:ext cx="864576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Arial"/>
                <a:ea typeface="Arial"/>
              </a:rPr>
              <a:t>L urb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360360" y="1133640"/>
          <a:ext cx="8534520" cy="4740120"/>
        </p:xfrm>
        <a:graphic>
          <a:graphicData uri="http://schemas.openxmlformats.org/drawingml/2006/table">
            <a:tbl>
              <a:tblPr/>
              <a:tblGrid>
                <a:gridCol w="2843280"/>
                <a:gridCol w="2843280"/>
                <a:gridCol w="2847960"/>
              </a:tblGrid>
              <a:tr h="9572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[dBA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plac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hicle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8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hicle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hicle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0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hicle 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Arial"/>
                <a:ea typeface="Arial"/>
              </a:rPr>
              <a:t>ASEP: Vehicle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  <a:ea typeface="Arial"/>
              </a:rPr>
              <a:t>OE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  <a:ea typeface="Arial"/>
              </a:rPr>
              <a:t>Replac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Picture 4" descr=""/>
          <p:cNvPicPr/>
          <p:nvPr/>
        </p:nvPicPr>
        <p:blipFill>
          <a:blip r:embed="rId1"/>
          <a:stretch/>
        </p:blipFill>
        <p:spPr>
          <a:xfrm>
            <a:off x="311040" y="2787480"/>
            <a:ext cx="4194360" cy="261972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5" descr=""/>
          <p:cNvPicPr/>
          <p:nvPr/>
        </p:nvPicPr>
        <p:blipFill>
          <a:blip r:embed="rId2"/>
          <a:stretch/>
        </p:blipFill>
        <p:spPr>
          <a:xfrm>
            <a:off x="4505400" y="2787480"/>
            <a:ext cx="4194000" cy="2619720"/>
          </a:xfrm>
          <a:prstGeom prst="rect">
            <a:avLst/>
          </a:prstGeom>
          <a:ln w="0">
            <a:noFill/>
          </a:ln>
        </p:spPr>
      </p:pic>
      <p:sp>
        <p:nvSpPr>
          <p:cNvPr id="565" name="TextBox 5"/>
          <p:cNvSpPr/>
          <p:nvPr/>
        </p:nvSpPr>
        <p:spPr>
          <a:xfrm>
            <a:off x="2771640" y="4292640"/>
            <a:ext cx="185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  <a:ea typeface="Arial"/>
              </a:rPr>
              <a:t>Lwot, i = 68.9dBA at 2917rp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  <a:ea typeface="Arial"/>
              </a:rPr>
              <a:t>Slope i= 4.9 dBA/1000rpm (Y=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7"/>
          <p:cNvSpPr/>
          <p:nvPr/>
        </p:nvSpPr>
        <p:spPr>
          <a:xfrm>
            <a:off x="6880320" y="4287960"/>
            <a:ext cx="185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  <a:ea typeface="Arial"/>
              </a:rPr>
              <a:t>Lwot, i = 69.2dBA at 2895rp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  <a:ea typeface="Arial"/>
              </a:rPr>
              <a:t>Slope i= 5.0 dBA/1000rpm (Y=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Arial"/>
                <a:ea typeface="Arial"/>
              </a:rPr>
              <a:t>ASEP: Vehicle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Arial"/>
              </a:rPr>
              <a:t>Alternative calculation L_Urban_ASEP according to paragraph 6.2 (Requirement &lt;= 3.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179280" y="2671920"/>
          <a:ext cx="6096240" cy="18540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pl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70" name="Picture 30" descr=""/>
          <p:cNvPicPr/>
          <p:nvPr/>
        </p:nvPicPr>
        <p:blipFill>
          <a:blip r:embed="rId1"/>
          <a:stretch/>
        </p:blipFill>
        <p:spPr>
          <a:xfrm>
            <a:off x="5591160" y="2637000"/>
            <a:ext cx="340344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835280" y="115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Arial"/>
                <a:ea typeface="Arial"/>
              </a:rPr>
              <a:t>ASEP: Vehicle 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55560" y="83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lac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Picture 6" descr=""/>
          <p:cNvPicPr/>
          <p:nvPr/>
        </p:nvPicPr>
        <p:blipFill>
          <a:blip r:embed="rId1"/>
          <a:stretch/>
        </p:blipFill>
        <p:spPr>
          <a:xfrm>
            <a:off x="258840" y="1452600"/>
            <a:ext cx="4194000" cy="261936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7" descr=""/>
          <p:cNvPicPr/>
          <p:nvPr/>
        </p:nvPicPr>
        <p:blipFill>
          <a:blip r:embed="rId2"/>
          <a:stretch/>
        </p:blipFill>
        <p:spPr>
          <a:xfrm>
            <a:off x="258840" y="4071960"/>
            <a:ext cx="4282920" cy="261936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8" descr=""/>
          <p:cNvPicPr/>
          <p:nvPr/>
        </p:nvPicPr>
        <p:blipFill>
          <a:blip r:embed="rId3"/>
          <a:stretch/>
        </p:blipFill>
        <p:spPr>
          <a:xfrm>
            <a:off x="4522680" y="1452600"/>
            <a:ext cx="4194360" cy="261936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9" descr=""/>
          <p:cNvPicPr/>
          <p:nvPr/>
        </p:nvPicPr>
        <p:blipFill>
          <a:blip r:embed="rId4"/>
          <a:stretch/>
        </p:blipFill>
        <p:spPr>
          <a:xfrm>
            <a:off x="4479840" y="4071960"/>
            <a:ext cx="4281480" cy="2619360"/>
          </a:xfrm>
          <a:prstGeom prst="rect">
            <a:avLst/>
          </a:prstGeom>
          <a:ln w="0">
            <a:noFill/>
          </a:ln>
        </p:spPr>
      </p:pic>
      <p:sp>
        <p:nvSpPr>
          <p:cNvPr id="577" name="TextBox 9"/>
          <p:cNvSpPr/>
          <p:nvPr/>
        </p:nvSpPr>
        <p:spPr>
          <a:xfrm>
            <a:off x="2584440" y="3591000"/>
            <a:ext cx="18558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  <a:ea typeface="Arial"/>
              </a:rPr>
              <a:t>Lwot, i = 72.0dBA at 4217 rp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  <a:ea typeface="Arial"/>
              </a:rPr>
              <a:t>Slope i= 5.0dBA/1000rpm (Y=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Box 10"/>
          <p:cNvSpPr/>
          <p:nvPr/>
        </p:nvSpPr>
        <p:spPr>
          <a:xfrm>
            <a:off x="6778800" y="3619440"/>
            <a:ext cx="18554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  <a:ea typeface="Arial"/>
              </a:rPr>
              <a:t>Lwot, i = 73.4dBA at 4155 rp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  <a:ea typeface="Arial"/>
              </a:rPr>
              <a:t>Slope i= 4.6 dBA/1000rpm (Y=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Box 11"/>
          <p:cNvSpPr/>
          <p:nvPr/>
        </p:nvSpPr>
        <p:spPr>
          <a:xfrm>
            <a:off x="6840360" y="6229440"/>
            <a:ext cx="1855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  <a:ea typeface="Arial"/>
              </a:rPr>
              <a:t>Lwot, i = 69.7dBA at 2706rp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  <a:ea typeface="Arial"/>
              </a:rPr>
              <a:t>Slope i= 5.0dBA/1000rpm (Y=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Box 12"/>
          <p:cNvSpPr/>
          <p:nvPr/>
        </p:nvSpPr>
        <p:spPr>
          <a:xfrm>
            <a:off x="2629080" y="6200640"/>
            <a:ext cx="18554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  <a:ea typeface="Arial"/>
              </a:rPr>
              <a:t>Lwot, i = 68.5dBA at 2722 rp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  <a:ea typeface="Arial"/>
              </a:rPr>
              <a:t>Slope i= 5.0dBA/1000rpm (Y=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57420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Arial"/>
                <a:ea typeface="Arial"/>
              </a:rPr>
              <a:t>ASEP: Vehicle 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2" name=""/>
          <p:cNvGraphicFramePr/>
          <p:nvPr/>
        </p:nvGraphicFramePr>
        <p:xfrm>
          <a:off x="243000" y="2819520"/>
          <a:ext cx="6095880" cy="370836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371520"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p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+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6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3" name="Rectangle 3"/>
          <p:cNvSpPr/>
          <p:nvPr/>
        </p:nvSpPr>
        <p:spPr>
          <a:xfrm>
            <a:off x="220680" y="1704960"/>
            <a:ext cx="864540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Arial"/>
              </a:rPr>
              <a:t>Alternative calculation L_Urban_ASEP according to paragraph 6.2 (Requirement &lt;= 3.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4" name="Picture 50" descr=""/>
          <p:cNvPicPr/>
          <p:nvPr/>
        </p:nvPicPr>
        <p:blipFill>
          <a:blip r:embed="rId1"/>
          <a:stretch/>
        </p:blipFill>
        <p:spPr>
          <a:xfrm>
            <a:off x="5467320" y="2749680"/>
            <a:ext cx="3403800" cy="192384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51" descr=""/>
          <p:cNvPicPr/>
          <p:nvPr/>
        </p:nvPicPr>
        <p:blipFill>
          <a:blip r:embed="rId2"/>
          <a:stretch/>
        </p:blipFill>
        <p:spPr>
          <a:xfrm>
            <a:off x="5473800" y="4673520"/>
            <a:ext cx="340344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Arial"/>
                <a:ea typeface="Arial"/>
              </a:rPr>
              <a:t>ASEP: Vehicle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19200" y="90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B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  <a:ea typeface="Arial"/>
              </a:rPr>
              <a:t>OE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  <a:ea typeface="Arial"/>
              </a:rPr>
              <a:t>Replac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8" name="Picture 8" descr=""/>
          <p:cNvPicPr/>
          <p:nvPr/>
        </p:nvPicPr>
        <p:blipFill>
          <a:blip r:embed="rId1"/>
          <a:stretch/>
        </p:blipFill>
        <p:spPr>
          <a:xfrm>
            <a:off x="223920" y="1509840"/>
            <a:ext cx="4194000" cy="261936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9" descr=""/>
          <p:cNvPicPr/>
          <p:nvPr/>
        </p:nvPicPr>
        <p:blipFill>
          <a:blip r:embed="rId2"/>
          <a:stretch/>
        </p:blipFill>
        <p:spPr>
          <a:xfrm>
            <a:off x="223920" y="4081320"/>
            <a:ext cx="4281480" cy="261936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11" descr=""/>
          <p:cNvPicPr/>
          <p:nvPr/>
        </p:nvPicPr>
        <p:blipFill>
          <a:blip r:embed="rId3"/>
          <a:stretch/>
        </p:blipFill>
        <p:spPr>
          <a:xfrm>
            <a:off x="4479840" y="1512720"/>
            <a:ext cx="4194360" cy="261972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12" descr=""/>
          <p:cNvPicPr/>
          <p:nvPr/>
        </p:nvPicPr>
        <p:blipFill>
          <a:blip r:embed="rId4"/>
          <a:stretch/>
        </p:blipFill>
        <p:spPr>
          <a:xfrm>
            <a:off x="4479840" y="4095720"/>
            <a:ext cx="4281480" cy="2619360"/>
          </a:xfrm>
          <a:prstGeom prst="rect">
            <a:avLst/>
          </a:prstGeom>
          <a:ln w="0">
            <a:noFill/>
          </a:ln>
        </p:spPr>
      </p:pic>
      <p:sp>
        <p:nvSpPr>
          <p:cNvPr id="592" name="TextBox 7"/>
          <p:cNvSpPr/>
          <p:nvPr/>
        </p:nvSpPr>
        <p:spPr>
          <a:xfrm>
            <a:off x="2549520" y="3619440"/>
            <a:ext cx="1855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  <a:ea typeface="Arial"/>
              </a:rPr>
              <a:t>Lwot, i = 72.8dBA at 2325rp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  <a:ea typeface="Arial"/>
              </a:rPr>
              <a:t>Slope i= 5.0dBA/1000rpm (Y=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Box 8"/>
          <p:cNvSpPr/>
          <p:nvPr/>
        </p:nvSpPr>
        <p:spPr>
          <a:xfrm>
            <a:off x="6778800" y="3619440"/>
            <a:ext cx="1855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  <a:ea typeface="Arial"/>
              </a:rPr>
              <a:t>Lwot, i = 73.0dBA at 2343rp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  <a:ea typeface="Arial"/>
              </a:rPr>
              <a:t>Slope i= 5.0dBA/1000rpm (Y=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Box 9"/>
          <p:cNvSpPr/>
          <p:nvPr/>
        </p:nvSpPr>
        <p:spPr>
          <a:xfrm>
            <a:off x="6840360" y="6229440"/>
            <a:ext cx="1855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  <a:ea typeface="Arial"/>
              </a:rPr>
              <a:t>Lwot, i = 71.1dBA at 1530rp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  <a:ea typeface="Arial"/>
              </a:rPr>
              <a:t>Slope i= 5.0dBA/1000rpm (Y=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Box 10"/>
          <p:cNvSpPr/>
          <p:nvPr/>
        </p:nvSpPr>
        <p:spPr>
          <a:xfrm>
            <a:off x="2629080" y="6200640"/>
            <a:ext cx="1855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  <a:ea typeface="Arial"/>
              </a:rPr>
              <a:t>Lwot, i = 71.6dBA at 1538rp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  <a:ea typeface="Arial"/>
              </a:rPr>
              <a:t>Slope i= 5.0dBA/1000rpm (Y=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Arial"/>
                <a:ea typeface="Arial"/>
              </a:rPr>
              <a:t>ASEP: Vehicle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7" name=""/>
          <p:cNvGraphicFramePr/>
          <p:nvPr/>
        </p:nvGraphicFramePr>
        <p:xfrm>
          <a:off x="260280" y="2924280"/>
          <a:ext cx="6096240" cy="37083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520"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p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7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6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+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6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8" name="Rectangle 3"/>
          <p:cNvSpPr/>
          <p:nvPr/>
        </p:nvSpPr>
        <p:spPr>
          <a:xfrm>
            <a:off x="249120" y="1704960"/>
            <a:ext cx="864576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Arial"/>
              </a:rPr>
              <a:t>Alternative calculation L_Urban_ASEP according to paragraph 6.2 (Requirement &lt;= 3.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9" name="Picture 50" descr=""/>
          <p:cNvPicPr/>
          <p:nvPr/>
        </p:nvPicPr>
        <p:blipFill>
          <a:blip r:embed="rId1"/>
          <a:stretch/>
        </p:blipFill>
        <p:spPr>
          <a:xfrm>
            <a:off x="5580000" y="4797360"/>
            <a:ext cx="3402000" cy="192420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51" descr=""/>
          <p:cNvPicPr/>
          <p:nvPr/>
        </p:nvPicPr>
        <p:blipFill>
          <a:blip r:embed="rId2"/>
          <a:stretch/>
        </p:blipFill>
        <p:spPr>
          <a:xfrm>
            <a:off x="5580000" y="2873520"/>
            <a:ext cx="340200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9T14:04:41Z</dcterms:created>
  <dc:creator>valgaer</dc:creator>
  <dc:description/>
  <dc:language>en-US</dc:language>
  <cp:lastModifiedBy>gianotti</cp:lastModifiedBy>
  <dcterms:modified xsi:type="dcterms:W3CDTF">2012-09-04T10:41:36Z</dcterms:modified>
  <cp:revision>9</cp:revision>
  <dc:subject/>
  <dc:title>Slide 1</dc:title>
</cp:coreProperties>
</file>