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6804000" cy="9939240"/>
          </a:xfrm>
          <a:custGeom>
            <a:avLst/>
            <a:gdLst>
              <a:gd name="textAreaLeft" fmla="*/ 360 w 6804000"/>
              <a:gd name="textAreaRight" fmla="*/ 6803640 w 6804000"/>
              <a:gd name="textAreaTop" fmla="*/ 360 h 9939240"/>
              <a:gd name="textAreaBottom" fmla="*/ 9938880 h 9939240"/>
            </a:gdLst>
            <a:ahLst/>
            <a:rect l="textAreaLeft" t="textAreaTop" r="textAreaRight" b="textAreaBottom"/>
            <a:pathLst>
              <a:path w="21600" h="31553">
                <a:moveTo>
                  <a:pt x="5" y="0"/>
                </a:moveTo>
                <a:arcTo wR="5" hR="5" stAng="16200000" swAng="-5400000"/>
                <a:lnTo>
                  <a:pt x="0" y="31548"/>
                </a:lnTo>
                <a:arcTo wR="5" hR="5" stAng="10800000" swAng="-5400000"/>
                <a:lnTo>
                  <a:pt x="21595" y="3155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6805440" cy="9939240"/>
          </a:xfrm>
          <a:custGeom>
            <a:avLst/>
            <a:gdLst>
              <a:gd name="textAreaLeft" fmla="*/ 360 w 6805440"/>
              <a:gd name="textAreaRight" fmla="*/ 6805080 w 6805440"/>
              <a:gd name="textAreaTop" fmla="*/ 360 h 9939240"/>
              <a:gd name="textAreaBottom" fmla="*/ 9938880 h 9939240"/>
            </a:gdLst>
            <a:ahLst/>
            <a:rect l="textAreaLeft" t="textAreaTop" r="textAreaRight" b="textAreaBottom"/>
            <a:pathLst>
              <a:path w="21600" h="31546">
                <a:moveTo>
                  <a:pt x="5" y="0"/>
                </a:moveTo>
                <a:arcTo wR="5" hR="5" stAng="16200000" swAng="-5400000"/>
                <a:lnTo>
                  <a:pt x="0" y="31541"/>
                </a:lnTo>
                <a:arcTo wR="5" hR="5" stAng="10800000" swAng="-5400000"/>
                <a:lnTo>
                  <a:pt x="21595" y="3154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6807240" cy="993924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39240"/>
              <a:gd name="textAreaBottom" fmla="*/ 9938880 h 993924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10960" y="954000"/>
            <a:ext cx="4578120" cy="34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HG-MinchoL-Sun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52280" y="4728960"/>
            <a:ext cx="4700520" cy="38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8960" y="4719240"/>
            <a:ext cx="544860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No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Recognize: what is happen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From where does it com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How much is it close to my vehicl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Elicit warning tim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If others, warnings should be priorit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False/nuisance should be minim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Degradation of performance should be display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2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1400" y="4159080"/>
            <a:ext cx="7802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56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1400" y="415908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9560" y="415908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480" y="190620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7560" y="190620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1400" y="415908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480" y="415908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7560" y="415908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1400" y="1906200"/>
            <a:ext cx="7802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2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736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9560" y="1906200"/>
            <a:ext cx="380736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8026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9560" y="1906200"/>
            <a:ext cx="380736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1400" y="415908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736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56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9560" y="415908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956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1400" y="4159080"/>
            <a:ext cx="7802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HG-MinchoL-Sun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1400" y="1906200"/>
            <a:ext cx="7802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  <a:p>
            <a:pPr lvl="1"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  <a:p>
            <a:pPr lvl="2"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  <a:p>
            <a:pPr lvl="3"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  <a:p>
            <a:pPr lvl="4"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  <a:p>
            <a:pPr lvl="5"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  <a:p>
            <a:pPr lvl="6"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380880" y="609480"/>
            <a:ext cx="837252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Summary of Activ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up to No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0" y="3809880"/>
            <a:ext cx="914400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ch 16,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ITS Informal Group Mee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0" y="5029200"/>
            <a:ext cx="914400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. Hiramatsu and M. Sek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TSEL: National Traffic Safety and Environmental Labora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B0BD4-9CEF-4F1A-8118-28E47AD51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4716360" y="2620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Document No.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TS-20-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20th ITS, 16 March 2012, agenda item 3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457200" y="1752480"/>
            <a:ext cx="848520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120000"/>
              </a:lnSpc>
              <a:buClr>
                <a:srgbClr val="333399"/>
              </a:buClr>
              <a:buFont typeface="Wingdings" charset="2"/>
              <a:buChar char="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mission of the first draft from IHRA-ITS WG in November,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tion at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TS Informal Group Meeting in March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ents from OICA, JAMA and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s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circulation to relevant quarters in February,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2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20000"/>
              </a:lnSpc>
              <a:buClr>
                <a:srgbClr val="333399"/>
              </a:buClr>
              <a:buFont typeface="Wingdings" charset="2"/>
              <a:buChar char="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step(provisiona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tion of revised control principles : ITS Informal Group Meeting in March,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tion to WP29 in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ination among related GRs in 2012-20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304920" y="1523880"/>
            <a:ext cx="8381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7EF37-B5E1-4D85-A029-D7866EA6E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0" y="30492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trol Princi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- Activities up to Now 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0" y="27860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004873"/>
                </a:solidFill>
                <a:latin typeface="Tahoma"/>
              </a:rPr>
              <a:t>Thank you for your atten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2E6B3-806A-41D8-84BA-3F4DA943B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214200" y="457200"/>
            <a:ext cx="89298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ast Activities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ts val="3674"/>
              </a:lnSpc>
              <a:spcBef>
                <a:spcPts val="1199"/>
              </a:spcBef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ts val="3674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 : November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ts val="2574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develop common understanding of driver assistance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ts val="3461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of Two Years Activities :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ts val="2574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priateness of "Driver in the Loop" under normal driving condi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ts val="2574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ectiveness of damage mitigation under pre-crash condition where collision is no longer avoid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ts val="3461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of Warning Guidelines to WP29 : March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56518-487E-4015-BCF8-32787478A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14200" y="380880"/>
            <a:ext cx="89298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384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ow does ADAS assist driver ?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0255A-AF56-4E7C-B86E-F61CAD8E6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Freeform 3"/>
          <p:cNvSpPr/>
          <p:nvPr/>
        </p:nvSpPr>
        <p:spPr>
          <a:xfrm>
            <a:off x="2133720" y="3048120"/>
            <a:ext cx="4752720" cy="3311280"/>
          </a:xfrm>
          <a:custGeom>
            <a:avLst/>
            <a:gdLst>
              <a:gd name="textAreaLeft" fmla="*/ 0 w 4752720"/>
              <a:gd name="textAreaRight" fmla="*/ 4753080 w 4752720"/>
              <a:gd name="textAreaTop" fmla="*/ 0 h 3311280"/>
              <a:gd name="textAreaBottom" fmla="*/ 3311640 h 3311280"/>
            </a:gdLst>
            <a:ahLst/>
            <a:rect l="textAreaLeft" t="textAreaTop" r="textAreaRight" b="textAreaBottom"/>
            <a:pathLst>
              <a:path w="2994" h="2086">
                <a:moveTo>
                  <a:pt x="0" y="2086"/>
                </a:moveTo>
                <a:lnTo>
                  <a:pt x="0" y="0"/>
                </a:lnTo>
                <a:lnTo>
                  <a:pt x="998" y="0"/>
                </a:lnTo>
                <a:lnTo>
                  <a:pt x="998" y="590"/>
                </a:lnTo>
                <a:lnTo>
                  <a:pt x="1996" y="590"/>
                </a:lnTo>
                <a:lnTo>
                  <a:pt x="1996" y="1179"/>
                </a:lnTo>
                <a:lnTo>
                  <a:pt x="2994" y="1179"/>
                </a:lnTo>
                <a:lnTo>
                  <a:pt x="2994" y="2086"/>
                </a:lnTo>
                <a:lnTo>
                  <a:pt x="0" y="2086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1990800" y="2490840"/>
            <a:ext cx="51814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37960" y="2262240"/>
            <a:ext cx="21830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40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40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40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40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2276640" y="2184480"/>
            <a:ext cx="1295280" cy="64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cogn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60640" y="2184480"/>
            <a:ext cx="1295640" cy="64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dg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5445000" y="2184480"/>
            <a:ext cx="1295640" cy="64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>
            <a:off x="1990800" y="3481560"/>
            <a:ext cx="51814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2276640" y="3192480"/>
            <a:ext cx="1295280" cy="6476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3860640" y="3192480"/>
            <a:ext cx="1295640" cy="64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dg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5445000" y="3192480"/>
            <a:ext cx="1295640" cy="64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1990800" y="4471920"/>
            <a:ext cx="51814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2276640" y="4127400"/>
            <a:ext cx="1295280" cy="6476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3860640" y="4127400"/>
            <a:ext cx="1295640" cy="6476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judg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5445000" y="4127400"/>
            <a:ext cx="1295640" cy="64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7"/>
          <p:cNvSpPr/>
          <p:nvPr/>
        </p:nvSpPr>
        <p:spPr>
          <a:xfrm>
            <a:off x="1990800" y="5386320"/>
            <a:ext cx="51814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2276640" y="5064120"/>
            <a:ext cx="1295280" cy="6476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3860640" y="5064120"/>
            <a:ext cx="1295640" cy="6476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judg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5445000" y="5064120"/>
            <a:ext cx="1295640" cy="6476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2494080" y="5856120"/>
            <a:ext cx="4032000" cy="3603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sistance by Advanced Techn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22"/>
          <p:cNvSpPr/>
          <p:nvPr/>
        </p:nvSpPr>
        <p:spPr>
          <a:xfrm>
            <a:off x="2025720" y="1751040"/>
            <a:ext cx="4895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havioral Model of a D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23" descr=""/>
          <p:cNvPicPr/>
          <p:nvPr/>
        </p:nvPicPr>
        <p:blipFill>
          <a:blip r:embed="rId1"/>
          <a:stretch/>
        </p:blipFill>
        <p:spPr>
          <a:xfrm>
            <a:off x="8502480" y="3073320"/>
            <a:ext cx="543240" cy="822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"/>
          <p:cNvPicPr/>
          <p:nvPr/>
        </p:nvPicPr>
        <p:blipFill>
          <a:blip r:embed="rId2"/>
          <a:stretch/>
        </p:blipFill>
        <p:spPr>
          <a:xfrm>
            <a:off x="8427960" y="4148280"/>
            <a:ext cx="615960" cy="79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5" descr=""/>
          <p:cNvPicPr/>
          <p:nvPr/>
        </p:nvPicPr>
        <p:blipFill>
          <a:blip r:embed="rId3"/>
          <a:stretch/>
        </p:blipFill>
        <p:spPr>
          <a:xfrm>
            <a:off x="8502480" y="5210280"/>
            <a:ext cx="541440" cy="541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6"/>
          <p:cNvSpPr/>
          <p:nvPr/>
        </p:nvSpPr>
        <p:spPr>
          <a:xfrm>
            <a:off x="7095960" y="2185920"/>
            <a:ext cx="179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Impact"/>
              </a:rPr>
              <a:t>Conventional dri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7"/>
          <p:cNvSpPr/>
          <p:nvPr/>
        </p:nvSpPr>
        <p:spPr>
          <a:xfrm>
            <a:off x="7095960" y="325296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Impact"/>
              </a:rPr>
              <a:t>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8"/>
          <p:cNvSpPr/>
          <p:nvPr/>
        </p:nvSpPr>
        <p:spPr>
          <a:xfrm>
            <a:off x="7095960" y="429732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Impact"/>
              </a:rPr>
              <a:t>W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9"/>
          <p:cNvSpPr/>
          <p:nvPr/>
        </p:nvSpPr>
        <p:spPr>
          <a:xfrm>
            <a:off x="7095960" y="515772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Impact"/>
              </a:rPr>
              <a:t>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14200" y="500040"/>
            <a:ext cx="892980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38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79615-71D7-4666-8EF2-F4E4F74B7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0A329-11AC-4B2F-A09D-6E5312A50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52280" y="380880"/>
            <a:ext cx="878544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eport of two years activities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04920" y="1828800"/>
            <a:ext cx="868680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5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keep monitoring the situation of self-commitment basis guidelines, ESoP, AAM and JAMA, in each region for a time be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5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develop high-priority warning guidelines in cooperation with IHRA-ITS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5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have baseline ideas for effective use of control systems in 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0" y="47628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304920" y="476280"/>
            <a:ext cx="861048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arning Guidelines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to provide basic recommendations for the design of high-priority warnings on 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ter understanding from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d con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accurate and consistent expec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High-priority warning</a:t>
            </a: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to be delivered at critical situation where the driver is required to take immediate action or deci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void crash 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doption</a:t>
            </a: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at 15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ahom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session of WP29, June, 2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9D166-625C-47A7-88F4-334114DC7FF5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3DB4A-E81A-4BA4-BB0E-B97C6C67FE4F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08000" y="457200"/>
            <a:ext cx="9036000" cy="61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39840">
              <a:lnSpc>
                <a:spcPct val="100000"/>
              </a:lnSpc>
              <a:tabLst>
                <a:tab algn="l" pos="0"/>
                <a:tab algn="l" pos="34452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Warning guidelines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4520" indent="-339840">
              <a:lnSpc>
                <a:spcPct val="70000"/>
              </a:lnSpc>
              <a:tabLst>
                <a:tab algn="l" pos="0"/>
                <a:tab algn="l" pos="34452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CE/TRANS/WP.29/2011/90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39840">
              <a:lnSpc>
                <a:spcPct val="50000"/>
              </a:lnSpc>
              <a:tabLst>
                <a:tab algn="l" pos="0"/>
                <a:tab algn="l" pos="34452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39840">
              <a:buClr>
                <a:srgbClr val="000000"/>
              </a:buClr>
              <a:buFont typeface="Arial"/>
              <a:buAutoNum type="arabicPeriod"/>
              <a:tabLst>
                <a:tab algn="l" pos="34452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-priority warning should be noticeable in the driving environ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39840">
              <a:buClr>
                <a:srgbClr val="000000"/>
              </a:buClr>
              <a:buFont typeface="Arial"/>
              <a:buAutoNum type="arabicPeriod"/>
              <a:tabLst>
                <a:tab algn="l" pos="34452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-priority warning should be distinguishable from other messages in the vehic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39840">
              <a:buClr>
                <a:srgbClr val="000000"/>
              </a:buClr>
              <a:buFont typeface="Arial"/>
              <a:buAutoNum type="arabicPeriod"/>
              <a:tabLst>
                <a:tab algn="l" pos="34452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-priority warning should provide spatial cues to the hazard lo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39840">
              <a:buClr>
                <a:srgbClr val="000000"/>
              </a:buClr>
              <a:buFont typeface="Arial"/>
              <a:buAutoNum type="arabicPeriod"/>
              <a:tabLst>
                <a:tab algn="l" pos="34452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-priority warning should inform the driver of proximity of the haza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39840">
              <a:buClr>
                <a:srgbClr val="000000"/>
              </a:buClr>
              <a:buFont typeface="Arial"/>
              <a:buAutoNum type="arabicPeriod"/>
              <a:tabLst>
                <a:tab algn="l" pos="34452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-priority warning should elicit timely response or deci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39840">
              <a:buClr>
                <a:srgbClr val="000000"/>
              </a:buClr>
              <a:buFont typeface="Arial"/>
              <a:buAutoNum type="arabicPeriod"/>
              <a:tabLst>
                <a:tab algn="l" pos="34452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 warnings should be prioritiz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39840">
              <a:buClr>
                <a:srgbClr val="000000"/>
              </a:buClr>
              <a:buFont typeface="Arial"/>
              <a:buAutoNum type="arabicPeriod"/>
              <a:tabLst>
                <a:tab algn="l" pos="34452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lse/nuisance warnings rate should be l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39840">
              <a:buClr>
                <a:srgbClr val="000000"/>
              </a:buClr>
              <a:buFont typeface="Arial"/>
              <a:buAutoNum type="arabicPeriod"/>
              <a:tabLst>
                <a:tab algn="l" pos="34452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status and degraded performance of high-priority warnings should be display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338040" y="518148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n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river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124080" y="518148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river +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910560" y="518148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0" y="30492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Level of Driver Assistanc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C4066-E10B-40FA-8564-357E4D01A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 rot="16200000">
            <a:off x="6165720" y="1836000"/>
            <a:ext cx="1569960" cy="22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1295280" y="1752480"/>
            <a:ext cx="6629400" cy="3353040"/>
          </a:xfrm>
          <a:prstGeom prst="rtTriangle">
            <a:avLst/>
          </a:prstGeom>
          <a:gradFill rotWithShape="0">
            <a:gsLst>
              <a:gs pos="0">
                <a:srgbClr val="661058"/>
              </a:gs>
              <a:gs pos="100000">
                <a:srgbClr val="e5e51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28600" y="2209680"/>
            <a:ext cx="26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Manu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 flipH="1">
            <a:off x="1293120" y="1752480"/>
            <a:ext cx="6629400" cy="3353040"/>
          </a:xfrm>
          <a:prstGeom prst="rtTriangle">
            <a:avLst/>
          </a:prstGeom>
          <a:gradFill rotWithShape="0">
            <a:gsLst>
              <a:gs pos="0">
                <a:srgbClr val="146218"/>
              </a:gs>
              <a:gs pos="100000">
                <a:srgbClr val="f3f30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5410080" y="2209680"/>
            <a:ext cx="354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Auto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15"/>
          <p:cNvGrpSpPr/>
          <p:nvPr/>
        </p:nvGrpSpPr>
        <p:grpSpPr>
          <a:xfrm>
            <a:off x="1219320" y="3733920"/>
            <a:ext cx="6781680" cy="1295280"/>
            <a:chOff x="1219320" y="3733920"/>
            <a:chExt cx="6781680" cy="1295280"/>
          </a:xfrm>
        </p:grpSpPr>
        <p:sp>
          <p:nvSpPr>
            <p:cNvPr id="105" name="Text Box 12"/>
            <p:cNvSpPr/>
            <p:nvPr/>
          </p:nvSpPr>
          <p:spPr>
            <a:xfrm>
              <a:off x="1219320" y="3733920"/>
              <a:ext cx="67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river’s role : partial operator to supervis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AutoShape 13"/>
            <p:cNvSpPr/>
            <p:nvPr/>
          </p:nvSpPr>
          <p:spPr>
            <a:xfrm>
              <a:off x="4078440" y="4267080"/>
              <a:ext cx="1062000" cy="762120"/>
            </a:xfrm>
            <a:prstGeom prst="upArrow">
              <a:avLst>
                <a:gd name="adj1" fmla="val 48074"/>
                <a:gd name="adj2" fmla="val 37731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228600" y="1371600"/>
            <a:ext cx="878508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33320" indent="-276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3332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7171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s should be designed in which driver is always held responsible for his/her driving. For this purpose followings are effec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7171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allation of auditory or visual announcement devices providing information on the system functio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3332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7171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 systems activated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under normal driving condi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uld be designed based on “Driving in the loop”, where driver should be involved in driving in a way or other. For this purpose followings are effec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7171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nouncement is made when the driving initiative is transferred from system to driver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7171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iver is kept involved in driving operation. For example, starting initiative should not be given to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7171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 allows switching on or off by dr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7171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 allows overriding by dr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3332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7171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for Control systems to reduce collision speed activated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under pre-crash 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here collision is no longer avoidable, there is no time for necessity of overriding and driver is not very likely to depend on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0" y="152280"/>
            <a:ext cx="914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Report on Control Systems in WP29/ITS Informal Group(2007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DCD0C-A49F-4C9A-9160-EFAE538E3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80880" y="1619280"/>
            <a:ext cx="8534520" cy="49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120000"/>
              </a:lnSpc>
              <a:buClr>
                <a:srgbClr val="333399"/>
              </a:buClr>
              <a:buFont typeface="Wingdings" charset="2"/>
              <a:buChar char="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id technology evolution in ADAS makes the driver handling  easier and more comfor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les of driver assistance systems varies dependent upon system configur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ch advanced systems should not be hindered by the reason of different rules among the reg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2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20000"/>
              </a:lnSpc>
              <a:buClr>
                <a:srgbClr val="333399"/>
              </a:buClr>
              <a:buFont typeface="Wingdings" charset="2"/>
              <a:buChar char="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line ideas on driver-system interaction are needed for proper development of advanced systems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first draft was submitted at the last meeting of ITS Informal Group, and revised several ti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D1173-542B-49BD-B7ED-CED20E8A5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0" y="30492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trol Princi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- Background and Aim 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04:58:06Z</dcterms:created>
  <dc:creator> </dc:creator>
  <dc:description/>
  <dc:language>en-US</dc:language>
  <cp:lastModifiedBy>Naomi Mori</cp:lastModifiedBy>
  <dcterms:modified xsi:type="dcterms:W3CDTF">2012-03-26T05:30:46Z</dcterms:modified>
  <cp:revision>121</cp:revision>
  <dc:subject/>
  <dc:title>スライド 1</dc:title>
</cp:coreProperties>
</file>