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804000" cy="9939240"/>
          </a:xfrm>
          <a:custGeom>
            <a:avLst/>
            <a:gdLst>
              <a:gd name="textAreaLeft" fmla="*/ 360 w 6804000"/>
              <a:gd name="textAreaRight" fmla="*/ 6803640 w 680400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805440" cy="993924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46">
                <a:moveTo>
                  <a:pt x="5" y="0"/>
                </a:moveTo>
                <a:arcTo wR="5" hR="5" stAng="16200000" swAng="-5400000"/>
                <a:lnTo>
                  <a:pt x="0" y="31541"/>
                </a:lnTo>
                <a:arcTo wR="5" hR="5" stAng="10800000" swAng="-5400000"/>
                <a:lnTo>
                  <a:pt x="21595" y="31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807240" cy="993924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39240"/>
              <a:gd name="textAreaBottom" fmla="*/ 9938880 h 993924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10960" y="954000"/>
            <a:ext cx="4578120" cy="34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52280" y="4728960"/>
            <a:ext cx="4700520" cy="38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486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Recognize: what is happen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rom where does it co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How much is it close to my vehic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Elicit warning tim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If others, warnings should be priorit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False/nuisance should be minim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明朝"/>
              </a:rPr>
              <a:t>Degradation of performance should be disp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HG-MinchoL-Sun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HG-MinchoL-Su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1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2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3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4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5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  <a:p>
            <a:pPr lvl="6" marL="343080" indent="-343080">
              <a:lnSpc>
                <a:spcPct val="8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-MinchoL-Su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-MinchoL-Su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380880" y="609480"/>
            <a:ext cx="83725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ummary of Activ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up to 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3809880"/>
            <a:ext cx="91440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ch 16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TS Informal Group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5029200"/>
            <a:ext cx="9144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. Hiramatsu and M. Sek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TSEL: National Traffic Safety and Environmental Lab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D9B3-4303-42D8-B028-992F1836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716360" y="262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Document No.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-20-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20th ITS, 16 March 2012, agenda item 3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1752480"/>
            <a:ext cx="84852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ssion of the first draft from IHRA-ITS WG in November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t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TS Informal Group Meeting in March,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s from OICA, JAMA and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circulation to relevant quarters in February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(provisional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of revised control principles : ITS Informal Group Meeting in March,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to WP29 in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ation among related GRs in 2012-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04920" y="1523880"/>
            <a:ext cx="838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02B5-8BC8-4802-A9E8-C337ACC59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Activities up to Now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0" y="27860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4873"/>
                </a:solidFill>
                <a:latin typeface="Tahoma"/>
              </a:rPr>
              <a:t>Thank you for your att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64238-88DB-4736-A167-2A358990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214200" y="457200"/>
            <a:ext cx="8929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st Activiti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674"/>
              </a:lnSpc>
              <a:spcBef>
                <a:spcPts val="11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674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 : November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common understanding of driver assistanc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461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of Two Years Activities :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"Driver in the Loop" under normal driving condi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ts val="2574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ness of damage mitigation under pre-crash condition where collision is no longer avoi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ts val="3461"/>
              </a:lnSpc>
              <a:spcBef>
                <a:spcPts val="11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Warning Guidelines to WP29 : March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C4157-ABD6-4971-98B4-13C8B2105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14200" y="380880"/>
            <a:ext cx="89298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38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 does ADAS assist driver ?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DB774-ABCE-4A6C-A26D-B7BCA16CC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2133720" y="3048120"/>
            <a:ext cx="4752720" cy="33112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w="2994" h="2086">
                <a:moveTo>
                  <a:pt x="0" y="2086"/>
                </a:moveTo>
                <a:lnTo>
                  <a:pt x="0" y="0"/>
                </a:lnTo>
                <a:lnTo>
                  <a:pt x="998" y="0"/>
                </a:lnTo>
                <a:lnTo>
                  <a:pt x="998" y="590"/>
                </a:lnTo>
                <a:lnTo>
                  <a:pt x="1996" y="590"/>
                </a:lnTo>
                <a:lnTo>
                  <a:pt x="1996" y="1179"/>
                </a:lnTo>
                <a:lnTo>
                  <a:pt x="2994" y="1179"/>
                </a:lnTo>
                <a:lnTo>
                  <a:pt x="2994" y="2086"/>
                </a:lnTo>
                <a:lnTo>
                  <a:pt x="0" y="2086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990800" y="2490840"/>
            <a:ext cx="5181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37960" y="2262240"/>
            <a:ext cx="2183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40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76640" y="2184480"/>
            <a:ext cx="1295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60640" y="2184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445000" y="2184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90800" y="3481560"/>
            <a:ext cx="5181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2276640" y="319248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860640" y="3192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445000" y="319248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990800" y="4471920"/>
            <a:ext cx="5181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2276640" y="412740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860640" y="412740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5445000" y="4127400"/>
            <a:ext cx="129564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1990800" y="5386320"/>
            <a:ext cx="5181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2276640" y="5064120"/>
            <a:ext cx="129528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3860640" y="506412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445000" y="5064120"/>
            <a:ext cx="1295640" cy="647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494080" y="5856120"/>
            <a:ext cx="4032000" cy="36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istance by Advanced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2025720" y="1751040"/>
            <a:ext cx="489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ioral Model of a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3" descr=""/>
          <p:cNvPicPr/>
          <p:nvPr/>
        </p:nvPicPr>
        <p:blipFill>
          <a:blip r:embed="rId1"/>
          <a:stretch/>
        </p:blipFill>
        <p:spPr>
          <a:xfrm>
            <a:off x="8502480" y="3073320"/>
            <a:ext cx="543240" cy="82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"/>
          <p:cNvPicPr/>
          <p:nvPr/>
        </p:nvPicPr>
        <p:blipFill>
          <a:blip r:embed="rId2"/>
          <a:stretch/>
        </p:blipFill>
        <p:spPr>
          <a:xfrm>
            <a:off x="8427960" y="4148280"/>
            <a:ext cx="615960" cy="79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"/>
          <p:cNvPicPr/>
          <p:nvPr/>
        </p:nvPicPr>
        <p:blipFill>
          <a:blip r:embed="rId3"/>
          <a:stretch/>
        </p:blipFill>
        <p:spPr>
          <a:xfrm>
            <a:off x="8502480" y="521028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6"/>
          <p:cNvSpPr/>
          <p:nvPr/>
        </p:nvSpPr>
        <p:spPr>
          <a:xfrm>
            <a:off x="7095960" y="2185920"/>
            <a:ext cx="17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ventional dri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7095960" y="325296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7095960" y="42973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W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7095960" y="51577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Impact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14200" y="500040"/>
            <a:ext cx="89298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38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75AE5-728F-4EE3-94DD-114EC5789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B2E13-6260-4512-9C97-B2C0DAC7C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380880"/>
            <a:ext cx="87854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port of two years activiti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828800"/>
            <a:ext cx="86868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keep monitoring the situation of self-commitment basis guidelines, ESoP, AAM and JAMA, in each region for a time 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evelop high-priority warning guidelines in cooperation with IHRA-ITS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ave baseline ideas for effective use of control systems in 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0" y="4762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04920" y="476280"/>
            <a:ext cx="86104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rning Guidelines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to provide basic recommendations for the design of high-priority warnings on 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igh-priority warning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o be delivered at critical situation where the driver is required to take immediate action or 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void crash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799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doption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t 15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session of WP29, June,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E7196-1E6A-4892-8298-A2DC9E8842A0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603B1-22F6-4DAC-97AE-85C88D4D66BC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08000" y="457200"/>
            <a:ext cx="9036000" cy="61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39840">
              <a:lnSpc>
                <a:spcPct val="10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Warning guidelines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lnSpc>
                <a:spcPct val="7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CE/TRANS/WP.29/2011/90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lnSpc>
                <a:spcPct val="50000"/>
              </a:lnSpc>
              <a:tabLst>
                <a:tab algn="l" pos="0"/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noticeable in the driving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be distinguishable from other messages in the vehi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provide spatial cues to the hazard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inform the driver of proximity of the haz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-priority warning should elicit timely response or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warnings should be priorit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se/nuisance warnings rate should be 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39840">
              <a:buClr>
                <a:srgbClr val="000000"/>
              </a:buClr>
              <a:buFont typeface="Arial"/>
              <a:buAutoNum type="arabicPeriod"/>
              <a:tabLst>
                <a:tab algn="l" pos="3445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status and degraded performance of high-priority warnings should be displa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38040" y="51814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ver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24080" y="51814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iver +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910560" y="51814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ystem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evel of Driver Assista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C731-5EC5-4A01-8C87-81A58A73F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 rot="16200000">
            <a:off x="6165720" y="1836000"/>
            <a:ext cx="15699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1295280" y="1752480"/>
            <a:ext cx="6629400" cy="3353040"/>
          </a:xfrm>
          <a:prstGeom prst="rtTriangle">
            <a:avLst/>
          </a:prstGeom>
          <a:gradFill rotWithShape="0">
            <a:gsLst>
              <a:gs pos="0">
                <a:srgbClr val="661058"/>
              </a:gs>
              <a:gs pos="100000">
                <a:srgbClr val="e5e51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28600" y="2209680"/>
            <a:ext cx="26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Man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flipH="1">
            <a:off x="1293120" y="1752480"/>
            <a:ext cx="6629400" cy="3353040"/>
          </a:xfrm>
          <a:prstGeom prst="rtTriangle">
            <a:avLst/>
          </a:prstGeom>
          <a:gradFill rotWithShape="0">
            <a:gsLst>
              <a:gs pos="0">
                <a:srgbClr val="146218"/>
              </a:gs>
              <a:gs pos="100000">
                <a:srgbClr val="f3f30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410080" y="2209680"/>
            <a:ext cx="35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Auto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219320" y="3733920"/>
            <a:ext cx="6781680" cy="1295280"/>
            <a:chOff x="1219320" y="3733920"/>
            <a:chExt cx="6781680" cy="1295280"/>
          </a:xfrm>
        </p:grpSpPr>
        <p:sp>
          <p:nvSpPr>
            <p:cNvPr id="105" name="Text Box 12"/>
            <p:cNvSpPr/>
            <p:nvPr/>
          </p:nvSpPr>
          <p:spPr>
            <a:xfrm>
              <a:off x="1219320" y="3733920"/>
              <a:ext cx="67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river’s role : partial operator to supervi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13"/>
            <p:cNvSpPr/>
            <p:nvPr/>
          </p:nvSpPr>
          <p:spPr>
            <a:xfrm>
              <a:off x="4078440" y="4267080"/>
              <a:ext cx="1062000" cy="762120"/>
            </a:xfrm>
            <a:prstGeom prst="upArrow">
              <a:avLst>
                <a:gd name="adj1" fmla="val 48074"/>
                <a:gd name="adj2" fmla="val 3773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1371600"/>
            <a:ext cx="87850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ation of auditory or visual announcement devices providing information on the system func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systems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normal driving 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be designed based on “Driving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uncement is made when the driving initiative is transferred from system to driv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r is kept involved in driving operation. For example, starting initiative should not be given to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switching on or off by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llows overriding by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3332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7171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for Control systems to reduce collision speed activa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under pre-crash 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re collision is no longer avoidable, there is no time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152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eport on Control Systems in WP29/ITS Informal Group(2007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48DAD-C66E-49A6-8760-FB04326A1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1619280"/>
            <a:ext cx="853452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technology evolution in ADAS makes the driver handling  easier and more comfor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es of driver assistance systems varies dependent upon system configur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ch advanced systems should not be hindered by the reason of different rules among the reg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2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line ideas on driver-system interaction are needed for proper development of advanced system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48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draft was submitted at the last meeting of ITS Informal Group, and revised several ti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3CC03-26C0-4E73-88AD-CD20A09CF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3049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 Background and Aim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4:58:06Z</dcterms:created>
  <dc:creator> </dc:creator>
  <dc:description/>
  <dc:language>en-US</dc:language>
  <cp:lastModifiedBy>Naomi Mori</cp:lastModifiedBy>
  <dcterms:modified xsi:type="dcterms:W3CDTF">2012-03-26T05:30:46Z</dcterms:modified>
  <cp:revision>121</cp:revision>
  <dc:subject/>
  <dc:title>スライド 1</dc:title>
</cp:coreProperties>
</file>