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FAE-DDF3-42BA-865B-DDB04D3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34F-1D83-4E92-AB76-5A6D6D2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67-1FF0-462C-9F58-C8D1378F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BDA-3769-40C7-B9AF-B58807EC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80F6-C69C-448F-9763-E32BE7C2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C88-8675-4F25-ABF2-A030B3AE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360-234E-4B78-BC2A-EBF174E5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D8CD-265D-48AB-A47E-B9A94D2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342-AA04-4795-9D68-B777BF9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E019-F9FC-4A06-944A-40ECA5F5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2F11-6567-4673-BF2C-0867F470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1A6-9B5F-4BC5-B0D0-93C1CAC3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6E61-C223-4E5E-B638-03864DD1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6898-0884-4272-BDC4-8E3B2CC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DF1C-1ACB-4856-8029-528BD49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8A3-8E61-48A4-B080-057444EE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F406-849F-4E9F-8CE5-15D0FEC7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A138-AC6D-4B34-9748-C4CCF526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C804-3C2C-4BE8-9F4E-C76493F1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497B-11C9-4FB7-A28E-4D112FF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EDF1-F31D-43FF-908A-B05AF70B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DB63-64CB-493B-8083-26C4F8A7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E1E-D491-4B56-822B-26F26AF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44B4-D8C1-4479-BB4C-8DC734B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2027-62B8-4BB9-BF6B-F740473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890A-DEE8-41ED-870D-5A3EA21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4244-7107-493F-AA0B-5F22743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33FD-080B-4EA7-BCC0-E1139B1F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54DD-1958-41C1-9CD8-B5C8B07E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0F62-F0C6-4CB3-AB11-4AD6187A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F732-161C-40D1-94D0-7ADA8C14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D5FD-9C1F-4BB9-96B0-D209B974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53FE-0553-4816-A561-8681640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3C1-64FD-4C8C-AF90-F9E095CA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36CB-C57F-42E5-A6AD-DDF4933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D6E0-1459-45B2-AC21-76D7111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8DE2-7BF0-4508-85E0-1332D5F1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11B7-3567-487D-9A57-8713AFF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9B13-ACA2-4846-9CED-EF65C40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2DF23-5B7F-43C2-8434-737716B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A5D6-64B1-4637-80B6-5208A05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B3C9-BB45-4696-8ACC-DBC1560F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519F-F6B9-4252-9A41-DFEC16C0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7A3-7F68-4AFF-B08A-7B87C59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46B-4E41-421B-89A5-FFE36B4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FB3-B487-4494-BCF2-11F59058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B0D-32C5-469B-8DA0-29DD813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780-89CB-434F-A68D-FCD68B6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6AD9-E4A7-4AF3-8456-402A9AB061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ADBA-9BE5-4DB0-97C1-8731915B07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FF3-8D53-45AC-B685-AACE359980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F37-8771-4E2B-9DB5-74C1AA64FB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"/>
                <a:ea typeface="Arial"/>
              </a:rPr>
              <a:t>Common Expert Group on Emission Reduction of the Inland Waterway Transport Fleet</a:t>
            </a:r>
            <a:br>
              <a:rPr sz="3200"/>
            </a:br>
            <a:r>
              <a:rPr b="1" lang="en-GB" sz="2000" spc="-1" strike="noStrike">
                <a:solidFill>
                  <a:srgbClr val="ffd624"/>
                </a:solidFill>
                <a:latin typeface="Arial"/>
                <a:ea typeface="Arial"/>
              </a:rPr>
              <a:t>Roadmap</a:t>
            </a:r>
            <a:br>
              <a:rPr sz="20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Arial"/>
                <a:ea typeface="Arial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orge de Britto Patrício-Dia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. Problem and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000" y="2205000"/>
            <a:ext cx="856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Narrowing gap between road transport and IWT regarding air emiss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Driver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Lack of emission regulations for several decades  compared to road transpo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Long serviceable lifetime of IWT engines compared to road transpo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Small market for IWT engin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156360" y="5014800"/>
            <a:ext cx="2548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. Major Challeng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2133360"/>
            <a:ext cx="84945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Current legislation on emissions only applicable to new IWT flee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ocus should be widened to legacy fleet (existing engin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4 Major pollutan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CO2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P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SOx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NOx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Emission reduction achieved by technical and/or operational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000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1520" y="126828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I. To be assesse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1988640"/>
            <a:ext cx="8567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Measures at other level or voluntary measure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Differentiated port dues/fe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Green labell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peed limits in environmentally sensitive are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Cruise control syste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Exchange of information on best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In parts already taking pla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Legislative measure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More stringent standards for new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et emission standards for existing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et emission standards for both types of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Explore  specific measures to soften financial 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99960" indent="-34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300720" y="5877000"/>
            <a:ext cx="2354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02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V. Progress to Dat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2491920"/>
            <a:ext cx="8496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Study by PLATINA under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  <a:ea typeface="Arial"/>
              </a:rPr>
              <a:t>SWP6.4 – Policy Support</a:t>
            </a: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 on greening the fleet – to be finished by end Octo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Marco Polo II: </a:t>
            </a: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Provision of support services in the field of inland waterway transport – as of Octo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338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. Future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1120" y="2133720"/>
            <a:ext cx="8494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Impact assess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Report based on findings of PLATINA and Marco Pol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To be presented to the IAB for its December sess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3 meetings of Common Expert Group on Reducing the Emissions of the Inland Waterway Transport Fleet until end of the yea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Adoption of proposal(s) for legislative measure(s) on emission reduction in IWT in early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6300720" y="5154480"/>
            <a:ext cx="26989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506520" y="1125360"/>
            <a:ext cx="8157960" cy="5437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900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6" name="Picture 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06-08T10:00:36Z</cp:lastPrinted>
  <dcterms:modified xsi:type="dcterms:W3CDTF">2012-10-09T17:29:24Z</dcterms:modified>
  <cp:revision>168</cp:revision>
  <dc:subject/>
  <dc:title>Slide 1</dc:title>
</cp:coreProperties>
</file>