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24D-6A1D-47EE-9703-07FE7F989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536-7915-47D7-A14F-AE7A7A80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F0EE-23CC-4613-AC4D-570B2283F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8EAB-BDF8-4F64-940E-95A2EFCBF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54C8-8AAC-4012-B79A-6D3F0F70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3D56-8EA3-4C55-8E68-30BCA597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24063-892D-4BDA-867F-E8339A523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E6EB6-7F92-4C3D-9CFD-BA6754E07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5243F-DD8A-4CBB-8B03-B22A9D60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C4DAE-0D2B-4A06-BDC3-34149B82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D46E-9E60-4A43-A00B-79FF2C4B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4075-CD9C-4C88-BD61-22C626DD7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F741-06C0-40FA-8EB2-C49ACED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99F5-0046-4B30-9568-1486B4AF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2FE-D99B-4154-8CD6-EAC91A9D8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3128-E7AE-44EE-B2E1-6E01A721F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119E4-A40C-4E02-B790-F2560937E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2338F-F4A6-48F0-9601-61E15D92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18B11-D03C-48E0-A4E1-5026AE60B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7C758-5DE5-494B-96BB-1FEF1BB9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95725-3BB0-439C-B78B-98126B5F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BD724-E5AF-4194-B47F-DACE14CE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134-8DD4-469C-9B3D-E9073CDD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10C84-F9CF-4D58-B6F5-14D65BA34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62F5B-25BC-4205-B273-C20EFCEF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AF2B2-7BFD-46D9-A131-ACFD02EA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453FC-E63B-4E00-81B6-CC76EA1C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FC585-EB60-4956-9051-C69F7968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AAE52-008C-42A9-829A-E47AC6CC5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55EE8-A733-4453-BA31-AAA5FF5D2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D4405-C42E-44E9-BAAD-0480B64EC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B3258-B638-4FE9-A9CB-A6B1ECCF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B5D2D-755B-4886-9CC1-0A5EAFB6D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210-4AA1-4B74-B80C-8FD687CE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8CCDF-FD20-4E2D-A05E-A9CA828C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4642E-209E-4A88-918F-C93627A2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F6B4B-BE7B-484B-BCE3-BB4D6A71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25294-412C-4698-9B68-8F99409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97463-01CC-431A-B387-3E1EFE3B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C636E-008D-44DC-B5FF-214D7CA6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1A19-B47F-48D0-8FE6-688287CF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7B364-BF7F-4AA1-9ED5-3A4CA223F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F22D-8C5D-4397-AFCD-9184E2CF7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B7C-0E80-47D9-A1F9-2CFD88A5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C158-C8A7-4542-8624-24C89FED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29B6-4601-4135-A1F7-279897EE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FB7-2717-4C09-A60E-F9CBF841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E3F9-CEF3-4B54-8BD6-BBBB8F53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21D7-A2B9-401C-A2A4-EDE9DB79B6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F0DF-1165-4829-A1FB-2A1F22E31AF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" name="Picture 8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E586-4059-41BF-92B4-10DFFDE7063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60FA-239C-48BF-9C3A-8282B1C1F1B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824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Arial"/>
                <a:ea typeface="Arial"/>
              </a:rPr>
              <a:t>Common Expert Group on Emission Reduction of the Inland Waterway Transport Fleet</a:t>
            </a:r>
            <a:br>
              <a:rPr sz="3200"/>
            </a:br>
            <a:r>
              <a:rPr b="1" lang="en-GB" sz="2000" spc="-1" strike="noStrike">
                <a:solidFill>
                  <a:srgbClr val="ffd624"/>
                </a:solidFill>
                <a:latin typeface="Arial"/>
                <a:ea typeface="Arial"/>
              </a:rPr>
              <a:t>Roadmap</a:t>
            </a:r>
            <a:br>
              <a:rPr sz="2000"/>
            </a:b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Arial"/>
                <a:ea typeface="Arial"/>
              </a:rPr>
              <a:t>Ports &amp; Inland Navig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5013000"/>
            <a:ext cx="8353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Jorge de Britto Patrício-Dias 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Geneva, 10 October 2012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68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. Problem and Driv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68000" y="2205000"/>
            <a:ext cx="8567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Narrowing gap between road transport and IWT regarding air emission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Driver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  <a:ea typeface="Arial"/>
              </a:rPr>
              <a:t>Lack of emission regulations for several decades  compared to road transpo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Long serviceable lifetime of IWT engines compared to road transpo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8584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Small market for IWT engine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Picture 3" descr=""/>
          <p:cNvPicPr/>
          <p:nvPr/>
        </p:nvPicPr>
        <p:blipFill>
          <a:blip r:embed="rId1"/>
          <a:stretch/>
        </p:blipFill>
        <p:spPr>
          <a:xfrm>
            <a:off x="6156360" y="5014800"/>
            <a:ext cx="254808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74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I. Major Challenges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68360" y="2133360"/>
            <a:ext cx="849456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Current legislation on emissions only applicable to new IWT flee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Focus should be widened to legacy fleet (existing engines)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4 Major pollutants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CO2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PM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SOx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buClr>
                <a:srgbClr val="0f5494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Arial"/>
                <a:ea typeface="Arial"/>
              </a:rPr>
              <a:t>NOx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52000" indent="-2743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Emission reduction achieved by technical and/or operational measure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5651640" y="3789360"/>
            <a:ext cx="30002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1520" y="1268280"/>
            <a:ext cx="8682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II. To be assessed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68000" y="1988640"/>
            <a:ext cx="8567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Business as usual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Measures at other level or voluntary measure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Differentiated port dues/fe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Green labelling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Speed limits in environmentally sensitive area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Cruise control system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Exchange of information on best practic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In parts already taking place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Legislative measures: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More stringent standards for new engi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Set emission standards for existing engi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Set emission standards for both types of engines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Explore  specific measures to soften financial impact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99960" indent="-34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6300720" y="5877000"/>
            <a:ext cx="235440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028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IV. Progress to Date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000" y="2491920"/>
            <a:ext cx="849636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Study by PLATINA under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  <a:ea typeface="Arial"/>
              </a:rPr>
              <a:t>SWP6.4 – Policy Support</a:t>
            </a: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 on greening the fleet – to be finished by end October 2012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Marco Polo II: </a:t>
            </a:r>
            <a:r>
              <a:rPr b="0" lang="en-GB" sz="2400" spc="-1" strike="noStrike">
                <a:solidFill>
                  <a:srgbClr val="0f5494"/>
                </a:solidFill>
                <a:latin typeface="Arial"/>
                <a:ea typeface="Arial"/>
              </a:rPr>
              <a:t>Provision of support services in the field of inland waterway transport – as of October 2012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5364000" y="4797360"/>
            <a:ext cx="33386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85741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Arial"/>
                <a:ea typeface="Arial"/>
              </a:rPr>
              <a:t>V. Future Step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1120" y="2133720"/>
            <a:ext cx="84949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Impact assess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Report based on findings of PLATINA and Marco Polo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To be presented to the IAB for its December session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349"/>
              </a:spcBef>
              <a:buClr>
                <a:srgbClr val="0f5494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f5494"/>
                </a:solidFill>
                <a:latin typeface="Arial"/>
                <a:ea typeface="Arial"/>
              </a:rPr>
              <a:t>3 meetings of Common Expert Group on Reducing the Emissions of the Inland Waterway Transport Fleet until end of the yea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 lvl="2" marL="12002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Arial"/>
                <a:ea typeface="Arial"/>
              </a:rPr>
              <a:t>Adoption of proposal(s) for legislative measure(s) on emission reduction in IWT in early 2013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6300720" y="5154480"/>
            <a:ext cx="269892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2" descr=""/>
          <p:cNvPicPr/>
          <p:nvPr/>
        </p:nvPicPr>
        <p:blipFill>
          <a:blip r:embed="rId1"/>
          <a:stretch/>
        </p:blipFill>
        <p:spPr>
          <a:xfrm>
            <a:off x="506520" y="1125360"/>
            <a:ext cx="8157960" cy="543744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15640" y="1052280"/>
            <a:ext cx="73436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  <a:ea typeface="Arial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19000" y="191628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6" name="Picture 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E BRITTO PATRICIO-DIAS Jorge (MOVE)</cp:lastModifiedBy>
  <cp:lastPrinted>2012-06-08T10:00:36Z</cp:lastPrinted>
  <dcterms:modified xsi:type="dcterms:W3CDTF">2012-10-09T17:29:24Z</dcterms:modified>
  <cp:revision>168</cp:revision>
  <dc:subject/>
  <dc:title>Slide 1</dc:title>
</cp:coreProperties>
</file>