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884-67A2-42BF-B444-8A9652420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026-8D11-4F0B-95C1-2B66ECB3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7D51-FDCA-40F4-A588-20BC3F4C9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FF9A-AE49-42FC-BC94-2C0EFD4F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A1C5-9B9A-440A-8EAE-DF3D98C0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FAFF-08BB-4786-921F-3A65663D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390B-1FE6-4568-B43B-51FCF034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93A2-4DD1-40E4-BCA6-1C530276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FD05-5F41-478C-9B44-65689C3F2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BC61-888D-4752-A7ED-9F1B146C8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A1348-6378-48DE-A607-63E41305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5133-804C-4CF9-9913-D80358FAF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0D7D-EF21-48BD-8F1D-5D376694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9802-2808-4847-AEC3-EAA16EB6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244A-A9FC-4F96-AE3F-574EDE06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14F7-F270-48A7-87AF-6F30D9DB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01BC-CFF2-41B2-B658-16298DD3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FCF07-57D7-4A00-B4CC-04B1008D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85DE9-78F6-4956-8A12-97A0BC5E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5AF90-58B9-4E17-9380-BC0C122BE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72C8F-8564-4D16-9876-902E4DC3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5764C-1E19-4DB4-9735-748F2C93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2640-0467-4798-A7FD-20355B67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C800A-467D-4FED-8A44-10C97D9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480B5-C9E4-430A-8627-79F52DF8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FBAC-FEA5-4FCC-8C80-E527EFD9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56E16-E942-4DE9-900D-AAB7F81C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60900-2E78-4A80-82CF-65B33A61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FF3F4-200B-4891-845A-0C161FFD9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D0A96-E671-4966-A5DF-75E2945E0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46A8A-2885-4136-BFF3-0044374E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E5E3-78A1-4764-83E1-63B1B2A7D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65C21-70F3-4BF7-B360-C1C58228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28B9-98AB-4637-88F4-258F201DA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34FE3-8DB0-4ECD-B86A-ED96773A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CFC93-3593-41D6-9B0C-3402C188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FF985-E517-4E52-ADDB-5C9661F78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2588-EBBB-4D69-A594-70ED0D21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443F-F5EF-41E6-B752-9F2481C6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569A-5F28-4C3B-828D-71C51752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0CEA3-83F4-49DD-847B-C44A8FE88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3EDAB-3D87-4EB3-9A64-FBBC0725E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3DEEF-EE5F-4CC5-A4F8-508BC208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1E2-46E7-4FDF-B161-F53799A04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E90A-2C71-4C2F-AAA4-61906706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2130-B17C-47D6-8FA2-FC8650C4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C287-2E76-4905-917F-298229FE4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BA82-A5DF-4BD5-BCD7-8D30DA64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76B5-6366-4267-93B5-B04B08691C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2396-DF02-4BD9-AF4E-3028719BB97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" name="Picture 8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B138-ED56-4DA9-B114-D7ED4339BDD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6852-EADF-4531-A392-90F77BCA5D8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4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Arial"/>
                <a:ea typeface="Arial"/>
              </a:rPr>
              <a:t>Roadmap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fd624"/>
                </a:solidFill>
                <a:latin typeface="Arial"/>
                <a:ea typeface="Arial"/>
              </a:rPr>
              <a:t>TOWARDS NAIADES II</a:t>
            </a:r>
            <a:br>
              <a:rPr sz="4000"/>
            </a:br>
            <a:br>
              <a:rPr sz="4000"/>
            </a:br>
            <a:r>
              <a:rPr b="1" lang="en-GB" sz="2400" spc="-1" strike="noStrike">
                <a:solidFill>
                  <a:srgbClr val="ffd624"/>
                </a:solidFill>
                <a:latin typeface="Arial"/>
                <a:ea typeface="Arial"/>
              </a:rPr>
              <a:t>Ports &amp; Inland Navig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5013000"/>
            <a:ext cx="8353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Jorge de Britto Patrício-Dias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Geneva, 10 October 2012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68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. Problem and Driv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8000" y="2205000"/>
            <a:ext cx="8567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Full potential of IWT not used in terms of sustainability and of economic performanc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Driver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IWT infrastructure problem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Market and regulatory failures preventing internalising external costs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Insufficient integration of IWT into the door-to-door logistic chain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The fragmentation of the sector and fragmentation of governanc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156360" y="5014800"/>
            <a:ext cx="25480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74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I. Objective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39280" y="2349360"/>
            <a:ext cx="849492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to bring the performance of inland navigation on par with the performance of the other transport modes, for volumes of freight transported and for sustainability aspec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5" descr="S:\Dir-B\B3\1. Inland Waterway Transport\Maps and photos\3_1INE11.jpg"/>
          <p:cNvPicPr/>
          <p:nvPr/>
        </p:nvPicPr>
        <p:blipFill>
          <a:blip r:embed="rId1"/>
          <a:stretch/>
        </p:blipFill>
        <p:spPr>
          <a:xfrm>
            <a:off x="4788000" y="3716280"/>
            <a:ext cx="34383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1520" y="1008000"/>
            <a:ext cx="868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II. Option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000" y="1917360"/>
            <a:ext cx="8567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1) Business as usu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2) Revise NAIADES I without changing the legislative contex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Infrastructure and faciliti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Markets and innov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Information exchange and shar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Streamlining of governanc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3) Revise NAIADES I alongside new legislative meas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Flee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Jobs &amp; Skill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Technical adaptation to Technical requirements Directive 2006/87/EC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99960" indent="-34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5" name="Picture 5" descr="S:\Dir-B\B3\1. Inland Waterway Transport\Maps and photos\3_1INE05.jpg"/>
          <p:cNvPicPr/>
          <p:nvPr/>
        </p:nvPicPr>
        <p:blipFill>
          <a:blip r:embed="rId1"/>
          <a:stretch/>
        </p:blipFill>
        <p:spPr>
          <a:xfrm>
            <a:off x="7093080" y="5410080"/>
            <a:ext cx="1726920" cy="12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000" y="134136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IV. Impac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000" y="249192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1) Business as usu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Not an option: NAIADES I is outdated and more focus is needed on key problem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2) Revise NAIADES I without changing the legislative contex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Substantial benefits mainly from TEN-T and HORIZON 2020 implementat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Key problem areas remain unadressed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(3) Revise NAIADES I alongside new legislative meas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f5494"/>
                </a:solidFill>
                <a:latin typeface="Arial"/>
                <a:ea typeface="Arial"/>
              </a:rPr>
              <a:t>Benefits from option (2)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163880" indent="-27720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Address barriers related to jobs &amp; skills and market failures at the source of the diminishing environmental profile of the secto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02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V. Progress to Date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8000" y="2491920"/>
            <a:ext cx="8496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Various stakeholders consultation meeting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Internet consult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31 May 2012: Staff Working Document "Towards NAIADES II"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tretch/>
        </p:blipFill>
        <p:spPr>
          <a:xfrm>
            <a:off x="5364000" y="4797360"/>
            <a:ext cx="3338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74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VI. Future Ste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01120" y="2133720"/>
            <a:ext cx="84949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No impact assessment for Communication as a whole…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But impact assessment for identified components of the Communication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Further stakeholder meeting foreseen in December 2012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Adoption of Communication in Spring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Picture 5" descr=""/>
          <p:cNvPicPr/>
          <p:nvPr/>
        </p:nvPicPr>
        <p:blipFill>
          <a:blip r:embed="rId1"/>
          <a:stretch/>
        </p:blipFill>
        <p:spPr>
          <a:xfrm>
            <a:off x="6300720" y="5154480"/>
            <a:ext cx="26989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05228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70c0"/>
                </a:solidFill>
                <a:latin typeface="Arial"/>
                <a:ea typeface="Arial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6" name="Picture 7" descr="LOGO CE_Vertical_EN_NEG_quadri_HR"/>
          <p:cNvPicPr/>
          <p:nvPr/>
        </p:nvPicPr>
        <p:blipFill>
          <a:blip r:embed="rId1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S:\Dir-B\B3\1. Inland Waterway Transport\Maps and photos\3_1INE15.jpg"/>
          <p:cNvPicPr/>
          <p:nvPr/>
        </p:nvPicPr>
        <p:blipFill>
          <a:blip r:embed="rId2"/>
          <a:stretch/>
        </p:blipFill>
        <p:spPr>
          <a:xfrm>
            <a:off x="2098800" y="2565360"/>
            <a:ext cx="5041800" cy="3743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468000" y="2491920"/>
            <a:ext cx="4895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E BRITTO PATRICIO-DIAS Jorge (MOVE)</cp:lastModifiedBy>
  <cp:lastPrinted>2012-06-08T10:00:36Z</cp:lastPrinted>
  <dcterms:modified xsi:type="dcterms:W3CDTF">2012-10-09T10:50:42Z</dcterms:modified>
  <cp:revision>167</cp:revision>
  <dc:subject/>
  <dc:title>Slide 1</dc:title>
</cp:coreProperties>
</file>