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51A-0E03-4AEB-867D-CFACDBE7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904-179A-4045-8895-4C02653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3BA-BFFD-4830-8B6A-B8E1666A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6EB-BAEA-41DC-AB33-46AC8E5B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1C9C-24BD-4DED-97E3-AA8D1157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5D05-7B4C-4D40-A18D-BDF5ED9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235D-B64E-40E6-A83C-DFA40D6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376-96CD-495B-A7AA-A4469ED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AB83-91C7-41BF-A7B9-6E91CAF8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04DE-D7D7-410B-BCD9-A3E9923F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7FE4-B1F0-4FD1-ABB8-133D8EA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C3E-0F58-4614-BEAE-F5ADFE7A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7C6F-0D5A-4F06-B834-718D508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670B-1751-4C4C-8B72-810907B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84CA-8F00-421F-9493-42FB93BD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488A-D266-4C63-842E-04401A71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FAD7-D644-4BD5-9583-28CADA20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17FD-44C0-4354-91A4-5B361D51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5D6C-45D2-4C51-AF9F-42F63AAB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848D-C5A5-4A6E-A22C-E8A43ECE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DEC9-29B4-4468-9CDC-E44F5F8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76FE-173D-469F-8FEB-90C12F64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7B9-59F4-4C4E-972D-DE2E20D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C9FD-9452-48C4-8C9E-F1C07203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E40F-7E07-494C-B893-7772E49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BBA2-E6FB-46BD-B4B9-F3B66530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2F95-B391-421A-AAC0-8134A58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CF7B-667E-4216-B75A-68F8E8E7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7BB2-AA7F-4A4A-B2FD-E1C04C7D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8CED7-7654-436E-B4D9-2C917005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2F17-5546-4263-851F-922D0ADE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1AB5-76A7-44CD-BC8E-C5F59A6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9D4A-ACEA-4338-8FAE-E48F8CAE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96E-A616-4B80-B44C-854583FC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9C4F-58DF-47AB-982A-AD0686B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F37D-3134-4B7B-BA21-861562FC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5DD0-1611-4973-A8C8-553BA04A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B992-653B-4DB9-B6D5-AD6845B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0FAF-513D-4D55-9F45-E88DF14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F23C-E397-4446-8603-49CAA66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BFC8-24D3-42D4-BC40-F0FDA9EE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E813-EC8C-4DAD-B9CC-5B0A30D7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4934-7CEF-48DD-97E5-DE26BFFF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480-C1A2-427F-A032-67190831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7BC-8696-44D8-B3D7-DC343720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1BF-B7E3-4E76-9112-811AB05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4F1-D303-46F8-87E3-A93D7D48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E37-FEEA-44A7-8D37-6840419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14E-F2DD-4D63-92ED-836DDD9FA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A0F-492E-4F6B-B7F7-70F218C18B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355-9F8D-4430-8482-34F806A70D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7F4-74C9-46A6-936C-A48774676D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Arial"/>
                <a:ea typeface="Arial"/>
              </a:rPr>
              <a:t>Roadmap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Arial"/>
                <a:ea typeface="Arial"/>
              </a:rPr>
              <a:t>TOWARDS NAIADES II</a:t>
            </a:r>
            <a:br>
              <a:rPr sz="4000"/>
            </a:br>
            <a:br>
              <a:rPr sz="4000"/>
            </a:br>
            <a:r>
              <a:rPr b="1" lang="en-GB" sz="2400" spc="-1" strike="noStrike">
                <a:solidFill>
                  <a:srgbClr val="ffd624"/>
                </a:solidFill>
                <a:latin typeface="Arial"/>
                <a:ea typeface="Arial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orge de Britto Patrício-Dia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. Problem and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000" y="2205000"/>
            <a:ext cx="856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ull potential of IWT not used in terms of sustainability and of economic performanc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Driver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IWT infrastructure problem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Market and regulatory failures preventing internalising external cos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Insufficient integration of IWT into the door-to-door logistic chai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The fragmentation of the sector and fragmentation of govern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156360" y="5014800"/>
            <a:ext cx="2548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. Objectiv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280" y="2349360"/>
            <a:ext cx="84949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to bring the performance of inland navigation on par with the performance of the other transport modes, for volumes of freight transported and for sustainability aspe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5" descr="S:\Dir-B\B3\1. Inland Waterway Transport\Maps and photos\3_1INE11.jpg"/>
          <p:cNvPicPr/>
          <p:nvPr/>
        </p:nvPicPr>
        <p:blipFill>
          <a:blip r:embed="rId1"/>
          <a:stretch/>
        </p:blipFill>
        <p:spPr>
          <a:xfrm>
            <a:off x="4788000" y="3716280"/>
            <a:ext cx="3438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1520" y="100800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I. Op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1917360"/>
            <a:ext cx="8567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1) 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2) Revise NAIADES I without changing the legislative contex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Infrastructure and facil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Markets and innov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Information exchange and sh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Streamlining of governa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3) Revise NAIADES I alongside new legislative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Flee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Jobs &amp;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Technical adaptation to Technical requirements Directive 2006/87/EC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99960" indent="-34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5" descr="S:\Dir-B\B3\1. Inland Waterway Transport\Maps and photos\3_1INE05.jpg"/>
          <p:cNvPicPr/>
          <p:nvPr/>
        </p:nvPicPr>
        <p:blipFill>
          <a:blip r:embed="rId1"/>
          <a:stretch/>
        </p:blipFill>
        <p:spPr>
          <a:xfrm>
            <a:off x="7093080" y="5410080"/>
            <a:ext cx="17269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IV. Impac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2491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1) 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Not an option: NAIADES I is outdated and more focus is needed on key proble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2) Revise NAIADES I without changing the legislative contex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Substantial benefits mainly from TEN-T and HORIZON 2020 implement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Key problem areas remain unadress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3) Revise NAIADES I alongside new legislative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Benefits from option (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Address barriers related to jobs &amp; skills and market failures at the source of the diminishing environmental profile of the secto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02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. Progress to Dat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2491920"/>
            <a:ext cx="8496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Various stakeholders consultation meeting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Internet consult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31 May 2012: Staff Working Document "Towards NAIADES II"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338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I. Future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1120" y="2133720"/>
            <a:ext cx="8494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No impact assessment for Communication as a whole…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But impact assessment for identified components of the Communication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urther stakeholder meeting foreseen in Decem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Adoption of Communication in Spring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300720" y="5154480"/>
            <a:ext cx="26989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Arial"/>
                <a:ea typeface="Arial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6" name="Picture 7" descr="LOGO CE_Vertical_EN_NEG_quadri_HR"/>
          <p:cNvPicPr/>
          <p:nvPr/>
        </p:nvPicPr>
        <p:blipFill>
          <a:blip r:embed="rId1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S:\Dir-B\B3\1. Inland Waterway Transport\Maps and photos\3_1INE15.jpg"/>
          <p:cNvPicPr/>
          <p:nvPr/>
        </p:nvPicPr>
        <p:blipFill>
          <a:blip r:embed="rId2"/>
          <a:stretch/>
        </p:blipFill>
        <p:spPr>
          <a:xfrm>
            <a:off x="2098800" y="2565360"/>
            <a:ext cx="504180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06-08T10:00:36Z</cp:lastPrinted>
  <dcterms:modified xsi:type="dcterms:W3CDTF">2012-10-09T10:50:42Z</dcterms:modified>
  <cp:revision>167</cp:revision>
  <dc:subject/>
  <dc:title>Slide 1</dc:title>
</cp:coreProperties>
</file>