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46BB-FA99-4486-A88C-9290E8917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9D28-239D-4735-BB1E-9046F37D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4507-E54F-4C3B-A934-42779CE67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12328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377856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800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12328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377856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ECA6-BEFB-4B5E-AB9E-362EEB382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EC61-C655-4DF1-A67C-3AF0A6312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D9F5-6848-421C-8940-7CB1C367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E13CE-25DA-4A80-8199-E475A6F2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7307-2DDE-4154-9FBB-FBC07DD6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AF9E-2010-46EA-8818-526174DB8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1520" y="1339920"/>
            <a:ext cx="4902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A2F9-0085-4936-BD6E-C17B68DC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3B9B-01D8-4C1C-A3EE-5725D68C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657A-97B3-4B9B-82FB-73D886EF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5B4DD-88E2-42A0-8394-A82282CF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B4A0-C4F3-4AD8-B5B8-F24436FCA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887AC-04CC-4A9A-8322-11274509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ADBF-28EB-4515-B5F7-08C7364E5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12328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77856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800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12328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377856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0EA9-D75F-4150-82F1-5A36499AC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59C2C-86C7-4C58-928E-26B7CF672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9C388-7D2B-47EE-95A6-6C990258C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81011-C11F-4904-9E26-903C0194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A6ADF-C114-4446-99DB-D9FBEFF0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681B2-FE2B-4266-91F0-736F3BB8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BFB6-2953-49D2-AC04-BD8D9D38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1520" y="1339920"/>
            <a:ext cx="4902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1624E-B245-4FB6-AF62-B21217F8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1F4F1-19A1-4AAC-B4B2-59AB44AE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95983-45E1-4752-90C4-7568344E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AC834-BC97-451E-A68C-A23981B48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2520A-C966-4B2D-AB16-8B4CCADF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E8CBB-12CD-4788-B1E4-CB57094E0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12328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77856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800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212328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377856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454C1-3057-43C6-9D8A-9B8926587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A2486-FBDE-463D-9379-67B295B11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C81B1-2655-4459-B136-E8439544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57802-DC32-4E13-AA5D-0F947560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27E2-52B9-40CA-9E63-A07764C3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AEF12-FA4D-4CE7-B61E-E46AB295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96EC8-93E3-435C-99B3-289ED2F05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61520" y="1339920"/>
            <a:ext cx="4902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AD29C-80B7-4596-A297-38529D80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29DD9-CDCE-43BB-846B-FE908317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9762D-3A44-4984-910D-54E29B58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46E0C-3179-4A67-B4A8-F6B485D3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BA8BF-3E8C-4D98-B650-621F618CE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10AA4-96E2-422A-9999-E7961696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12328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778560" y="249192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800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212328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3778560" y="4335480"/>
            <a:ext cx="157608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3BD20-5CD2-47D7-9FF8-84A22408C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D131-6DCF-4C57-B934-641D4F0F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1520" y="1339920"/>
            <a:ext cx="49021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240F-E0D9-4794-82A8-2C5BA5F0A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3C1A-DBC0-4ABD-A0B7-D6592BCF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76840" y="433548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48D1-12E9-4404-85BF-B4FF80F4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00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76840" y="2491920"/>
            <a:ext cx="238896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000" y="4335480"/>
            <a:ext cx="489564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BADD-16F8-413C-9759-A3994DE8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1992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E54E-415B-49B0-BFE7-CDC3B4F0BF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6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7" name="Rectangle 6"/>
          <p:cNvSpPr/>
          <p:nvPr/>
        </p:nvSpPr>
        <p:spPr>
          <a:xfrm>
            <a:off x="427212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1992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5186-EC18-476C-A1E8-70727FF3216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50" name="Picture 8" descr="LOGO CE_Vertical_EN_NEG_quadri_HR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427212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981000"/>
            <a:ext cx="913464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9" name="Picture 6" descr="LOGO CE-EN-quadri.eps"/>
          <p:cNvPicPr/>
          <p:nvPr/>
        </p:nvPicPr>
        <p:blipFill>
          <a:blip r:embed="rId2"/>
          <a:stretch/>
        </p:blipFill>
        <p:spPr>
          <a:xfrm>
            <a:off x="3976560" y="26028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1"/>
          <p:cNvSpPr/>
          <p:nvPr/>
        </p:nvSpPr>
        <p:spPr>
          <a:xfrm>
            <a:off x="426240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1992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BB33-E18E-4C11-8786-B3B8D009F4D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LOGO CE-EN-quadri.eps"/>
          <p:cNvPicPr/>
          <p:nvPr/>
        </p:nvPicPr>
        <p:blipFill>
          <a:blip r:embed="rId2"/>
          <a:stretch/>
        </p:blipFill>
        <p:spPr>
          <a:xfrm>
            <a:off x="3976560" y="26028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0"/>
          <p:cNvSpPr/>
          <p:nvPr/>
        </p:nvSpPr>
        <p:spPr>
          <a:xfrm>
            <a:off x="426240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1520" y="1339920"/>
            <a:ext cx="49021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68000" y="2491920"/>
            <a:ext cx="489564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085760" indent="-217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519920" indent="-217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1954440" indent="-217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C170-9F5A-4CDF-926C-2F25C8A0E85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00000" y="1844640"/>
            <a:ext cx="82440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d624"/>
                </a:solidFill>
                <a:latin typeface="Verdana"/>
              </a:rPr>
              <a:t>NAIADES Implementation meeting</a:t>
            </a:r>
            <a:br>
              <a:rPr sz="3200"/>
            </a:br>
            <a:r>
              <a:rPr b="1" lang="en-GB" sz="2000" spc="-1" strike="noStrike">
                <a:solidFill>
                  <a:srgbClr val="ffd624"/>
                </a:solidFill>
                <a:latin typeface="Verdana"/>
              </a:rPr>
              <a:t>Staff working document "Towards NAIADES II"</a:t>
            </a:r>
            <a:br>
              <a:rPr sz="2000"/>
            </a:br>
            <a:br>
              <a:rPr sz="2400"/>
            </a:br>
            <a:r>
              <a:rPr b="1" lang="en-GB" sz="2400" spc="-1" strike="noStrike">
                <a:solidFill>
                  <a:srgbClr val="ffd624"/>
                </a:solidFill>
                <a:latin typeface="Verdana"/>
              </a:rPr>
              <a:t>Ports &amp; inland navigat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39640" y="5013000"/>
            <a:ext cx="83534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Verdana"/>
              </a:rPr>
              <a:t>Geneva, 10 October 2012</a:t>
            </a:r>
            <a:endParaRPr b="0" i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82800" y="1268280"/>
            <a:ext cx="81612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0000"/>
                </a:solidFill>
                <a:latin typeface="Verdana"/>
              </a:rPr>
              <a:t>Policy contex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423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EU 2020 Strategy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White PAPER "</a:t>
            </a: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Roadmap to a Single European Transport Area</a:t>
            </a: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"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NAIADES I Programme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82800" y="1268280"/>
            <a:ext cx="81612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0000"/>
                </a:solidFill>
                <a:latin typeface="Verdana"/>
              </a:rPr>
              <a:t>Towards NAIADES II 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423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Staff working document results out of a process of strong engagement with stakeholders through various consultation meetings and internet consultat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Staff working paper of 31 May 2012 sets out steps towards NAIADES II Package of Communication with legislative proposals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Reviews and orients NAIADES I policy actions towards preparing NAIADES II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Continuity between NAIADES I and II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82800" y="1268280"/>
            <a:ext cx="81612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0000"/>
                </a:solidFill>
                <a:latin typeface="Verdana"/>
              </a:rPr>
              <a:t>NAIADES Policy evalua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1889280"/>
            <a:ext cx="84232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Necessary to make more use of inland navigat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Verdana"/>
              </a:rPr>
              <a:t>Concern on relative decline in economic and sustainability term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Need to refocus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82800" y="1412640"/>
            <a:ext cx="81612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0000"/>
                </a:solidFill>
                <a:latin typeface="Verdana"/>
              </a:rPr>
              <a:t>One key objective and five them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4232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Reversing current trend of declining economic and environmental performance (in relative terms) of the sector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Five themes: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Infrastructure,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Markets,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Fleet,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Jobs &amp; skills,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f5494"/>
                </a:solidFill>
                <a:latin typeface="Verdana"/>
              </a:rPr>
              <a:t>Information exchange &amp; sharing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82800" y="1412640"/>
            <a:ext cx="81612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0000"/>
                </a:solidFill>
                <a:latin typeface="Verdana"/>
              </a:rPr>
              <a:t>Instruments and governanc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423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Make better use of existing instrument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Fully exploit potential of new instruments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Improved governance/synergy between actors 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82800" y="1412640"/>
            <a:ext cx="81612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ff0000"/>
                </a:solidFill>
                <a:latin typeface="Verdana"/>
              </a:rPr>
              <a:t>Annex with indicative planning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423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Agenda for stakeholder involvement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First actions already under preparat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Verdana"/>
              </a:rPr>
              <a:t>will be reviewed and extended in NAIADES II Communication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2" descr=""/>
          <p:cNvPicPr/>
          <p:nvPr/>
        </p:nvPicPr>
        <p:blipFill>
          <a:blip r:embed="rId1"/>
          <a:stretch/>
        </p:blipFill>
        <p:spPr>
          <a:xfrm>
            <a:off x="-309600" y="1149480"/>
            <a:ext cx="9144000" cy="590364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17440" y="1412640"/>
            <a:ext cx="73440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Thank you for your atten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4262400" y="6659640"/>
            <a:ext cx="5968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ransport</a:t>
            </a:r>
            <a:endParaRPr b="1" lang="en-US" sz="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2" name="Picture 7" descr="LOGO CE_Vertical_EN_NEG_quadri_HR"/>
          <p:cNvPicPr/>
          <p:nvPr/>
        </p:nvPicPr>
        <p:blipFill>
          <a:blip r:embed="rId2"/>
          <a:stretch/>
        </p:blipFill>
        <p:spPr>
          <a:xfrm>
            <a:off x="395460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2"/>
          <p:cNvSpPr/>
          <p:nvPr/>
        </p:nvSpPr>
        <p:spPr>
          <a:xfrm>
            <a:off x="2268360" y="3357720"/>
            <a:ext cx="439272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Verdana"/>
              </a:rPr>
              <a:t>Pushing forward!</a:t>
            </a:r>
            <a:endParaRPr b="1" lang="en-US" sz="3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468000" y="2491920"/>
            <a:ext cx="48956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DE BRITTO PATRICIO-DIAS Jorge (MOVE)</cp:lastModifiedBy>
  <cp:lastPrinted>2012-10-09T15:11:58Z</cp:lastPrinted>
  <dcterms:modified xsi:type="dcterms:W3CDTF">2012-10-09T15:23:34Z</dcterms:modified>
  <cp:revision>140</cp:revision>
  <dc:subject/>
  <dc:title>Slide 1</dc:title>
</cp:coreProperties>
</file>