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C7C-B3AC-4789-A23F-7B716A23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C51-BE9D-4B55-8BDC-2D5E8C1E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208-8F35-4F5D-9625-0369FF50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98F-2CFF-4C00-8FD5-7C70D13F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C139-0D4E-4819-949F-2271D55A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7A94-0705-437C-ADFA-D29E15DC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C842-E881-465D-8811-51551DEC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2BE6-1700-4E44-805E-78D7B9F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FCB8-DBB4-467E-B74C-D880E4F6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2972-388C-45D2-976C-3A6C4A4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CBCB-319F-4346-9368-D44F278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70D-9EA9-434F-9AB8-05C2490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FB34-3F51-4EED-B59F-78F4C72E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7811-AAF1-48D3-B2A9-101C71EB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3A2C-0CCD-4318-A7FF-1E2B869A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A4E3-EEE0-4689-B27D-1C01DFD1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F674-860D-4281-B244-52AA24B6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A669-75ED-49E5-A3F3-EC533A74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01E4-C0B6-41FE-ACE7-AED1E58E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2486-E72B-418F-B994-901AEAC9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29071-C022-48C2-884E-2163B1D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F61C-B55C-4A30-A063-CAD4E16F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F5E-ED6C-4B75-BBCC-5B42E4F1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9F0C-F901-49F6-AC28-EED53A2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3E03C-CCCF-417B-8125-50B0D918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EEA8-2EC2-4059-8A75-39CF2087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FC18-86A8-4AF4-BD32-DB03BE7C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8410-00CA-44FE-82D8-F5F5BE62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5785-1FFA-441C-B1F3-264901CE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012A-4B87-4CB0-B65A-6B60C435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9D1A-E0A6-4461-87DC-643D9E58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34AE1-D8D4-47AD-92E6-4452F75E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E9F6-F223-45AB-86DF-0F932D76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49A-16AC-4B13-A50E-0CA39EDE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E21E4-F642-41EE-B8C1-BA157593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99E06-321F-48B9-9877-1DAA5FD6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A120-366B-4364-B160-64126A30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D032-587B-4FBC-9CC3-EBA1C09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7F73A-6BA4-4C04-86B5-447B805B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F9A54-3691-48E0-89F7-D765696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EE27-45C3-49A9-864B-AADC2FF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68EF5-6A39-4247-855F-3987A5B2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A7AA-30EB-4B5B-BC22-011EFFBE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774-06B4-4B14-8572-14E0E6B3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C8A-4E20-40C8-8EA2-1AEB9013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6BF-7E52-4679-B129-CF22DA2C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0DC-43E4-484F-8E69-7B90077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B0D-D4EA-4B3C-8088-614CA4DF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66FE-34DC-4545-9291-0B51D7A0D7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CF58-737E-4E76-B8EB-1E8BC447B7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" name="Picture 8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3B27-6356-4CBC-A9FF-F0795FC46F8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2B7-0854-4428-90E8-B12E6AAF41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824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NAIADES Implementation meeting</a:t>
            </a:r>
            <a:br>
              <a:rPr sz="3200"/>
            </a:b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Staff working document "Towards NAIADES II"</a:t>
            </a:r>
            <a:br>
              <a:rPr sz="2000"/>
            </a:b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rts &amp; inland navig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5013000"/>
            <a:ext cx="8353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Geneva, 10 October 2012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1268280"/>
            <a:ext cx="8161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Policy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2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U 2020 Strateg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White PAPER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oadmap to a Single European Transport Area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NAIADES I Programm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82800" y="1268280"/>
            <a:ext cx="8161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Towards NAIADES II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2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Staff working document results out of a process of strong engagement with stakeholders through various consultation meetings and internet consult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Staff working paper of 31 May 2012 sets out steps towards NAIADES II Package of Communication with legislative proposal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views and orients NAIADES I policy actions towards preparing NAIADES II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Continuity between NAIADES I and II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1268280"/>
            <a:ext cx="8161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NAIADES Policy evalu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889280"/>
            <a:ext cx="8423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Necessary to make more use of inland navig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ncern on relative decline in economic and sustainability term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Need to refocu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82800" y="1412640"/>
            <a:ext cx="8161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One key objective and five them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423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versing current trend of declining economic and environmental performance (in relative terms) of the sector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Five themes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Infrastructure,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arkets,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Fleet,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Jobs &amp; skills,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Information exchange &amp; sha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82800" y="1412640"/>
            <a:ext cx="8161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Instruments and governanc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42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Make better use of existing instrume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Fully exploit potential of new instrume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Improved governance/synergy between actor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82800" y="1412640"/>
            <a:ext cx="8161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Annex with indicative plan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42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Agenda for stakeholder involve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First actions already under prepar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will be reviewed and extended in NAIADES II Communic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2" descr=""/>
          <p:cNvPicPr/>
          <p:nvPr/>
        </p:nvPicPr>
        <p:blipFill>
          <a:blip r:embed="rId1"/>
          <a:stretch/>
        </p:blipFill>
        <p:spPr>
          <a:xfrm>
            <a:off x="-309600" y="1149480"/>
            <a:ext cx="9144000" cy="5903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7440" y="1412640"/>
            <a:ext cx="73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2" name="Picture 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2268360" y="335772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ushing forward!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8000" y="2491920"/>
            <a:ext cx="4895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E BRITTO PATRICIO-DIAS Jorge (MOVE)</cp:lastModifiedBy>
  <cp:lastPrinted>2012-10-09T15:11:58Z</cp:lastPrinted>
  <dcterms:modified xsi:type="dcterms:W3CDTF">2012-10-09T15:23:34Z</dcterms:modified>
  <cp:revision>140</cp:revision>
  <dc:subject/>
  <dc:title>Slide 1</dc:title>
</cp:coreProperties>
</file>