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88EE-2E09-4861-8038-71A6C10B5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86F1-488F-4A7E-8184-CAA85018A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E99-D69B-4A95-9BEF-39B03BBD3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8E6-55F1-4F72-BD1F-D35CD788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AA0-BA88-420C-9F1B-4D1986E9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978-E767-4EC7-AF4D-D73BEDA9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F1A-180A-41D1-BCCC-CB83716F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734-98E3-4399-8207-086578C7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824-71DF-4E10-9E82-DFB10D0A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393-EDA7-4BA9-8AD7-D395A75C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C7F-2A62-4B1B-BAEC-F66BE24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0FF-D8E8-427B-BFC3-C8253B0E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51C-17ED-48D6-B19D-C9932A4E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C10-BF45-4DFE-A1FA-416D404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FDC-D48F-416B-BAFE-E1A501F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237000"/>
            <a:ext cx="2133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H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A341-D515-4086-BA14-D6FFF845E4B1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"/>
          <p:cNvPicPr/>
          <p:nvPr/>
        </p:nvPicPr>
        <p:blipFill>
          <a:blip r:embed="rId2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0" y="1197000"/>
            <a:ext cx="9144000" cy="487692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261600" y="632340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UNECE Transport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3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0"/>
          <p:cNvSpPr/>
          <p:nvPr/>
        </p:nvSpPr>
        <p:spPr>
          <a:xfrm>
            <a:off x="1523880" y="1522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258920" y="3218040"/>
            <a:ext cx="1685880" cy="2373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101680" y="181440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atabase on main standards and parameters of the E Waterw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4322880" y="3983040"/>
            <a:ext cx="39067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Working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arty on the Standardization of Technical and Safety Requirements in Inland Nav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41st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Geneva, 20-22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June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732720" y="6237360"/>
            <a:ext cx="2133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5160-7E24-4E7A-84DA-93A065AEC2F8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1440000"/>
            <a:ext cx="8854920" cy="4755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51200" y="466560"/>
            <a:ext cx="51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atabase on main standards and parameters of the E Waterw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732720" y="6237360"/>
            <a:ext cx="2133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3D7C-E3EC-42C9-9727-DDE1FD86FAAF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08000" y="1440000"/>
            <a:ext cx="8856720" cy="4776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1951200" y="466560"/>
            <a:ext cx="51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atabase on main standards and parameters of the E Waterw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732720" y="6237360"/>
            <a:ext cx="2133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E6E3-0748-4DA6-93E6-FBA25ADED4F1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08000" y="1440000"/>
            <a:ext cx="8856720" cy="4816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951200" y="466560"/>
            <a:ext cx="51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atabase on main standards and parameters of the E Waterw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732720" y="6237360"/>
            <a:ext cx="2133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E666-E9FE-4D85-8ECE-7EFBD7FBA25A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08000" y="1440000"/>
            <a:ext cx="8856720" cy="4808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1951200" y="466560"/>
            <a:ext cx="51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atabase on main standards and parameters of the E Waterw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732720" y="6237360"/>
            <a:ext cx="2133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B560-A752-4ED5-A394-DBEA3C870443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08000" y="1440000"/>
            <a:ext cx="8856720" cy="4189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1951200" y="466560"/>
            <a:ext cx="51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atabase on main standards and parameters of the E Waterw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732720" y="6237360"/>
            <a:ext cx="2133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5CD4-C553-43F3-BC15-3EE71BE52B64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1619280" y="3068640"/>
            <a:ext cx="63374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deas and feedback on developments that could be made are wel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elegations are invited to provide their comments  (during the session or by email to sc.3@unece.or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ference: I</a:t>
            </a: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nformal document SC.3/WP.3 No. 16 (20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1523880" y="1522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101680" y="181440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atabase on main standards and parameters of the E Waterw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732720" y="6237360"/>
            <a:ext cx="2133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33A2-3B31-4227-962E-BB3B7A8E6A53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8:36:27Z</dcterms:created>
  <dc:creator>Michalis Adamantiadis</dc:creator>
  <dc:description/>
  <dc:language>en-US</dc:language>
  <cp:lastModifiedBy>Valerie Blanchard</cp:lastModifiedBy>
  <dcterms:modified xsi:type="dcterms:W3CDTF">2012-06-20T07:19:14Z</dcterms:modified>
  <cp:revision>220</cp:revision>
  <dc:subject/>
  <dc:title>Slide 1</dc:title>
</cp:coreProperties>
</file>