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458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34b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1200" y="1231920"/>
            <a:ext cx="754524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1200" y="3523680"/>
            <a:ext cx="754524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458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34b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1200" y="1231920"/>
            <a:ext cx="368172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07240" y="1231920"/>
            <a:ext cx="368172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1200" y="3523680"/>
            <a:ext cx="368172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07240" y="3523680"/>
            <a:ext cx="368172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1458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34b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1200" y="1231920"/>
            <a:ext cx="242928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2160" y="1231920"/>
            <a:ext cx="242928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3480" y="1231920"/>
            <a:ext cx="242928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1200" y="3523680"/>
            <a:ext cx="242928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2160" y="3523680"/>
            <a:ext cx="242928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3480" y="3523680"/>
            <a:ext cx="242928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458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34b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1200" y="1231920"/>
            <a:ext cx="75452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458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34b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1200" y="1231920"/>
            <a:ext cx="7545240" cy="438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458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34b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1200" y="1231920"/>
            <a:ext cx="3681720" cy="438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7240" y="1231920"/>
            <a:ext cx="3681720" cy="438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458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34b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145800"/>
            <a:ext cx="80010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458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34b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1200" y="1231920"/>
            <a:ext cx="368172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7240" y="1231920"/>
            <a:ext cx="3681720" cy="438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1200" y="3523680"/>
            <a:ext cx="368172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458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34b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1200" y="1231920"/>
            <a:ext cx="754524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458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34b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1200" y="1231920"/>
            <a:ext cx="3681720" cy="438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7240" y="1231920"/>
            <a:ext cx="368172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7240" y="3523680"/>
            <a:ext cx="368172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458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34b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1200" y="1231920"/>
            <a:ext cx="368172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7240" y="1231920"/>
            <a:ext cx="368172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1200" y="3523680"/>
            <a:ext cx="754524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458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34b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1200" y="1231920"/>
            <a:ext cx="754524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1200" y="3523680"/>
            <a:ext cx="754524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458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34b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1200" y="1231920"/>
            <a:ext cx="368172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7240" y="1231920"/>
            <a:ext cx="368172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1200" y="3523680"/>
            <a:ext cx="368172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7240" y="3523680"/>
            <a:ext cx="368172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458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34b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1200" y="1231920"/>
            <a:ext cx="242928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2160" y="1231920"/>
            <a:ext cx="242928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3480" y="1231920"/>
            <a:ext cx="242928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1200" y="3523680"/>
            <a:ext cx="242928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2160" y="3523680"/>
            <a:ext cx="242928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3480" y="3523680"/>
            <a:ext cx="242928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458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34b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1200" y="1231920"/>
            <a:ext cx="7545240" cy="438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458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34b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1200" y="1231920"/>
            <a:ext cx="3681720" cy="438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07240" y="1231920"/>
            <a:ext cx="3681720" cy="438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458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34b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145800"/>
            <a:ext cx="80010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458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34b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1200" y="1231920"/>
            <a:ext cx="368172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7240" y="1231920"/>
            <a:ext cx="3681720" cy="438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1200" y="3523680"/>
            <a:ext cx="368172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458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34b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1200" y="1231920"/>
            <a:ext cx="3681720" cy="438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7240" y="1231920"/>
            <a:ext cx="368172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07240" y="3523680"/>
            <a:ext cx="368172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458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34b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1200" y="1231920"/>
            <a:ext cx="368172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07240" y="1231920"/>
            <a:ext cx="368172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1200" y="3523680"/>
            <a:ext cx="7545240" cy="209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458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34b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434b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1200" y="1231920"/>
            <a:ext cx="7545240" cy="438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2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34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57240">
            <a:solidFill>
              <a:srgbClr val="9eb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35"/>
          <p:cNvSpPr/>
          <p:nvPr/>
        </p:nvSpPr>
        <p:spPr>
          <a:xfrm>
            <a:off x="163800" y="6372360"/>
            <a:ext cx="33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bdd8"/>
                </a:solidFill>
                <a:latin typeface="Arial"/>
                <a:ea typeface="ＭＳ Ｐゴシック"/>
              </a:rPr>
              <a:t>49</a:t>
            </a:r>
            <a:r>
              <a:rPr b="1" lang="en-US" sz="1800" spc="-1" strike="noStrike" baseline="30000">
                <a:solidFill>
                  <a:srgbClr val="9ebdd8"/>
                </a:solidFill>
                <a:latin typeface="Arial"/>
                <a:ea typeface="ＭＳ Ｐゴシック"/>
              </a:rPr>
              <a:t>th</a:t>
            </a:r>
            <a:r>
              <a:rPr b="1" lang="en-US" sz="1800" spc="-1" strike="noStrike">
                <a:solidFill>
                  <a:srgbClr val="9ebdd8"/>
                </a:solidFill>
                <a:latin typeface="Arial"/>
                <a:ea typeface="ＭＳ Ｐゴシック"/>
              </a:rPr>
              <a:t> Session of UNECE GR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36"/>
          <p:cNvSpPr/>
          <p:nvPr/>
        </p:nvSpPr>
        <p:spPr>
          <a:xfrm>
            <a:off x="6966360" y="6372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bdd8"/>
                </a:solidFill>
                <a:latin typeface="Arial"/>
                <a:ea typeface="ＭＳ Ｐゴシック"/>
              </a:rPr>
              <a:t>16 – 20 Ma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oliennummernplatzhalter 11"/>
          <p:cNvSpPr/>
          <p:nvPr/>
        </p:nvSpPr>
        <p:spPr>
          <a:xfrm>
            <a:off x="4456080" y="6485040"/>
            <a:ext cx="287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B510-93C3-40CB-8C18-6A0DD46F3FBD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7" descr="nouveau logo OICA"/>
          <p:cNvPicPr/>
          <p:nvPr/>
        </p:nvPicPr>
        <p:blipFill>
          <a:blip r:embed="rId2"/>
          <a:srcRect l="0" t="0" r="0" b="-97"/>
          <a:stretch/>
        </p:blipFill>
        <p:spPr>
          <a:xfrm>
            <a:off x="7872480" y="152280"/>
            <a:ext cx="1073160" cy="5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45800"/>
            <a:ext cx="8001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34b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434b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41200" y="1231920"/>
            <a:ext cx="7545240" cy="438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2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feld 11"/>
          <p:cNvSpPr/>
          <p:nvPr/>
        </p:nvSpPr>
        <p:spPr>
          <a:xfrm>
            <a:off x="826920" y="14130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destrian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feld 5"/>
          <p:cNvSpPr/>
          <p:nvPr/>
        </p:nvSpPr>
        <p:spPr>
          <a:xfrm>
            <a:off x="826920" y="266220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34b1"/>
                </a:solidFill>
                <a:latin typeface="Arial"/>
              </a:rPr>
              <a:t>Request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34b1"/>
                </a:solidFill>
                <a:latin typeface="Arial"/>
              </a:rPr>
              <a:t>Clarification Of Test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feld 6"/>
          <p:cNvSpPr/>
          <p:nvPr/>
        </p:nvSpPr>
        <p:spPr>
          <a:xfrm>
            <a:off x="826920" y="450864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ssion of UNECE GRS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va, 16 – 20 May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nouveau logo OICA"/>
          <p:cNvPicPr/>
          <p:nvPr/>
        </p:nvPicPr>
        <p:blipFill>
          <a:blip r:embed="rId1"/>
          <a:stretch/>
        </p:blipFill>
        <p:spPr>
          <a:xfrm>
            <a:off x="5508720" y="907920"/>
            <a:ext cx="3024000" cy="1521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638680" y="380880"/>
            <a:ext cx="324036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Book Antiqua"/>
              </a:rPr>
              <a:t>Informal document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GRSP-49-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(49th GRSP, 16-20 May 201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agenda items 4(c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637920" y="358920"/>
            <a:ext cx="160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destrian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uppieren 31"/>
          <p:cNvGrpSpPr/>
          <p:nvPr/>
        </p:nvGrpSpPr>
        <p:grpSpPr>
          <a:xfrm>
            <a:off x="141120" y="2019240"/>
            <a:ext cx="7661880" cy="4168080"/>
            <a:chOff x="141120" y="2019240"/>
            <a:chExt cx="7661880" cy="4168080"/>
          </a:xfrm>
        </p:grpSpPr>
        <p:grpSp>
          <p:nvGrpSpPr>
            <p:cNvPr id="178" name="Gruppieren 37"/>
            <p:cNvGrpSpPr/>
            <p:nvPr/>
          </p:nvGrpSpPr>
          <p:grpSpPr>
            <a:xfrm>
              <a:off x="141120" y="2019240"/>
              <a:ext cx="7661880" cy="4168080"/>
              <a:chOff x="141120" y="2019240"/>
              <a:chExt cx="7661880" cy="4168080"/>
            </a:xfrm>
          </p:grpSpPr>
          <p:sp>
            <p:nvSpPr>
              <p:cNvPr id="179" name="Freeform 3"/>
              <p:cNvSpPr/>
              <p:nvPr/>
            </p:nvSpPr>
            <p:spPr>
              <a:xfrm>
                <a:off x="1744920" y="4791240"/>
                <a:ext cx="3886920" cy="1388880"/>
              </a:xfrm>
              <a:custGeom>
                <a:avLst/>
                <a:gdLst>
                  <a:gd name="textAreaLeft" fmla="*/ 0 w 3886920"/>
                  <a:gd name="textAreaRight" fmla="*/ 3887280 w 3886920"/>
                  <a:gd name="textAreaTop" fmla="*/ 0 h 1388880"/>
                  <a:gd name="textAreaBottom" fmla="*/ 1389240 h 1388880"/>
                </a:gdLst>
                <a:ahLst/>
                <a:rect l="textAreaLeft" t="textAreaTop" r="textAreaRight" b="textAreaBottom"/>
                <a:pathLst>
                  <a:path w="2720" h="972">
                    <a:moveTo>
                      <a:pt x="0" y="0"/>
                    </a:moveTo>
                    <a:cubicBezTo>
                      <a:pt x="163" y="8"/>
                      <a:pt x="719" y="27"/>
                      <a:pt x="979" y="47"/>
                    </a:cubicBezTo>
                    <a:cubicBezTo>
                      <a:pt x="1239" y="67"/>
                      <a:pt x="1389" y="94"/>
                      <a:pt x="1562" y="123"/>
                    </a:cubicBezTo>
                    <a:cubicBezTo>
                      <a:pt x="1735" y="152"/>
                      <a:pt x="1874" y="174"/>
                      <a:pt x="2019" y="219"/>
                    </a:cubicBezTo>
                    <a:cubicBezTo>
                      <a:pt x="2164" y="264"/>
                      <a:pt x="2333" y="322"/>
                      <a:pt x="2435" y="396"/>
                    </a:cubicBezTo>
                    <a:cubicBezTo>
                      <a:pt x="2537" y="470"/>
                      <a:pt x="2585" y="568"/>
                      <a:pt x="2633" y="664"/>
                    </a:cubicBezTo>
                    <a:cubicBezTo>
                      <a:pt x="2681" y="760"/>
                      <a:pt x="2702" y="908"/>
                      <a:pt x="2720" y="972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4"/>
              <p:cNvSpPr/>
              <p:nvPr/>
            </p:nvSpPr>
            <p:spPr>
              <a:xfrm>
                <a:off x="4916160" y="5024160"/>
                <a:ext cx="1145880" cy="11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5"/>
              <p:cNvSpPr/>
              <p:nvPr/>
            </p:nvSpPr>
            <p:spPr>
              <a:xfrm>
                <a:off x="4178520" y="2233080"/>
                <a:ext cx="0" cy="337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Group 6"/>
              <p:cNvGrpSpPr/>
              <p:nvPr/>
            </p:nvGrpSpPr>
            <p:grpSpPr>
              <a:xfrm>
                <a:off x="3233880" y="2737440"/>
                <a:ext cx="2267640" cy="2268720"/>
                <a:chOff x="3233880" y="2737440"/>
                <a:chExt cx="2267640" cy="2268720"/>
              </a:xfrm>
            </p:grpSpPr>
            <p:sp>
              <p:nvSpPr>
                <p:cNvPr id="183" name="Oval 7"/>
                <p:cNvSpPr/>
                <p:nvPr/>
              </p:nvSpPr>
              <p:spPr>
                <a:xfrm>
                  <a:off x="3233880" y="2737440"/>
                  <a:ext cx="2267640" cy="2267640"/>
                </a:xfrm>
                <a:prstGeom prst="ellipse">
                  <a:avLst/>
                </a:prstGeom>
                <a:noFill/>
                <a:ln w="28440">
                  <a:solidFill>
                    <a:srgbClr val="00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8"/>
                <p:cNvSpPr/>
                <p:nvPr/>
              </p:nvSpPr>
              <p:spPr>
                <a:xfrm>
                  <a:off x="4368240" y="2738520"/>
                  <a:ext cx="0" cy="22676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Oval 9"/>
              <p:cNvSpPr/>
              <p:nvPr/>
            </p:nvSpPr>
            <p:spPr>
              <a:xfrm>
                <a:off x="4129200" y="4951440"/>
                <a:ext cx="96840" cy="96840"/>
              </a:xfrm>
              <a:prstGeom prst="ellipse">
                <a:avLst/>
              </a:prstGeom>
              <a:solidFill>
                <a:srgbClr val="0000ff"/>
              </a:solidFill>
              <a:ln w="381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Group 10"/>
              <p:cNvGrpSpPr/>
              <p:nvPr/>
            </p:nvGrpSpPr>
            <p:grpSpPr>
              <a:xfrm>
                <a:off x="2679480" y="3106440"/>
                <a:ext cx="2267640" cy="2268720"/>
                <a:chOff x="2679480" y="3106440"/>
                <a:chExt cx="2267640" cy="2268720"/>
              </a:xfrm>
            </p:grpSpPr>
            <p:sp>
              <p:nvSpPr>
                <p:cNvPr id="187" name="Oval 11"/>
                <p:cNvSpPr/>
                <p:nvPr/>
              </p:nvSpPr>
              <p:spPr>
                <a:xfrm>
                  <a:off x="2679480" y="3106440"/>
                  <a:ext cx="2267640" cy="226764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2"/>
                <p:cNvSpPr/>
                <p:nvPr/>
              </p:nvSpPr>
              <p:spPr>
                <a:xfrm>
                  <a:off x="3813840" y="3107520"/>
                  <a:ext cx="0" cy="2267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Freeform 13"/>
              <p:cNvSpPr/>
              <p:nvPr/>
            </p:nvSpPr>
            <p:spPr>
              <a:xfrm>
                <a:off x="1619280" y="5227200"/>
                <a:ext cx="4003920" cy="960120"/>
              </a:xfrm>
              <a:custGeom>
                <a:avLst/>
                <a:gdLst>
                  <a:gd name="textAreaLeft" fmla="*/ 0 w 4003920"/>
                  <a:gd name="textAreaRight" fmla="*/ 4004280 w 4003920"/>
                  <a:gd name="textAreaTop" fmla="*/ 0 h 960120"/>
                  <a:gd name="textAreaBottom" fmla="*/ 960480 h 960120"/>
                </a:gdLst>
                <a:ahLst/>
                <a:rect l="textAreaLeft" t="textAreaTop" r="textAreaRight" b="textAreaBottom"/>
                <a:pathLst>
                  <a:path w="3432" h="1019">
                    <a:moveTo>
                      <a:pt x="0" y="19"/>
                    </a:moveTo>
                    <a:cubicBezTo>
                      <a:pt x="153" y="51"/>
                      <a:pt x="640" y="170"/>
                      <a:pt x="920" y="211"/>
                    </a:cubicBezTo>
                    <a:cubicBezTo>
                      <a:pt x="1200" y="252"/>
                      <a:pt x="1435" y="294"/>
                      <a:pt x="1680" y="267"/>
                    </a:cubicBezTo>
                    <a:cubicBezTo>
                      <a:pt x="1925" y="240"/>
                      <a:pt x="2172" y="82"/>
                      <a:pt x="2392" y="51"/>
                    </a:cubicBezTo>
                    <a:cubicBezTo>
                      <a:pt x="2612" y="20"/>
                      <a:pt x="2840" y="0"/>
                      <a:pt x="3000" y="83"/>
                    </a:cubicBezTo>
                    <a:cubicBezTo>
                      <a:pt x="3160" y="166"/>
                      <a:pt x="3280" y="391"/>
                      <a:pt x="3352" y="547"/>
                    </a:cubicBezTo>
                    <a:cubicBezTo>
                      <a:pt x="3424" y="703"/>
                      <a:pt x="3415" y="921"/>
                      <a:pt x="3432" y="1019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4"/>
              <p:cNvSpPr/>
              <p:nvPr/>
            </p:nvSpPr>
            <p:spPr>
              <a:xfrm rot="1108800">
                <a:off x="4399200" y="2168280"/>
                <a:ext cx="992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2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6"/>
              <p:cNvSpPr/>
              <p:nvPr/>
            </p:nvSpPr>
            <p:spPr>
              <a:xfrm>
                <a:off x="4129200" y="5270760"/>
                <a:ext cx="96840" cy="96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17"/>
              <p:cNvSpPr/>
              <p:nvPr/>
            </p:nvSpPr>
            <p:spPr>
              <a:xfrm>
                <a:off x="569880" y="5516280"/>
                <a:ext cx="190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first contact poi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of contour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18"/>
              <p:cNvSpPr/>
              <p:nvPr/>
            </p:nvSpPr>
            <p:spPr>
              <a:xfrm>
                <a:off x="5895720" y="4060800"/>
                <a:ext cx="190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first contact poi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of contour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9"/>
              <p:cNvSpPr/>
              <p:nvPr/>
            </p:nvSpPr>
            <p:spPr>
              <a:xfrm>
                <a:off x="2511000" y="5389920"/>
                <a:ext cx="1601640" cy="668520"/>
              </a:xfrm>
              <a:custGeom>
                <a:avLst/>
                <a:gdLst>
                  <a:gd name="textAreaLeft" fmla="*/ 0 w 1601640"/>
                  <a:gd name="textAreaRight" fmla="*/ 1602000 w 160164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121" h="468">
                    <a:moveTo>
                      <a:pt x="1121" y="0"/>
                    </a:moveTo>
                    <a:cubicBezTo>
                      <a:pt x="1078" y="40"/>
                      <a:pt x="982" y="165"/>
                      <a:pt x="873" y="232"/>
                    </a:cubicBezTo>
                    <a:cubicBezTo>
                      <a:pt x="764" y="299"/>
                      <a:pt x="611" y="361"/>
                      <a:pt x="465" y="400"/>
                    </a:cubicBezTo>
                    <a:cubicBezTo>
                      <a:pt x="319" y="439"/>
                      <a:pt x="97" y="454"/>
                      <a:pt x="0" y="468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0"/>
              <p:cNvSpPr/>
              <p:nvPr/>
            </p:nvSpPr>
            <p:spPr>
              <a:xfrm>
                <a:off x="4250160" y="4292280"/>
                <a:ext cx="1589040" cy="651600"/>
              </a:xfrm>
              <a:custGeom>
                <a:avLst/>
                <a:gdLst>
                  <a:gd name="textAreaLeft" fmla="*/ 0 w 1589040"/>
                  <a:gd name="textAreaRight" fmla="*/ 1589400 w 1589040"/>
                  <a:gd name="textAreaTop" fmla="*/ 0 h 651600"/>
                  <a:gd name="textAreaBottom" fmla="*/ 651960 h 651600"/>
                </a:gdLst>
                <a:ahLst/>
                <a:rect l="textAreaLeft" t="textAreaTop" r="textAreaRight" b="textAreaBottom"/>
                <a:pathLst>
                  <a:path w="1112" h="456">
                    <a:moveTo>
                      <a:pt x="0" y="456"/>
                    </a:moveTo>
                    <a:cubicBezTo>
                      <a:pt x="47" y="400"/>
                      <a:pt x="197" y="193"/>
                      <a:pt x="288" y="120"/>
                    </a:cubicBezTo>
                    <a:cubicBezTo>
                      <a:pt x="379" y="47"/>
                      <a:pt x="407" y="32"/>
                      <a:pt x="544" y="16"/>
                    </a:cubicBezTo>
                    <a:cubicBezTo>
                      <a:pt x="681" y="0"/>
                      <a:pt x="994" y="22"/>
                      <a:pt x="1112" y="24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21"/>
              <p:cNvSpPr/>
              <p:nvPr/>
            </p:nvSpPr>
            <p:spPr>
              <a:xfrm>
                <a:off x="3848400" y="3343680"/>
                <a:ext cx="5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22"/>
              <p:cNvSpPr/>
              <p:nvPr/>
            </p:nvSpPr>
            <p:spPr>
              <a:xfrm>
                <a:off x="141120" y="2293920"/>
                <a:ext cx="2318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ossible reduction of test area due to the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nnet curva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3"/>
              <p:cNvSpPr/>
              <p:nvPr/>
            </p:nvSpPr>
            <p:spPr>
              <a:xfrm>
                <a:off x="2500920" y="2709000"/>
                <a:ext cx="1623240" cy="622800"/>
              </a:xfrm>
              <a:custGeom>
                <a:avLst/>
                <a:gdLst>
                  <a:gd name="textAreaLeft" fmla="*/ 0 w 1623240"/>
                  <a:gd name="textAreaRight" fmla="*/ 1623600 w 1623240"/>
                  <a:gd name="textAreaTop" fmla="*/ 0 h 622800"/>
                  <a:gd name="textAreaBottom" fmla="*/ 623160 h 622800"/>
                </a:gdLst>
                <a:ahLst/>
                <a:rect l="textAreaLeft" t="textAreaTop" r="textAreaRight" b="textAreaBottom"/>
                <a:pathLst>
                  <a:path w="1136" h="436">
                    <a:moveTo>
                      <a:pt x="1136" y="436"/>
                    </a:moveTo>
                    <a:cubicBezTo>
                      <a:pt x="1095" y="387"/>
                      <a:pt x="1021" y="217"/>
                      <a:pt x="888" y="148"/>
                    </a:cubicBezTo>
                    <a:cubicBezTo>
                      <a:pt x="755" y="79"/>
                      <a:pt x="484" y="40"/>
                      <a:pt x="336" y="20"/>
                    </a:cubicBezTo>
                    <a:cubicBezTo>
                      <a:pt x="188" y="0"/>
                      <a:pt x="70" y="26"/>
                      <a:pt x="0" y="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24"/>
              <p:cNvSpPr/>
              <p:nvPr/>
            </p:nvSpPr>
            <p:spPr>
              <a:xfrm>
                <a:off x="5267520" y="5397120"/>
                <a:ext cx="96840" cy="96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25"/>
              <p:cNvSpPr/>
              <p:nvPr/>
            </p:nvSpPr>
            <p:spPr>
              <a:xfrm>
                <a:off x="6281640" y="4866120"/>
                <a:ext cx="1243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i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feren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26"/>
              <p:cNvSpPr/>
              <p:nvPr/>
            </p:nvSpPr>
            <p:spPr>
              <a:xfrm flipV="1">
                <a:off x="5371920" y="5296680"/>
                <a:ext cx="90720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Oval 7"/>
            <p:cNvSpPr/>
            <p:nvPr/>
          </p:nvSpPr>
          <p:spPr>
            <a:xfrm>
              <a:off x="3058200" y="2410560"/>
              <a:ext cx="2267640" cy="2267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Gerade Verbindung 43"/>
            <p:cNvSpPr/>
            <p:nvPr/>
          </p:nvSpPr>
          <p:spPr>
            <a:xfrm>
              <a:off x="5300640" y="2232000"/>
              <a:ext cx="0" cy="354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"/>
            <p:cNvSpPr/>
            <p:nvPr/>
          </p:nvSpPr>
          <p:spPr>
            <a:xfrm>
              <a:off x="4186440" y="2278800"/>
              <a:ext cx="1116000" cy="391320"/>
            </a:xfrm>
            <a:custGeom>
              <a:avLst/>
              <a:gdLst>
                <a:gd name="textAreaLeft" fmla="*/ 0 w 1116000"/>
                <a:gd name="textAreaRight" fmla="*/ 1116360 w 111600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3333" y="1661"/>
                  </a:lnTo>
                  <a:cubicBezTo>
                    <a:pt x="4206" y="2247"/>
                    <a:pt x="4961" y="2833"/>
                    <a:pt x="5556" y="3322"/>
                  </a:cubicBezTo>
                  <a:cubicBezTo>
                    <a:pt x="6717" y="4174"/>
                    <a:pt x="7260" y="5532"/>
                    <a:pt x="8001" y="6645"/>
                  </a:cubicBezTo>
                  <a:cubicBezTo>
                    <a:pt x="8742" y="7758"/>
                    <a:pt x="9495" y="9186"/>
                    <a:pt x="10000" y="100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60"/>
          <p:cNvSpPr/>
          <p:nvPr/>
        </p:nvSpPr>
        <p:spPr>
          <a:xfrm>
            <a:off x="539640" y="53964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4b1"/>
                </a:solidFill>
                <a:latin typeface="Arial"/>
              </a:rPr>
              <a:t>Advantages Of The Suggested Clarifications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2"/>
          <p:cNvSpPr/>
          <p:nvPr/>
        </p:nvSpPr>
        <p:spPr>
          <a:xfrm>
            <a:off x="539640" y="1260360"/>
            <a:ext cx="820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5040" indent="-3650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s with an identical overall width but with different bonnet designs will be tested different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feld 29"/>
          <p:cNvSpPr/>
          <p:nvPr/>
        </p:nvSpPr>
        <p:spPr>
          <a:xfrm>
            <a:off x="5580000" y="1908000"/>
            <a:ext cx="338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voided with the proposed test procedure: Vehicles that create the same risk to pedestrians will be tested in the same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0"/>
          <p:cNvSpPr/>
          <p:nvPr/>
        </p:nvSpPr>
        <p:spPr>
          <a:xfrm>
            <a:off x="539640" y="53964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4b1"/>
                </a:solidFill>
                <a:latin typeface="Arial"/>
              </a:rPr>
              <a:t>Request For Clarification Of Test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2"/>
          <p:cNvSpPr/>
          <p:nvPr/>
        </p:nvSpPr>
        <p:spPr>
          <a:xfrm>
            <a:off x="539640" y="2060640"/>
            <a:ext cx="7993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5040" indent="-365040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spcAft>
                <a:spcPts val="1199"/>
              </a:spcAft>
              <a:buClr>
                <a:srgbClr val="a6a6a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Clarification Of Headfor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ication Of Headform Tes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spcAft>
                <a:spcPts val="1199"/>
              </a:spcAft>
              <a:buClr>
                <a:srgbClr val="a6a6a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Clarification Of Legfor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37920" y="358920"/>
            <a:ext cx="160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destrian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Inhaltsplatzhalter 2"/>
          <p:cNvSpPr/>
          <p:nvPr/>
        </p:nvSpPr>
        <p:spPr>
          <a:xfrm>
            <a:off x="539640" y="1260360"/>
            <a:ext cx="820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rther difficulties are seen for the area subjected to headform tests that is defined different when comparing existing legislation in Japan and the EU to gtr No 9 and Draft ECE Reg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apan/EU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clude the ½ headform diameter (82.5 mm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ffset area from HIC zones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tr9/draft EC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clude offset area in HIC zones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osition of measuring points / selected impact points always in the test area excluding the off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ads to different sizes of HIC 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3621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tr9/draft ECE procedure is unclear since the HIC1000 criterion may be assigned to the offset areas that cannot be t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0"/>
          <p:cNvSpPr/>
          <p:nvPr/>
        </p:nvSpPr>
        <p:spPr>
          <a:xfrm>
            <a:off x="539640" y="53964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4b1"/>
                </a:solidFill>
                <a:latin typeface="Arial"/>
              </a:rPr>
              <a:t>Clarification Of Headform Tes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637920" y="358920"/>
            <a:ext cx="160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destrian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Inhaltsplatzhalter 2"/>
          <p:cNvSpPr/>
          <p:nvPr/>
        </p:nvSpPr>
        <p:spPr>
          <a:xfrm>
            <a:off x="539640" y="1260360"/>
            <a:ext cx="7488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½ headform diameter (82.5 mm) offset area should be excluded from the area used for HIC zones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s should be conducted to the sam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0"/>
          <p:cNvSpPr/>
          <p:nvPr/>
        </p:nvSpPr>
        <p:spPr>
          <a:xfrm>
            <a:off x="539640" y="53964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4b1"/>
                </a:solidFill>
                <a:latin typeface="Arial"/>
              </a:rPr>
              <a:t>Clarification Of Headform Test Area –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637920" y="358920"/>
            <a:ext cx="160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destrian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0"/>
          <p:cNvSpPr/>
          <p:nvPr/>
        </p:nvSpPr>
        <p:spPr>
          <a:xfrm>
            <a:off x="220680" y="2335320"/>
            <a:ext cx="5575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tic example, exact position of HIC z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specified by the vehicle manufactur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37920" y="358920"/>
            <a:ext cx="160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destrian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uppieren 14"/>
          <p:cNvGrpSpPr/>
          <p:nvPr/>
        </p:nvGrpSpPr>
        <p:grpSpPr>
          <a:xfrm>
            <a:off x="244440" y="2876400"/>
            <a:ext cx="5303880" cy="3105360"/>
            <a:chOff x="244440" y="2876400"/>
            <a:chExt cx="5303880" cy="3105360"/>
          </a:xfrm>
        </p:grpSpPr>
        <p:pic>
          <p:nvPicPr>
            <p:cNvPr id="220" name="Group 4" descr=""/>
            <p:cNvPicPr/>
            <p:nvPr/>
          </p:nvPicPr>
          <p:blipFill>
            <a:blip r:embed="rId1"/>
            <a:stretch/>
          </p:blipFill>
          <p:spPr>
            <a:xfrm>
              <a:off x="244440" y="2876400"/>
              <a:ext cx="5303880" cy="31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Freihandform 11"/>
            <p:cNvSpPr/>
            <p:nvPr/>
          </p:nvSpPr>
          <p:spPr>
            <a:xfrm>
              <a:off x="639360" y="3158640"/>
              <a:ext cx="2731680" cy="1328400"/>
            </a:xfrm>
            <a:custGeom>
              <a:avLst/>
              <a:gdLst>
                <a:gd name="textAreaLeft" fmla="*/ 0 w 2731680"/>
                <a:gd name="textAreaRight" fmla="*/ 2732040 w 2731680"/>
                <a:gd name="textAreaTop" fmla="*/ 0 h 1328400"/>
                <a:gd name="textAreaBottom" fmla="*/ 1328400 h 1328400"/>
              </a:gdLst>
              <a:ahLst/>
              <a:rect l="textAreaLeft" t="textAreaTop" r="textAreaRight" b="textAreaBottom"/>
              <a:pathLst>
                <a:path w="2837019" h="1515915">
                  <a:moveTo>
                    <a:pt x="2476979" y="547985"/>
                  </a:moveTo>
                  <a:lnTo>
                    <a:pt x="2260953" y="547985"/>
                  </a:lnTo>
                  <a:cubicBezTo>
                    <a:pt x="2111055" y="534996"/>
                    <a:pt x="1781614" y="494052"/>
                    <a:pt x="1577591" y="470049"/>
                  </a:cubicBezTo>
                  <a:cubicBezTo>
                    <a:pt x="1492765" y="459036"/>
                    <a:pt x="1234960" y="426984"/>
                    <a:pt x="1108827" y="403969"/>
                  </a:cubicBezTo>
                  <a:lnTo>
                    <a:pt x="820795" y="331961"/>
                  </a:lnTo>
                  <a:lnTo>
                    <a:pt x="460755" y="187945"/>
                  </a:lnTo>
                  <a:lnTo>
                    <a:pt x="291402" y="696137"/>
                  </a:lnTo>
                  <a:lnTo>
                    <a:pt x="200967" y="992563"/>
                  </a:lnTo>
                  <a:lnTo>
                    <a:pt x="95459" y="1379425"/>
                  </a:lnTo>
                  <a:lnTo>
                    <a:pt x="65314" y="1505029"/>
                  </a:lnTo>
                  <a:cubicBezTo>
                    <a:pt x="65314" y="1512565"/>
                    <a:pt x="76200" y="1514241"/>
                    <a:pt x="75363" y="1515078"/>
                  </a:cubicBezTo>
                  <a:cubicBezTo>
                    <a:pt x="74526" y="1515915"/>
                    <a:pt x="64426" y="1513362"/>
                    <a:pt x="60290" y="1510053"/>
                  </a:cubicBezTo>
                  <a:lnTo>
                    <a:pt x="0" y="1479908"/>
                  </a:lnTo>
                  <a:lnTo>
                    <a:pt x="60290" y="1233724"/>
                  </a:lnTo>
                  <a:lnTo>
                    <a:pt x="120580" y="997587"/>
                  </a:lnTo>
                  <a:lnTo>
                    <a:pt x="236136" y="595653"/>
                  </a:lnTo>
                  <a:lnTo>
                    <a:pt x="336620" y="314300"/>
                  </a:lnTo>
                  <a:lnTo>
                    <a:pt x="452620" y="0"/>
                  </a:lnTo>
                  <a:lnTo>
                    <a:pt x="607925" y="83187"/>
                  </a:lnTo>
                  <a:cubicBezTo>
                    <a:pt x="683214" y="113799"/>
                    <a:pt x="852436" y="166086"/>
                    <a:pt x="904352" y="183671"/>
                  </a:cubicBezTo>
                  <a:cubicBezTo>
                    <a:pt x="1061776" y="219678"/>
                    <a:pt x="1441938" y="279130"/>
                    <a:pt x="1552470" y="299227"/>
                  </a:cubicBezTo>
                  <a:lnTo>
                    <a:pt x="1972923" y="331961"/>
                  </a:lnTo>
                  <a:cubicBezTo>
                    <a:pt x="2111480" y="337652"/>
                    <a:pt x="2260953" y="331961"/>
                    <a:pt x="2404969" y="331961"/>
                  </a:cubicBezTo>
                  <a:lnTo>
                    <a:pt x="2837019" y="331961"/>
                  </a:lnTo>
                </a:path>
              </a:pathLst>
            </a:custGeom>
            <a:solidFill>
              <a:srgbClr val="ffc000"/>
            </a:solidFill>
            <a:ln w="19080">
              <a:solidFill>
                <a:srgbClr val="fe00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ihandform 12"/>
            <p:cNvSpPr/>
            <p:nvPr/>
          </p:nvSpPr>
          <p:spPr>
            <a:xfrm flipH="1">
              <a:off x="2955240" y="3153240"/>
              <a:ext cx="2246400" cy="1328400"/>
            </a:xfrm>
            <a:custGeom>
              <a:avLst/>
              <a:gdLst>
                <a:gd name="textAreaLeft" fmla="*/ 360 w 2246400"/>
                <a:gd name="textAreaRight" fmla="*/ 2247120 w 2246400"/>
                <a:gd name="textAreaTop" fmla="*/ 0 h 1328400"/>
                <a:gd name="textAreaBottom" fmla="*/ 1328400 h 1328400"/>
              </a:gdLst>
              <a:ahLst/>
              <a:rect l="textAreaLeft" t="textAreaTop" r="textAreaRight" b="textAreaBottom"/>
              <a:pathLst>
                <a:path w="2332963" h="1515915">
                  <a:moveTo>
                    <a:pt x="2332963" y="554292"/>
                  </a:moveTo>
                  <a:lnTo>
                    <a:pt x="2116939" y="554292"/>
                  </a:lnTo>
                  <a:cubicBezTo>
                    <a:pt x="1984924" y="542291"/>
                    <a:pt x="1708894" y="507338"/>
                    <a:pt x="1540875" y="482284"/>
                  </a:cubicBezTo>
                  <a:cubicBezTo>
                    <a:pt x="1456049" y="471271"/>
                    <a:pt x="1234960" y="426984"/>
                    <a:pt x="1108827" y="403969"/>
                  </a:cubicBezTo>
                  <a:lnTo>
                    <a:pt x="820795" y="331961"/>
                  </a:lnTo>
                  <a:lnTo>
                    <a:pt x="460755" y="187945"/>
                  </a:lnTo>
                  <a:lnTo>
                    <a:pt x="291402" y="696137"/>
                  </a:lnTo>
                  <a:lnTo>
                    <a:pt x="200967" y="992563"/>
                  </a:lnTo>
                  <a:lnTo>
                    <a:pt x="95459" y="1379425"/>
                  </a:lnTo>
                  <a:lnTo>
                    <a:pt x="65314" y="1505029"/>
                  </a:lnTo>
                  <a:cubicBezTo>
                    <a:pt x="65314" y="1512565"/>
                    <a:pt x="76200" y="1514241"/>
                    <a:pt x="75363" y="1515078"/>
                  </a:cubicBezTo>
                  <a:cubicBezTo>
                    <a:pt x="74526" y="1515915"/>
                    <a:pt x="64426" y="1513362"/>
                    <a:pt x="60290" y="1510053"/>
                  </a:cubicBezTo>
                  <a:lnTo>
                    <a:pt x="0" y="1479908"/>
                  </a:lnTo>
                  <a:lnTo>
                    <a:pt x="60290" y="1233724"/>
                  </a:lnTo>
                  <a:lnTo>
                    <a:pt x="120580" y="997587"/>
                  </a:lnTo>
                  <a:lnTo>
                    <a:pt x="236136" y="595653"/>
                  </a:lnTo>
                  <a:lnTo>
                    <a:pt x="336620" y="314300"/>
                  </a:lnTo>
                  <a:lnTo>
                    <a:pt x="452620" y="0"/>
                  </a:lnTo>
                  <a:lnTo>
                    <a:pt x="607925" y="83187"/>
                  </a:lnTo>
                  <a:cubicBezTo>
                    <a:pt x="683214" y="113799"/>
                    <a:pt x="852436" y="166086"/>
                    <a:pt x="904352" y="183671"/>
                  </a:cubicBezTo>
                  <a:cubicBezTo>
                    <a:pt x="1061776" y="219678"/>
                    <a:pt x="1441938" y="279130"/>
                    <a:pt x="1552470" y="299227"/>
                  </a:cubicBezTo>
                  <a:cubicBezTo>
                    <a:pt x="1620613" y="310138"/>
                    <a:pt x="1900915" y="338268"/>
                    <a:pt x="1900915" y="338268"/>
                  </a:cubicBezTo>
                </a:path>
              </a:pathLst>
            </a:custGeom>
            <a:solidFill>
              <a:srgbClr val="ffc000"/>
            </a:solidFill>
            <a:ln w="19080">
              <a:solidFill>
                <a:srgbClr val="fe00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feld 15"/>
          <p:cNvSpPr/>
          <p:nvPr/>
        </p:nvSpPr>
        <p:spPr>
          <a:xfrm>
            <a:off x="5867280" y="357336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for HIC zones using the 1/3 // 2/3 split (areas to be defined by the manufactur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feld 16"/>
          <p:cNvSpPr/>
          <p:nvPr/>
        </p:nvSpPr>
        <p:spPr>
          <a:xfrm>
            <a:off x="5867280" y="4941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 area: No tes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Gerade Verbindung mit Pfeil 18"/>
          <p:cNvCxnSpPr/>
          <p:nvPr/>
        </p:nvCxnSpPr>
        <p:spPr>
          <a:xfrm flipH="1" flipV="1">
            <a:off x="5087160" y="4182840"/>
            <a:ext cx="794520" cy="861120"/>
          </a:xfrm>
          <a:prstGeom prst="straightConnector1">
            <a:avLst/>
          </a:prstGeom>
          <a:ln w="38160">
            <a:solidFill>
              <a:srgbClr val="fe000c"/>
            </a:solidFill>
            <a:miter/>
            <a:tailEnd len="med" type="triangle" w="med"/>
          </a:ln>
        </p:spPr>
      </p:cxnSp>
      <p:cxnSp>
        <p:nvCxnSpPr>
          <p:cNvPr id="226" name="Gerade Verbindung mit Pfeil 20"/>
          <p:cNvCxnSpPr/>
          <p:nvPr/>
        </p:nvCxnSpPr>
        <p:spPr>
          <a:xfrm flipH="1" flipV="1">
            <a:off x="4657320" y="3572640"/>
            <a:ext cx="1224720" cy="1436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227" name="Textfeld 22"/>
          <p:cNvSpPr/>
          <p:nvPr/>
        </p:nvSpPr>
        <p:spPr>
          <a:xfrm>
            <a:off x="539640" y="1260360"/>
            <a:ext cx="80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uch larger HIC1700 zone will result (that may be spread in the testable area) from considering the offset area during the calculation of the HIC 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feld 24"/>
          <p:cNvSpPr/>
          <p:nvPr/>
        </p:nvSpPr>
        <p:spPr>
          <a:xfrm>
            <a:off x="220680" y="596736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 + original sketch (blue areas): BGS Boehme &amp; Geh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0"/>
          <p:cNvSpPr/>
          <p:nvPr/>
        </p:nvSpPr>
        <p:spPr>
          <a:xfrm>
            <a:off x="539640" y="53964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4b1"/>
                </a:solidFill>
                <a:latin typeface="Arial"/>
              </a:rPr>
              <a:t>Advantages Of The Suggested Clar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Gerade Verbindung mit Pfeil 20"/>
          <p:cNvCxnSpPr/>
          <p:nvPr/>
        </p:nvCxnSpPr>
        <p:spPr>
          <a:xfrm flipH="1">
            <a:off x="2064600" y="3860640"/>
            <a:ext cx="3817080" cy="1756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231" name="Textfeld 22"/>
          <p:cNvSpPr/>
          <p:nvPr/>
        </p:nvSpPr>
        <p:spPr>
          <a:xfrm>
            <a:off x="5603760" y="2030400"/>
            <a:ext cx="34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he proposed procedure, this will not b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0"/>
          <p:cNvSpPr/>
          <p:nvPr/>
        </p:nvSpPr>
        <p:spPr>
          <a:xfrm>
            <a:off x="539640" y="53964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4b1"/>
                </a:solidFill>
                <a:latin typeface="Arial"/>
              </a:rPr>
              <a:t>Request For Clarification Of Test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2"/>
          <p:cNvSpPr/>
          <p:nvPr/>
        </p:nvSpPr>
        <p:spPr>
          <a:xfrm>
            <a:off x="539640" y="2060640"/>
            <a:ext cx="7993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5040" indent="-365040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spcAft>
                <a:spcPts val="1199"/>
              </a:spcAft>
              <a:buClr>
                <a:srgbClr val="a6a6a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Clarification Of Headfor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spcAft>
                <a:spcPts val="1199"/>
              </a:spcAft>
              <a:buClr>
                <a:srgbClr val="a6a6a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Clarification Of Headform Tes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ication Of Legfor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637920" y="358920"/>
            <a:ext cx="160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destrian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Grafik 1" descr="Upper Leg Test Point 2011-04-05"/>
          <p:cNvPicPr/>
          <p:nvPr/>
        </p:nvPicPr>
        <p:blipFill>
          <a:blip r:embed="rId1"/>
          <a:stretch/>
        </p:blipFill>
        <p:spPr>
          <a:xfrm>
            <a:off x="179280" y="2060640"/>
            <a:ext cx="5832720" cy="40323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60"/>
          <p:cNvSpPr/>
          <p:nvPr/>
        </p:nvSpPr>
        <p:spPr>
          <a:xfrm>
            <a:off x="539640" y="53964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4b1"/>
                </a:solidFill>
                <a:latin typeface="Arial"/>
              </a:rPr>
              <a:t>Clarification Of Legform Tes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637920" y="358920"/>
            <a:ext cx="160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destrian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2"/>
          <p:cNvSpPr/>
          <p:nvPr/>
        </p:nvSpPr>
        <p:spPr>
          <a:xfrm>
            <a:off x="539640" y="1260360"/>
            <a:ext cx="820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5040" indent="-3650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legform test area, the principle test procedure should follow the one used for the headform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29"/>
          <p:cNvSpPr/>
          <p:nvPr/>
        </p:nvSpPr>
        <p:spPr>
          <a:xfrm>
            <a:off x="6156360" y="2282760"/>
            <a:ext cx="273672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4b1"/>
                </a:solidFill>
                <a:latin typeface="Arial"/>
              </a:rPr>
              <a:t>Sug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asuring point should be aligned with the impactor’s center line, the test result should always be allocated to the measuring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liennummernplatzhalter 2"/>
          <p:cNvSpPr/>
          <p:nvPr/>
        </p:nvSpPr>
        <p:spPr>
          <a:xfrm>
            <a:off x="7772400" y="63244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F29A-15B1-4045-B658-7ED1390562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7"/>
          <p:cNvSpPr/>
          <p:nvPr/>
        </p:nvSpPr>
        <p:spPr>
          <a:xfrm>
            <a:off x="1106640" y="2786040"/>
            <a:ext cx="693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32785"/>
                </a:solidFill>
                <a:latin typeface="Arial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0"/>
          <p:cNvSpPr/>
          <p:nvPr/>
        </p:nvSpPr>
        <p:spPr>
          <a:xfrm>
            <a:off x="539640" y="53964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4b1"/>
                </a:solidFill>
                <a:latin typeface="Arial"/>
              </a:rPr>
              <a:t>Request For Clarification Of Test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2"/>
          <p:cNvSpPr/>
          <p:nvPr/>
        </p:nvSpPr>
        <p:spPr>
          <a:xfrm>
            <a:off x="539640" y="2060640"/>
            <a:ext cx="7993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5040" indent="-365040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ication Of Headfor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spcAft>
                <a:spcPts val="1199"/>
              </a:spcAft>
              <a:buClr>
                <a:srgbClr val="a6a6a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Clarification Of Headform Tes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spcAft>
                <a:spcPts val="1199"/>
              </a:spcAft>
              <a:buClr>
                <a:srgbClr val="a6a6a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Clarification Of Legfor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37920" y="358920"/>
            <a:ext cx="160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destrian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0"/>
          <p:cNvSpPr/>
          <p:nvPr/>
        </p:nvSpPr>
        <p:spPr>
          <a:xfrm>
            <a:off x="539640" y="53964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4b1"/>
                </a:solidFill>
                <a:latin typeface="Arial"/>
              </a:rPr>
              <a:t>Clarification Of Headfor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2"/>
          <p:cNvSpPr/>
          <p:nvPr/>
        </p:nvSpPr>
        <p:spPr>
          <a:xfrm>
            <a:off x="539640" y="1260360"/>
            <a:ext cx="7993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5040" indent="-3650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ointed out in informal document GRSP-48-27, the headform test procedure as described in gtr No 9 is not fully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adform test procedure is an interaction of three different points but just two points are clearly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discussion on gtr No 9, it was accepted that describing only 2 points may be su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corrigendum 2 to gtr No 9 made inconsistencies more obvious despite the intention of this corrigendum is fully supported by O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ICA therefore suggests the following clarification of the headfor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37920" y="358920"/>
            <a:ext cx="160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destrian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0"/>
          <p:cNvSpPr/>
          <p:nvPr/>
        </p:nvSpPr>
        <p:spPr>
          <a:xfrm>
            <a:off x="539640" y="53964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4b1"/>
                </a:solidFill>
                <a:latin typeface="Arial"/>
              </a:rPr>
              <a:t>Clarification Of Headform Test Procedure – Sug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2"/>
          <p:cNvSpPr/>
          <p:nvPr/>
        </p:nvSpPr>
        <p:spPr>
          <a:xfrm>
            <a:off x="539640" y="1260360"/>
            <a:ext cx="820908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5040" indent="-3650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ond drawing should be added to describe the three-dimensional interaction of th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ree different points need to be clearly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637920" y="358920"/>
            <a:ext cx="160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destrian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900000" y="3203640"/>
            <a:ext cx="4341960" cy="2101680"/>
          </a:xfrm>
          <a:prstGeom prst="rect">
            <a:avLst/>
          </a:prstGeom>
          <a:ln w="0">
            <a:noFill/>
          </a:ln>
        </p:spPr>
      </p:pic>
      <p:sp>
        <p:nvSpPr>
          <p:cNvPr id="97" name="Textfeld 6"/>
          <p:cNvSpPr/>
          <p:nvPr/>
        </p:nvSpPr>
        <p:spPr>
          <a:xfrm>
            <a:off x="2082960" y="5292720"/>
            <a:ext cx="30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: gtr No. 9, part B, figur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Gerade Verbindung 9"/>
          <p:cNvSpPr/>
          <p:nvPr/>
        </p:nvSpPr>
        <p:spPr>
          <a:xfrm>
            <a:off x="1089000" y="3924360"/>
            <a:ext cx="792360" cy="0"/>
          </a:xfrm>
          <a:prstGeom prst="line">
            <a:avLst/>
          </a:prstGeom>
          <a:ln w="25560">
            <a:solidFill>
              <a:srgbClr val="3e7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feld 11"/>
          <p:cNvSpPr/>
          <p:nvPr/>
        </p:nvSpPr>
        <p:spPr>
          <a:xfrm>
            <a:off x="179280" y="565308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B should read „measuring point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Gerade Verbindung mit Pfeil 13"/>
          <p:cNvCxnSpPr/>
          <p:nvPr/>
        </p:nvCxnSpPr>
        <p:spPr>
          <a:xfrm flipV="1">
            <a:off x="467280" y="3924000"/>
            <a:ext cx="432360" cy="1729440"/>
          </a:xfrm>
          <a:prstGeom prst="straightConnector1">
            <a:avLst/>
          </a:prstGeom>
          <a:ln w="25560">
            <a:solidFill>
              <a:srgbClr val="3e72fb"/>
            </a:solidFill>
            <a:miter/>
            <a:tailEnd len="med" type="arrow" w="med"/>
          </a:ln>
        </p:spPr>
      </p:cxnSp>
      <p:grpSp>
        <p:nvGrpSpPr>
          <p:cNvPr id="101" name="Gruppieren 31"/>
          <p:cNvGrpSpPr/>
          <p:nvPr/>
        </p:nvGrpSpPr>
        <p:grpSpPr>
          <a:xfrm>
            <a:off x="5435640" y="2930400"/>
            <a:ext cx="3494160" cy="2616480"/>
            <a:chOff x="5435640" y="2930400"/>
            <a:chExt cx="3494160" cy="2616480"/>
          </a:xfrm>
        </p:grpSpPr>
        <p:pic>
          <p:nvPicPr>
            <p:cNvPr id="102" name="Bild 5" descr="P:\ES-6\ES-62_Fachgebiete\Fussgaengerschutz\0_Hauptordner\GTR_ECE\Proposal_TestPoint_TestArea\Figure 7 - Test_Impact point Cross sec 2010-10-14.jpg"/>
            <p:cNvPicPr/>
            <p:nvPr/>
          </p:nvPicPr>
          <p:blipFill>
            <a:blip r:embed="rId2"/>
            <a:srcRect l="0" t="10585" r="0" b="0"/>
            <a:stretch/>
          </p:blipFill>
          <p:spPr>
            <a:xfrm>
              <a:off x="5435640" y="2930400"/>
              <a:ext cx="3168000" cy="26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feld 18"/>
            <p:cNvSpPr/>
            <p:nvPr/>
          </p:nvSpPr>
          <p:spPr>
            <a:xfrm>
              <a:off x="7562880" y="4186080"/>
              <a:ext cx="136692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feld 21"/>
            <p:cNvSpPr/>
            <p:nvPr/>
          </p:nvSpPr>
          <p:spPr>
            <a:xfrm>
              <a:off x="7534440" y="4781520"/>
              <a:ext cx="14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ihandform 23"/>
            <p:cNvSpPr/>
            <p:nvPr/>
          </p:nvSpPr>
          <p:spPr>
            <a:xfrm>
              <a:off x="7446240" y="4689000"/>
              <a:ext cx="100800" cy="1440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00899" h="145663">
                  <a:moveTo>
                    <a:pt x="9562" y="136139"/>
                  </a:moveTo>
                  <a:cubicBezTo>
                    <a:pt x="14325" y="137726"/>
                    <a:pt x="25438" y="145663"/>
                    <a:pt x="23850" y="140901"/>
                  </a:cubicBezTo>
                  <a:cubicBezTo>
                    <a:pt x="20674" y="131377"/>
                    <a:pt x="23849" y="134552"/>
                    <a:pt x="14325" y="131376"/>
                  </a:cubicBezTo>
                  <a:cubicBezTo>
                    <a:pt x="30410" y="126014"/>
                    <a:pt x="12975" y="133450"/>
                    <a:pt x="26231" y="121851"/>
                  </a:cubicBezTo>
                  <a:cubicBezTo>
                    <a:pt x="30538" y="118082"/>
                    <a:pt x="40518" y="112326"/>
                    <a:pt x="40518" y="112326"/>
                  </a:cubicBezTo>
                  <a:cubicBezTo>
                    <a:pt x="48456" y="100421"/>
                    <a:pt x="46075" y="105977"/>
                    <a:pt x="38137" y="109945"/>
                  </a:cubicBezTo>
                  <a:cubicBezTo>
                    <a:pt x="35892" y="111067"/>
                    <a:pt x="33374" y="111532"/>
                    <a:pt x="30993" y="112326"/>
                  </a:cubicBezTo>
                  <a:cubicBezTo>
                    <a:pt x="19880" y="128995"/>
                    <a:pt x="16705" y="129789"/>
                    <a:pt x="28612" y="121851"/>
                  </a:cubicBezTo>
                  <a:cubicBezTo>
                    <a:pt x="34280" y="104849"/>
                    <a:pt x="30591" y="111741"/>
                    <a:pt x="38137" y="100420"/>
                  </a:cubicBezTo>
                  <a:cubicBezTo>
                    <a:pt x="43494" y="116494"/>
                    <a:pt x="36946" y="101610"/>
                    <a:pt x="45281" y="93276"/>
                  </a:cubicBezTo>
                  <a:lnTo>
                    <a:pt x="52425" y="86133"/>
                  </a:lnTo>
                  <a:cubicBezTo>
                    <a:pt x="53219" y="82958"/>
                    <a:pt x="52991" y="79331"/>
                    <a:pt x="54806" y="76608"/>
                  </a:cubicBezTo>
                  <a:cubicBezTo>
                    <a:pt x="57444" y="72650"/>
                    <a:pt x="70448" y="69013"/>
                    <a:pt x="54806" y="74226"/>
                  </a:cubicBezTo>
                  <a:lnTo>
                    <a:pt x="45281" y="88514"/>
                  </a:lnTo>
                  <a:cubicBezTo>
                    <a:pt x="43413" y="91316"/>
                    <a:pt x="33205" y="107267"/>
                    <a:pt x="45281" y="86133"/>
                  </a:cubicBezTo>
                  <a:cubicBezTo>
                    <a:pt x="46701" y="83648"/>
                    <a:pt x="48881" y="81604"/>
                    <a:pt x="50043" y="78989"/>
                  </a:cubicBezTo>
                  <a:cubicBezTo>
                    <a:pt x="52082" y="74401"/>
                    <a:pt x="50629" y="67486"/>
                    <a:pt x="54806" y="64701"/>
                  </a:cubicBezTo>
                  <a:lnTo>
                    <a:pt x="61950" y="59939"/>
                  </a:lnTo>
                  <a:cubicBezTo>
                    <a:pt x="63537" y="62320"/>
                    <a:pt x="66712" y="64221"/>
                    <a:pt x="66712" y="67083"/>
                  </a:cubicBezTo>
                  <a:cubicBezTo>
                    <a:pt x="66712" y="72103"/>
                    <a:pt x="63537" y="76608"/>
                    <a:pt x="61950" y="81370"/>
                  </a:cubicBezTo>
                  <a:lnTo>
                    <a:pt x="59568" y="88514"/>
                  </a:lnTo>
                  <a:cubicBezTo>
                    <a:pt x="58774" y="90895"/>
                    <a:pt x="59276" y="94266"/>
                    <a:pt x="57187" y="95658"/>
                  </a:cubicBezTo>
                  <a:lnTo>
                    <a:pt x="50043" y="100420"/>
                  </a:lnTo>
                  <a:cubicBezTo>
                    <a:pt x="49249" y="102801"/>
                    <a:pt x="50172" y="107564"/>
                    <a:pt x="47662" y="107564"/>
                  </a:cubicBezTo>
                  <a:cubicBezTo>
                    <a:pt x="44800" y="107564"/>
                    <a:pt x="42430" y="103243"/>
                    <a:pt x="42900" y="100420"/>
                  </a:cubicBezTo>
                  <a:cubicBezTo>
                    <a:pt x="43454" y="97098"/>
                    <a:pt x="47662" y="95657"/>
                    <a:pt x="50043" y="93276"/>
                  </a:cubicBezTo>
                  <a:cubicBezTo>
                    <a:pt x="50837" y="90895"/>
                    <a:pt x="51302" y="88378"/>
                    <a:pt x="52425" y="86133"/>
                  </a:cubicBezTo>
                  <a:cubicBezTo>
                    <a:pt x="53705" y="83573"/>
                    <a:pt x="57187" y="76127"/>
                    <a:pt x="57187" y="78989"/>
                  </a:cubicBezTo>
                  <a:cubicBezTo>
                    <a:pt x="57187" y="92213"/>
                    <a:pt x="53371" y="92645"/>
                    <a:pt x="45281" y="98039"/>
                  </a:cubicBezTo>
                  <a:cubicBezTo>
                    <a:pt x="34111" y="114793"/>
                    <a:pt x="45842" y="99161"/>
                    <a:pt x="42900" y="93276"/>
                  </a:cubicBezTo>
                  <a:cubicBezTo>
                    <a:pt x="41777" y="91031"/>
                    <a:pt x="38137" y="94864"/>
                    <a:pt x="35756" y="95658"/>
                  </a:cubicBezTo>
                  <a:cubicBezTo>
                    <a:pt x="34168" y="100420"/>
                    <a:pt x="33777" y="105768"/>
                    <a:pt x="30993" y="109945"/>
                  </a:cubicBezTo>
                  <a:cubicBezTo>
                    <a:pt x="29406" y="112326"/>
                    <a:pt x="27511" y="114529"/>
                    <a:pt x="26231" y="117089"/>
                  </a:cubicBezTo>
                  <a:cubicBezTo>
                    <a:pt x="16380" y="136793"/>
                    <a:pt x="32727" y="110920"/>
                    <a:pt x="19087" y="131376"/>
                  </a:cubicBezTo>
                  <a:cubicBezTo>
                    <a:pt x="18293" y="133757"/>
                    <a:pt x="18481" y="136745"/>
                    <a:pt x="16706" y="138520"/>
                  </a:cubicBezTo>
                  <a:cubicBezTo>
                    <a:pt x="11923" y="143303"/>
                    <a:pt x="0" y="138510"/>
                    <a:pt x="19087" y="143283"/>
                  </a:cubicBezTo>
                  <a:cubicBezTo>
                    <a:pt x="20675" y="140902"/>
                    <a:pt x="22570" y="138699"/>
                    <a:pt x="23850" y="136139"/>
                  </a:cubicBezTo>
                  <a:cubicBezTo>
                    <a:pt x="28193" y="127453"/>
                    <a:pt x="24491" y="122218"/>
                    <a:pt x="35756" y="114708"/>
                  </a:cubicBezTo>
                  <a:cubicBezTo>
                    <a:pt x="38137" y="113120"/>
                    <a:pt x="42900" y="112807"/>
                    <a:pt x="42900" y="109945"/>
                  </a:cubicBezTo>
                  <a:cubicBezTo>
                    <a:pt x="42900" y="107435"/>
                    <a:pt x="38137" y="111532"/>
                    <a:pt x="35756" y="112326"/>
                  </a:cubicBezTo>
                  <a:cubicBezTo>
                    <a:pt x="34962" y="114707"/>
                    <a:pt x="34498" y="117225"/>
                    <a:pt x="33375" y="119470"/>
                  </a:cubicBezTo>
                  <a:cubicBezTo>
                    <a:pt x="29406" y="127407"/>
                    <a:pt x="23849" y="129790"/>
                    <a:pt x="35756" y="121851"/>
                  </a:cubicBezTo>
                  <a:cubicBezTo>
                    <a:pt x="39078" y="101920"/>
                    <a:pt x="35459" y="111579"/>
                    <a:pt x="47662" y="93276"/>
                  </a:cubicBezTo>
                  <a:lnTo>
                    <a:pt x="52425" y="86133"/>
                  </a:lnTo>
                  <a:cubicBezTo>
                    <a:pt x="58408" y="68183"/>
                    <a:pt x="50339" y="90303"/>
                    <a:pt x="59568" y="71845"/>
                  </a:cubicBezTo>
                  <a:cubicBezTo>
                    <a:pt x="66459" y="58062"/>
                    <a:pt x="55555" y="71096"/>
                    <a:pt x="69093" y="57558"/>
                  </a:cubicBezTo>
                  <a:cubicBezTo>
                    <a:pt x="68299" y="59939"/>
                    <a:pt x="67931" y="62507"/>
                    <a:pt x="66712" y="64701"/>
                  </a:cubicBezTo>
                  <a:cubicBezTo>
                    <a:pt x="63932" y="69705"/>
                    <a:pt x="57187" y="78989"/>
                    <a:pt x="57187" y="78989"/>
                  </a:cubicBezTo>
                  <a:cubicBezTo>
                    <a:pt x="58094" y="74454"/>
                    <a:pt x="59507" y="64824"/>
                    <a:pt x="61950" y="59939"/>
                  </a:cubicBezTo>
                  <a:cubicBezTo>
                    <a:pt x="63230" y="57379"/>
                    <a:pt x="65432" y="55355"/>
                    <a:pt x="66712" y="52795"/>
                  </a:cubicBezTo>
                  <a:cubicBezTo>
                    <a:pt x="76563" y="33091"/>
                    <a:pt x="60216" y="58964"/>
                    <a:pt x="73856" y="38508"/>
                  </a:cubicBezTo>
                  <a:cubicBezTo>
                    <a:pt x="74650" y="36127"/>
                    <a:pt x="73992" y="32487"/>
                    <a:pt x="76237" y="31364"/>
                  </a:cubicBezTo>
                  <a:cubicBezTo>
                    <a:pt x="81989" y="28488"/>
                    <a:pt x="86672" y="38682"/>
                    <a:pt x="88143" y="40889"/>
                  </a:cubicBezTo>
                  <a:cubicBezTo>
                    <a:pt x="88937" y="28189"/>
                    <a:pt x="87664" y="15188"/>
                    <a:pt x="90525" y="2789"/>
                  </a:cubicBezTo>
                  <a:cubicBezTo>
                    <a:pt x="91169" y="0"/>
                    <a:pt x="94007" y="7373"/>
                    <a:pt x="95287" y="9933"/>
                  </a:cubicBezTo>
                  <a:cubicBezTo>
                    <a:pt x="96409" y="12178"/>
                    <a:pt x="96874" y="14695"/>
                    <a:pt x="97668" y="17076"/>
                  </a:cubicBezTo>
                  <a:cubicBezTo>
                    <a:pt x="96874" y="11520"/>
                    <a:pt x="100899" y="408"/>
                    <a:pt x="95287" y="408"/>
                  </a:cubicBezTo>
                  <a:cubicBezTo>
                    <a:pt x="89675" y="408"/>
                    <a:pt x="93829" y="11540"/>
                    <a:pt x="92906" y="17076"/>
                  </a:cubicBezTo>
                  <a:cubicBezTo>
                    <a:pt x="92241" y="21069"/>
                    <a:pt x="91319" y="25014"/>
                    <a:pt x="90525" y="28983"/>
                  </a:cubicBezTo>
                  <a:cubicBezTo>
                    <a:pt x="89731" y="26602"/>
                    <a:pt x="89536" y="19751"/>
                    <a:pt x="88143" y="21839"/>
                  </a:cubicBezTo>
                  <a:cubicBezTo>
                    <a:pt x="82555" y="30219"/>
                    <a:pt x="88741" y="45064"/>
                    <a:pt x="83381" y="28983"/>
                  </a:cubicBezTo>
                  <a:cubicBezTo>
                    <a:pt x="82587" y="32952"/>
                    <a:pt x="82065" y="36984"/>
                    <a:pt x="81000" y="40889"/>
                  </a:cubicBezTo>
                  <a:cubicBezTo>
                    <a:pt x="79679" y="45732"/>
                    <a:pt x="76237" y="55176"/>
                    <a:pt x="76237" y="55176"/>
                  </a:cubicBezTo>
                  <a:cubicBezTo>
                    <a:pt x="77031" y="50414"/>
                    <a:pt x="78618" y="45717"/>
                    <a:pt x="78618" y="40889"/>
                  </a:cubicBezTo>
                  <a:cubicBezTo>
                    <a:pt x="78618" y="37616"/>
                    <a:pt x="78200" y="28746"/>
                    <a:pt x="76237" y="31364"/>
                  </a:cubicBezTo>
                  <a:cubicBezTo>
                    <a:pt x="72310" y="36601"/>
                    <a:pt x="73545" y="44205"/>
                    <a:pt x="71475" y="50414"/>
                  </a:cubicBezTo>
                  <a:lnTo>
                    <a:pt x="69093" y="57558"/>
                  </a:lnTo>
                  <a:cubicBezTo>
                    <a:pt x="68299" y="49620"/>
                    <a:pt x="69234" y="41313"/>
                    <a:pt x="66712" y="33745"/>
                  </a:cubicBezTo>
                  <a:cubicBezTo>
                    <a:pt x="65677" y="30640"/>
                    <a:pt x="64005" y="40014"/>
                    <a:pt x="64331" y="43270"/>
                  </a:cubicBezTo>
                  <a:cubicBezTo>
                    <a:pt x="64830" y="48265"/>
                    <a:pt x="69093" y="57558"/>
                    <a:pt x="69093" y="57558"/>
                  </a:cubicBezTo>
                  <a:cubicBezTo>
                    <a:pt x="70681" y="55177"/>
                    <a:pt x="73856" y="47552"/>
                    <a:pt x="73856" y="50414"/>
                  </a:cubicBezTo>
                  <a:cubicBezTo>
                    <a:pt x="73856" y="55434"/>
                    <a:pt x="70681" y="59939"/>
                    <a:pt x="69093" y="64701"/>
                  </a:cubicBezTo>
                  <a:lnTo>
                    <a:pt x="66712" y="71845"/>
                  </a:lnTo>
                  <a:cubicBezTo>
                    <a:pt x="65918" y="65495"/>
                    <a:pt x="66708" y="58737"/>
                    <a:pt x="64331" y="52795"/>
                  </a:cubicBezTo>
                  <a:cubicBezTo>
                    <a:pt x="63399" y="50464"/>
                    <a:pt x="62559" y="57504"/>
                    <a:pt x="61950" y="59939"/>
                  </a:cubicBezTo>
                  <a:cubicBezTo>
                    <a:pt x="60968" y="63865"/>
                    <a:pt x="60362" y="67876"/>
                    <a:pt x="59568" y="71845"/>
                  </a:cubicBezTo>
                  <a:cubicBezTo>
                    <a:pt x="55140" y="49705"/>
                    <a:pt x="58765" y="61574"/>
                    <a:pt x="54806" y="81370"/>
                  </a:cubicBezTo>
                  <a:cubicBezTo>
                    <a:pt x="53821" y="86293"/>
                    <a:pt x="51630" y="90895"/>
                    <a:pt x="50043" y="95658"/>
                  </a:cubicBezTo>
                  <a:lnTo>
                    <a:pt x="52425" y="88514"/>
                  </a:lnTo>
                  <a:cubicBezTo>
                    <a:pt x="55057" y="80619"/>
                    <a:pt x="54806" y="83880"/>
                    <a:pt x="54806" y="78989"/>
                  </a:cubicBezTo>
                </a:path>
              </a:pathLst>
            </a:custGeom>
            <a:solidFill>
              <a:srgbClr val="86adce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ihandform 26"/>
            <p:cNvSpPr/>
            <p:nvPr/>
          </p:nvSpPr>
          <p:spPr>
            <a:xfrm>
              <a:off x="7344000" y="5004000"/>
              <a:ext cx="43920" cy="864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44080" h="86539">
                  <a:moveTo>
                    <a:pt x="0" y="4763"/>
                  </a:moveTo>
                  <a:cubicBezTo>
                    <a:pt x="3175" y="3969"/>
                    <a:pt x="6378" y="3280"/>
                    <a:pt x="9525" y="2381"/>
                  </a:cubicBezTo>
                  <a:cubicBezTo>
                    <a:pt x="11939" y="1691"/>
                    <a:pt x="19179" y="0"/>
                    <a:pt x="16669" y="0"/>
                  </a:cubicBezTo>
                  <a:cubicBezTo>
                    <a:pt x="11841" y="0"/>
                    <a:pt x="7144" y="1587"/>
                    <a:pt x="2381" y="2381"/>
                  </a:cubicBezTo>
                  <a:cubicBezTo>
                    <a:pt x="3175" y="4762"/>
                    <a:pt x="3544" y="7331"/>
                    <a:pt x="4763" y="9525"/>
                  </a:cubicBezTo>
                  <a:cubicBezTo>
                    <a:pt x="7543" y="14529"/>
                    <a:pt x="14288" y="23813"/>
                    <a:pt x="14288" y="23813"/>
                  </a:cubicBezTo>
                  <a:cubicBezTo>
                    <a:pt x="15082" y="21432"/>
                    <a:pt x="16669" y="14159"/>
                    <a:pt x="16669" y="16669"/>
                  </a:cubicBezTo>
                  <a:cubicBezTo>
                    <a:pt x="16669" y="20716"/>
                    <a:pt x="17150" y="25713"/>
                    <a:pt x="14288" y="28575"/>
                  </a:cubicBezTo>
                  <a:cubicBezTo>
                    <a:pt x="12513" y="30350"/>
                    <a:pt x="12515" y="23866"/>
                    <a:pt x="11906" y="21431"/>
                  </a:cubicBezTo>
                  <a:cubicBezTo>
                    <a:pt x="10924" y="17505"/>
                    <a:pt x="10319" y="13494"/>
                    <a:pt x="9525" y="9525"/>
                  </a:cubicBezTo>
                  <a:cubicBezTo>
                    <a:pt x="12644" y="53195"/>
                    <a:pt x="6769" y="50664"/>
                    <a:pt x="16669" y="33338"/>
                  </a:cubicBezTo>
                  <a:cubicBezTo>
                    <a:pt x="18089" y="30853"/>
                    <a:pt x="19844" y="28575"/>
                    <a:pt x="21431" y="26194"/>
                  </a:cubicBezTo>
                  <a:cubicBezTo>
                    <a:pt x="23702" y="33006"/>
                    <a:pt x="24698" y="35383"/>
                    <a:pt x="26194" y="42863"/>
                  </a:cubicBezTo>
                  <a:cubicBezTo>
                    <a:pt x="27141" y="47597"/>
                    <a:pt x="27781" y="52388"/>
                    <a:pt x="28575" y="57150"/>
                  </a:cubicBezTo>
                  <a:cubicBezTo>
                    <a:pt x="33939" y="8869"/>
                    <a:pt x="27731" y="53773"/>
                    <a:pt x="33338" y="76200"/>
                  </a:cubicBezTo>
                  <a:cubicBezTo>
                    <a:pt x="35081" y="83173"/>
                    <a:pt x="34626" y="61873"/>
                    <a:pt x="35719" y="54769"/>
                  </a:cubicBezTo>
                  <a:cubicBezTo>
                    <a:pt x="36217" y="51534"/>
                    <a:pt x="37306" y="48419"/>
                    <a:pt x="38100" y="45244"/>
                  </a:cubicBezTo>
                  <a:cubicBezTo>
                    <a:pt x="43046" y="60084"/>
                    <a:pt x="43590" y="58636"/>
                    <a:pt x="38100" y="83344"/>
                  </a:cubicBezTo>
                  <a:cubicBezTo>
                    <a:pt x="37390" y="86539"/>
                    <a:pt x="36513" y="76994"/>
                    <a:pt x="35719" y="73819"/>
                  </a:cubicBezTo>
                  <a:cubicBezTo>
                    <a:pt x="34925" y="63500"/>
                    <a:pt x="34547" y="53141"/>
                    <a:pt x="33338" y="42863"/>
                  </a:cubicBezTo>
                  <a:cubicBezTo>
                    <a:pt x="32956" y="39613"/>
                    <a:pt x="34061" y="34373"/>
                    <a:pt x="30956" y="33338"/>
                  </a:cubicBezTo>
                  <a:cubicBezTo>
                    <a:pt x="28241" y="32433"/>
                    <a:pt x="27781" y="38100"/>
                    <a:pt x="26194" y="40481"/>
                  </a:cubicBezTo>
                  <a:cubicBezTo>
                    <a:pt x="19828" y="65950"/>
                    <a:pt x="27515" y="39280"/>
                    <a:pt x="21431" y="11906"/>
                  </a:cubicBezTo>
                  <a:cubicBezTo>
                    <a:pt x="20213" y="6427"/>
                    <a:pt x="19792" y="23011"/>
                    <a:pt x="19050" y="28575"/>
                  </a:cubicBezTo>
                  <a:cubicBezTo>
                    <a:pt x="18204" y="34918"/>
                    <a:pt x="17463" y="41275"/>
                    <a:pt x="16669" y="47625"/>
                  </a:cubicBezTo>
                  <a:cubicBezTo>
                    <a:pt x="11551" y="11803"/>
                    <a:pt x="15456" y="3639"/>
                    <a:pt x="9525" y="21431"/>
                  </a:cubicBezTo>
                  <a:cubicBezTo>
                    <a:pt x="9525" y="21431"/>
                    <a:pt x="4763" y="2383"/>
                    <a:pt x="4763" y="21431"/>
                  </a:cubicBezTo>
                  <a:cubicBezTo>
                    <a:pt x="4763" y="23941"/>
                    <a:pt x="7144" y="31085"/>
                    <a:pt x="7144" y="28575"/>
                  </a:cubicBezTo>
                  <a:cubicBezTo>
                    <a:pt x="7144" y="24528"/>
                    <a:pt x="5557" y="20638"/>
                    <a:pt x="4763" y="16669"/>
                  </a:cubicBezTo>
                  <a:cubicBezTo>
                    <a:pt x="5557" y="13494"/>
                    <a:pt x="5329" y="9867"/>
                    <a:pt x="7144" y="7144"/>
                  </a:cubicBezTo>
                  <a:cubicBezTo>
                    <a:pt x="9782" y="3187"/>
                    <a:pt x="17355" y="1359"/>
                    <a:pt x="21431" y="0"/>
                  </a:cubicBezTo>
                  <a:cubicBezTo>
                    <a:pt x="20637" y="3969"/>
                    <a:pt x="21912" y="9044"/>
                    <a:pt x="19050" y="11906"/>
                  </a:cubicBezTo>
                  <a:cubicBezTo>
                    <a:pt x="17275" y="13681"/>
                    <a:pt x="16669" y="2253"/>
                    <a:pt x="16669" y="4763"/>
                  </a:cubicBezTo>
                  <a:cubicBezTo>
                    <a:pt x="16669" y="12740"/>
                    <a:pt x="18256" y="20638"/>
                    <a:pt x="19050" y="28575"/>
                  </a:cubicBezTo>
                  <a:cubicBezTo>
                    <a:pt x="28339" y="713"/>
                    <a:pt x="23535" y="9276"/>
                    <a:pt x="26194" y="57150"/>
                  </a:cubicBezTo>
                  <a:cubicBezTo>
                    <a:pt x="22119" y="69377"/>
                    <a:pt x="21431" y="74688"/>
                    <a:pt x="21431" y="40481"/>
                  </a:cubicBezTo>
                  <a:cubicBezTo>
                    <a:pt x="21431" y="37971"/>
                    <a:pt x="23123" y="35751"/>
                    <a:pt x="23813" y="33338"/>
                  </a:cubicBezTo>
                  <a:cubicBezTo>
                    <a:pt x="24712" y="30191"/>
                    <a:pt x="25400" y="26988"/>
                    <a:pt x="26194" y="23813"/>
                  </a:cubicBezTo>
                  <a:cubicBezTo>
                    <a:pt x="26988" y="38894"/>
                    <a:pt x="25792" y="54213"/>
                    <a:pt x="28575" y="69056"/>
                  </a:cubicBezTo>
                  <a:cubicBezTo>
                    <a:pt x="29102" y="71869"/>
                    <a:pt x="32058" y="64473"/>
                    <a:pt x="33338" y="61913"/>
                  </a:cubicBezTo>
                  <a:cubicBezTo>
                    <a:pt x="34461" y="59668"/>
                    <a:pt x="34925" y="57150"/>
                    <a:pt x="35719" y="54769"/>
                  </a:cubicBezTo>
                  <a:cubicBezTo>
                    <a:pt x="36801" y="59099"/>
                    <a:pt x="44080" y="83344"/>
                    <a:pt x="35719" y="83344"/>
                  </a:cubicBezTo>
                  <a:cubicBezTo>
                    <a:pt x="29320" y="83344"/>
                    <a:pt x="34132" y="70644"/>
                    <a:pt x="33338" y="64294"/>
                  </a:cubicBezTo>
                  <a:cubicBezTo>
                    <a:pt x="32544" y="69056"/>
                    <a:pt x="32003" y="73868"/>
                    <a:pt x="30956" y="78581"/>
                  </a:cubicBezTo>
                  <a:cubicBezTo>
                    <a:pt x="30411" y="81031"/>
                    <a:pt x="30956" y="86519"/>
                    <a:pt x="28575" y="85725"/>
                  </a:cubicBezTo>
                  <a:cubicBezTo>
                    <a:pt x="25207" y="84602"/>
                    <a:pt x="25400" y="79375"/>
                    <a:pt x="23813" y="76200"/>
                  </a:cubicBezTo>
                  <a:cubicBezTo>
                    <a:pt x="24607" y="61913"/>
                    <a:pt x="22724" y="47220"/>
                    <a:pt x="26194" y="33338"/>
                  </a:cubicBezTo>
                  <a:cubicBezTo>
                    <a:pt x="27411" y="28468"/>
                    <a:pt x="30956" y="47625"/>
                    <a:pt x="30956" y="47625"/>
                  </a:cubicBezTo>
                  <a:cubicBezTo>
                    <a:pt x="30162" y="37306"/>
                    <a:pt x="29859" y="26938"/>
                    <a:pt x="28575" y="16669"/>
                  </a:cubicBezTo>
                  <a:cubicBezTo>
                    <a:pt x="28264" y="14178"/>
                    <a:pt x="27969" y="11300"/>
                    <a:pt x="26194" y="9525"/>
                  </a:cubicBezTo>
                  <a:cubicBezTo>
                    <a:pt x="24419" y="7750"/>
                    <a:pt x="21431" y="7938"/>
                    <a:pt x="19050" y="7144"/>
                  </a:cubicBezTo>
                  <a:cubicBezTo>
                    <a:pt x="26598" y="18464"/>
                    <a:pt x="22908" y="11573"/>
                    <a:pt x="28575" y="28575"/>
                  </a:cubicBezTo>
                  <a:lnTo>
                    <a:pt x="30956" y="35719"/>
                  </a:lnTo>
                  <a:cubicBezTo>
                    <a:pt x="30956" y="35719"/>
                    <a:pt x="28575" y="31085"/>
                    <a:pt x="28575" y="28575"/>
                  </a:cubicBezTo>
                  <a:lnTo>
                    <a:pt x="0" y="4763"/>
                  </a:lnTo>
                  <a:close/>
                </a:path>
              </a:pathLst>
            </a:custGeom>
            <a:solidFill>
              <a:srgbClr val="86adc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feld 17"/>
            <p:cNvSpPr/>
            <p:nvPr/>
          </p:nvSpPr>
          <p:spPr>
            <a:xfrm>
              <a:off x="7358040" y="5010480"/>
              <a:ext cx="138888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ad 29"/>
            <p:cNvSpPr/>
            <p:nvPr/>
          </p:nvSpPr>
          <p:spPr>
            <a:xfrm>
              <a:off x="7426440" y="4851720"/>
              <a:ext cx="31680" cy="31680"/>
            </a:xfrm>
            <a:custGeom>
              <a:avLst/>
              <a:gdLst>
                <a:gd name="textAreaLeft" fmla="*/ 4680 w 31680"/>
                <a:gd name="textAreaRight" fmla="*/ 27000 w 31680"/>
                <a:gd name="textAreaTop" fmla="*/ 4680 h 31680"/>
                <a:gd name="textAreaBottom" fmla="*/ 27000 h 31680"/>
              </a:gdLst>
              <a:ahLst/>
              <a:rect l="textAreaLeft" t="textAreaTop" r="textAreaRight" b="textAreaBottom"/>
              <a:pathLst>
                <a:path w="31742" h="31743">
                  <a:moveTo>
                    <a:pt x="0" y="15872"/>
                  </a:moveTo>
                  <a:lnTo>
                    <a:pt x="0" y="15872"/>
                  </a:lnTo>
                  <a:arcTo wR="15871" hR="15872" stAng="10800000" swAng="5400000"/>
                  <a:lnTo>
                    <a:pt x="15871" y="0"/>
                  </a:lnTo>
                  <a:arcTo wR="15871" hR="15872" stAng="-5400000" swAng="5400000"/>
                  <a:lnTo>
                    <a:pt x="31742" y="15872"/>
                  </a:lnTo>
                  <a:arcTo wR="15871" hR="15872" stAng="0" swAng="5400000"/>
                  <a:lnTo>
                    <a:pt x="15871" y="31744"/>
                  </a:lnTo>
                  <a:arcTo wR="15871" hR="15872" stAng="5400000" swAng="5400000"/>
                  <a:close/>
                  <a:moveTo>
                    <a:pt x="7936" y="15872"/>
                  </a:moveTo>
                  <a:lnTo>
                    <a:pt x="7936" y="15872"/>
                  </a:lnTo>
                  <a:arcTo wR="7936" hR="7936" stAng="10800000" swAng="-5400000"/>
                  <a:lnTo>
                    <a:pt x="15872" y="23808"/>
                  </a:lnTo>
                  <a:arcTo wR="7936" hR="7936" stAng="5400000" swAng="-5400000"/>
                  <a:lnTo>
                    <a:pt x="23808" y="15872"/>
                  </a:lnTo>
                  <a:arcTo wR="7936" hR="7936" stAng="0" swAng="-5400000"/>
                  <a:lnTo>
                    <a:pt x="15872" y="7936"/>
                  </a:lnTo>
                  <a:arcTo wR="7936" hR="7936" stAng="-5400000" swAng="-5400000"/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ad 30"/>
            <p:cNvSpPr/>
            <p:nvPr/>
          </p:nvSpPr>
          <p:spPr>
            <a:xfrm>
              <a:off x="7318440" y="4953240"/>
              <a:ext cx="31680" cy="33120"/>
            </a:xfrm>
            <a:custGeom>
              <a:avLst/>
              <a:gdLst>
                <a:gd name="textAreaLeft" fmla="*/ 4680 w 31680"/>
                <a:gd name="textAreaRight" fmla="*/ 27000 w 31680"/>
                <a:gd name="textAreaTop" fmla="*/ 4680 h 33120"/>
                <a:gd name="textAreaBottom" fmla="*/ 28440 h 33120"/>
              </a:gdLst>
              <a:ahLst/>
              <a:rect l="textAreaLeft" t="textAreaTop" r="textAreaRight" b="textAreaBottom"/>
              <a:pathLst>
                <a:path w="31742" h="33330">
                  <a:moveTo>
                    <a:pt x="0" y="16665"/>
                  </a:moveTo>
                  <a:lnTo>
                    <a:pt x="8871" y="-1651"/>
                  </a:lnTo>
                  <a:arcTo wR="15871" hR="-16103" stAng="6950578" swAng="20049422"/>
                  <a:lnTo>
                    <a:pt x="15871" y="0"/>
                  </a:lnTo>
                  <a:arcTo wR="15871" hR="-16103" stAng="5400000" swAng="20049422"/>
                  <a:lnTo>
                    <a:pt x="22871" y="-1651"/>
                  </a:lnTo>
                  <a:arcTo wR="15871" hR="-16103" stAng="3849422" swAng="12350578"/>
                  <a:lnTo>
                    <a:pt x="15871" y="-32206"/>
                  </a:lnTo>
                  <a:arcTo wR="15871" hR="-16103" stAng="-5400000" swAng="12350578"/>
                  <a:close/>
                  <a:moveTo>
                    <a:pt x="7936" y="16665"/>
                  </a:moveTo>
                  <a:lnTo>
                    <a:pt x="7936" y="16665"/>
                  </a:lnTo>
                  <a:arcTo wR="7936" hR="8730" stAng="10800000" swAng="-5400000"/>
                  <a:lnTo>
                    <a:pt x="15872" y="25395"/>
                  </a:lnTo>
                  <a:arcTo wR="7936" hR="8730" stAng="5400000" swAng="-5400000"/>
                  <a:lnTo>
                    <a:pt x="23808" y="16665"/>
                  </a:lnTo>
                  <a:arcTo wR="7936" hR="8730" stAng="0" swAng="-5400000"/>
                  <a:lnTo>
                    <a:pt x="15872" y="7935"/>
                  </a:lnTo>
                  <a:arcTo wR="7936" hR="8730" stAng="-5400000" swAng="-5400000"/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feld 16"/>
          <p:cNvSpPr/>
          <p:nvPr/>
        </p:nvSpPr>
        <p:spPr>
          <a:xfrm>
            <a:off x="6443640" y="5653080"/>
            <a:ext cx="244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 should be ad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„first contact point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feld 19"/>
          <p:cNvSpPr/>
          <p:nvPr/>
        </p:nvSpPr>
        <p:spPr>
          <a:xfrm>
            <a:off x="5997600" y="2593800"/>
            <a:ext cx="26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e72fb"/>
                </a:solidFill>
                <a:latin typeface="Arial"/>
              </a:rPr>
              <a:t>New, additional draw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e72fb"/>
                </a:solidFill>
                <a:latin typeface="Arial"/>
              </a:rPr>
              <a:t>Schematic front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feld 20"/>
          <p:cNvSpPr/>
          <p:nvPr/>
        </p:nvSpPr>
        <p:spPr>
          <a:xfrm>
            <a:off x="7669080" y="3836880"/>
            <a:ext cx="14400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: Measuring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: First contact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feld 32"/>
          <p:cNvSpPr/>
          <p:nvPr/>
        </p:nvSpPr>
        <p:spPr>
          <a:xfrm>
            <a:off x="1204920" y="277164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sting drawing: Schematic side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637920" y="358920"/>
            <a:ext cx="160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destrian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2"/>
          <p:cNvSpPr/>
          <p:nvPr/>
        </p:nvSpPr>
        <p:spPr>
          <a:xfrm>
            <a:off x="539640" y="1260360"/>
            <a:ext cx="82090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5040" indent="-3650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everal cases, different terms are used to describe identical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it is proposed to add the following references, e.g. to the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3477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rget point” A is also referred to as “aiming poi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3477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ing point” B is also referred to as “selected impact point” or “test poi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3477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st contact point” C is also referred to as “impact poi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clear and easy understandable definitions are wished for by OICA to avoid misundersta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0"/>
          <p:cNvSpPr/>
          <p:nvPr/>
        </p:nvSpPr>
        <p:spPr>
          <a:xfrm>
            <a:off x="539640" y="53964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4b1"/>
                </a:solidFill>
                <a:latin typeface="Arial"/>
              </a:rPr>
              <a:t>Clarification Of Headform Test Procedure – Suggestion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637920" y="358920"/>
            <a:ext cx="160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destrian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2"/>
          <p:cNvSpPr/>
          <p:nvPr/>
        </p:nvSpPr>
        <p:spPr>
          <a:xfrm>
            <a:off x="539640" y="1260360"/>
            <a:ext cx="8209080" cy="20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5040" indent="-3650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ly, a test result achieved during a test should be allocated to the respective “measuring point” and not to the “first contact poi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ccepted, the changes mentioned above should also be incorporated into the draft ECE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0"/>
          <p:cNvSpPr/>
          <p:nvPr/>
        </p:nvSpPr>
        <p:spPr>
          <a:xfrm>
            <a:off x="539640" y="53964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4b1"/>
                </a:solidFill>
                <a:latin typeface="Arial"/>
              </a:rPr>
              <a:t>Clarification Of Headform Test Procedure – Suggestion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0"/>
          <p:cNvSpPr/>
          <p:nvPr/>
        </p:nvSpPr>
        <p:spPr>
          <a:xfrm>
            <a:off x="539640" y="53964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4b1"/>
                </a:solidFill>
                <a:latin typeface="Arial"/>
              </a:rPr>
              <a:t>Advantages Of The Suggested Clar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37920" y="358920"/>
            <a:ext cx="160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destrian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2"/>
          <p:cNvSpPr/>
          <p:nvPr/>
        </p:nvSpPr>
        <p:spPr>
          <a:xfrm>
            <a:off x="539640" y="1260360"/>
            <a:ext cx="820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5040" indent="-3650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gtr No 9 discussion, it was accepted that a “first contact point” always exists b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4"/>
          <p:cNvGrpSpPr/>
          <p:nvPr/>
        </p:nvGrpSpPr>
        <p:grpSpPr>
          <a:xfrm>
            <a:off x="392040" y="2260440"/>
            <a:ext cx="3452760" cy="2954160"/>
            <a:chOff x="392040" y="2260440"/>
            <a:chExt cx="3452760" cy="2954160"/>
          </a:xfrm>
        </p:grpSpPr>
        <p:sp>
          <p:nvSpPr>
            <p:cNvPr id="124" name="Freeform 16"/>
            <p:cNvSpPr/>
            <p:nvPr/>
          </p:nvSpPr>
          <p:spPr>
            <a:xfrm>
              <a:off x="1117440" y="4335120"/>
              <a:ext cx="2589120" cy="669960"/>
            </a:xfrm>
            <a:custGeom>
              <a:avLst/>
              <a:gdLst>
                <a:gd name="textAreaLeft" fmla="*/ 0 w 2589120"/>
                <a:gd name="textAreaRight" fmla="*/ 2589480 w 258912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1631" h="422">
                  <a:moveTo>
                    <a:pt x="0" y="422"/>
                  </a:moveTo>
                  <a:cubicBezTo>
                    <a:pt x="132" y="415"/>
                    <a:pt x="609" y="400"/>
                    <a:pt x="787" y="377"/>
                  </a:cubicBezTo>
                  <a:cubicBezTo>
                    <a:pt x="965" y="354"/>
                    <a:pt x="986" y="332"/>
                    <a:pt x="1067" y="285"/>
                  </a:cubicBezTo>
                  <a:cubicBezTo>
                    <a:pt x="1148" y="238"/>
                    <a:pt x="1178" y="145"/>
                    <a:pt x="1272" y="97"/>
                  </a:cubicBezTo>
                  <a:cubicBezTo>
                    <a:pt x="1366" y="49"/>
                    <a:pt x="1556" y="20"/>
                    <a:pt x="1631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18"/>
            <p:cNvGrpSpPr/>
            <p:nvPr/>
          </p:nvGrpSpPr>
          <p:grpSpPr>
            <a:xfrm>
              <a:off x="1539720" y="2260440"/>
              <a:ext cx="2305080" cy="2954160"/>
              <a:chOff x="1539720" y="2260440"/>
              <a:chExt cx="2305080" cy="2954160"/>
            </a:xfrm>
          </p:grpSpPr>
          <p:sp>
            <p:nvSpPr>
              <p:cNvPr id="126" name="Oval 19"/>
              <p:cNvSpPr/>
              <p:nvPr/>
            </p:nvSpPr>
            <p:spPr>
              <a:xfrm>
                <a:off x="1539720" y="2260440"/>
                <a:ext cx="2305080" cy="2305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0"/>
              <p:cNvSpPr/>
              <p:nvPr/>
            </p:nvSpPr>
            <p:spPr>
              <a:xfrm>
                <a:off x="2376360" y="2334960"/>
                <a:ext cx="0" cy="2879640"/>
              </a:xfrm>
              <a:prstGeom prst="line">
                <a:avLst/>
              </a:prstGeom>
              <a:ln w="28440">
                <a:solidFill>
                  <a:srgbClr val="7f7f7f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21"/>
            <p:cNvSpPr/>
            <p:nvPr/>
          </p:nvSpPr>
          <p:spPr>
            <a:xfrm>
              <a:off x="392040" y="4428720"/>
              <a:ext cx="1383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ff"/>
                  </a:solidFill>
                  <a:latin typeface="Arial"/>
                </a:rPr>
                <a:t>realistic bonn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ff"/>
                  </a:solidFill>
                  <a:latin typeface="Arial"/>
                </a:rPr>
                <a:t>curva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2"/>
            <p:cNvSpPr/>
            <p:nvPr/>
          </p:nvSpPr>
          <p:spPr>
            <a:xfrm flipH="1" flipV="1">
              <a:off x="1288800" y="4746240"/>
              <a:ext cx="28728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Oval 19"/>
          <p:cNvSpPr/>
          <p:nvPr/>
        </p:nvSpPr>
        <p:spPr>
          <a:xfrm>
            <a:off x="1216080" y="2451240"/>
            <a:ext cx="2305080" cy="23050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844720" y="2205000"/>
            <a:ext cx="0" cy="2879640"/>
          </a:xfrm>
          <a:prstGeom prst="line">
            <a:avLst/>
          </a:prstGeom>
          <a:ln w="28440">
            <a:solidFill>
              <a:srgbClr val="7f7f7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llipse 24"/>
          <p:cNvSpPr/>
          <p:nvPr/>
        </p:nvSpPr>
        <p:spPr>
          <a:xfrm>
            <a:off x="3086280" y="4465800"/>
            <a:ext cx="71280" cy="71280"/>
          </a:xfrm>
          <a:prstGeom prst="ellipse">
            <a:avLst/>
          </a:prstGeom>
          <a:solidFill>
            <a:srgbClr val="fe000c"/>
          </a:solidFill>
          <a:ln w="9360">
            <a:solidFill>
              <a:srgbClr val="fe00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Gerade Verbindung mit Pfeil 26"/>
          <p:cNvCxnSpPr/>
          <p:nvPr/>
        </p:nvCxnSpPr>
        <p:spPr>
          <a:xfrm flipV="1">
            <a:off x="2770560" y="4825440"/>
            <a:ext cx="65520" cy="548280"/>
          </a:xfrm>
          <a:prstGeom prst="straightConnector1">
            <a:avLst/>
          </a:prstGeom>
          <a:ln w="255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134" name="Textfeld 27"/>
          <p:cNvSpPr/>
          <p:nvPr/>
        </p:nvSpPr>
        <p:spPr>
          <a:xfrm>
            <a:off x="2076480" y="5681520"/>
            <a:ext cx="24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000c"/>
                </a:solidFill>
                <a:latin typeface="Arial"/>
              </a:rPr>
              <a:t>First contact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feld 29"/>
          <p:cNvSpPr/>
          <p:nvPr/>
        </p:nvSpPr>
        <p:spPr>
          <a:xfrm>
            <a:off x="4319640" y="1908000"/>
            <a:ext cx="4680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unclear how to position the headform in relation to thi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very different impactor positions (as e.g. shown in the sketch) the first contact point could be nearly identic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headform center of gravity clearly influences the behavior of the headform during and after the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HIC results can b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he measuring points, a clear allocation of the test result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llipse 33"/>
          <p:cNvSpPr/>
          <p:nvPr/>
        </p:nvSpPr>
        <p:spPr>
          <a:xfrm>
            <a:off x="2809800" y="4724280"/>
            <a:ext cx="73080" cy="7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llipse 34"/>
          <p:cNvSpPr/>
          <p:nvPr/>
        </p:nvSpPr>
        <p:spPr>
          <a:xfrm>
            <a:off x="2341440" y="4890960"/>
            <a:ext cx="73080" cy="7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Gerade Verbindung mit Pfeil 35"/>
          <p:cNvCxnSpPr/>
          <p:nvPr/>
        </p:nvCxnSpPr>
        <p:spPr>
          <a:xfrm flipH="1" flipV="1">
            <a:off x="3120480" y="4581000"/>
            <a:ext cx="268920" cy="1139040"/>
          </a:xfrm>
          <a:prstGeom prst="straightConnector1">
            <a:avLst/>
          </a:prstGeom>
          <a:ln w="25560">
            <a:solidFill>
              <a:srgbClr val="fe000c"/>
            </a:solidFill>
            <a:miter/>
            <a:tailEnd len="med" type="triangle" w="med"/>
          </a:ln>
        </p:spPr>
      </p:cxnSp>
      <p:cxnSp>
        <p:nvCxnSpPr>
          <p:cNvPr id="139" name="Gerade Verbindung mit Pfeil 37"/>
          <p:cNvCxnSpPr/>
          <p:nvPr/>
        </p:nvCxnSpPr>
        <p:spPr>
          <a:xfrm flipH="1" flipV="1">
            <a:off x="2375640" y="5012640"/>
            <a:ext cx="35640" cy="361080"/>
          </a:xfrm>
          <a:prstGeom prst="straightConnector1">
            <a:avLst/>
          </a:prstGeom>
          <a:ln w="255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140" name="Textfeld 40"/>
          <p:cNvSpPr/>
          <p:nvPr/>
        </p:nvSpPr>
        <p:spPr>
          <a:xfrm>
            <a:off x="1116000" y="531324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easuring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llipse 24"/>
          <p:cNvSpPr/>
          <p:nvPr/>
        </p:nvSpPr>
        <p:spPr>
          <a:xfrm>
            <a:off x="3062160" y="4479840"/>
            <a:ext cx="71640" cy="71640"/>
          </a:xfrm>
          <a:prstGeom prst="ellipse">
            <a:avLst/>
          </a:prstGeom>
          <a:solidFill>
            <a:srgbClr val="fe000c"/>
          </a:solidFill>
          <a:ln w="9360">
            <a:solidFill>
              <a:srgbClr val="fe00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0"/>
          <p:cNvSpPr/>
          <p:nvPr/>
        </p:nvSpPr>
        <p:spPr>
          <a:xfrm>
            <a:off x="539640" y="53964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4b1"/>
                </a:solidFill>
                <a:latin typeface="Arial"/>
              </a:rPr>
              <a:t>Advantages Of The Suggested Clarification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637920" y="358920"/>
            <a:ext cx="160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destrian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2"/>
          <p:cNvSpPr/>
          <p:nvPr/>
        </p:nvSpPr>
        <p:spPr>
          <a:xfrm>
            <a:off x="539640" y="1260360"/>
            <a:ext cx="820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5040" indent="-3650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can be areas where a “measuring point” cannot be directly contacted, b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feld 29"/>
          <p:cNvSpPr/>
          <p:nvPr/>
        </p:nvSpPr>
        <p:spPr>
          <a:xfrm>
            <a:off x="3780000" y="1908000"/>
            <a:ext cx="5329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positioning of the headform nevertheles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he headform’s center of gravity the headform will travel mainly in the intended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if the same “first contact point” will be hit the resulting HIC can di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that cannot be contacted may be misused as “black holes” preventing critical points from being t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he proposed procedure, each point on the bonnet that can be finger-pointed to will have an allocated test resul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pieren 91"/>
          <p:cNvGrpSpPr/>
          <p:nvPr/>
        </p:nvGrpSpPr>
        <p:grpSpPr>
          <a:xfrm>
            <a:off x="527040" y="2060640"/>
            <a:ext cx="1343160" cy="1460520"/>
            <a:chOff x="527040" y="2060640"/>
            <a:chExt cx="1343160" cy="1460520"/>
          </a:xfrm>
        </p:grpSpPr>
        <p:sp>
          <p:nvSpPr>
            <p:cNvPr id="147" name="Line 25"/>
            <p:cNvSpPr/>
            <p:nvPr/>
          </p:nvSpPr>
          <p:spPr>
            <a:xfrm>
              <a:off x="1384920" y="3336840"/>
              <a:ext cx="0" cy="184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"/>
            <p:cNvSpPr/>
            <p:nvPr/>
          </p:nvSpPr>
          <p:spPr>
            <a:xfrm>
              <a:off x="527040" y="2201760"/>
              <a:ext cx="1153440" cy="1152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16"/>
            <p:cNvGrpSpPr/>
            <p:nvPr/>
          </p:nvGrpSpPr>
          <p:grpSpPr>
            <a:xfrm>
              <a:off x="574560" y="3059640"/>
              <a:ext cx="1295640" cy="334800"/>
              <a:chOff x="574560" y="3059640"/>
              <a:chExt cx="1295640" cy="334800"/>
            </a:xfrm>
          </p:grpSpPr>
          <p:sp>
            <p:nvSpPr>
              <p:cNvPr id="150" name="Freeform 3"/>
              <p:cNvSpPr/>
              <p:nvPr/>
            </p:nvSpPr>
            <p:spPr>
              <a:xfrm>
                <a:off x="574560" y="3059640"/>
                <a:ext cx="1295640" cy="334800"/>
              </a:xfrm>
              <a:custGeom>
                <a:avLst/>
                <a:gdLst>
                  <a:gd name="textAreaLeft" fmla="*/ 0 w 1295640"/>
                  <a:gd name="textAreaRight" fmla="*/ 1296000 w 1295640"/>
                  <a:gd name="textAreaTop" fmla="*/ 0 h 334800"/>
                  <a:gd name="textAreaBottom" fmla="*/ 334800 h 334800"/>
                </a:gdLst>
                <a:ahLst/>
                <a:rect l="textAreaLeft" t="textAreaTop" r="textAreaRight" b="textAreaBottom"/>
                <a:pathLst>
                  <a:path w="1631" h="422">
                    <a:moveTo>
                      <a:pt x="0" y="422"/>
                    </a:moveTo>
                    <a:cubicBezTo>
                      <a:pt x="132" y="415"/>
                      <a:pt x="609" y="400"/>
                      <a:pt x="787" y="377"/>
                    </a:cubicBezTo>
                    <a:cubicBezTo>
                      <a:pt x="965" y="354"/>
                      <a:pt x="986" y="332"/>
                      <a:pt x="1067" y="285"/>
                    </a:cubicBezTo>
                    <a:cubicBezTo>
                      <a:pt x="1148" y="238"/>
                      <a:pt x="1178" y="145"/>
                      <a:pt x="1272" y="97"/>
                    </a:cubicBezTo>
                    <a:cubicBezTo>
                      <a:pt x="1366" y="49"/>
                      <a:pt x="1556" y="20"/>
                      <a:pt x="1631" y="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1"/>
              <p:cNvSpPr/>
              <p:nvPr/>
            </p:nvSpPr>
            <p:spPr>
              <a:xfrm>
                <a:off x="1174320" y="3159360"/>
                <a:ext cx="375840" cy="199080"/>
              </a:xfrm>
              <a:custGeom>
                <a:avLst/>
                <a:gdLst>
                  <a:gd name="textAreaLeft" fmla="*/ 0 w 375840"/>
                  <a:gd name="textAreaRight" fmla="*/ 376200 w 37584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473" h="251">
                    <a:moveTo>
                      <a:pt x="0" y="251"/>
                    </a:moveTo>
                    <a:cubicBezTo>
                      <a:pt x="33" y="245"/>
                      <a:pt x="147" y="232"/>
                      <a:pt x="199" y="217"/>
                    </a:cubicBezTo>
                    <a:cubicBezTo>
                      <a:pt x="251" y="202"/>
                      <a:pt x="280" y="180"/>
                      <a:pt x="312" y="159"/>
                    </a:cubicBezTo>
                    <a:cubicBezTo>
                      <a:pt x="344" y="138"/>
                      <a:pt x="366" y="117"/>
                      <a:pt x="393" y="91"/>
                    </a:cubicBezTo>
                    <a:cubicBezTo>
                      <a:pt x="420" y="65"/>
                      <a:pt x="456" y="19"/>
                      <a:pt x="473" y="0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Oval 29"/>
            <p:cNvSpPr/>
            <p:nvPr/>
          </p:nvSpPr>
          <p:spPr>
            <a:xfrm>
              <a:off x="1158480" y="333972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1535760" y="312876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33"/>
            <p:cNvSpPr/>
            <p:nvPr/>
          </p:nvSpPr>
          <p:spPr>
            <a:xfrm>
              <a:off x="1721160" y="306612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752400" y="337320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>
              <a:off x="1104840" y="2060640"/>
              <a:ext cx="0" cy="1440000"/>
            </a:xfrm>
            <a:prstGeom prst="line">
              <a:avLst/>
            </a:prstGeom>
            <a:ln w="28440">
              <a:solidFill>
                <a:srgbClr val="7f7f7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8" descr=""/>
          <p:cNvPicPr/>
          <p:nvPr/>
        </p:nvPicPr>
        <p:blipFill>
          <a:blip r:embed="rId1"/>
          <a:srcRect l="27679" t="29320" r="16949" b="8194"/>
          <a:stretch/>
        </p:blipFill>
        <p:spPr>
          <a:xfrm>
            <a:off x="866880" y="3807000"/>
            <a:ext cx="2952720" cy="2401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8" name="Text Box 26"/>
          <p:cNvSpPr/>
          <p:nvPr/>
        </p:nvSpPr>
        <p:spPr>
          <a:xfrm>
            <a:off x="81000" y="3525840"/>
            <a:ext cx="3649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easuring points cannot be h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0"/>
          <p:cNvSpPr/>
          <p:nvPr/>
        </p:nvSpPr>
        <p:spPr>
          <a:xfrm>
            <a:off x="539640" y="53964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4b1"/>
                </a:solidFill>
                <a:latin typeface="Arial"/>
              </a:rPr>
              <a:t>Advantages Of The Suggested Clarifications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637920" y="358920"/>
            <a:ext cx="160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destrian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2"/>
          <p:cNvSpPr/>
          <p:nvPr/>
        </p:nvSpPr>
        <p:spPr>
          <a:xfrm>
            <a:off x="539640" y="1260360"/>
            <a:ext cx="820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5040" indent="-3650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can be multiple contacts with 2 or even more “first contact points” hit during the same impact, b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29"/>
          <p:cNvSpPr/>
          <p:nvPr/>
        </p:nvSpPr>
        <p:spPr>
          <a:xfrm>
            <a:off x="3780000" y="1908000"/>
            <a:ext cx="5029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kinetic energy is transferred in the plane of the headform’s center of 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of the number of first contact points: There will be just one calculated HIC result ach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he proposed procedure, the test result will be allocated to the point that was assigned as measuring poi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uppieren 91"/>
          <p:cNvGrpSpPr/>
          <p:nvPr/>
        </p:nvGrpSpPr>
        <p:grpSpPr>
          <a:xfrm>
            <a:off x="527040" y="2060640"/>
            <a:ext cx="2684160" cy="3313080"/>
            <a:chOff x="527040" y="2060640"/>
            <a:chExt cx="2684160" cy="3313080"/>
          </a:xfrm>
        </p:grpSpPr>
        <p:sp>
          <p:nvSpPr>
            <p:cNvPr id="164" name="Line 25"/>
            <p:cNvSpPr/>
            <p:nvPr/>
          </p:nvSpPr>
          <p:spPr>
            <a:xfrm>
              <a:off x="1845360" y="4725720"/>
              <a:ext cx="216000" cy="64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"/>
            <p:cNvSpPr/>
            <p:nvPr/>
          </p:nvSpPr>
          <p:spPr>
            <a:xfrm>
              <a:off x="527040" y="2342880"/>
              <a:ext cx="2305080" cy="2305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16"/>
            <p:cNvGrpSpPr/>
            <p:nvPr/>
          </p:nvGrpSpPr>
          <p:grpSpPr>
            <a:xfrm>
              <a:off x="622080" y="4059360"/>
              <a:ext cx="2589120" cy="669600"/>
              <a:chOff x="622080" y="4059360"/>
              <a:chExt cx="2589120" cy="669600"/>
            </a:xfrm>
          </p:grpSpPr>
          <p:sp>
            <p:nvSpPr>
              <p:cNvPr id="167" name="Freeform 3"/>
              <p:cNvSpPr/>
              <p:nvPr/>
            </p:nvSpPr>
            <p:spPr>
              <a:xfrm>
                <a:off x="622080" y="4059360"/>
                <a:ext cx="2589120" cy="669600"/>
              </a:xfrm>
              <a:custGeom>
                <a:avLst/>
                <a:gdLst>
                  <a:gd name="textAreaLeft" fmla="*/ 0 w 2589120"/>
                  <a:gd name="textAreaRight" fmla="*/ 2589480 w 2589120"/>
                  <a:gd name="textAreaTop" fmla="*/ 0 h 669600"/>
                  <a:gd name="textAreaBottom" fmla="*/ 669600 h 669600"/>
                </a:gdLst>
                <a:ahLst/>
                <a:rect l="textAreaLeft" t="textAreaTop" r="textAreaRight" b="textAreaBottom"/>
                <a:pathLst>
                  <a:path w="1631" h="422">
                    <a:moveTo>
                      <a:pt x="0" y="422"/>
                    </a:moveTo>
                    <a:cubicBezTo>
                      <a:pt x="132" y="415"/>
                      <a:pt x="609" y="400"/>
                      <a:pt x="787" y="377"/>
                    </a:cubicBezTo>
                    <a:cubicBezTo>
                      <a:pt x="965" y="354"/>
                      <a:pt x="986" y="332"/>
                      <a:pt x="1067" y="285"/>
                    </a:cubicBezTo>
                    <a:cubicBezTo>
                      <a:pt x="1148" y="238"/>
                      <a:pt x="1178" y="145"/>
                      <a:pt x="1272" y="97"/>
                    </a:cubicBezTo>
                    <a:cubicBezTo>
                      <a:pt x="1366" y="49"/>
                      <a:pt x="1556" y="20"/>
                      <a:pt x="1631" y="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1"/>
              <p:cNvSpPr/>
              <p:nvPr/>
            </p:nvSpPr>
            <p:spPr>
              <a:xfrm>
                <a:off x="1820520" y="4259160"/>
                <a:ext cx="750960" cy="398520"/>
              </a:xfrm>
              <a:custGeom>
                <a:avLst/>
                <a:gdLst>
                  <a:gd name="textAreaLeft" fmla="*/ 0 w 750960"/>
                  <a:gd name="textAreaRight" fmla="*/ 751320 w 7509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473" h="251">
                    <a:moveTo>
                      <a:pt x="0" y="251"/>
                    </a:moveTo>
                    <a:cubicBezTo>
                      <a:pt x="33" y="245"/>
                      <a:pt x="147" y="232"/>
                      <a:pt x="199" y="217"/>
                    </a:cubicBezTo>
                    <a:cubicBezTo>
                      <a:pt x="251" y="202"/>
                      <a:pt x="280" y="180"/>
                      <a:pt x="312" y="159"/>
                    </a:cubicBezTo>
                    <a:cubicBezTo>
                      <a:pt x="344" y="138"/>
                      <a:pt x="366" y="117"/>
                      <a:pt x="393" y="91"/>
                    </a:cubicBezTo>
                    <a:cubicBezTo>
                      <a:pt x="420" y="65"/>
                      <a:pt x="456" y="19"/>
                      <a:pt x="473" y="0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Oval 29"/>
            <p:cNvSpPr/>
            <p:nvPr/>
          </p:nvSpPr>
          <p:spPr>
            <a:xfrm>
              <a:off x="1789200" y="4620240"/>
              <a:ext cx="7272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31"/>
            <p:cNvSpPr/>
            <p:nvPr/>
          </p:nvSpPr>
          <p:spPr>
            <a:xfrm>
              <a:off x="2543400" y="4197600"/>
              <a:ext cx="7272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3"/>
            <p:cNvSpPr/>
            <p:nvPr/>
          </p:nvSpPr>
          <p:spPr>
            <a:xfrm>
              <a:off x="2913120" y="4072320"/>
              <a:ext cx="7272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5"/>
            <p:cNvSpPr/>
            <p:nvPr/>
          </p:nvSpPr>
          <p:spPr>
            <a:xfrm>
              <a:off x="977760" y="4686840"/>
              <a:ext cx="7272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1682640" y="2060640"/>
              <a:ext cx="0" cy="2880000"/>
            </a:xfrm>
            <a:prstGeom prst="line">
              <a:avLst/>
            </a:prstGeom>
            <a:ln w="28440">
              <a:solidFill>
                <a:srgbClr val="7f7f7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26"/>
          <p:cNvSpPr/>
          <p:nvPr/>
        </p:nvSpPr>
        <p:spPr>
          <a:xfrm>
            <a:off x="611280" y="5445000"/>
            <a:ext cx="2881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wo first contact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5"/>
          <p:cNvSpPr/>
          <p:nvPr/>
        </p:nvSpPr>
        <p:spPr>
          <a:xfrm flipH="1">
            <a:off x="2411280" y="4307040"/>
            <a:ext cx="160560" cy="10666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0:32:36Z</dcterms:created>
  <dc:creator>Thomas Kinsky</dc:creator>
  <dc:description/>
  <dc:language>en-US</dc:language>
  <cp:lastModifiedBy>Gianotti</cp:lastModifiedBy>
  <dcterms:modified xsi:type="dcterms:W3CDTF">2011-05-17T16:59:51Z</dcterms:modified>
  <cp:revision>264</cp:revision>
  <dc:subject>Fußgängerschutz</dc:subject>
  <dc:title>Fußgängerschutz Update</dc:title>
</cp:coreProperties>
</file>