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23C9-86F2-406C-A25F-1C8A7B3199E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formation is necessary but not sufficient to ensure a high rate of correct use of restraint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4519C-EE1C-4B35-9287-C0BCB0E31A2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62F-C64F-4A92-93B1-08B73E6A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EA1-C6D8-4694-8403-F6AB0318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517-AB23-433F-AAAB-72DAB713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004-3ED0-4EA0-ACE4-0A0182AA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1BF-BA13-44BA-A64D-A2E1F001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039-8754-487D-ADF6-528F7736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175-C427-43ED-AC48-8A960129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805-BCFA-45D9-A2F9-CB4058F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599-E3F3-4BEC-8ECF-4215E66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A4B-97A2-4B08-92FA-C49D611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B0E-E83B-4FA2-8C2D-E4D8E10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CA0-9904-423A-8167-0322631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264-7F51-4F5A-8F68-4571F584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Priorities for the protection </a:t>
            </a:r>
            <a:br>
              <a:rPr sz="3600"/>
            </a:b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of children in cars: </a:t>
            </a:r>
            <a:br>
              <a:rPr sz="3600"/>
            </a:b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available data from th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ilippe L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eiko JOHAN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AB&amp;fr"/>
          <p:cNvPicPr/>
          <p:nvPr/>
        </p:nvPicPr>
        <p:blipFill>
          <a:blip r:embed="rId1"/>
          <a:stretch/>
        </p:blipFill>
        <p:spPr>
          <a:xfrm>
            <a:off x="250920" y="4292640"/>
            <a:ext cx="1981080" cy="99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TU_Logo_3D_SA_800x600"/>
          <p:cNvPicPr/>
          <p:nvPr/>
        </p:nvPicPr>
        <p:blipFill>
          <a:blip r:embed="rId2"/>
          <a:stretch/>
        </p:blipFill>
        <p:spPr>
          <a:xfrm>
            <a:off x="7236000" y="4437000"/>
            <a:ext cx="1147680" cy="860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651640" y="755640"/>
            <a:ext cx="3240000" cy="7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 Antiqua"/>
              </a:rPr>
              <a:t>Informal document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GRSP-49-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(49th GRSP, 16-20 May 20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genda items 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4"/>
          <p:cNvSpPr/>
          <p:nvPr/>
        </p:nvSpPr>
        <p:spPr>
          <a:xfrm>
            <a:off x="611280" y="476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000000"/>
                </a:solidFill>
                <a:latin typeface="Arial"/>
              </a:rPr>
              <a:t>Transmitted by the expert from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Representative real worl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GIDA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ma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pth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ciden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u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nover , Dresd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and surrounding are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hifts every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um severity level guarante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at least one person inju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ve of German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x. 1% of German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idents between 1999 and 200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ultiple impacts inclu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up to 12 YO as car occup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ident against cars, objects or lor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Representative real world data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GIDAS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400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Injury level per impact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56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Representative real world data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GIDAS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95920" y="593424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te: The safety level guaranteed by the current regulation seems satisf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for most of the accidents in front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(which represents more than 80% of the accidents in frontal impac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08000" y="112536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Injury level per delta-v in frontal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1547640" y="1947960"/>
            <a:ext cx="6553440" cy="4093920"/>
          </a:xfrm>
          <a:prstGeom prst="rect">
            <a:avLst/>
          </a:prstGeom>
          <a:ln w="0">
            <a:noFill/>
          </a:ln>
        </p:spPr>
      </p:pic>
      <p:sp>
        <p:nvSpPr>
          <p:cNvPr id="96" name="Ellipse 5"/>
          <p:cNvSpPr/>
          <p:nvPr/>
        </p:nvSpPr>
        <p:spPr>
          <a:xfrm>
            <a:off x="-2268360" y="508464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Connecteur droit avec flèche 9"/>
          <p:cNvCxnSpPr/>
          <p:nvPr/>
        </p:nvCxnSpPr>
        <p:spPr>
          <a:xfrm flipH="1">
            <a:off x="6155640" y="3645000"/>
            <a:ext cx="432360" cy="10800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8" name="Connecteur droit avec flèche 10"/>
          <p:cNvCxnSpPr/>
          <p:nvPr/>
        </p:nvCxnSpPr>
        <p:spPr>
          <a:xfrm>
            <a:off x="6659640" y="3644640"/>
            <a:ext cx="792720" cy="1440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9" name="Rectangle 13"/>
          <p:cNvSpPr/>
          <p:nvPr/>
        </p:nvSpPr>
        <p:spPr>
          <a:xfrm>
            <a:off x="5292720" y="2421000"/>
            <a:ext cx="244800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 MAIS3+ cases resulted from accidents out of the scope of car design or mis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Observation data campaign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ED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ntrole et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ude d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positifs d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ten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fa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m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tting a better understan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lobal situation of transportation of children in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reasons of incorrect us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rofiles of “mis-user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19 children in Fr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77 vehicles 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gust 08 -July 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ve pro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urances, industry, police, administration,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7" descr="Jean_05_small"/>
          <p:cNvPicPr/>
          <p:nvPr/>
        </p:nvPicPr>
        <p:blipFill>
          <a:blip r:embed="rId1"/>
          <a:stretch/>
        </p:blipFill>
        <p:spPr>
          <a:xfrm>
            <a:off x="846000" y="4797360"/>
            <a:ext cx="140184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Edouard_siège_auto"/>
          <p:cNvPicPr/>
          <p:nvPr/>
        </p:nvPicPr>
        <p:blipFill>
          <a:blip r:embed="rId2"/>
          <a:stretch/>
        </p:blipFill>
        <p:spPr>
          <a:xfrm>
            <a:off x="5076720" y="4797360"/>
            <a:ext cx="1968480" cy="187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Pauline_01_small"/>
          <p:cNvPicPr/>
          <p:nvPr/>
        </p:nvPicPr>
        <p:blipFill>
          <a:blip r:embed="rId3"/>
          <a:stretch/>
        </p:blipFill>
        <p:spPr>
          <a:xfrm>
            <a:off x="7224840" y="4797360"/>
            <a:ext cx="140328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DSCN2210"/>
          <p:cNvPicPr/>
          <p:nvPr/>
        </p:nvPicPr>
        <p:blipFill>
          <a:blip r:embed="rId4"/>
          <a:stretch/>
        </p:blipFill>
        <p:spPr>
          <a:xfrm>
            <a:off x="2411280" y="4797360"/>
            <a:ext cx="252108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Observation data campaign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CE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Main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interviews, it clearly appears that parents do not measure correctly the level of safety for their childr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specially parents from new bor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71600"/>
            <a:ext cx="4211640" cy="30448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0"/>
          <p:cNvGrpSpPr/>
          <p:nvPr/>
        </p:nvGrpSpPr>
        <p:grpSpPr>
          <a:xfrm>
            <a:off x="4175280" y="2276640"/>
            <a:ext cx="4860360" cy="3023640"/>
            <a:chOff x="4175280" y="2276640"/>
            <a:chExt cx="4860360" cy="3023640"/>
          </a:xfrm>
        </p:grpSpPr>
        <p:pic>
          <p:nvPicPr>
            <p:cNvPr id="110" name="Picture 8" descr="cedre influ knowledge"/>
            <p:cNvPicPr/>
            <p:nvPr/>
          </p:nvPicPr>
          <p:blipFill>
            <a:blip r:embed="rId2"/>
            <a:stretch/>
          </p:blipFill>
          <p:spPr>
            <a:xfrm>
              <a:off x="4175280" y="2276640"/>
              <a:ext cx="4860360" cy="30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9"/>
            <p:cNvSpPr/>
            <p:nvPr/>
          </p:nvSpPr>
          <p:spPr>
            <a:xfrm>
              <a:off x="5501520" y="2426760"/>
              <a:ext cx="202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fluence of knowledge in child saf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Observation data campaign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E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ew ISOFIX CRS (1%) although more than 45% cars are equipped with rigid anch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ximately 20% of drivers knew what ISOFIX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tion car equipped with rigid anchorages and drivers knowing what it means : 7% of the total sam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isofix flag details01"/>
          <p:cNvPicPr/>
          <p:nvPr/>
        </p:nvPicPr>
        <p:blipFill>
          <a:blip r:embed="rId1"/>
          <a:stretch/>
        </p:blipFill>
        <p:spPr>
          <a:xfrm>
            <a:off x="3995640" y="4437000"/>
            <a:ext cx="244800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louise Mog01"/>
          <p:cNvPicPr/>
          <p:nvPr/>
        </p:nvPicPr>
        <p:blipFill>
          <a:blip r:embed="rId2"/>
          <a:stretch/>
        </p:blipFill>
        <p:spPr>
          <a:xfrm>
            <a:off x="1042920" y="4437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0070523_DSCN2269"/>
          <p:cNvPicPr/>
          <p:nvPr/>
        </p:nvPicPr>
        <p:blipFill>
          <a:blip r:embed="rId3"/>
          <a:stretch/>
        </p:blipFill>
        <p:spPr>
          <a:xfrm>
            <a:off x="6732720" y="4437000"/>
            <a:ext cx="151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Observation data campaign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ASPER: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ld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vanced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fety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ject for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ropea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ad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6 months duration project co-funded by 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P7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SST-2007-RTD-1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- G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no.: 218564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5 partner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industry, research, universities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rom 7 countries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D, E, F, I, NL, S,U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dget 5.5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sociological aspects child safety in ca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stionnaires filled by parents (232 F, 176 E, 113 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m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derstand the reality of child environment as car passen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e what are the social barriers, for drivers in charge of children transportation, to a correct use of CRS ?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ltural comparison using the same methodology and questionnair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Observation data campaign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SPER: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 sociologic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e, Italy, and Sp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are travelling almost everyday in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par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in source of accident is other drivers : this is contradictory to CASIMIR results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a large majority drivers of the cars in which children were killed is responsible of the accident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9% of parents do not use an appropriate restraint system to transport their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40% of children with a weight lower than 9 kg are already using a FWD F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Synthesi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use and the quality of use is the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IMIR, CEDRE, CAS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mostly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formation campaigns and practice clinics dedicated to parents – sensi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DRE: Information is a useful and necessary step to limit misuse but not sufficient: misuse rate is still &gt; 50% influencing parameter stud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DRE and CASPER: About inappropriate use : reason is the switch of one system to another too early including the use of the seatbel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OFIX to be prom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DRE – low use of ISOFIX, very low knowledge of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PER – To fix the CRS to the car, many parents feel/admit that they are not doing it correctly but are not able to tell what is wrong in their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Synthesi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ntal impacts, rear impacts and roll overs seem to be correctly covered by current regulation and do not seem do be an issue for most of the correctly restrained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IMIR, G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tion of the impact severity in order to be in range where the car protects its occupants mainly for frontal and side impacts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inly on near 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IM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passat arbre"/>
          <p:cNvPicPr/>
          <p:nvPr/>
        </p:nvPicPr>
        <p:blipFill>
          <a:blip r:embed="rId1"/>
          <a:stretch/>
        </p:blipFill>
        <p:spPr>
          <a:xfrm>
            <a:off x="4427640" y="5013360"/>
            <a:ext cx="1800000" cy="1352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DSCN6286"/>
          <p:cNvPicPr/>
          <p:nvPr/>
        </p:nvPicPr>
        <p:blipFill>
          <a:blip r:embed="rId2"/>
          <a:stretch/>
        </p:blipFill>
        <p:spPr>
          <a:xfrm>
            <a:off x="6372360" y="5013360"/>
            <a:ext cx="1800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Priorities for children in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atal acciden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imi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presentative real world data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servation data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Thanks for your attention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2"/>
          <p:cNvSpPr/>
          <p:nvPr/>
        </p:nvSpPr>
        <p:spPr>
          <a:xfrm>
            <a:off x="200880" y="5877000"/>
            <a:ext cx="33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ilippe.lesire@lab-franc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3"/>
          <p:cNvSpPr/>
          <p:nvPr/>
        </p:nvSpPr>
        <p:spPr>
          <a:xfrm>
            <a:off x="5586120" y="587700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iko.johannsen@tu-berlin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dune fev2011_small_10"/>
          <p:cNvPicPr/>
          <p:nvPr/>
        </p:nvPicPr>
        <p:blipFill>
          <a:blip r:embed="rId1"/>
          <a:stretch/>
        </p:blipFill>
        <p:spPr>
          <a:xfrm>
            <a:off x="3132000" y="1413000"/>
            <a:ext cx="3095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Children in cars -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ARE database 2008 :</a:t>
            </a: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for EU27 ( except Cyprus, Bulgaria, Lithu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ldren (0–11y) , car pa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40 killed, 2790 severely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United Nations General Assembly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laimed “the period from 2011 to 2020 as the Decade of Action for Road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uropean Commiss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“to continue with the target of halving the overall number of road deaths in the European Union by 2020 starting from 2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Context -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On-going research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POCh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bling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tection fo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de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d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 10/12 year old prototype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d the NPACS testing and rating protocols for older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proposals for Q10/12 dummy use in UN-ECE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P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l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vance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ety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ject fo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ropea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ads)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is of the reasons and consequences of the conditions of transportation of children both on scientific and sociological asp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 of the efficiency of child prot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asper logo"/>
          <p:cNvPicPr/>
          <p:nvPr/>
        </p:nvPicPr>
        <p:blipFill>
          <a:blip r:embed="rId1"/>
          <a:stretch/>
        </p:blipFill>
        <p:spPr>
          <a:xfrm>
            <a:off x="766764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7308720" y="1484280"/>
            <a:ext cx="162108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Context – Europe and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New regulat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– initiated in Jan08 - on going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ormal group shall consider the development of a new regulation for “Restraining devices for child occupants of power-driven vehicles” for consideration by GR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ep by step approach shall be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1: Develop definitions, performance criteria and test methods for ISOFIX Integra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Universal” CR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tatus : to be validated by GR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ase2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FIX CRS non integral (Child is restraint by the adult safety belt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tatus : </a:t>
            </a: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TOR to be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ase3 – during phase2, discussions will take place in order to see if an additional phase is necessary to cover the other types of C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Fatal acciden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ASIMIR:</a:t>
            </a:r>
            <a:r>
              <a:rPr b="0" lang="fr-FR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ild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cide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udy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vestigat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tal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ident on th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ench project, results published Ma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is of police reports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ild fatalities (&lt;12 years) (all car accidents) in France in the period oct 2001 to sept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ize: 206 killed children out of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: In 2003, 2/3 of total number of children killed on the road were car occu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of fatalities per types of imp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16000" y="5397480"/>
          <a:ext cx="7095960" cy="1463760"/>
        </p:xfrm>
        <a:graphic>
          <a:graphicData uri="http://schemas.openxmlformats.org/drawingml/2006/table">
            <a:tbl>
              <a:tblPr/>
              <a:tblGrid>
                <a:gridCol w="1368360"/>
                <a:gridCol w="954000"/>
                <a:gridCol w="1016280"/>
                <a:gridCol w="1423800"/>
                <a:gridCol w="1168560"/>
                <a:gridCol w="1164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ac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o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l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occu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correctly restained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correctly restraining situation can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appropriate restraint system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.g., adult belt only for children that should use a C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rong installation of CRS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.g., wrong routing of vehicle belt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called misuse) or not authorized seating positio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ctive frontal airbag, floor resistance,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stakes by restraining the child in the CRS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.g., slack in harness system, seatbelt under the arm,...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called mis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SCN9029"/>
          <p:cNvPicPr/>
          <p:nvPr/>
        </p:nvPicPr>
        <p:blipFill>
          <a:blip r:embed="rId1"/>
          <a:stretch/>
        </p:blipFill>
        <p:spPr>
          <a:xfrm>
            <a:off x="144360" y="49417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misuse harness"/>
          <p:cNvPicPr/>
          <p:nvPr/>
        </p:nvPicPr>
        <p:blipFill>
          <a:blip r:embed="rId2"/>
          <a:stretch/>
        </p:blipFill>
        <p:spPr>
          <a:xfrm>
            <a:off x="6877080" y="4941720"/>
            <a:ext cx="2158920" cy="156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wrong seatbelt route"/>
          <p:cNvPicPr/>
          <p:nvPr/>
        </p:nvPicPr>
        <p:blipFill>
          <a:blip r:embed="rId3"/>
          <a:stretch/>
        </p:blipFill>
        <p:spPr>
          <a:xfrm>
            <a:off x="2413080" y="49417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RWD FC in front AB"/>
          <p:cNvPicPr/>
          <p:nvPr/>
        </p:nvPicPr>
        <p:blipFill>
          <a:blip r:embed="rId4"/>
          <a:stretch/>
        </p:blipFill>
        <p:spPr>
          <a:xfrm>
            <a:off x="4645080" y="4941720"/>
            <a:ext cx="2092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Fatal accident analysis </a:t>
            </a:r>
            <a:br>
              <a:rPr sz="3600"/>
            </a:b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CASI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ivers: 80% are parents, 11% are clos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74000" y="22766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otal ejectio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all types of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-49680" y="6165720"/>
            <a:ext cx="56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rate of correctly restrained children = 31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misuse is underestimated when based on accident report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aly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724360" y="2852640"/>
          <a:ext cx="3240360" cy="3097440"/>
        </p:xfrm>
        <a:graphic>
          <a:graphicData uri="http://schemas.openxmlformats.org/drawingml/2006/table">
            <a:tbl>
              <a:tblPr/>
              <a:tblGrid>
                <a:gridCol w="2449800"/>
                <a:gridCol w="79056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stra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u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propriate or n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isuse (inappropri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ly restra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11"/>
          <p:cNvSpPr/>
          <p:nvPr/>
        </p:nvSpPr>
        <p:spPr>
          <a:xfrm>
            <a:off x="5724360" y="6165720"/>
            <a:ext cx="319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aint use and misuse have a high influence killed children that have been ej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necteur droit 23"/>
          <p:cNvSpPr/>
          <p:nvPr/>
        </p:nvSpPr>
        <p:spPr>
          <a:xfrm>
            <a:off x="5724360" y="3357720"/>
            <a:ext cx="324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necteur droit 24"/>
          <p:cNvSpPr/>
          <p:nvPr/>
        </p:nvSpPr>
        <p:spPr>
          <a:xfrm>
            <a:off x="5724360" y="3500280"/>
            <a:ext cx="324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cteur droit 25"/>
          <p:cNvSpPr/>
          <p:nvPr/>
        </p:nvSpPr>
        <p:spPr>
          <a:xfrm>
            <a:off x="5724360" y="4149720"/>
            <a:ext cx="324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cteur droit 26"/>
          <p:cNvSpPr/>
          <p:nvPr/>
        </p:nvSpPr>
        <p:spPr>
          <a:xfrm>
            <a:off x="5724360" y="4869000"/>
            <a:ext cx="324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cteur droit 27"/>
          <p:cNvSpPr/>
          <p:nvPr/>
        </p:nvSpPr>
        <p:spPr>
          <a:xfrm>
            <a:off x="5724360" y="5516640"/>
            <a:ext cx="324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5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51084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Fatal accident analysis </a:t>
            </a:r>
            <a:br>
              <a:rPr sz="3600"/>
            </a:br>
            <a:r>
              <a:rPr b="1" lang="fr-FR" sz="3600" spc="-1" strike="noStrike">
                <a:solidFill>
                  <a:srgbClr val="808080"/>
                </a:solidFill>
                <a:latin typeface="Arial"/>
              </a:rPr>
              <a:t>CASI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Main results per type of cr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correctly restrained = 55% (including 32% not restrained at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sh severity over physiologic limits (EES&gt;=75kph) = 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trusion (72% of side imp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7 % level of intrusion &gt;=450mm at seating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% not restr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not in the area of intr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%  not restr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% not restrained – ejection is the main reason of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2:13:34Z</dcterms:created>
  <dc:creator>j000474</dc:creator>
  <dc:description/>
  <dc:language>en-US</dc:language>
  <cp:lastModifiedBy>Gianotti</cp:lastModifiedBy>
  <dcterms:modified xsi:type="dcterms:W3CDTF">2011-05-16T16:24:11Z</dcterms:modified>
  <cp:revision>73</cp:revision>
  <dc:subject/>
  <dc:title>Priorities for the protection of children in cars: available data from the field</dc:title>
</cp:coreProperties>
</file>