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3C7-CB17-4AA2-A737-6BD5EF20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30E-5B96-4FC3-B984-AEF0A82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2A7-EDDA-4126-8730-529E8050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269-5545-4B29-9B93-034ACF5F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977-58F5-4ED3-B2EF-EE0AF66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3C0-EEBB-4973-89A1-951F4DA8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D87-2E49-4879-A5D6-914C053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9CD-F63B-4DBE-9805-F7210466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061-75A4-4688-A996-C55598C7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433-5C08-4B3D-BA7B-D93828DA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FBB-07E0-4279-8934-12DBAC0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DF2-1ADA-4E50-AC30-9725B50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F125-BBE8-44D9-9915-376EBD6C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9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Official document on GR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 GRSP-48-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ork of this morni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d again CRS 23-2 (based on 48/42 including language correction from DFT) and complete with new amendments, if necessary, to prepare an amendment of thi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11600" y="1882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S-23-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e of CLEPA and OICA representatives for dimensions of support L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[220 or 24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long to 490 (without brack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hort to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long to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olerances on all these 4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6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6.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Isiz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 angle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4 – Mark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posal from CLEPA on logo with (or without) use of airb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5 – solution for issue on Double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6.3.5 – new sentences from Erik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6.6.4.2 - new sentence from Jim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8560" y="18900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LIST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8560" y="18900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LIST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7.3 – Test bench cushion – secretary will contact Kees 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4.5 and §14.2.8 – logo for non use of forward facing before 1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x 7 – New corridor by François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7:57:45Z</dcterms:created>
  <dc:creator>lepretre</dc:creator>
  <dc:description/>
  <dc:language>en-US</dc:language>
  <cp:lastModifiedBy>Gianotti</cp:lastModifiedBy>
  <dcterms:modified xsi:type="dcterms:W3CDTF">2011-03-04T16:41:47Z</dcterms:modified>
  <cp:revision>11</cp:revision>
  <dc:subject/>
  <dc:title>Diapositive 1</dc:title>
</cp:coreProperties>
</file>