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EE228-EF3D-4894-9206-D0E513367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F2068-7843-4752-8462-151833B9B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86BCC-94A2-4D77-ABA6-0BEE3BF65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B4857-4A57-454E-A1AF-52C3DB055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A546B-8EDB-4BA9-AC9E-78E3C8CF5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C089A-55F8-4070-B27E-9DA837149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045E6-9AD9-4BF4-B9C4-9A9B9774B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EF553-41E0-4080-B970-C560700B0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10E65-9890-41BE-B3D1-A50E8BC1C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7C3A6-2B54-436D-BFD2-8DF8443BB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B8FD6-804C-4270-AE43-DB41A6EB3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DE657-6E2E-40A1-AB2E-6E3B0FCB7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05F41-4182-4F27-AD8C-B4C83D178B95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German Position i-size ready c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806880" y="619920"/>
            <a:ext cx="138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RS-23-0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l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Requirements for car manufacturer to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RF (R2) and FF (F2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pace for R2 not available in all cars for 2 seating posi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TT and support le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upport le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eome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loor integ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ISOFIX univers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Possible Solu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i-size ready car must offer all ISOFIX positions as i-size rea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i-size ready car mu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offer all ISOFIX positions as FF i-size rea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offer at least one ISOFIX position as i-size rea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i-size ready at all ISOFIX posi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Risk exists that the number of i-size ready vehicles will be very limited (this concerns also small family car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i-size F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ne label for all ISOFIX seating po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ustomer tests which position can accept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ustomer can check in user manual which positions are able to accept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i-size ready R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For i-size ready RF no requirements concerning front seat adjustment shall be applic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2T10:30:39Z</dcterms:created>
  <dc:creator>Heiko Johannsen</dc:creator>
  <dc:description/>
  <dc:language>en-US</dc:language>
  <cp:lastModifiedBy>Gianotti</cp:lastModifiedBy>
  <dcterms:modified xsi:type="dcterms:W3CDTF">2011-03-04T16:40:33Z</dcterms:modified>
  <cp:revision>6</cp:revision>
  <dc:subject/>
  <dc:title>Foli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