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E19-90D9-425F-831B-4946F290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2A0-1E52-489D-85DA-0CDDABCD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16EE-B6A4-4E85-8AC7-C8F638A8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E8D4-74CE-407C-80CB-EA37E762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37B9-9A0D-4D31-A624-B5F448CC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12AC-BBAD-4237-8E81-E057BFD6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35F3-38E5-40F9-89E0-C8DAFBEA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127-274D-4298-BC59-C3060411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3A61-FDD9-466B-BA71-770F7F97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7BF2-6322-4A52-8040-910A901D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2988-8B74-43DF-BC8B-AF9A5A02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EA6-FAA6-4431-AD9E-DAEF4EDD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8679-BFCD-4004-B1B4-BFD8AE49B83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S internal measurement checking gau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ex 1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96000" y="4221000"/>
            <a:ext cx="295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ik Salte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r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ty Research Depar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22880" y="332640"/>
            <a:ext cx="13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S-23-0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1888 de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 not clear, EN1888 secretary does not know. Not intended to represent &lt;1 yr old childre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is 9 kg, so too heavy for children with a stature smaller then ~600 m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th is 200mm, so too wide for children with a stature smaller then ~75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sen to design our own de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68960" y="4076640"/>
            <a:ext cx="18702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possible, body parts were made adjustable to represent children with a stature from 400-150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not possible, Q1,5 was used as reference (e.g. hip joint lo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r arm ball diameter 44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er rotation point from backrest 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 joint height from seating plane 36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 joint distance from backrest 6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ck radius 4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gh thickness 6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N spring force in hip and shoulder cu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3789360"/>
            <a:ext cx="6266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3673440" cy="5344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773600" y="1341360"/>
            <a:ext cx="354348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51280" y="2349360"/>
            <a:ext cx="165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rest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347640" y="2060280"/>
            <a:ext cx="57636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2781360"/>
            <a:ext cx="115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3429000"/>
            <a:ext cx="115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er wid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5084640"/>
            <a:ext cx="129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 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3492360" y="5084640"/>
            <a:ext cx="50328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19640" y="5300640"/>
            <a:ext cx="93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779640" y="3645000"/>
            <a:ext cx="360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8360" y="3933720"/>
            <a:ext cx="1008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p width de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26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3240000" cy="3219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1773360"/>
            <a:ext cx="4124160" cy="4201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0" y="1268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metric view with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ulder width de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27640" y="2060640"/>
            <a:ext cx="4462200" cy="3543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9640" y="126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1268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metric view with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354348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4498920" cy="5951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508720" y="1916280"/>
            <a:ext cx="309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metric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alf CRS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ng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-1500 mm (0 to ~12y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469116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rest heigh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-80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er bread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-40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p bread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-40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er heigh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-55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ked dummy; 5 mm compensation for clothing proposes (all directio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of shoulder height is OK; belt length check is not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sizable measures, might need adjustment for Q0 sized chi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er backrest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eter of hip + shoulder cu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88000" y="4005360"/>
            <a:ext cx="2448000" cy="245808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it really a problem? Legs are only a few mm’s too thick, shoulder a few mm’s too far from backrest. to represent a newbo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p + should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equal in Q dummies (realistic?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300720" y="4076280"/>
            <a:ext cx="28728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0:48:06Z</dcterms:created>
  <dc:creator>Multimedia-PC</dc:creator>
  <dc:description/>
  <dc:language>en-US</dc:language>
  <cp:lastModifiedBy>Gianotti</cp:lastModifiedBy>
  <dcterms:modified xsi:type="dcterms:W3CDTF">2011-03-04T16:39:23Z</dcterms:modified>
  <cp:revision>23</cp:revision>
  <dc:subject/>
  <dc:title>Slide 1</dc:title>
</cp:coreProperties>
</file>