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9D3-06FA-407A-BA12-6C336FF4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97B8-D397-4B92-8297-55F445A3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492-BDF9-4BAD-99F5-1BDF729F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1EF-078E-4444-A482-DE5A3949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F83-213B-45FE-85C0-BA2A0A64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AEF-1480-4706-8AED-07F9205E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3D4-7273-4C22-A82D-E8D90F46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2E7-518E-4AA5-B8E0-06A0AA3E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AF7-3D3F-41EF-BE1E-F1EC7762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ED2-0C6A-4971-85CA-B36BE96A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468-9087-4525-9996-11CB6D56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3A4-7A41-4FE9-9BE2-F1E3E273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7114-7733-4BAF-B81C-003AA6667F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82560" y="4149720"/>
            <a:ext cx="2629080" cy="2019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287172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Emergency Braking System (AEB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sor Technology – Vertical Angle Capability – Stat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115920"/>
            <a:ext cx="26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document No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RF-70-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0th GRRF, 12-13 Ma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da item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692360" y="1628640"/>
            <a:ext cx="58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RF 70th Session – 12th-13th Ma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89000"/>
            <a:ext cx="29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by the experts from CL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43280" y="4552920"/>
            <a:ext cx="2305080" cy="892080"/>
            <a:chOff x="4643280" y="4552920"/>
            <a:chExt cx="2305080" cy="892080"/>
          </a:xfrm>
        </p:grpSpPr>
        <p:sp>
          <p:nvSpPr>
            <p:cNvPr id="47" name=""/>
            <p:cNvSpPr/>
            <p:nvPr/>
          </p:nvSpPr>
          <p:spPr>
            <a:xfrm>
              <a:off x="4643280" y="51577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219640" y="4552920"/>
              <a:ext cx="1728720" cy="8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flipV="1">
              <a:off x="4714920" y="4941720"/>
              <a:ext cx="7308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14920" y="5157720"/>
              <a:ext cx="7308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2560" y="11905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EBS Sensor Technology (radar) – Vertical Angle Capability – Stat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115920"/>
            <a:ext cx="26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document No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RF-70-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0th GRRF, 12-13 Ma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da item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89000"/>
            <a:ext cx="29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by the experts from CL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628640"/>
            <a:ext cx="8207280" cy="1782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sor (component) – in series produ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ic –  ± 2° (1st gener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justable –  ± 7° adjustment (not automatic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s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mponent) – in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ic 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± 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en-US" sz="1400" spc="-1" strike="noStrike" baseline="-2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 (2nd generation) Start of production i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860640"/>
            <a:ext cx="8207280" cy="2670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sor system – not in series producti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sor + horizontal zero adjustment system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= System Integration (for series production application engineering necessary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izontal zero adjustment syst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hicle attitude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rect load input (sensor output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– attitude estimation from vehicle operating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logic + vehicle application engineering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4720" y="1413000"/>
            <a:ext cx="158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21:53:53Z</dcterms:created>
  <dc:creator>Jennison</dc:creator>
  <dc:description/>
  <dc:language>en-US</dc:language>
  <cp:lastModifiedBy>Rev.1/Amend.2</cp:lastModifiedBy>
  <dcterms:modified xsi:type="dcterms:W3CDTF">2011-06-27T12:46:46Z</dcterms:modified>
  <cp:revision>11</cp:revision>
  <dc:subject/>
  <dc:title>Slide 1</dc:title>
</cp:coreProperties>
</file>