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052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BB66-66F2-4B2B-A35A-2A5F74B83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1400" y="4672080"/>
            <a:ext cx="5367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こで、大型・中型・小型トラックのカテゴリーについて説明します。皆様は、０７年に免許制度が改正され、中型免許が出来たのをご存知でしょう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車両総重量毎に５トンまでを普通車、１１トンまでが中型免許、それ以上を大型免許と分類されます。因みに、車両総重量とは、車両重量、乗車定員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積荷を合わせた重量のことを言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普通、一般的には、これが公の区分と言うことになりますが、日野自動車では、キャブで分けており、この様な設定になって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今日説明させていただく車は、この中で、大型トラックﾌﾟﾛﾌｨｱについての説明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1400" y="4672080"/>
            <a:ext cx="5367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ここで、大型・中型・小型トラックのカテゴリーについて説明します。皆様は、０７年に免許制度が改正され、中型免許が出来たのをご存知でしょう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車両総重量毎に５トンまでを普通車、１１トンまでが中型免許、それ以上を大型免許と分類されます。因みに、車両総重量とは、車両重量、乗車定員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積荷を合わせた重量のことを言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普通、一般的には、これが公の区分と言うことになりますが、日野自動車では、キャブで分けており、この様な設定になって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今日説明させていただく車は、この中で、大型トラックﾌﾟﾛﾌｨｱについての説明で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8D2-A1AC-4C9F-985B-68CDD45B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004-ADA9-421F-9F1E-355EB193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474-397E-4F94-98B2-569C5B0C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09A-EBE1-405E-B43C-B7D26F1D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9A7-8427-4D7E-8E65-A683AC41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E1D-C6FA-4A48-A975-5FCEE408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590-E206-4832-BC93-FCBC956B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AC4-6801-4ABF-9A77-B8CECE34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A2F-8EAB-4F58-871D-0D0F1A83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66F-17AD-4900-8CED-8AE06832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B6B-D76C-4B82-9955-09167A2A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354-118F-4BE0-8E7B-E68EC88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FB60-FA42-411C-9EE1-086497F80F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4th GRRF INFORMAL GROUP MEETING ON AEBS/LD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6200" y="3933360"/>
            <a:ext cx="8137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EPA understanding of the proposal AEBS/LDWS-14-17 from Japan, superimposed on the diagrams contained in documents AEBS-LDWS-14-07 and LDWS-AEBS-14-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Clepa logo"/>
          <p:cNvPicPr/>
          <p:nvPr/>
        </p:nvPicPr>
        <p:blipFill>
          <a:blip r:embed="rId1"/>
          <a:stretch/>
        </p:blipFill>
        <p:spPr>
          <a:xfrm>
            <a:off x="36360" y="44280"/>
            <a:ext cx="251964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7164360" y="2602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BS-LDWS-14-16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1105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lepa logo"/>
          <p:cNvPicPr/>
          <p:nvPr/>
        </p:nvPicPr>
        <p:blipFill>
          <a:blip r:embed="rId1"/>
          <a:stretch/>
        </p:blipFill>
        <p:spPr>
          <a:xfrm>
            <a:off x="36360" y="44280"/>
            <a:ext cx="2519640" cy="720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46"/>
          <p:cNvSpPr/>
          <p:nvPr/>
        </p:nvSpPr>
        <p:spPr>
          <a:xfrm>
            <a:off x="547560" y="907920"/>
            <a:ext cx="8128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Gross Vehicle Weight – Braking System Relationship (Europ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7"/>
          <p:cNvSpPr/>
          <p:nvPr/>
        </p:nvSpPr>
        <p:spPr>
          <a:xfrm>
            <a:off x="4702320" y="6159600"/>
            <a:ext cx="43336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The boundaries at 6.5, 7.5 and 10.0 tonne are typical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and can vary between vehicle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48"/>
          <p:cNvSpPr/>
          <p:nvPr/>
        </p:nvSpPr>
        <p:spPr>
          <a:xfrm>
            <a:off x="179280" y="6505560"/>
            <a:ext cx="35290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Knorr-Bremse Systeme für Nutzfahrzeuge Gmb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66"/>
          <p:cNvGrpSpPr/>
          <p:nvPr/>
        </p:nvGrpSpPr>
        <p:grpSpPr>
          <a:xfrm>
            <a:off x="684360" y="1419120"/>
            <a:ext cx="7911720" cy="4889520"/>
            <a:chOff x="684360" y="1419120"/>
            <a:chExt cx="7911720" cy="4889520"/>
          </a:xfrm>
        </p:grpSpPr>
        <p:grpSp>
          <p:nvGrpSpPr>
            <p:cNvPr id="57" name="Group 189"/>
            <p:cNvGrpSpPr/>
            <p:nvPr/>
          </p:nvGrpSpPr>
          <p:grpSpPr>
            <a:xfrm>
              <a:off x="684360" y="1419120"/>
              <a:ext cx="7911720" cy="4889520"/>
              <a:chOff x="684360" y="1419120"/>
              <a:chExt cx="7911720" cy="4889520"/>
            </a:xfrm>
          </p:grpSpPr>
          <p:pic>
            <p:nvPicPr>
              <p:cNvPr id="58" name="Picture 190" descr="Daf XF_2 axle tractor + 3 axle semi"/>
              <p:cNvPicPr/>
              <p:nvPr/>
            </p:nvPicPr>
            <p:blipFill>
              <a:blip r:embed="rId2"/>
              <a:srcRect l="22623" t="17693" r="24990" b="50309"/>
              <a:stretch/>
            </p:blipFill>
            <p:spPr>
              <a:xfrm>
                <a:off x="6246720" y="1419120"/>
                <a:ext cx="1403640" cy="111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91" descr="Iveco eurocargo"/>
              <p:cNvPicPr/>
              <p:nvPr/>
            </p:nvPicPr>
            <p:blipFill>
              <a:blip r:embed="rId3"/>
              <a:srcRect l="35554" t="22566" r="26841" b="34519"/>
              <a:stretch/>
            </p:blipFill>
            <p:spPr>
              <a:xfrm>
                <a:off x="4442040" y="3609720"/>
                <a:ext cx="1326960" cy="98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92" descr="Renault mascott"/>
              <p:cNvPicPr/>
              <p:nvPr/>
            </p:nvPicPr>
            <p:blipFill>
              <a:blip r:embed="rId4"/>
              <a:stretch/>
            </p:blipFill>
            <p:spPr>
              <a:xfrm>
                <a:off x="3922920" y="4613040"/>
                <a:ext cx="1331640" cy="92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Line 193"/>
              <p:cNvSpPr/>
              <p:nvPr/>
            </p:nvSpPr>
            <p:spPr>
              <a:xfrm flipV="1">
                <a:off x="2112840" y="4390920"/>
                <a:ext cx="0" cy="181944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94"/>
              <p:cNvSpPr/>
              <p:nvPr/>
            </p:nvSpPr>
            <p:spPr>
              <a:xfrm>
                <a:off x="1703520" y="5846760"/>
                <a:ext cx="668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Group 195"/>
              <p:cNvGrpSpPr/>
              <p:nvPr/>
            </p:nvGrpSpPr>
            <p:grpSpPr>
              <a:xfrm>
                <a:off x="684360" y="2206440"/>
                <a:ext cx="1019160" cy="3639960"/>
                <a:chOff x="684360" y="2206440"/>
                <a:chExt cx="1019160" cy="3639960"/>
              </a:xfrm>
            </p:grpSpPr>
            <p:sp>
              <p:nvSpPr>
                <p:cNvPr id="64" name="Line 196"/>
                <p:cNvSpPr/>
                <p:nvPr/>
              </p:nvSpPr>
              <p:spPr>
                <a:xfrm flipH="1">
                  <a:off x="1686240" y="2206440"/>
                  <a:ext cx="17280" cy="3639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197"/>
                <p:cNvSpPr/>
                <p:nvPr/>
              </p:nvSpPr>
              <p:spPr>
                <a:xfrm flipH="1">
                  <a:off x="1566720" y="584640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198"/>
                <p:cNvSpPr/>
                <p:nvPr/>
              </p:nvSpPr>
              <p:spPr>
                <a:xfrm flipH="1">
                  <a:off x="1566720" y="548280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199"/>
                <p:cNvSpPr/>
                <p:nvPr/>
              </p:nvSpPr>
              <p:spPr>
                <a:xfrm flipH="1">
                  <a:off x="1499040" y="566388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00"/>
                <p:cNvSpPr/>
                <p:nvPr/>
              </p:nvSpPr>
              <p:spPr>
                <a:xfrm flipH="1">
                  <a:off x="1566720" y="511956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01"/>
                <p:cNvSpPr/>
                <p:nvPr/>
              </p:nvSpPr>
              <p:spPr>
                <a:xfrm flipH="1">
                  <a:off x="1566720" y="475416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02"/>
                <p:cNvSpPr/>
                <p:nvPr/>
              </p:nvSpPr>
              <p:spPr>
                <a:xfrm flipH="1">
                  <a:off x="1566720" y="439092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203"/>
                <p:cNvSpPr/>
                <p:nvPr/>
              </p:nvSpPr>
              <p:spPr>
                <a:xfrm flipH="1">
                  <a:off x="1566720" y="402552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204"/>
                <p:cNvSpPr/>
                <p:nvPr/>
              </p:nvSpPr>
              <p:spPr>
                <a:xfrm flipH="1">
                  <a:off x="1566720" y="329868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205"/>
                <p:cNvSpPr/>
                <p:nvPr/>
              </p:nvSpPr>
              <p:spPr>
                <a:xfrm flipH="1">
                  <a:off x="1566720" y="366228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206"/>
                <p:cNvSpPr/>
                <p:nvPr/>
              </p:nvSpPr>
              <p:spPr>
                <a:xfrm flipH="1">
                  <a:off x="1566720" y="257148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07"/>
                <p:cNvSpPr/>
                <p:nvPr/>
              </p:nvSpPr>
              <p:spPr>
                <a:xfrm flipH="1">
                  <a:off x="1566720" y="2935080"/>
                  <a:ext cx="136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08"/>
                <p:cNvSpPr/>
                <p:nvPr/>
              </p:nvSpPr>
              <p:spPr>
                <a:xfrm flipH="1">
                  <a:off x="1499040" y="530028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9"/>
                <p:cNvSpPr/>
                <p:nvPr/>
              </p:nvSpPr>
              <p:spPr>
                <a:xfrm flipH="1">
                  <a:off x="1499040" y="275400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210"/>
                <p:cNvSpPr/>
                <p:nvPr/>
              </p:nvSpPr>
              <p:spPr>
                <a:xfrm flipH="1">
                  <a:off x="1499040" y="311760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211"/>
                <p:cNvSpPr/>
                <p:nvPr/>
              </p:nvSpPr>
              <p:spPr>
                <a:xfrm flipH="1">
                  <a:off x="1499040" y="348120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12"/>
                <p:cNvSpPr/>
                <p:nvPr/>
              </p:nvSpPr>
              <p:spPr>
                <a:xfrm flipH="1">
                  <a:off x="1499040" y="384480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13"/>
                <p:cNvSpPr/>
                <p:nvPr/>
              </p:nvSpPr>
              <p:spPr>
                <a:xfrm flipH="1">
                  <a:off x="1499040" y="420804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14"/>
                <p:cNvSpPr/>
                <p:nvPr/>
              </p:nvSpPr>
              <p:spPr>
                <a:xfrm flipH="1">
                  <a:off x="1499040" y="457164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15"/>
                <p:cNvSpPr/>
                <p:nvPr/>
              </p:nvSpPr>
              <p:spPr>
                <a:xfrm flipH="1">
                  <a:off x="1499040" y="4937040"/>
                  <a:ext cx="20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216"/>
                <p:cNvSpPr/>
                <p:nvPr/>
              </p:nvSpPr>
              <p:spPr>
                <a:xfrm>
                  <a:off x="1111680" y="5540040"/>
                  <a:ext cx="387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217"/>
                <p:cNvSpPr/>
                <p:nvPr/>
              </p:nvSpPr>
              <p:spPr>
                <a:xfrm>
                  <a:off x="1111680" y="5167080"/>
                  <a:ext cx="396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 Box 218"/>
                <p:cNvSpPr/>
                <p:nvPr/>
              </p:nvSpPr>
              <p:spPr>
                <a:xfrm>
                  <a:off x="1111680" y="4803480"/>
                  <a:ext cx="396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Text Box 219"/>
                <p:cNvSpPr/>
                <p:nvPr/>
              </p:nvSpPr>
              <p:spPr>
                <a:xfrm>
                  <a:off x="1105200" y="4449600"/>
                  <a:ext cx="403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220"/>
                <p:cNvSpPr/>
                <p:nvPr/>
              </p:nvSpPr>
              <p:spPr>
                <a:xfrm>
                  <a:off x="1113120" y="4084560"/>
                  <a:ext cx="414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Text Box 221"/>
                <p:cNvSpPr/>
                <p:nvPr/>
              </p:nvSpPr>
              <p:spPr>
                <a:xfrm>
                  <a:off x="1113120" y="3719160"/>
                  <a:ext cx="423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Text Box 222"/>
                <p:cNvSpPr/>
                <p:nvPr/>
              </p:nvSpPr>
              <p:spPr>
                <a:xfrm>
                  <a:off x="1040040" y="3357360"/>
                  <a:ext cx="444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Text Box 223"/>
                <p:cNvSpPr/>
                <p:nvPr/>
              </p:nvSpPr>
              <p:spPr>
                <a:xfrm>
                  <a:off x="1040040" y="2992320"/>
                  <a:ext cx="444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Text Box 224"/>
                <p:cNvSpPr/>
                <p:nvPr/>
              </p:nvSpPr>
              <p:spPr>
                <a:xfrm>
                  <a:off x="1040040" y="2630160"/>
                  <a:ext cx="444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 Box 225"/>
                <p:cNvSpPr/>
                <p:nvPr/>
              </p:nvSpPr>
              <p:spPr>
                <a:xfrm rot="16200000">
                  <a:off x="-370080" y="4078800"/>
                  <a:ext cx="2386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ross vehicle weight (tonn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Line 226"/>
              <p:cNvSpPr/>
              <p:nvPr/>
            </p:nvSpPr>
            <p:spPr>
              <a:xfrm>
                <a:off x="1703520" y="2754360"/>
                <a:ext cx="668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27"/>
              <p:cNvSpPr/>
              <p:nvPr/>
            </p:nvSpPr>
            <p:spPr>
              <a:xfrm>
                <a:off x="1703520" y="4754520"/>
                <a:ext cx="24526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228"/>
              <p:cNvSpPr/>
              <p:nvPr/>
            </p:nvSpPr>
            <p:spPr>
              <a:xfrm flipV="1">
                <a:off x="1703520" y="3471840"/>
                <a:ext cx="4529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229"/>
              <p:cNvSpPr/>
              <p:nvPr/>
            </p:nvSpPr>
            <p:spPr>
              <a:xfrm>
                <a:off x="1703520" y="4390920"/>
                <a:ext cx="27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230"/>
              <p:cNvSpPr/>
              <p:nvPr/>
            </p:nvSpPr>
            <p:spPr>
              <a:xfrm>
                <a:off x="2181240" y="5119560"/>
                <a:ext cx="163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cuum hydraul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Group 231"/>
              <p:cNvGrpSpPr/>
              <p:nvPr/>
            </p:nvGrpSpPr>
            <p:grpSpPr>
              <a:xfrm>
                <a:off x="8116560" y="1964880"/>
                <a:ext cx="479520" cy="3881520"/>
                <a:chOff x="8116560" y="1964880"/>
                <a:chExt cx="479520" cy="3881520"/>
              </a:xfrm>
            </p:grpSpPr>
            <p:sp>
              <p:nvSpPr>
                <p:cNvPr id="100" name="Line 232"/>
                <p:cNvSpPr/>
                <p:nvPr/>
              </p:nvSpPr>
              <p:spPr>
                <a:xfrm flipV="1">
                  <a:off x="8118000" y="2754000"/>
                  <a:ext cx="0" cy="3092400"/>
                </a:xfrm>
                <a:prstGeom prst="line">
                  <a:avLst/>
                </a:prstGeom>
                <a:ln w="76320">
                  <a:solidFill>
                    <a:srgbClr val="c0504d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33"/>
                <p:cNvSpPr/>
                <p:nvPr/>
              </p:nvSpPr>
              <p:spPr>
                <a:xfrm flipH="1" flipV="1">
                  <a:off x="8116560" y="1964880"/>
                  <a:ext cx="1080" cy="788760"/>
                </a:xfrm>
                <a:prstGeom prst="line">
                  <a:avLst/>
                </a:prstGeom>
                <a:ln w="76320">
                  <a:solidFill>
                    <a:srgbClr val="c0504d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Text Box 234"/>
                <p:cNvSpPr/>
                <p:nvPr/>
              </p:nvSpPr>
              <p:spPr>
                <a:xfrm>
                  <a:off x="8185680" y="2205720"/>
                  <a:ext cx="4104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r>
                    <a:rPr b="1" lang="en-GB" sz="16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235"/>
                <p:cNvSpPr/>
                <p:nvPr/>
              </p:nvSpPr>
              <p:spPr>
                <a:xfrm>
                  <a:off x="8185680" y="3985200"/>
                  <a:ext cx="4104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r>
                    <a:rPr b="1" lang="en-GB" sz="16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4" name="Picture 236" descr="Daimler axor 3axle truck 1"/>
              <p:cNvPicPr/>
              <p:nvPr/>
            </p:nvPicPr>
            <p:blipFill>
              <a:blip r:embed="rId5"/>
              <a:stretch/>
            </p:blipFill>
            <p:spPr>
              <a:xfrm>
                <a:off x="4054680" y="1466640"/>
                <a:ext cx="1841400" cy="108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237" descr="Man TGL12210_03"/>
              <p:cNvPicPr/>
              <p:nvPr/>
            </p:nvPicPr>
            <p:blipFill>
              <a:blip r:embed="rId6"/>
              <a:srcRect l="6815" t="0" r="7973" b="2812"/>
              <a:stretch/>
            </p:blipFill>
            <p:spPr>
              <a:xfrm rot="418200">
                <a:off x="6238800" y="2639520"/>
                <a:ext cx="1560600" cy="109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 Box 238"/>
              <p:cNvSpPr/>
              <p:nvPr/>
            </p:nvSpPr>
            <p:spPr>
              <a:xfrm>
                <a:off x="2986200" y="3905280"/>
                <a:ext cx="163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ir-over-hydraul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39"/>
              <p:cNvSpPr/>
              <p:nvPr/>
            </p:nvSpPr>
            <p:spPr>
              <a:xfrm flipV="1">
                <a:off x="2917800" y="3480840"/>
                <a:ext cx="0" cy="127476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240"/>
              <p:cNvSpPr/>
              <p:nvPr/>
            </p:nvSpPr>
            <p:spPr>
              <a:xfrm>
                <a:off x="5316480" y="3117600"/>
                <a:ext cx="750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ull ai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41"/>
              <p:cNvSpPr/>
              <p:nvPr/>
            </p:nvSpPr>
            <p:spPr>
              <a:xfrm flipV="1">
                <a:off x="6058080" y="1979640"/>
                <a:ext cx="0" cy="277488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42"/>
              <p:cNvSpPr/>
              <p:nvPr/>
            </p:nvSpPr>
            <p:spPr>
              <a:xfrm>
                <a:off x="5338800" y="4761000"/>
                <a:ext cx="307332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43"/>
              <p:cNvSpPr/>
              <p:nvPr/>
            </p:nvSpPr>
            <p:spPr>
              <a:xfrm>
                <a:off x="5824440" y="4389480"/>
                <a:ext cx="25704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44"/>
              <p:cNvSpPr/>
              <p:nvPr/>
            </p:nvSpPr>
            <p:spPr>
              <a:xfrm>
                <a:off x="7821720" y="3483000"/>
                <a:ext cx="569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" name="Picture 245" descr="Iveco Daily"/>
              <p:cNvPicPr/>
              <p:nvPr/>
            </p:nvPicPr>
            <p:blipFill>
              <a:blip r:embed="rId7"/>
              <a:srcRect l="5499" t="31680" r="8236" b="23505"/>
              <a:stretch/>
            </p:blipFill>
            <p:spPr>
              <a:xfrm>
                <a:off x="2595600" y="5514840"/>
                <a:ext cx="1168560" cy="79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Group 249"/>
            <p:cNvGrpSpPr/>
            <p:nvPr/>
          </p:nvGrpSpPr>
          <p:grpSpPr>
            <a:xfrm>
              <a:off x="3281400" y="2203560"/>
              <a:ext cx="1871640" cy="1801800"/>
              <a:chOff x="3281400" y="2203560"/>
              <a:chExt cx="1871640" cy="1801800"/>
            </a:xfrm>
          </p:grpSpPr>
          <p:sp>
            <p:nvSpPr>
              <p:cNvPr id="115" name="Oval 250"/>
              <p:cNvSpPr/>
              <p:nvPr/>
            </p:nvSpPr>
            <p:spPr>
              <a:xfrm>
                <a:off x="3281400" y="220356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251"/>
              <p:cNvSpPr/>
              <p:nvPr/>
            </p:nvSpPr>
            <p:spPr>
              <a:xfrm>
                <a:off x="3471840" y="311328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on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Sound"/>
              <p:cNvSpPr/>
              <p:nvPr/>
            </p:nvSpPr>
            <p:spPr>
              <a:xfrm>
                <a:off x="3903840" y="251784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53"/>
            <p:cNvGrpSpPr/>
            <p:nvPr/>
          </p:nvGrpSpPr>
          <p:grpSpPr>
            <a:xfrm>
              <a:off x="6372360" y="4003560"/>
              <a:ext cx="1871640" cy="1801800"/>
              <a:chOff x="6372360" y="4003560"/>
              <a:chExt cx="1871640" cy="1801800"/>
            </a:xfrm>
          </p:grpSpPr>
          <p:pic>
            <p:nvPicPr>
              <p:cNvPr id="119" name="Picture 254" descr="Brake symbol_no background"/>
              <p:cNvPicPr/>
              <p:nvPr/>
            </p:nvPicPr>
            <p:blipFill>
              <a:blip r:embed="rId8"/>
              <a:srcRect l="0" t="0" r="63501" b="62206"/>
              <a:stretch/>
            </p:blipFill>
            <p:spPr>
              <a:xfrm>
                <a:off x="7355160" y="4319280"/>
                <a:ext cx="647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Oval 255"/>
              <p:cNvSpPr/>
              <p:nvPr/>
            </p:nvSpPr>
            <p:spPr>
              <a:xfrm>
                <a:off x="6372360" y="400356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256"/>
              <p:cNvSpPr/>
              <p:nvPr/>
            </p:nvSpPr>
            <p:spPr>
              <a:xfrm>
                <a:off x="6562800" y="491328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&amp; brak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Sound"/>
              <p:cNvSpPr/>
              <p:nvPr/>
            </p:nvSpPr>
            <p:spPr>
              <a:xfrm>
                <a:off x="6562800" y="431784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258"/>
            <p:cNvSpPr/>
            <p:nvPr/>
          </p:nvSpPr>
          <p:spPr>
            <a:xfrm>
              <a:off x="3348000" y="4221000"/>
              <a:ext cx="29145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60"/>
            <p:cNvSpPr/>
            <p:nvPr/>
          </p:nvSpPr>
          <p:spPr>
            <a:xfrm rot="8326200">
              <a:off x="2916360" y="3604680"/>
              <a:ext cx="576000" cy="287640"/>
            </a:xfrm>
            <a:prstGeom prst="rightArrow">
              <a:avLst>
                <a:gd name="adj1" fmla="val 50000"/>
                <a:gd name="adj2" fmla="val 5006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61"/>
            <p:cNvSpPr/>
            <p:nvPr/>
          </p:nvSpPr>
          <p:spPr>
            <a:xfrm rot="13240800">
              <a:off x="6028920" y="3957120"/>
              <a:ext cx="647640" cy="287640"/>
            </a:xfrm>
            <a:prstGeom prst="rightArrow">
              <a:avLst>
                <a:gd name="adj1" fmla="val 50000"/>
                <a:gd name="adj2" fmla="val 5628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62"/>
            <p:cNvSpPr/>
            <p:nvPr/>
          </p:nvSpPr>
          <p:spPr>
            <a:xfrm rot="2503800">
              <a:off x="5363640" y="4149720"/>
              <a:ext cx="722520" cy="287280"/>
            </a:xfrm>
            <a:prstGeom prst="rightArrow">
              <a:avLst>
                <a:gd name="adj1" fmla="val 50000"/>
                <a:gd name="adj2" fmla="val 6287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3"/>
            <p:cNvSpPr/>
            <p:nvPr/>
          </p:nvSpPr>
          <p:spPr>
            <a:xfrm>
              <a:off x="5003640" y="3645000"/>
              <a:ext cx="505080" cy="449280"/>
            </a:xfrm>
            <a:prstGeom prst="line">
              <a:avLst/>
            </a:prstGeom>
            <a:ln w="149400">
              <a:solidFill>
                <a:srgbClr val="ec35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64"/>
            <p:cNvSpPr/>
            <p:nvPr/>
          </p:nvSpPr>
          <p:spPr>
            <a:xfrm>
              <a:off x="1763640" y="4221000"/>
              <a:ext cx="7556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8"/>
          <p:cNvSpPr/>
          <p:nvPr/>
        </p:nvSpPr>
        <p:spPr>
          <a:xfrm>
            <a:off x="55800" y="114480"/>
            <a:ext cx="5133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VW and Brak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cks in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0"/>
          <p:cNvGrpSpPr/>
          <p:nvPr/>
        </p:nvGrpSpPr>
        <p:grpSpPr>
          <a:xfrm>
            <a:off x="179280" y="353880"/>
            <a:ext cx="8962200" cy="6244560"/>
            <a:chOff x="179280" y="353880"/>
            <a:chExt cx="8962200" cy="6244560"/>
          </a:xfrm>
        </p:grpSpPr>
        <p:grpSp>
          <p:nvGrpSpPr>
            <p:cNvPr id="131" name="Group 2"/>
            <p:cNvGrpSpPr/>
            <p:nvPr/>
          </p:nvGrpSpPr>
          <p:grpSpPr>
            <a:xfrm>
              <a:off x="1042920" y="1268280"/>
              <a:ext cx="7850160" cy="5040360"/>
              <a:chOff x="1042920" y="1268280"/>
              <a:chExt cx="7850160" cy="5040360"/>
            </a:xfrm>
          </p:grpSpPr>
          <p:sp>
            <p:nvSpPr>
              <p:cNvPr id="132" name="Line 3"/>
              <p:cNvSpPr/>
              <p:nvPr/>
            </p:nvSpPr>
            <p:spPr>
              <a:xfrm>
                <a:off x="1042920" y="3068640"/>
                <a:ext cx="712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4"/>
              <p:cNvSpPr/>
              <p:nvPr/>
            </p:nvSpPr>
            <p:spPr>
              <a:xfrm>
                <a:off x="1042920" y="1989000"/>
                <a:ext cx="7850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"/>
              <p:cNvSpPr/>
              <p:nvPr/>
            </p:nvSpPr>
            <p:spPr>
              <a:xfrm>
                <a:off x="1047600" y="1268280"/>
                <a:ext cx="0" cy="504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6"/>
              <p:cNvSpPr/>
              <p:nvPr/>
            </p:nvSpPr>
            <p:spPr>
              <a:xfrm>
                <a:off x="1047600" y="6288120"/>
                <a:ext cx="784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"/>
              <p:cNvSpPr/>
              <p:nvPr/>
            </p:nvSpPr>
            <p:spPr>
              <a:xfrm>
                <a:off x="1047600" y="4146480"/>
                <a:ext cx="784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8"/>
              <p:cNvSpPr/>
              <p:nvPr/>
            </p:nvSpPr>
            <p:spPr>
              <a:xfrm>
                <a:off x="1042920" y="5229360"/>
                <a:ext cx="720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9"/>
            <p:cNvSpPr/>
            <p:nvPr/>
          </p:nvSpPr>
          <p:spPr>
            <a:xfrm>
              <a:off x="517680" y="3917880"/>
              <a:ext cx="5047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3199320" y="5718240"/>
              <a:ext cx="21643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Vacuum Ser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 flipV="1">
              <a:off x="3132000" y="5229360"/>
              <a:ext cx="0" cy="12952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 flipV="1">
              <a:off x="4122720" y="3573000"/>
              <a:ext cx="0" cy="18716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4194000" y="4637160"/>
              <a:ext cx="8262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A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14"/>
            <p:cNvGrpSpPr/>
            <p:nvPr/>
          </p:nvGrpSpPr>
          <p:grpSpPr>
            <a:xfrm>
              <a:off x="1619280" y="3357720"/>
              <a:ext cx="2305080" cy="1440360"/>
              <a:chOff x="1619280" y="3357720"/>
              <a:chExt cx="2305080" cy="1440360"/>
            </a:xfrm>
          </p:grpSpPr>
          <p:pic>
            <p:nvPicPr>
              <p:cNvPr id="144" name="Picture 15" descr="RANGER"/>
              <p:cNvPicPr/>
              <p:nvPr/>
            </p:nvPicPr>
            <p:blipFill>
              <a:blip r:embed="rId1"/>
              <a:srcRect l="4358" t="5210" r="9724" b="0"/>
              <a:stretch/>
            </p:blipFill>
            <p:spPr>
              <a:xfrm>
                <a:off x="1619280" y="3357720"/>
                <a:ext cx="2305080" cy="11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16"/>
              <p:cNvSpPr/>
              <p:nvPr/>
            </p:nvSpPr>
            <p:spPr>
              <a:xfrm>
                <a:off x="2376720" y="4410000"/>
                <a:ext cx="1071720" cy="3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41400" bIns="414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HGP創英角ｺﾞｼｯｸUB"/>
                  </a:rPr>
                  <a:t>Mediu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17"/>
            <p:cNvGrpSpPr/>
            <p:nvPr/>
          </p:nvGrpSpPr>
          <p:grpSpPr>
            <a:xfrm>
              <a:off x="5437080" y="620640"/>
              <a:ext cx="2880000" cy="2390040"/>
              <a:chOff x="5437080" y="620640"/>
              <a:chExt cx="2880000" cy="2390040"/>
            </a:xfrm>
          </p:grpSpPr>
          <p:pic>
            <p:nvPicPr>
              <p:cNvPr id="147" name="Pictu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5437080" y="1570320"/>
                <a:ext cx="2880000" cy="12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Text Box 19"/>
              <p:cNvSpPr/>
              <p:nvPr/>
            </p:nvSpPr>
            <p:spPr>
              <a:xfrm>
                <a:off x="6730560" y="2622600"/>
                <a:ext cx="818640" cy="3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41400" bIns="414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HGP創英角ｺﾞｼｯｸUB"/>
                  </a:rPr>
                  <a:t>Lar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Picture 20" descr="tractor_ph"/>
              <p:cNvPicPr/>
              <p:nvPr/>
            </p:nvPicPr>
            <p:blipFill>
              <a:blip r:embed="rId3"/>
              <a:srcRect l="0" t="9661" r="0" b="9661"/>
              <a:stretch/>
            </p:blipFill>
            <p:spPr>
              <a:xfrm>
                <a:off x="6516720" y="620640"/>
                <a:ext cx="1585800" cy="1162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Rectangle 21"/>
            <p:cNvSpPr/>
            <p:nvPr/>
          </p:nvSpPr>
          <p:spPr>
            <a:xfrm>
              <a:off x="670320" y="601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2"/>
            <p:cNvSpPr/>
            <p:nvPr/>
          </p:nvSpPr>
          <p:spPr>
            <a:xfrm>
              <a:off x="594360" y="1782720"/>
              <a:ext cx="44964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23"/>
            <p:cNvGrpSpPr/>
            <p:nvPr/>
          </p:nvGrpSpPr>
          <p:grpSpPr>
            <a:xfrm>
              <a:off x="8532720" y="353880"/>
              <a:ext cx="608760" cy="6170400"/>
              <a:chOff x="8532720" y="353880"/>
              <a:chExt cx="608760" cy="6170400"/>
            </a:xfrm>
          </p:grpSpPr>
          <p:sp>
            <p:nvSpPr>
              <p:cNvPr id="153" name="Line 24"/>
              <p:cNvSpPr/>
              <p:nvPr/>
            </p:nvSpPr>
            <p:spPr>
              <a:xfrm flipV="1">
                <a:off x="8532720" y="4149360"/>
                <a:ext cx="0" cy="237492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25"/>
              <p:cNvSpPr/>
              <p:nvPr/>
            </p:nvSpPr>
            <p:spPr>
              <a:xfrm flipV="1">
                <a:off x="8532720" y="353880"/>
                <a:ext cx="0" cy="374328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26"/>
              <p:cNvSpPr/>
              <p:nvPr/>
            </p:nvSpPr>
            <p:spPr>
              <a:xfrm>
                <a:off x="8571960" y="220500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27"/>
              <p:cNvSpPr/>
              <p:nvPr/>
            </p:nvSpPr>
            <p:spPr>
              <a:xfrm>
                <a:off x="8570160" y="498780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 Box 28"/>
            <p:cNvSpPr/>
            <p:nvPr/>
          </p:nvSpPr>
          <p:spPr>
            <a:xfrm>
              <a:off x="4068000" y="1268280"/>
              <a:ext cx="11127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Full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9"/>
            <p:cNvSpPr/>
            <p:nvPr/>
          </p:nvSpPr>
          <p:spPr>
            <a:xfrm>
              <a:off x="735840" y="5019840"/>
              <a:ext cx="30816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30"/>
            <p:cNvGrpSpPr/>
            <p:nvPr/>
          </p:nvGrpSpPr>
          <p:grpSpPr>
            <a:xfrm>
              <a:off x="1332000" y="5157720"/>
              <a:ext cx="1506600" cy="1440720"/>
              <a:chOff x="1332000" y="5157720"/>
              <a:chExt cx="1506600" cy="1440720"/>
            </a:xfrm>
          </p:grpSpPr>
          <p:pic>
            <p:nvPicPr>
              <p:cNvPr id="160" name="Picture 31" descr="DUTRO"/>
              <p:cNvPicPr/>
              <p:nvPr/>
            </p:nvPicPr>
            <p:blipFill>
              <a:blip r:embed="rId4"/>
              <a:stretch/>
            </p:blipFill>
            <p:spPr>
              <a:xfrm>
                <a:off x="1332000" y="5157720"/>
                <a:ext cx="1506600" cy="102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Text Box 32"/>
              <p:cNvSpPr/>
              <p:nvPr/>
            </p:nvSpPr>
            <p:spPr>
              <a:xfrm>
                <a:off x="1690560" y="6210360"/>
                <a:ext cx="801720" cy="38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800" rIns="82800" tIns="41400" bIns="414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HGP創英角ｺﾞｼｯｸUB"/>
                  </a:rPr>
                  <a:t>Smal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33"/>
            <p:cNvSpPr/>
            <p:nvPr/>
          </p:nvSpPr>
          <p:spPr>
            <a:xfrm>
              <a:off x="594360" y="2852640"/>
              <a:ext cx="44964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4"/>
            <p:cNvSpPr/>
            <p:nvPr/>
          </p:nvSpPr>
          <p:spPr>
            <a:xfrm flipV="1">
              <a:off x="5216400" y="404640"/>
              <a:ext cx="39960" cy="26640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5"/>
            <p:cNvSpPr/>
            <p:nvPr/>
          </p:nvSpPr>
          <p:spPr>
            <a:xfrm flipV="1">
              <a:off x="4468680" y="1989000"/>
              <a:ext cx="0" cy="237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6"/>
            <p:cNvSpPr/>
            <p:nvPr/>
          </p:nvSpPr>
          <p:spPr>
            <a:xfrm>
              <a:off x="3279600" y="246708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Full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7"/>
            <p:cNvSpPr/>
            <p:nvPr/>
          </p:nvSpPr>
          <p:spPr>
            <a:xfrm rot="16200000">
              <a:off x="-1485360" y="3558240"/>
              <a:ext cx="378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ss Vehicle Weight   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9"/>
            <p:cNvGrpSpPr/>
            <p:nvPr/>
          </p:nvGrpSpPr>
          <p:grpSpPr>
            <a:xfrm>
              <a:off x="5005440" y="4365720"/>
              <a:ext cx="1871640" cy="1801800"/>
              <a:chOff x="5005440" y="4365720"/>
              <a:chExt cx="1871640" cy="1801800"/>
            </a:xfrm>
          </p:grpSpPr>
          <p:pic>
            <p:nvPicPr>
              <p:cNvPr id="168" name="Picture 40" descr="Brake symbol_no background"/>
              <p:cNvPicPr/>
              <p:nvPr/>
            </p:nvPicPr>
            <p:blipFill>
              <a:blip r:embed="rId5"/>
              <a:srcRect l="0" t="0" r="63501" b="62206"/>
              <a:stretch/>
            </p:blipFill>
            <p:spPr>
              <a:xfrm>
                <a:off x="5988240" y="4681440"/>
                <a:ext cx="647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Oval 41"/>
              <p:cNvSpPr/>
              <p:nvPr/>
            </p:nvSpPr>
            <p:spPr>
              <a:xfrm>
                <a:off x="5005440" y="436572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2"/>
              <p:cNvSpPr/>
              <p:nvPr/>
            </p:nvSpPr>
            <p:spPr>
              <a:xfrm>
                <a:off x="5195880" y="527544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&amp; brak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Sound"/>
              <p:cNvSpPr/>
              <p:nvPr/>
            </p:nvSpPr>
            <p:spPr>
              <a:xfrm>
                <a:off x="5195880" y="468000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44"/>
            <p:cNvGrpSpPr/>
            <p:nvPr/>
          </p:nvGrpSpPr>
          <p:grpSpPr>
            <a:xfrm>
              <a:off x="1763640" y="1698480"/>
              <a:ext cx="1871640" cy="1801800"/>
              <a:chOff x="1763640" y="1698480"/>
              <a:chExt cx="1871640" cy="1801800"/>
            </a:xfrm>
          </p:grpSpPr>
          <p:sp>
            <p:nvSpPr>
              <p:cNvPr id="173" name="Oval 45"/>
              <p:cNvSpPr/>
              <p:nvPr/>
            </p:nvSpPr>
            <p:spPr>
              <a:xfrm>
                <a:off x="1763640" y="169848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46"/>
              <p:cNvSpPr/>
              <p:nvPr/>
            </p:nvSpPr>
            <p:spPr>
              <a:xfrm>
                <a:off x="1954080" y="260820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on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Sound"/>
              <p:cNvSpPr/>
              <p:nvPr/>
            </p:nvSpPr>
            <p:spPr>
              <a:xfrm>
                <a:off x="2386080" y="201276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AutoShape 48"/>
            <p:cNvSpPr/>
            <p:nvPr/>
          </p:nvSpPr>
          <p:spPr>
            <a:xfrm rot="2503800">
              <a:off x="3346200" y="3286080"/>
              <a:ext cx="793800" cy="287280"/>
            </a:xfrm>
            <a:prstGeom prst="rightArrow">
              <a:avLst>
                <a:gd name="adj1" fmla="val 50000"/>
                <a:gd name="adj2" fmla="val 6907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9"/>
            <p:cNvSpPr/>
            <p:nvPr/>
          </p:nvSpPr>
          <p:spPr>
            <a:xfrm rot="12847800">
              <a:off x="4463280" y="4400640"/>
              <a:ext cx="793800" cy="287280"/>
            </a:xfrm>
            <a:prstGeom prst="rightArrow">
              <a:avLst>
                <a:gd name="adj1" fmla="val 50000"/>
                <a:gd name="adj2" fmla="val 6907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img_bus01"/>
          <p:cNvPicPr/>
          <p:nvPr/>
        </p:nvPicPr>
        <p:blipFill>
          <a:blip r:embed="rId1"/>
          <a:stretch/>
        </p:blipFill>
        <p:spPr>
          <a:xfrm>
            <a:off x="5722920" y="73080"/>
            <a:ext cx="2449440" cy="1987560"/>
          </a:xfrm>
          <a:prstGeom prst="rect">
            <a:avLst/>
          </a:prstGeom>
          <a:ln w="0">
            <a:noFill/>
          </a:ln>
        </p:spPr>
      </p:pic>
      <p:sp>
        <p:nvSpPr>
          <p:cNvPr id="179" name="Line 7"/>
          <p:cNvSpPr/>
          <p:nvPr/>
        </p:nvSpPr>
        <p:spPr>
          <a:xfrm>
            <a:off x="1047600" y="126828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8532720" y="358920"/>
            <a:ext cx="642960" cy="6165360"/>
            <a:chOff x="8532720" y="358920"/>
            <a:chExt cx="642960" cy="6165360"/>
          </a:xfrm>
        </p:grpSpPr>
        <p:sp>
          <p:nvSpPr>
            <p:cNvPr id="181" name="Line 11"/>
            <p:cNvSpPr/>
            <p:nvPr/>
          </p:nvSpPr>
          <p:spPr>
            <a:xfrm flipV="1">
              <a:off x="8532720" y="4149360"/>
              <a:ext cx="0" cy="237492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8532720" y="358920"/>
              <a:ext cx="0" cy="374328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8571240" y="2205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4"/>
            <p:cNvSpPr/>
            <p:nvPr/>
          </p:nvSpPr>
          <p:spPr>
            <a:xfrm>
              <a:off x="8569440" y="49878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>
            <a:off x="55800" y="114480"/>
            <a:ext cx="5133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VW and Brak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ses in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7"/>
          <p:cNvGrpSpPr/>
          <p:nvPr/>
        </p:nvGrpSpPr>
        <p:grpSpPr>
          <a:xfrm>
            <a:off x="179280" y="1125360"/>
            <a:ext cx="8713800" cy="5162760"/>
            <a:chOff x="179280" y="1125360"/>
            <a:chExt cx="8713800" cy="5162760"/>
          </a:xfrm>
        </p:grpSpPr>
        <p:pic>
          <p:nvPicPr>
            <p:cNvPr id="187" name="Picture 2" descr="bodycolor_img_car01"/>
            <p:cNvPicPr/>
            <p:nvPr/>
          </p:nvPicPr>
          <p:blipFill>
            <a:blip r:embed="rId2"/>
            <a:stretch/>
          </p:blipFill>
          <p:spPr>
            <a:xfrm>
              <a:off x="3276720" y="4365720"/>
              <a:ext cx="2305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" descr="img_bus08"/>
            <p:cNvPicPr/>
            <p:nvPr/>
          </p:nvPicPr>
          <p:blipFill>
            <a:blip r:embed="rId3"/>
            <a:stretch/>
          </p:blipFill>
          <p:spPr>
            <a:xfrm>
              <a:off x="1258920" y="2602080"/>
              <a:ext cx="16747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" descr="img_bus04"/>
            <p:cNvPicPr/>
            <p:nvPr/>
          </p:nvPicPr>
          <p:blipFill>
            <a:blip r:embed="rId4"/>
            <a:stretch/>
          </p:blipFill>
          <p:spPr>
            <a:xfrm>
              <a:off x="3132000" y="1125360"/>
              <a:ext cx="237672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6"/>
            <p:cNvSpPr/>
            <p:nvPr/>
          </p:nvSpPr>
          <p:spPr>
            <a:xfrm>
              <a:off x="687240" y="3917880"/>
              <a:ext cx="3355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1047600" y="6288120"/>
              <a:ext cx="784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1047600" y="4146480"/>
              <a:ext cx="7845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 rot="16200000">
              <a:off x="-1485360" y="3558240"/>
              <a:ext cx="378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ss Vehicle Weight   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5718240" y="2554200"/>
              <a:ext cx="310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  <a:ea typeface="ＭＳ Ｐゴシック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ach, shor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1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8"/>
            <p:cNvSpPr/>
            <p:nvPr/>
          </p:nvSpPr>
          <p:spPr>
            <a:xfrm>
              <a:off x="1403640" y="4699080"/>
              <a:ext cx="21643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Vacuum Ser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9"/>
            <p:cNvSpPr/>
            <p:nvPr/>
          </p:nvSpPr>
          <p:spPr>
            <a:xfrm>
              <a:off x="1416960" y="5078520"/>
              <a:ext cx="40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  <a:ea typeface="ＭＳ Ｐゴシック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ation of</a:t>
              </a:r>
              <a:r>
                <a:rPr b="0" lang="en-US" sz="2400" spc="-1" strike="noStrike">
                  <a:solidFill>
                    <a:srgbClr val="0066ff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ssenger C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4051080" y="2549520"/>
              <a:ext cx="82620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A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3303360" y="292428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  <a:ea typeface="ＭＳ Ｐゴシック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edium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0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ｔ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2376360" y="3692520"/>
              <a:ext cx="239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  <a:ea typeface="ＭＳ Ｐゴシック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mall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（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5.5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ｔ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2551320" y="3284640"/>
              <a:ext cx="21643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Vacuum Ser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5705280" y="1892160"/>
              <a:ext cx="2253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  <a:ea typeface="ＭＳ Ｐゴシック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ach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6t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5"/>
            <p:cNvSpPr/>
            <p:nvPr/>
          </p:nvSpPr>
          <p:spPr>
            <a:xfrm>
              <a:off x="6519600" y="153180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Full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26"/>
            <p:cNvGrpSpPr/>
            <p:nvPr/>
          </p:nvGrpSpPr>
          <p:grpSpPr>
            <a:xfrm>
              <a:off x="1260360" y="1125360"/>
              <a:ext cx="1871640" cy="1801800"/>
              <a:chOff x="1260360" y="1125360"/>
              <a:chExt cx="1871640" cy="1801800"/>
            </a:xfrm>
          </p:grpSpPr>
          <p:sp>
            <p:nvSpPr>
              <p:cNvPr id="204" name="Oval 27"/>
              <p:cNvSpPr/>
              <p:nvPr/>
            </p:nvSpPr>
            <p:spPr>
              <a:xfrm>
                <a:off x="1260360" y="112536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28"/>
              <p:cNvSpPr/>
              <p:nvPr/>
            </p:nvSpPr>
            <p:spPr>
              <a:xfrm>
                <a:off x="1450800" y="203508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on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Sound"/>
              <p:cNvSpPr/>
              <p:nvPr/>
            </p:nvSpPr>
            <p:spPr>
              <a:xfrm>
                <a:off x="1882800" y="143964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0"/>
            <p:cNvGrpSpPr/>
            <p:nvPr/>
          </p:nvGrpSpPr>
          <p:grpSpPr>
            <a:xfrm>
              <a:off x="6372360" y="3282840"/>
              <a:ext cx="1871640" cy="1801800"/>
              <a:chOff x="6372360" y="3282840"/>
              <a:chExt cx="1871640" cy="1801800"/>
            </a:xfrm>
          </p:grpSpPr>
          <p:pic>
            <p:nvPicPr>
              <p:cNvPr id="208" name="Picture 31" descr="Brake symbol_no background"/>
              <p:cNvPicPr/>
              <p:nvPr/>
            </p:nvPicPr>
            <p:blipFill>
              <a:blip r:embed="rId5"/>
              <a:srcRect l="0" t="0" r="63501" b="62206"/>
              <a:stretch/>
            </p:blipFill>
            <p:spPr>
              <a:xfrm>
                <a:off x="7355160" y="3598560"/>
                <a:ext cx="6476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Oval 32"/>
              <p:cNvSpPr/>
              <p:nvPr/>
            </p:nvSpPr>
            <p:spPr>
              <a:xfrm>
                <a:off x="6372360" y="3282840"/>
                <a:ext cx="1871640" cy="180180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33"/>
              <p:cNvSpPr/>
              <p:nvPr/>
            </p:nvSpPr>
            <p:spPr>
              <a:xfrm>
                <a:off x="6562800" y="4192560"/>
                <a:ext cx="1440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Warning &amp; brak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Sound"/>
              <p:cNvSpPr/>
              <p:nvPr/>
            </p:nvSpPr>
            <p:spPr>
              <a:xfrm>
                <a:off x="6562800" y="3597120"/>
                <a:ext cx="647640" cy="504720"/>
              </a:xfrm>
              <a:custGeom>
                <a:avLst/>
                <a:gdLst>
                  <a:gd name="textAreaLeft" fmla="*/ 21960 w 647640"/>
                  <a:gd name="textAreaRight" fmla="*/ 631800 w 647640"/>
                  <a:gd name="textAreaTop" fmla="*/ 525600 h 504720"/>
                  <a:gd name="textAreaBottom" fmla="*/ 66060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7273"/>
                    </a:moveTo>
                    <a:lnTo>
                      <a:pt x="5824" y="7273"/>
                    </a:lnTo>
                    <a:lnTo>
                      <a:pt x="11164" y="0"/>
                    </a:lnTo>
                    <a:lnTo>
                      <a:pt x="11164" y="21159"/>
                    </a:lnTo>
                    <a:lnTo>
                      <a:pt x="5824" y="13885"/>
                    </a:lnTo>
                    <a:lnTo>
                      <a:pt x="0" y="13885"/>
                    </a:lnTo>
                    <a:lnTo>
                      <a:pt x="0" y="7273"/>
                    </a:lnTo>
                    <a:close/>
                  </a:path>
                  <a:path w="21600" h="21600">
                    <a:moveTo>
                      <a:pt x="13024" y="7273"/>
                    </a:moveTo>
                    <a:lnTo>
                      <a:pt x="13591" y="6722"/>
                    </a:lnTo>
                    <a:lnTo>
                      <a:pt x="13833" y="7548"/>
                    </a:lnTo>
                    <a:lnTo>
                      <a:pt x="14076" y="8485"/>
                    </a:lnTo>
                    <a:lnTo>
                      <a:pt x="14157" y="9367"/>
                    </a:lnTo>
                    <a:lnTo>
                      <a:pt x="14197" y="10524"/>
                    </a:lnTo>
                    <a:lnTo>
                      <a:pt x="14197" y="11406"/>
                    </a:lnTo>
                    <a:lnTo>
                      <a:pt x="14116" y="12012"/>
                    </a:lnTo>
                    <a:lnTo>
                      <a:pt x="13995" y="12728"/>
                    </a:lnTo>
                    <a:lnTo>
                      <a:pt x="13833" y="13444"/>
                    </a:lnTo>
                    <a:lnTo>
                      <a:pt x="13712" y="14106"/>
                    </a:lnTo>
                    <a:lnTo>
                      <a:pt x="13591" y="14546"/>
                    </a:lnTo>
                    <a:lnTo>
                      <a:pt x="13065" y="13885"/>
                    </a:lnTo>
                    <a:lnTo>
                      <a:pt x="13307" y="12893"/>
                    </a:lnTo>
                    <a:lnTo>
                      <a:pt x="13469" y="11791"/>
                    </a:lnTo>
                    <a:lnTo>
                      <a:pt x="13550" y="10910"/>
                    </a:lnTo>
                    <a:lnTo>
                      <a:pt x="13591" y="10138"/>
                    </a:lnTo>
                    <a:lnTo>
                      <a:pt x="13469" y="9367"/>
                    </a:lnTo>
                    <a:lnTo>
                      <a:pt x="13388" y="8595"/>
                    </a:lnTo>
                    <a:lnTo>
                      <a:pt x="13267" y="7934"/>
                    </a:lnTo>
                    <a:lnTo>
                      <a:pt x="13024" y="7273"/>
                    </a:lnTo>
                    <a:close/>
                  </a:path>
                  <a:path w="21600" h="21600">
                    <a:moveTo>
                      <a:pt x="16382" y="3967"/>
                    </a:moveTo>
                    <a:lnTo>
                      <a:pt x="16786" y="5179"/>
                    </a:lnTo>
                    <a:lnTo>
                      <a:pt x="17150" y="6612"/>
                    </a:lnTo>
                    <a:lnTo>
                      <a:pt x="17474" y="8651"/>
                    </a:lnTo>
                    <a:lnTo>
                      <a:pt x="17595" y="9753"/>
                    </a:lnTo>
                    <a:lnTo>
                      <a:pt x="17635" y="12012"/>
                    </a:lnTo>
                    <a:lnTo>
                      <a:pt x="17393" y="13665"/>
                    </a:lnTo>
                    <a:lnTo>
                      <a:pt x="17150" y="15208"/>
                    </a:lnTo>
                    <a:lnTo>
                      <a:pt x="16786" y="16310"/>
                    </a:lnTo>
                    <a:lnTo>
                      <a:pt x="16341" y="17687"/>
                    </a:lnTo>
                    <a:lnTo>
                      <a:pt x="15815" y="17081"/>
                    </a:lnTo>
                    <a:lnTo>
                      <a:pt x="16503" y="14602"/>
                    </a:lnTo>
                    <a:lnTo>
                      <a:pt x="16786" y="13169"/>
                    </a:lnTo>
                    <a:lnTo>
                      <a:pt x="16867" y="12012"/>
                    </a:lnTo>
                    <a:lnTo>
                      <a:pt x="16867" y="9642"/>
                    </a:lnTo>
                    <a:lnTo>
                      <a:pt x="16705" y="7989"/>
                    </a:lnTo>
                    <a:lnTo>
                      <a:pt x="16422" y="6612"/>
                    </a:lnTo>
                    <a:lnTo>
                      <a:pt x="16220" y="5675"/>
                    </a:lnTo>
                    <a:lnTo>
                      <a:pt x="15856" y="4518"/>
                    </a:lnTo>
                    <a:lnTo>
                      <a:pt x="16382" y="3967"/>
                    </a:lnTo>
                    <a:close/>
                  </a:path>
                  <a:path w="21600" h="21600">
                    <a:moveTo>
                      <a:pt x="18889" y="1377"/>
                    </a:moveTo>
                    <a:lnTo>
                      <a:pt x="19415" y="826"/>
                    </a:lnTo>
                    <a:lnTo>
                      <a:pt x="20194" y="2576"/>
                    </a:lnTo>
                    <a:lnTo>
                      <a:pt x="20831" y="4683"/>
                    </a:lnTo>
                    <a:lnTo>
                      <a:pt x="21357" y="7204"/>
                    </a:lnTo>
                    <a:lnTo>
                      <a:pt x="21650" y="9450"/>
                    </a:lnTo>
                    <a:lnTo>
                      <a:pt x="21600" y="12301"/>
                    </a:lnTo>
                    <a:lnTo>
                      <a:pt x="21215" y="15938"/>
                    </a:lnTo>
                    <a:lnTo>
                      <a:pt x="20629" y="18348"/>
                    </a:lnTo>
                    <a:lnTo>
                      <a:pt x="19415" y="21655"/>
                    </a:lnTo>
                    <a:lnTo>
                      <a:pt x="18889" y="21159"/>
                    </a:lnTo>
                    <a:lnTo>
                      <a:pt x="19901" y="18404"/>
                    </a:lnTo>
                    <a:lnTo>
                      <a:pt x="20467" y="15593"/>
                    </a:lnTo>
                    <a:lnTo>
                      <a:pt x="20791" y="12342"/>
                    </a:lnTo>
                    <a:lnTo>
                      <a:pt x="20871" y="9532"/>
                    </a:lnTo>
                    <a:lnTo>
                      <a:pt x="20629" y="7411"/>
                    </a:lnTo>
                    <a:lnTo>
                      <a:pt x="20062" y="4628"/>
                    </a:lnTo>
                    <a:lnTo>
                      <a:pt x="19415" y="2810"/>
                    </a:lnTo>
                    <a:lnTo>
                      <a:pt x="18889" y="1377"/>
                    </a:lnTo>
                    <a:close/>
                  </a:path>
                </a:pathLst>
              </a:cu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AutoShape 35"/>
            <p:cNvSpPr/>
            <p:nvPr/>
          </p:nvSpPr>
          <p:spPr>
            <a:xfrm rot="2503800">
              <a:off x="2842920" y="2671920"/>
              <a:ext cx="793800" cy="287280"/>
            </a:xfrm>
            <a:prstGeom prst="rightArrow">
              <a:avLst>
                <a:gd name="adj1" fmla="val 50000"/>
                <a:gd name="adj2" fmla="val 6907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36"/>
            <p:cNvSpPr/>
            <p:nvPr/>
          </p:nvSpPr>
          <p:spPr>
            <a:xfrm rot="13570800">
              <a:off x="6022080" y="3053160"/>
              <a:ext cx="793800" cy="287280"/>
            </a:xfrm>
            <a:prstGeom prst="rightArrow">
              <a:avLst>
                <a:gd name="adj1" fmla="val 50000"/>
                <a:gd name="adj2" fmla="val 6907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09:13:06Z</dcterms:created>
  <dc:creator>Heiner Hunold</dc:creator>
  <dc:description/>
  <dc:language>en-US</dc:language>
  <cp:lastModifiedBy>Olivier FONTAINE</cp:lastModifiedBy>
  <dcterms:modified xsi:type="dcterms:W3CDTF">2011-05-11T19:35:18Z</dcterms:modified>
  <cp:revision>36</cp:revision>
  <dc:subject/>
  <dc:title>Folie 1</dc:title>
</cp:coreProperties>
</file>