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6097-211B-4A64-8937-D1EC4230B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BD2E-38C7-45BF-9C4E-944CDB543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4280" y="4686120"/>
            <a:ext cx="538812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こで、大型・中型・小型トラックのカテゴリーについて説明します。皆様は、０７年に免許制度が改正され、中型免許が出来たのをご存知でしょうか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車両総重量毎に５トンまでを普通車、１１トンまでが中型免許、それ以上を大型免許と分類されます。因みに、車両総重量とは、車両重量、乗車定員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積荷を合わせた重量のことを言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普通、一般的には、これが公の区分と言うことになりますが、日野自動車では、キャブで分けており、この様な設定になって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今日説明させていただく車は、この中で、大型トラックﾌﾟﾛﾌｨｱについての説明で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B5A4-A4B2-49DE-9E9B-0BD38CB77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4280" y="4686120"/>
            <a:ext cx="538812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ここで、大型・中型・小型トラックのカテゴリーについて説明します。皆様は、０７年に免許制度が改正され、中型免許が出来たのをご存知でしょうか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車両総重量毎に５トンまでを普通車、１１トンまでが中型免許、それ以上を大型免許と分類されます。因みに、車両総重量とは、車両重量、乗車定員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積荷を合わせた重量のことを言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普通、一般的には、これが公の区分と言うことになりますが、日野自動車では、キャブで分けており、この様な設定になって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今日説明させていただく車は、この中で、大型トラックﾌﾟﾛﾌｨｱについての説明で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42920" y="1268280"/>
            <a:ext cx="7850160" cy="5040360"/>
            <a:chOff x="1042920" y="1268280"/>
            <a:chExt cx="7850160" cy="5040360"/>
          </a:xfrm>
        </p:grpSpPr>
        <p:sp>
          <p:nvSpPr>
            <p:cNvPr id="44" name="Line 3"/>
            <p:cNvSpPr/>
            <p:nvPr/>
          </p:nvSpPr>
          <p:spPr>
            <a:xfrm>
              <a:off x="1042920" y="3068640"/>
              <a:ext cx="7129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4"/>
            <p:cNvSpPr/>
            <p:nvPr/>
          </p:nvSpPr>
          <p:spPr>
            <a:xfrm>
              <a:off x="1042920" y="1989000"/>
              <a:ext cx="7850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5"/>
            <p:cNvSpPr/>
            <p:nvPr/>
          </p:nvSpPr>
          <p:spPr>
            <a:xfrm>
              <a:off x="1047600" y="1268280"/>
              <a:ext cx="0" cy="504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1047600" y="6288120"/>
              <a:ext cx="784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7"/>
            <p:cNvSpPr/>
            <p:nvPr/>
          </p:nvSpPr>
          <p:spPr>
            <a:xfrm>
              <a:off x="1047600" y="4146480"/>
              <a:ext cx="7845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8"/>
            <p:cNvSpPr/>
            <p:nvPr/>
          </p:nvSpPr>
          <p:spPr>
            <a:xfrm>
              <a:off x="1042920" y="5229360"/>
              <a:ext cx="72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Text Box 9"/>
          <p:cNvSpPr/>
          <p:nvPr/>
        </p:nvSpPr>
        <p:spPr>
          <a:xfrm>
            <a:off x="517680" y="3917880"/>
            <a:ext cx="504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199320" y="5718240"/>
            <a:ext cx="2164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Vacuum Ser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3132000" y="5229360"/>
            <a:ext cx="0" cy="129528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4122720" y="3573000"/>
            <a:ext cx="0" cy="187164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194000" y="4637160"/>
            <a:ext cx="8262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A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4"/>
          <p:cNvGrpSpPr/>
          <p:nvPr/>
        </p:nvGrpSpPr>
        <p:grpSpPr>
          <a:xfrm>
            <a:off x="1619280" y="3357720"/>
            <a:ext cx="2305080" cy="1440360"/>
            <a:chOff x="1619280" y="3357720"/>
            <a:chExt cx="2305080" cy="1440360"/>
          </a:xfrm>
        </p:grpSpPr>
        <p:pic>
          <p:nvPicPr>
            <p:cNvPr id="56" name="Picture 15" descr="RANGER"/>
            <p:cNvPicPr/>
            <p:nvPr/>
          </p:nvPicPr>
          <p:blipFill>
            <a:blip r:embed="rId1"/>
            <a:srcRect l="4358" t="5210" r="9724" b="0"/>
            <a:stretch/>
          </p:blipFill>
          <p:spPr>
            <a:xfrm>
              <a:off x="1619280" y="3357720"/>
              <a:ext cx="230508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6"/>
            <p:cNvSpPr/>
            <p:nvPr/>
          </p:nvSpPr>
          <p:spPr>
            <a:xfrm>
              <a:off x="2376720" y="4410000"/>
              <a:ext cx="10717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7"/>
          <p:cNvGrpSpPr/>
          <p:nvPr/>
        </p:nvGrpSpPr>
        <p:grpSpPr>
          <a:xfrm>
            <a:off x="5437080" y="620640"/>
            <a:ext cx="2880000" cy="2390040"/>
            <a:chOff x="5437080" y="620640"/>
            <a:chExt cx="2880000" cy="2390040"/>
          </a:xfrm>
        </p:grpSpPr>
        <p:pic>
          <p:nvPicPr>
            <p:cNvPr id="59" name="Picture 18" descr=""/>
            <p:cNvPicPr/>
            <p:nvPr/>
          </p:nvPicPr>
          <p:blipFill>
            <a:blip r:embed="rId2"/>
            <a:stretch/>
          </p:blipFill>
          <p:spPr>
            <a:xfrm>
              <a:off x="5437080" y="1570320"/>
              <a:ext cx="2880000" cy="12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9"/>
            <p:cNvSpPr/>
            <p:nvPr/>
          </p:nvSpPr>
          <p:spPr>
            <a:xfrm>
              <a:off x="6730560" y="2622600"/>
              <a:ext cx="81864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L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Picture 20" descr="tractor_ph"/>
            <p:cNvPicPr/>
            <p:nvPr/>
          </p:nvPicPr>
          <p:blipFill>
            <a:blip r:embed="rId3"/>
            <a:srcRect l="0" t="9661" r="0" b="9661"/>
            <a:stretch/>
          </p:blipFill>
          <p:spPr>
            <a:xfrm>
              <a:off x="6516720" y="620640"/>
              <a:ext cx="1585800" cy="11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21"/>
          <p:cNvSpPr/>
          <p:nvPr/>
        </p:nvSpPr>
        <p:spPr>
          <a:xfrm>
            <a:off x="670320" y="601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594360" y="1782720"/>
            <a:ext cx="449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39"/>
          <p:cNvGrpSpPr/>
          <p:nvPr/>
        </p:nvGrpSpPr>
        <p:grpSpPr>
          <a:xfrm>
            <a:off x="8532720" y="353880"/>
            <a:ext cx="608760" cy="6170400"/>
            <a:chOff x="8532720" y="353880"/>
            <a:chExt cx="608760" cy="6170400"/>
          </a:xfrm>
        </p:grpSpPr>
        <p:sp>
          <p:nvSpPr>
            <p:cNvPr id="65" name="Line 24"/>
            <p:cNvSpPr/>
            <p:nvPr/>
          </p:nvSpPr>
          <p:spPr>
            <a:xfrm flipV="1">
              <a:off x="8532720" y="4149360"/>
              <a:ext cx="0" cy="237492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5"/>
            <p:cNvSpPr/>
            <p:nvPr/>
          </p:nvSpPr>
          <p:spPr>
            <a:xfrm flipV="1">
              <a:off x="8532720" y="353880"/>
              <a:ext cx="0" cy="374328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6"/>
            <p:cNvSpPr/>
            <p:nvPr/>
          </p:nvSpPr>
          <p:spPr>
            <a:xfrm>
              <a:off x="8571960" y="220500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7"/>
            <p:cNvSpPr/>
            <p:nvPr/>
          </p:nvSpPr>
          <p:spPr>
            <a:xfrm>
              <a:off x="8570160" y="498780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28"/>
          <p:cNvSpPr/>
          <p:nvPr/>
        </p:nvSpPr>
        <p:spPr>
          <a:xfrm>
            <a:off x="4068000" y="1268280"/>
            <a:ext cx="11127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Full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35840" y="5019840"/>
            <a:ext cx="308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30"/>
          <p:cNvGrpSpPr/>
          <p:nvPr/>
        </p:nvGrpSpPr>
        <p:grpSpPr>
          <a:xfrm>
            <a:off x="1332000" y="5157720"/>
            <a:ext cx="1506600" cy="1440720"/>
            <a:chOff x="1332000" y="5157720"/>
            <a:chExt cx="1506600" cy="1440720"/>
          </a:xfrm>
        </p:grpSpPr>
        <p:pic>
          <p:nvPicPr>
            <p:cNvPr id="72" name="Picture 31" descr="DUTRO"/>
            <p:cNvPicPr/>
            <p:nvPr/>
          </p:nvPicPr>
          <p:blipFill>
            <a:blip r:embed="rId4"/>
            <a:stretch/>
          </p:blipFill>
          <p:spPr>
            <a:xfrm>
              <a:off x="1332000" y="5157720"/>
              <a:ext cx="15066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32"/>
            <p:cNvSpPr/>
            <p:nvPr/>
          </p:nvSpPr>
          <p:spPr>
            <a:xfrm>
              <a:off x="1690560" y="6210360"/>
              <a:ext cx="801720" cy="38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GP創英角ｺﾞｼｯｸUB"/>
                </a:rPr>
                <a:t>Sm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Text Box 33"/>
          <p:cNvSpPr/>
          <p:nvPr/>
        </p:nvSpPr>
        <p:spPr>
          <a:xfrm>
            <a:off x="594360" y="2852640"/>
            <a:ext cx="449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4"/>
          <p:cNvSpPr/>
          <p:nvPr/>
        </p:nvSpPr>
        <p:spPr>
          <a:xfrm flipV="1">
            <a:off x="5216400" y="404640"/>
            <a:ext cx="39960" cy="266400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5"/>
          <p:cNvSpPr/>
          <p:nvPr/>
        </p:nvSpPr>
        <p:spPr>
          <a:xfrm flipV="1">
            <a:off x="4468680" y="1989000"/>
            <a:ext cx="0" cy="237672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3279600" y="24670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Full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7"/>
          <p:cNvSpPr/>
          <p:nvPr/>
        </p:nvSpPr>
        <p:spPr>
          <a:xfrm rot="16200000">
            <a:off x="-1485360" y="355824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Vehicle Weight   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55800" y="114480"/>
            <a:ext cx="5133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VW and Brak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cks in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6789600" y="26676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BS/LDWS-14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6" descr="bodycolor_img_car01"/>
          <p:cNvPicPr/>
          <p:nvPr/>
        </p:nvPicPr>
        <p:blipFill>
          <a:blip r:embed="rId1"/>
          <a:stretch/>
        </p:blipFill>
        <p:spPr>
          <a:xfrm>
            <a:off x="3274920" y="4365720"/>
            <a:ext cx="2305080" cy="80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5" descr="img_bus08"/>
          <p:cNvPicPr/>
          <p:nvPr/>
        </p:nvPicPr>
        <p:blipFill>
          <a:blip r:embed="rId2"/>
          <a:stretch/>
        </p:blipFill>
        <p:spPr>
          <a:xfrm>
            <a:off x="1258920" y="2602080"/>
            <a:ext cx="1674720" cy="1360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4" descr="img_bus04"/>
          <p:cNvPicPr/>
          <p:nvPr/>
        </p:nvPicPr>
        <p:blipFill>
          <a:blip r:embed="rId3"/>
          <a:stretch/>
        </p:blipFill>
        <p:spPr>
          <a:xfrm>
            <a:off x="3132000" y="1125360"/>
            <a:ext cx="2376720" cy="1928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8" descr="img_bus01"/>
          <p:cNvPicPr/>
          <p:nvPr/>
        </p:nvPicPr>
        <p:blipFill>
          <a:blip r:embed="rId4"/>
          <a:stretch/>
        </p:blipFill>
        <p:spPr>
          <a:xfrm>
            <a:off x="5722920" y="73080"/>
            <a:ext cx="2449440" cy="1987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687240" y="3917880"/>
            <a:ext cx="3355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1047600" y="126828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1047600" y="6288120"/>
            <a:ext cx="784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1047600" y="4146480"/>
            <a:ext cx="7845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68"/>
          <p:cNvGrpSpPr/>
          <p:nvPr/>
        </p:nvGrpSpPr>
        <p:grpSpPr>
          <a:xfrm>
            <a:off x="8532720" y="358920"/>
            <a:ext cx="642960" cy="6165360"/>
            <a:chOff x="8532720" y="358920"/>
            <a:chExt cx="642960" cy="6165360"/>
          </a:xfrm>
        </p:grpSpPr>
        <p:sp>
          <p:nvSpPr>
            <p:cNvPr id="90" name="Line 24"/>
            <p:cNvSpPr/>
            <p:nvPr/>
          </p:nvSpPr>
          <p:spPr>
            <a:xfrm flipV="1">
              <a:off x="8532720" y="4149360"/>
              <a:ext cx="0" cy="237492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8532720" y="358920"/>
              <a:ext cx="0" cy="374328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8571240" y="2205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8569440" y="49878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Text Box 37"/>
          <p:cNvSpPr/>
          <p:nvPr/>
        </p:nvSpPr>
        <p:spPr>
          <a:xfrm rot="16200000">
            <a:off x="-1485360" y="355824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Vehicle Weight   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55800" y="114480"/>
            <a:ext cx="5133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VW and Brak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sses in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0"/>
          <p:cNvSpPr/>
          <p:nvPr/>
        </p:nvSpPr>
        <p:spPr>
          <a:xfrm>
            <a:off x="5718240" y="255420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, shor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403640" y="4699080"/>
            <a:ext cx="2164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Vacuum Ser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1"/>
          <p:cNvSpPr/>
          <p:nvPr/>
        </p:nvSpPr>
        <p:spPr>
          <a:xfrm>
            <a:off x="1416960" y="50785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 of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nger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051080" y="2549520"/>
            <a:ext cx="8262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A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3303360" y="2924280"/>
            <a:ext cx="25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ｔ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2376360" y="3692520"/>
            <a:ext cx="23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ｔ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2551320" y="3284640"/>
            <a:ext cx="2164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Vacuum Ser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5705280" y="1892160"/>
            <a:ext cx="225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6519600" y="153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HGP創英角ｺﾞｼｯｸUB"/>
              </a:rPr>
              <a:t>Full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8:55:03Z</dcterms:created>
  <dc:creator>杉原啓之</dc:creator>
  <dc:description/>
  <dc:language>en-US</dc:language>
  <cp:lastModifiedBy>Olivier FONTAINE</cp:lastModifiedBy>
  <dcterms:modified xsi:type="dcterms:W3CDTF">2011-05-10T16:47:23Z</dcterms:modified>
  <cp:revision>549</cp:revision>
  <dc:subject/>
  <dc:title>PowerPoint プレゼンテーション</dc:title>
</cp:coreProperties>
</file>